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41160" y="358920"/>
            <a:ext cx="7731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825"/>
              </a:spcBef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51960" y="3567600"/>
            <a:ext cx="79297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5640" y="137592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5196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15640" y="3567600"/>
            <a:ext cx="386964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3324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14160" y="137592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519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3324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14160" y="3567600"/>
            <a:ext cx="2553120" cy="20012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1"/>
          </p:nvPr>
        </p:nvSpPr>
        <p:spPr>
          <a:xfrm>
            <a:off x="684360" y="28260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  <a:ea typeface="华文细黑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0360" indent="-2001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2"/>
          </p:nvPr>
        </p:nvSpPr>
        <p:spPr>
          <a:xfrm>
            <a:off x="684360" y="28260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  <a:ea typeface="华文细黑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2"/>
          <p:cNvPicPr/>
          <p:nvPr/>
        </p:nvPicPr>
        <p:blipFill>
          <a:blip r:embed="rId2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3"/>
          </p:nvPr>
        </p:nvSpPr>
        <p:spPr>
          <a:xfrm>
            <a:off x="684360" y="28260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7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4296240" y="2506680"/>
            <a:ext cx="78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4100" spc="-1" strike="noStrike">
                <a:solidFill>
                  <a:srgbClr val="990000"/>
                </a:solidFill>
                <a:latin typeface="Arial"/>
                <a:ea typeface="华文细黑"/>
              </a:rPr>
              <a:t>谢谢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 indent="399960">
              <a:lnSpc>
                <a:spcPct val="140000"/>
              </a:lnSpc>
              <a:spcBef>
                <a:spcPts val="82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 indent="-39996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600200" indent="-79848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50000"/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7280" y="1391760"/>
            <a:ext cx="530388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utigerNext LT Medium"/>
              </a:rPr>
              <a:t>CAPWAP</a:t>
            </a:r>
            <a:r>
              <a:rPr b="0" lang="zh-CN" sz="4000" spc="-1" strike="noStrike">
                <a:solidFill>
                  <a:srgbClr val="ffffff"/>
                </a:solidFill>
                <a:latin typeface="FrutigerNext LT Medium"/>
              </a:rPr>
              <a:t>基础原理</a:t>
            </a:r>
            <a:endParaRPr b="0" lang="en-US" sz="4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8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技术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隧道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92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APW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背景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41440" y="1527120"/>
            <a:ext cx="7929360" cy="2695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传统的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WLAN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体系结构已无法满足大规模组网需求，因此，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IETF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成立了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CAPWAP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Control And Provisioning of Wireless Access Points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）工作组，研究大规模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WLAN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的解决方案，以实现各个厂家控制器与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AP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宋体"/>
              </a:rPr>
              <a:t>间的互通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（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Control And Provisioning of Wireless Access Points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）：无线接入点控制和配置协议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APW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起源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1/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396" name="图片 2" descr="(HQX9RJ%K9GN5L5(YDR)X9A"/>
          <p:cNvPicPr/>
          <p:nvPr/>
        </p:nvPicPr>
        <p:blipFill>
          <a:blip r:embed="rId1"/>
          <a:stretch/>
        </p:blipFill>
        <p:spPr>
          <a:xfrm>
            <a:off x="331920" y="1227240"/>
            <a:ext cx="848196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APW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起源（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2/2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）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398" name="图片 1" descr="9FQ9B2R%Z{J2_L`)PX)PHVF"/>
          <p:cNvPicPr/>
          <p:nvPr/>
        </p:nvPicPr>
        <p:blipFill>
          <a:blip r:embed="rId1"/>
          <a:stretch/>
        </p:blipFill>
        <p:spPr>
          <a:xfrm>
            <a:off x="204840" y="1227240"/>
            <a:ext cx="87361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LWAP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具有完整的协议框架，定义了详细的报文结构及多方面的控制消息元素，但全新制定的安全机制还需实践验证，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SLAP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使用业界认可的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DTLS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技术是其亮点。相对前两者而言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T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iCo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实现了集中式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体系结构的基本要求，但考虑不够全面，特别是安全性方面有所欠缺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工作组对以上四种通信协议进行评测后，最终采用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LWAP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协议作为基础进行扩展，使用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DTLS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安全技术，加入其他三种协议的有用特性，制定了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协议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APW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52320" y="1376280"/>
            <a:ext cx="7608960" cy="619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 fontScale="23000"/>
          </a:bodyPr>
          <a:p>
            <a:pPr marL="69120" indent="-691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PW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用于无线终端接入点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和无线网络控制器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之间的通信交互，实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其所关联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集中管理和控制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69120" indent="-6912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该协议包含的主要内容有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21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自动发现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21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行管理、业务配置下发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921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据封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PW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隧道进行转发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WLAN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转发模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41160" y="4184640"/>
            <a:ext cx="7608600" cy="2673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直接转发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524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也称数据报文本地转发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只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进行管理，业务数据都是由本地直接转发。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隧道转发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524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也称作数据报文集中转发。业务数据报文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统一封装后到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实现转发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但进行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管理，还作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流量的转发中枢。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404" name="图片 1" descr="V03XLTG{7}%S_IQ4[6EA~5A"/>
          <p:cNvPicPr/>
          <p:nvPr/>
        </p:nvPicPr>
        <p:blipFill>
          <a:blip r:embed="rId1"/>
          <a:stretch/>
        </p:blipFill>
        <p:spPr>
          <a:xfrm>
            <a:off x="395280" y="1227240"/>
            <a:ext cx="8674200" cy="29574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2" descr="OST~7NXG(7{0}M@LF15QSU3"/>
          <p:cNvPicPr/>
          <p:nvPr/>
        </p:nvPicPr>
        <p:blipFill>
          <a:blip r:embed="rId2"/>
          <a:stretch/>
        </p:blipFill>
        <p:spPr>
          <a:xfrm>
            <a:off x="3833640" y="920880"/>
            <a:ext cx="508824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两种转发方式对比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407" name="图片 1" descr="UW@IU)QAU($7VRMU`QZA6NQ"/>
          <p:cNvPicPr/>
          <p:nvPr/>
        </p:nvPicPr>
        <p:blipFill>
          <a:blip r:embed="rId1"/>
          <a:stretch/>
        </p:blipFill>
        <p:spPr>
          <a:xfrm>
            <a:off x="66600" y="1139760"/>
            <a:ext cx="90108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APW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基本报文格式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409" name="图片 1" descr="H1}U6NW`(P@)V]WHPW[9G_Q"/>
          <p:cNvPicPr/>
          <p:nvPr/>
        </p:nvPicPr>
        <p:blipFill>
          <a:blip r:embed="rId1"/>
          <a:stretch/>
        </p:blipFill>
        <p:spPr>
          <a:xfrm>
            <a:off x="17640" y="1227240"/>
            <a:ext cx="90262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是基于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UD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端口的应用层协议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协议传输层运输两种类型的负载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数据消息，封装转发无线帧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控制消息，管理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之间交换的管理消息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数据和控制报文基于不同的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UD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端口发送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控制报文端口为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D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端口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5246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数据报文端口为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UD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端口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5247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学习目标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6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学完本课程后，您应该能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区分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技术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6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描述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隧道协议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61" name="Picture 11" descr="目标"/>
          <p:cNvPicPr/>
          <p:nvPr/>
        </p:nvPicPr>
        <p:blipFill>
          <a:blip r:embed="rId1"/>
          <a:stretch/>
        </p:blipFill>
        <p:spPr>
          <a:xfrm>
            <a:off x="698400" y="465120"/>
            <a:ext cx="6224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瘦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发现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412" name="图片 2" descr="E7`KPE%~8]7A`DG}Z5CPPX3"/>
          <p:cNvPicPr/>
          <p:nvPr/>
        </p:nvPicPr>
        <p:blipFill>
          <a:blip r:embed="rId1"/>
          <a:stretch/>
        </p:blipFill>
        <p:spPr>
          <a:xfrm>
            <a:off x="1198440" y="1069920"/>
            <a:ext cx="6248520" cy="4216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15640" y="5378400"/>
            <a:ext cx="8582040" cy="928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524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电后，当存在预配置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 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列表时，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直接启动预配置静态发现流程并与指定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连接。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524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如果未配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 I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列表，则启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动态发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机制，执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P/DNS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广播发现流程后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连接。</a:t>
            </a:r>
            <a:endParaRPr b="0" lang="en-US" sz="14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98320" y="136440"/>
            <a:ext cx="77313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瘦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发现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C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415" name="图片 2" descr="GSGP_VLM{787E9RUDC}Y{S3"/>
          <p:cNvPicPr/>
          <p:nvPr/>
        </p:nvPicPr>
        <p:blipFill>
          <a:blip r:embed="rId1"/>
          <a:stretch/>
        </p:blipFill>
        <p:spPr>
          <a:xfrm>
            <a:off x="2076480" y="1530360"/>
            <a:ext cx="5095800" cy="52484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598320" y="945720"/>
            <a:ext cx="4205520" cy="15462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瘦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动态发现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的过程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启动以后会通过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获取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地址、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DNS server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、域名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发出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L2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广播的发现请求报文试图联系一个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如果长时间（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30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秒）没有响应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会启动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L3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发现。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会从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DHCP server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通过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Option43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获得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的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，或者通过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Option15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获得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的域名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向该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地址（域名）发送发现请求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接收到发现请求报文的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会检查该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是否有接入本机的权限，如果有则回应发现响应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间建立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隧道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现网例外情况解决建议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现网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DHCP server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既不支持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Option43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，也不支持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Option15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，则采取以下几种措施：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采用二层组网，启用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广播发现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FrutigerNext LT Regular"/>
              </a:rPr>
              <a:t>仍用三层组网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0172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</a:rPr>
              <a:t>推荐使用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</a:rPr>
              <a:t>自带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</a:rPr>
              <a:t>DHCP server</a:t>
            </a: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</a:rPr>
              <a:t>给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</a:rPr>
              <a:t>分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Medium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Medium"/>
              </a:rPr>
              <a:t>管理流与</a:t>
            </a:r>
            <a:r>
              <a:rPr b="0" lang="en-US" sz="1600" spc="-1" strike="noStrike">
                <a:solidFill>
                  <a:srgbClr val="000000"/>
                </a:solidFill>
                <a:latin typeface="FrutigerNext LT Medium"/>
              </a:rPr>
              <a:t>STA</a:t>
            </a:r>
            <a:r>
              <a:rPr b="0" lang="zh-CN" sz="1600" spc="-1" strike="noStrike">
                <a:solidFill>
                  <a:srgbClr val="000000"/>
                </a:solidFill>
                <a:latin typeface="FrutigerNext LT Medium"/>
              </a:rPr>
              <a:t>业务流分不同</a:t>
            </a:r>
            <a:r>
              <a:rPr b="0" lang="en-US" sz="1600" spc="-1" strike="noStrike">
                <a:solidFill>
                  <a:srgbClr val="000000"/>
                </a:solidFill>
                <a:latin typeface="FrutigerNext LT Medium"/>
              </a:rPr>
              <a:t>VLAN</a:t>
            </a:r>
            <a:endParaRPr b="0" lang="en-US" sz="1600" spc="-1" strike="noStrike">
              <a:solidFill>
                <a:srgbClr val="000000"/>
              </a:solidFill>
              <a:latin typeface="FrutigerNext LT Medium"/>
            </a:endParaRPr>
          </a:p>
          <a:p>
            <a:pPr lvl="2" marL="80172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</a:rPr>
              <a:t>增加部署一台支持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</a:rPr>
              <a:t>Option43</a:t>
            </a:r>
            <a:r>
              <a:rPr b="0" lang="zh-CN" sz="2400" spc="-1" strike="noStrike">
                <a:solidFill>
                  <a:srgbClr val="000000"/>
                </a:solidFill>
                <a:latin typeface="FrutigerNext LT Regular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</a:rPr>
              <a:t>DHCP server</a:t>
            </a:r>
            <a:endParaRPr b="0" lang="en-US" sz="24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2016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FrutigerNext LT Medium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Medium"/>
              </a:rPr>
              <a:t>单独为</a:t>
            </a:r>
            <a:r>
              <a:rPr b="0" lang="en-US" sz="1600" spc="-1" strike="noStrike">
                <a:solidFill>
                  <a:srgbClr val="000000"/>
                </a:solidFill>
                <a:latin typeface="FrutigerNext LT Medium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Medium"/>
              </a:rPr>
              <a:t>建立一个新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Medium"/>
              </a:rPr>
              <a:t>DHCP server</a:t>
            </a:r>
            <a:endParaRPr b="0" lang="en-US" sz="1600" spc="-1" strike="noStrike">
              <a:solidFill>
                <a:srgbClr val="000000"/>
              </a:solidFill>
              <a:latin typeface="FrutigerNext LT Medium"/>
            </a:endParaRPr>
          </a:p>
          <a:p>
            <a:pPr lvl="1" marL="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APW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隧道建立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421" name="图片 1" descr="S}[RD(_]0LLKB7D}RQQPBXP"/>
          <p:cNvPicPr/>
          <p:nvPr/>
        </p:nvPicPr>
        <p:blipFill>
          <a:blip r:embed="rId1"/>
          <a:stretch/>
        </p:blipFill>
        <p:spPr>
          <a:xfrm>
            <a:off x="2503440" y="1376280"/>
            <a:ext cx="4248360" cy="48085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652320" y="1375920"/>
            <a:ext cx="1749600" cy="1544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总体视图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APW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隧道建立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DHCP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52320" y="1190520"/>
            <a:ext cx="2694240" cy="711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的四步交互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425" name="图片 1" descr="$@XMD}@2APMI63MYJ4LHK]4"/>
          <p:cNvPicPr/>
          <p:nvPr/>
        </p:nvPicPr>
        <p:blipFill>
          <a:blip r:embed="rId1"/>
          <a:stretch/>
        </p:blipFill>
        <p:spPr>
          <a:xfrm>
            <a:off x="557280" y="2101680"/>
            <a:ext cx="80294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21920" y="311040"/>
            <a:ext cx="8381880" cy="55944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四步交互：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在没有预配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 I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列表时，则启动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动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发现机制。通过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获取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地址，并通过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协议中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option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返回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地址列表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首先是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发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iscov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广播报文，请求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 serv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响应，在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服务器侦听到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iscov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报文后，它会从没有租约的地址范围中，选择最前面的空置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，连同其他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TCP/I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设定，响应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 off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报文，该报文中会包含一个租约期限的信息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由于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 off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报文既可以是单播报文，也可以是广播报文，当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端收到多台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 serv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响应时，只会挑选其中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off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（通常是最先抵达的那个），然后向网络中发送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 request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广播报文，告诉所有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off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，并重新发送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 serv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它将指定接收哪一台服务器提供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地址，同时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也会向网络发送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R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封包，查询网络上面有没有其他机器使用该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地址，如果发现该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已被占用，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会发送出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 Decline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封包给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服务器，拒绝接收其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 discov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报文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601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当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 server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接收到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request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报文后，会向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发送一个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 Ack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响应，该报文中携带的信息包括了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地址，租约期限，网关信息，以及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NS server  I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等，以此确定租约的正式生效，就此完成</a:t>
            </a:r>
            <a:r>
              <a:rPr b="0" lang="en-US" sz="16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1600" spc="-1" strike="noStrike">
                <a:solidFill>
                  <a:srgbClr val="000000"/>
                </a:solidFill>
                <a:latin typeface="FrutigerNext LT Regular"/>
              </a:rPr>
              <a:t>的四步交互工作。</a:t>
            </a:r>
            <a:endParaRPr b="0" lang="en-US" sz="16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CAPW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隧道建立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-Discovery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428" name="图片 1" descr="L46`CR]XL)YMDOD2IF~IP3F"/>
          <p:cNvPicPr/>
          <p:nvPr/>
        </p:nvPicPr>
        <p:blipFill>
          <a:blip r:embed="rId1"/>
          <a:stretch/>
        </p:blipFill>
        <p:spPr>
          <a:xfrm>
            <a:off x="647640" y="1919160"/>
            <a:ext cx="7724880" cy="42958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652320" y="1190520"/>
            <a:ext cx="2694240" cy="711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发现机制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问  题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一般常用的是哪几个不重叠的信道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在中国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有几个不重叠的信道可以使用？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432" name="Picture 17" descr="问题 copy"/>
          <p:cNvPicPr/>
          <p:nvPr/>
        </p:nvPicPr>
        <p:blipFill>
          <a:blip r:embed="rId1"/>
          <a:stretch/>
        </p:blipFill>
        <p:spPr>
          <a:xfrm>
            <a:off x="696960" y="477720"/>
            <a:ext cx="61596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总  结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频段与信道的基本概念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2.4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5GHz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频段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其他的无线技术简介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435" name="Picture 8" descr="总结 copy"/>
          <p:cNvPicPr/>
          <p:nvPr/>
        </p:nvPicPr>
        <p:blipFill>
          <a:blip r:embed="rId1"/>
          <a:stretch/>
        </p:blipFill>
        <p:spPr>
          <a:xfrm>
            <a:off x="695160" y="47772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77640" y="358920"/>
            <a:ext cx="709452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目  录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51960" y="137592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1" lang="zh-CN" sz="2200" spc="-1" strike="noStrike">
                <a:solidFill>
                  <a:srgbClr val="000000"/>
                </a:solidFill>
                <a:latin typeface="FrutigerNext LT Regular"/>
              </a:rPr>
              <a:t>技术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  <a:p>
            <a:pPr marL="419040" indent="-419040">
              <a:lnSpc>
                <a:spcPct val="14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FrutigerNext LT Regular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FrutigerNext LT Regular"/>
              </a:rPr>
              <a:t>CAPWAP</a:t>
            </a:r>
            <a:r>
              <a:rPr b="0" lang="zh-CN" sz="2200" spc="-1" strike="noStrike">
                <a:solidFill>
                  <a:srgbClr val="666666"/>
                </a:solidFill>
                <a:latin typeface="FrutigerNext LT Regular"/>
              </a:rPr>
              <a:t>隧道介绍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64" name="Picture 19" descr="目录 copy"/>
          <p:cNvPicPr/>
          <p:nvPr/>
        </p:nvPicPr>
        <p:blipFill>
          <a:blip r:embed="rId1"/>
          <a:stretch/>
        </p:blipFill>
        <p:spPr>
          <a:xfrm>
            <a:off x="704880" y="468360"/>
            <a:ext cx="615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2320" y="351000"/>
            <a:ext cx="773136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51960" y="1375920"/>
            <a:ext cx="7929720" cy="27608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无线局域网络的架构主要分为：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基于控制器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架构（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 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401760">
              <a:lnSpc>
                <a:spcPct val="140000"/>
              </a:lnSpc>
              <a:spcBef>
                <a:spcPts val="675"/>
              </a:spcBef>
              <a:buClr>
                <a:srgbClr val="080808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传统的独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架构（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 A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随着近几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技术以及市场的发展，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在迅速替代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式。</a:t>
            </a:r>
            <a:endParaRPr b="0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67" name="直接连接符 25" descr=""/>
          <p:cNvPicPr/>
          <p:nvPr/>
        </p:nvPicPr>
        <p:blipFill>
          <a:blip r:embed="rId1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68" name="直接连接符 31" descr="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69" name="直接连接符 32" descr="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70" name="直接连接符 33" descr=""/>
          <p:cNvPicPr/>
          <p:nvPr/>
        </p:nvPicPr>
        <p:blipFill>
          <a:blip r:embed="rId4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71" name="直接连接符 34" descr=""/>
          <p:cNvPicPr/>
          <p:nvPr/>
        </p:nvPicPr>
        <p:blipFill>
          <a:blip r:embed="rId5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72" name="直接连接符 35" descr=""/>
          <p:cNvPicPr/>
          <p:nvPr/>
        </p:nvPicPr>
        <p:blipFill>
          <a:blip r:embed="rId6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73" name="直接连接符 36" descr=""/>
          <p:cNvPicPr/>
          <p:nvPr/>
        </p:nvPicPr>
        <p:blipFill>
          <a:blip r:embed="rId7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74" name="直接连接符 37" descr=""/>
          <p:cNvPicPr/>
          <p:nvPr/>
        </p:nvPicPr>
        <p:blipFill>
          <a:blip r:embed="rId8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75" name="直接连接符 38" descr=""/>
          <p:cNvPicPr/>
          <p:nvPr/>
        </p:nvPicPr>
        <p:blipFill>
          <a:blip r:embed="rId9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76" name="直接连接符 39" descr=""/>
          <p:cNvPicPr/>
          <p:nvPr/>
        </p:nvPicPr>
        <p:blipFill>
          <a:blip r:embed="rId10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77" name="直接连接符 40" descr=""/>
          <p:cNvPicPr/>
          <p:nvPr/>
        </p:nvPicPr>
        <p:blipFill>
          <a:blip r:embed="rId11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78" name="直接连接符 41" descr=""/>
          <p:cNvPicPr/>
          <p:nvPr/>
        </p:nvPicPr>
        <p:blipFill>
          <a:blip r:embed="rId1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VHFH%~T5UD3X~JSM3BH7([G"/>
          <p:cNvPicPr/>
          <p:nvPr/>
        </p:nvPicPr>
        <p:blipFill>
          <a:blip r:embed="rId13"/>
          <a:stretch/>
        </p:blipFill>
        <p:spPr>
          <a:xfrm>
            <a:off x="6630840" y="1219320"/>
            <a:ext cx="16671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胖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93360" y="1090080"/>
            <a:ext cx="7929720" cy="1519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胖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，除无线接入功能外，一般具备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两个接口，多支持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服务器、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DNS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MAC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地址克隆，以及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VP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接入、防火墙等安全功能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82" name="图片 1" descr="4X)LN89[FAT7GOYRFI3S$N7"/>
          <p:cNvPicPr/>
          <p:nvPr/>
        </p:nvPicPr>
        <p:blipFill>
          <a:blip r:embed="rId1"/>
          <a:stretch/>
        </p:blipFill>
        <p:spPr>
          <a:xfrm>
            <a:off x="1830240" y="2610000"/>
            <a:ext cx="58867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51960" y="11142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许多年来，传统的接入点被视为独立的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门户设备，管理平面、控制平面以及数据平面的工作都在此操作，这些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通常被称为胖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或者独立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。不过，传统接入点最常见的行业术语是自治型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utonomous 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所有配置存储于自治型接入点本身，因此设备的管理和配置均由接入点处理。所有加密解密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M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层功能也由自治型接入点完成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30000"/>
              </a:lnSpc>
              <a:spcBef>
                <a:spcPts val="67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胖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典型的例子为无线路由器。无线路由器与纯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不同，除无线接入功能外，一般具备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WA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LA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两个接口，多支持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DHCP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服务器、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DNS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MAC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地址克隆，以及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VPN</a:t>
            </a:r>
            <a:r>
              <a:rPr b="0" lang="zh-CN" sz="1800" spc="-1" strike="noStrike">
                <a:solidFill>
                  <a:srgbClr val="000000"/>
                </a:solidFill>
                <a:latin typeface="FrutigerNext LT Regular"/>
              </a:rPr>
              <a:t>接入、防火墙等安全功能。</a:t>
            </a:r>
            <a:endParaRPr b="0" lang="en-US" sz="18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瘦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介绍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93360" y="1090080"/>
            <a:ext cx="7929720" cy="1519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40000"/>
              </a:lnSpc>
              <a:spcBef>
                <a:spcPts val="825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瘦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是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代表自身不能单独配置或者使用的无线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产品，这种产品仅仅是一个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系统的一部分，负责管理安装和操作</a:t>
            </a: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FrutigerNext LT Regular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386" name="图片 1" descr="F}XG2SGLTCDV9@WWUATYCXW"/>
          <p:cNvPicPr/>
          <p:nvPr/>
        </p:nvPicPr>
        <p:blipFill>
          <a:blip r:embed="rId1"/>
          <a:stretch/>
        </p:blipFill>
        <p:spPr>
          <a:xfrm>
            <a:off x="879480" y="2119320"/>
            <a:ext cx="774396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23440" y="839520"/>
            <a:ext cx="7929720" cy="2695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无线局域网一体化发展的下一阶段是集中式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架构。这种模式使用位于网络核心的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控制器，在集中式的无线局域网体系结构中，基于控制器的接入点，也称为轻量型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（或者瘦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）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对于可运营的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，从组网的角度，为了实现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网络的快速部署、网络设备的集中管理、精细化的用户管理，相比胖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（自治型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）方式，企业用户以及运营商更倾向于采用集中控制性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组网（瘦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P+AC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），从而实现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WLAN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系统、设备的可运维、可管理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  <a:p>
            <a:pPr marL="301680" indent="-301680">
              <a:lnSpc>
                <a:spcPct val="120000"/>
              </a:lnSpc>
              <a:spcBef>
                <a:spcPts val="561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C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和瘦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AP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之间运行的协议一般为</a:t>
            </a:r>
            <a:r>
              <a:rPr b="0" lang="en-US" sz="1500" spc="-1" strike="noStrike">
                <a:solidFill>
                  <a:srgbClr val="000000"/>
                </a:solidFill>
                <a:latin typeface="FrutigerNext LT Regular"/>
              </a:rPr>
              <a:t>CAPWAP</a:t>
            </a:r>
            <a:r>
              <a:rPr b="0" lang="zh-CN" sz="1500" spc="-1" strike="noStrike">
                <a:solidFill>
                  <a:srgbClr val="000000"/>
                </a:solidFill>
                <a:latin typeface="FrutigerNext LT Regular"/>
              </a:rPr>
              <a:t>协议。</a:t>
            </a:r>
            <a:endParaRPr b="0" lang="en-US" sz="15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1160" y="358920"/>
            <a:ext cx="7731000" cy="8683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胖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与瘦</a:t>
            </a:r>
            <a:r>
              <a:rPr b="0" lang="en-US" sz="3500" spc="-1" strike="noStrike">
                <a:solidFill>
                  <a:srgbClr val="990000"/>
                </a:solidFill>
                <a:latin typeface="FrutigerNext LT Medium"/>
              </a:rPr>
              <a:t>AP</a:t>
            </a:r>
            <a:r>
              <a:rPr b="0" lang="zh-CN" sz="3500" spc="-1" strike="noStrike">
                <a:solidFill>
                  <a:srgbClr val="990000"/>
                </a:solidFill>
                <a:latin typeface="FrutigerNext LT Medium"/>
              </a:rPr>
              <a:t>比较</a:t>
            </a:r>
            <a:endParaRPr b="0" lang="en-US" sz="3500" spc="-1" strike="noStrike">
              <a:solidFill>
                <a:srgbClr val="990000"/>
              </a:solidFill>
              <a:latin typeface="FrutigerNext LT Medium"/>
            </a:endParaRPr>
          </a:p>
        </p:txBody>
      </p:sp>
      <p:pic>
        <p:nvPicPr>
          <p:cNvPr id="389" name="图片 2" descr="HOOXP%8]]ETTDG@W`J3NE_8"/>
          <p:cNvPicPr/>
          <p:nvPr/>
        </p:nvPicPr>
        <p:blipFill>
          <a:blip r:embed="rId1"/>
          <a:stretch/>
        </p:blipFill>
        <p:spPr>
          <a:xfrm>
            <a:off x="0" y="1227240"/>
            <a:ext cx="91663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16:27Z</dcterms:created>
  <dc:creator>y00207709</dc:creator>
  <dc:description/>
  <dc:language>en-US</dc:language>
  <cp:lastModifiedBy>Lenovo</cp:lastModifiedBy>
  <dcterms:modified xsi:type="dcterms:W3CDTF">2020-03-10T06:47:22Z</dcterms:modified>
  <cp:revision>142</cp:revision>
  <dc:subject/>
  <dc:title>幻灯片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13</vt:lpwstr>
  </property>
  <property fmtid="{D5CDD505-2E9C-101B-9397-08002B2CF9AE}" pid="3" name="_ms_pID_725343">
    <vt:lpwstr>(4)DDSKnQeHkZYvrlHWEWgAaMGEeJyoiX2BzuCCSWMP/5Ew8cydmDNrOsE3m8JpaCp44+gG2194
A++A5XRu/L/rTHOxnOAYi/yuAW0xCKdf8/hi6tLKk0CXM96qx0zuCuKmapY1xRyPpJldOPKK
lnGoRVVeopiLjY0Chk5inwNbjcGcRNtuyEcDFj0EzCucnyHDzC9N9qlilmD8jwF7GU+6A6BQ
iStLmFZgQvgGSAchcD</vt:lpwstr>
  </property>
  <property fmtid="{D5CDD505-2E9C-101B-9397-08002B2CF9AE}" pid="4" name="_ms_pID_7253431">
    <vt:lpwstr>OPE9tKZ39ddiewois3lTjqj3gEK9d8as+g1czYOzrO4hluGyFzX4oX
/9CkEFwTbbiMmU2xZCyS/vnJ+EgyGVfEbmYt8uNgTk0jNqjf3OE5l9rDQgp8TOOdecpPCac2
m5xH39ujaTEfvfQbRslkKEFaJGIDkopcKtXVZxwxOmMdPBol2hrnYaBjnJy36ttlX1xXGQJL
DuJxcNl17OwkPAMF6h9vbsHrIEcbUYwX+m3+</vt:lpwstr>
  </property>
  <property fmtid="{D5CDD505-2E9C-101B-9397-08002B2CF9AE}" pid="5" name="_ms_pID_7253432">
    <vt:lpwstr>h/NkUwEp2wqkcMzso6wKQZKzIrwXI3rpJfUW
+ecCyOxbDt9d3KBPZ2LRXYR2U8Jj8LZLvPYwthDIva3kngt5DFNg2qPJwQeCHvYiFvg4V/xB
vQU58D+9TD9GmDUEiLRpkqupGBP0sxve9BfZUfzYvU7ZYYHT7RvnrG/Kcrs22MZjQ2rsvrt6
Z/ojMlLHjPWz/k62FDVhbDBgb79jiX5sqivfy4cYOE2ZGZJBkvSVxz</vt:lpwstr>
  </property>
  <property fmtid="{D5CDD505-2E9C-101B-9397-08002B2CF9AE}" pid="6" name="_ms_pID_7253433">
    <vt:lpwstr>esiKnKPTnzlXmCz0L6
drYdiqdHYAEN71aUnBv2yyyPdQrShs9vBJkL2U/SKWHoKjVQXsfYK+Y3G5qNFCYSNqu1R8sq
OLgxxz2TSNj8T7DOyGURi5BoXvK2V6eYz+1es6+eGCFnaFLJgEN6Tefdb1c2MKnLOs4ZNxCf
QqufT0z97qYHS1NVwOAm3M5ZJlIEAb5xK8KtHATe98jNpw7+UJEx2Q==</vt:lpwstr>
  </property>
  <property fmtid="{D5CDD505-2E9C-101B-9397-08002B2CF9AE}" pid="7" name="sflag">
    <vt:lpwstr>1356060140</vt:lpwstr>
  </property>
</Properties>
</file>