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1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95A3073D-B573-48E6-9E58-3D0EA892869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86576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86576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86576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urs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21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18EC8EC-9B24-43C5-BEF6-A9619C3D60C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1419120"/>
            <a:ext cx="5827680" cy="147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组网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部署方式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608040" y="1157400"/>
            <a:ext cx="43545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旁挂式组网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旁挂式组网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旁挂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上行网络的直连网络上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业务数据可以不经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而直接到达上行网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C:\Users\Lenovo\AppData\Roaming\Tencent\Users\513547739\QQ\WinTemp\RichOle\B7WQ~GP178[DVC$1GDG4WWY.png"/>
          <p:cNvPicPr/>
          <p:nvPr/>
        </p:nvPicPr>
        <p:blipFill>
          <a:blip r:embed="rId1"/>
          <a:stretch/>
        </p:blipFill>
        <p:spPr>
          <a:xfrm>
            <a:off x="4962600" y="1849320"/>
            <a:ext cx="3486240" cy="415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608040" y="538200"/>
            <a:ext cx="81183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旁挂式组网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旁挂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与上行网络的直连网络中，不再直接连接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由于实际组网中，大部分不是早期就规划好无线网络，无线网络的覆盖架设大部分是后期在现有网络中扩展而来。而采用旁挂式组网就比较容易进行扩展，只需将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旁挂在现有网络中，比如旁挂在汇聚交换机上，就可以对终端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进行管理。所以此种组网方式使用率比较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在旁挂式组网中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只承载对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管理功能，管理流封装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隧道中传输。数据业务流可以通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数据隧道经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转发，也可以不经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转发直接转发，后者无线用户业务流经汇聚交换机由汇聚交换机传输至上层网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敏捷分布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i-Fi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方案组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敏捷分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-Fi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方案架构通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集中管理和控制多个中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，每个中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集中管理和控制多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RU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Users\Lenovo\AppData\Roaming\Tencent\Users\513547739\QQ\WinTemp\RichOle\3MNCJFW8(R%O{9U_K6}F@I1.png"/>
          <p:cNvPicPr/>
          <p:nvPr/>
        </p:nvPicPr>
        <p:blipFill>
          <a:blip r:embed="rId1"/>
          <a:stretch/>
        </p:blipFill>
        <p:spPr>
          <a:xfrm>
            <a:off x="752400" y="2492280"/>
            <a:ext cx="7562880" cy="363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内容占位符 2"/>
          <p:cNvSpPr/>
          <p:nvPr/>
        </p:nvSpPr>
        <p:spPr>
          <a:xfrm>
            <a:off x="608040" y="538200"/>
            <a:ext cx="81183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所有无线接入功能由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emote Ratio Unit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、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共同完成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集中处理所有的安全、控制和管理功能，例如移动管理、身份验证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划分、射频资源管理和数据包转发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负责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的收发，并传给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完成其他功能，例如无线信号发射与探测响应、数据加密解密、数据传输确认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以及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都采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协议进行通讯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间可以跨越二层网络或三层网络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跨越二层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用户接入无线网络的过程分三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建立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隧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建立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隧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T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关联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敏捷分布式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典型应用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酒店房间、校园宿舍、医院病房等多房间的场景中，由于墙体等室内建筑物的阻隔，无线信号的衰减现象较为严重，普通的室内放装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室内分布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法完全满足低成本、高性能的无线覆盖需求。在这类场景下，可采用敏捷分布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组网架构部署网络满足此类需求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" descr="U$]_0RR13]PJ$GF_}N8DWOO"/>
          <p:cNvPicPr/>
          <p:nvPr/>
        </p:nvPicPr>
        <p:blipFill>
          <a:blip r:embed="rId1"/>
          <a:stretch/>
        </p:blipFill>
        <p:spPr>
          <a:xfrm>
            <a:off x="1244520" y="3157560"/>
            <a:ext cx="6743880" cy="2828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内容占位符 2"/>
          <p:cNvSpPr/>
          <p:nvPr/>
        </p:nvSpPr>
        <p:spPr>
          <a:xfrm>
            <a:off x="608040" y="538200"/>
            <a:ext cx="81183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敏捷分布式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组网包括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+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+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收发无线报文，并二层传给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进行处理。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通过网线连接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相比于普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通过馈线连接天线，网线能够提供更长的部署距离，方便在离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更远的位置部署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上图拓扑中，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连接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提供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Po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供电。还可以在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下连接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Po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交换机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Po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交换机再连接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扩展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下管理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数目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RRU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其接入的中心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之间需要是二层可达的组网并且必须是树型组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C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组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转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V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业务中的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2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数据转发方式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中的数据包括控制消息和数据消息，其中数据消息转发方式包括：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接转发（又称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地转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隧道转发（又称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集中转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内容占位符 2"/>
          <p:cNvSpPr/>
          <p:nvPr/>
        </p:nvSpPr>
        <p:spPr>
          <a:xfrm>
            <a:off x="608040" y="1546200"/>
            <a:ext cx="811836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承载管理流和数据业务流，管理流必须封装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隧道传输，数据流可以根据实际情况选择是否封装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隧道中传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无论直连式组网还是旁挂式组网，都可以根据需要自行选择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支持两种模式混合，即根据需要将部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配置为直接转发模式，部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配置为隧道转发模式。由于隧道转发模式下，所有无线用户流量都将汇聚到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上处理，存在交换瓶颈的风险，在企业网中不常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-3816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直连式组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79" name="图片 2" descr="D{P@0O`KO7P%[G8OR7LMH_2"/>
          <p:cNvPicPr/>
          <p:nvPr/>
        </p:nvPicPr>
        <p:blipFill>
          <a:blip r:embed="rId1"/>
          <a:stretch/>
        </p:blipFill>
        <p:spPr>
          <a:xfrm>
            <a:off x="1066680" y="884160"/>
            <a:ext cx="7010640" cy="2257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91600" y="3084120"/>
            <a:ext cx="86425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2000"/>
          </a:bodyPr>
          <a:p>
            <a:pPr marL="217080" indent="-2170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连式组网是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直接接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接入交换机，同时扮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汇聚交换机功能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数据业务和管理业务都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集中转发和处理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连式组网中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之间建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管理隧道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过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管理隧道实现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集中配置和管理。无线用户的业务数据可以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数据隧道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之间转发（隧道转发模式），也可以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接转发（直接转发模式）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由于直连式组网中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自然串接在线路中，故多采用直接转发模式，用户业务数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实现转发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217080" indent="-2170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启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 Serv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功能，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分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地址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 option4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方式或二层发现协议发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建立数据业务通道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 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学完本课程后，您应该能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概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组网方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转发方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区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业务中不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应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8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直连式组网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直接转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82" name="Picture 1" descr="C:\Users\Lenovo\AppData\Roaming\Tencent\Users\513547739\QQ\WinTemp\RichOle\${Z3TT50G]@AMQRVV`HECZA.png"/>
          <p:cNvPicPr/>
          <p:nvPr/>
        </p:nvPicPr>
        <p:blipFill>
          <a:blip r:embed="rId1"/>
          <a:stretch/>
        </p:blipFill>
        <p:spPr>
          <a:xfrm>
            <a:off x="766800" y="1608120"/>
            <a:ext cx="7153200" cy="43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直连式组网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隧道转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84" name="Picture 1" descr="C:\Users\Lenovo\AppData\Roaming\Tencent\Users\513547739\QQ\WinTemp\RichOle\@IGD7I40[8QY7K8B18%RMX8.png"/>
          <p:cNvPicPr/>
          <p:nvPr/>
        </p:nvPicPr>
        <p:blipFill>
          <a:blip r:embed="rId1"/>
          <a:stretch/>
        </p:blipFill>
        <p:spPr>
          <a:xfrm>
            <a:off x="954000" y="1317600"/>
            <a:ext cx="7248600" cy="460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旁挂式组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86" name="Picture 1" descr="C:\Users\Lenovo\AppData\Roaming\Tencent\Users\513547739\QQ\WinTemp\RichOle\4I}]_S6MK_P3RRAPC3K[)4I.png"/>
          <p:cNvPicPr/>
          <p:nvPr/>
        </p:nvPicPr>
        <p:blipFill>
          <a:blip r:embed="rId1"/>
          <a:stretch/>
        </p:blipFill>
        <p:spPr>
          <a:xfrm>
            <a:off x="1143000" y="2031840"/>
            <a:ext cx="6534000" cy="271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1160" y="1573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旁挂式组网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直接转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88" name="Picture 1" descr="C:\Users\Lenovo\AppData\Roaming\Tencent\Users\513547739\QQ\WinTemp\RichOle\5D7~ZB3EEWBGO@{C(ZUTL_7.png"/>
          <p:cNvPicPr/>
          <p:nvPr/>
        </p:nvPicPr>
        <p:blipFill>
          <a:blip r:embed="rId1"/>
          <a:stretch/>
        </p:blipFill>
        <p:spPr>
          <a:xfrm>
            <a:off x="981000" y="941400"/>
            <a:ext cx="7115400" cy="4352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501120" y="5382720"/>
            <a:ext cx="86425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接转发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会对数据报文进行任何处理，发送原始报文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采用直接转发，可以很容易的突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带宽限制，而且配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断链保持以后，可减少无线用户断网的风险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1160" y="1573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旁挂式组网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隧道转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1120" y="5572080"/>
            <a:ext cx="8642520" cy="6112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采用隧道转发，可以大大提高数据的安全性，还可以对数据进行集中控制，比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92" name="Picture 1" descr="C:\Users\Lenovo\AppData\Roaming\Tencent\Users\513547739\QQ\WinTemp\RichOle\}A~SLTQ@JOVF2(S1YJKRMZ5.png"/>
          <p:cNvPicPr/>
          <p:nvPr/>
        </p:nvPicPr>
        <p:blipFill>
          <a:blip r:embed="rId1"/>
          <a:stretch/>
        </p:blipFill>
        <p:spPr>
          <a:xfrm>
            <a:off x="887400" y="968400"/>
            <a:ext cx="702000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C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组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转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VLA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业务中的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95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管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LAN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97" name="Picture 1" descr="C:\Users\Lenovo\AppData\Roaming\Tencent\Users\513547739\QQ\WinTemp\RichOle\{WT7]0Q}KD)PYYHRI0}G1@U.png"/>
          <p:cNvPicPr/>
          <p:nvPr/>
        </p:nvPicPr>
        <p:blipFill>
          <a:blip r:embed="rId1"/>
          <a:stretch/>
        </p:blipFill>
        <p:spPr>
          <a:xfrm>
            <a:off x="1035000" y="2741760"/>
            <a:ext cx="6648480" cy="2305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要是用来传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管理数据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内容占位符 2"/>
          <p:cNvSpPr/>
          <p:nvPr/>
        </p:nvSpPr>
        <p:spPr>
          <a:xfrm>
            <a:off x="608040" y="1546200"/>
            <a:ext cx="811836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管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于二层交换机而言，一般只能设置一个三层虚接口，所以必须设置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作为三层虚接口的管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管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中绑定了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地址，这样我们可以远程管理交换机，例如登录交换机查看相应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OG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日志，分析交换机状态，处理某些故障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对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来说，管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主要是用来传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的管理数据，如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 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 AR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 CAPW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（包含控制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和数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）。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内部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XGE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口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V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UNK 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交换机普通物理端口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V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UNK 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相同，在部署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时，需要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V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为管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  ID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并允许管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报文通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UNK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接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业务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LAN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业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要是负责传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上网时的数据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2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Lenovo\AppData\Roaming\Tencent\Users\513547739\QQ\WinTemp\RichOle\LY@BQ}WX63VLMG5TL`WY0)C.png"/>
          <p:cNvPicPr/>
          <p:nvPr/>
        </p:nvPicPr>
        <p:blipFill>
          <a:blip r:embed="rId1"/>
          <a:stretch/>
        </p:blipFill>
        <p:spPr>
          <a:xfrm>
            <a:off x="1049400" y="2443320"/>
            <a:ext cx="6696000" cy="25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内容占位符 2"/>
          <p:cNvSpPr/>
          <p:nvPr/>
        </p:nvSpPr>
        <p:spPr>
          <a:xfrm>
            <a:off x="608040" y="1546200"/>
            <a:ext cx="811836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整体来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是基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区域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与位置有关，与用户无关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内的用户使用此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封装用户。主要负责传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W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用户上网时的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角度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直接转发模式下，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是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给数据报文加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隧道转发模式下，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是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PW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隧道内用户报文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角度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模板中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ervice 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上传的用户报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始终为当前用户的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Co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WLA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组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转发方式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V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业务中的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31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用户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LAN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51960" y="1375920"/>
            <a:ext cx="7929720" cy="14749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指基于用户权限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C:\Users\Lenovo\AppData\Roaming\Tencent\Users\513547739\QQ\WinTemp\RichOle\3WDKPH8ZGIY}QWC0KW30HC6.png"/>
          <p:cNvPicPr/>
          <p:nvPr/>
        </p:nvPicPr>
        <p:blipFill>
          <a:blip r:embed="rId1"/>
          <a:stretch/>
        </p:blipFill>
        <p:spPr>
          <a:xfrm>
            <a:off x="870120" y="2486160"/>
            <a:ext cx="6734160" cy="2485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内容占位符 2"/>
          <p:cNvSpPr/>
          <p:nvPr/>
        </p:nvSpPr>
        <p:spPr>
          <a:xfrm>
            <a:off x="195120" y="333360"/>
            <a:ext cx="878364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中使用的用户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具体可以分为以下几种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用户在使用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802.1X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方式进行用户接入安全认证时，会涉及到以下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Gues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Gues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基本功能是使用户在没有经过认证的情况下也能访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Gues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内部的部分资源。例如，当用户没有安装客户端软件时，可以通过访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Gues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资源下载并安装客户端，通过认证后，才能进行正常的网络访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strict VL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stric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功能允许用户在认证失败的情况下可以访问某一特定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中的资源，这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称之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strict 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需要注意的是，这里的认证失败是认证服务器因某种原因明确拒绝用户认证通过，比如用户密码错误，而不是认证超时或网络连接等原因造成的认证失败（即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收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DIU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服务器下发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dius-reject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报文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授权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传统的静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部署不仅管理复杂，而且难以解决移动办公用户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控制问题。可以通过在用户接入网络时动态指定该用户所属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实现基于用户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划分。例如，在企业网中，通过动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下发，可以保证无线用户在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覆盖区域漫游到另外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覆盖区域时，用户均属于同一个业务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保证用户正常业务不被中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内容占位符 2"/>
          <p:cNvSpPr/>
          <p:nvPr/>
        </p:nvSpPr>
        <p:spPr>
          <a:xfrm>
            <a:off x="630360" y="1157400"/>
            <a:ext cx="782460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部署的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系统同时设置了用户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管理、业务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后，原则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无论在认证、重认证、漫游重认证还是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A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动态下发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过程中，授权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都有最高优先级，且为即时启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如果认证、重认证、漫游重认证还是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A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动态下发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过程中没有授权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则取用当前所在地的业务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总体而言，用户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优先于业务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，在系统同时设置有授权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Guest  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estrict 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等用户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情况下，优先启用授权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89160" y="387360"/>
            <a:ext cx="7108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总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组网方式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数据转发方式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15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73320" y="358920"/>
            <a:ext cx="70992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二层组网和三层组网各有什么优势和劣势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直连式组网和旁挂式组网各有什么优势和劣势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18" name="Picture 4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胖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设备的典型组网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3" name="内容占位符 2"/>
          <p:cNvSpPr/>
          <p:nvPr/>
        </p:nvSpPr>
        <p:spPr>
          <a:xfrm>
            <a:off x="608040" y="1157400"/>
            <a:ext cx="79279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家庭或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OHO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网络的组网模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C:\Users\Lenovo\AppData\Roaming\Tencent\Users\513547739\QQ\WinTemp\RichOle\YDS`}[SF@XTP(FI}CUK%}8W.png"/>
          <p:cNvPicPr/>
          <p:nvPr/>
        </p:nvPicPr>
        <p:blipFill>
          <a:blip r:embed="rId1"/>
          <a:stretch/>
        </p:blipFill>
        <p:spPr>
          <a:xfrm>
            <a:off x="1587600" y="2286000"/>
            <a:ext cx="5638680" cy="2381400"/>
          </a:xfrm>
          <a:prstGeom prst="rect">
            <a:avLst/>
          </a:prstGeom>
          <a:ln w="0">
            <a:noFill/>
          </a:ln>
        </p:spPr>
      </p:pic>
      <p:sp>
        <p:nvSpPr>
          <p:cNvPr id="135" name="内容占位符 2"/>
          <p:cNvSpPr/>
          <p:nvPr/>
        </p:nvSpPr>
        <p:spPr>
          <a:xfrm>
            <a:off x="679320" y="4913280"/>
            <a:ext cx="82360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家庭或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OHO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中，由于所需要的无线覆盖范围小，一般采用胖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组网。而胖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可以不仅实现无线覆盖的要求，还可以同时作为路由器，实现对有线网络的路由转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胖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设备的典型组网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608040" y="1157400"/>
            <a:ext cx="79279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企业网络的组网模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内容占位符 2"/>
          <p:cNvSpPr/>
          <p:nvPr/>
        </p:nvSpPr>
        <p:spPr>
          <a:xfrm>
            <a:off x="679320" y="5127480"/>
            <a:ext cx="8236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在企业网络或其他大型场所中，所需要的无线覆盖范围比较大，若采用胖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组，则可以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接入到接入交换机端，数据通过交换机的转发，到达企业核心网。在企业核心网也可以架设起网管系统，便于对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统一管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Lenovo\AppData\Roaming\Tencent\Users\513547739\QQ\WinTemp\RichOle\$9G6RU$]WGZK$O`WU8OGD3J.png"/>
          <p:cNvPicPr/>
          <p:nvPr/>
        </p:nvPicPr>
        <p:blipFill>
          <a:blip r:embed="rId1"/>
          <a:stretch/>
        </p:blipFill>
        <p:spPr>
          <a:xfrm>
            <a:off x="2570040" y="1638360"/>
            <a:ext cx="3427560" cy="337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+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方式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3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1" name="内容占位符 2"/>
          <p:cNvSpPr/>
          <p:nvPr/>
        </p:nvSpPr>
        <p:spPr>
          <a:xfrm>
            <a:off x="606600" y="1157400"/>
            <a:ext cx="8335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组网模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根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的网络架构可分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二层组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三层组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根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在网络中的位置可分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直连式组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旁挂式组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+FIT 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控制架构对设备的功能进行了重新划分，其中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负责无线网络的接入控制，转发和统计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配置监控、漫游管理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网管代理、安全控制；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FIT 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负责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的加解密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物理层功能、接受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管理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RF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空口的统计等简单功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+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方式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3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608040" y="1157400"/>
            <a:ext cx="43545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二层网络连接模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同属于一个二层广播域，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通过二层交换机互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C:\Users\Lenovo\AppData\Roaming\Tencent\Users\513547739\QQ\WinTemp\RichOle\J[8(S0FQIP1CZR4Z624CWSQ.png"/>
          <p:cNvPicPr/>
          <p:nvPr/>
        </p:nvPicPr>
        <p:blipFill>
          <a:blip r:embed="rId1"/>
          <a:stretch/>
        </p:blipFill>
        <p:spPr>
          <a:xfrm>
            <a:off x="5405400" y="1303200"/>
            <a:ext cx="2685960" cy="3905280"/>
          </a:xfrm>
          <a:prstGeom prst="rect">
            <a:avLst/>
          </a:prstGeom>
          <a:ln w="0">
            <a:noFill/>
          </a:ln>
        </p:spPr>
      </p:pic>
      <p:sp>
        <p:nvSpPr>
          <p:cNvPr id="145" name="内容占位符 2"/>
          <p:cNvSpPr/>
          <p:nvPr/>
        </p:nvSpPr>
        <p:spPr>
          <a:xfrm>
            <a:off x="606600" y="5208480"/>
            <a:ext cx="83898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当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之间的网络为直连或二层网络时，此组网方式为二层组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由于二层组网比较简单，适用于简单临时的组网，能够进行比较快速的组网配置，但不适用于大型组网架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+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方式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3/3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608040" y="1157400"/>
            <a:ext cx="43545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三层网络连接模式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属于不同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网段。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之间通信需要通过路由器或三层交换机三层转发来完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C:\Users\Lenovo\AppData\Roaming\Tencent\Users\513547739\QQ\WinTemp\RichOle\OACC(N@7RB9RCK2%F7OT1GV.png"/>
          <p:cNvPicPr/>
          <p:nvPr/>
        </p:nvPicPr>
        <p:blipFill>
          <a:blip r:embed="rId1"/>
          <a:stretch/>
        </p:blipFill>
        <p:spPr>
          <a:xfrm>
            <a:off x="5499000" y="1130400"/>
            <a:ext cx="2752920" cy="3576600"/>
          </a:xfrm>
          <a:prstGeom prst="rect">
            <a:avLst/>
          </a:prstGeom>
          <a:ln w="0">
            <a:noFill/>
          </a:ln>
        </p:spPr>
      </p:pic>
      <p:sp>
        <p:nvSpPr>
          <p:cNvPr id="149" name="内容占位符 2"/>
          <p:cNvSpPr/>
          <p:nvPr/>
        </p:nvSpPr>
        <p:spPr>
          <a:xfrm>
            <a:off x="665280" y="4940280"/>
            <a:ext cx="83311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当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之间的网络为三层网络时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组网为三层组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在实际组网中，一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可以连接几十甚至几百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，组网一般比较复杂。比如在企业网络中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可以布放在办公室，会议室，会客间等场所，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可以安放在公司机房，这样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之间的网络就是比较复杂的三层网络。因此，在大型组网中一般采用三层组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部署方式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608040" y="1157400"/>
            <a:ext cx="435456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直连式组网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直连式组网中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同时扮演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和汇聚交换机的功能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的数据业务和管理业务都由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集中转发和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C:\Users\Lenovo\AppData\Roaming\Tencent\Users\513547739\QQ\WinTemp\RichOle\O}6O__BFOD6UKG~[Y([QM80.png"/>
          <p:cNvPicPr/>
          <p:nvPr/>
        </p:nvPicPr>
        <p:blipFill>
          <a:blip r:embed="rId1"/>
          <a:stretch/>
        </p:blipFill>
        <p:spPr>
          <a:xfrm>
            <a:off x="5473800" y="673200"/>
            <a:ext cx="2685960" cy="4006800"/>
          </a:xfrm>
          <a:prstGeom prst="rect">
            <a:avLst/>
          </a:prstGeom>
          <a:ln w="0">
            <a:noFill/>
          </a:ln>
        </p:spPr>
      </p:pic>
      <p:sp>
        <p:nvSpPr>
          <p:cNvPr id="153" name="内容占位符 2"/>
          <p:cNvSpPr/>
          <p:nvPr/>
        </p:nvSpPr>
        <p:spPr>
          <a:xfrm>
            <a:off x="625320" y="4913280"/>
            <a:ext cx="82090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直连式组网可以认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与上层网络串联在一起，所有数据必须通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到达上层网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采用这种组网方式，对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吞吐量以及处理数据能力比较高，否则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会是整个无线网络宽带的瓶颈。但用此种组网，组网架构清晰，组网实施起来简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00Z</dcterms:created>
  <dc:creator>y00207709</dc:creator>
  <dc:description/>
  <dc:language>en-US</dc:language>
  <cp:lastModifiedBy>Lenovo</cp:lastModifiedBy>
  <dcterms:modified xsi:type="dcterms:W3CDTF">2020-04-03T02:15:25Z</dcterms:modified>
  <cp:revision>282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  <property fmtid="{D5CDD505-2E9C-101B-9397-08002B2CF9AE}" pid="3" name="_ms_pID_725343">
    <vt:lpwstr>(4)sJxFcJNkSelBdCGIchnqq1ogiqpM7ckDP+M8BWI95mJ3MVhTTraJXTTmil4RmTArVcOARs4x
PMRHgGRLqGG9PQGUcbD0nxkHl7x+1HOEAMKh3orh1ps4HVn6P5M5U5R80btj0JpXYZTDLxZx
Pp9Nqv1ZVcyWVq+KDti+FNOtp+0WeF0soDF1PxLIVmTEUv4ecscvXKndM/XuLM2tICEGSSEo
8qFQ0IFO23AB6m3ZCl</vt:lpwstr>
  </property>
  <property fmtid="{D5CDD505-2E9C-101B-9397-08002B2CF9AE}" pid="4" name="_ms_pID_7253431">
    <vt:lpwstr>Etm2ROiwkg8G2oGyjS0wWVDszNVOplMxjADIqtoR9DJStE8gclPwtv
4tAr5LIBq8p2utifcYIH0FbHjoJlgxvwPQ6gt+ip+rVRYYX8c5qfIeFKfYJ90tAXt/doWF8m
1y2q+MoFkE2wgUf3Pe0hONrxz2Eu9kYRvqOL+zT+cFAxUvcYMI+adv0+3P/zGAjZG63+xpZ2
YH8xdTPAcXUQkaWo+0kyBl6hdIpBGER5PLic</vt:lpwstr>
  </property>
  <property fmtid="{D5CDD505-2E9C-101B-9397-08002B2CF9AE}" pid="5" name="_ms_pID_7253432">
    <vt:lpwstr>XYRGfCZ3wFjoVbYX+E73XZhCYfmZl+wMEWDG
maZfMCxPNAr9dDwROf3cmPyh9hn/ye+MmXN78TUyr37gRITmk0EiC4y3mEgCIhM+Kc0zUYLl
XuNusk4aya3MCsDJBdB3Jh53zjkpR0JAe/vdcy9gtXMXqyoKSfL4epadiditRwKtZm/zlKbl
/T92JKj7UfHVZimjqsOuukzCZEjJeCLc678X6HkiBMCaQH3K3CYADX</vt:lpwstr>
  </property>
  <property fmtid="{D5CDD505-2E9C-101B-9397-08002B2CF9AE}" pid="6" name="_ms_pID_7253433">
    <vt:lpwstr>9kDBj9m9fR5xKViuIz
t+yP5w==</vt:lpwstr>
  </property>
  <property fmtid="{D5CDD505-2E9C-101B-9397-08002B2CF9AE}" pid="7" name="sflag">
    <vt:lpwstr>1356580057</vt:lpwstr>
  </property>
</Properties>
</file>