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324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41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19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324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41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41160" y="358920"/>
            <a:ext cx="7731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825"/>
              </a:spcBef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41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519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41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41160" y="358920"/>
            <a:ext cx="7731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825"/>
              </a:spcBef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3324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41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519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3324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41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1160" y="358920"/>
            <a:ext cx="7731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825"/>
              </a:spcBef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 indent="3999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201680" indent="-3999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2"/>
          <p:cNvPicPr/>
          <p:nvPr/>
        </p:nvPicPr>
        <p:blipFill>
          <a:blip r:embed="rId2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 indent="3999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201680" indent="-3999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84360" y="28260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4296240" y="2506680"/>
            <a:ext cx="7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4100" spc="-1" strike="noStrike">
                <a:solidFill>
                  <a:srgbClr val="990000"/>
                </a:solidFill>
                <a:latin typeface="Arial"/>
                <a:ea typeface="华文细黑"/>
              </a:rPr>
              <a:t>谢谢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 indent="3999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201680" indent="-3999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7280" y="1391760"/>
            <a:ext cx="5303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Next LT Medium"/>
              </a:rPr>
              <a:t>WLAN</a:t>
            </a:r>
            <a:r>
              <a:rPr b="0" lang="zh-CN" sz="4000" spc="-1" strike="noStrike">
                <a:solidFill>
                  <a:srgbClr val="ffffff"/>
                </a:solidFill>
                <a:latin typeface="FrutigerNext LT Medium"/>
              </a:rPr>
              <a:t>拓扑介绍</a:t>
            </a:r>
            <a:endParaRPr b="0" lang="en-US" sz="4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0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BSS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1960" y="1376280"/>
            <a:ext cx="6513480" cy="1519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无线终端设备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Poin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一种特殊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51" name="图片 1" descr="JQX4L(D[KU12`X(_TJ71BPY"/>
          <p:cNvPicPr/>
          <p:nvPr/>
        </p:nvPicPr>
        <p:blipFill>
          <a:blip r:embed="rId1"/>
          <a:stretch/>
        </p:blipFill>
        <p:spPr>
          <a:xfrm>
            <a:off x="863640" y="2611440"/>
            <a:ext cx="728496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83840" y="41076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TA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：支持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802.11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标准的终端设备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：为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TA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提供基于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802.11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标准的无线接入服务，起到有线网络和无线网络的桥接作用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BS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分为：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Independent BS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Infrastructure BS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两种。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BS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的服务范围可以涵盖整个小型办公室或家庭，不过无法服务较广的区域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60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独立基本服务集（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Independent BSS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简称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IBSS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）。在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IBSS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中，工作站相互之间可以直接通信，但两者间的距离必须在可以通信的范围内。最低限度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802.11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网络是由两个工作站组成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IBSS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。通常，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IBSS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是由少数几个工作站为了特定目的而组成的暂时性网络。比如：在会议室中支持个别会议之用。会议开始，与会人相互形成一个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IBSS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以便传输数据；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信道绑定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4" name="矩形 26651"/>
          <p:cNvSpPr/>
          <p:nvPr/>
        </p:nvSpPr>
        <p:spPr>
          <a:xfrm>
            <a:off x="595440" y="1446120"/>
            <a:ext cx="79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道绑定技术通过将相邻的两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MHz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道绑定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MHz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使传输速率成部提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26652" descr="E~2BPJW[RPMYX8_U64H7P]9"/>
          <p:cNvPicPr/>
          <p:nvPr/>
        </p:nvPicPr>
        <p:blipFill>
          <a:blip r:embed="rId1"/>
          <a:stretch/>
        </p:blipFill>
        <p:spPr>
          <a:xfrm>
            <a:off x="0" y="2287440"/>
            <a:ext cx="91440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3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对于无线技术，提高所用频谱的宽度，可以最为直接地提高吞吐。就好比是马路变宽了，车辆的通行能力自然提高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3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传统的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802.11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标准，空口都工作在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频宽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802.11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技术通过将相邻的两个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信道绑定成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4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，使传输速率成倍提高。在实际工作中，将两个相邻的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信道绑定使用，一个为主带宽，一个为此带宽，收发数据时既可以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4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的带宽工作，也可以单个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带宽工作。同时为避免相互干扰，原本每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信道之间都会预留一小部分的带宽，当采用信道绑定技术工作在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4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带宽时，这一部分预留的带宽也可以被用来通信，进一步提高了吞吐量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频段与信道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频段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1" lang="zh-CN" sz="2200" spc="-1" strike="noStrike">
                <a:solidFill>
                  <a:srgbClr val="000000"/>
                </a:solidFill>
                <a:latin typeface="FrutigerNext LT Regular"/>
              </a:rPr>
              <a:t>频段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其他技术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59" name="Picture 19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5GHz 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频段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51960" y="1376280"/>
            <a:ext cx="7564680" cy="16034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a/n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a/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每个信道需要占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完全兼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62" name="图片 30734" descr="D059IAPS}2UT}YRN]A70TOD"/>
          <p:cNvPicPr/>
          <p:nvPr/>
        </p:nvPicPr>
        <p:blipFill>
          <a:blip r:embed="rId1"/>
          <a:stretch/>
        </p:blipFill>
        <p:spPr>
          <a:xfrm>
            <a:off x="0" y="3094200"/>
            <a:ext cx="91440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5GHz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信道中心频率和信道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ID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号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164" name="图片 34869" descr="(O$WV7DV(]0F{UXI0J1$9$S"/>
          <p:cNvPicPr/>
          <p:nvPr/>
        </p:nvPicPr>
        <p:blipFill>
          <a:blip r:embed="rId1"/>
          <a:stretch/>
        </p:blipFill>
        <p:spPr>
          <a:xfrm>
            <a:off x="0" y="1117440"/>
            <a:ext cx="915192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中国的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应用频率分配：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在总带宽为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125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的频段内提供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个信道，最外层信道的中心距离频段边缘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美国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CC U-NII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的频率分配：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在总带宽为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20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的低、中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U-NII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频段内提供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个信道，高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U-NII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频段在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10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的带宽内提供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个信道。中、低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U-NII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频段的最外层信道的中心距离频段边缘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30MHz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，对于高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U-NII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频段，距离为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中国的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5.8GHz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信道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52320" y="1376280"/>
            <a:ext cx="7608960" cy="619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79000"/>
          </a:bodyPr>
          <a:p>
            <a:pPr marL="238320" indent="-2383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中国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.8GH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频段内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非重叠信道，分别为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4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如下图：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68" name="图片 38921" descr="N6583K~]I`3{]O~8[5RH0ZQ"/>
          <p:cNvPicPr/>
          <p:nvPr/>
        </p:nvPicPr>
        <p:blipFill>
          <a:blip r:embed="rId1"/>
          <a:stretch/>
        </p:blipFill>
        <p:spPr>
          <a:xfrm>
            <a:off x="34920" y="2711520"/>
            <a:ext cx="89787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5.8GHz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信道绑定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52320" y="1376280"/>
            <a:ext cx="7608960" cy="619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63000"/>
          </a:bodyPr>
          <a:p>
            <a:pPr marL="189720" indent="-1897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准建议配置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采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时，表示主信道中前；采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时，表示主信道中后，配置范围其实是一样的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71" name="图片 40969" descr="S5Y}2P[6M_@~)I`DRHD%)Z9"/>
          <p:cNvPicPr/>
          <p:nvPr/>
        </p:nvPicPr>
        <p:blipFill>
          <a:blip r:embed="rId1"/>
          <a:stretch/>
        </p:blipFill>
        <p:spPr>
          <a:xfrm>
            <a:off x="87480" y="3125880"/>
            <a:ext cx="90421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学习目标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6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学完本课程后，您应该能：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描述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802.11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基本概念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概括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基本拓扑结构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列举华为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DS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组网模式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描述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Mesh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网络模式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23" name="Picture 11" descr="目标"/>
          <p:cNvPicPr/>
          <p:nvPr/>
        </p:nvPicPr>
        <p:blipFill>
          <a:blip r:embed="rId1"/>
          <a:stretch/>
        </p:blipFill>
        <p:spPr>
          <a:xfrm>
            <a:off x="698400" y="465120"/>
            <a:ext cx="6224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3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4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信道模式虽然可以获得更多的频谱利用率，获得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模式两倍的吞吐量，但是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4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信道模式对于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频段有限的频谱资源来说有些尴尬，因为在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频谱中无法实现两个相互不干扰的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4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信道的划分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3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然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频段具有丰富的频谱资源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FCC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分配了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3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个互不重叠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信道，在中国也有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个互不重叠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信道，有足够的信道来实现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4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信道的捆绑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3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因此，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4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频宽的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11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模式基本不建议在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使用，即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802.11g/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模式一般都采用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频宽进行部署，获取更多的信道资源，以满足蜂窝覆盖的原则。而想要获得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40M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频宽的高吞吐量，建议使用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11n(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即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802.11a/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模式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进行部署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51960" y="136008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频段与信道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频段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FrutigerNext LT Regular"/>
              </a:rPr>
              <a:t>5GHz</a:t>
            </a: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频段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FrutigerNext LT Regular"/>
              </a:rPr>
              <a:t>其他技术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75" name="Picture 19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其他技术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177" name="图片 43017" descr="N7GLGFOWU711EI{P0LX]208"/>
          <p:cNvPicPr/>
          <p:nvPr/>
        </p:nvPicPr>
        <p:blipFill>
          <a:blip r:embed="rId1"/>
          <a:stretch/>
        </p:blipFill>
        <p:spPr>
          <a:xfrm>
            <a:off x="0" y="1368360"/>
            <a:ext cx="90964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为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ISM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开放频段，使用此频段的设备有无绳电话、婴儿监视器、微波炉、无线摄像头、蓝牙、红外传感器、荧光灯镇流器等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相对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， 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干扰较少，但越来越多的设备也部分开始使用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了，如无绳电话、雷达、无线传感器、数字卫星等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问  题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一般常用的是哪几个不重叠的信道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在中国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有几个不重叠的信道可以使用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81" name="Picture 17" descr="问题 copy"/>
          <p:cNvPicPr/>
          <p:nvPr/>
        </p:nvPicPr>
        <p:blipFill>
          <a:blip r:embed="rId1"/>
          <a:stretch/>
        </p:blipFill>
        <p:spPr>
          <a:xfrm>
            <a:off x="696960" y="477720"/>
            <a:ext cx="61596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总  结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频段与信道的基本概念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其他的无线技术简介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84" name="Picture 8" descr="总结 copy"/>
          <p:cNvPicPr/>
          <p:nvPr/>
        </p:nvPicPr>
        <p:blipFill>
          <a:blip r:embed="rId1"/>
          <a:stretch/>
        </p:blipFill>
        <p:spPr>
          <a:xfrm>
            <a:off x="695160" y="47772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802.11</a:t>
            </a:r>
            <a:r>
              <a:rPr b="1" lang="zh-CN" sz="2200" spc="-1" strike="noStrike">
                <a:solidFill>
                  <a:srgbClr val="000000"/>
                </a:solidFill>
                <a:latin typeface="FrutigerNext LT Regular"/>
              </a:rPr>
              <a:t>基本概念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FrutigerNext LT Regular"/>
              </a:rPr>
              <a:t>WLAN</a:t>
            </a: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拓扑结构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26" name="Picture 19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802.11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基本元素综述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51960" y="1376280"/>
            <a:ext cx="7929720" cy="1519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57000"/>
          </a:bodyPr>
          <a:p>
            <a:pPr marL="171720" indent="-1717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I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Set Identifi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服务集标识符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171720" indent="-1717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ervice Are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基本服务区域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171720" indent="-1717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ervice 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基本服务集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171720" indent="-1717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ed Service S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扩展服务集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171720" indent="-1717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SI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ervice Set Identifi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：基本服务集标识符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29" name="直接连接符 25" descr=""/>
          <p:cNvPicPr/>
          <p:nvPr/>
        </p:nvPicPr>
        <p:blipFill>
          <a:blip r:embed="rId1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0" name="直接连接符 31" descr="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1" name="直接连接符 32" descr="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2" name="直接连接符 33" descr=""/>
          <p:cNvPicPr/>
          <p:nvPr/>
        </p:nvPicPr>
        <p:blipFill>
          <a:blip r:embed="rId4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3" name="直接连接符 34" descr=""/>
          <p:cNvPicPr/>
          <p:nvPr/>
        </p:nvPicPr>
        <p:blipFill>
          <a:blip r:embed="rId5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4" name="直接连接符 35" descr=""/>
          <p:cNvPicPr/>
          <p:nvPr/>
        </p:nvPicPr>
        <p:blipFill>
          <a:blip r:embed="rId6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5" name="直接连接符 36" descr=""/>
          <p:cNvPicPr/>
          <p:nvPr/>
        </p:nvPicPr>
        <p:blipFill>
          <a:blip r:embed="rId7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6" name="直接连接符 37" descr=""/>
          <p:cNvPicPr/>
          <p:nvPr/>
        </p:nvPicPr>
        <p:blipFill>
          <a:blip r:embed="rId8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7" name="直接连接符 38" descr=""/>
          <p:cNvPicPr/>
          <p:nvPr/>
        </p:nvPicPr>
        <p:blipFill>
          <a:blip r:embed="rId9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8" name="直接连接符 39" descr=""/>
          <p:cNvPicPr/>
          <p:nvPr/>
        </p:nvPicPr>
        <p:blipFill>
          <a:blip r:embed="rId10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9" name="直接连接符 40" descr=""/>
          <p:cNvPicPr/>
          <p:nvPr/>
        </p:nvPicPr>
        <p:blipFill>
          <a:blip r:embed="rId11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0" name="直接连接符 41" descr=""/>
          <p:cNvPicPr/>
          <p:nvPr/>
        </p:nvPicPr>
        <p:blipFill>
          <a:blip r:embed="rId1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3400" y="791640"/>
            <a:ext cx="8018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SID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技术可以将一个无线局域网分为几个需要不同身份验证的子网络，每一个子网络都需要独立的身份验证，只有通过身份验证的用户才可以进入相应的子网络，防止未被授权的用户进入本网络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BSA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BS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的覆盖范围称为基本服务区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BS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是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802.11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网络的基本组件，由一组相互通信的工作站所构成。工作站之间的通信在某个模糊地带进行着，称为基本服务区域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BSA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此区域受限于所使用的无线媒介的传播特性。只要位于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BSA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工作站就可以跟同一个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BS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的其他成员通信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ES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是采用相同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SID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的多个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BS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形成的更大规模的虚拟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BS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BSSID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实际上就是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MAC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地址，用来标识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管理的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BS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在同一个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内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BSSID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SID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一一映射。在一个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ES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内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SID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是相同的，但对于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ES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内的每个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与之对应的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BSSID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是不相同的。如果一个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可以同时支持多个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SID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的话，则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会分配不同的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BSSID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来对应这些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SID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0">
              <a:lnSpc>
                <a:spcPct val="140000"/>
              </a:lnSpc>
              <a:spcBef>
                <a:spcPts val="67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SSID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1960" y="1376280"/>
            <a:ext cx="7929720" cy="1519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SID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rvice Set Identifier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）：表示无线网络的标识，用来区分不同的无线网络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44" name="图片 1" descr="2IN{LC[K]SQA4UV%A[4{3XJ"/>
          <p:cNvPicPr/>
          <p:nvPr/>
        </p:nvPicPr>
        <p:blipFill>
          <a:blip r:embed="rId1"/>
          <a:stretch/>
        </p:blipFill>
        <p:spPr>
          <a:xfrm>
            <a:off x="2413080" y="2558880"/>
            <a:ext cx="4552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51960" y="111420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3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当我们在笔记本电脑上搜索可接入无线网络时，显示出来的网络名称就是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SID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SID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由最多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32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个字符组成，且区分大小写，配置在所有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STA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的无线射频卡中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3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BSA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相当于一个无线单元，在该覆盖区域内的成员站点之前可以保持相互通信。由于周围环境经常发生变化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BSA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的尺寸和形状并非总是固定不变的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支持多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SSID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147" name="图片 1" descr="XR8Z8PTQI6VZ)1OX`RDVMDQ"/>
          <p:cNvPicPr/>
          <p:nvPr/>
        </p:nvPicPr>
        <p:blipFill>
          <a:blip r:embed="rId1"/>
          <a:stretch/>
        </p:blipFill>
        <p:spPr>
          <a:xfrm>
            <a:off x="2008080" y="1282680"/>
            <a:ext cx="499932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23440" y="8395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20000"/>
              </a:lnSpc>
              <a:spcBef>
                <a:spcPts val="56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早期的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802.11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芯片只能创建单一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BSS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，即为用户提供一个逻辑网络。随着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用户数目的增加，单一逻辑网络无法满足不同种类的用户需求。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20000"/>
              </a:lnSpc>
              <a:spcBef>
                <a:spcPts val="56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多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SSID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技术可以将一个无线局域网分为几个子网络，每个子网络都需要独立的身份验证，只有通过身份验证的用户才可以接入相应的子网络，防止未授权用户进入该网络。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20000"/>
              </a:lnSpc>
              <a:spcBef>
                <a:spcPts val="56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上图，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上配置两个扩展服务集，也就是两个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SSID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，一个是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Internal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给内部员工使用，一个是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Guest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给访客使用，在此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中，各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SSID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被分别关联至不同的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VLAN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，而不同的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VLAN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有不同的访问权限。这样就用同一个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实现了不同用户的无线接入。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9:16:27Z</dcterms:created>
  <dc:creator>y00207709</dc:creator>
  <dc:description/>
  <dc:language>en-US</dc:language>
  <cp:lastModifiedBy>Lenovo</cp:lastModifiedBy>
  <dcterms:modified xsi:type="dcterms:W3CDTF">2020-03-06T03:44:52Z</dcterms:modified>
  <cp:revision>104</cp:revision>
  <dc:subject/>
  <dc:title>幻灯片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13</vt:lpwstr>
  </property>
  <property fmtid="{D5CDD505-2E9C-101B-9397-08002B2CF9AE}" pid="3" name="_ms_pID_725343">
    <vt:lpwstr>(4)DDSKnQeHkZYvrlHWEWgAaMGEeJyoiX2BzuCCSWMP/5Ew8cydmDNrOsE3m8JpaCp44+gG2194
A++A5XRu/L/rTHOxnOAYi/yuAW0xCKdf8/hi6tLKk0CXM96qx0zuCuKmapY1xRyPpJldOPKK
lnGoRVVeopiLjY0Chk5inwNbjcGcRNtuyEcDFj0EzCucnyHDzC9N9qlilmD8jwF7GU+6A6BQ
iStLmFZgQvgGSAchcD</vt:lpwstr>
  </property>
  <property fmtid="{D5CDD505-2E9C-101B-9397-08002B2CF9AE}" pid="4" name="_ms_pID_7253431">
    <vt:lpwstr>OPE9tKZ39ddiewois3lTjqj3gEK9d8as+g1czYOzrO4hluGyFzX4oX
/9CkEFwTbbiMmU2xZCyS/vnJ+EgyGVfEbmYt8uNgTk0jNqjf3OE5l9rDQgp8TOOdecpPCac2
m5xH39ujaTEfvfQbRslkKEFaJGIDkopcKtXVZxwxOmMdPBol2hrnYaBjnJy36ttlX1xXGQJL
DuJxcNl17OwkPAMF6h9vbsHrIEcbUYwX+m3+</vt:lpwstr>
  </property>
  <property fmtid="{D5CDD505-2E9C-101B-9397-08002B2CF9AE}" pid="5" name="_ms_pID_7253432">
    <vt:lpwstr>h/NkUwEp2wqkcMzso6wKQZKzIrwXI3rpJfUW
+ecCyOxbDt9d3KBPZ2LRXYR2U8Jj8LZLvPYwthDIva3kngt5DFNg2qPJwQeCHvYiFvg4V/xB
vQU58D+9TD9GmDUEiLRpkqupGBP0sxve9BfZUfzYvU7ZYYHT7RvnrG/Kcrs22MZjQ2rsvrt6
Z/ojMlLHjPWz/k62FDVhbDBgb79jiX5sqivfy4cYOE2ZGZJBkvSVxz</vt:lpwstr>
  </property>
  <property fmtid="{D5CDD505-2E9C-101B-9397-08002B2CF9AE}" pid="6" name="_ms_pID_7253433">
    <vt:lpwstr>esiKnKPTnzlXmCz0L6
drYdiqdHYAEN71aUnBv2yyyPdQrShs9vBJkL2U/SKWHoKjVQXsfYK+Y3G5qNFCYSNqu1R8sq
OLgxxz2TSNj8T7DOyGURi5BoXvK2V6eYz+1es6+eGCFnaFLJgEN6Tefdb1c2MKnLOs4ZNxCf
QqufT0z97qYHS1NVwOAm3M5ZJlIEAb5xK8KtHATe98jNpw7+UJEx2Q==</vt:lpwstr>
  </property>
  <property fmtid="{D5CDD505-2E9C-101B-9397-08002B2CF9AE}" pid="7" name="sflag">
    <vt:lpwstr>1356060140</vt:lpwstr>
  </property>
</Properties>
</file>