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ldNum" idx="1"/>
          </p:nvPr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P-</a:t>
            </a:r>
            <a:fld id="{2FA11222-A0BF-4A9D-B5E0-045C18398319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rutigerNext LT Regular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2"/>
          </p:nvPr>
        </p:nvSpPr>
        <p:spPr>
          <a:xfrm>
            <a:off x="161748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lick to move the slide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4DE4D06C-B0E3-42B3-B5CF-BE40A987D790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33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80DA3963-6A5E-4F9E-B9E2-A33E1F3FABF3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38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5E9FFA2D-CB60-41B5-A031-D3E22097E0BF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43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CAACC3B7-6621-4A56-8C87-11942BBEEC73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48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75AD6C68-A942-444A-BA78-30239C25173F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53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52366C7E-82E7-4CC8-84E1-5C903B975EDF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58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3AC5668F-1F9B-453F-8637-6D9EC3905FEA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63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62A7E3D3-AB14-4B79-BAD9-0B314B993913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3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39CFC2FC-B879-4213-93F2-33EF6FE0B50D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8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81E68DF3-54D0-4404-97D7-3F3805F2321D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3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877E2949-612F-40E9-A208-4CFFDAB2A0DD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8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239AA0DB-4F8F-4CC0-ACBB-37E1DAE179DA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3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10C92FA4-BD33-4E9B-BAFD-6DA2A743C33F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8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9748AE56-3875-4189-98EF-C9D6E4D42EEA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23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45B6602A-43CD-425A-A12D-EBF79015FFEA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28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2D8FD7E4-1409-42E4-AD52-48286AC1B3C3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7"/>
          <p:cNvPicPr/>
          <p:nvPr/>
        </p:nvPicPr>
        <p:blipFill>
          <a:blip r:embed="rId2"/>
          <a:stretch/>
        </p:blipFill>
        <p:spPr>
          <a:xfrm>
            <a:off x="0" y="6221520"/>
            <a:ext cx="9142560" cy="63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82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0040" indent="-1983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5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32040"/>
          </a:xfrm>
          <a:prstGeom prst="rect">
            <a:avLst/>
          </a:prstGeom>
          <a:ln w="0">
            <a:noFill/>
          </a:ln>
        </p:spPr>
      </p:pic>
      <p:sp>
        <p:nvSpPr>
          <p:cNvPr id="40" name="Text Box 7"/>
          <p:cNvSpPr/>
          <p:nvPr/>
        </p:nvSpPr>
        <p:spPr>
          <a:xfrm>
            <a:off x="4296240" y="2506680"/>
            <a:ext cx="78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4100" spc="-1" strike="noStrike">
                <a:solidFill>
                  <a:srgbClr val="990000"/>
                </a:solidFill>
                <a:latin typeface="Arial"/>
              </a:rPr>
              <a:t>谢谢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2523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00040" indent="-19836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00360" indent="-20016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00360" indent="-20016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00360" indent="-20016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2"/>
          <p:cNvPicPr/>
          <p:nvPr/>
        </p:nvPicPr>
        <p:blipFill>
          <a:blip r:embed="rId2"/>
          <a:stretch/>
        </p:blipFill>
        <p:spPr>
          <a:xfrm>
            <a:off x="0" y="78264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82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0040" indent="-1983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7280" y="1587600"/>
            <a:ext cx="5303880" cy="1666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utigerNext LT Medium"/>
              </a:rPr>
              <a:t>WLAN</a:t>
            </a:r>
            <a:r>
              <a:rPr b="0" lang="zh-CN" sz="4000" spc="-1" strike="noStrike">
                <a:solidFill>
                  <a:srgbClr val="ffffff"/>
                </a:solidFill>
                <a:latin typeface="FrutigerNext LT Medium"/>
              </a:rPr>
              <a:t>漫游</a:t>
            </a:r>
            <a:endParaRPr b="0" lang="en-US" sz="4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5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77640" y="358920"/>
            <a:ext cx="709452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目  录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a6a6a6"/>
                </a:solidFill>
                <a:latin typeface="FrutigerNext LT Regular"/>
              </a:rPr>
              <a:t>漫游概念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a6a6a6"/>
                </a:solidFill>
                <a:latin typeface="FrutigerNext LT Regular"/>
              </a:rPr>
              <a:t>漫游基本原理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FrutigerNext LT Regular"/>
              </a:rPr>
              <a:t>漫游应用场景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206" name="Picture 19" descr="目录 copy"/>
          <p:cNvPicPr/>
          <p:nvPr/>
        </p:nvPicPr>
        <p:blipFill>
          <a:blip r:embed="rId1"/>
          <a:stretch/>
        </p:blipFill>
        <p:spPr>
          <a:xfrm>
            <a:off x="704880" y="468360"/>
            <a:ext cx="615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C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内二层漫游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881600" y="2100240"/>
            <a:ext cx="3271680" cy="6429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74000"/>
          </a:bodyPr>
          <a:p>
            <a:pPr marL="338040" indent="-3380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黑体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建立用户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间的关联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marL="338040" indent="-3380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黑体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解除用户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间的关联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9" name="椭圆 43"/>
          <p:cNvSpPr/>
          <p:nvPr/>
        </p:nvSpPr>
        <p:spPr>
          <a:xfrm>
            <a:off x="746280" y="3354480"/>
            <a:ext cx="2836800" cy="222732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椭圆 44"/>
          <p:cNvSpPr/>
          <p:nvPr/>
        </p:nvSpPr>
        <p:spPr>
          <a:xfrm>
            <a:off x="3087720" y="3365640"/>
            <a:ext cx="2836800" cy="222552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45"/>
          <p:cNvSpPr/>
          <p:nvPr/>
        </p:nvSpPr>
        <p:spPr>
          <a:xfrm flipH="1">
            <a:off x="2395440" y="2789280"/>
            <a:ext cx="974880" cy="9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46"/>
          <p:cNvSpPr/>
          <p:nvPr/>
        </p:nvSpPr>
        <p:spPr>
          <a:xfrm flipH="1" flipV="1">
            <a:off x="3519360" y="2788920"/>
            <a:ext cx="1022400" cy="10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47"/>
          <p:cNvSpPr/>
          <p:nvPr/>
        </p:nvSpPr>
        <p:spPr>
          <a:xfrm>
            <a:off x="3441600" y="1841400"/>
            <a:ext cx="0" cy="87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62" descr="图片152"/>
          <p:cNvPicPr/>
          <p:nvPr/>
        </p:nvPicPr>
        <p:blipFill>
          <a:blip r:embed="rId1"/>
          <a:stretch/>
        </p:blipFill>
        <p:spPr>
          <a:xfrm>
            <a:off x="3181320" y="1324080"/>
            <a:ext cx="511200" cy="7110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911"/>
          <p:cNvSpPr/>
          <p:nvPr/>
        </p:nvSpPr>
        <p:spPr>
          <a:xfrm>
            <a:off x="3765600" y="154296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37" descr="图片777"/>
          <p:cNvPicPr/>
          <p:nvPr/>
        </p:nvPicPr>
        <p:blipFill>
          <a:blip r:embed="rId2"/>
          <a:stretch/>
        </p:blipFill>
        <p:spPr>
          <a:xfrm>
            <a:off x="2813040" y="2333520"/>
            <a:ext cx="1252440" cy="83844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36"/>
          <p:cNvSpPr/>
          <p:nvPr/>
        </p:nvSpPr>
        <p:spPr>
          <a:xfrm>
            <a:off x="1692360" y="3525840"/>
            <a:ext cx="29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62" descr="图片241"/>
          <p:cNvPicPr/>
          <p:nvPr/>
        </p:nvPicPr>
        <p:blipFill>
          <a:blip r:embed="rId3"/>
          <a:stretch/>
        </p:blipFill>
        <p:spPr>
          <a:xfrm>
            <a:off x="2085840" y="3554280"/>
            <a:ext cx="576360" cy="55404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136"/>
          <p:cNvSpPr/>
          <p:nvPr/>
        </p:nvSpPr>
        <p:spPr>
          <a:xfrm>
            <a:off x="4902120" y="3557520"/>
            <a:ext cx="29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62" descr="图片241"/>
          <p:cNvPicPr/>
          <p:nvPr/>
        </p:nvPicPr>
        <p:blipFill>
          <a:blip r:embed="rId4"/>
          <a:stretch/>
        </p:blipFill>
        <p:spPr>
          <a:xfrm>
            <a:off x="4280040" y="3579840"/>
            <a:ext cx="576000" cy="5540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943" descr="图片686"/>
          <p:cNvPicPr/>
          <p:nvPr/>
        </p:nvPicPr>
        <p:blipFill>
          <a:blip r:embed="rId5"/>
          <a:stretch/>
        </p:blipFill>
        <p:spPr>
          <a:xfrm>
            <a:off x="4351320" y="4775040"/>
            <a:ext cx="866880" cy="538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943" descr="图片686"/>
          <p:cNvPicPr/>
          <p:nvPr/>
        </p:nvPicPr>
        <p:blipFill>
          <a:blip r:embed="rId6"/>
          <a:stretch/>
        </p:blipFill>
        <p:spPr>
          <a:xfrm>
            <a:off x="1449360" y="4762440"/>
            <a:ext cx="866880" cy="538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7" descr="无线覆盖"/>
          <p:cNvPicPr/>
          <p:nvPr/>
        </p:nvPicPr>
        <p:blipFill>
          <a:blip r:embed="rId7"/>
          <a:stretch/>
        </p:blipFill>
        <p:spPr>
          <a:xfrm>
            <a:off x="1847880" y="4029120"/>
            <a:ext cx="650880" cy="652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7" descr="无线覆盖"/>
          <p:cNvPicPr/>
          <p:nvPr/>
        </p:nvPicPr>
        <p:blipFill>
          <a:blip r:embed="rId8"/>
          <a:stretch/>
        </p:blipFill>
        <p:spPr>
          <a:xfrm>
            <a:off x="4340160" y="4054320"/>
            <a:ext cx="689040" cy="682920"/>
          </a:xfrm>
          <a:prstGeom prst="rect">
            <a:avLst/>
          </a:prstGeom>
          <a:ln w="0">
            <a:noFill/>
          </a:ln>
        </p:spPr>
      </p:pic>
      <p:sp>
        <p:nvSpPr>
          <p:cNvPr id="225" name="右箭头 59"/>
          <p:cNvSpPr/>
          <p:nvPr/>
        </p:nvSpPr>
        <p:spPr>
          <a:xfrm>
            <a:off x="2679840" y="4869000"/>
            <a:ext cx="1374480" cy="507960"/>
          </a:xfrm>
          <a:prstGeom prst="rightArrow">
            <a:avLst>
              <a:gd name="adj1" fmla="val 50000"/>
              <a:gd name="adj2" fmla="val 99905"/>
            </a:avLst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60"/>
          <p:cNvSpPr/>
          <p:nvPr/>
        </p:nvSpPr>
        <p:spPr>
          <a:xfrm>
            <a:off x="2924280" y="2567160"/>
            <a:ext cx="100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网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任意多边形 61"/>
          <p:cNvSpPr/>
          <p:nvPr/>
        </p:nvSpPr>
        <p:spPr>
          <a:xfrm>
            <a:off x="1047600" y="1724040"/>
            <a:ext cx="2305080" cy="2990880"/>
          </a:xfrm>
          <a:custGeom>
            <a:avLst/>
            <a:gdLst/>
            <a:ahLst/>
            <a:rect l="l" t="t" r="r" b="b"/>
            <a:pathLst>
              <a:path w="2305050" h="2990850">
                <a:moveTo>
                  <a:pt x="2305050" y="0"/>
                </a:moveTo>
                <a:cubicBezTo>
                  <a:pt x="1973262" y="755650"/>
                  <a:pt x="1641475" y="1511300"/>
                  <a:pt x="1257300" y="2009775"/>
                </a:cubicBezTo>
                <a:cubicBezTo>
                  <a:pt x="873125" y="2508250"/>
                  <a:pt x="252412" y="2840038"/>
                  <a:pt x="0" y="2990850"/>
                </a:cubicBezTo>
              </a:path>
            </a:pathLst>
          </a:custGeom>
          <a:noFill/>
          <a:ln w="19080">
            <a:solidFill>
              <a:srgbClr val="8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任意多边形 62"/>
          <p:cNvSpPr/>
          <p:nvPr/>
        </p:nvSpPr>
        <p:spPr>
          <a:xfrm flipH="1">
            <a:off x="3495600" y="1752480"/>
            <a:ext cx="2286000" cy="2876760"/>
          </a:xfrm>
          <a:custGeom>
            <a:avLst/>
            <a:gdLst/>
            <a:ahLst/>
            <a:rect l="l" t="t" r="r" b="b"/>
            <a:pathLst>
              <a:path w="2305050" h="2990850">
                <a:moveTo>
                  <a:pt x="2305050" y="0"/>
                </a:moveTo>
                <a:cubicBezTo>
                  <a:pt x="1973262" y="755650"/>
                  <a:pt x="1641475" y="1511300"/>
                  <a:pt x="1257300" y="2009775"/>
                </a:cubicBezTo>
                <a:cubicBezTo>
                  <a:pt x="873125" y="2508250"/>
                  <a:pt x="252412" y="2840038"/>
                  <a:pt x="0" y="2990850"/>
                </a:cubicBezTo>
              </a:path>
            </a:pathLst>
          </a:custGeom>
          <a:noFill/>
          <a:ln w="19080">
            <a:solidFill>
              <a:srgbClr val="8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36"/>
          <p:cNvSpPr/>
          <p:nvPr/>
        </p:nvSpPr>
        <p:spPr>
          <a:xfrm>
            <a:off x="1630800" y="5640480"/>
            <a:ext cx="113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AW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36"/>
          <p:cNvSpPr/>
          <p:nvPr/>
        </p:nvSpPr>
        <p:spPr>
          <a:xfrm>
            <a:off x="5355000" y="4040280"/>
            <a:ext cx="30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信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36"/>
          <p:cNvSpPr/>
          <p:nvPr/>
        </p:nvSpPr>
        <p:spPr>
          <a:xfrm>
            <a:off x="4078800" y="5630760"/>
            <a:ext cx="113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AW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组合 37"/>
          <p:cNvGrpSpPr/>
          <p:nvPr/>
        </p:nvGrpSpPr>
        <p:grpSpPr>
          <a:xfrm>
            <a:off x="1981080" y="2962440"/>
            <a:ext cx="276480" cy="337320"/>
            <a:chOff x="1981080" y="2962440"/>
            <a:chExt cx="276480" cy="337320"/>
          </a:xfrm>
        </p:grpSpPr>
        <p:sp>
          <p:nvSpPr>
            <p:cNvPr id="233" name="椭圆 71"/>
            <p:cNvSpPr/>
            <p:nvPr/>
          </p:nvSpPr>
          <p:spPr>
            <a:xfrm>
              <a:off x="2009520" y="3000240"/>
              <a:ext cx="248040" cy="24732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72"/>
            <p:cNvSpPr/>
            <p:nvPr/>
          </p:nvSpPr>
          <p:spPr>
            <a:xfrm>
              <a:off x="1981080" y="2962440"/>
              <a:ext cx="2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组合 38"/>
          <p:cNvGrpSpPr/>
          <p:nvPr/>
        </p:nvGrpSpPr>
        <p:grpSpPr>
          <a:xfrm>
            <a:off x="4362480" y="2971800"/>
            <a:ext cx="276120" cy="580680"/>
            <a:chOff x="4362480" y="2971800"/>
            <a:chExt cx="276120" cy="580680"/>
          </a:xfrm>
        </p:grpSpPr>
        <p:sp>
          <p:nvSpPr>
            <p:cNvPr id="236" name="椭圆 69"/>
            <p:cNvSpPr/>
            <p:nvPr/>
          </p:nvSpPr>
          <p:spPr>
            <a:xfrm>
              <a:off x="4390920" y="3009600"/>
              <a:ext cx="247680" cy="24732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70"/>
            <p:cNvSpPr/>
            <p:nvPr/>
          </p:nvSpPr>
          <p:spPr>
            <a:xfrm>
              <a:off x="4362480" y="2971800"/>
              <a:ext cx="276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Rectangle 136"/>
          <p:cNvSpPr/>
          <p:nvPr/>
        </p:nvSpPr>
        <p:spPr>
          <a:xfrm>
            <a:off x="1224360" y="4017960"/>
            <a:ext cx="30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信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36"/>
          <p:cNvSpPr/>
          <p:nvPr/>
        </p:nvSpPr>
        <p:spPr>
          <a:xfrm>
            <a:off x="1687320" y="5329080"/>
            <a:ext cx="38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C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内跨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VLAN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的三层漫游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860720" y="1731960"/>
            <a:ext cx="3493800" cy="6429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71000"/>
          </a:bodyPr>
          <a:p>
            <a:pPr marL="324360" indent="-32436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黑体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关联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通过业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LAN 1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传输数据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marL="324360" indent="-32436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黑体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漫游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仍然通过业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LAN 1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传输数据业务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pSp>
        <p:nvGrpSpPr>
          <p:cNvPr id="242" name="组合 41"/>
          <p:cNvGrpSpPr/>
          <p:nvPr/>
        </p:nvGrpSpPr>
        <p:grpSpPr>
          <a:xfrm>
            <a:off x="746280" y="1324080"/>
            <a:ext cx="5178240" cy="4498920"/>
            <a:chOff x="746280" y="1324080"/>
            <a:chExt cx="5178240" cy="4498920"/>
          </a:xfrm>
        </p:grpSpPr>
        <p:sp>
          <p:nvSpPr>
            <p:cNvPr id="243" name="椭圆 41"/>
            <p:cNvSpPr/>
            <p:nvPr/>
          </p:nvSpPr>
          <p:spPr>
            <a:xfrm>
              <a:off x="746280" y="3355200"/>
              <a:ext cx="2836800" cy="2226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椭圆 42"/>
            <p:cNvSpPr/>
            <p:nvPr/>
          </p:nvSpPr>
          <p:spPr>
            <a:xfrm>
              <a:off x="3087720" y="3364920"/>
              <a:ext cx="2836800" cy="2226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直接连接符 43"/>
            <p:cNvSpPr/>
            <p:nvPr/>
          </p:nvSpPr>
          <p:spPr>
            <a:xfrm flipH="1">
              <a:off x="2396160" y="2788560"/>
              <a:ext cx="974160" cy="99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直接连接符 44"/>
            <p:cNvSpPr/>
            <p:nvPr/>
          </p:nvSpPr>
          <p:spPr>
            <a:xfrm flipH="1" flipV="1">
              <a:off x="3519720" y="2788560"/>
              <a:ext cx="1021320" cy="104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直接连接符 45"/>
            <p:cNvSpPr/>
            <p:nvPr/>
          </p:nvSpPr>
          <p:spPr>
            <a:xfrm>
              <a:off x="3441600" y="1841400"/>
              <a:ext cx="0" cy="87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Picture 462" descr="图片152"/>
            <p:cNvPicPr/>
            <p:nvPr/>
          </p:nvPicPr>
          <p:blipFill>
            <a:blip r:embed="rId1"/>
            <a:stretch/>
          </p:blipFill>
          <p:spPr>
            <a:xfrm>
              <a:off x="3181320" y="1324080"/>
              <a:ext cx="511200" cy="71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911"/>
            <p:cNvSpPr/>
            <p:nvPr/>
          </p:nvSpPr>
          <p:spPr>
            <a:xfrm>
              <a:off x="3765600" y="1542240"/>
              <a:ext cx="2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1809720"/>
                  <a:tab algn="l" pos="3619440"/>
                  <a:tab algn="l" pos="5429160"/>
                  <a:tab algn="l" pos="7238880"/>
                  <a:tab algn="l" pos="9048600"/>
                  <a:tab algn="l" pos="108586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Picture 237" descr="图片777"/>
            <p:cNvPicPr/>
            <p:nvPr/>
          </p:nvPicPr>
          <p:blipFill>
            <a:blip r:embed="rId2"/>
            <a:stretch/>
          </p:blipFill>
          <p:spPr>
            <a:xfrm>
              <a:off x="2812680" y="2333520"/>
              <a:ext cx="125280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Rectangle 136"/>
            <p:cNvSpPr/>
            <p:nvPr/>
          </p:nvSpPr>
          <p:spPr>
            <a:xfrm>
              <a:off x="1692360" y="352548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Picture 462" descr="图片241"/>
            <p:cNvPicPr/>
            <p:nvPr/>
          </p:nvPicPr>
          <p:blipFill>
            <a:blip r:embed="rId3"/>
            <a:stretch/>
          </p:blipFill>
          <p:spPr>
            <a:xfrm>
              <a:off x="2085840" y="3555000"/>
              <a:ext cx="577080" cy="5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Rectangle 136"/>
            <p:cNvSpPr/>
            <p:nvPr/>
          </p:nvSpPr>
          <p:spPr>
            <a:xfrm>
              <a:off x="4902120" y="355680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Picture 462" descr="图片241"/>
            <p:cNvPicPr/>
            <p:nvPr/>
          </p:nvPicPr>
          <p:blipFill>
            <a:blip r:embed="rId4"/>
            <a:stretch/>
          </p:blipFill>
          <p:spPr>
            <a:xfrm>
              <a:off x="4279320" y="3580200"/>
              <a:ext cx="577080" cy="5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1943" descr="图片686"/>
            <p:cNvPicPr/>
            <p:nvPr/>
          </p:nvPicPr>
          <p:blipFill>
            <a:blip r:embed="rId5"/>
            <a:stretch/>
          </p:blipFill>
          <p:spPr>
            <a:xfrm>
              <a:off x="4352040" y="4775760"/>
              <a:ext cx="866520" cy="53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1943" descr="图片686"/>
            <p:cNvPicPr/>
            <p:nvPr/>
          </p:nvPicPr>
          <p:blipFill>
            <a:blip r:embed="rId6"/>
            <a:stretch/>
          </p:blipFill>
          <p:spPr>
            <a:xfrm>
              <a:off x="1450080" y="4763160"/>
              <a:ext cx="866520" cy="53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17" descr="无线覆盖"/>
            <p:cNvPicPr/>
            <p:nvPr/>
          </p:nvPicPr>
          <p:blipFill>
            <a:blip r:embed="rId7"/>
            <a:stretch/>
          </p:blipFill>
          <p:spPr>
            <a:xfrm>
              <a:off x="1847520" y="4029480"/>
              <a:ext cx="651960" cy="65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17" descr="无线覆盖"/>
            <p:cNvPicPr/>
            <p:nvPr/>
          </p:nvPicPr>
          <p:blipFill>
            <a:blip r:embed="rId8"/>
            <a:stretch/>
          </p:blipFill>
          <p:spPr>
            <a:xfrm>
              <a:off x="4340520" y="4053960"/>
              <a:ext cx="6886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右箭头 57"/>
            <p:cNvSpPr/>
            <p:nvPr/>
          </p:nvSpPr>
          <p:spPr>
            <a:xfrm>
              <a:off x="2691000" y="4868640"/>
              <a:ext cx="1374840" cy="507600"/>
            </a:xfrm>
            <a:prstGeom prst="rightArrow">
              <a:avLst>
                <a:gd name="adj1" fmla="val 50000"/>
                <a:gd name="adj2" fmla="val 100002"/>
              </a:avLst>
            </a:prstGeom>
            <a:solidFill>
              <a:srgbClr val="ffffff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58"/>
            <p:cNvSpPr/>
            <p:nvPr/>
          </p:nvSpPr>
          <p:spPr>
            <a:xfrm>
              <a:off x="2924280" y="2566440"/>
              <a:ext cx="100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"/>
                </a:rPr>
                <a:t>网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任意多边形 59"/>
            <p:cNvSpPr/>
            <p:nvPr/>
          </p:nvSpPr>
          <p:spPr>
            <a:xfrm>
              <a:off x="1047960" y="1724040"/>
              <a:ext cx="2304720" cy="2990880"/>
            </a:xfrm>
            <a:custGeom>
              <a:avLst/>
              <a:gdLst/>
              <a:ahLst/>
              <a:rect l="l" t="t" r="r" b="b"/>
              <a:pathLst>
                <a:path w="2305050" h="2990850">
                  <a:moveTo>
                    <a:pt x="2305050" y="0"/>
                  </a:moveTo>
                  <a:cubicBezTo>
                    <a:pt x="1973262" y="755650"/>
                    <a:pt x="1641475" y="1511300"/>
                    <a:pt x="1257300" y="2009775"/>
                  </a:cubicBezTo>
                  <a:cubicBezTo>
                    <a:pt x="873125" y="2508250"/>
                    <a:pt x="252412" y="2840038"/>
                    <a:pt x="0" y="2990850"/>
                  </a:cubicBezTo>
                </a:path>
              </a:pathLst>
            </a:custGeom>
            <a:noFill/>
            <a:ln w="19080">
              <a:solidFill>
                <a:srgbClr val="8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任意多边形 60"/>
            <p:cNvSpPr/>
            <p:nvPr/>
          </p:nvSpPr>
          <p:spPr>
            <a:xfrm flipH="1">
              <a:off x="3495240" y="1752480"/>
              <a:ext cx="2285640" cy="2876400"/>
            </a:xfrm>
            <a:custGeom>
              <a:avLst/>
              <a:gdLst/>
              <a:ahLst/>
              <a:rect l="l" t="t" r="r" b="b"/>
              <a:pathLst>
                <a:path w="2305050" h="2990850">
                  <a:moveTo>
                    <a:pt x="2305050" y="0"/>
                  </a:moveTo>
                  <a:cubicBezTo>
                    <a:pt x="1973262" y="755650"/>
                    <a:pt x="1641475" y="1511300"/>
                    <a:pt x="1257300" y="2009775"/>
                  </a:cubicBezTo>
                  <a:cubicBezTo>
                    <a:pt x="873125" y="2508250"/>
                    <a:pt x="252412" y="2840038"/>
                    <a:pt x="0" y="2990850"/>
                  </a:cubicBezTo>
                </a:path>
              </a:pathLst>
            </a:custGeom>
            <a:noFill/>
            <a:ln w="19080">
              <a:solidFill>
                <a:srgbClr val="8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36"/>
            <p:cNvSpPr/>
            <p:nvPr/>
          </p:nvSpPr>
          <p:spPr>
            <a:xfrm>
              <a:off x="1630800" y="5640120"/>
              <a:ext cx="113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SID</a:t>
              </a: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UAWE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36"/>
            <p:cNvSpPr/>
            <p:nvPr/>
          </p:nvSpPr>
          <p:spPr>
            <a:xfrm>
              <a:off x="5301360" y="4144680"/>
              <a:ext cx="52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LAN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36"/>
            <p:cNvSpPr/>
            <p:nvPr/>
          </p:nvSpPr>
          <p:spPr>
            <a:xfrm>
              <a:off x="4078800" y="5630400"/>
              <a:ext cx="113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SID</a:t>
              </a: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UAWE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组合 37"/>
            <p:cNvGrpSpPr/>
            <p:nvPr/>
          </p:nvGrpSpPr>
          <p:grpSpPr>
            <a:xfrm>
              <a:off x="1981440" y="2962440"/>
              <a:ext cx="276120" cy="337320"/>
              <a:chOff x="1981440" y="2962440"/>
              <a:chExt cx="276120" cy="337320"/>
            </a:xfrm>
          </p:grpSpPr>
          <p:sp>
            <p:nvSpPr>
              <p:cNvPr id="267" name="椭圆 69"/>
              <p:cNvSpPr/>
              <p:nvPr/>
            </p:nvSpPr>
            <p:spPr>
              <a:xfrm>
                <a:off x="2009880" y="3000240"/>
                <a:ext cx="247680" cy="24768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Box 70"/>
              <p:cNvSpPr/>
              <p:nvPr/>
            </p:nvSpPr>
            <p:spPr>
              <a:xfrm>
                <a:off x="1981440" y="2962440"/>
                <a:ext cx="276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组合 38"/>
            <p:cNvGrpSpPr/>
            <p:nvPr/>
          </p:nvGrpSpPr>
          <p:grpSpPr>
            <a:xfrm>
              <a:off x="4362480" y="2971800"/>
              <a:ext cx="276120" cy="337320"/>
              <a:chOff x="4362480" y="2971800"/>
              <a:chExt cx="276120" cy="337320"/>
            </a:xfrm>
          </p:grpSpPr>
          <p:sp>
            <p:nvSpPr>
              <p:cNvPr id="270" name="椭圆 67"/>
              <p:cNvSpPr/>
              <p:nvPr/>
            </p:nvSpPr>
            <p:spPr>
              <a:xfrm>
                <a:off x="4390920" y="3009600"/>
                <a:ext cx="247680" cy="24768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Box 68"/>
              <p:cNvSpPr/>
              <p:nvPr/>
            </p:nvSpPr>
            <p:spPr>
              <a:xfrm>
                <a:off x="4362480" y="2971800"/>
                <a:ext cx="276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Rectangle 136"/>
            <p:cNvSpPr/>
            <p:nvPr/>
          </p:nvSpPr>
          <p:spPr>
            <a:xfrm>
              <a:off x="992520" y="4165920"/>
              <a:ext cx="52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LA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内容占位符 3" descr=""/>
          <p:cNvPicPr/>
          <p:nvPr/>
        </p:nvPicPr>
        <p:blipFill>
          <a:blip r:embed="rId1"/>
          <a:stretch/>
        </p:blipFill>
        <p:spPr>
          <a:xfrm>
            <a:off x="755640" y="1616040"/>
            <a:ext cx="7632720" cy="4211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"/>
          <p:cNvPicPr/>
          <p:nvPr/>
        </p:nvPicPr>
        <p:blipFill>
          <a:blip r:embed="rId2"/>
          <a:stretch/>
        </p:blipFill>
        <p:spPr>
          <a:xfrm>
            <a:off x="1116000" y="1341360"/>
            <a:ext cx="1835280" cy="1374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6" descr=""/>
          <p:cNvPicPr/>
          <p:nvPr/>
        </p:nvPicPr>
        <p:blipFill>
          <a:blip r:embed="rId3"/>
          <a:stretch/>
        </p:blipFill>
        <p:spPr>
          <a:xfrm>
            <a:off x="6227640" y="1341360"/>
            <a:ext cx="1800360" cy="11257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"/>
          <p:cNvPicPr/>
          <p:nvPr/>
        </p:nvPicPr>
        <p:blipFill>
          <a:blip r:embed="rId4"/>
          <a:stretch/>
        </p:blipFill>
        <p:spPr>
          <a:xfrm>
            <a:off x="6435720" y="3927600"/>
            <a:ext cx="1951200" cy="1216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"/>
          <p:cNvPicPr/>
          <p:nvPr/>
        </p:nvPicPr>
        <p:blipFill>
          <a:blip r:embed="rId5"/>
          <a:stretch/>
        </p:blipFill>
        <p:spPr>
          <a:xfrm>
            <a:off x="3598920" y="3357720"/>
            <a:ext cx="1958760" cy="13190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"/>
          <p:cNvPicPr/>
          <p:nvPr/>
        </p:nvPicPr>
        <p:blipFill>
          <a:blip r:embed="rId6"/>
          <a:stretch/>
        </p:blipFill>
        <p:spPr>
          <a:xfrm>
            <a:off x="826920" y="3860640"/>
            <a:ext cx="1309680" cy="174816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Arial "/>
                <a:ea typeface="Arial Unicode MS"/>
              </a:rPr>
              <a:t>WLAN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漫游应用场景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77640" y="358920"/>
            <a:ext cx="709452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问  题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"/>
              </a:rPr>
              <a:t>AC</a:t>
            </a:r>
            <a:r>
              <a:rPr b="0" lang="zh-CN" sz="2200" spc="-1" strike="noStrike">
                <a:solidFill>
                  <a:srgbClr val="000000"/>
                </a:solidFill>
                <a:latin typeface="Arial "/>
              </a:rPr>
              <a:t>内跨</a:t>
            </a:r>
            <a:r>
              <a:rPr b="0" lang="en-US" sz="2200" spc="-1" strike="noStrike">
                <a:solidFill>
                  <a:srgbClr val="000000"/>
                </a:solidFill>
                <a:latin typeface="Arial "/>
              </a:rPr>
              <a:t>VLAN</a:t>
            </a:r>
            <a:r>
              <a:rPr b="0" lang="zh-CN" sz="2200" spc="-1" strike="noStrike">
                <a:solidFill>
                  <a:srgbClr val="000000"/>
                </a:solidFill>
                <a:latin typeface="Arial "/>
              </a:rPr>
              <a:t>的三层漫游与二层漫游有什么不同？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282" name="Picture 17" descr="问题 copy"/>
          <p:cNvPicPr/>
          <p:nvPr/>
        </p:nvPicPr>
        <p:blipFill>
          <a:blip r:embed="rId1"/>
          <a:stretch/>
        </p:blipFill>
        <p:spPr>
          <a:xfrm>
            <a:off x="696960" y="477720"/>
            <a:ext cx="61596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77640" y="358920"/>
            <a:ext cx="709452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总  结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Arial"/>
              </a:rPr>
              <a:t>漫游的基本概念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Arial"/>
              </a:rPr>
              <a:t>漫游的工作原理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Arial"/>
              </a:rPr>
              <a:t>漫游的应用场景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285" name="Picture 8" descr="总结 copy"/>
          <p:cNvPicPr/>
          <p:nvPr/>
        </p:nvPicPr>
        <p:blipFill>
          <a:blip r:embed="rId1"/>
          <a:stretch/>
        </p:blipFill>
        <p:spPr>
          <a:xfrm>
            <a:off x="695160" y="477720"/>
            <a:ext cx="615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7640" y="358920"/>
            <a:ext cx="709452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学习目标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6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学完本课程后，您应该能：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6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"/>
              </a:rPr>
              <a:t>描述漫游的基本概念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6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"/>
              </a:rPr>
              <a:t>概括漫游的基本原理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6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"/>
              </a:rPr>
              <a:t>列举漫游的应用场景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28" name="Picture 11" descr="目标"/>
          <p:cNvPicPr/>
          <p:nvPr/>
        </p:nvPicPr>
        <p:blipFill>
          <a:blip r:embed="rId1"/>
          <a:stretch/>
        </p:blipFill>
        <p:spPr>
          <a:xfrm>
            <a:off x="698400" y="465120"/>
            <a:ext cx="62244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77640" y="358920"/>
            <a:ext cx="709452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目  录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FrutigerNext LT Regular"/>
              </a:rPr>
              <a:t>漫游概念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a6a6a6"/>
                </a:solidFill>
                <a:latin typeface="FrutigerNext LT Regular"/>
              </a:rPr>
              <a:t>漫游基本原理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a6a6a6"/>
                </a:solidFill>
                <a:latin typeface="FrutigerNext LT Regular"/>
              </a:rPr>
              <a:t>漫游应用场景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31" name="Picture 19" descr="目录 copy"/>
          <p:cNvPicPr/>
          <p:nvPr/>
        </p:nvPicPr>
        <p:blipFill>
          <a:blip r:embed="rId1"/>
          <a:stretch/>
        </p:blipFill>
        <p:spPr>
          <a:xfrm>
            <a:off x="704880" y="468360"/>
            <a:ext cx="615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Arial "/>
                <a:ea typeface="Arial Unicode MS"/>
              </a:rPr>
              <a:t>WLAN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漫游定义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grpSp>
        <p:nvGrpSpPr>
          <p:cNvPr id="133" name="组合 23"/>
          <p:cNvGrpSpPr/>
          <p:nvPr/>
        </p:nvGrpSpPr>
        <p:grpSpPr>
          <a:xfrm>
            <a:off x="2165400" y="2957400"/>
            <a:ext cx="4755960" cy="3183120"/>
            <a:chOff x="2165400" y="2957400"/>
            <a:chExt cx="4755960" cy="3183120"/>
          </a:xfrm>
        </p:grpSpPr>
        <p:grpSp>
          <p:nvGrpSpPr>
            <p:cNvPr id="134" name="组合 5"/>
            <p:cNvGrpSpPr/>
            <p:nvPr/>
          </p:nvGrpSpPr>
          <p:grpSpPr>
            <a:xfrm>
              <a:off x="2165400" y="2957400"/>
              <a:ext cx="4755960" cy="3183120"/>
              <a:chOff x="2165400" y="2957400"/>
              <a:chExt cx="4755960" cy="3183120"/>
            </a:xfrm>
          </p:grpSpPr>
          <p:sp>
            <p:nvSpPr>
              <p:cNvPr id="135" name="椭圆 6"/>
              <p:cNvSpPr/>
              <p:nvPr/>
            </p:nvSpPr>
            <p:spPr>
              <a:xfrm>
                <a:off x="2165400" y="4453920"/>
                <a:ext cx="2845440" cy="16866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椭圆 7"/>
              <p:cNvSpPr/>
              <p:nvPr/>
            </p:nvSpPr>
            <p:spPr>
              <a:xfrm>
                <a:off x="4075920" y="4453920"/>
                <a:ext cx="2845440" cy="16866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" name="组合 21"/>
              <p:cNvGrpSpPr/>
              <p:nvPr/>
            </p:nvGrpSpPr>
            <p:grpSpPr>
              <a:xfrm>
                <a:off x="3027600" y="2957400"/>
                <a:ext cx="3382920" cy="3008520"/>
                <a:chOff x="3027600" y="2957400"/>
                <a:chExt cx="3382920" cy="3008520"/>
              </a:xfrm>
            </p:grpSpPr>
            <p:sp>
              <p:nvSpPr>
                <p:cNvPr id="138" name="直接连接符 9"/>
                <p:cNvSpPr/>
                <p:nvPr/>
              </p:nvSpPr>
              <p:spPr>
                <a:xfrm flipH="1">
                  <a:off x="3315240" y="4267800"/>
                  <a:ext cx="1206360" cy="524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直接连接符 10"/>
                <p:cNvSpPr/>
                <p:nvPr/>
              </p:nvSpPr>
              <p:spPr>
                <a:xfrm>
                  <a:off x="4578480" y="4295160"/>
                  <a:ext cx="1234440" cy="54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直接连接符 11"/>
                <p:cNvSpPr/>
                <p:nvPr/>
              </p:nvSpPr>
              <p:spPr>
                <a:xfrm>
                  <a:off x="4569120" y="3409200"/>
                  <a:ext cx="0" cy="777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41" name="Picture 462" descr="图片152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326840" y="2957400"/>
                  <a:ext cx="498600" cy="73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Rectangle 911"/>
                <p:cNvSpPr/>
                <p:nvPr/>
              </p:nvSpPr>
              <p:spPr>
                <a:xfrm>
                  <a:off x="4839120" y="3199680"/>
                  <a:ext cx="2476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1809720"/>
                      <a:tab algn="l" pos="3619440"/>
                      <a:tab algn="l" pos="5429160"/>
                      <a:tab algn="l" pos="7238880"/>
                      <a:tab algn="l" pos="9048600"/>
                      <a:tab algn="l" pos="1085868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C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36"/>
                <p:cNvSpPr/>
                <p:nvPr/>
              </p:nvSpPr>
              <p:spPr>
                <a:xfrm>
                  <a:off x="3615120" y="4714200"/>
                  <a:ext cx="3376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P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Rectangle 136"/>
                <p:cNvSpPr/>
                <p:nvPr/>
              </p:nvSpPr>
              <p:spPr>
                <a:xfrm>
                  <a:off x="6072840" y="4730760"/>
                  <a:ext cx="3376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P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45" name="Picture 462" descr="图片241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94320" y="4526280"/>
                  <a:ext cx="563040" cy="569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" name="Picture 461" descr="图片240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261320" y="3963600"/>
                  <a:ext cx="567360" cy="569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Picture 1943" descr="图片686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204080" y="5308920"/>
                  <a:ext cx="681120" cy="445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" name="Picture 17" descr="无线覆盖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169800" y="4960800"/>
                  <a:ext cx="1023840" cy="1005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" name="Picture 17" descr="无线覆盖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900680" y="4919760"/>
                  <a:ext cx="1011600" cy="993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" name="Picture 462" descr="图片241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027600" y="4518720"/>
                  <a:ext cx="563040" cy="569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51" name="右箭头 22"/>
            <p:cNvSpPr/>
            <p:nvPr/>
          </p:nvSpPr>
          <p:spPr>
            <a:xfrm>
              <a:off x="4074120" y="4768560"/>
              <a:ext cx="1101240" cy="394920"/>
            </a:xfrm>
            <a:prstGeom prst="rightArrow">
              <a:avLst>
                <a:gd name="adj1" fmla="val 50000"/>
                <a:gd name="adj2" fmla="val 86818"/>
              </a:avLst>
            </a:prstGeom>
            <a:solidFill>
              <a:srgbClr val="ffffff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 txBox="1"/>
          <p:nvPr/>
        </p:nvSpPr>
        <p:spPr>
          <a:xfrm>
            <a:off x="747720" y="1376280"/>
            <a:ext cx="7639200" cy="13464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90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"/>
              </a:rPr>
              <a:t>简单来说，</a:t>
            </a:r>
            <a:r>
              <a:rPr b="0" lang="en-US" sz="2400" spc="-1" strike="noStrike">
                <a:solidFill>
                  <a:srgbClr val="000000"/>
                </a:solidFill>
                <a:latin typeface="Arial "/>
              </a:rPr>
              <a:t>WLAN</a:t>
            </a:r>
            <a:r>
              <a:rPr b="0" lang="zh-CN" sz="2400" spc="-1" strike="noStrike">
                <a:solidFill>
                  <a:srgbClr val="000000"/>
                </a:solidFill>
                <a:latin typeface="Arial "/>
              </a:rPr>
              <a:t>漫游策略是指</a:t>
            </a:r>
            <a:r>
              <a:rPr b="0" lang="en-US" sz="2400" spc="-1" strike="noStrike">
                <a:solidFill>
                  <a:srgbClr val="000000"/>
                </a:solidFill>
                <a:latin typeface="Arial "/>
              </a:rPr>
              <a:t>STA</a:t>
            </a:r>
            <a:r>
              <a:rPr b="0" lang="zh-CN" sz="2400" spc="-1" strike="noStrike">
                <a:solidFill>
                  <a:srgbClr val="000000"/>
                </a:solidFill>
                <a:latin typeface="Arial "/>
              </a:rPr>
              <a:t>可以在</a:t>
            </a:r>
            <a:r>
              <a:rPr b="0" lang="en-US" sz="2400" spc="-1" strike="noStrike">
                <a:solidFill>
                  <a:srgbClr val="000000"/>
                </a:solidFill>
                <a:latin typeface="Arial "/>
              </a:rPr>
              <a:t>WLAN</a:t>
            </a:r>
            <a:r>
              <a:rPr b="0" lang="zh-CN" sz="2400" spc="-1" strike="noStrike">
                <a:solidFill>
                  <a:srgbClr val="000000"/>
                </a:solidFill>
                <a:latin typeface="Arial "/>
              </a:rPr>
              <a:t>网络范围内任意移动。具体来说，</a:t>
            </a:r>
            <a:r>
              <a:rPr b="0" lang="en-US" sz="2400" spc="-1" strike="noStrike">
                <a:solidFill>
                  <a:srgbClr val="000000"/>
                </a:solidFill>
                <a:latin typeface="Arial "/>
              </a:rPr>
              <a:t>STA</a:t>
            </a:r>
            <a:r>
              <a:rPr b="0" lang="zh-CN" sz="2400" spc="-1" strike="noStrike">
                <a:solidFill>
                  <a:srgbClr val="000000"/>
                </a:solidFill>
                <a:latin typeface="Arial "/>
              </a:rPr>
              <a:t>在相同</a:t>
            </a:r>
            <a:r>
              <a:rPr b="0" lang="en-US" sz="2400" spc="-1" strike="noStrike">
                <a:solidFill>
                  <a:srgbClr val="000000"/>
                </a:solidFill>
                <a:latin typeface="Arial "/>
              </a:rPr>
              <a:t>ESS</a:t>
            </a:r>
            <a:r>
              <a:rPr b="0" lang="zh-CN" sz="2400" spc="-1" strike="noStrike">
                <a:solidFill>
                  <a:srgbClr val="000000"/>
                </a:solidFill>
                <a:latin typeface="Arial 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Arial "/>
              </a:rPr>
              <a:t>AP</a:t>
            </a:r>
            <a:r>
              <a:rPr b="0" lang="zh-CN" sz="2400" spc="-1" strike="noStrike">
                <a:solidFill>
                  <a:srgbClr val="000000"/>
                </a:solidFill>
                <a:latin typeface="Arial "/>
              </a:rPr>
              <a:t>间移动时自动接入，业务不中断。</a:t>
            </a:r>
            <a:endParaRPr b="0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90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3" name="TextBox 25"/>
          <p:cNvSpPr/>
          <p:nvPr/>
        </p:nvSpPr>
        <p:spPr>
          <a:xfrm>
            <a:off x="4240080" y="5996160"/>
            <a:ext cx="73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WLAN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漫游目的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漫游策略主要解决以下问题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避免漫游过程中的认证时间过长导致丢包甚至业务中断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保证用户授权信息不变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保证用户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地址不变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77640" y="358920"/>
            <a:ext cx="709452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目  录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a6a6a6"/>
                </a:solidFill>
                <a:latin typeface="FrutigerNext LT Regular"/>
              </a:rPr>
              <a:t>漫游概念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FrutigerNext LT Regular"/>
              </a:rPr>
              <a:t>漫游基本原理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a6a6a6"/>
                </a:solidFill>
                <a:latin typeface="FrutigerNext LT Regular"/>
              </a:rPr>
              <a:t>漫游应用场景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58" name="Picture 19" descr="目录 copy"/>
          <p:cNvPicPr/>
          <p:nvPr/>
        </p:nvPicPr>
        <p:blipFill>
          <a:blip r:embed="rId1"/>
          <a:stretch/>
        </p:blipFill>
        <p:spPr>
          <a:xfrm>
            <a:off x="704880" y="468360"/>
            <a:ext cx="615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C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内漫游切换过程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51960" y="1375920"/>
            <a:ext cx="7767720" cy="668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"/>
              </a:rPr>
              <a:t>切换检测：当</a:t>
            </a:r>
            <a:r>
              <a:rPr b="0" lang="en-US" sz="2000" spc="-1" strike="noStrike">
                <a:solidFill>
                  <a:srgbClr val="000000"/>
                </a:solidFill>
                <a:latin typeface="Arial "/>
              </a:rPr>
              <a:t>STA</a:t>
            </a:r>
            <a:r>
              <a:rPr b="0" lang="zh-CN" sz="2000" spc="-1" strike="noStrike">
                <a:solidFill>
                  <a:srgbClr val="000000"/>
                </a:solidFill>
                <a:latin typeface="Arial "/>
              </a:rPr>
              <a:t>检测到要发生快速切换时，将向各信道发送切换请求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1" name="椭圆 37"/>
          <p:cNvSpPr/>
          <p:nvPr/>
        </p:nvSpPr>
        <p:spPr>
          <a:xfrm>
            <a:off x="2241720" y="3720960"/>
            <a:ext cx="2846160" cy="168624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40"/>
          <p:cNvSpPr/>
          <p:nvPr/>
        </p:nvSpPr>
        <p:spPr>
          <a:xfrm>
            <a:off x="4152960" y="3720960"/>
            <a:ext cx="2844720" cy="168624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21"/>
          <p:cNvGrpSpPr/>
          <p:nvPr/>
        </p:nvGrpSpPr>
        <p:grpSpPr>
          <a:xfrm>
            <a:off x="3103560" y="3852720"/>
            <a:ext cx="3383640" cy="1379520"/>
            <a:chOff x="3103560" y="3852720"/>
            <a:chExt cx="3383640" cy="1379520"/>
          </a:xfrm>
        </p:grpSpPr>
        <p:sp>
          <p:nvSpPr>
            <p:cNvPr id="164" name="Rectangle 136"/>
            <p:cNvSpPr/>
            <p:nvPr/>
          </p:nvSpPr>
          <p:spPr>
            <a:xfrm>
              <a:off x="3691800" y="4038480"/>
              <a:ext cx="33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6"/>
            <p:cNvSpPr/>
            <p:nvPr/>
          </p:nvSpPr>
          <p:spPr>
            <a:xfrm>
              <a:off x="6149520" y="4054320"/>
              <a:ext cx="33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Picture 462" descr="图片241"/>
            <p:cNvPicPr/>
            <p:nvPr/>
          </p:nvPicPr>
          <p:blipFill>
            <a:blip r:embed="rId1"/>
            <a:stretch/>
          </p:blipFill>
          <p:spPr>
            <a:xfrm>
              <a:off x="5570640" y="3859560"/>
              <a:ext cx="563040" cy="54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1943" descr="图片686"/>
            <p:cNvPicPr/>
            <p:nvPr/>
          </p:nvPicPr>
          <p:blipFill>
            <a:blip r:embed="rId2"/>
            <a:stretch/>
          </p:blipFill>
          <p:spPr>
            <a:xfrm>
              <a:off x="4280040" y="4605120"/>
              <a:ext cx="681480" cy="42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17" descr="无线覆盖"/>
            <p:cNvPicPr/>
            <p:nvPr/>
          </p:nvPicPr>
          <p:blipFill>
            <a:blip r:embed="rId3"/>
            <a:stretch/>
          </p:blipFill>
          <p:spPr>
            <a:xfrm>
              <a:off x="3242520" y="4275000"/>
              <a:ext cx="1030320" cy="9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17" descr="无线覆盖"/>
            <p:cNvPicPr/>
            <p:nvPr/>
          </p:nvPicPr>
          <p:blipFill>
            <a:blip r:embed="rId4"/>
            <a:stretch/>
          </p:blipFill>
          <p:spPr>
            <a:xfrm>
              <a:off x="4980240" y="4236120"/>
              <a:ext cx="1005840" cy="9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62" descr="图片241"/>
            <p:cNvPicPr/>
            <p:nvPr/>
          </p:nvPicPr>
          <p:blipFill>
            <a:blip r:embed="rId5"/>
            <a:stretch/>
          </p:blipFill>
          <p:spPr>
            <a:xfrm>
              <a:off x="3103560" y="3852720"/>
              <a:ext cx="563040" cy="54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Rectangle 136"/>
          <p:cNvSpPr/>
          <p:nvPr/>
        </p:nvSpPr>
        <p:spPr>
          <a:xfrm>
            <a:off x="2865960" y="4844880"/>
            <a:ext cx="35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信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36"/>
          <p:cNvSpPr/>
          <p:nvPr/>
        </p:nvSpPr>
        <p:spPr>
          <a:xfrm>
            <a:off x="6041160" y="4844880"/>
            <a:ext cx="35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信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圆角矩形标注 20"/>
          <p:cNvSpPr/>
          <p:nvPr/>
        </p:nvSpPr>
        <p:spPr>
          <a:xfrm>
            <a:off x="4567320" y="2425680"/>
            <a:ext cx="2251080" cy="1000080"/>
          </a:xfrm>
          <a:prstGeom prst="wedgeRoundRectCallout">
            <a:avLst>
              <a:gd name="adj1" fmla="val -44185"/>
              <a:gd name="adj2" fmla="val 181689"/>
              <a:gd name="adj3" fmla="val 16667"/>
            </a:avLst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STA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检测信道并发送切换请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C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内漫游切换过程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51960" y="1375920"/>
            <a:ext cx="7767720" cy="668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"/>
              </a:rPr>
              <a:t>切换触发：</a:t>
            </a:r>
            <a:r>
              <a:rPr b="0" lang="en-US" sz="2000" spc="-1" strike="noStrike">
                <a:solidFill>
                  <a:srgbClr val="000000"/>
                </a:solidFill>
                <a:latin typeface="Arial "/>
              </a:rPr>
              <a:t>STA</a:t>
            </a:r>
            <a:r>
              <a:rPr b="0" lang="zh-CN" sz="2000" spc="-1" strike="noStrike">
                <a:solidFill>
                  <a:srgbClr val="000000"/>
                </a:solidFill>
                <a:latin typeface="Arial "/>
              </a:rPr>
              <a:t>达到漫游阈值就会触发切换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6" name="椭圆 37"/>
          <p:cNvSpPr/>
          <p:nvPr/>
        </p:nvSpPr>
        <p:spPr>
          <a:xfrm>
            <a:off x="2203560" y="3556080"/>
            <a:ext cx="2846160" cy="168588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椭圆 40"/>
          <p:cNvSpPr/>
          <p:nvPr/>
        </p:nvSpPr>
        <p:spPr>
          <a:xfrm>
            <a:off x="4114800" y="3556080"/>
            <a:ext cx="2844720" cy="168588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组合 21"/>
          <p:cNvGrpSpPr/>
          <p:nvPr/>
        </p:nvGrpSpPr>
        <p:grpSpPr>
          <a:xfrm>
            <a:off x="3065400" y="3687840"/>
            <a:ext cx="3383640" cy="1379520"/>
            <a:chOff x="3065400" y="3687840"/>
            <a:chExt cx="3383640" cy="1379520"/>
          </a:xfrm>
        </p:grpSpPr>
        <p:sp>
          <p:nvSpPr>
            <p:cNvPr id="179" name="Rectangle 136"/>
            <p:cNvSpPr/>
            <p:nvPr/>
          </p:nvSpPr>
          <p:spPr>
            <a:xfrm>
              <a:off x="3653640" y="3873600"/>
              <a:ext cx="33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36"/>
            <p:cNvSpPr/>
            <p:nvPr/>
          </p:nvSpPr>
          <p:spPr>
            <a:xfrm>
              <a:off x="6111360" y="3889440"/>
              <a:ext cx="33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62" descr="图片241"/>
            <p:cNvPicPr/>
            <p:nvPr/>
          </p:nvPicPr>
          <p:blipFill>
            <a:blip r:embed="rId1"/>
            <a:stretch/>
          </p:blipFill>
          <p:spPr>
            <a:xfrm>
              <a:off x="5532480" y="3694680"/>
              <a:ext cx="563040" cy="54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1943" descr="图片686"/>
            <p:cNvPicPr/>
            <p:nvPr/>
          </p:nvPicPr>
          <p:blipFill>
            <a:blip r:embed="rId2"/>
            <a:stretch/>
          </p:blipFill>
          <p:spPr>
            <a:xfrm>
              <a:off x="4241880" y="4439880"/>
              <a:ext cx="681480" cy="4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17" descr="无线覆盖"/>
            <p:cNvPicPr/>
            <p:nvPr/>
          </p:nvPicPr>
          <p:blipFill>
            <a:blip r:embed="rId3"/>
            <a:stretch/>
          </p:blipFill>
          <p:spPr>
            <a:xfrm>
              <a:off x="3205800" y="4110480"/>
              <a:ext cx="1030320" cy="95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17" descr="无线覆盖"/>
            <p:cNvPicPr/>
            <p:nvPr/>
          </p:nvPicPr>
          <p:blipFill>
            <a:blip r:embed="rId4"/>
            <a:stretch/>
          </p:blipFill>
          <p:spPr>
            <a:xfrm>
              <a:off x="4943520" y="4071600"/>
              <a:ext cx="1005840" cy="94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462" descr="图片241"/>
            <p:cNvPicPr/>
            <p:nvPr/>
          </p:nvPicPr>
          <p:blipFill>
            <a:blip r:embed="rId5"/>
            <a:stretch/>
          </p:blipFill>
          <p:spPr>
            <a:xfrm>
              <a:off x="3065400" y="3687840"/>
              <a:ext cx="563040" cy="54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右箭头 14"/>
          <p:cNvSpPr/>
          <p:nvPr/>
        </p:nvSpPr>
        <p:spPr>
          <a:xfrm>
            <a:off x="4016520" y="5133960"/>
            <a:ext cx="1101600" cy="395280"/>
          </a:xfrm>
          <a:prstGeom prst="rightArrow">
            <a:avLst>
              <a:gd name="adj1" fmla="val 50000"/>
              <a:gd name="adj2" fmla="val 86767"/>
            </a:avLst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5"/>
          <p:cNvSpPr/>
          <p:nvPr/>
        </p:nvSpPr>
        <p:spPr>
          <a:xfrm>
            <a:off x="4043520" y="5194440"/>
            <a:ext cx="104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漫游阈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圆角矩形标注 17"/>
          <p:cNvSpPr/>
          <p:nvPr/>
        </p:nvSpPr>
        <p:spPr>
          <a:xfrm>
            <a:off x="4567320" y="2146320"/>
            <a:ext cx="2251080" cy="1001520"/>
          </a:xfrm>
          <a:prstGeom prst="wedgeRoundRectCallout">
            <a:avLst>
              <a:gd name="adj1" fmla="val -44185"/>
              <a:gd name="adj2" fmla="val 181689"/>
              <a:gd name="adj3" fmla="val 16667"/>
            </a:avLst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达到漫游</a:t>
            </a:r>
            <a:r>
              <a:rPr b="0" lang="zh-CN" sz="2000" spc="-1" strike="noStrike">
                <a:solidFill>
                  <a:srgbClr val="000000"/>
                </a:solidFill>
                <a:latin typeface="Arial "/>
              </a:rPr>
              <a:t>阈值进行切换触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C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内漫游切换过程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51960" y="1375920"/>
            <a:ext cx="7767720" cy="668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"/>
              </a:rPr>
              <a:t>切换操作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关联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解除与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关联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pSp>
        <p:nvGrpSpPr>
          <p:cNvPr id="191" name="组合 29"/>
          <p:cNvGrpSpPr/>
          <p:nvPr/>
        </p:nvGrpSpPr>
        <p:grpSpPr>
          <a:xfrm>
            <a:off x="2203560" y="3556080"/>
            <a:ext cx="4755960" cy="1685880"/>
            <a:chOff x="2203560" y="3556080"/>
            <a:chExt cx="4755960" cy="1685880"/>
          </a:xfrm>
        </p:grpSpPr>
        <p:sp>
          <p:nvSpPr>
            <p:cNvPr id="192" name="椭圆 17"/>
            <p:cNvSpPr/>
            <p:nvPr/>
          </p:nvSpPr>
          <p:spPr>
            <a:xfrm>
              <a:off x="2203560" y="3556080"/>
              <a:ext cx="2845440" cy="1685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椭圆 18"/>
            <p:cNvSpPr/>
            <p:nvPr/>
          </p:nvSpPr>
          <p:spPr>
            <a:xfrm>
              <a:off x="4114080" y="3556080"/>
              <a:ext cx="2845440" cy="1685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组合 21"/>
            <p:cNvGrpSpPr/>
            <p:nvPr/>
          </p:nvGrpSpPr>
          <p:grpSpPr>
            <a:xfrm>
              <a:off x="3065760" y="3688200"/>
              <a:ext cx="3382920" cy="601560"/>
              <a:chOff x="3065760" y="3688200"/>
              <a:chExt cx="3382920" cy="601560"/>
            </a:xfrm>
          </p:grpSpPr>
          <p:sp>
            <p:nvSpPr>
              <p:cNvPr id="195" name="Rectangle 136"/>
              <p:cNvSpPr/>
              <p:nvPr/>
            </p:nvSpPr>
            <p:spPr>
              <a:xfrm>
                <a:off x="3653280" y="3891960"/>
                <a:ext cx="337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P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36"/>
              <p:cNvSpPr/>
              <p:nvPr/>
            </p:nvSpPr>
            <p:spPr>
              <a:xfrm>
                <a:off x="6111000" y="3909240"/>
                <a:ext cx="337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P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7" name="Picture 462" descr="图片241"/>
              <p:cNvPicPr/>
              <p:nvPr/>
            </p:nvPicPr>
            <p:blipFill>
              <a:blip r:embed="rId1"/>
              <a:stretch/>
            </p:blipFill>
            <p:spPr>
              <a:xfrm>
                <a:off x="5532480" y="3695760"/>
                <a:ext cx="563040" cy="59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Picture 462" descr="图片241"/>
              <p:cNvPicPr/>
              <p:nvPr/>
            </p:nvPicPr>
            <p:blipFill>
              <a:blip r:embed="rId2"/>
              <a:stretch/>
            </p:blipFill>
            <p:spPr>
              <a:xfrm>
                <a:off x="3065760" y="3688200"/>
                <a:ext cx="563040" cy="594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9" name="组合 21"/>
            <p:cNvGrpSpPr/>
            <p:nvPr/>
          </p:nvGrpSpPr>
          <p:grpSpPr>
            <a:xfrm>
              <a:off x="2993400" y="4319640"/>
              <a:ext cx="3168360" cy="789480"/>
              <a:chOff x="2993400" y="4319640"/>
              <a:chExt cx="3168360" cy="789480"/>
            </a:xfrm>
          </p:grpSpPr>
          <p:pic>
            <p:nvPicPr>
              <p:cNvPr id="200" name="Picture 1943" descr="图片686"/>
              <p:cNvPicPr/>
              <p:nvPr/>
            </p:nvPicPr>
            <p:blipFill>
              <a:blip r:embed="rId3"/>
              <a:stretch/>
            </p:blipFill>
            <p:spPr>
              <a:xfrm>
                <a:off x="4838760" y="4548960"/>
                <a:ext cx="68112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" name="Picture 17" descr="无线覆盖"/>
              <p:cNvPicPr/>
              <p:nvPr/>
            </p:nvPicPr>
            <p:blipFill>
              <a:blip r:embed="rId4"/>
              <a:stretch/>
            </p:blipFill>
            <p:spPr>
              <a:xfrm>
                <a:off x="2993400" y="4319640"/>
                <a:ext cx="718920" cy="7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2" name="Picture 17" descr="无线覆盖"/>
              <p:cNvPicPr/>
              <p:nvPr/>
            </p:nvPicPr>
            <p:blipFill>
              <a:blip r:embed="rId5"/>
              <a:stretch/>
            </p:blipFill>
            <p:spPr>
              <a:xfrm>
                <a:off x="5442840" y="4319640"/>
                <a:ext cx="718920" cy="789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03" name="圆角矩形标注 24"/>
          <p:cNvSpPr/>
          <p:nvPr/>
        </p:nvSpPr>
        <p:spPr>
          <a:xfrm>
            <a:off x="4964040" y="2425680"/>
            <a:ext cx="2251080" cy="1000080"/>
          </a:xfrm>
          <a:prstGeom prst="wedgeRoundRectCallout">
            <a:avLst>
              <a:gd name="adj1" fmla="val -38884"/>
              <a:gd name="adj2" fmla="val 187648"/>
              <a:gd name="adj3" fmla="val 16667"/>
            </a:avLst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进行切换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进行关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9:16:27Z</dcterms:created>
  <dc:creator>y00207709</dc:creator>
  <dc:description/>
  <dc:language>en-US</dc:language>
  <cp:lastModifiedBy>Lenovo</cp:lastModifiedBy>
  <dcterms:modified xsi:type="dcterms:W3CDTF">2020-04-26T01:36:57Z</dcterms:modified>
  <cp:revision>79</cp:revision>
  <dc:subject/>
  <dc:title>幻灯片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4)sJxFcJNkSelBdCGIchnqq1ogiqpM7ckDP+M8BWI95mJ3MVhTTraJXTTmil4RmTArVcOARs4x
PMRHgGRLqGG9PQGUcbD0nxkHl7x+1HOEAMKh3orh1ps4HVn6P5M5U5R80btj0JpXYZTDLxZx
Pp9Nqv1ZVcyWVq+KDti+FNOtp+0WeF0soDF1PxLIVmTEUv4ecscvXKndM/XuLM2tICEGSSEo
8qFQ0IFO23AB6m3ZCl</vt:lpwstr>
  </property>
  <property fmtid="{D5CDD505-2E9C-101B-9397-08002B2CF9AE}" pid="3" name="_ms_pID_7253431">
    <vt:lpwstr>Etm2ROiwkg8G2oGyjS0wWVDszNVOplMxjADIqtoR9DJStE8gclPwtv
4tAr5LIBq8oVhQ5SPu3P5fZ9RNVpbF7hmnW6xFqOuy4LRRa9WiOGo7R+lF5A19kygNAe6b9h
JWIs19f+rr4bBx9L7xXDK5dTFZvsahELgn6NkoO7csW72XtML373xarmypSZLkk/nrVye1BT
QkEEWcIm9eW3C1vM0AugkzI0AkLu3hz/MRQ/</vt:lpwstr>
  </property>
  <property fmtid="{D5CDD505-2E9C-101B-9397-08002B2CF9AE}" pid="4" name="_ms_pID_7253432">
    <vt:lpwstr>jXxZgWdnCm3p16nmi45NGJYaS9WgYUOhdvd4
4VnAp0ikPAhDKoWrnhPkA7MGjNXO198L3qoLgSr6m5QHw3B2gkD6OmhhBzdsNrO0YW1mLj9j
NpnVMyF+LkNk/AatdN80LGQumhdqLGh+Ix46DuHpwaIrO4ydwR1l/qYhyP8Mr3XAF94B/8Ns
HLVJG8WPGQHGHKV7whFZrMFnYXGRECSCFhtmXHW4lHMMtfkZ/PnqFO</vt:lpwstr>
  </property>
  <property fmtid="{D5CDD505-2E9C-101B-9397-08002B2CF9AE}" pid="5" name="_ms_pID_7253433">
    <vt:lpwstr>29H6saSaR4/qrD1jpw
j46PeA==</vt:lpwstr>
  </property>
  <property fmtid="{D5CDD505-2E9C-101B-9397-08002B2CF9AE}" pid="6" name="sflag">
    <vt:lpwstr>1356059400</vt:lpwstr>
  </property>
</Properties>
</file>