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just">
              <a:lnSpc>
                <a:spcPct val="12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utigerNext LT Regular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备注占位符 4"/>
          <p:cNvSpPr/>
          <p:nvPr/>
        </p:nvSpPr>
        <p:spPr>
          <a:xfrm>
            <a:off x="70164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181080" indent="-181080" algn="just">
              <a:lnSpc>
                <a:spcPct val="125000"/>
              </a:lnSpc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1960" y="356616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1960" y="356616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5640" y="356616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3240" y="137448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4160" y="137448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1960" y="356616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3240" y="356616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4160" y="356616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1960" y="387360"/>
            <a:ext cx="7745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1960" y="356616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15640" y="356616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1960" y="356616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1960" y="356616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1960" y="356616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15640" y="356616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3240" y="137448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4160" y="137448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1960" y="356616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3240" y="356616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4160" y="356616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1960" y="387360"/>
            <a:ext cx="7745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960" y="356616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15640" y="356616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960" y="356616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1960" y="356616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1960" y="356616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15640" y="356616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33240" y="137448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14160" y="137448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1960" y="356616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33240" y="356616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14160" y="356616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1960" y="387360"/>
            <a:ext cx="7745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1960" y="356616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5640" y="356616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640" y="137448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1960" y="356616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180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180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180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5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40" name="Text Box 8"/>
          <p:cNvSpPr/>
          <p:nvPr/>
        </p:nvSpPr>
        <p:spPr>
          <a:xfrm>
            <a:off x="3392280" y="2503440"/>
            <a:ext cx="25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100" spc="-1" strike="noStrike">
                <a:solidFill>
                  <a:srgbClr val="990000"/>
                </a:solidFill>
                <a:latin typeface="Arial"/>
                <a:ea typeface="MS PGothic"/>
              </a:rPr>
              <a:t>Thank you</a:t>
            </a:r>
            <a:endParaRPr b="0" lang="en-US" sz="4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7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11280" y="1665000"/>
            <a:ext cx="792936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180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180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180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2960" y="1419120"/>
            <a:ext cx="5548320" cy="14702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FrutigerNext LT Medium"/>
              </a:rPr>
              <a:t>WLAN</a:t>
            </a:r>
            <a:r>
              <a:rPr b="0" lang="zh-CN" sz="4300" spc="-1" strike="noStrike">
                <a:solidFill>
                  <a:srgbClr val="ffffff"/>
                </a:solidFill>
                <a:latin typeface="FrutigerNext LT Medium"/>
              </a:rPr>
              <a:t>技术概述</a:t>
            </a:r>
            <a:endParaRPr b="0" lang="en-US" sz="43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0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无线网络介绍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37" name="内容占位符 3" descr=""/>
          <p:cNvPicPr/>
          <p:nvPr/>
        </p:nvPicPr>
        <p:blipFill>
          <a:blip r:embed="rId1"/>
          <a:stretch/>
        </p:blipFill>
        <p:spPr>
          <a:xfrm>
            <a:off x="1224000" y="1376280"/>
            <a:ext cx="67896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52320" y="420840"/>
            <a:ext cx="8275680" cy="4195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Ir DA: 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一种利用红外线进行点到点通讯的技术。其特点是视距无障碍传输，传输速率可达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16M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；成本低、寿命短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Blue Tooth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：工作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频段上，理想连接范围是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10cm-10m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，支持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72kbps/57.6kbps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不对称连接或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43.2kbp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对称连接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Home RF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：家庭无线网络，是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IEEE802.11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DECT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（数字无绳电话标准）的结合，工作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段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100m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内提供的最大接入速率为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M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iFi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：无线高保真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ireless Fidelity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，使用无线技术如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IEEE802.11a/b/g/n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等为局域网提供无线连接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GSM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UMT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LTE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：主要应用于移动网络数据传输，使用频段有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900M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1800M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1900M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2100M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等，用于无线广域网的覆盖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3160" y="387360"/>
            <a:ext cx="70545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7929720" cy="22190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77777"/>
                </a:solidFill>
                <a:latin typeface="FrutigerNext LT Regular"/>
              </a:rPr>
              <a:t>无线网络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utigerNext LT Regular"/>
              </a:rPr>
              <a:t>什么是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777777"/>
                </a:solidFill>
                <a:latin typeface="FrutigerNext LT Regular"/>
              </a:rPr>
              <a:t>发展历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77777"/>
                </a:solidFill>
                <a:latin typeface="FrutigerNext LT Regular"/>
              </a:rPr>
              <a:t>典型应用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41" name="Picture 18" descr="目录 copy"/>
          <p:cNvPicPr/>
          <p:nvPr/>
        </p:nvPicPr>
        <p:blipFill>
          <a:blip r:embed="rId1"/>
          <a:stretch/>
        </p:blipFill>
        <p:spPr>
          <a:xfrm>
            <a:off x="719280" y="512640"/>
            <a:ext cx="6174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内容占位符 3" descr=""/>
          <p:cNvPicPr/>
          <p:nvPr/>
        </p:nvPicPr>
        <p:blipFill>
          <a:blip r:embed="rId1"/>
          <a:stretch/>
        </p:blipFill>
        <p:spPr>
          <a:xfrm>
            <a:off x="395280" y="552600"/>
            <a:ext cx="83534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7280" y="907920"/>
            <a:ext cx="8209080" cy="4321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技术最早出现在美国，主要应用于最后一段网线的无线延伸，最主要的运用就是在家庭中使用，由于美国居住环境里铺放线路的困难（独立别墅、小院），加上经济发达，便携机、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PDA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等设备的普及率很高，人们对无线上网需求很强烈。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从而导致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技术普及加快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由于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可移动性、无线的优点，近几年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迅速在各地的家庭、办公、学校与企业等场景使用。随着经过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技术几年的推进和发展，其标准和产品已经日渐成熟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和有线接入技术相比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优势：速率高，能满足高速无线上网需求，设备价格低廉，建设成本低，技术较成熟，已有丰富的应用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51960" y="96156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上图表明了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、有线窄带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Modem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、有线宽带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DSL/LAN 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以及无线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GPRS/CDMA1X/3G 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等接入方式在无线化和宽带化两个方向的对比：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相比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DSL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等有线方式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能提供高带宽无线上网功能满足希望摆脱线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缆束缚的用户需求；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相比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GPRS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CDMA1x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等无线方式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可提供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600Mbps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或更高的速率，并且价格低廉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什么是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？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46" name="内容占位符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167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3160" y="387360"/>
            <a:ext cx="70545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7929720" cy="2228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77777"/>
                </a:solidFill>
                <a:latin typeface="FrutigerNext LT Regular"/>
              </a:rPr>
              <a:t>无线网络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77777"/>
                </a:solidFill>
                <a:latin typeface="FrutigerNext LT Regular"/>
              </a:rPr>
              <a:t>什么是</a:t>
            </a:r>
            <a:r>
              <a:rPr b="0" lang="en-US" sz="2200" spc="-1" strike="noStrike">
                <a:solidFill>
                  <a:srgbClr val="777777"/>
                </a:solidFill>
                <a:latin typeface="FrutigerNext LT Regular"/>
              </a:rPr>
              <a:t>WLAN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1" lang="zh-CN" sz="2000" spc="-1" strike="noStrike">
                <a:solidFill>
                  <a:srgbClr val="000000"/>
                </a:solidFill>
                <a:latin typeface="FrutigerNext LT Regular"/>
              </a:rPr>
              <a:t>发展历程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77777"/>
                </a:solidFill>
                <a:latin typeface="FrutigerNext LT Regular"/>
              </a:rPr>
              <a:t>典型应用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49" name="Picture 18" descr="目录 copy"/>
          <p:cNvPicPr/>
          <p:nvPr/>
        </p:nvPicPr>
        <p:blipFill>
          <a:blip r:embed="rId1"/>
          <a:stretch/>
        </p:blipFill>
        <p:spPr>
          <a:xfrm>
            <a:off x="704880" y="506520"/>
            <a:ext cx="6174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内容占位符 3" descr=""/>
          <p:cNvPicPr/>
          <p:nvPr/>
        </p:nvPicPr>
        <p:blipFill>
          <a:blip r:embed="rId1"/>
          <a:stretch/>
        </p:blipFill>
        <p:spPr>
          <a:xfrm>
            <a:off x="0" y="333360"/>
            <a:ext cx="90010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51960" y="135684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更高带宽：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02.11a/g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速率达到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54Mbps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02.11n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可达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600Mbps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（采用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MIMO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技术）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02.11ac wave2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可达到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3.47Gbps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更广覆盖范围：从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02.11a/g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100m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02.11n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500-1000m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更强的障碍物穿透能力：可以使用于多堵墙壁的商务住宅、复杂房间结构的写字楼等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环境中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从单纯的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at AP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模式转为集中控制的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-Fit AP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模式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89160" y="387360"/>
            <a:ext cx="71085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学习目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728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学完本课程后，您将能够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描述什么是无线网络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描述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技术的发展历程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列举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技术的典型应用场景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3" name="Picture 14" descr="目标 copy"/>
          <p:cNvPicPr/>
          <p:nvPr/>
        </p:nvPicPr>
        <p:blipFill>
          <a:blip r:embed="rId1"/>
          <a:stretch/>
        </p:blipFill>
        <p:spPr>
          <a:xfrm>
            <a:off x="700200" y="507960"/>
            <a:ext cx="62208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 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发展历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4728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相对于目前的有线网络主要有以下优点：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移动性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灵活性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可扩展性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经济性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50920" y="312480"/>
            <a:ext cx="875016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移动性：使用者有四处移动的需要，不过数据经常是集中存储。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能够让使用者在移动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中访问数据，可以大幅提高生产率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灵活性：对传统有线网络而言，要在某些场所布线相当困难。建筑物老旧，当时的建筑设计蓝图不知去向，要在旧式的石材建筑中穿墙布线十分困难。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在这些场合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布放就显得非常灵活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可扩展性：既然没有网线，就没有重新布线的烦恼。利用无线网络，可以迅速构建小型、临时性的群组网络供会议使用，随意游走于办公室隔断之间也变得易如反掌。 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扩充十分方便，因为无线传播介质无处不在。使用者不再需要到处拉线、接线、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绕线。无线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还可以部署在旅馆、宾馆、火车站、飞机场等任意地点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经济性：采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技术可以节约不少成本。首先网线的成本就节约下来。另外比如在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两栋建筑间搭建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D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进行传输，虽然初期采购户外设备、无线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以及无线网卡有部分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成本，但是扣除这类初期的固定资本投入，后期每月支付的运营成本微乎其微。长期而言，这种点对点的无线链路远比租用运营商的专线便宜的多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3160" y="387360"/>
            <a:ext cx="70545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7929720" cy="2228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77777"/>
                </a:solidFill>
                <a:latin typeface="FrutigerNext LT Regular"/>
              </a:rPr>
              <a:t>无线网络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77777"/>
                </a:solidFill>
                <a:latin typeface="FrutigerNext LT Regular"/>
              </a:rPr>
              <a:t>什么是</a:t>
            </a:r>
            <a:r>
              <a:rPr b="0" lang="en-US" sz="2200" spc="-1" strike="noStrike">
                <a:solidFill>
                  <a:srgbClr val="777777"/>
                </a:solidFill>
                <a:latin typeface="FrutigerNext LT Regular"/>
              </a:rPr>
              <a:t>WLAN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777777"/>
                </a:solidFill>
                <a:latin typeface="FrutigerNext LT Regular"/>
              </a:rPr>
              <a:t>发展历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utigerNext LT Regular"/>
              </a:rPr>
              <a:t>典型应用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57" name="Picture 18" descr="目录 copy"/>
          <p:cNvPicPr/>
          <p:nvPr/>
        </p:nvPicPr>
        <p:blipFill>
          <a:blip r:embed="rId1"/>
          <a:stretch/>
        </p:blipFill>
        <p:spPr>
          <a:xfrm>
            <a:off x="704880" y="506520"/>
            <a:ext cx="6174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典型应用 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让工作更高效，在行业提供更加灵活的网络部署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60" name="图片 3" descr=""/>
          <p:cNvPicPr/>
          <p:nvPr/>
        </p:nvPicPr>
        <p:blipFill>
          <a:blip r:embed="rId1"/>
          <a:stretch/>
        </p:blipFill>
        <p:spPr>
          <a:xfrm>
            <a:off x="1224000" y="2060640"/>
            <a:ext cx="608472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31640" y="1052280"/>
            <a:ext cx="838368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9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</a:rPr>
              <a:t>让工作更高效，在行业中提供更加灵活的网络部署：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在体育场馆，部署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网络后，便于现场记者进行现场新闻的实时报导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展馆和证券大厅，通过部署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网络，进行业务和监控数据的实时交互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工厂和生产线上，通过部署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网络，进行生产仪器的远程控制和监控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物流和港口上，部署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网络，可以通过无线网络达到中远距离的通讯沟通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典型应用 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让网络使用更自由，让用户随时随地的接入网络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64" name="图片 3" descr=""/>
          <p:cNvPicPr/>
          <p:nvPr/>
        </p:nvPicPr>
        <p:blipFill>
          <a:blip r:embed="rId1"/>
          <a:stretch/>
        </p:blipFill>
        <p:spPr>
          <a:xfrm>
            <a:off x="1008000" y="1952640"/>
            <a:ext cx="64785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让网络使用更自由，让用户随时随地接入网络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写这楼内部署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网络，实现无线办公，免去网线的约束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候机厅、风景区、咖啡厅内部署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网络，使得用户随时随地上网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思考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无线网络主要分为哪几类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i-Fi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有什么关系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相对于目前的有线网络主要有哪些优点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3160" y="387360"/>
            <a:ext cx="70545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总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728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无线网络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什么是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发展历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典型应用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70" name="Picture 8" descr="总结 copy"/>
          <p:cNvPicPr/>
          <p:nvPr/>
        </p:nvPicPr>
        <p:blipFill>
          <a:blip r:embed="rId1"/>
          <a:stretch/>
        </p:blipFill>
        <p:spPr>
          <a:xfrm>
            <a:off x="704880" y="509760"/>
            <a:ext cx="61740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 algn="ctr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 algn="ctr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 algn="ctr">
              <a:lnSpc>
                <a:spcPct val="14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6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3160" y="387360"/>
            <a:ext cx="70545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1960" y="1374840"/>
            <a:ext cx="7929720" cy="2238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utigerNext LT Regular"/>
              </a:rPr>
              <a:t>无线网络介绍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77777"/>
                </a:solidFill>
                <a:latin typeface="FrutigerNext LT Regular"/>
              </a:rPr>
              <a:t>什么是</a:t>
            </a:r>
            <a:r>
              <a:rPr b="0" lang="en-US" sz="2200" spc="-1" strike="noStrike">
                <a:solidFill>
                  <a:srgbClr val="777777"/>
                </a:solidFill>
                <a:latin typeface="FrutigerNext LT Regular"/>
              </a:rPr>
              <a:t>WLAN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777777"/>
                </a:solidFill>
                <a:latin typeface="FrutigerNext LT Regular"/>
              </a:rPr>
              <a:t>发展历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77777"/>
                </a:solidFill>
                <a:latin typeface="FrutigerNext LT Regular"/>
              </a:rPr>
              <a:t>典型应用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6" name="Picture 18" descr="目录 copy"/>
          <p:cNvPicPr/>
          <p:nvPr/>
        </p:nvPicPr>
        <p:blipFill>
          <a:blip r:embed="rId1"/>
          <a:stretch/>
        </p:blipFill>
        <p:spPr>
          <a:xfrm>
            <a:off x="704880" y="506520"/>
            <a:ext cx="6174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无线网络介绍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395280" y="1085760"/>
            <a:ext cx="842472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03280" y="296640"/>
            <a:ext cx="7929360" cy="572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无线网络的初步应用，可以追朔到第二次世界大战期间，当时美国陆军采用无线电信号做资料的传输。他们研发出了一套无线电传输科技，并且采用相当高强度的加密技术， 得到美军和盟军的广泛使用。他们也许没有想到，这项技术会在五十年后的今天改变我们的生活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许多学者从中得到灵感，在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1971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年时，夏威夷大学的研究员创造了第一个基于封包式 技术的无线电通讯网络。这被称作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ALOHNET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的网络，可以算是相当早期的无线局域网络 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(WLAN)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。它包括了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台计算机，它们采用双向星型拓扑横跨四座夏威夷的岛屿，中心计算机放置在瓦胡岛上。从这时开始，无线网络可说是正式诞生了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1990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年，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IEEE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正式启用了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1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项目，无线网络技术逐渐走向成熟， 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IEEE802.11(WiFi) 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标准诞生以来，先后有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1a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和 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1b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1g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1e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1f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1h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 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1i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1j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等标准制定或者酝酿，目前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1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应用已经非常普遍，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1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技术可以提供用户高速度、高质量的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服务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2003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年以来，无线网络市场热度迅速飙升，已经成为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IT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市场中新的增长亮点。由于人们对网络速度及方便使用性的期望越来越大，于是与电脑以及移动设备结合紧密的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WiFi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CDMA/GPR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、蓝牙等技术越来越受到人们的追捧。于此同时，在相应配套产品大量面 世之后，构建无线网络所需要的成本下降了，一时间，无线网络已经成为我们生活的主流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随着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3G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4G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LTE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）等高速移动网络的面市，移动网络成为生活中的不可缺少的一部分， 很多商店、餐馆等公共场所也提供了很多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WiFi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无线热点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7454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无线网络介绍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1960" y="13744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无线网络分类：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ireless Personal Area Network(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个人无线网络）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ireless Local Area Network(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无线局域网络）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ireless Metro Area Network(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无线城域网络）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ireless Wide Area Network(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无线广域网络）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755640" y="4081320"/>
            <a:ext cx="712152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51960" y="65700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89000"/>
          </a:bodyPr>
          <a:p>
            <a:pPr marL="268200" indent="-26820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WPAN(Wireless Personal Area Network)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提供个人区域无线的连接，一般是点对点连接和小型网络的连接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582120" indent="-22428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特点：易用、低费用、便携等；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582120" indent="-22428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主要技术：蓝牙技术，工作在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频段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68200" indent="-26820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WLAN(Wireless Local Area Network)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使用频段：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582120" indent="-22428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能量消耗大；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582120" indent="-22428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支持多用户，设计更加灵活；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582120" indent="-22428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主要技术：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1a/b/g/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68200" indent="-26820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WMAN(Wireless Metro Area Network)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主要用于骨干连接和用户覆盖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582120" indent="-22428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一般使用的频段需要申请，公用的频段也可以，但是有干扰；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582120" indent="-22428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主要技术：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WiMax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802.16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268200" indent="-26820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51960" y="1374480"/>
            <a:ext cx="813276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WWAN(Wireless Wide Area Network)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主要是运营商用于无线覆盖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带宽小，基于时长或者流量来收费；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主要技术：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2G/3G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，卫星传输等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随着无线技术的发展，不同种类的无线网络之间的界限越来越模糊，有相互融合的趋势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6:48:56Z</dcterms:created>
  <dc:creator>c37402</dc:creator>
  <dc:description/>
  <dc:language>en-US</dc:language>
  <cp:lastModifiedBy>songbiao</cp:lastModifiedBy>
  <dcterms:modified xsi:type="dcterms:W3CDTF">2020-02-25T13:32:06Z</dcterms:modified>
  <cp:revision>2177</cp:revision>
  <dc:subject/>
  <dc:title>幻灯片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3)so2NxZhUrjunkUDL2832E/G01XF7Os8rDbKCrZ0SolXbAR3fp2hEAaZDFT21Q/vBCxJJgm3y
1EwHMpmeYtLXlLwsRn6tedX9QkUpBcMkipi6z6u+GOG02tb1PBotUTzFTzhPTOljLf5IKSZG
ycc/8XtEOS1s6VCdZ/1svvj+qNvkD6IdhFNRA32LCDEGOTIkDSdsosCj1HjpgG3MqIbBLz5o
N3AIYAxqnhJ5x9V/Fe</vt:lpwstr>
  </property>
  <property fmtid="{D5CDD505-2E9C-101B-9397-08002B2CF9AE}" pid="3" name="_ms_pID_7253431">
    <vt:lpwstr>I7Fj10FfQOBJvZDmpqMPKqG6/8iehLbuAEHEe5jzyG/fn5a2ppudW/
6kE0zObpEvi6ujQxBt1eW/PN0oKG1lSRuA9sBO9slts6Z4zleh/U59Bb2pKLPAuqa1j5wqL0
cSWL5SaYVVnEpEC3virjIWbfU2ypSUUCxe5XEH35qpRa+mojDGQTJGM6yt9YMMCwEUuYl+yK
bOnpEQIgYSOS54zL7w2M5g0t5IPird6txNFN</vt:lpwstr>
  </property>
  <property fmtid="{D5CDD505-2E9C-101B-9397-08002B2CF9AE}" pid="4" name="_ms_pID_7253432">
    <vt:lpwstr>s11XPtKEunsR+tuo4FNOk6iziUOJRmI1Vx+R
6q8YI2/OBTJR0TUVisrf9d/1xvXw0g7aF4oqgDRkcPXisR5D9NC2cYducaqEDYo5swX+N+/x
4TnhDCKsQma5xnXywK1gi5UvrICqA/mR+M3htkQyDnBJkaTU/Xz+7hgP+gXUXnYwsON/XVtD
+1lCcvMmKF1fHW2nhsMB85+PvJx1pOWtYlQ=</vt:lpwstr>
  </property>
  <property fmtid="{D5CDD505-2E9C-101B-9397-08002B2CF9AE}" pid="5" name="sflag">
    <vt:lpwstr>1351583540</vt:lpwstr>
  </property>
</Properties>
</file>