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4360" y="28260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  <a:ea typeface="华文细黑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28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频段介绍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与信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其他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1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.4GHz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频段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51960" y="1376280"/>
            <a:ext cx="6513480" cy="15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2000"/>
          </a:bodyPr>
          <a:p>
            <a:pPr marL="217080" indent="-2170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/g/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17080" indent="-2170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信道需要占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MHz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17080" indent="-2170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信道需要占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17080" indent="-2170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全兼容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g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4" name="图片 22546" descr="33CWCF})E10V3`[U~9SZ4NK"/>
          <p:cNvPicPr/>
          <p:nvPr/>
        </p:nvPicPr>
        <p:blipFill>
          <a:blip r:embed="rId1"/>
          <a:stretch/>
        </p:blipFill>
        <p:spPr>
          <a:xfrm>
            <a:off x="326880" y="3645000"/>
            <a:ext cx="8528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主要国家工作频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56" name="图片 24592" descr="K(RN6XEW8JP(4_T@28U}[%M"/>
          <p:cNvPicPr/>
          <p:nvPr/>
        </p:nvPicPr>
        <p:blipFill>
          <a:blip r:embed="rId1"/>
          <a:stretch/>
        </p:blipFill>
        <p:spPr>
          <a:xfrm>
            <a:off x="276120" y="1228680"/>
            <a:ext cx="865512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中国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C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（美国）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（加拿大）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ETSI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（欧洲）规定的工作频率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-2.483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中国和欧洲支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-13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被使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美国和加拿大则是支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-11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被使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日本规定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无线工作频率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1-14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信道，其中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信道只能用于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802.11b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标准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以上图表为典型国家频段示例。各个国家使用的频率都有所差异，具体的频段要以各个国家实际频率为准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绑定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矩形 26651"/>
          <p:cNvSpPr/>
          <p:nvPr/>
        </p:nvSpPr>
        <p:spPr>
          <a:xfrm>
            <a:off x="595440" y="1446120"/>
            <a:ext cx="79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道绑定技术通过将相邻的两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道绑定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使传输速率成部提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6652" descr="E~2BPJW[RPMYX8_U64H7P]9"/>
          <p:cNvPicPr/>
          <p:nvPr/>
        </p:nvPicPr>
        <p:blipFill>
          <a:blip r:embed="rId1"/>
          <a:stretch/>
        </p:blipFill>
        <p:spPr>
          <a:xfrm>
            <a:off x="0" y="2287440"/>
            <a:ext cx="9144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对于无线技术，提高所用频谱的宽度，可以最为直接地提高吞吐。就好比是马路变宽了，车辆的通行能力自然提高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传统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标准，空口都工作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宽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通过将相邻的两个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绑定成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使传输速率成倍提高。在实际工作中，将两个相邻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绑定使用，一个为主带宽，一个为此带宽，收发数据时既可以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带宽工作，也可以单个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带宽工作。同时为避免相互干扰，原本每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之间都会预留一小部分的带宽，当采用信道绑定技术工作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带宽时，这一部分预留的带宽也可以被用来通信，进一步提高了吞吐量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与信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其他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64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GHz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频段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1960" y="1376280"/>
            <a:ext cx="7564680" cy="1603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/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/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信道需要占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全兼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67" name="图片 30734" descr="D059IAPS}2UT}YRN]A70TOD"/>
          <p:cNvPicPr/>
          <p:nvPr/>
        </p:nvPicPr>
        <p:blipFill>
          <a:blip r:embed="rId1"/>
          <a:stretch/>
        </p:blipFill>
        <p:spPr>
          <a:xfrm>
            <a:off x="0" y="3094200"/>
            <a:ext cx="9144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GHz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中心频率和信道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ID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号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69" name="图片 34869" descr="(O$WV7DV(]0F{UXI0J1$9$S"/>
          <p:cNvPicPr/>
          <p:nvPr/>
        </p:nvPicPr>
        <p:blipFill>
          <a:blip r:embed="rId1"/>
          <a:stretch/>
        </p:blipFill>
        <p:spPr>
          <a:xfrm>
            <a:off x="0" y="1117440"/>
            <a:ext cx="91519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中国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应用频率分配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总带宽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25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频段内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信道，最外层信道的中心距离频段边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美国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CC U-NII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频率分配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总带宽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低、中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内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信道，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0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带宽内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信道。中、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的最外层信道的中心距离频段边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3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对于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，距离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概括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工作频段及信道的基础概念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描述国家的工作频段和信道的相关规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列举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相关的其他技术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3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中国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.8GHz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52320" y="1376280"/>
            <a:ext cx="7608960" cy="6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9000"/>
          </a:bodyPr>
          <a:p>
            <a:pPr marL="238320" indent="-238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中国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8GH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频段内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非重叠信道，分别为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如下图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3" name="图片 38921" descr="N6583K~]I`3{]O~8[5RH0ZQ"/>
          <p:cNvPicPr/>
          <p:nvPr/>
        </p:nvPicPr>
        <p:blipFill>
          <a:blip r:embed="rId1"/>
          <a:stretch/>
        </p:blipFill>
        <p:spPr>
          <a:xfrm>
            <a:off x="34920" y="2711520"/>
            <a:ext cx="89787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.8GHz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绑定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52320" y="1376280"/>
            <a:ext cx="7608960" cy="6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63000"/>
          </a:bodyPr>
          <a:p>
            <a:pPr marL="189720" indent="-189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建议配置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时，表示主信道中前；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时，表示主信道中后，配置范围其实是一样的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6" name="图片 40969" descr="S5Y}2P[6M_@~)I`DRHD%)Z9"/>
          <p:cNvPicPr/>
          <p:nvPr/>
        </p:nvPicPr>
        <p:blipFill>
          <a:blip r:embed="rId1"/>
          <a:stretch/>
        </p:blipFill>
        <p:spPr>
          <a:xfrm>
            <a:off x="87480" y="3125880"/>
            <a:ext cx="90421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模式虽然可以获得更多的频谱利用率，获得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两倍的吞吐量，但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模式对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有限的频谱资源来说有些尴尬，因为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谱中无法实现两个相互不干扰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的划分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然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具有丰富的频谱资源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C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分配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个互不重叠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，在中国也有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个互不重叠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，有足够的信道来实现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的捆绑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因此，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宽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1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基本不建议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使用，即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g/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一般都采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宽进行部署，获取更多的信道资源，以满足蜂窝覆盖的原则。而想要获得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宽的高吞吐量，建议使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1n(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a/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进行部署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1960" y="13600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与信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其他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80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其他技术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82" name="图片 43017" descr="N7GLGFOWU711EI{P0LX]208"/>
          <p:cNvPicPr/>
          <p:nvPr/>
        </p:nvPicPr>
        <p:blipFill>
          <a:blip r:embed="rId1"/>
          <a:stretch/>
        </p:blipFill>
        <p:spPr>
          <a:xfrm>
            <a:off x="0" y="1368360"/>
            <a:ext cx="90964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SM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开放频段，使用此频段的设备有无绳电话、婴儿监视器、微波炉、无线摄像头、蓝牙、红外传感器、荧光灯镇流器等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相对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， 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干扰较少，但越来越多的设备也部分开始使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了，如无绳电话、雷达、无线传感器、数字卫星等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一般常用的是哪几个不重叠的信道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在中国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有几个不重叠的信道可以使用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86" name="Picture 17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频段与信道的基本概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其他的无线技术简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89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频段与信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其他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6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ISM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频段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1960" y="1376280"/>
            <a:ext cx="7929720" cy="15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频段，此频段主要是开放给工业、科学、医学三个主要机构使用，该频段是依据美国联邦通讯委员会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所定义出来，并没有所谓使用授权的限制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9" name="直接连接符 25" descr=""/>
          <p:cNvPicPr/>
          <p:nvPr/>
        </p:nvPicPr>
        <p:blipFill>
          <a:blip r:embed="rId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直接连接符 31" descr="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1" name="直接连接符 32" descr="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2" name="直接连接符 33" descr=""/>
          <p:cNvPicPr/>
          <p:nvPr/>
        </p:nvPicPr>
        <p:blipFill>
          <a:blip r:embed="rId4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3" name="直接连接符 34" descr=""/>
          <p:cNvPicPr/>
          <p:nvPr/>
        </p:nvPicPr>
        <p:blipFill>
          <a:blip r:embed="rId5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4" name="直接连接符 35" descr=""/>
          <p:cNvPicPr/>
          <p:nvPr/>
        </p:nvPicPr>
        <p:blipFill>
          <a:blip r:embed="rId6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直接连接符 36" descr=""/>
          <p:cNvPicPr/>
          <p:nvPr/>
        </p:nvPicPr>
        <p:blipFill>
          <a:blip r:embed="rId7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6" name="直接连接符 37" descr=""/>
          <p:cNvPicPr/>
          <p:nvPr/>
        </p:nvPicPr>
        <p:blipFill>
          <a:blip r:embed="rId8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7" name="直接连接符 38" descr=""/>
          <p:cNvPicPr/>
          <p:nvPr/>
        </p:nvPicPr>
        <p:blipFill>
          <a:blip r:embed="rId9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8" name="直接连接符 39" descr=""/>
          <p:cNvPicPr/>
          <p:nvPr/>
        </p:nvPicPr>
        <p:blipFill>
          <a:blip r:embed="rId10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直接连接符 40" descr=""/>
          <p:cNvPicPr/>
          <p:nvPr/>
        </p:nvPicPr>
        <p:blipFill>
          <a:blip r:embed="rId1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0" name="直接连接符 41" descr=""/>
          <p:cNvPicPr/>
          <p:nvPr/>
        </p:nvPicPr>
        <p:blipFill>
          <a:blip r:embed="rId1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6458" descr="()ZZ@9)3Z$7_J%(T`YP{$YI"/>
          <p:cNvPicPr/>
          <p:nvPr/>
        </p:nvPicPr>
        <p:blipFill>
          <a:blip r:embed="rId13"/>
          <a:stretch/>
        </p:blipFill>
        <p:spPr>
          <a:xfrm>
            <a:off x="1508040" y="2870280"/>
            <a:ext cx="58197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63400" y="791640"/>
            <a:ext cx="8018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工业频段：美国频段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902-928M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，欧洲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900M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频段则有部分用于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GSM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通信。工业频段的引入避免了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附近各种无线通信设备的相互干扰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科学频段： 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为各国共同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SM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。因此无线局域网，蓝牙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ZigBee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等无线网络，均可工作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上， 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范围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-2.483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医疗频段：频段范围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.725-5.850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，与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.15-5.3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一起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（工作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） 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工作频段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频段与信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51960" y="1376280"/>
            <a:ext cx="7929720" cy="15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44000"/>
          </a:bodyPr>
          <a:p>
            <a:pPr marL="132480" indent="-1324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被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b/g/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定义工作中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频段中，在其中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被划分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14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个交叠的、错列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无线载波信道，它们的中心频率间隔分别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M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802.11a/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工作在有更多信道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中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132480" indent="-1324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信道在不同的国家的使用会根据该国家法规而有所不同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26880" indent="-12564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美国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C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法规仅允许信道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-11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被使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26880" indent="-12564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欧洲，允许信道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-13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被使用（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经常被配置）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26880" indent="-12564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日本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-14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被允许使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26880" indent="-12564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中国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-13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被允许使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51960" y="11142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无线技术，是一种短距离无线传输技术，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是全世界公开通用使用的无线频段，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下工作可以获得更大的使用范围和更强的抗干扰能力，目前广泛应用于家用及商用领域。它整体的频宽胜于其他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S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，这就提高了整体数据传输速率，允许系统共存，允许双向传输，且抗干扰性强，传输距离远（短距离无线技术范围）。随着越来越多的技术选择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，逐渐使得该频段日益拥挤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由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带已经被到处使用，采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频带让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具有更少冲突的优点。不过高载波频率也带来了负面效果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几乎被限制在直线范围内使用，这导致必须使用更多的接入点，同样还意味着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不能传播得像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那么远，因为它更容易被吸收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IEEE 802.11 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标准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47" name="图片 20501" descr="F3I2{(6~$3D4GGBB87X%}F8"/>
          <p:cNvPicPr/>
          <p:nvPr/>
        </p:nvPicPr>
        <p:blipFill>
          <a:blip r:embed="rId1"/>
          <a:stretch/>
        </p:blipFill>
        <p:spPr>
          <a:xfrm>
            <a:off x="247680" y="1081080"/>
            <a:ext cx="8610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23440" y="8395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EEE 802.11b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是无线局域网的一个标准。其工作频率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传送速度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11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。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EEE 802.11b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是所有无线局域网标准中最著名，也是普及最广的标准。在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.4GHz ISM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频段共有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14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个频宽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2MHz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的频道可供使用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EEE 802.11g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工作频率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原始数据传输率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54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实际传输速度约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4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。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g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的设备与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b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兼容。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g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是为了更高的传输速率而制定的标准，它采用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频段，使用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CCK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技术与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b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后向兼容，同时它又通过采用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OFDM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技术支持高达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54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的数据流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EEE 802.11a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是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原始标准的一个修订标准，于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1999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年获得批准。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a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标准采用了与原始标准相同的核心协议，工作频率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使用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52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个正交频分多路复用子载波，最大原始数据传输速率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54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。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a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支持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54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48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36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24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18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12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9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6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八种不同的传输速率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EEE 802.11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数据传输速度最高可达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600Mb/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（需要在物理层产生更高速度的传输率），也将会使无线网络能够传送到更远的距离， 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增加了对于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IMO(multiple-input multiple-output)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的标准。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MIMO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使用多个发射和接收天线来允许更高的资料传输率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Lenovo</cp:lastModifiedBy>
  <dcterms:modified xsi:type="dcterms:W3CDTF">2020-03-10T07:30:49Z</dcterms:modified>
  <cp:revision>93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  <property fmtid="{D5CDD505-2E9C-101B-9397-08002B2CF9AE}" pid="3" name="_ms_pID_725343">
    <vt:lpwstr>(4)DDSKnQeHkZYvrlHWEWgAaMGEeJyoiX2BzuCCSWMP/5Ew8cydmDNrOsE3m8JpaCp44+gG2194
A++A5XRu/L/rTHOxnOAYi/yuAW0xCKdf8/hi6tLKk0CXM96qx0zuCuKmapY1xRyPpJldOPKK
lnGoRVVeopiLjY0Chk5inwNbjcGcRNtuyEcDFj0EzCucnyHDzC9N9qlilmD8jwF7GU+6A6BQ
iStLmFZgQvgGSAchcD</vt:lpwstr>
  </property>
  <property fmtid="{D5CDD505-2E9C-101B-9397-08002B2CF9AE}" pid="4" name="_ms_pID_7253431">
    <vt:lpwstr>OPE9tKZ39ddiewois3lTjqj3gEK9d8as+g1czYOzrO4hluGyFzX4oX
/9CkEFwTbbiMmU2xZCyS/vnJ+EgyGVfEbmYt8uNgTk0jNqjf3OE5l9rDQgp8TOOdecpPCac2
m5xH39ujaTEfvfQbRslkKEFaJGIDkopcKtXVZxwxOmMdPBol2hrnYaBjnJy36ttlX1xXGQJL
DuJxcNl17OwkPAMF6h9vbsHrIEcbUYwX+m3+</vt:lpwstr>
  </property>
  <property fmtid="{D5CDD505-2E9C-101B-9397-08002B2CF9AE}" pid="5" name="_ms_pID_7253432">
    <vt:lpwstr>h/NkUwEp2wqkcMzso6wKQZKzIrwXI3rpJfUW
+ecCyOxbDt9d3KBPZ2LRXYR2U8Jj8LZLvPYwthDIva3kngt5DFNg2qPJwQeCHvYiFvg4V/xB
vQU58D+9TD9GmDUEiLRpkqupGBP0sxve9BfZUfzYvU7ZYYHT7RvnrG/Kcrs22MZjQ2rsvrt6
Z/ojMlLHjPWz/k62FDVhbDBgb79jiX5sqivfy4cYOE2ZGZJBkvSVxz</vt:lpwstr>
  </property>
  <property fmtid="{D5CDD505-2E9C-101B-9397-08002B2CF9AE}" pid="6" name="_ms_pID_7253433">
    <vt:lpwstr>esiKnKPTnzlXmCz0L6
drYdiqdHYAEN71aUnBv2yyyPdQrShs9vBJkL2U/SKWHoKjVQXsfYK+Y3G5qNFCYSNqu1R8sq
OLgxxz2TSNj8T7DOyGURi5BoXvK2V6eYz+1es6+eGCFnaFLJgEN6Tefdb1c2MKnLOs4ZNxCf
QqufT0z97qYHS1NVwOAm3M5ZJlIEAb5xK8KtHATe98jNpw7+UJEx2Q==</vt:lpwstr>
  </property>
  <property fmtid="{D5CDD505-2E9C-101B-9397-08002B2CF9AE}" pid="7" name="sflag">
    <vt:lpwstr>1356060140</vt:lpwstr>
  </property>
</Properties>
</file>