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41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3.png" ContentType="image/png"/>
  <Override PartName="/ppt/media/image55.png" ContentType="image/png"/>
  <Override PartName="/ppt/media/image32.png" ContentType="image/png"/>
  <Override PartName="/ppt/media/image44.png" ContentType="image/png"/>
  <Override PartName="/ppt/media/image56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5.wmf" ContentType="image/x-wmf"/>
  <Override PartName="/ppt/media/image54.png" ContentType="image/png"/>
  <Override PartName="/ppt/media/image36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1"/>
          </p:nvPr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-</a:t>
            </a:r>
            <a:fld id="{8F8B0CBC-7D58-48A5-A2EC-F25F9C211F1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2"/>
          </p:nvPr>
        </p:nvSpPr>
        <p:spPr>
          <a:xfrm>
            <a:off x="161748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2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6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7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AFEA3EE-91D7-4A58-8622-F02C2EEDF1D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14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60069DAC-704C-43E0-99A1-51B2698BF6D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19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CCF6EB79-EF42-49A4-A2BF-F0A9F0249C3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24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357DEE51-4E50-4FF0-8362-05CDB6F2D3C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29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F9E9BFDA-6918-4831-9686-43271D11AC5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981A2E5-AAB0-46A6-BE9F-DA8C43F06DC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39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A280F4F6-0F8C-4EAD-9092-0CCE0776713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44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8782C6F-CF44-492C-97F2-FCAF7CA3C69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49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F91CB412-CB7E-4FB4-8210-CAE542A5FA8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1605D7FF-1489-48B5-951E-06F177AD3E9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59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62C31619-9DD0-4364-B44A-E2898CBF3C1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7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2D2B5E3-7E78-4295-B2AC-282079F583C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urs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6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68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A8A3904E-47EC-46D6-B3EF-490D8A52663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3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9D575AEF-0C92-4470-A754-804CB6D121B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8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E564FFD1-B5CE-4867-8B75-7D173CF5657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E72E660-BFAD-433C-8408-C5143020C1C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8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89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ED72411C-ED83-4D19-A184-5C8FA8FE3E5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94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37165F42-A51B-4828-A3C2-664347D80C8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99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E6079B0F-F7D3-428F-8EC7-4C07FEA65D4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04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0902187E-7C3D-479A-8413-6CA30FF738B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09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5642AF3A-DC58-47C2-BD52-1844B6883CE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5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40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1983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7.png"/><Relationship Id="rId5" Type="http://schemas.openxmlformats.org/officeDocument/2006/relationships/image" Target="../media/image34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20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7.png"/><Relationship Id="rId5" Type="http://schemas.openxmlformats.org/officeDocument/2006/relationships/image" Target="../media/image34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20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41.png"/><Relationship Id="rId12" Type="http://schemas.openxmlformats.org/officeDocument/2006/relationships/image" Target="../media/image21.png"/><Relationship Id="rId13" Type="http://schemas.openxmlformats.org/officeDocument/2006/relationships/image" Target="../media/image23.png"/><Relationship Id="rId14" Type="http://schemas.openxmlformats.org/officeDocument/2006/relationships/image" Target="../media/image38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4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7.png"/><Relationship Id="rId5" Type="http://schemas.openxmlformats.org/officeDocument/2006/relationships/image" Target="../media/image34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20.png"/><Relationship Id="rId9" Type="http://schemas.openxmlformats.org/officeDocument/2006/relationships/image" Target="../media/image46.png"/><Relationship Id="rId10" Type="http://schemas.openxmlformats.org/officeDocument/2006/relationships/image" Target="../media/image36.png"/><Relationship Id="rId11" Type="http://schemas.openxmlformats.org/officeDocument/2006/relationships/image" Target="../media/image47.png"/><Relationship Id="rId12" Type="http://schemas.openxmlformats.org/officeDocument/2006/relationships/image" Target="../media/image21.png"/><Relationship Id="rId13" Type="http://schemas.openxmlformats.org/officeDocument/2006/relationships/image" Target="../media/image23.png"/><Relationship Id="rId14" Type="http://schemas.openxmlformats.org/officeDocument/2006/relationships/image" Target="../media/image13.png"/><Relationship Id="rId15" Type="http://schemas.openxmlformats.org/officeDocument/2006/relationships/image" Target="../media/image4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3.png"/><Relationship Id="rId5" Type="http://schemas.openxmlformats.org/officeDocument/2006/relationships/image" Target="../media/image34.png"/><Relationship Id="rId6" Type="http://schemas.openxmlformats.org/officeDocument/2006/relationships/image" Target="../media/image17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5.png"/><Relationship Id="rId3" Type="http://schemas.openxmlformats.org/officeDocument/2006/relationships/image" Target="../media/image14.wmf"/><Relationship Id="rId4" Type="http://schemas.openxmlformats.org/officeDocument/2006/relationships/image" Target="../media/image1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28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</a:rPr>
              <a:t>WLAN</a:t>
            </a:r>
            <a:r>
              <a:rPr b="0" lang="zh-CN" sz="4000" spc="-1" strike="noStrike">
                <a:solidFill>
                  <a:srgbClr val="ffffff"/>
                </a:solidFill>
                <a:latin typeface="FrutigerNext LT Medium"/>
              </a:rPr>
              <a:t>安全介绍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WIDS/WIPS</a:t>
            </a: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概念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DS(Wireless Intrusion Detection System)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无线入侵检测系统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PS(Wireless Intrusion Prevention System)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无线入侵保护系统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根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规模的不同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S/WI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功能可以分为下面几个方面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针对家庭网络或者小型企业：基于黑白名单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入控制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针对中小型企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击检测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针对大中型企业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u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备监测、识别、防范、反制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直接连接符 36" descr=""/>
          <p:cNvPicPr/>
          <p:nvPr/>
        </p:nvPicPr>
        <p:blipFill>
          <a:blip r:embed="rId1"/>
          <a:stretch/>
        </p:blipFill>
        <p:spPr>
          <a:xfrm>
            <a:off x="3749760" y="2865600"/>
            <a:ext cx="950760" cy="877680"/>
          </a:xfrm>
          <a:prstGeom prst="rect">
            <a:avLst/>
          </a:prstGeom>
          <a:ln w="0">
            <a:noFill/>
          </a:ln>
        </p:spPr>
      </p:pic>
      <p:pic>
        <p:nvPicPr>
          <p:cNvPr id="1589" name="直接连接符 38" descr=""/>
          <p:cNvPicPr/>
          <p:nvPr/>
        </p:nvPicPr>
        <p:blipFill>
          <a:blip r:embed="rId2"/>
          <a:stretch/>
        </p:blipFill>
        <p:spPr>
          <a:xfrm>
            <a:off x="4863960" y="2835360"/>
            <a:ext cx="982800" cy="950760"/>
          </a:xfrm>
          <a:prstGeom prst="rect">
            <a:avLst/>
          </a:prstGeom>
          <a:ln w="0">
            <a:noFill/>
          </a:ln>
        </p:spPr>
      </p:pic>
      <p:pic>
        <p:nvPicPr>
          <p:cNvPr id="1590" name="直接连接符 17" descr=""/>
          <p:cNvPicPr/>
          <p:nvPr/>
        </p:nvPicPr>
        <p:blipFill>
          <a:blip r:embed="rId3"/>
          <a:stretch/>
        </p:blipFill>
        <p:spPr>
          <a:xfrm>
            <a:off x="4675320" y="1901880"/>
            <a:ext cx="55440" cy="198756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Rogue</a:t>
            </a: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设备监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136"/>
          <p:cNvSpPr/>
          <p:nvPr/>
        </p:nvSpPr>
        <p:spPr>
          <a:xfrm>
            <a:off x="2552040" y="3384720"/>
            <a:ext cx="671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462" descr="图片241"/>
          <p:cNvPicPr/>
          <p:nvPr/>
        </p:nvPicPr>
        <p:blipFill>
          <a:blip r:embed="rId4"/>
          <a:stretch/>
        </p:blipFill>
        <p:spPr>
          <a:xfrm>
            <a:off x="3409920" y="3513240"/>
            <a:ext cx="582480" cy="61416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462" descr="图片152"/>
          <p:cNvPicPr/>
          <p:nvPr/>
        </p:nvPicPr>
        <p:blipFill>
          <a:blip r:embed="rId5"/>
          <a:stretch/>
        </p:blipFill>
        <p:spPr>
          <a:xfrm>
            <a:off x="4492800" y="1446120"/>
            <a:ext cx="457200" cy="701640"/>
          </a:xfrm>
          <a:prstGeom prst="rect">
            <a:avLst/>
          </a:prstGeom>
          <a:ln w="0">
            <a:noFill/>
          </a:ln>
        </p:spPr>
      </p:pic>
      <p:sp>
        <p:nvSpPr>
          <p:cNvPr id="1597" name="Rectangle 911"/>
          <p:cNvSpPr/>
          <p:nvPr/>
        </p:nvSpPr>
        <p:spPr>
          <a:xfrm>
            <a:off x="4967280" y="1663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462" descr="图片241"/>
          <p:cNvPicPr/>
          <p:nvPr/>
        </p:nvPicPr>
        <p:blipFill>
          <a:blip r:embed="rId6"/>
          <a:stretch/>
        </p:blipFill>
        <p:spPr>
          <a:xfrm>
            <a:off x="4403880" y="3635280"/>
            <a:ext cx="583920" cy="614520"/>
          </a:xfrm>
          <a:prstGeom prst="rect">
            <a:avLst/>
          </a:prstGeom>
          <a:ln w="0">
            <a:noFill/>
          </a:ln>
        </p:spPr>
      </p:pic>
      <p:sp>
        <p:nvSpPr>
          <p:cNvPr id="1599" name="Rectangle 136"/>
          <p:cNvSpPr/>
          <p:nvPr/>
        </p:nvSpPr>
        <p:spPr>
          <a:xfrm>
            <a:off x="4930200" y="3517920"/>
            <a:ext cx="717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Moni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462" descr="图片241"/>
          <p:cNvPicPr/>
          <p:nvPr/>
        </p:nvPicPr>
        <p:blipFill>
          <a:blip r:embed="rId7"/>
          <a:stretch/>
        </p:blipFill>
        <p:spPr>
          <a:xfrm>
            <a:off x="5602320" y="3584520"/>
            <a:ext cx="582480" cy="614520"/>
          </a:xfrm>
          <a:prstGeom prst="rect">
            <a:avLst/>
          </a:prstGeom>
          <a:ln w="0">
            <a:noFill/>
          </a:ln>
        </p:spPr>
      </p:pic>
      <p:sp>
        <p:nvSpPr>
          <p:cNvPr id="1601" name="Rectangle 136"/>
          <p:cNvSpPr/>
          <p:nvPr/>
        </p:nvSpPr>
        <p:spPr>
          <a:xfrm>
            <a:off x="6299280" y="3517920"/>
            <a:ext cx="81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Monit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237" descr="图片777"/>
          <p:cNvPicPr/>
          <p:nvPr/>
        </p:nvPicPr>
        <p:blipFill>
          <a:blip r:embed="rId8"/>
          <a:stretch/>
        </p:blipFill>
        <p:spPr>
          <a:xfrm>
            <a:off x="3946680" y="2482920"/>
            <a:ext cx="1598400" cy="695160"/>
          </a:xfrm>
          <a:prstGeom prst="rect">
            <a:avLst/>
          </a:prstGeom>
          <a:ln w="0">
            <a:noFill/>
          </a:ln>
        </p:spPr>
      </p:pic>
      <p:sp>
        <p:nvSpPr>
          <p:cNvPr id="1603" name="TextBox 15"/>
          <p:cNvSpPr/>
          <p:nvPr/>
        </p:nvSpPr>
        <p:spPr>
          <a:xfrm>
            <a:off x="4281480" y="2612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4" name="Picture 17" descr="无线覆盖"/>
          <p:cNvPicPr/>
          <p:nvPr/>
        </p:nvPicPr>
        <p:blipFill>
          <a:blip r:embed="rId9"/>
          <a:stretch/>
        </p:blipFill>
        <p:spPr>
          <a:xfrm>
            <a:off x="3017880" y="3992400"/>
            <a:ext cx="542880" cy="5558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7" descr="无线覆盖"/>
          <p:cNvPicPr/>
          <p:nvPr/>
        </p:nvPicPr>
        <p:blipFill>
          <a:blip r:embed="rId10"/>
          <a:stretch/>
        </p:blipFill>
        <p:spPr>
          <a:xfrm>
            <a:off x="4548240" y="4280040"/>
            <a:ext cx="371520" cy="4078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17" descr="无线覆盖"/>
          <p:cNvPicPr/>
          <p:nvPr/>
        </p:nvPicPr>
        <p:blipFill>
          <a:blip r:embed="rId11"/>
          <a:stretch/>
        </p:blipFill>
        <p:spPr>
          <a:xfrm>
            <a:off x="5694480" y="4237200"/>
            <a:ext cx="371520" cy="40140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1943" descr="图片686"/>
          <p:cNvPicPr/>
          <p:nvPr/>
        </p:nvPicPr>
        <p:blipFill>
          <a:blip r:embed="rId12"/>
          <a:stretch/>
        </p:blipFill>
        <p:spPr>
          <a:xfrm>
            <a:off x="2467080" y="4579920"/>
            <a:ext cx="739800" cy="50472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1943" descr="图片686"/>
          <p:cNvPicPr/>
          <p:nvPr/>
        </p:nvPicPr>
        <p:blipFill>
          <a:blip r:embed="rId13"/>
          <a:stretch/>
        </p:blipFill>
        <p:spPr>
          <a:xfrm>
            <a:off x="4027320" y="4964040"/>
            <a:ext cx="739800" cy="504720"/>
          </a:xfrm>
          <a:prstGeom prst="rect">
            <a:avLst/>
          </a:prstGeom>
          <a:ln w="0">
            <a:noFill/>
          </a:ln>
        </p:spPr>
      </p:pic>
      <p:pic>
        <p:nvPicPr>
          <p:cNvPr id="1609" name="Picture 338" descr="图片262"/>
          <p:cNvPicPr/>
          <p:nvPr/>
        </p:nvPicPr>
        <p:blipFill>
          <a:blip r:embed="rId14"/>
          <a:stretch/>
        </p:blipFill>
        <p:spPr>
          <a:xfrm>
            <a:off x="5162400" y="4908600"/>
            <a:ext cx="541440" cy="56664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589" descr="图片175"/>
          <p:cNvPicPr/>
          <p:nvPr/>
        </p:nvPicPr>
        <p:blipFill>
          <a:blip r:embed="rId15"/>
          <a:stretch/>
        </p:blipFill>
        <p:spPr>
          <a:xfrm>
            <a:off x="6361200" y="5025960"/>
            <a:ext cx="691920" cy="47628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17" descr="无线覆盖"/>
          <p:cNvPicPr/>
          <p:nvPr/>
        </p:nvPicPr>
        <p:blipFill>
          <a:blip r:embed="rId16"/>
          <a:stretch/>
        </p:blipFill>
        <p:spPr>
          <a:xfrm>
            <a:off x="5900760" y="4925880"/>
            <a:ext cx="439560" cy="408240"/>
          </a:xfrm>
          <a:prstGeom prst="rect">
            <a:avLst/>
          </a:prstGeom>
          <a:ln w="0">
            <a:noFill/>
          </a:ln>
        </p:spPr>
      </p:pic>
      <p:sp>
        <p:nvSpPr>
          <p:cNvPr id="1612" name="TextBox 30"/>
          <p:cNvSpPr/>
          <p:nvPr/>
        </p:nvSpPr>
        <p:spPr>
          <a:xfrm>
            <a:off x="6284880" y="5559480"/>
            <a:ext cx="13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非法客户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Box 31"/>
          <p:cNvSpPr/>
          <p:nvPr/>
        </p:nvSpPr>
        <p:spPr>
          <a:xfrm>
            <a:off x="4964040" y="5478480"/>
            <a:ext cx="121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非法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Box 32"/>
          <p:cNvSpPr/>
          <p:nvPr/>
        </p:nvSpPr>
        <p:spPr>
          <a:xfrm>
            <a:off x="2133720" y="5094360"/>
            <a:ext cx="142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d-hoc 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</a:rPr>
              <a:t>客户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17" descr="无线覆盖"/>
          <p:cNvPicPr/>
          <p:nvPr/>
        </p:nvPicPr>
        <p:blipFill>
          <a:blip r:embed="rId17"/>
          <a:stretch/>
        </p:blipFill>
        <p:spPr>
          <a:xfrm>
            <a:off x="3681360" y="4816440"/>
            <a:ext cx="500040" cy="46836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7" descr="无线覆盖"/>
          <p:cNvPicPr/>
          <p:nvPr/>
        </p:nvPicPr>
        <p:blipFill>
          <a:blip r:embed="rId18"/>
          <a:stretch/>
        </p:blipFill>
        <p:spPr>
          <a:xfrm>
            <a:off x="3224160" y="4657680"/>
            <a:ext cx="512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 txBox="1"/>
          <p:nvPr/>
        </p:nvSpPr>
        <p:spPr>
          <a:xfrm>
            <a:off x="651960" y="1376280"/>
            <a:ext cx="7929720" cy="6429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9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检测流程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Rogue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设备检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19" name="矩形 5"/>
          <p:cNvSpPr/>
          <p:nvPr/>
        </p:nvSpPr>
        <p:spPr>
          <a:xfrm>
            <a:off x="4138560" y="1771560"/>
            <a:ext cx="122868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流程图: 决策 6"/>
          <p:cNvSpPr/>
          <p:nvPr/>
        </p:nvSpPr>
        <p:spPr>
          <a:xfrm>
            <a:off x="3062160" y="2409840"/>
            <a:ext cx="3381480" cy="504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静态攻击列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流程图: 决策 7"/>
          <p:cNvSpPr/>
          <p:nvPr/>
        </p:nvSpPr>
        <p:spPr>
          <a:xfrm>
            <a:off x="3062160" y="3438360"/>
            <a:ext cx="3381480" cy="50508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允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地址列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流程图: 决策 8"/>
          <p:cNvSpPr/>
          <p:nvPr/>
        </p:nvSpPr>
        <p:spPr>
          <a:xfrm>
            <a:off x="3062160" y="4448160"/>
            <a:ext cx="3381480" cy="504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允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列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流程图: 决策 9"/>
          <p:cNvSpPr/>
          <p:nvPr/>
        </p:nvSpPr>
        <p:spPr>
          <a:xfrm>
            <a:off x="3062160" y="5448240"/>
            <a:ext cx="3381480" cy="504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允许厂商列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4" name="直接箭头连接符 11"/>
          <p:cNvCxnSpPr>
            <a:stCxn id="1619" idx="2"/>
            <a:endCxn id="1620" idx="0"/>
          </p:cNvCxnSpPr>
          <p:nvPr/>
        </p:nvCxnSpPr>
        <p:spPr>
          <a:xfrm flipH="1">
            <a:off x="4752360" y="2095200"/>
            <a:ext cx="1080" cy="31500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1625" name="直接箭头连接符 13"/>
          <p:cNvCxnSpPr>
            <a:stCxn id="1620" idx="2"/>
            <a:endCxn id="1621" idx="0"/>
          </p:cNvCxnSpPr>
          <p:nvPr/>
        </p:nvCxnSpPr>
        <p:spPr>
          <a:xfrm>
            <a:off x="4752720" y="2914200"/>
            <a:ext cx="1080" cy="5241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1626" name="直接箭头连接符 15"/>
          <p:cNvCxnSpPr>
            <a:stCxn id="1621" idx="2"/>
            <a:endCxn id="1622" idx="0"/>
          </p:cNvCxnSpPr>
          <p:nvPr/>
        </p:nvCxnSpPr>
        <p:spPr>
          <a:xfrm>
            <a:off x="4752720" y="3943440"/>
            <a:ext cx="1080" cy="50544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1627" name="直接箭头连接符 17"/>
          <p:cNvCxnSpPr>
            <a:stCxn id="1622" idx="2"/>
            <a:endCxn id="1623" idx="0"/>
          </p:cNvCxnSpPr>
          <p:nvPr/>
        </p:nvCxnSpPr>
        <p:spPr>
          <a:xfrm>
            <a:off x="4752720" y="4952880"/>
            <a:ext cx="1080" cy="49608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1628" name="矩形 18"/>
          <p:cNvSpPr/>
          <p:nvPr/>
        </p:nvSpPr>
        <p:spPr>
          <a:xfrm>
            <a:off x="7039080" y="5372280"/>
            <a:ext cx="1819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u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矩形 19"/>
          <p:cNvSpPr/>
          <p:nvPr/>
        </p:nvSpPr>
        <p:spPr>
          <a:xfrm>
            <a:off x="399960" y="5400720"/>
            <a:ext cx="18194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合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Frien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0" name="直接箭头连接符 27"/>
          <p:cNvCxnSpPr/>
          <p:nvPr/>
        </p:nvCxnSpPr>
        <p:spPr>
          <a:xfrm flipV="1">
            <a:off x="6443280" y="4699800"/>
            <a:ext cx="1500840" cy="108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1631" name="直接箭头连接符 29"/>
          <p:cNvCxnSpPr>
            <a:stCxn id="1623" idx="3"/>
            <a:endCxn id="1628" idx="1"/>
          </p:cNvCxnSpPr>
          <p:nvPr/>
        </p:nvCxnSpPr>
        <p:spPr>
          <a:xfrm flipV="1">
            <a:off x="6443640" y="5695200"/>
            <a:ext cx="596160" cy="108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1632" name="TextBox 30"/>
          <p:cNvSpPr/>
          <p:nvPr/>
        </p:nvSpPr>
        <p:spPr>
          <a:xfrm>
            <a:off x="6858000" y="23716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存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Box 31"/>
          <p:cNvSpPr/>
          <p:nvPr/>
        </p:nvSpPr>
        <p:spPr>
          <a:xfrm>
            <a:off x="6800760" y="438156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存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Box 32"/>
          <p:cNvSpPr/>
          <p:nvPr/>
        </p:nvSpPr>
        <p:spPr>
          <a:xfrm>
            <a:off x="6276960" y="533232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存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5" name="直接箭头连接符 34"/>
          <p:cNvCxnSpPr>
            <a:stCxn id="1623" idx="1"/>
            <a:endCxn id="1629" idx="3"/>
          </p:cNvCxnSpPr>
          <p:nvPr/>
        </p:nvCxnSpPr>
        <p:spPr>
          <a:xfrm flipH="1">
            <a:off x="2218680" y="5700240"/>
            <a:ext cx="843480" cy="108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1636" name="TextBox 35"/>
          <p:cNvSpPr/>
          <p:nvPr/>
        </p:nvSpPr>
        <p:spPr>
          <a:xfrm>
            <a:off x="2225520" y="511020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存在或列表未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36"/>
          <p:cNvSpPr/>
          <p:nvPr/>
        </p:nvSpPr>
        <p:spPr>
          <a:xfrm>
            <a:off x="4830840" y="502920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存在或列表未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8" name="形状 38"/>
          <p:cNvCxnSpPr/>
          <p:nvPr/>
        </p:nvCxnSpPr>
        <p:spPr>
          <a:xfrm flipV="1" rot="10800000">
            <a:off x="1308960" y="3699360"/>
            <a:ext cx="1753200" cy="1710360"/>
          </a:xfrm>
          <a:prstGeom prst="bentConnector2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1639" name="TextBox 39"/>
          <p:cNvSpPr/>
          <p:nvPr/>
        </p:nvSpPr>
        <p:spPr>
          <a:xfrm>
            <a:off x="1809720" y="33814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存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TextBox 40"/>
          <p:cNvSpPr/>
          <p:nvPr/>
        </p:nvSpPr>
        <p:spPr>
          <a:xfrm>
            <a:off x="4821120" y="4048200"/>
            <a:ext cx="166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存在或列表未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1" name="形状 45"/>
          <p:cNvCxnSpPr>
            <a:stCxn id="1620" idx="3"/>
            <a:endCxn id="1628" idx="0"/>
          </p:cNvCxnSpPr>
          <p:nvPr/>
        </p:nvCxnSpPr>
        <p:spPr>
          <a:xfrm>
            <a:off x="6443640" y="2662200"/>
            <a:ext cx="1505520" cy="2710800"/>
          </a:xfrm>
          <a:prstGeom prst="bentConnector2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非法客户端检测流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Rogue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设备检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44" name="矩形 5"/>
          <p:cNvSpPr/>
          <p:nvPr/>
        </p:nvSpPr>
        <p:spPr>
          <a:xfrm>
            <a:off x="4143240" y="1655640"/>
            <a:ext cx="1229040" cy="3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客户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流程图: 决策 6"/>
          <p:cNvSpPr/>
          <p:nvPr/>
        </p:nvSpPr>
        <p:spPr>
          <a:xfrm>
            <a:off x="3067200" y="2293920"/>
            <a:ext cx="3381120" cy="504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静态攻击列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流程图: 决策 7"/>
          <p:cNvSpPr/>
          <p:nvPr/>
        </p:nvSpPr>
        <p:spPr>
          <a:xfrm>
            <a:off x="3067200" y="3322800"/>
            <a:ext cx="3381120" cy="504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允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地址列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流程图: 决策 8"/>
          <p:cNvSpPr/>
          <p:nvPr/>
        </p:nvSpPr>
        <p:spPr>
          <a:xfrm>
            <a:off x="2933640" y="4332240"/>
            <a:ext cx="3648240" cy="7333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</a:rPr>
              <a:t>对客户端关联的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</a:rPr>
              <a:t>BSSID</a:t>
            </a:r>
            <a:r>
              <a:rPr b="0" lang="zh-CN" sz="1400" spc="-1" strike="noStrike">
                <a:solidFill>
                  <a:srgbClr val="000000"/>
                </a:solidFill>
                <a:latin typeface="FrutigerNext LT Regular"/>
              </a:rPr>
              <a:t>）进行检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8" name="直接箭头连接符 11"/>
          <p:cNvCxnSpPr>
            <a:stCxn id="1644" idx="2"/>
            <a:endCxn id="1645" idx="0"/>
          </p:cNvCxnSpPr>
          <p:nvPr/>
        </p:nvCxnSpPr>
        <p:spPr>
          <a:xfrm flipH="1">
            <a:off x="4757040" y="1979280"/>
            <a:ext cx="1080" cy="315000"/>
          </a:xfrm>
          <a:prstGeom prst="straightConnector1">
            <a:avLst/>
          </a:prstGeom>
          <a:ln w="9360">
            <a:solidFill>
              <a:srgbClr val="8a0000"/>
            </a:solidFill>
            <a:miter/>
            <a:tailEnd len="med" type="triangle" w="med"/>
          </a:ln>
        </p:spPr>
      </p:cxnSp>
      <p:cxnSp>
        <p:nvCxnSpPr>
          <p:cNvPr id="1649" name="直接箭头连接符 13"/>
          <p:cNvCxnSpPr>
            <a:stCxn id="1645" idx="2"/>
            <a:endCxn id="1646" idx="0"/>
          </p:cNvCxnSpPr>
          <p:nvPr/>
        </p:nvCxnSpPr>
        <p:spPr>
          <a:xfrm>
            <a:off x="4757400" y="2798640"/>
            <a:ext cx="1080" cy="52488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1650" name="直接箭头连接符 15"/>
          <p:cNvCxnSpPr>
            <a:stCxn id="1646" idx="2"/>
            <a:endCxn id="1647" idx="0"/>
          </p:cNvCxnSpPr>
          <p:nvPr/>
        </p:nvCxnSpPr>
        <p:spPr>
          <a:xfrm>
            <a:off x="4757400" y="3827520"/>
            <a:ext cx="1080" cy="50544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1651" name="矩形 18"/>
          <p:cNvSpPr/>
          <p:nvPr/>
        </p:nvSpPr>
        <p:spPr>
          <a:xfrm>
            <a:off x="7039080" y="5504040"/>
            <a:ext cx="1819080" cy="552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法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u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矩形 19"/>
          <p:cNvSpPr/>
          <p:nvPr/>
        </p:nvSpPr>
        <p:spPr>
          <a:xfrm>
            <a:off x="3848040" y="5532480"/>
            <a:ext cx="1819440" cy="552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合法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Friend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3" name="直接箭头连接符 27"/>
          <p:cNvCxnSpPr>
            <a:stCxn id="1647" idx="3"/>
          </p:cNvCxnSpPr>
          <p:nvPr/>
        </p:nvCxnSpPr>
        <p:spPr>
          <a:xfrm flipV="1">
            <a:off x="6581880" y="4693680"/>
            <a:ext cx="1334160" cy="108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1654" name="TextBox 30"/>
          <p:cNvSpPr/>
          <p:nvPr/>
        </p:nvSpPr>
        <p:spPr>
          <a:xfrm>
            <a:off x="6858000" y="225576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存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Box 31"/>
          <p:cNvSpPr/>
          <p:nvPr/>
        </p:nvSpPr>
        <p:spPr>
          <a:xfrm>
            <a:off x="6591240" y="4446720"/>
            <a:ext cx="120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为非法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Box 35"/>
          <p:cNvSpPr/>
          <p:nvPr/>
        </p:nvSpPr>
        <p:spPr>
          <a:xfrm>
            <a:off x="4714920" y="5199120"/>
            <a:ext cx="22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I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为合法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7" name="形状 38"/>
          <p:cNvCxnSpPr/>
          <p:nvPr/>
        </p:nvCxnSpPr>
        <p:spPr>
          <a:xfrm flipH="1" flipV="1" rot="10800000">
            <a:off x="3066120" y="3588120"/>
            <a:ext cx="781560" cy="2234520"/>
          </a:xfrm>
          <a:prstGeom prst="bentConnector3">
            <a:avLst>
              <a:gd name="adj1" fmla="val -29262"/>
            </a:avLst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1658" name="TextBox 39"/>
          <p:cNvSpPr/>
          <p:nvPr/>
        </p:nvSpPr>
        <p:spPr>
          <a:xfrm>
            <a:off x="2200320" y="394164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存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Box 40"/>
          <p:cNvSpPr/>
          <p:nvPr/>
        </p:nvSpPr>
        <p:spPr>
          <a:xfrm>
            <a:off x="4724280" y="3932280"/>
            <a:ext cx="19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存在或列表未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0" name="形状 33"/>
          <p:cNvCxnSpPr>
            <a:stCxn id="1645" idx="3"/>
            <a:endCxn id="1651" idx="0"/>
          </p:cNvCxnSpPr>
          <p:nvPr/>
        </p:nvCxnSpPr>
        <p:spPr>
          <a:xfrm>
            <a:off x="6447960" y="2546280"/>
            <a:ext cx="1500840" cy="2958480"/>
          </a:xfrm>
          <a:prstGeom prst="bentConnector2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1661" name="直接箭头连接符 53"/>
          <p:cNvCxnSpPr>
            <a:stCxn id="1647" idx="2"/>
            <a:endCxn id="1652" idx="0"/>
          </p:cNvCxnSpPr>
          <p:nvPr/>
        </p:nvCxnSpPr>
        <p:spPr>
          <a:xfrm>
            <a:off x="4757400" y="5065200"/>
            <a:ext cx="1080" cy="46764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62" name="直接箭头连接符 34"/>
          <p:cNvCxnSpPr/>
          <p:nvPr/>
        </p:nvCxnSpPr>
        <p:spPr>
          <a:xfrm>
            <a:off x="6081840" y="4122720"/>
            <a:ext cx="565920" cy="7833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1663" name="直接箭头连接符 36"/>
          <p:cNvCxnSpPr/>
          <p:nvPr/>
        </p:nvCxnSpPr>
        <p:spPr>
          <a:xfrm>
            <a:off x="4586040" y="4122360"/>
            <a:ext cx="160920" cy="129132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Rogue</a:t>
            </a: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设备防范、反制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6" name="直接连接符 5" descr=""/>
          <p:cNvPicPr/>
          <p:nvPr/>
        </p:nvPicPr>
        <p:blipFill>
          <a:blip r:embed="rId1"/>
          <a:stretch/>
        </p:blipFill>
        <p:spPr>
          <a:xfrm>
            <a:off x="3749760" y="2865600"/>
            <a:ext cx="950760" cy="877680"/>
          </a:xfrm>
          <a:prstGeom prst="rect">
            <a:avLst/>
          </a:prstGeom>
          <a:ln w="0">
            <a:noFill/>
          </a:ln>
        </p:spPr>
      </p:pic>
      <p:pic>
        <p:nvPicPr>
          <p:cNvPr id="1667" name="直接连接符 6" descr=""/>
          <p:cNvPicPr/>
          <p:nvPr/>
        </p:nvPicPr>
        <p:blipFill>
          <a:blip r:embed="rId2"/>
          <a:stretch/>
        </p:blipFill>
        <p:spPr>
          <a:xfrm>
            <a:off x="4863960" y="2835360"/>
            <a:ext cx="982800" cy="950760"/>
          </a:xfrm>
          <a:prstGeom prst="rect">
            <a:avLst/>
          </a:prstGeom>
          <a:ln w="0">
            <a:noFill/>
          </a:ln>
        </p:spPr>
      </p:pic>
      <p:pic>
        <p:nvPicPr>
          <p:cNvPr id="1668" name="直接连接符 7" descr=""/>
          <p:cNvPicPr/>
          <p:nvPr/>
        </p:nvPicPr>
        <p:blipFill>
          <a:blip r:embed="rId3"/>
          <a:stretch/>
        </p:blipFill>
        <p:spPr>
          <a:xfrm>
            <a:off x="4675320" y="1901880"/>
            <a:ext cx="55440" cy="1987560"/>
          </a:xfrm>
          <a:prstGeom prst="rect">
            <a:avLst/>
          </a:prstGeom>
          <a:ln w="0">
            <a:noFill/>
          </a:ln>
        </p:spPr>
      </p:pic>
      <p:sp>
        <p:nvSpPr>
          <p:cNvPr id="1669" name="Rectangle 136"/>
          <p:cNvSpPr/>
          <p:nvPr/>
        </p:nvSpPr>
        <p:spPr>
          <a:xfrm>
            <a:off x="2799360" y="3517920"/>
            <a:ext cx="595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0" name="Picture 462" descr="图片241"/>
          <p:cNvPicPr/>
          <p:nvPr/>
        </p:nvPicPr>
        <p:blipFill>
          <a:blip r:embed="rId4"/>
          <a:stretch/>
        </p:blipFill>
        <p:spPr>
          <a:xfrm>
            <a:off x="3409920" y="3513240"/>
            <a:ext cx="582480" cy="61416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462" descr="图片152"/>
          <p:cNvPicPr/>
          <p:nvPr/>
        </p:nvPicPr>
        <p:blipFill>
          <a:blip r:embed="rId5"/>
          <a:stretch/>
        </p:blipFill>
        <p:spPr>
          <a:xfrm>
            <a:off x="4492800" y="1446120"/>
            <a:ext cx="457200" cy="701640"/>
          </a:xfrm>
          <a:prstGeom prst="rect">
            <a:avLst/>
          </a:prstGeom>
          <a:ln w="0">
            <a:noFill/>
          </a:ln>
        </p:spPr>
      </p:pic>
      <p:sp>
        <p:nvSpPr>
          <p:cNvPr id="1672" name="Rectangle 911"/>
          <p:cNvSpPr/>
          <p:nvPr/>
        </p:nvSpPr>
        <p:spPr>
          <a:xfrm>
            <a:off x="4967280" y="1663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Picture 462" descr="图片241"/>
          <p:cNvPicPr/>
          <p:nvPr/>
        </p:nvPicPr>
        <p:blipFill>
          <a:blip r:embed="rId6"/>
          <a:stretch/>
        </p:blipFill>
        <p:spPr>
          <a:xfrm>
            <a:off x="4403880" y="3635280"/>
            <a:ext cx="583920" cy="614520"/>
          </a:xfrm>
          <a:prstGeom prst="rect">
            <a:avLst/>
          </a:prstGeom>
          <a:ln w="0">
            <a:noFill/>
          </a:ln>
        </p:spPr>
      </p:pic>
      <p:sp>
        <p:nvSpPr>
          <p:cNvPr id="1674" name="Rectangle 136"/>
          <p:cNvSpPr/>
          <p:nvPr/>
        </p:nvSpPr>
        <p:spPr>
          <a:xfrm>
            <a:off x="4991040" y="3589200"/>
            <a:ext cx="595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5" name="Picture 462" descr="图片241"/>
          <p:cNvPicPr/>
          <p:nvPr/>
        </p:nvPicPr>
        <p:blipFill>
          <a:blip r:embed="rId7"/>
          <a:stretch/>
        </p:blipFill>
        <p:spPr>
          <a:xfrm>
            <a:off x="5602320" y="3584520"/>
            <a:ext cx="582480" cy="614520"/>
          </a:xfrm>
          <a:prstGeom prst="rect">
            <a:avLst/>
          </a:prstGeom>
          <a:ln w="0">
            <a:noFill/>
          </a:ln>
        </p:spPr>
      </p:pic>
      <p:sp>
        <p:nvSpPr>
          <p:cNvPr id="1676" name="Rectangle 136"/>
          <p:cNvSpPr/>
          <p:nvPr/>
        </p:nvSpPr>
        <p:spPr>
          <a:xfrm>
            <a:off x="6181560" y="3749760"/>
            <a:ext cx="595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7" name="Picture 237" descr="图片777"/>
          <p:cNvPicPr/>
          <p:nvPr/>
        </p:nvPicPr>
        <p:blipFill>
          <a:blip r:embed="rId8"/>
          <a:stretch/>
        </p:blipFill>
        <p:spPr>
          <a:xfrm>
            <a:off x="3946680" y="2482920"/>
            <a:ext cx="1598400" cy="695160"/>
          </a:xfrm>
          <a:prstGeom prst="rect">
            <a:avLst/>
          </a:prstGeom>
          <a:ln w="0">
            <a:noFill/>
          </a:ln>
        </p:spPr>
      </p:pic>
      <p:sp>
        <p:nvSpPr>
          <p:cNvPr id="1678" name="TextBox 17"/>
          <p:cNvSpPr/>
          <p:nvPr/>
        </p:nvSpPr>
        <p:spPr>
          <a:xfrm>
            <a:off x="4281480" y="2612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9" name="Picture 17" descr="无线覆盖"/>
          <p:cNvPicPr/>
          <p:nvPr/>
        </p:nvPicPr>
        <p:blipFill>
          <a:blip r:embed="rId9"/>
          <a:stretch/>
        </p:blipFill>
        <p:spPr>
          <a:xfrm>
            <a:off x="3017880" y="3992400"/>
            <a:ext cx="542880" cy="555840"/>
          </a:xfrm>
          <a:prstGeom prst="rect">
            <a:avLst/>
          </a:prstGeom>
          <a:ln w="0">
            <a:noFill/>
          </a:ln>
        </p:spPr>
      </p:pic>
      <p:pic>
        <p:nvPicPr>
          <p:cNvPr id="1680" name="Picture 17" descr="无线覆盖"/>
          <p:cNvPicPr/>
          <p:nvPr/>
        </p:nvPicPr>
        <p:blipFill>
          <a:blip r:embed="rId10"/>
          <a:stretch/>
        </p:blipFill>
        <p:spPr>
          <a:xfrm>
            <a:off x="4548240" y="4280040"/>
            <a:ext cx="371520" cy="40788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17" descr="无线覆盖"/>
          <p:cNvPicPr/>
          <p:nvPr/>
        </p:nvPicPr>
        <p:blipFill>
          <a:blip r:embed="rId11"/>
          <a:stretch/>
        </p:blipFill>
        <p:spPr>
          <a:xfrm>
            <a:off x="5668920" y="4211640"/>
            <a:ext cx="420840" cy="45252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338" descr="图片262"/>
          <p:cNvPicPr/>
          <p:nvPr/>
        </p:nvPicPr>
        <p:blipFill>
          <a:blip r:embed="rId12"/>
          <a:stretch/>
        </p:blipFill>
        <p:spPr>
          <a:xfrm>
            <a:off x="5162400" y="4908600"/>
            <a:ext cx="541440" cy="56664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589" descr="图片175"/>
          <p:cNvPicPr/>
          <p:nvPr/>
        </p:nvPicPr>
        <p:blipFill>
          <a:blip r:embed="rId13"/>
          <a:stretch/>
        </p:blipFill>
        <p:spPr>
          <a:xfrm>
            <a:off x="6361200" y="5025960"/>
            <a:ext cx="691920" cy="47628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17" descr="无线覆盖"/>
          <p:cNvPicPr/>
          <p:nvPr/>
        </p:nvPicPr>
        <p:blipFill>
          <a:blip r:embed="rId14"/>
          <a:stretch/>
        </p:blipFill>
        <p:spPr>
          <a:xfrm>
            <a:off x="5900760" y="4925880"/>
            <a:ext cx="439560" cy="408240"/>
          </a:xfrm>
          <a:prstGeom prst="rect">
            <a:avLst/>
          </a:prstGeom>
          <a:ln w="0">
            <a:noFill/>
          </a:ln>
        </p:spPr>
      </p:pic>
      <p:sp>
        <p:nvSpPr>
          <p:cNvPr id="1685" name="TextBox 26"/>
          <p:cNvSpPr/>
          <p:nvPr/>
        </p:nvSpPr>
        <p:spPr>
          <a:xfrm>
            <a:off x="6284880" y="555948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非法用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TextBox 27"/>
          <p:cNvSpPr/>
          <p:nvPr/>
        </p:nvSpPr>
        <p:spPr>
          <a:xfrm>
            <a:off x="5000760" y="5478480"/>
            <a:ext cx="98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非法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2"/>
          <p:cNvSpPr/>
          <p:nvPr/>
        </p:nvSpPr>
        <p:spPr>
          <a:xfrm>
            <a:off x="5991120" y="4232160"/>
            <a:ext cx="10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假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除认证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31"/>
          <p:cNvSpPr/>
          <p:nvPr/>
        </p:nvSpPr>
        <p:spPr>
          <a:xfrm>
            <a:off x="4137120" y="4411800"/>
            <a:ext cx="110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仿冒非法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广播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除认证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9" name="Picture 1943" descr="图片686"/>
          <p:cNvPicPr/>
          <p:nvPr/>
        </p:nvPicPr>
        <p:blipFill>
          <a:blip r:embed="rId15"/>
          <a:stretch/>
        </p:blipFill>
        <p:spPr>
          <a:xfrm>
            <a:off x="2503440" y="4665600"/>
            <a:ext cx="739800" cy="504720"/>
          </a:xfrm>
          <a:prstGeom prst="rect">
            <a:avLst/>
          </a:prstGeom>
          <a:ln w="0">
            <a:noFill/>
          </a:ln>
        </p:spPr>
      </p:pic>
      <p:sp>
        <p:nvSpPr>
          <p:cNvPr id="1690" name="TextBox 30"/>
          <p:cNvSpPr/>
          <p:nvPr/>
        </p:nvSpPr>
        <p:spPr>
          <a:xfrm>
            <a:off x="2446200" y="5254560"/>
            <a:ext cx="7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客户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Rogue</a:t>
            </a: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设备反制的基本流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692" name="Picture 462" descr="图片241"/>
          <p:cNvPicPr/>
          <p:nvPr/>
        </p:nvPicPr>
        <p:blipFill>
          <a:blip r:embed="rId1"/>
          <a:stretch/>
        </p:blipFill>
        <p:spPr>
          <a:xfrm>
            <a:off x="1957320" y="2108160"/>
            <a:ext cx="709560" cy="747720"/>
          </a:xfrm>
          <a:prstGeom prst="rect">
            <a:avLst/>
          </a:prstGeom>
          <a:ln w="0">
            <a:noFill/>
          </a:ln>
        </p:spPr>
      </p:pic>
      <p:pic>
        <p:nvPicPr>
          <p:cNvPr id="1693" name="Picture 462" descr="图片152"/>
          <p:cNvPicPr/>
          <p:nvPr/>
        </p:nvPicPr>
        <p:blipFill>
          <a:blip r:embed="rId2"/>
          <a:stretch/>
        </p:blipFill>
        <p:spPr>
          <a:xfrm>
            <a:off x="5880240" y="1998720"/>
            <a:ext cx="672840" cy="1030320"/>
          </a:xfrm>
          <a:prstGeom prst="rect">
            <a:avLst/>
          </a:prstGeom>
          <a:ln w="0">
            <a:noFill/>
          </a:ln>
        </p:spPr>
      </p:pic>
      <p:pic>
        <p:nvPicPr>
          <p:cNvPr id="1694" name="直接连接符 6" descr=""/>
          <p:cNvPicPr/>
          <p:nvPr/>
        </p:nvPicPr>
        <p:blipFill>
          <a:blip r:embed="rId3"/>
          <a:stretch/>
        </p:blipFill>
        <p:spPr>
          <a:xfrm>
            <a:off x="2305080" y="2871720"/>
            <a:ext cx="60120" cy="2548080"/>
          </a:xfrm>
          <a:prstGeom prst="rect">
            <a:avLst/>
          </a:prstGeom>
          <a:ln w="0">
            <a:noFill/>
          </a:ln>
        </p:spPr>
      </p:pic>
      <p:pic>
        <p:nvPicPr>
          <p:cNvPr id="1695" name="直接连接符 7" descr=""/>
          <p:cNvPicPr/>
          <p:nvPr/>
        </p:nvPicPr>
        <p:blipFill>
          <a:blip r:embed="rId4"/>
          <a:stretch/>
        </p:blipFill>
        <p:spPr>
          <a:xfrm>
            <a:off x="6224760" y="2955960"/>
            <a:ext cx="53640" cy="2549520"/>
          </a:xfrm>
          <a:prstGeom prst="rect">
            <a:avLst/>
          </a:prstGeom>
          <a:ln w="0">
            <a:noFill/>
          </a:ln>
        </p:spPr>
      </p:pic>
      <p:sp>
        <p:nvSpPr>
          <p:cNvPr id="1696" name="矩形 8"/>
          <p:cNvSpPr/>
          <p:nvPr/>
        </p:nvSpPr>
        <p:spPr>
          <a:xfrm>
            <a:off x="5354640" y="3152880"/>
            <a:ext cx="1800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置反制模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7" name="直接箭头连接符 9" descr=""/>
          <p:cNvPicPr/>
          <p:nvPr/>
        </p:nvPicPr>
        <p:blipFill>
          <a:blip r:embed="rId5"/>
          <a:stretch/>
        </p:blipFill>
        <p:spPr>
          <a:xfrm>
            <a:off x="2206800" y="3797280"/>
            <a:ext cx="4065480" cy="257040"/>
          </a:xfrm>
          <a:prstGeom prst="rect">
            <a:avLst/>
          </a:prstGeom>
          <a:ln w="0">
            <a:noFill/>
          </a:ln>
        </p:spPr>
      </p:pic>
      <p:sp>
        <p:nvSpPr>
          <p:cNvPr id="1698" name="矩形 10"/>
          <p:cNvSpPr/>
          <p:nvPr/>
        </p:nvSpPr>
        <p:spPr>
          <a:xfrm>
            <a:off x="3425760" y="3584520"/>
            <a:ext cx="2016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发反制列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9" name="直接箭头连接符 11" descr=""/>
          <p:cNvPicPr/>
          <p:nvPr/>
        </p:nvPicPr>
        <p:blipFill>
          <a:blip r:embed="rId6"/>
          <a:stretch/>
        </p:blipFill>
        <p:spPr>
          <a:xfrm>
            <a:off x="2328840" y="4237200"/>
            <a:ext cx="4048200" cy="255600"/>
          </a:xfrm>
          <a:prstGeom prst="rect">
            <a:avLst/>
          </a:prstGeom>
          <a:ln w="0">
            <a:noFill/>
          </a:ln>
        </p:spPr>
      </p:pic>
      <p:sp>
        <p:nvSpPr>
          <p:cNvPr id="1700" name="TextBox 12"/>
          <p:cNvSpPr/>
          <p:nvPr/>
        </p:nvSpPr>
        <p:spPr>
          <a:xfrm>
            <a:off x="3749760" y="4017960"/>
            <a:ext cx="12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回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矩形 13"/>
          <p:cNvSpPr/>
          <p:nvPr/>
        </p:nvSpPr>
        <p:spPr>
          <a:xfrm>
            <a:off x="1467000" y="4714920"/>
            <a:ext cx="1866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进行反制处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14"/>
          <p:cNvSpPr/>
          <p:nvPr/>
        </p:nvSpPr>
        <p:spPr>
          <a:xfrm>
            <a:off x="2668680" y="2330280"/>
            <a:ext cx="55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Box 15"/>
          <p:cNvSpPr/>
          <p:nvPr/>
        </p:nvSpPr>
        <p:spPr>
          <a:xfrm>
            <a:off x="6595920" y="23972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IDS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攻击检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652320" y="1376280"/>
            <a:ext cx="3338640" cy="21369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lood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攻击检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eak IV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攻击检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poof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攻击检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7" name="直接连接符 7" descr=""/>
          <p:cNvPicPr/>
          <p:nvPr/>
        </p:nvPicPr>
        <p:blipFill>
          <a:blip r:embed="rId1"/>
          <a:stretch/>
        </p:blipFill>
        <p:spPr>
          <a:xfrm>
            <a:off x="3749760" y="2865600"/>
            <a:ext cx="950760" cy="877680"/>
          </a:xfrm>
          <a:prstGeom prst="rect">
            <a:avLst/>
          </a:prstGeom>
          <a:ln w="0">
            <a:noFill/>
          </a:ln>
        </p:spPr>
      </p:pic>
      <p:pic>
        <p:nvPicPr>
          <p:cNvPr id="1708" name="直接连接符 8" descr=""/>
          <p:cNvPicPr/>
          <p:nvPr/>
        </p:nvPicPr>
        <p:blipFill>
          <a:blip r:embed="rId2"/>
          <a:stretch/>
        </p:blipFill>
        <p:spPr>
          <a:xfrm>
            <a:off x="4863960" y="2835360"/>
            <a:ext cx="982800" cy="950760"/>
          </a:xfrm>
          <a:prstGeom prst="rect">
            <a:avLst/>
          </a:prstGeom>
          <a:ln w="0">
            <a:noFill/>
          </a:ln>
        </p:spPr>
      </p:pic>
      <p:pic>
        <p:nvPicPr>
          <p:cNvPr id="1709" name="直接连接符 9" descr=""/>
          <p:cNvPicPr/>
          <p:nvPr/>
        </p:nvPicPr>
        <p:blipFill>
          <a:blip r:embed="rId3"/>
          <a:stretch/>
        </p:blipFill>
        <p:spPr>
          <a:xfrm>
            <a:off x="4675320" y="1901880"/>
            <a:ext cx="55440" cy="1987560"/>
          </a:xfrm>
          <a:prstGeom prst="rect">
            <a:avLst/>
          </a:prstGeom>
          <a:ln w="0">
            <a:noFill/>
          </a:ln>
        </p:spPr>
      </p:pic>
      <p:sp>
        <p:nvSpPr>
          <p:cNvPr id="1710" name="Rectangle 136"/>
          <p:cNvSpPr/>
          <p:nvPr/>
        </p:nvSpPr>
        <p:spPr>
          <a:xfrm>
            <a:off x="3015720" y="3705120"/>
            <a:ext cx="33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1" name="Picture 462" descr="图片241"/>
          <p:cNvPicPr/>
          <p:nvPr/>
        </p:nvPicPr>
        <p:blipFill>
          <a:blip r:embed="rId4"/>
          <a:stretch/>
        </p:blipFill>
        <p:spPr>
          <a:xfrm>
            <a:off x="3409920" y="3513240"/>
            <a:ext cx="582480" cy="614160"/>
          </a:xfrm>
          <a:prstGeom prst="rect">
            <a:avLst/>
          </a:prstGeom>
          <a:ln w="0">
            <a:noFill/>
          </a:ln>
        </p:spPr>
      </p:pic>
      <p:pic>
        <p:nvPicPr>
          <p:cNvPr id="1712" name="Picture 462" descr="图片152"/>
          <p:cNvPicPr/>
          <p:nvPr/>
        </p:nvPicPr>
        <p:blipFill>
          <a:blip r:embed="rId5"/>
          <a:stretch/>
        </p:blipFill>
        <p:spPr>
          <a:xfrm>
            <a:off x="4492800" y="1446120"/>
            <a:ext cx="457200" cy="701640"/>
          </a:xfrm>
          <a:prstGeom prst="rect">
            <a:avLst/>
          </a:prstGeom>
          <a:ln w="0">
            <a:noFill/>
          </a:ln>
        </p:spPr>
      </p:pic>
      <p:sp>
        <p:nvSpPr>
          <p:cNvPr id="1713" name="Rectangle 911"/>
          <p:cNvSpPr/>
          <p:nvPr/>
        </p:nvSpPr>
        <p:spPr>
          <a:xfrm>
            <a:off x="4967280" y="1663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4" name="Picture 462" descr="图片241"/>
          <p:cNvPicPr/>
          <p:nvPr/>
        </p:nvPicPr>
        <p:blipFill>
          <a:blip r:embed="rId6"/>
          <a:stretch/>
        </p:blipFill>
        <p:spPr>
          <a:xfrm>
            <a:off x="4403880" y="3635280"/>
            <a:ext cx="583920" cy="614520"/>
          </a:xfrm>
          <a:prstGeom prst="rect">
            <a:avLst/>
          </a:prstGeom>
          <a:ln w="0">
            <a:noFill/>
          </a:ln>
        </p:spPr>
      </p:pic>
      <p:sp>
        <p:nvSpPr>
          <p:cNvPr id="1715" name="Rectangle 136"/>
          <p:cNvSpPr/>
          <p:nvPr/>
        </p:nvSpPr>
        <p:spPr>
          <a:xfrm>
            <a:off x="5047560" y="3822840"/>
            <a:ext cx="33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Picture 462" descr="图片241"/>
          <p:cNvPicPr/>
          <p:nvPr/>
        </p:nvPicPr>
        <p:blipFill>
          <a:blip r:embed="rId7"/>
          <a:stretch/>
        </p:blipFill>
        <p:spPr>
          <a:xfrm>
            <a:off x="5602320" y="3584520"/>
            <a:ext cx="582480" cy="61452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136"/>
          <p:cNvSpPr/>
          <p:nvPr/>
        </p:nvSpPr>
        <p:spPr>
          <a:xfrm>
            <a:off x="6208200" y="3822840"/>
            <a:ext cx="33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8" name="Picture 237" descr="图片777"/>
          <p:cNvPicPr/>
          <p:nvPr/>
        </p:nvPicPr>
        <p:blipFill>
          <a:blip r:embed="rId8"/>
          <a:stretch/>
        </p:blipFill>
        <p:spPr>
          <a:xfrm>
            <a:off x="3946680" y="2482920"/>
            <a:ext cx="1598400" cy="69516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19"/>
          <p:cNvSpPr/>
          <p:nvPr/>
        </p:nvSpPr>
        <p:spPr>
          <a:xfrm>
            <a:off x="4281480" y="2612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0" name="Picture 17" descr="无线覆盖"/>
          <p:cNvPicPr/>
          <p:nvPr/>
        </p:nvPicPr>
        <p:blipFill>
          <a:blip r:embed="rId9"/>
          <a:stretch/>
        </p:blipFill>
        <p:spPr>
          <a:xfrm>
            <a:off x="3273480" y="4114800"/>
            <a:ext cx="493560" cy="51264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17" descr="无线覆盖"/>
          <p:cNvPicPr/>
          <p:nvPr/>
        </p:nvPicPr>
        <p:blipFill>
          <a:blip r:embed="rId10"/>
          <a:stretch/>
        </p:blipFill>
        <p:spPr>
          <a:xfrm>
            <a:off x="4548240" y="4280040"/>
            <a:ext cx="371520" cy="407880"/>
          </a:xfrm>
          <a:prstGeom prst="rect">
            <a:avLst/>
          </a:prstGeom>
          <a:ln w="0">
            <a:noFill/>
          </a:ln>
        </p:spPr>
      </p:pic>
      <p:pic>
        <p:nvPicPr>
          <p:cNvPr id="1722" name="Picture 17" descr="无线覆盖"/>
          <p:cNvPicPr/>
          <p:nvPr/>
        </p:nvPicPr>
        <p:blipFill>
          <a:blip r:embed="rId11"/>
          <a:stretch/>
        </p:blipFill>
        <p:spPr>
          <a:xfrm>
            <a:off x="5943600" y="4151160"/>
            <a:ext cx="536400" cy="54936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338" descr="图片262"/>
          <p:cNvPicPr/>
          <p:nvPr/>
        </p:nvPicPr>
        <p:blipFill>
          <a:blip r:embed="rId12"/>
          <a:stretch/>
        </p:blipFill>
        <p:spPr>
          <a:xfrm>
            <a:off x="4611600" y="4894200"/>
            <a:ext cx="541440" cy="56520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589" descr="图片175"/>
          <p:cNvPicPr/>
          <p:nvPr/>
        </p:nvPicPr>
        <p:blipFill>
          <a:blip r:embed="rId13"/>
          <a:stretch/>
        </p:blipFill>
        <p:spPr>
          <a:xfrm>
            <a:off x="6245280" y="5025960"/>
            <a:ext cx="691920" cy="476280"/>
          </a:xfrm>
          <a:prstGeom prst="rect">
            <a:avLst/>
          </a:prstGeom>
          <a:ln w="0">
            <a:noFill/>
          </a:ln>
        </p:spPr>
      </p:pic>
      <p:sp>
        <p:nvSpPr>
          <p:cNvPr id="1725" name="TextBox 26"/>
          <p:cNvSpPr/>
          <p:nvPr/>
        </p:nvSpPr>
        <p:spPr>
          <a:xfrm>
            <a:off x="6183360" y="555948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恶意用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Box 27"/>
          <p:cNvSpPr/>
          <p:nvPr/>
        </p:nvSpPr>
        <p:spPr>
          <a:xfrm>
            <a:off x="4478400" y="5494320"/>
            <a:ext cx="98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恶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Picture 1943" descr="图片686"/>
          <p:cNvPicPr/>
          <p:nvPr/>
        </p:nvPicPr>
        <p:blipFill>
          <a:blip r:embed="rId14"/>
          <a:stretch/>
        </p:blipFill>
        <p:spPr>
          <a:xfrm>
            <a:off x="2655720" y="4665600"/>
            <a:ext cx="739800" cy="504720"/>
          </a:xfrm>
          <a:prstGeom prst="rect">
            <a:avLst/>
          </a:prstGeom>
          <a:ln w="0">
            <a:noFill/>
          </a:ln>
        </p:spPr>
      </p:pic>
      <p:sp>
        <p:nvSpPr>
          <p:cNvPr id="1728" name="TextBox 31"/>
          <p:cNvSpPr/>
          <p:nvPr/>
        </p:nvSpPr>
        <p:spPr>
          <a:xfrm>
            <a:off x="2598840" y="52545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客户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9" name="直接箭头连接符 35" descr=""/>
          <p:cNvPicPr/>
          <p:nvPr/>
        </p:nvPicPr>
        <p:blipFill>
          <a:blip r:embed="rId15"/>
          <a:stretch/>
        </p:blipFill>
        <p:spPr>
          <a:xfrm>
            <a:off x="6040440" y="4267080"/>
            <a:ext cx="457200" cy="933480"/>
          </a:xfrm>
          <a:prstGeom prst="rect">
            <a:avLst/>
          </a:prstGeom>
          <a:ln w="0">
            <a:noFill/>
          </a:ln>
        </p:spPr>
      </p:pic>
      <p:sp>
        <p:nvSpPr>
          <p:cNvPr id="1730" name="矩形 36"/>
          <p:cNvSpPr/>
          <p:nvPr/>
        </p:nvSpPr>
        <p:spPr>
          <a:xfrm>
            <a:off x="5545080" y="1495440"/>
            <a:ext cx="19591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恶意用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黑名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777777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"/>
                <a:ea typeface="Arial"/>
              </a:rPr>
              <a:t>WLAN</a:t>
            </a:r>
            <a:r>
              <a:rPr b="0" lang="zh-CN" sz="2200" spc="-1" strike="noStrike">
                <a:solidFill>
                  <a:srgbClr val="777777"/>
                </a:solidFill>
                <a:latin typeface="Arial"/>
                <a:ea typeface="Arial"/>
              </a:rPr>
              <a:t>安全威胁简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"/>
                <a:ea typeface="Arial"/>
              </a:rPr>
              <a:t>WIDS/WIPS</a:t>
            </a:r>
            <a:r>
              <a:rPr b="0" lang="zh-CN" sz="2200" spc="-1" strike="noStrike">
                <a:solidFill>
                  <a:srgbClr val="777777"/>
                </a:solidFill>
                <a:latin typeface="Arial"/>
                <a:ea typeface="Arial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A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33" name="Picture 16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矩形 26"/>
          <p:cNvSpPr/>
          <p:nvPr/>
        </p:nvSpPr>
        <p:spPr>
          <a:xfrm>
            <a:off x="2724120" y="4581360"/>
            <a:ext cx="3095640" cy="16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AAA</a:t>
            </a: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Authorization Accoun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是一种提供认证、授权和计费的技术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认证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验证用户是否可以获得访问权，确定哪些用户可以访问网络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授权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a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授权用户可以使用哪些服务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计费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记录用户使用网络资源的情况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37" name="Picture 2022" descr="图片247"/>
          <p:cNvPicPr/>
          <p:nvPr/>
        </p:nvPicPr>
        <p:blipFill>
          <a:blip r:embed="rId1"/>
          <a:stretch/>
        </p:blipFill>
        <p:spPr>
          <a:xfrm>
            <a:off x="6694560" y="4100400"/>
            <a:ext cx="633240" cy="974880"/>
          </a:xfrm>
          <a:prstGeom prst="rect">
            <a:avLst/>
          </a:prstGeom>
          <a:ln w="0">
            <a:noFill/>
          </a:ln>
        </p:spPr>
      </p:pic>
      <p:pic>
        <p:nvPicPr>
          <p:cNvPr id="1738" name="直接连接符 11" descr=""/>
          <p:cNvPicPr/>
          <p:nvPr/>
        </p:nvPicPr>
        <p:blipFill>
          <a:blip r:embed="rId2"/>
          <a:stretch/>
        </p:blipFill>
        <p:spPr>
          <a:xfrm>
            <a:off x="5370480" y="4559400"/>
            <a:ext cx="1347840" cy="774720"/>
          </a:xfrm>
          <a:prstGeom prst="rect">
            <a:avLst/>
          </a:prstGeom>
          <a:ln w="0">
            <a:noFill/>
          </a:ln>
        </p:spPr>
      </p:pic>
      <p:pic>
        <p:nvPicPr>
          <p:cNvPr id="1739" name="直接连接符 13" descr=""/>
          <p:cNvPicPr/>
          <p:nvPr/>
        </p:nvPicPr>
        <p:blipFill>
          <a:blip r:embed="rId3"/>
          <a:stretch/>
        </p:blipFill>
        <p:spPr>
          <a:xfrm>
            <a:off x="5370480" y="5278320"/>
            <a:ext cx="1347840" cy="609840"/>
          </a:xfrm>
          <a:prstGeom prst="rect">
            <a:avLst/>
          </a:prstGeom>
          <a:ln w="0">
            <a:noFill/>
          </a:ln>
        </p:spPr>
      </p:pic>
      <p:sp>
        <p:nvSpPr>
          <p:cNvPr id="1740" name="TextBox 19"/>
          <p:cNvSpPr/>
          <p:nvPr/>
        </p:nvSpPr>
        <p:spPr>
          <a:xfrm>
            <a:off x="3343320" y="4276800"/>
            <a:ext cx="19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客户端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服务器架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Box 20"/>
          <p:cNvSpPr/>
          <p:nvPr/>
        </p:nvSpPr>
        <p:spPr>
          <a:xfrm>
            <a:off x="7400880" y="4438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证服务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2" name="Picture 1943" descr="图片686"/>
          <p:cNvPicPr/>
          <p:nvPr/>
        </p:nvPicPr>
        <p:blipFill>
          <a:blip r:embed="rId4"/>
          <a:stretch/>
        </p:blipFill>
        <p:spPr>
          <a:xfrm>
            <a:off x="1004760" y="4888080"/>
            <a:ext cx="1090800" cy="74268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462" descr="图片152"/>
          <p:cNvPicPr/>
          <p:nvPr/>
        </p:nvPicPr>
        <p:blipFill>
          <a:blip r:embed="rId5"/>
          <a:stretch/>
        </p:blipFill>
        <p:spPr>
          <a:xfrm>
            <a:off x="4684680" y="4765680"/>
            <a:ext cx="701640" cy="107316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462" descr="图片241"/>
          <p:cNvPicPr/>
          <p:nvPr/>
        </p:nvPicPr>
        <p:blipFill>
          <a:blip r:embed="rId6"/>
          <a:stretch/>
        </p:blipFill>
        <p:spPr>
          <a:xfrm>
            <a:off x="3005280" y="4881600"/>
            <a:ext cx="792000" cy="834840"/>
          </a:xfrm>
          <a:prstGeom prst="rect">
            <a:avLst/>
          </a:prstGeom>
          <a:ln w="0">
            <a:noFill/>
          </a:ln>
        </p:spPr>
      </p:pic>
      <p:pic>
        <p:nvPicPr>
          <p:cNvPr id="1745" name="直接连接符 22" descr=""/>
          <p:cNvPicPr/>
          <p:nvPr/>
        </p:nvPicPr>
        <p:blipFill>
          <a:blip r:embed="rId7"/>
          <a:stretch/>
        </p:blipFill>
        <p:spPr>
          <a:xfrm>
            <a:off x="3780000" y="5273640"/>
            <a:ext cx="920520" cy="5400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17" descr="无线覆盖"/>
          <p:cNvPicPr/>
          <p:nvPr/>
        </p:nvPicPr>
        <p:blipFill>
          <a:blip r:embed="rId8"/>
          <a:stretch/>
        </p:blipFill>
        <p:spPr>
          <a:xfrm>
            <a:off x="2090880" y="4913280"/>
            <a:ext cx="785520" cy="719280"/>
          </a:xfrm>
          <a:prstGeom prst="rect">
            <a:avLst/>
          </a:prstGeom>
          <a:ln w="0">
            <a:noFill/>
          </a:ln>
        </p:spPr>
      </p:pic>
      <p:sp>
        <p:nvSpPr>
          <p:cNvPr id="1747" name="TextBox 24"/>
          <p:cNvSpPr/>
          <p:nvPr/>
        </p:nvSpPr>
        <p:spPr>
          <a:xfrm>
            <a:off x="952560" y="58960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证客户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Box 25"/>
          <p:cNvSpPr/>
          <p:nvPr/>
        </p:nvSpPr>
        <p:spPr>
          <a:xfrm>
            <a:off x="3733920" y="5867280"/>
            <a:ext cx="11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证系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9" name="Picture 237" descr="图片777"/>
          <p:cNvPicPr/>
          <p:nvPr/>
        </p:nvPicPr>
        <p:blipFill>
          <a:blip r:embed="rId9"/>
          <a:stretch/>
        </p:blipFill>
        <p:spPr>
          <a:xfrm>
            <a:off x="6404040" y="5473800"/>
            <a:ext cx="1386000" cy="603000"/>
          </a:xfrm>
          <a:prstGeom prst="rect">
            <a:avLst/>
          </a:prstGeom>
          <a:ln w="0">
            <a:noFill/>
          </a:ln>
        </p:spPr>
      </p:pic>
      <p:sp>
        <p:nvSpPr>
          <p:cNvPr id="1750" name="TextBox 27"/>
          <p:cNvSpPr/>
          <p:nvPr/>
        </p:nvSpPr>
        <p:spPr>
          <a:xfrm>
            <a:off x="6662880" y="55656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RADIUS </a:t>
            </a: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服务简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651960" y="1375920"/>
            <a:ext cx="7929720" cy="1933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Authentication Dial-In User Servi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远程认证拨号用户服务）是一种分布式的、客户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服务器结构的服务方式，能保护网络不受未授权访问的干扰，常被应用在既要求较高安全性、又要求控制远程用户访问权限的各种网络环境中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53" name="Freeform 2"/>
          <p:cNvSpPr/>
          <p:nvPr/>
        </p:nvSpPr>
        <p:spPr>
          <a:xfrm>
            <a:off x="2000160" y="3648240"/>
            <a:ext cx="2700360" cy="1779480"/>
          </a:xfrm>
          <a:custGeom>
            <a:avLst/>
            <a:gdLst/>
            <a:ahLst/>
            <a:rect l="l" t="t" r="r" b="b"/>
            <a:pathLst>
              <a:path w="2649" h="2092">
                <a:moveTo>
                  <a:pt x="2648" y="0"/>
                </a:moveTo>
                <a:lnTo>
                  <a:pt x="0" y="0"/>
                </a:lnTo>
                <a:lnTo>
                  <a:pt x="3" y="2092"/>
                </a:lnTo>
                <a:lnTo>
                  <a:pt x="2649" y="1092"/>
                </a:lnTo>
                <a:lnTo>
                  <a:pt x="2648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3"/>
          <p:cNvSpPr/>
          <p:nvPr/>
        </p:nvSpPr>
        <p:spPr>
          <a:xfrm>
            <a:off x="2000160" y="4630680"/>
            <a:ext cx="5492880" cy="1109880"/>
          </a:xfrm>
          <a:custGeom>
            <a:avLst/>
            <a:gdLst/>
            <a:ahLst/>
            <a:rect l="l" t="t" r="r" b="b"/>
            <a:pathLst>
              <a:path w="5389" h="1434">
                <a:moveTo>
                  <a:pt x="0" y="1115"/>
                </a:moveTo>
                <a:lnTo>
                  <a:pt x="3" y="1434"/>
                </a:lnTo>
                <a:lnTo>
                  <a:pt x="5389" y="1434"/>
                </a:lnTo>
                <a:lnTo>
                  <a:pt x="5389" y="1096"/>
                </a:lnTo>
                <a:lnTo>
                  <a:pt x="2695" y="0"/>
                </a:lnTo>
                <a:lnTo>
                  <a:pt x="0" y="111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Freeform 4"/>
          <p:cNvSpPr/>
          <p:nvPr/>
        </p:nvSpPr>
        <p:spPr>
          <a:xfrm flipH="1">
            <a:off x="4793400" y="3648240"/>
            <a:ext cx="2698920" cy="1779480"/>
          </a:xfrm>
          <a:custGeom>
            <a:avLst/>
            <a:gdLst/>
            <a:ahLst/>
            <a:rect l="l" t="t" r="r" b="b"/>
            <a:pathLst>
              <a:path w="2649" h="2092">
                <a:moveTo>
                  <a:pt x="2648" y="0"/>
                </a:moveTo>
                <a:lnTo>
                  <a:pt x="0" y="0"/>
                </a:lnTo>
                <a:lnTo>
                  <a:pt x="3" y="2092"/>
                </a:lnTo>
                <a:lnTo>
                  <a:pt x="2649" y="1092"/>
                </a:lnTo>
                <a:lnTo>
                  <a:pt x="2648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00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 Box 5"/>
          <p:cNvSpPr/>
          <p:nvPr/>
        </p:nvSpPr>
        <p:spPr>
          <a:xfrm flipH="1">
            <a:off x="3944160" y="4591800"/>
            <a:ext cx="16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7" name="Group 6" descr=""/>
          <p:cNvPicPr/>
          <p:nvPr/>
        </p:nvPicPr>
        <p:blipFill>
          <a:blip r:embed="rId1"/>
          <a:stretch/>
        </p:blipFill>
        <p:spPr>
          <a:xfrm>
            <a:off x="3797280" y="4316400"/>
            <a:ext cx="1938240" cy="804960"/>
          </a:xfrm>
          <a:prstGeom prst="rect">
            <a:avLst/>
          </a:prstGeom>
          <a:ln w="0">
            <a:noFill/>
          </a:ln>
        </p:spPr>
      </p:pic>
      <p:sp>
        <p:nvSpPr>
          <p:cNvPr id="1758" name="TextBox 14"/>
          <p:cNvSpPr/>
          <p:nvPr/>
        </p:nvSpPr>
        <p:spPr>
          <a:xfrm>
            <a:off x="3962520" y="45244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Box 15"/>
          <p:cNvSpPr/>
          <p:nvPr/>
        </p:nvSpPr>
        <p:spPr>
          <a:xfrm>
            <a:off x="2495520" y="428616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客户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Box 16"/>
          <p:cNvSpPr/>
          <p:nvPr/>
        </p:nvSpPr>
        <p:spPr>
          <a:xfrm>
            <a:off x="6029280" y="428616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Box 17"/>
          <p:cNvSpPr/>
          <p:nvPr/>
        </p:nvSpPr>
        <p:spPr>
          <a:xfrm>
            <a:off x="4457880" y="526716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6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学完本课程后，您应该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描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安全威胁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描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D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相关概念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描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A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的相关概念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7" name="Picture 11" descr="目标"/>
          <p:cNvPicPr/>
          <p:nvPr/>
        </p:nvPicPr>
        <p:blipFill>
          <a:blip r:embed="rId1"/>
          <a:stretch/>
        </p:blipFill>
        <p:spPr>
          <a:xfrm>
            <a:off x="698400" y="465120"/>
            <a:ext cx="6224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273320" y="358920"/>
            <a:ext cx="70992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为降低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安全风险，可以采取的方式有哪些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Radius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服务包括的三个部分是什么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64" name="Picture 4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1326960" y="358920"/>
            <a:ext cx="61023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总  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安全威胁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保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安全的几种措施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A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767" name="Picture 8" descr="总结 copy"/>
          <p:cNvPicPr/>
          <p:nvPr/>
        </p:nvPicPr>
        <p:blipFill>
          <a:blip r:embed="rId1"/>
          <a:stretch/>
        </p:blipFill>
        <p:spPr>
          <a:xfrm>
            <a:off x="695160" y="47772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安全威胁简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"/>
                <a:ea typeface="Arial"/>
              </a:rPr>
              <a:t>WIDS/WIPS</a:t>
            </a:r>
            <a:r>
              <a:rPr b="0" lang="zh-CN" sz="2200" spc="-1" strike="noStrike">
                <a:solidFill>
                  <a:srgbClr val="777777"/>
                </a:solidFill>
                <a:latin typeface="Arial"/>
                <a:ea typeface="Arial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"/>
                <a:ea typeface="Arial"/>
              </a:rPr>
              <a:t>AAA</a:t>
            </a:r>
            <a:r>
              <a:rPr b="0" lang="zh-CN" sz="2200" spc="-1" strike="noStrike">
                <a:solidFill>
                  <a:srgbClr val="777777"/>
                </a:solidFill>
                <a:latin typeface="Arial"/>
                <a:ea typeface="Arial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30" name="Picture 16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9"/>
          <p:cNvSpPr/>
          <p:nvPr/>
        </p:nvSpPr>
        <p:spPr>
          <a:xfrm>
            <a:off x="2108160" y="3429000"/>
            <a:ext cx="12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办公大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9990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候机大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166840" y="5821200"/>
            <a:ext cx="9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风景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6056280" y="5821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务酒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3289320" y="3500280"/>
            <a:ext cx="27781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宋体"/>
              </a:rPr>
              <a:t>安全问题尤为突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547640" y="1620720"/>
            <a:ext cx="2475000" cy="1755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340240" y="1620720"/>
            <a:ext cx="2498760" cy="183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1450800" y="4022640"/>
            <a:ext cx="2597400" cy="1762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5340240" y="4029120"/>
            <a:ext cx="2498760" cy="1749240"/>
          </a:xfrm>
          <a:prstGeom prst="rect">
            <a:avLst/>
          </a:prstGeom>
          <a:ln w="0">
            <a:noFill/>
          </a:ln>
        </p:spPr>
      </p:pic>
      <p:sp>
        <p:nvSpPr>
          <p:cNvPr id="140" name="标题 1"/>
          <p:cNvSpPr/>
          <p:nvPr/>
        </p:nvSpPr>
        <p:spPr>
          <a:xfrm>
            <a:off x="64152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  <a:ea typeface="黑体"/>
              </a:rPr>
              <a:t>无线让网络使用更自由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安全威胁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1960" y="1375920"/>
            <a:ext cx="7929720" cy="776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9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未经授权使用网络服务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143" name="组合 1188"/>
          <p:cNvGrpSpPr/>
          <p:nvPr/>
        </p:nvGrpSpPr>
        <p:grpSpPr>
          <a:xfrm>
            <a:off x="1303200" y="2506680"/>
            <a:ext cx="4068720" cy="2381040"/>
            <a:chOff x="1303200" y="2506680"/>
            <a:chExt cx="4068720" cy="2381040"/>
          </a:xfrm>
        </p:grpSpPr>
        <p:grpSp>
          <p:nvGrpSpPr>
            <p:cNvPr id="144" name="Group 2"/>
            <p:cNvGrpSpPr/>
            <p:nvPr/>
          </p:nvGrpSpPr>
          <p:grpSpPr>
            <a:xfrm>
              <a:off x="1303200" y="2506680"/>
              <a:ext cx="4068720" cy="2381040"/>
              <a:chOff x="1303200" y="2506680"/>
              <a:chExt cx="4068720" cy="2381040"/>
            </a:xfrm>
          </p:grpSpPr>
          <p:sp>
            <p:nvSpPr>
              <p:cNvPr id="145" name="AutoShape 3"/>
              <p:cNvSpPr/>
              <p:nvPr/>
            </p:nvSpPr>
            <p:spPr>
              <a:xfrm>
                <a:off x="1303200" y="2506680"/>
                <a:ext cx="4068720" cy="23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4"/>
              <p:cNvGrpSpPr/>
              <p:nvPr/>
            </p:nvGrpSpPr>
            <p:grpSpPr>
              <a:xfrm>
                <a:off x="1317240" y="2506680"/>
                <a:ext cx="4054320" cy="2380680"/>
                <a:chOff x="1317240" y="2506680"/>
                <a:chExt cx="4054320" cy="2380680"/>
              </a:xfrm>
            </p:grpSpPr>
            <p:sp>
              <p:nvSpPr>
                <p:cNvPr id="147" name="Freeform 5"/>
                <p:cNvSpPr/>
                <p:nvPr/>
              </p:nvSpPr>
              <p:spPr>
                <a:xfrm>
                  <a:off x="1751040" y="2506680"/>
                  <a:ext cx="107640" cy="172800"/>
                </a:xfrm>
                <a:custGeom>
                  <a:avLst/>
                  <a:gdLst/>
                  <a:ahLst/>
                  <a:rect l="l" t="t" r="r" b="b"/>
                  <a:pathLst>
                    <a:path w="478" h="831">
                      <a:moveTo>
                        <a:pt x="478" y="302"/>
                      </a:moveTo>
                      <a:lnTo>
                        <a:pt x="0" y="831"/>
                      </a:lnTo>
                      <a:lnTo>
                        <a:pt x="380" y="0"/>
                      </a:lnTo>
                      <a:lnTo>
                        <a:pt x="478" y="302"/>
                      </a:lnTo>
                      <a:close/>
                    </a:path>
                  </a:pathLst>
                </a:custGeom>
                <a:solidFill>
                  <a:srgbClr val="9c7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6"/>
                <p:cNvSpPr/>
                <p:nvPr/>
              </p:nvSpPr>
              <p:spPr>
                <a:xfrm>
                  <a:off x="1706400" y="2534760"/>
                  <a:ext cx="164880" cy="237960"/>
                </a:xfrm>
                <a:custGeom>
                  <a:avLst/>
                  <a:gdLst/>
                  <a:ahLst/>
                  <a:rect l="l" t="t" r="r" b="b"/>
                  <a:pathLst>
                    <a:path w="738" h="1145">
                      <a:moveTo>
                        <a:pt x="413" y="242"/>
                      </a:moveTo>
                      <a:lnTo>
                        <a:pt x="631" y="0"/>
                      </a:lnTo>
                      <a:lnTo>
                        <a:pt x="738" y="329"/>
                      </a:lnTo>
                      <a:lnTo>
                        <a:pt x="0" y="1145"/>
                      </a:lnTo>
                      <a:lnTo>
                        <a:pt x="413" y="242"/>
                      </a:lnTo>
                      <a:close/>
                    </a:path>
                  </a:pathLst>
                </a:custGeom>
                <a:solidFill>
                  <a:srgbClr val="9e75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"/>
                <p:cNvSpPr/>
                <p:nvPr/>
              </p:nvSpPr>
              <p:spPr>
                <a:xfrm>
                  <a:off x="1659600" y="2569680"/>
                  <a:ext cx="223920" cy="298440"/>
                </a:xfrm>
                <a:custGeom>
                  <a:avLst/>
                  <a:gdLst/>
                  <a:ahLst/>
                  <a:rect l="l" t="t" r="r" b="b"/>
                  <a:pathLst>
                    <a:path w="999" h="1433">
                      <a:moveTo>
                        <a:pt x="413" y="529"/>
                      </a:moveTo>
                      <a:lnTo>
                        <a:pt x="891" y="0"/>
                      </a:lnTo>
                      <a:lnTo>
                        <a:pt x="999" y="328"/>
                      </a:lnTo>
                      <a:lnTo>
                        <a:pt x="0" y="1433"/>
                      </a:lnTo>
                      <a:lnTo>
                        <a:pt x="413" y="529"/>
                      </a:lnTo>
                      <a:close/>
                    </a:path>
                  </a:pathLst>
                </a:custGeom>
                <a:solidFill>
                  <a:srgbClr val="a07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"/>
                <p:cNvSpPr/>
                <p:nvPr/>
              </p:nvSpPr>
              <p:spPr>
                <a:xfrm>
                  <a:off x="1613160" y="2602800"/>
                  <a:ext cx="281520" cy="358560"/>
                </a:xfrm>
                <a:custGeom>
                  <a:avLst/>
                  <a:gdLst/>
                  <a:ahLst/>
                  <a:rect l="l" t="t" r="r" b="b"/>
                  <a:pathLst>
                    <a:path w="1260" h="1721">
                      <a:moveTo>
                        <a:pt x="414" y="816"/>
                      </a:moveTo>
                      <a:lnTo>
                        <a:pt x="1152" y="0"/>
                      </a:lnTo>
                      <a:lnTo>
                        <a:pt x="1260" y="329"/>
                      </a:lnTo>
                      <a:lnTo>
                        <a:pt x="0" y="1721"/>
                      </a:lnTo>
                      <a:lnTo>
                        <a:pt x="414" y="816"/>
                      </a:lnTo>
                      <a:close/>
                    </a:path>
                  </a:pathLst>
                </a:custGeom>
                <a:solidFill>
                  <a:srgbClr val="a57c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9"/>
                <p:cNvSpPr/>
                <p:nvPr/>
              </p:nvSpPr>
              <p:spPr>
                <a:xfrm>
                  <a:off x="1566360" y="2638080"/>
                  <a:ext cx="340920" cy="417960"/>
                </a:xfrm>
                <a:custGeom>
                  <a:avLst/>
                  <a:gdLst/>
                  <a:ahLst/>
                  <a:rect l="l" t="t" r="r" b="b"/>
                  <a:pathLst>
                    <a:path w="1521" h="2009">
                      <a:moveTo>
                        <a:pt x="414" y="1105"/>
                      </a:moveTo>
                      <a:lnTo>
                        <a:pt x="1413" y="0"/>
                      </a:lnTo>
                      <a:lnTo>
                        <a:pt x="1521" y="329"/>
                      </a:lnTo>
                      <a:lnTo>
                        <a:pt x="0" y="2009"/>
                      </a:lnTo>
                      <a:lnTo>
                        <a:pt x="414" y="1105"/>
                      </a:lnTo>
                      <a:close/>
                    </a:path>
                  </a:pathLst>
                </a:custGeom>
                <a:solidFill>
                  <a:srgbClr val="a980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10"/>
                <p:cNvSpPr/>
                <p:nvPr/>
              </p:nvSpPr>
              <p:spPr>
                <a:xfrm>
                  <a:off x="1519560" y="2671200"/>
                  <a:ext cx="400320" cy="478080"/>
                </a:xfrm>
                <a:custGeom>
                  <a:avLst/>
                  <a:gdLst/>
                  <a:ahLst/>
                  <a:rect l="l" t="t" r="r" b="b"/>
                  <a:pathLst>
                    <a:path w="1780" h="2295">
                      <a:moveTo>
                        <a:pt x="412" y="1392"/>
                      </a:moveTo>
                      <a:lnTo>
                        <a:pt x="1672" y="0"/>
                      </a:lnTo>
                      <a:lnTo>
                        <a:pt x="1780" y="328"/>
                      </a:lnTo>
                      <a:lnTo>
                        <a:pt x="0" y="2295"/>
                      </a:lnTo>
                      <a:lnTo>
                        <a:pt x="412" y="1392"/>
                      </a:lnTo>
                      <a:close/>
                    </a:path>
                  </a:pathLst>
                </a:custGeom>
                <a:solidFill>
                  <a:srgbClr val="aa81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1"/>
                <p:cNvSpPr/>
                <p:nvPr/>
              </p:nvSpPr>
              <p:spPr>
                <a:xfrm>
                  <a:off x="1473120" y="2706480"/>
                  <a:ext cx="458640" cy="537840"/>
                </a:xfrm>
                <a:custGeom>
                  <a:avLst/>
                  <a:gdLst/>
                  <a:ahLst/>
                  <a:rect l="l" t="t" r="r" b="b"/>
                  <a:pathLst>
                    <a:path w="2041" h="2584">
                      <a:moveTo>
                        <a:pt x="413" y="1680"/>
                      </a:moveTo>
                      <a:lnTo>
                        <a:pt x="1934" y="0"/>
                      </a:lnTo>
                      <a:lnTo>
                        <a:pt x="2041" y="329"/>
                      </a:lnTo>
                      <a:lnTo>
                        <a:pt x="0" y="2584"/>
                      </a:lnTo>
                      <a:lnTo>
                        <a:pt x="413" y="1680"/>
                      </a:lnTo>
                      <a:close/>
                    </a:path>
                  </a:pathLst>
                </a:custGeom>
                <a:solidFill>
                  <a:srgbClr val="ab8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12"/>
                <p:cNvSpPr/>
                <p:nvPr/>
              </p:nvSpPr>
              <p:spPr>
                <a:xfrm>
                  <a:off x="1428120" y="2739600"/>
                  <a:ext cx="514800" cy="597960"/>
                </a:xfrm>
                <a:custGeom>
                  <a:avLst/>
                  <a:gdLst/>
                  <a:ahLst/>
                  <a:rect l="l" t="t" r="r" b="b"/>
                  <a:pathLst>
                    <a:path w="2301" h="2872">
                      <a:moveTo>
                        <a:pt x="413" y="1967"/>
                      </a:moveTo>
                      <a:lnTo>
                        <a:pt x="2193" y="0"/>
                      </a:lnTo>
                      <a:lnTo>
                        <a:pt x="2301" y="329"/>
                      </a:lnTo>
                      <a:lnTo>
                        <a:pt x="0" y="2872"/>
                      </a:lnTo>
                      <a:lnTo>
                        <a:pt x="413" y="1967"/>
                      </a:lnTo>
                      <a:close/>
                    </a:path>
                  </a:pathLst>
                </a:custGeom>
                <a:solidFill>
                  <a:srgbClr val="ad84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3"/>
                <p:cNvSpPr/>
                <p:nvPr/>
              </p:nvSpPr>
              <p:spPr>
                <a:xfrm>
                  <a:off x="1421280" y="2774880"/>
                  <a:ext cx="534240" cy="616320"/>
                </a:xfrm>
                <a:custGeom>
                  <a:avLst/>
                  <a:gdLst/>
                  <a:ahLst/>
                  <a:rect l="l" t="t" r="r" b="b"/>
                  <a:pathLst>
                    <a:path w="2386" h="2956">
                      <a:moveTo>
                        <a:pt x="237" y="2255"/>
                      </a:moveTo>
                      <a:lnTo>
                        <a:pt x="2278" y="0"/>
                      </a:lnTo>
                      <a:lnTo>
                        <a:pt x="2386" y="329"/>
                      </a:lnTo>
                      <a:lnTo>
                        <a:pt x="7" y="2956"/>
                      </a:lnTo>
                      <a:lnTo>
                        <a:pt x="0" y="2774"/>
                      </a:lnTo>
                      <a:lnTo>
                        <a:pt x="237" y="2255"/>
                      </a:lnTo>
                      <a:close/>
                    </a:path>
                  </a:pathLst>
                </a:custGeom>
                <a:solidFill>
                  <a:srgbClr val="ae85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4"/>
                <p:cNvSpPr/>
                <p:nvPr/>
              </p:nvSpPr>
              <p:spPr>
                <a:xfrm>
                  <a:off x="1421280" y="2809440"/>
                  <a:ext cx="547200" cy="624960"/>
                </a:xfrm>
                <a:custGeom>
                  <a:avLst/>
                  <a:gdLst/>
                  <a:ahLst/>
                  <a:rect l="l" t="t" r="r" b="b"/>
                  <a:pathLst>
                    <a:path w="2439" h="3008">
                      <a:moveTo>
                        <a:pt x="31" y="2543"/>
                      </a:moveTo>
                      <a:lnTo>
                        <a:pt x="2332" y="0"/>
                      </a:lnTo>
                      <a:lnTo>
                        <a:pt x="2439" y="329"/>
                      </a:lnTo>
                      <a:lnTo>
                        <a:pt x="15" y="3008"/>
                      </a:lnTo>
                      <a:lnTo>
                        <a:pt x="0" y="2610"/>
                      </a:lnTo>
                      <a:lnTo>
                        <a:pt x="31" y="2543"/>
                      </a:lnTo>
                      <a:close/>
                    </a:path>
                  </a:pathLst>
                </a:custGeom>
                <a:solidFill>
                  <a:srgbClr val="b087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15"/>
                <p:cNvSpPr/>
                <p:nvPr/>
              </p:nvSpPr>
              <p:spPr>
                <a:xfrm>
                  <a:off x="1422720" y="2842920"/>
                  <a:ext cx="555840" cy="636480"/>
                </a:xfrm>
                <a:custGeom>
                  <a:avLst/>
                  <a:gdLst/>
                  <a:ahLst/>
                  <a:rect l="l" t="t" r="r" b="b"/>
                  <a:pathLst>
                    <a:path w="2487" h="3058">
                      <a:moveTo>
                        <a:pt x="0" y="2627"/>
                      </a:moveTo>
                      <a:lnTo>
                        <a:pt x="2379" y="0"/>
                      </a:lnTo>
                      <a:lnTo>
                        <a:pt x="2487" y="327"/>
                      </a:lnTo>
                      <a:lnTo>
                        <a:pt x="16" y="3058"/>
                      </a:lnTo>
                      <a:lnTo>
                        <a:pt x="0" y="2627"/>
                      </a:lnTo>
                      <a:close/>
                    </a:path>
                  </a:pathLst>
                </a:custGeom>
                <a:solidFill>
                  <a:srgbClr val="b18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6"/>
                <p:cNvSpPr/>
                <p:nvPr/>
              </p:nvSpPr>
              <p:spPr>
                <a:xfrm>
                  <a:off x="1424520" y="2877840"/>
                  <a:ext cx="567000" cy="646200"/>
                </a:xfrm>
                <a:custGeom>
                  <a:avLst/>
                  <a:gdLst/>
                  <a:ahLst/>
                  <a:rect l="l" t="t" r="r" b="b"/>
                  <a:pathLst>
                    <a:path w="2532" h="3109">
                      <a:moveTo>
                        <a:pt x="0" y="2679"/>
                      </a:moveTo>
                      <a:lnTo>
                        <a:pt x="2424" y="0"/>
                      </a:lnTo>
                      <a:lnTo>
                        <a:pt x="2532" y="328"/>
                      </a:lnTo>
                      <a:lnTo>
                        <a:pt x="16" y="3109"/>
                      </a:lnTo>
                      <a:lnTo>
                        <a:pt x="0" y="2679"/>
                      </a:lnTo>
                      <a:close/>
                    </a:path>
                  </a:pathLst>
                </a:custGeom>
                <a:solidFill>
                  <a:srgbClr val="b389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7"/>
                <p:cNvSpPr/>
                <p:nvPr/>
              </p:nvSpPr>
              <p:spPr>
                <a:xfrm>
                  <a:off x="1426680" y="2911320"/>
                  <a:ext cx="577440" cy="658080"/>
                </a:xfrm>
                <a:custGeom>
                  <a:avLst/>
                  <a:gdLst/>
                  <a:ahLst/>
                  <a:rect l="l" t="t" r="r" b="b"/>
                  <a:pathLst>
                    <a:path w="2579" h="3161">
                      <a:moveTo>
                        <a:pt x="0" y="2731"/>
                      </a:moveTo>
                      <a:lnTo>
                        <a:pt x="2471" y="0"/>
                      </a:lnTo>
                      <a:lnTo>
                        <a:pt x="2579" y="329"/>
                      </a:lnTo>
                      <a:lnTo>
                        <a:pt x="16" y="3161"/>
                      </a:lnTo>
                      <a:lnTo>
                        <a:pt x="0" y="2731"/>
                      </a:lnTo>
                      <a:close/>
                    </a:path>
                  </a:pathLst>
                </a:custGeom>
                <a:solidFill>
                  <a:srgbClr val="b48a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8"/>
                <p:cNvSpPr/>
                <p:nvPr/>
              </p:nvSpPr>
              <p:spPr>
                <a:xfrm>
                  <a:off x="1428120" y="2946240"/>
                  <a:ext cx="588600" cy="667800"/>
                </a:xfrm>
                <a:custGeom>
                  <a:avLst/>
                  <a:gdLst/>
                  <a:ahLst/>
                  <a:rect l="l" t="t" r="r" b="b"/>
                  <a:pathLst>
                    <a:path w="2624" h="3211">
                      <a:moveTo>
                        <a:pt x="0" y="2781"/>
                      </a:moveTo>
                      <a:lnTo>
                        <a:pt x="2516" y="0"/>
                      </a:lnTo>
                      <a:lnTo>
                        <a:pt x="2624" y="328"/>
                      </a:lnTo>
                      <a:lnTo>
                        <a:pt x="16" y="3211"/>
                      </a:lnTo>
                      <a:lnTo>
                        <a:pt x="0" y="2781"/>
                      </a:lnTo>
                      <a:close/>
                    </a:path>
                  </a:pathLst>
                </a:custGeom>
                <a:solidFill>
                  <a:srgbClr val="b68c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9"/>
                <p:cNvSpPr/>
                <p:nvPr/>
              </p:nvSpPr>
              <p:spPr>
                <a:xfrm>
                  <a:off x="1430280" y="2979720"/>
                  <a:ext cx="597240" cy="679680"/>
                </a:xfrm>
                <a:custGeom>
                  <a:avLst/>
                  <a:gdLst/>
                  <a:ahLst/>
                  <a:rect l="l" t="t" r="r" b="b"/>
                  <a:pathLst>
                    <a:path w="2670" h="3263">
                      <a:moveTo>
                        <a:pt x="0" y="2832"/>
                      </a:moveTo>
                      <a:lnTo>
                        <a:pt x="2563" y="0"/>
                      </a:lnTo>
                      <a:lnTo>
                        <a:pt x="2670" y="329"/>
                      </a:lnTo>
                      <a:lnTo>
                        <a:pt x="16" y="3263"/>
                      </a:lnTo>
                      <a:lnTo>
                        <a:pt x="0" y="2832"/>
                      </a:lnTo>
                      <a:close/>
                    </a:path>
                  </a:pathLst>
                </a:custGeom>
                <a:solidFill>
                  <a:srgbClr val="b78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0"/>
                <p:cNvSpPr/>
                <p:nvPr/>
              </p:nvSpPr>
              <p:spPr>
                <a:xfrm>
                  <a:off x="1431720" y="3014640"/>
                  <a:ext cx="608040" cy="689400"/>
                </a:xfrm>
                <a:custGeom>
                  <a:avLst/>
                  <a:gdLst/>
                  <a:ahLst/>
                  <a:rect l="l" t="t" r="r" b="b"/>
                  <a:pathLst>
                    <a:path w="2716" h="3313">
                      <a:moveTo>
                        <a:pt x="0" y="2883"/>
                      </a:moveTo>
                      <a:lnTo>
                        <a:pt x="2608" y="0"/>
                      </a:lnTo>
                      <a:lnTo>
                        <a:pt x="2716" y="329"/>
                      </a:lnTo>
                      <a:lnTo>
                        <a:pt x="16" y="3313"/>
                      </a:lnTo>
                      <a:lnTo>
                        <a:pt x="0" y="2883"/>
                      </a:lnTo>
                      <a:close/>
                    </a:path>
                  </a:pathLst>
                </a:custGeom>
                <a:solidFill>
                  <a:srgbClr val="b89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21"/>
                <p:cNvSpPr/>
                <p:nvPr/>
              </p:nvSpPr>
              <p:spPr>
                <a:xfrm>
                  <a:off x="1433880" y="3048120"/>
                  <a:ext cx="607680" cy="701280"/>
                </a:xfrm>
                <a:custGeom>
                  <a:avLst/>
                  <a:gdLst/>
                  <a:ahLst/>
                  <a:rect l="l" t="t" r="r" b="b"/>
                  <a:pathLst>
                    <a:path w="2713" h="3363">
                      <a:moveTo>
                        <a:pt x="0" y="2934"/>
                      </a:moveTo>
                      <a:lnTo>
                        <a:pt x="2654" y="0"/>
                      </a:lnTo>
                      <a:lnTo>
                        <a:pt x="2713" y="180"/>
                      </a:lnTo>
                      <a:lnTo>
                        <a:pt x="2713" y="382"/>
                      </a:lnTo>
                      <a:lnTo>
                        <a:pt x="15" y="3363"/>
                      </a:lnTo>
                      <a:lnTo>
                        <a:pt x="0" y="2934"/>
                      </a:lnTo>
                      <a:close/>
                    </a:path>
                  </a:pathLst>
                </a:custGeom>
                <a:solidFill>
                  <a:srgbClr val="bb92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22"/>
                <p:cNvSpPr/>
                <p:nvPr/>
              </p:nvSpPr>
              <p:spPr>
                <a:xfrm>
                  <a:off x="1435320" y="3082680"/>
                  <a:ext cx="605880" cy="711360"/>
                </a:xfrm>
                <a:custGeom>
                  <a:avLst/>
                  <a:gdLst/>
                  <a:ahLst/>
                  <a:rect l="l" t="t" r="r" b="b"/>
                  <a:pathLst>
                    <a:path w="2705" h="3415">
                      <a:moveTo>
                        <a:pt x="0" y="2984"/>
                      </a:moveTo>
                      <a:lnTo>
                        <a:pt x="2700" y="0"/>
                      </a:lnTo>
                      <a:lnTo>
                        <a:pt x="2705" y="16"/>
                      </a:lnTo>
                      <a:lnTo>
                        <a:pt x="2705" y="442"/>
                      </a:lnTo>
                      <a:lnTo>
                        <a:pt x="15" y="3415"/>
                      </a:lnTo>
                      <a:lnTo>
                        <a:pt x="0" y="2984"/>
                      </a:lnTo>
                      <a:close/>
                    </a:path>
                  </a:pathLst>
                </a:custGeom>
                <a:solidFill>
                  <a:srgbClr val="bb9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23"/>
                <p:cNvSpPr/>
                <p:nvPr/>
              </p:nvSpPr>
              <p:spPr>
                <a:xfrm>
                  <a:off x="1437120" y="3128040"/>
                  <a:ext cx="604440" cy="709560"/>
                </a:xfrm>
                <a:custGeom>
                  <a:avLst/>
                  <a:gdLst/>
                  <a:ahLst/>
                  <a:rect l="l" t="t" r="r" b="b"/>
                  <a:pathLst>
                    <a:path w="2698" h="3411">
                      <a:moveTo>
                        <a:pt x="0" y="2981"/>
                      </a:moveTo>
                      <a:lnTo>
                        <a:pt x="2698" y="0"/>
                      </a:lnTo>
                      <a:lnTo>
                        <a:pt x="2698" y="448"/>
                      </a:lnTo>
                      <a:lnTo>
                        <a:pt x="16" y="3411"/>
                      </a:lnTo>
                      <a:lnTo>
                        <a:pt x="0" y="2981"/>
                      </a:lnTo>
                      <a:close/>
                    </a:path>
                  </a:pathLst>
                </a:custGeom>
                <a:solidFill>
                  <a:srgbClr val="bd94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24"/>
                <p:cNvSpPr/>
                <p:nvPr/>
              </p:nvSpPr>
              <p:spPr>
                <a:xfrm>
                  <a:off x="1439280" y="3174480"/>
                  <a:ext cx="602280" cy="708120"/>
                </a:xfrm>
                <a:custGeom>
                  <a:avLst/>
                  <a:gdLst/>
                  <a:ahLst/>
                  <a:rect l="l" t="t" r="r" b="b"/>
                  <a:pathLst>
                    <a:path w="2690" h="3402">
                      <a:moveTo>
                        <a:pt x="0" y="2973"/>
                      </a:moveTo>
                      <a:lnTo>
                        <a:pt x="2690" y="0"/>
                      </a:lnTo>
                      <a:lnTo>
                        <a:pt x="2690" y="448"/>
                      </a:lnTo>
                      <a:lnTo>
                        <a:pt x="16" y="3402"/>
                      </a:lnTo>
                      <a:lnTo>
                        <a:pt x="0" y="2973"/>
                      </a:lnTo>
                      <a:close/>
                    </a:path>
                  </a:pathLst>
                </a:custGeom>
                <a:solidFill>
                  <a:srgbClr val="be96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25"/>
                <p:cNvSpPr/>
                <p:nvPr/>
              </p:nvSpPr>
              <p:spPr>
                <a:xfrm>
                  <a:off x="1440720" y="3221280"/>
                  <a:ext cx="600840" cy="705960"/>
                </a:xfrm>
                <a:custGeom>
                  <a:avLst/>
                  <a:gdLst/>
                  <a:ahLst/>
                  <a:rect l="l" t="t" r="r" b="b"/>
                  <a:pathLst>
                    <a:path w="2682" h="3394">
                      <a:moveTo>
                        <a:pt x="0" y="2963"/>
                      </a:moveTo>
                      <a:lnTo>
                        <a:pt x="2682" y="0"/>
                      </a:lnTo>
                      <a:lnTo>
                        <a:pt x="2682" y="447"/>
                      </a:lnTo>
                      <a:lnTo>
                        <a:pt x="16" y="3394"/>
                      </a:lnTo>
                      <a:lnTo>
                        <a:pt x="0" y="2963"/>
                      </a:lnTo>
                      <a:close/>
                    </a:path>
                  </a:pathLst>
                </a:custGeom>
                <a:solidFill>
                  <a:srgbClr val="c098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6"/>
                <p:cNvSpPr/>
                <p:nvPr/>
              </p:nvSpPr>
              <p:spPr>
                <a:xfrm>
                  <a:off x="1442880" y="3268080"/>
                  <a:ext cx="598680" cy="704520"/>
                </a:xfrm>
                <a:custGeom>
                  <a:avLst/>
                  <a:gdLst/>
                  <a:ahLst/>
                  <a:rect l="l" t="t" r="r" b="b"/>
                  <a:pathLst>
                    <a:path w="2674" h="3384">
                      <a:moveTo>
                        <a:pt x="0" y="2954"/>
                      </a:moveTo>
                      <a:lnTo>
                        <a:pt x="2674" y="0"/>
                      </a:lnTo>
                      <a:lnTo>
                        <a:pt x="2674" y="447"/>
                      </a:lnTo>
                      <a:lnTo>
                        <a:pt x="16" y="3384"/>
                      </a:lnTo>
                      <a:lnTo>
                        <a:pt x="0" y="2954"/>
                      </a:lnTo>
                      <a:close/>
                    </a:path>
                  </a:pathLst>
                </a:custGeom>
                <a:solidFill>
                  <a:srgbClr val="c199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27"/>
                <p:cNvSpPr/>
                <p:nvPr/>
              </p:nvSpPr>
              <p:spPr>
                <a:xfrm>
                  <a:off x="1444320" y="3314520"/>
                  <a:ext cx="597240" cy="703080"/>
                </a:xfrm>
                <a:custGeom>
                  <a:avLst/>
                  <a:gdLst/>
                  <a:ahLst/>
                  <a:rect l="l" t="t" r="r" b="b"/>
                  <a:pathLst>
                    <a:path w="2666" h="3377">
                      <a:moveTo>
                        <a:pt x="0" y="2947"/>
                      </a:moveTo>
                      <a:lnTo>
                        <a:pt x="2666" y="0"/>
                      </a:lnTo>
                      <a:lnTo>
                        <a:pt x="2666" y="448"/>
                      </a:lnTo>
                      <a:lnTo>
                        <a:pt x="16" y="3377"/>
                      </a:lnTo>
                      <a:lnTo>
                        <a:pt x="0" y="2947"/>
                      </a:lnTo>
                      <a:close/>
                    </a:path>
                  </a:pathLst>
                </a:custGeom>
                <a:solidFill>
                  <a:srgbClr val="c29a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28"/>
                <p:cNvSpPr/>
                <p:nvPr/>
              </p:nvSpPr>
              <p:spPr>
                <a:xfrm>
                  <a:off x="1446120" y="3361320"/>
                  <a:ext cx="595440" cy="701280"/>
                </a:xfrm>
                <a:custGeom>
                  <a:avLst/>
                  <a:gdLst/>
                  <a:ahLst/>
                  <a:rect l="l" t="t" r="r" b="b"/>
                  <a:pathLst>
                    <a:path w="2658" h="3368">
                      <a:moveTo>
                        <a:pt x="0" y="2937"/>
                      </a:moveTo>
                      <a:lnTo>
                        <a:pt x="2658" y="0"/>
                      </a:lnTo>
                      <a:lnTo>
                        <a:pt x="2658" y="448"/>
                      </a:lnTo>
                      <a:lnTo>
                        <a:pt x="15" y="3368"/>
                      </a:lnTo>
                      <a:lnTo>
                        <a:pt x="0" y="2937"/>
                      </a:lnTo>
                      <a:close/>
                    </a:path>
                  </a:pathLst>
                </a:custGeom>
                <a:solidFill>
                  <a:srgbClr val="c39c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9"/>
                <p:cNvSpPr/>
                <p:nvPr/>
              </p:nvSpPr>
              <p:spPr>
                <a:xfrm>
                  <a:off x="1447920" y="3407760"/>
                  <a:ext cx="593280" cy="699480"/>
                </a:xfrm>
                <a:custGeom>
                  <a:avLst/>
                  <a:gdLst/>
                  <a:ahLst/>
                  <a:rect l="l" t="t" r="r" b="b"/>
                  <a:pathLst>
                    <a:path w="2650" h="3359">
                      <a:moveTo>
                        <a:pt x="0" y="2929"/>
                      </a:moveTo>
                      <a:lnTo>
                        <a:pt x="2650" y="0"/>
                      </a:lnTo>
                      <a:lnTo>
                        <a:pt x="2650" y="448"/>
                      </a:lnTo>
                      <a:lnTo>
                        <a:pt x="15" y="3359"/>
                      </a:lnTo>
                      <a:lnTo>
                        <a:pt x="0" y="2929"/>
                      </a:lnTo>
                      <a:close/>
                    </a:path>
                  </a:pathLst>
                </a:custGeom>
                <a:solidFill>
                  <a:srgbClr val="c49d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30"/>
                <p:cNvSpPr/>
                <p:nvPr/>
              </p:nvSpPr>
              <p:spPr>
                <a:xfrm>
                  <a:off x="1447920" y="3454560"/>
                  <a:ext cx="593280" cy="698040"/>
                </a:xfrm>
                <a:custGeom>
                  <a:avLst/>
                  <a:gdLst/>
                  <a:ahLst/>
                  <a:rect l="l" t="t" r="r" b="b"/>
                  <a:pathLst>
                    <a:path w="2643" h="3350">
                      <a:moveTo>
                        <a:pt x="0" y="2920"/>
                      </a:moveTo>
                      <a:lnTo>
                        <a:pt x="2643" y="0"/>
                      </a:lnTo>
                      <a:lnTo>
                        <a:pt x="2643" y="447"/>
                      </a:lnTo>
                      <a:lnTo>
                        <a:pt x="16" y="3350"/>
                      </a:lnTo>
                      <a:lnTo>
                        <a:pt x="0" y="2920"/>
                      </a:lnTo>
                      <a:close/>
                    </a:path>
                  </a:pathLst>
                </a:custGeom>
                <a:solidFill>
                  <a:srgbClr val="c79f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31"/>
                <p:cNvSpPr/>
                <p:nvPr/>
              </p:nvSpPr>
              <p:spPr>
                <a:xfrm>
                  <a:off x="1449720" y="3501000"/>
                  <a:ext cx="591840" cy="694800"/>
                </a:xfrm>
                <a:custGeom>
                  <a:avLst/>
                  <a:gdLst/>
                  <a:ahLst/>
                  <a:rect l="l" t="t" r="r" b="b"/>
                  <a:pathLst>
                    <a:path w="2635" h="3341">
                      <a:moveTo>
                        <a:pt x="0" y="2911"/>
                      </a:moveTo>
                      <a:lnTo>
                        <a:pt x="2635" y="0"/>
                      </a:lnTo>
                      <a:lnTo>
                        <a:pt x="2635" y="447"/>
                      </a:lnTo>
                      <a:lnTo>
                        <a:pt x="16" y="3341"/>
                      </a:lnTo>
                      <a:lnTo>
                        <a:pt x="0" y="2911"/>
                      </a:lnTo>
                      <a:close/>
                    </a:path>
                  </a:pathLst>
                </a:custGeom>
                <a:solidFill>
                  <a:srgbClr val="c8a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32"/>
                <p:cNvSpPr/>
                <p:nvPr/>
              </p:nvSpPr>
              <p:spPr>
                <a:xfrm>
                  <a:off x="1451880" y="3547800"/>
                  <a:ext cx="589680" cy="651240"/>
                </a:xfrm>
                <a:custGeom>
                  <a:avLst/>
                  <a:gdLst/>
                  <a:ahLst/>
                  <a:rect l="l" t="t" r="r" b="b"/>
                  <a:pathLst>
                    <a:path w="2627" h="3134">
                      <a:moveTo>
                        <a:pt x="0" y="2903"/>
                      </a:moveTo>
                      <a:lnTo>
                        <a:pt x="2627" y="0"/>
                      </a:lnTo>
                      <a:lnTo>
                        <a:pt x="2627" y="448"/>
                      </a:lnTo>
                      <a:lnTo>
                        <a:pt x="1184" y="2043"/>
                      </a:lnTo>
                      <a:lnTo>
                        <a:pt x="9" y="3134"/>
                      </a:lnTo>
                      <a:lnTo>
                        <a:pt x="9" y="3134"/>
                      </a:lnTo>
                      <a:lnTo>
                        <a:pt x="0" y="2903"/>
                      </a:lnTo>
                      <a:close/>
                    </a:path>
                  </a:pathLst>
                </a:custGeom>
                <a:solidFill>
                  <a:srgbClr val="cba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33"/>
                <p:cNvSpPr/>
                <p:nvPr/>
              </p:nvSpPr>
              <p:spPr>
                <a:xfrm>
                  <a:off x="1453320" y="3594240"/>
                  <a:ext cx="588240" cy="604800"/>
                </a:xfrm>
                <a:custGeom>
                  <a:avLst/>
                  <a:gdLst/>
                  <a:ahLst/>
                  <a:rect l="l" t="t" r="r" b="b"/>
                  <a:pathLst>
                    <a:path w="2619" h="2910">
                      <a:moveTo>
                        <a:pt x="0" y="2894"/>
                      </a:moveTo>
                      <a:lnTo>
                        <a:pt x="2619" y="0"/>
                      </a:lnTo>
                      <a:lnTo>
                        <a:pt x="2619" y="448"/>
                      </a:lnTo>
                      <a:lnTo>
                        <a:pt x="2442" y="643"/>
                      </a:lnTo>
                      <a:lnTo>
                        <a:pt x="1" y="2910"/>
                      </a:lnTo>
                      <a:lnTo>
                        <a:pt x="1" y="2910"/>
                      </a:lnTo>
                      <a:lnTo>
                        <a:pt x="0" y="2894"/>
                      </a:lnTo>
                      <a:close/>
                    </a:path>
                  </a:pathLst>
                </a:custGeom>
                <a:solidFill>
                  <a:srgbClr val="cca4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34"/>
                <p:cNvSpPr/>
                <p:nvPr/>
              </p:nvSpPr>
              <p:spPr>
                <a:xfrm>
                  <a:off x="1716840" y="3641400"/>
                  <a:ext cx="324360" cy="331200"/>
                </a:xfrm>
                <a:custGeom>
                  <a:avLst/>
                  <a:gdLst/>
                  <a:ahLst/>
                  <a:rect l="l" t="t" r="r" b="b"/>
                  <a:pathLst>
                    <a:path w="1443" h="1595">
                      <a:moveTo>
                        <a:pt x="0" y="1595"/>
                      </a:moveTo>
                      <a:lnTo>
                        <a:pt x="1443" y="0"/>
                      </a:lnTo>
                      <a:lnTo>
                        <a:pt x="1443" y="255"/>
                      </a:lnTo>
                      <a:lnTo>
                        <a:pt x="0" y="1595"/>
                      </a:lnTo>
                      <a:close/>
                    </a:path>
                  </a:pathLst>
                </a:custGeom>
                <a:solidFill>
                  <a:srgbClr val="cfa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35"/>
                <p:cNvSpPr/>
                <p:nvPr/>
              </p:nvSpPr>
              <p:spPr>
                <a:xfrm>
                  <a:off x="2002320" y="3687840"/>
                  <a:ext cx="39240" cy="39960"/>
                </a:xfrm>
                <a:custGeom>
                  <a:avLst/>
                  <a:gdLst/>
                  <a:ahLst/>
                  <a:rect l="l" t="t" r="r" b="b"/>
                  <a:pathLst>
                    <a:path w="177" h="195">
                      <a:moveTo>
                        <a:pt x="0" y="195"/>
                      </a:moveTo>
                      <a:lnTo>
                        <a:pt x="177" y="0"/>
                      </a:lnTo>
                      <a:lnTo>
                        <a:pt x="177" y="31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d0a7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36"/>
                <p:cNvSpPr/>
                <p:nvPr/>
              </p:nvSpPr>
              <p:spPr>
                <a:xfrm>
                  <a:off x="2981880" y="2671200"/>
                  <a:ext cx="118080" cy="181440"/>
                </a:xfrm>
                <a:custGeom>
                  <a:avLst/>
                  <a:gdLst/>
                  <a:ahLst/>
                  <a:rect l="l" t="t" r="r" b="b"/>
                  <a:pathLst>
                    <a:path w="532" h="870">
                      <a:moveTo>
                        <a:pt x="532" y="283"/>
                      </a:moveTo>
                      <a:lnTo>
                        <a:pt x="0" y="870"/>
                      </a:lnTo>
                      <a:lnTo>
                        <a:pt x="420" y="0"/>
                      </a:lnTo>
                      <a:lnTo>
                        <a:pt x="532" y="283"/>
                      </a:lnTo>
                      <a:close/>
                    </a:path>
                  </a:pathLst>
                </a:custGeom>
                <a:solidFill>
                  <a:srgbClr val="9c71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37"/>
                <p:cNvSpPr/>
                <p:nvPr/>
              </p:nvSpPr>
              <p:spPr>
                <a:xfrm>
                  <a:off x="2926080" y="2696040"/>
                  <a:ext cx="190080" cy="264960"/>
                </a:xfrm>
                <a:custGeom>
                  <a:avLst/>
                  <a:gdLst/>
                  <a:ahLst/>
                  <a:rect l="l" t="t" r="r" b="b"/>
                  <a:pathLst>
                    <a:path w="846" h="1270">
                      <a:moveTo>
                        <a:pt x="498" y="241"/>
                      </a:moveTo>
                      <a:lnTo>
                        <a:pt x="715" y="0"/>
                      </a:lnTo>
                      <a:lnTo>
                        <a:pt x="846" y="336"/>
                      </a:lnTo>
                      <a:lnTo>
                        <a:pt x="0" y="1270"/>
                      </a:lnTo>
                      <a:lnTo>
                        <a:pt x="498" y="241"/>
                      </a:lnTo>
                      <a:close/>
                    </a:path>
                  </a:pathLst>
                </a:custGeom>
                <a:solidFill>
                  <a:srgbClr val="9e75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8"/>
                <p:cNvSpPr/>
                <p:nvPr/>
              </p:nvSpPr>
              <p:spPr>
                <a:xfrm>
                  <a:off x="2870640" y="2731320"/>
                  <a:ext cx="259920" cy="336600"/>
                </a:xfrm>
                <a:custGeom>
                  <a:avLst/>
                  <a:gdLst/>
                  <a:ahLst/>
                  <a:rect l="l" t="t" r="r" b="b"/>
                  <a:pathLst>
                    <a:path w="1160" h="1617">
                      <a:moveTo>
                        <a:pt x="497" y="587"/>
                      </a:moveTo>
                      <a:lnTo>
                        <a:pt x="1029" y="0"/>
                      </a:lnTo>
                      <a:lnTo>
                        <a:pt x="1160" y="335"/>
                      </a:lnTo>
                      <a:lnTo>
                        <a:pt x="0" y="1617"/>
                      </a:lnTo>
                      <a:lnTo>
                        <a:pt x="497" y="587"/>
                      </a:lnTo>
                      <a:close/>
                    </a:path>
                  </a:pathLst>
                </a:custGeom>
                <a:solidFill>
                  <a:srgbClr val="a078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39"/>
                <p:cNvSpPr/>
                <p:nvPr/>
              </p:nvSpPr>
              <p:spPr>
                <a:xfrm>
                  <a:off x="2815200" y="2766600"/>
                  <a:ext cx="329760" cy="407880"/>
                </a:xfrm>
                <a:custGeom>
                  <a:avLst/>
                  <a:gdLst/>
                  <a:ahLst/>
                  <a:rect l="l" t="t" r="r" b="b"/>
                  <a:pathLst>
                    <a:path w="1474" h="1963">
                      <a:moveTo>
                        <a:pt x="496" y="934"/>
                      </a:moveTo>
                      <a:lnTo>
                        <a:pt x="1342" y="0"/>
                      </a:lnTo>
                      <a:lnTo>
                        <a:pt x="1474" y="334"/>
                      </a:lnTo>
                      <a:lnTo>
                        <a:pt x="0" y="1963"/>
                      </a:lnTo>
                      <a:lnTo>
                        <a:pt x="496" y="934"/>
                      </a:lnTo>
                      <a:close/>
                    </a:path>
                  </a:pathLst>
                </a:custGeom>
                <a:solidFill>
                  <a:srgbClr val="a57c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40"/>
                <p:cNvSpPr/>
                <p:nvPr/>
              </p:nvSpPr>
              <p:spPr>
                <a:xfrm>
                  <a:off x="2759400" y="2801160"/>
                  <a:ext cx="400320" cy="481680"/>
                </a:xfrm>
                <a:custGeom>
                  <a:avLst/>
                  <a:gdLst/>
                  <a:ahLst/>
                  <a:rect l="l" t="t" r="r" b="b"/>
                  <a:pathLst>
                    <a:path w="1789" h="2312">
                      <a:moveTo>
                        <a:pt x="497" y="1282"/>
                      </a:moveTo>
                      <a:lnTo>
                        <a:pt x="1657" y="0"/>
                      </a:lnTo>
                      <a:lnTo>
                        <a:pt x="1789" y="335"/>
                      </a:lnTo>
                      <a:lnTo>
                        <a:pt x="0" y="2312"/>
                      </a:lnTo>
                      <a:lnTo>
                        <a:pt x="497" y="1282"/>
                      </a:lnTo>
                      <a:close/>
                    </a:path>
                  </a:pathLst>
                </a:custGeom>
                <a:solidFill>
                  <a:srgbClr val="a980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41"/>
                <p:cNvSpPr/>
                <p:nvPr/>
              </p:nvSpPr>
              <p:spPr>
                <a:xfrm>
                  <a:off x="2703960" y="2836440"/>
                  <a:ext cx="469800" cy="552960"/>
                </a:xfrm>
                <a:custGeom>
                  <a:avLst/>
                  <a:gdLst/>
                  <a:ahLst/>
                  <a:rect l="l" t="t" r="r" b="b"/>
                  <a:pathLst>
                    <a:path w="2102" h="2660">
                      <a:moveTo>
                        <a:pt x="497" y="1629"/>
                      </a:moveTo>
                      <a:lnTo>
                        <a:pt x="1971" y="0"/>
                      </a:lnTo>
                      <a:lnTo>
                        <a:pt x="2102" y="336"/>
                      </a:lnTo>
                      <a:lnTo>
                        <a:pt x="0" y="2660"/>
                      </a:lnTo>
                      <a:lnTo>
                        <a:pt x="497" y="1629"/>
                      </a:lnTo>
                      <a:close/>
                    </a:path>
                  </a:pathLst>
                </a:custGeom>
                <a:solidFill>
                  <a:srgbClr val="aa81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42"/>
                <p:cNvSpPr/>
                <p:nvPr/>
              </p:nvSpPr>
              <p:spPr>
                <a:xfrm>
                  <a:off x="2648160" y="2871000"/>
                  <a:ext cx="541800" cy="624960"/>
                </a:xfrm>
                <a:custGeom>
                  <a:avLst/>
                  <a:gdLst/>
                  <a:ahLst/>
                  <a:rect l="l" t="t" r="r" b="b"/>
                  <a:pathLst>
                    <a:path w="2416" h="3007">
                      <a:moveTo>
                        <a:pt x="496" y="1977"/>
                      </a:moveTo>
                      <a:lnTo>
                        <a:pt x="2285" y="0"/>
                      </a:lnTo>
                      <a:lnTo>
                        <a:pt x="2416" y="336"/>
                      </a:lnTo>
                      <a:lnTo>
                        <a:pt x="0" y="3007"/>
                      </a:lnTo>
                      <a:lnTo>
                        <a:pt x="496" y="1977"/>
                      </a:lnTo>
                      <a:close/>
                    </a:path>
                  </a:pathLst>
                </a:custGeom>
                <a:solidFill>
                  <a:srgbClr val="ab83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43"/>
                <p:cNvSpPr/>
                <p:nvPr/>
              </p:nvSpPr>
              <p:spPr>
                <a:xfrm>
                  <a:off x="2621520" y="2904840"/>
                  <a:ext cx="582840" cy="666360"/>
                </a:xfrm>
                <a:custGeom>
                  <a:avLst/>
                  <a:gdLst/>
                  <a:ahLst/>
                  <a:rect l="l" t="t" r="r" b="b"/>
                  <a:pathLst>
                    <a:path w="2597" h="3199">
                      <a:moveTo>
                        <a:pt x="363" y="2324"/>
                      </a:moveTo>
                      <a:lnTo>
                        <a:pt x="2465" y="0"/>
                      </a:lnTo>
                      <a:lnTo>
                        <a:pt x="2597" y="335"/>
                      </a:lnTo>
                      <a:lnTo>
                        <a:pt x="6" y="3199"/>
                      </a:lnTo>
                      <a:lnTo>
                        <a:pt x="0" y="3074"/>
                      </a:lnTo>
                      <a:lnTo>
                        <a:pt x="363" y="2324"/>
                      </a:lnTo>
                      <a:close/>
                    </a:path>
                  </a:pathLst>
                </a:custGeom>
                <a:solidFill>
                  <a:srgbClr val="ad84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44"/>
                <p:cNvSpPr/>
                <p:nvPr/>
              </p:nvSpPr>
              <p:spPr>
                <a:xfrm>
                  <a:off x="2621520" y="2939400"/>
                  <a:ext cx="597240" cy="679680"/>
                </a:xfrm>
                <a:custGeom>
                  <a:avLst/>
                  <a:gdLst/>
                  <a:ahLst/>
                  <a:rect l="l" t="t" r="r" b="b"/>
                  <a:pathLst>
                    <a:path w="2664" h="3261">
                      <a:moveTo>
                        <a:pt x="115" y="2671"/>
                      </a:moveTo>
                      <a:lnTo>
                        <a:pt x="2531" y="0"/>
                      </a:lnTo>
                      <a:lnTo>
                        <a:pt x="2664" y="335"/>
                      </a:lnTo>
                      <a:lnTo>
                        <a:pt x="15" y="3261"/>
                      </a:lnTo>
                      <a:lnTo>
                        <a:pt x="0" y="2906"/>
                      </a:lnTo>
                      <a:lnTo>
                        <a:pt x="115" y="2671"/>
                      </a:lnTo>
                      <a:close/>
                    </a:path>
                  </a:pathLst>
                </a:custGeom>
                <a:solidFill>
                  <a:srgbClr val="ae85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5"/>
                <p:cNvSpPr/>
                <p:nvPr/>
              </p:nvSpPr>
              <p:spPr>
                <a:xfrm>
                  <a:off x="2622960" y="2974680"/>
                  <a:ext cx="609840" cy="693000"/>
                </a:xfrm>
                <a:custGeom>
                  <a:avLst/>
                  <a:gdLst/>
                  <a:ahLst/>
                  <a:rect l="l" t="t" r="r" b="b"/>
                  <a:pathLst>
                    <a:path w="2724" h="3326">
                      <a:moveTo>
                        <a:pt x="0" y="2864"/>
                      </a:moveTo>
                      <a:lnTo>
                        <a:pt x="2591" y="0"/>
                      </a:lnTo>
                      <a:lnTo>
                        <a:pt x="2724" y="335"/>
                      </a:lnTo>
                      <a:lnTo>
                        <a:pt x="18" y="3326"/>
                      </a:lnTo>
                      <a:lnTo>
                        <a:pt x="0" y="2864"/>
                      </a:lnTo>
                      <a:close/>
                    </a:path>
                  </a:pathLst>
                </a:custGeom>
                <a:solidFill>
                  <a:srgbClr val="b087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46"/>
                <p:cNvSpPr/>
                <p:nvPr/>
              </p:nvSpPr>
              <p:spPr>
                <a:xfrm>
                  <a:off x="2625120" y="3009600"/>
                  <a:ext cx="623880" cy="706320"/>
                </a:xfrm>
                <a:custGeom>
                  <a:avLst/>
                  <a:gdLst/>
                  <a:ahLst/>
                  <a:rect l="l" t="t" r="r" b="b"/>
                  <a:pathLst>
                    <a:path w="2780" h="3388">
                      <a:moveTo>
                        <a:pt x="0" y="2926"/>
                      </a:moveTo>
                      <a:lnTo>
                        <a:pt x="2649" y="0"/>
                      </a:lnTo>
                      <a:lnTo>
                        <a:pt x="2780" y="335"/>
                      </a:lnTo>
                      <a:lnTo>
                        <a:pt x="17" y="3388"/>
                      </a:lnTo>
                      <a:lnTo>
                        <a:pt x="0" y="2926"/>
                      </a:lnTo>
                      <a:close/>
                    </a:path>
                  </a:pathLst>
                </a:custGeom>
                <a:solidFill>
                  <a:srgbClr val="b18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47"/>
                <p:cNvSpPr/>
                <p:nvPr/>
              </p:nvSpPr>
              <p:spPr>
                <a:xfrm>
                  <a:off x="2626560" y="3044520"/>
                  <a:ext cx="636480" cy="719640"/>
                </a:xfrm>
                <a:custGeom>
                  <a:avLst/>
                  <a:gdLst/>
                  <a:ahLst/>
                  <a:rect l="l" t="t" r="r" b="b"/>
                  <a:pathLst>
                    <a:path w="2837" h="3451">
                      <a:moveTo>
                        <a:pt x="0" y="2991"/>
                      </a:moveTo>
                      <a:lnTo>
                        <a:pt x="2706" y="0"/>
                      </a:lnTo>
                      <a:lnTo>
                        <a:pt x="2837" y="335"/>
                      </a:lnTo>
                      <a:lnTo>
                        <a:pt x="17" y="3451"/>
                      </a:lnTo>
                      <a:lnTo>
                        <a:pt x="0" y="2991"/>
                      </a:lnTo>
                      <a:close/>
                    </a:path>
                  </a:pathLst>
                </a:custGeom>
                <a:solidFill>
                  <a:srgbClr val="b389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8"/>
                <p:cNvSpPr/>
                <p:nvPr/>
              </p:nvSpPr>
              <p:spPr>
                <a:xfrm>
                  <a:off x="2628360" y="3079800"/>
                  <a:ext cx="649440" cy="731520"/>
                </a:xfrm>
                <a:custGeom>
                  <a:avLst/>
                  <a:gdLst/>
                  <a:ahLst/>
                  <a:rect l="l" t="t" r="r" b="b"/>
                  <a:pathLst>
                    <a:path w="2895" h="3513">
                      <a:moveTo>
                        <a:pt x="0" y="3053"/>
                      </a:moveTo>
                      <a:lnTo>
                        <a:pt x="2763" y="0"/>
                      </a:lnTo>
                      <a:lnTo>
                        <a:pt x="2895" y="335"/>
                      </a:lnTo>
                      <a:lnTo>
                        <a:pt x="18" y="3513"/>
                      </a:lnTo>
                      <a:lnTo>
                        <a:pt x="0" y="3053"/>
                      </a:lnTo>
                      <a:close/>
                    </a:path>
                  </a:pathLst>
                </a:custGeom>
                <a:solidFill>
                  <a:srgbClr val="b48a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49"/>
                <p:cNvSpPr/>
                <p:nvPr/>
              </p:nvSpPr>
              <p:spPr>
                <a:xfrm>
                  <a:off x="2630520" y="3114360"/>
                  <a:ext cx="661680" cy="744480"/>
                </a:xfrm>
                <a:custGeom>
                  <a:avLst/>
                  <a:gdLst/>
                  <a:ahLst/>
                  <a:rect l="l" t="t" r="r" b="b"/>
                  <a:pathLst>
                    <a:path w="2952" h="3577">
                      <a:moveTo>
                        <a:pt x="0" y="3116"/>
                      </a:moveTo>
                      <a:lnTo>
                        <a:pt x="2820" y="0"/>
                      </a:lnTo>
                      <a:lnTo>
                        <a:pt x="2952" y="336"/>
                      </a:lnTo>
                      <a:lnTo>
                        <a:pt x="18" y="3577"/>
                      </a:lnTo>
                      <a:lnTo>
                        <a:pt x="0" y="3116"/>
                      </a:lnTo>
                      <a:close/>
                    </a:path>
                  </a:pathLst>
                </a:custGeom>
                <a:solidFill>
                  <a:srgbClr val="b68c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50"/>
                <p:cNvSpPr/>
                <p:nvPr/>
              </p:nvSpPr>
              <p:spPr>
                <a:xfrm>
                  <a:off x="2631960" y="3149640"/>
                  <a:ext cx="676440" cy="757800"/>
                </a:xfrm>
                <a:custGeom>
                  <a:avLst/>
                  <a:gdLst/>
                  <a:ahLst/>
                  <a:rect l="l" t="t" r="r" b="b"/>
                  <a:pathLst>
                    <a:path w="3008" h="3639">
                      <a:moveTo>
                        <a:pt x="0" y="3178"/>
                      </a:moveTo>
                      <a:lnTo>
                        <a:pt x="2877" y="0"/>
                      </a:lnTo>
                      <a:lnTo>
                        <a:pt x="3008" y="336"/>
                      </a:lnTo>
                      <a:lnTo>
                        <a:pt x="18" y="3639"/>
                      </a:lnTo>
                      <a:lnTo>
                        <a:pt x="0" y="3178"/>
                      </a:lnTo>
                      <a:close/>
                    </a:path>
                  </a:pathLst>
                </a:custGeom>
                <a:solidFill>
                  <a:srgbClr val="b78e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51"/>
                <p:cNvSpPr/>
                <p:nvPr/>
              </p:nvSpPr>
              <p:spPr>
                <a:xfrm>
                  <a:off x="2635560" y="3184560"/>
                  <a:ext cx="686880" cy="771480"/>
                </a:xfrm>
                <a:custGeom>
                  <a:avLst/>
                  <a:gdLst/>
                  <a:ahLst/>
                  <a:rect l="l" t="t" r="r" b="b"/>
                  <a:pathLst>
                    <a:path w="3065" h="3702">
                      <a:moveTo>
                        <a:pt x="0" y="3241"/>
                      </a:moveTo>
                      <a:lnTo>
                        <a:pt x="2934" y="0"/>
                      </a:lnTo>
                      <a:lnTo>
                        <a:pt x="3065" y="334"/>
                      </a:lnTo>
                      <a:lnTo>
                        <a:pt x="18" y="3702"/>
                      </a:lnTo>
                      <a:lnTo>
                        <a:pt x="0" y="3241"/>
                      </a:lnTo>
                      <a:close/>
                    </a:path>
                  </a:pathLst>
                </a:custGeom>
                <a:solidFill>
                  <a:srgbClr val="b890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52"/>
                <p:cNvSpPr/>
                <p:nvPr/>
              </p:nvSpPr>
              <p:spPr>
                <a:xfrm>
                  <a:off x="2637360" y="3219480"/>
                  <a:ext cx="686880" cy="784800"/>
                </a:xfrm>
                <a:custGeom>
                  <a:avLst/>
                  <a:gdLst/>
                  <a:ahLst/>
                  <a:rect l="l" t="t" r="r" b="b"/>
                  <a:pathLst>
                    <a:path w="3068" h="3764">
                      <a:moveTo>
                        <a:pt x="0" y="3303"/>
                      </a:moveTo>
                      <a:lnTo>
                        <a:pt x="2990" y="0"/>
                      </a:lnTo>
                      <a:lnTo>
                        <a:pt x="3068" y="195"/>
                      </a:lnTo>
                      <a:lnTo>
                        <a:pt x="3068" y="395"/>
                      </a:lnTo>
                      <a:lnTo>
                        <a:pt x="18" y="3764"/>
                      </a:lnTo>
                      <a:lnTo>
                        <a:pt x="0" y="3303"/>
                      </a:lnTo>
                      <a:close/>
                    </a:path>
                  </a:pathLst>
                </a:custGeom>
                <a:solidFill>
                  <a:srgbClr val="bb92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53"/>
                <p:cNvSpPr/>
                <p:nvPr/>
              </p:nvSpPr>
              <p:spPr>
                <a:xfrm>
                  <a:off x="2639160" y="3254760"/>
                  <a:ext cx="685080" cy="796320"/>
                </a:xfrm>
                <a:custGeom>
                  <a:avLst/>
                  <a:gdLst/>
                  <a:ahLst/>
                  <a:rect l="l" t="t" r="r" b="b"/>
                  <a:pathLst>
                    <a:path w="3059" h="3829">
                      <a:moveTo>
                        <a:pt x="0" y="3368"/>
                      </a:moveTo>
                      <a:lnTo>
                        <a:pt x="3047" y="0"/>
                      </a:lnTo>
                      <a:lnTo>
                        <a:pt x="3059" y="29"/>
                      </a:lnTo>
                      <a:lnTo>
                        <a:pt x="3059" y="470"/>
                      </a:lnTo>
                      <a:lnTo>
                        <a:pt x="18" y="3829"/>
                      </a:lnTo>
                      <a:lnTo>
                        <a:pt x="0" y="3368"/>
                      </a:lnTo>
                      <a:close/>
                    </a:path>
                  </a:pathLst>
                </a:custGeom>
                <a:solidFill>
                  <a:srgbClr val="bb9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54"/>
                <p:cNvSpPr/>
                <p:nvPr/>
              </p:nvSpPr>
              <p:spPr>
                <a:xfrm>
                  <a:off x="2640960" y="3303000"/>
                  <a:ext cx="683280" cy="795960"/>
                </a:xfrm>
                <a:custGeom>
                  <a:avLst/>
                  <a:gdLst/>
                  <a:ahLst/>
                  <a:rect l="l" t="t" r="r" b="b"/>
                  <a:pathLst>
                    <a:path w="3050" h="3830">
                      <a:moveTo>
                        <a:pt x="0" y="3369"/>
                      </a:moveTo>
                      <a:lnTo>
                        <a:pt x="3050" y="0"/>
                      </a:lnTo>
                      <a:lnTo>
                        <a:pt x="3050" y="481"/>
                      </a:lnTo>
                      <a:lnTo>
                        <a:pt x="18" y="3830"/>
                      </a:lnTo>
                      <a:lnTo>
                        <a:pt x="0" y="3369"/>
                      </a:lnTo>
                      <a:close/>
                    </a:path>
                  </a:pathLst>
                </a:custGeom>
                <a:solidFill>
                  <a:srgbClr val="bd94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55"/>
                <p:cNvSpPr/>
                <p:nvPr/>
              </p:nvSpPr>
              <p:spPr>
                <a:xfrm>
                  <a:off x="2643120" y="3353040"/>
                  <a:ext cx="681120" cy="794520"/>
                </a:xfrm>
                <a:custGeom>
                  <a:avLst/>
                  <a:gdLst/>
                  <a:ahLst/>
                  <a:rect l="l" t="t" r="r" b="b"/>
                  <a:pathLst>
                    <a:path w="3041" h="3819">
                      <a:moveTo>
                        <a:pt x="0" y="3359"/>
                      </a:moveTo>
                      <a:lnTo>
                        <a:pt x="3041" y="0"/>
                      </a:lnTo>
                      <a:lnTo>
                        <a:pt x="3041" y="481"/>
                      </a:lnTo>
                      <a:lnTo>
                        <a:pt x="18" y="3819"/>
                      </a:lnTo>
                      <a:lnTo>
                        <a:pt x="0" y="3359"/>
                      </a:lnTo>
                      <a:close/>
                    </a:path>
                  </a:pathLst>
                </a:custGeom>
                <a:solidFill>
                  <a:srgbClr val="be96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56"/>
                <p:cNvSpPr/>
                <p:nvPr/>
              </p:nvSpPr>
              <p:spPr>
                <a:xfrm>
                  <a:off x="2644560" y="3402720"/>
                  <a:ext cx="679680" cy="793080"/>
                </a:xfrm>
                <a:custGeom>
                  <a:avLst/>
                  <a:gdLst/>
                  <a:ahLst/>
                  <a:rect l="l" t="t" r="r" b="b"/>
                  <a:pathLst>
                    <a:path w="3032" h="3809">
                      <a:moveTo>
                        <a:pt x="0" y="3349"/>
                      </a:moveTo>
                      <a:lnTo>
                        <a:pt x="3032" y="0"/>
                      </a:lnTo>
                      <a:lnTo>
                        <a:pt x="3032" y="481"/>
                      </a:lnTo>
                      <a:lnTo>
                        <a:pt x="17" y="3809"/>
                      </a:lnTo>
                      <a:lnTo>
                        <a:pt x="0" y="3349"/>
                      </a:lnTo>
                      <a:close/>
                    </a:path>
                  </a:pathLst>
                </a:custGeom>
                <a:solidFill>
                  <a:srgbClr val="c098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57"/>
                <p:cNvSpPr/>
                <p:nvPr/>
              </p:nvSpPr>
              <p:spPr>
                <a:xfrm>
                  <a:off x="2646720" y="3452760"/>
                  <a:ext cx="677520" cy="791640"/>
                </a:xfrm>
                <a:custGeom>
                  <a:avLst/>
                  <a:gdLst/>
                  <a:ahLst/>
                  <a:rect l="l" t="t" r="r" b="b"/>
                  <a:pathLst>
                    <a:path w="3023" h="3800">
                      <a:moveTo>
                        <a:pt x="0" y="3338"/>
                      </a:moveTo>
                      <a:lnTo>
                        <a:pt x="3023" y="0"/>
                      </a:lnTo>
                      <a:lnTo>
                        <a:pt x="3023" y="480"/>
                      </a:lnTo>
                      <a:lnTo>
                        <a:pt x="17" y="3800"/>
                      </a:lnTo>
                      <a:lnTo>
                        <a:pt x="0" y="3338"/>
                      </a:lnTo>
                      <a:close/>
                    </a:path>
                  </a:pathLst>
                </a:custGeom>
                <a:solidFill>
                  <a:srgbClr val="c199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58"/>
                <p:cNvSpPr/>
                <p:nvPr/>
              </p:nvSpPr>
              <p:spPr>
                <a:xfrm>
                  <a:off x="2648160" y="3502800"/>
                  <a:ext cx="676080" cy="788040"/>
                </a:xfrm>
                <a:custGeom>
                  <a:avLst/>
                  <a:gdLst/>
                  <a:ahLst/>
                  <a:rect l="l" t="t" r="r" b="b"/>
                  <a:pathLst>
                    <a:path w="3015" h="3790">
                      <a:moveTo>
                        <a:pt x="0" y="3328"/>
                      </a:moveTo>
                      <a:lnTo>
                        <a:pt x="3015" y="0"/>
                      </a:lnTo>
                      <a:lnTo>
                        <a:pt x="3015" y="481"/>
                      </a:lnTo>
                      <a:lnTo>
                        <a:pt x="19" y="3790"/>
                      </a:lnTo>
                      <a:lnTo>
                        <a:pt x="0" y="3328"/>
                      </a:lnTo>
                      <a:close/>
                    </a:path>
                  </a:pathLst>
                </a:custGeom>
                <a:solidFill>
                  <a:srgbClr val="c29a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59"/>
                <p:cNvSpPr/>
                <p:nvPr/>
              </p:nvSpPr>
              <p:spPr>
                <a:xfrm>
                  <a:off x="2651760" y="3552840"/>
                  <a:ext cx="672480" cy="786240"/>
                </a:xfrm>
                <a:custGeom>
                  <a:avLst/>
                  <a:gdLst/>
                  <a:ahLst/>
                  <a:rect l="l" t="t" r="r" b="b"/>
                  <a:pathLst>
                    <a:path w="3006" h="3780">
                      <a:moveTo>
                        <a:pt x="0" y="3320"/>
                      </a:moveTo>
                      <a:lnTo>
                        <a:pt x="3006" y="0"/>
                      </a:lnTo>
                      <a:lnTo>
                        <a:pt x="3006" y="481"/>
                      </a:lnTo>
                      <a:lnTo>
                        <a:pt x="19" y="3780"/>
                      </a:lnTo>
                      <a:lnTo>
                        <a:pt x="0" y="3320"/>
                      </a:lnTo>
                      <a:close/>
                    </a:path>
                  </a:pathLst>
                </a:custGeom>
                <a:solidFill>
                  <a:srgbClr val="c39c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60"/>
                <p:cNvSpPr/>
                <p:nvPr/>
              </p:nvSpPr>
              <p:spPr>
                <a:xfrm>
                  <a:off x="2653560" y="3602880"/>
                  <a:ext cx="670680" cy="784800"/>
                </a:xfrm>
                <a:custGeom>
                  <a:avLst/>
                  <a:gdLst/>
                  <a:ahLst/>
                  <a:rect l="l" t="t" r="r" b="b"/>
                  <a:pathLst>
                    <a:path w="2996" h="3770">
                      <a:moveTo>
                        <a:pt x="0" y="3309"/>
                      </a:moveTo>
                      <a:lnTo>
                        <a:pt x="2996" y="0"/>
                      </a:lnTo>
                      <a:lnTo>
                        <a:pt x="2996" y="480"/>
                      </a:lnTo>
                      <a:lnTo>
                        <a:pt x="18" y="3770"/>
                      </a:lnTo>
                      <a:lnTo>
                        <a:pt x="0" y="3309"/>
                      </a:lnTo>
                      <a:close/>
                    </a:path>
                  </a:pathLst>
                </a:custGeom>
                <a:solidFill>
                  <a:srgbClr val="c49d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61"/>
                <p:cNvSpPr/>
                <p:nvPr/>
              </p:nvSpPr>
              <p:spPr>
                <a:xfrm>
                  <a:off x="2655720" y="3652920"/>
                  <a:ext cx="668520" cy="782640"/>
                </a:xfrm>
                <a:custGeom>
                  <a:avLst/>
                  <a:gdLst/>
                  <a:ahLst/>
                  <a:rect l="l" t="t" r="r" b="b"/>
                  <a:pathLst>
                    <a:path w="2987" h="3760">
                      <a:moveTo>
                        <a:pt x="0" y="3299"/>
                      </a:moveTo>
                      <a:lnTo>
                        <a:pt x="2987" y="0"/>
                      </a:lnTo>
                      <a:lnTo>
                        <a:pt x="2987" y="481"/>
                      </a:lnTo>
                      <a:lnTo>
                        <a:pt x="18" y="3760"/>
                      </a:lnTo>
                      <a:lnTo>
                        <a:pt x="0" y="3299"/>
                      </a:lnTo>
                      <a:close/>
                    </a:path>
                  </a:pathLst>
                </a:custGeom>
                <a:solidFill>
                  <a:srgbClr val="c79f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62"/>
                <p:cNvSpPr/>
                <p:nvPr/>
              </p:nvSpPr>
              <p:spPr>
                <a:xfrm>
                  <a:off x="2657160" y="3702960"/>
                  <a:ext cx="667080" cy="751320"/>
                </a:xfrm>
                <a:custGeom>
                  <a:avLst/>
                  <a:gdLst/>
                  <a:ahLst/>
                  <a:rect l="l" t="t" r="r" b="b"/>
                  <a:pathLst>
                    <a:path w="2978" h="3605">
                      <a:moveTo>
                        <a:pt x="0" y="3290"/>
                      </a:moveTo>
                      <a:lnTo>
                        <a:pt x="2978" y="0"/>
                      </a:lnTo>
                      <a:lnTo>
                        <a:pt x="2978" y="481"/>
                      </a:lnTo>
                      <a:lnTo>
                        <a:pt x="680" y="3019"/>
                      </a:lnTo>
                      <a:lnTo>
                        <a:pt x="12" y="3605"/>
                      </a:lnTo>
                      <a:lnTo>
                        <a:pt x="12" y="3605"/>
                      </a:lnTo>
                      <a:lnTo>
                        <a:pt x="0" y="3290"/>
                      </a:lnTo>
                      <a:close/>
                    </a:path>
                  </a:pathLst>
                </a:custGeom>
                <a:solidFill>
                  <a:srgbClr val="c8a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63"/>
                <p:cNvSpPr/>
                <p:nvPr/>
              </p:nvSpPr>
              <p:spPr>
                <a:xfrm>
                  <a:off x="2658960" y="3752640"/>
                  <a:ext cx="665280" cy="701640"/>
                </a:xfrm>
                <a:custGeom>
                  <a:avLst/>
                  <a:gdLst/>
                  <a:ahLst/>
                  <a:rect l="l" t="t" r="r" b="b"/>
                  <a:pathLst>
                    <a:path w="2969" h="3364">
                      <a:moveTo>
                        <a:pt x="0" y="3279"/>
                      </a:moveTo>
                      <a:lnTo>
                        <a:pt x="2969" y="0"/>
                      </a:lnTo>
                      <a:lnTo>
                        <a:pt x="2969" y="480"/>
                      </a:lnTo>
                      <a:lnTo>
                        <a:pt x="1729" y="1849"/>
                      </a:lnTo>
                      <a:lnTo>
                        <a:pt x="3" y="3364"/>
                      </a:lnTo>
                      <a:lnTo>
                        <a:pt x="3" y="3364"/>
                      </a:lnTo>
                      <a:lnTo>
                        <a:pt x="0" y="3279"/>
                      </a:lnTo>
                      <a:close/>
                    </a:path>
                  </a:pathLst>
                </a:custGeom>
                <a:solidFill>
                  <a:srgbClr val="cba2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64"/>
                <p:cNvSpPr/>
                <p:nvPr/>
              </p:nvSpPr>
              <p:spPr>
                <a:xfrm>
                  <a:off x="2809800" y="3802680"/>
                  <a:ext cx="514440" cy="528120"/>
                </a:xfrm>
                <a:custGeom>
                  <a:avLst/>
                  <a:gdLst/>
                  <a:ahLst/>
                  <a:rect l="l" t="t" r="r" b="b"/>
                  <a:pathLst>
                    <a:path w="2298" h="2538">
                      <a:moveTo>
                        <a:pt x="0" y="2538"/>
                      </a:moveTo>
                      <a:lnTo>
                        <a:pt x="2298" y="0"/>
                      </a:lnTo>
                      <a:lnTo>
                        <a:pt x="2298" y="481"/>
                      </a:lnTo>
                      <a:lnTo>
                        <a:pt x="2116" y="680"/>
                      </a:lnTo>
                      <a:lnTo>
                        <a:pt x="0" y="2538"/>
                      </a:lnTo>
                      <a:close/>
                    </a:path>
                  </a:pathLst>
                </a:custGeom>
                <a:solidFill>
                  <a:srgbClr val="cca4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5"/>
                <p:cNvSpPr/>
                <p:nvPr/>
              </p:nvSpPr>
              <p:spPr>
                <a:xfrm>
                  <a:off x="3046680" y="3852720"/>
                  <a:ext cx="277560" cy="284760"/>
                </a:xfrm>
                <a:custGeom>
                  <a:avLst/>
                  <a:gdLst/>
                  <a:ahLst/>
                  <a:rect l="l" t="t" r="r" b="b"/>
                  <a:pathLst>
                    <a:path w="1240" h="1369">
                      <a:moveTo>
                        <a:pt x="0" y="1369"/>
                      </a:moveTo>
                      <a:lnTo>
                        <a:pt x="1240" y="0"/>
                      </a:lnTo>
                      <a:lnTo>
                        <a:pt x="1240" y="281"/>
                      </a:lnTo>
                      <a:lnTo>
                        <a:pt x="0" y="1369"/>
                      </a:lnTo>
                      <a:close/>
                    </a:path>
                  </a:pathLst>
                </a:custGeom>
                <a:solidFill>
                  <a:srgbClr val="cfa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66"/>
                <p:cNvSpPr/>
                <p:nvPr/>
              </p:nvSpPr>
              <p:spPr>
                <a:xfrm>
                  <a:off x="3285000" y="3902760"/>
                  <a:ext cx="39240" cy="41400"/>
                </a:xfrm>
                <a:custGeom>
                  <a:avLst/>
                  <a:gdLst/>
                  <a:ahLst/>
                  <a:rect l="l" t="t" r="r" b="b"/>
                  <a:pathLst>
                    <a:path w="182" h="199">
                      <a:moveTo>
                        <a:pt x="0" y="199"/>
                      </a:moveTo>
                      <a:lnTo>
                        <a:pt x="182" y="0"/>
                      </a:lnTo>
                      <a:lnTo>
                        <a:pt x="182" y="40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d0a7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67"/>
                <p:cNvSpPr/>
                <p:nvPr/>
              </p:nvSpPr>
              <p:spPr>
                <a:xfrm>
                  <a:off x="4076280" y="4861080"/>
                  <a:ext cx="26640" cy="19800"/>
                </a:xfrm>
                <a:custGeom>
                  <a:avLst/>
                  <a:gdLst/>
                  <a:ahLst/>
                  <a:rect l="l" t="t" r="r" b="b"/>
                  <a:pathLst>
                    <a:path w="119" h="94">
                      <a:moveTo>
                        <a:pt x="102" y="0"/>
                      </a:moveTo>
                      <a:lnTo>
                        <a:pt x="119" y="40"/>
                      </a:lnTo>
                      <a:lnTo>
                        <a:pt x="0" y="94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727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68"/>
                <p:cNvSpPr/>
                <p:nvPr/>
              </p:nvSpPr>
              <p:spPr>
                <a:xfrm>
                  <a:off x="4076280" y="4840920"/>
                  <a:ext cx="53640" cy="39960"/>
                </a:xfrm>
                <a:custGeom>
                  <a:avLst/>
                  <a:gdLst/>
                  <a:ahLst/>
                  <a:rect l="l" t="t" r="r" b="b"/>
                  <a:pathLst>
                    <a:path w="239" h="188">
                      <a:moveTo>
                        <a:pt x="204" y="0"/>
                      </a:moveTo>
                      <a:lnTo>
                        <a:pt x="239" y="79"/>
                      </a:lnTo>
                      <a:lnTo>
                        <a:pt x="0" y="188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727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69"/>
                <p:cNvSpPr/>
                <p:nvPr/>
              </p:nvSpPr>
              <p:spPr>
                <a:xfrm>
                  <a:off x="4099320" y="4822560"/>
                  <a:ext cx="57240" cy="46800"/>
                </a:xfrm>
                <a:custGeom>
                  <a:avLst/>
                  <a:gdLst/>
                  <a:ahLst/>
                  <a:rect l="l" t="t" r="r" b="b"/>
                  <a:pathLst>
                    <a:path w="257" h="228">
                      <a:moveTo>
                        <a:pt x="17" y="228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57" y="119"/>
                      </a:lnTo>
                      <a:lnTo>
                        <a:pt x="17" y="228"/>
                      </a:lnTo>
                      <a:close/>
                    </a:path>
                  </a:pathLst>
                </a:custGeom>
                <a:solidFill>
                  <a:srgbClr val="7573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70"/>
                <p:cNvSpPr/>
                <p:nvPr/>
              </p:nvSpPr>
              <p:spPr>
                <a:xfrm>
                  <a:off x="4123080" y="4802400"/>
                  <a:ext cx="60840" cy="55080"/>
                </a:xfrm>
                <a:custGeom>
                  <a:avLst/>
                  <a:gdLst/>
                  <a:ahLst/>
                  <a:rect l="l" t="t" r="r" b="b"/>
                  <a:pathLst>
                    <a:path w="274" h="267">
                      <a:moveTo>
                        <a:pt x="35" y="267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74" y="158"/>
                      </a:lnTo>
                      <a:lnTo>
                        <a:pt x="35" y="267"/>
                      </a:lnTo>
                      <a:close/>
                    </a:path>
                  </a:pathLst>
                </a:custGeom>
                <a:solidFill>
                  <a:srgbClr val="7876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71"/>
                <p:cNvSpPr/>
                <p:nvPr/>
              </p:nvSpPr>
              <p:spPr>
                <a:xfrm>
                  <a:off x="4146120" y="4782600"/>
                  <a:ext cx="64440" cy="63360"/>
                </a:xfrm>
                <a:custGeom>
                  <a:avLst/>
                  <a:gdLst/>
                  <a:ahLst/>
                  <a:rect l="l" t="t" r="r" b="b"/>
                  <a:pathLst>
                    <a:path w="293" h="307">
                      <a:moveTo>
                        <a:pt x="53" y="307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93" y="198"/>
                      </a:lnTo>
                      <a:lnTo>
                        <a:pt x="53" y="307"/>
                      </a:lnTo>
                      <a:close/>
                    </a:path>
                  </a:pathLst>
                </a:custGeom>
                <a:solidFill>
                  <a:srgbClr val="7b7a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72"/>
                <p:cNvSpPr/>
                <p:nvPr/>
              </p:nvSpPr>
              <p:spPr>
                <a:xfrm>
                  <a:off x="4167720" y="4762440"/>
                  <a:ext cx="69840" cy="73440"/>
                </a:xfrm>
                <a:custGeom>
                  <a:avLst/>
                  <a:gdLst/>
                  <a:ahLst/>
                  <a:rect l="l" t="t" r="r" b="b"/>
                  <a:pathLst>
                    <a:path w="311" h="346">
                      <a:moveTo>
                        <a:pt x="70" y="346"/>
                      </a:moveTo>
                      <a:lnTo>
                        <a:pt x="0" y="188"/>
                      </a:lnTo>
                      <a:lnTo>
                        <a:pt x="203" y="0"/>
                      </a:lnTo>
                      <a:lnTo>
                        <a:pt x="311" y="238"/>
                      </a:lnTo>
                      <a:lnTo>
                        <a:pt x="70" y="346"/>
                      </a:lnTo>
                      <a:close/>
                    </a:path>
                  </a:pathLst>
                </a:custGeom>
                <a:solidFill>
                  <a:srgbClr val="7f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73"/>
                <p:cNvSpPr/>
                <p:nvPr/>
              </p:nvSpPr>
              <p:spPr>
                <a:xfrm>
                  <a:off x="4191120" y="4744440"/>
                  <a:ext cx="73440" cy="79920"/>
                </a:xfrm>
                <a:custGeom>
                  <a:avLst/>
                  <a:gdLst/>
                  <a:ahLst/>
                  <a:rect l="l" t="t" r="r" b="b"/>
                  <a:pathLst>
                    <a:path w="328" h="387">
                      <a:moveTo>
                        <a:pt x="89" y="387"/>
                      </a:moveTo>
                      <a:lnTo>
                        <a:pt x="0" y="189"/>
                      </a:lnTo>
                      <a:lnTo>
                        <a:pt x="203" y="0"/>
                      </a:lnTo>
                      <a:lnTo>
                        <a:pt x="328" y="278"/>
                      </a:lnTo>
                      <a:lnTo>
                        <a:pt x="89" y="387"/>
                      </a:lnTo>
                      <a:close/>
                    </a:path>
                  </a:pathLst>
                </a:custGeom>
                <a:solidFill>
                  <a:srgbClr val="828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74"/>
                <p:cNvSpPr/>
                <p:nvPr/>
              </p:nvSpPr>
              <p:spPr>
                <a:xfrm>
                  <a:off x="4214520" y="4724280"/>
                  <a:ext cx="76680" cy="88200"/>
                </a:xfrm>
                <a:custGeom>
                  <a:avLst/>
                  <a:gdLst/>
                  <a:ahLst/>
                  <a:rect l="l" t="t" r="r" b="b"/>
                  <a:pathLst>
                    <a:path w="347" h="427">
                      <a:moveTo>
                        <a:pt x="108" y="427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347" y="318"/>
                      </a:lnTo>
                      <a:lnTo>
                        <a:pt x="108" y="427"/>
                      </a:lnTo>
                      <a:close/>
                    </a:path>
                  </a:pathLst>
                </a:custGeom>
                <a:solidFill>
                  <a:srgbClr val="858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75"/>
                <p:cNvSpPr/>
                <p:nvPr/>
              </p:nvSpPr>
              <p:spPr>
                <a:xfrm>
                  <a:off x="4237920" y="4704120"/>
                  <a:ext cx="80280" cy="96480"/>
                </a:xfrm>
                <a:custGeom>
                  <a:avLst/>
                  <a:gdLst/>
                  <a:ahLst/>
                  <a:rect l="l" t="t" r="r" b="b"/>
                  <a:pathLst>
                    <a:path w="365" h="466">
                      <a:moveTo>
                        <a:pt x="125" y="466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365" y="357"/>
                      </a:lnTo>
                      <a:lnTo>
                        <a:pt x="125" y="466"/>
                      </a:lnTo>
                      <a:close/>
                    </a:path>
                  </a:pathLst>
                </a:custGeom>
                <a:solidFill>
                  <a:srgbClr val="8887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76"/>
                <p:cNvSpPr/>
                <p:nvPr/>
              </p:nvSpPr>
              <p:spPr>
                <a:xfrm>
                  <a:off x="4259520" y="4684320"/>
                  <a:ext cx="86040" cy="104760"/>
                </a:xfrm>
                <a:custGeom>
                  <a:avLst/>
                  <a:gdLst/>
                  <a:ahLst/>
                  <a:rect l="l" t="t" r="r" b="b"/>
                  <a:pathLst>
                    <a:path w="383" h="506">
                      <a:moveTo>
                        <a:pt x="143" y="506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383" y="397"/>
                      </a:lnTo>
                      <a:lnTo>
                        <a:pt x="143" y="506"/>
                      </a:lnTo>
                      <a:close/>
                    </a:path>
                  </a:pathLst>
                </a:custGeom>
                <a:solidFill>
                  <a:srgbClr val="8b8a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77"/>
                <p:cNvSpPr/>
                <p:nvPr/>
              </p:nvSpPr>
              <p:spPr>
                <a:xfrm>
                  <a:off x="4282560" y="4665960"/>
                  <a:ext cx="89640" cy="113040"/>
                </a:xfrm>
                <a:custGeom>
                  <a:avLst/>
                  <a:gdLst/>
                  <a:ahLst/>
                  <a:rect l="l" t="t" r="r" b="b"/>
                  <a:pathLst>
                    <a:path w="401" h="545">
                      <a:moveTo>
                        <a:pt x="161" y="545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401" y="437"/>
                      </a:lnTo>
                      <a:lnTo>
                        <a:pt x="161" y="545"/>
                      </a:lnTo>
                      <a:close/>
                    </a:path>
                  </a:pathLst>
                </a:custGeom>
                <a:solidFill>
                  <a:srgbClr val="8e8d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78"/>
                <p:cNvSpPr/>
                <p:nvPr/>
              </p:nvSpPr>
              <p:spPr>
                <a:xfrm>
                  <a:off x="4306320" y="4646160"/>
                  <a:ext cx="92880" cy="121320"/>
                </a:xfrm>
                <a:custGeom>
                  <a:avLst/>
                  <a:gdLst/>
                  <a:ahLst/>
                  <a:rect l="l" t="t" r="r" b="b"/>
                  <a:pathLst>
                    <a:path w="419" h="585">
                      <a:moveTo>
                        <a:pt x="179" y="585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419" y="476"/>
                      </a:lnTo>
                      <a:lnTo>
                        <a:pt x="179" y="585"/>
                      </a:lnTo>
                      <a:close/>
                    </a:path>
                  </a:pathLst>
                </a:custGeom>
                <a:solidFill>
                  <a:srgbClr val="9190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9"/>
                <p:cNvSpPr/>
                <p:nvPr/>
              </p:nvSpPr>
              <p:spPr>
                <a:xfrm>
                  <a:off x="4329360" y="4626000"/>
                  <a:ext cx="96480" cy="129960"/>
                </a:xfrm>
                <a:custGeom>
                  <a:avLst/>
                  <a:gdLst/>
                  <a:ahLst/>
                  <a:rect l="l" t="t" r="r" b="b"/>
                  <a:pathLst>
                    <a:path w="437" h="625">
                      <a:moveTo>
                        <a:pt x="197" y="625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437" y="516"/>
                      </a:lnTo>
                      <a:lnTo>
                        <a:pt x="197" y="625"/>
                      </a:lnTo>
                      <a:close/>
                    </a:path>
                  </a:pathLst>
                </a:custGeom>
                <a:solidFill>
                  <a:srgbClr val="9594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80"/>
                <p:cNvSpPr/>
                <p:nvPr/>
              </p:nvSpPr>
              <p:spPr>
                <a:xfrm>
                  <a:off x="4350960" y="4605840"/>
                  <a:ext cx="101880" cy="138240"/>
                </a:xfrm>
                <a:custGeom>
                  <a:avLst/>
                  <a:gdLst/>
                  <a:ahLst/>
                  <a:rect l="l" t="t" r="r" b="b"/>
                  <a:pathLst>
                    <a:path w="454" h="664">
                      <a:moveTo>
                        <a:pt x="215" y="664"/>
                      </a:moveTo>
                      <a:lnTo>
                        <a:pt x="0" y="188"/>
                      </a:lnTo>
                      <a:lnTo>
                        <a:pt x="205" y="0"/>
                      </a:lnTo>
                      <a:lnTo>
                        <a:pt x="454" y="556"/>
                      </a:lnTo>
                      <a:lnTo>
                        <a:pt x="215" y="664"/>
                      </a:lnTo>
                      <a:close/>
                    </a:path>
                  </a:pathLst>
                </a:custGeom>
                <a:solidFill>
                  <a:srgbClr val="999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81"/>
                <p:cNvSpPr/>
                <p:nvPr/>
              </p:nvSpPr>
              <p:spPr>
                <a:xfrm>
                  <a:off x="4374000" y="4586040"/>
                  <a:ext cx="105480" cy="146520"/>
                </a:xfrm>
                <a:custGeom>
                  <a:avLst/>
                  <a:gdLst/>
                  <a:ahLst/>
                  <a:rect l="l" t="t" r="r" b="b"/>
                  <a:pathLst>
                    <a:path w="472" h="704">
                      <a:moveTo>
                        <a:pt x="233" y="704"/>
                      </a:moveTo>
                      <a:lnTo>
                        <a:pt x="0" y="188"/>
                      </a:lnTo>
                      <a:lnTo>
                        <a:pt x="205" y="0"/>
                      </a:lnTo>
                      <a:lnTo>
                        <a:pt x="472" y="596"/>
                      </a:lnTo>
                      <a:lnTo>
                        <a:pt x="233" y="704"/>
                      </a:lnTo>
                      <a:close/>
                    </a:path>
                  </a:pathLst>
                </a:custGeom>
                <a:solidFill>
                  <a:srgbClr val="9c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82"/>
                <p:cNvSpPr/>
                <p:nvPr/>
              </p:nvSpPr>
              <p:spPr>
                <a:xfrm>
                  <a:off x="4397400" y="4567680"/>
                  <a:ext cx="109440" cy="154800"/>
                </a:xfrm>
                <a:custGeom>
                  <a:avLst/>
                  <a:gdLst/>
                  <a:ahLst/>
                  <a:rect l="l" t="t" r="r" b="b"/>
                  <a:pathLst>
                    <a:path w="489" h="744">
                      <a:moveTo>
                        <a:pt x="249" y="744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489" y="636"/>
                      </a:lnTo>
                      <a:lnTo>
                        <a:pt x="249" y="744"/>
                      </a:lnTo>
                      <a:close/>
                    </a:path>
                  </a:pathLst>
                </a:custGeom>
                <a:solidFill>
                  <a:srgbClr val="a0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83"/>
                <p:cNvSpPr/>
                <p:nvPr/>
              </p:nvSpPr>
              <p:spPr>
                <a:xfrm>
                  <a:off x="4420800" y="4547880"/>
                  <a:ext cx="113040" cy="163080"/>
                </a:xfrm>
                <a:custGeom>
                  <a:avLst/>
                  <a:gdLst/>
                  <a:ahLst/>
                  <a:rect l="l" t="t" r="r" b="b"/>
                  <a:pathLst>
                    <a:path w="506" h="784">
                      <a:moveTo>
                        <a:pt x="267" y="784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506" y="675"/>
                      </a:lnTo>
                      <a:lnTo>
                        <a:pt x="267" y="784"/>
                      </a:lnTo>
                      <a:close/>
                    </a:path>
                  </a:pathLst>
                </a:custGeom>
                <a:solidFill>
                  <a:srgbClr val="a3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84"/>
                <p:cNvSpPr/>
                <p:nvPr/>
              </p:nvSpPr>
              <p:spPr>
                <a:xfrm>
                  <a:off x="4442400" y="4527720"/>
                  <a:ext cx="118080" cy="171360"/>
                </a:xfrm>
                <a:custGeom>
                  <a:avLst/>
                  <a:gdLst/>
                  <a:ahLst/>
                  <a:rect l="l" t="t" r="r" b="b"/>
                  <a:pathLst>
                    <a:path w="525" h="825">
                      <a:moveTo>
                        <a:pt x="285" y="825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525" y="716"/>
                      </a:lnTo>
                      <a:lnTo>
                        <a:pt x="285" y="825"/>
                      </a:lnTo>
                      <a:close/>
                    </a:path>
                  </a:pathLst>
                </a:custGeom>
                <a:solidFill>
                  <a:srgbClr val="a7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85"/>
                <p:cNvSpPr/>
                <p:nvPr/>
              </p:nvSpPr>
              <p:spPr>
                <a:xfrm>
                  <a:off x="4465800" y="4507920"/>
                  <a:ext cx="122040" cy="179640"/>
                </a:xfrm>
                <a:custGeom>
                  <a:avLst/>
                  <a:gdLst/>
                  <a:ahLst/>
                  <a:rect l="l" t="t" r="r" b="b"/>
                  <a:pathLst>
                    <a:path w="543" h="864">
                      <a:moveTo>
                        <a:pt x="302" y="864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543" y="755"/>
                      </a:lnTo>
                      <a:lnTo>
                        <a:pt x="302" y="864"/>
                      </a:lnTo>
                      <a:close/>
                    </a:path>
                  </a:pathLst>
                </a:custGeom>
                <a:solidFill>
                  <a:srgbClr val="aa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86"/>
                <p:cNvSpPr/>
                <p:nvPr/>
              </p:nvSpPr>
              <p:spPr>
                <a:xfrm>
                  <a:off x="4488840" y="4489200"/>
                  <a:ext cx="125640" cy="188280"/>
                </a:xfrm>
                <a:custGeom>
                  <a:avLst/>
                  <a:gdLst/>
                  <a:ahLst/>
                  <a:rect l="l" t="t" r="r" b="b"/>
                  <a:pathLst>
                    <a:path w="561" h="904">
                      <a:moveTo>
                        <a:pt x="321" y="904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561" y="795"/>
                      </a:lnTo>
                      <a:lnTo>
                        <a:pt x="321" y="904"/>
                      </a:lnTo>
                      <a:close/>
                    </a:path>
                  </a:pathLst>
                </a:custGeom>
                <a:solidFill>
                  <a:srgbClr val="abab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87"/>
                <p:cNvSpPr/>
                <p:nvPr/>
              </p:nvSpPr>
              <p:spPr>
                <a:xfrm>
                  <a:off x="4512600" y="4469040"/>
                  <a:ext cx="128880" cy="196560"/>
                </a:xfrm>
                <a:custGeom>
                  <a:avLst/>
                  <a:gdLst/>
                  <a:ahLst/>
                  <a:rect l="l" t="t" r="r" b="b"/>
                  <a:pathLst>
                    <a:path w="578" h="943">
                      <a:moveTo>
                        <a:pt x="339" y="943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578" y="835"/>
                      </a:lnTo>
                      <a:lnTo>
                        <a:pt x="339" y="943"/>
                      </a:lnTo>
                      <a:close/>
                    </a:path>
                  </a:pathLst>
                </a:custGeom>
                <a:solidFill>
                  <a:srgbClr val="ae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8"/>
                <p:cNvSpPr/>
                <p:nvPr/>
              </p:nvSpPr>
              <p:spPr>
                <a:xfrm>
                  <a:off x="4533840" y="4449240"/>
                  <a:ext cx="133920" cy="204840"/>
                </a:xfrm>
                <a:custGeom>
                  <a:avLst/>
                  <a:gdLst/>
                  <a:ahLst/>
                  <a:rect l="l" t="t" r="r" b="b"/>
                  <a:pathLst>
                    <a:path w="596" h="983">
                      <a:moveTo>
                        <a:pt x="357" y="983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596" y="874"/>
                      </a:lnTo>
                      <a:lnTo>
                        <a:pt x="357" y="983"/>
                      </a:lnTo>
                      <a:close/>
                    </a:path>
                  </a:pathLst>
                </a:custGeom>
                <a:solidFill>
                  <a:srgbClr val="b0a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9"/>
                <p:cNvSpPr/>
                <p:nvPr/>
              </p:nvSpPr>
              <p:spPr>
                <a:xfrm>
                  <a:off x="4557240" y="4429440"/>
                  <a:ext cx="137880" cy="213120"/>
                </a:xfrm>
                <a:custGeom>
                  <a:avLst/>
                  <a:gdLst/>
                  <a:ahLst/>
                  <a:rect l="l" t="t" r="r" b="b"/>
                  <a:pathLst>
                    <a:path w="615" h="1023">
                      <a:moveTo>
                        <a:pt x="374" y="1023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615" y="914"/>
                      </a:lnTo>
                      <a:lnTo>
                        <a:pt x="374" y="1023"/>
                      </a:lnTo>
                      <a:close/>
                    </a:path>
                  </a:pathLst>
                </a:custGeom>
                <a:solidFill>
                  <a:srgbClr val="b3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90"/>
                <p:cNvSpPr/>
                <p:nvPr/>
              </p:nvSpPr>
              <p:spPr>
                <a:xfrm>
                  <a:off x="4580280" y="4411080"/>
                  <a:ext cx="141840" cy="219600"/>
                </a:xfrm>
                <a:custGeom>
                  <a:avLst/>
                  <a:gdLst/>
                  <a:ahLst/>
                  <a:rect l="l" t="t" r="r" b="b"/>
                  <a:pathLst>
                    <a:path w="632" h="1062">
                      <a:moveTo>
                        <a:pt x="392" y="1062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632" y="953"/>
                      </a:lnTo>
                      <a:lnTo>
                        <a:pt x="392" y="1062"/>
                      </a:lnTo>
                      <a:close/>
                    </a:path>
                  </a:pathLst>
                </a:custGeom>
                <a:solidFill>
                  <a:srgbClr val="b5b5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91"/>
                <p:cNvSpPr/>
                <p:nvPr/>
              </p:nvSpPr>
              <p:spPr>
                <a:xfrm>
                  <a:off x="4604040" y="4390920"/>
                  <a:ext cx="145080" cy="230040"/>
                </a:xfrm>
                <a:custGeom>
                  <a:avLst/>
                  <a:gdLst/>
                  <a:ahLst/>
                  <a:rect l="l" t="t" r="r" b="b"/>
                  <a:pathLst>
                    <a:path w="650" h="1103">
                      <a:moveTo>
                        <a:pt x="411" y="1103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650" y="994"/>
                      </a:lnTo>
                      <a:lnTo>
                        <a:pt x="411" y="1103"/>
                      </a:lnTo>
                      <a:close/>
                    </a:path>
                  </a:pathLst>
                </a:custGeom>
                <a:solidFill>
                  <a:srgbClr val="b7b7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92"/>
                <p:cNvSpPr/>
                <p:nvPr/>
              </p:nvSpPr>
              <p:spPr>
                <a:xfrm>
                  <a:off x="4625280" y="4371120"/>
                  <a:ext cx="150840" cy="238320"/>
                </a:xfrm>
                <a:custGeom>
                  <a:avLst/>
                  <a:gdLst/>
                  <a:ahLst/>
                  <a:rect l="l" t="t" r="r" b="b"/>
                  <a:pathLst>
                    <a:path w="668" h="1142">
                      <a:moveTo>
                        <a:pt x="428" y="1142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668" y="1033"/>
                      </a:lnTo>
                      <a:lnTo>
                        <a:pt x="428" y="1142"/>
                      </a:lnTo>
                      <a:close/>
                    </a:path>
                  </a:pathLst>
                </a:custGeom>
                <a:solidFill>
                  <a:srgbClr val="baba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93"/>
                <p:cNvSpPr/>
                <p:nvPr/>
              </p:nvSpPr>
              <p:spPr>
                <a:xfrm>
                  <a:off x="4648680" y="4350960"/>
                  <a:ext cx="154080" cy="246600"/>
                </a:xfrm>
                <a:custGeom>
                  <a:avLst/>
                  <a:gdLst/>
                  <a:ahLst/>
                  <a:rect l="l" t="t" r="r" b="b"/>
                  <a:pathLst>
                    <a:path w="685" h="1183">
                      <a:moveTo>
                        <a:pt x="446" y="1183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685" y="1074"/>
                      </a:lnTo>
                      <a:lnTo>
                        <a:pt x="446" y="1183"/>
                      </a:lnTo>
                      <a:close/>
                    </a:path>
                  </a:pathLst>
                </a:custGeom>
                <a:solidFill>
                  <a:srgbClr val="bcbc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94"/>
                <p:cNvSpPr/>
                <p:nvPr/>
              </p:nvSpPr>
              <p:spPr>
                <a:xfrm>
                  <a:off x="4672080" y="4330800"/>
                  <a:ext cx="157680" cy="254880"/>
                </a:xfrm>
                <a:custGeom>
                  <a:avLst/>
                  <a:gdLst/>
                  <a:ahLst/>
                  <a:rect l="l" t="t" r="r" b="b"/>
                  <a:pathLst>
                    <a:path w="703" h="1222">
                      <a:moveTo>
                        <a:pt x="464" y="1222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703" y="1114"/>
                      </a:lnTo>
                      <a:lnTo>
                        <a:pt x="464" y="1222"/>
                      </a:lnTo>
                      <a:close/>
                    </a:path>
                  </a:pathLst>
                </a:custGeom>
                <a:solidFill>
                  <a:srgbClr val="bfb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95"/>
                <p:cNvSpPr/>
                <p:nvPr/>
              </p:nvSpPr>
              <p:spPr>
                <a:xfrm>
                  <a:off x="4695120" y="4312800"/>
                  <a:ext cx="161280" cy="261360"/>
                </a:xfrm>
                <a:custGeom>
                  <a:avLst/>
                  <a:gdLst/>
                  <a:ahLst/>
                  <a:rect l="l" t="t" r="r" b="b"/>
                  <a:pathLst>
                    <a:path w="722" h="1262">
                      <a:moveTo>
                        <a:pt x="481" y="1262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722" y="1153"/>
                      </a:lnTo>
                      <a:lnTo>
                        <a:pt x="481" y="1262"/>
                      </a:lnTo>
                      <a:close/>
                    </a:path>
                  </a:pathLst>
                </a:custGeom>
                <a:solidFill>
                  <a:srgbClr val="c1c1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96"/>
                <p:cNvSpPr/>
                <p:nvPr/>
              </p:nvSpPr>
              <p:spPr>
                <a:xfrm>
                  <a:off x="4716720" y="4252680"/>
                  <a:ext cx="166680" cy="311400"/>
                </a:xfrm>
                <a:custGeom>
                  <a:avLst/>
                  <a:gdLst/>
                  <a:ahLst/>
                  <a:rect l="l" t="t" r="r" b="b"/>
                  <a:pathLst>
                    <a:path w="739" h="1492">
                      <a:moveTo>
                        <a:pt x="499" y="1492"/>
                      </a:moveTo>
                      <a:lnTo>
                        <a:pt x="0" y="378"/>
                      </a:lnTo>
                      <a:lnTo>
                        <a:pt x="114" y="274"/>
                      </a:lnTo>
                      <a:lnTo>
                        <a:pt x="119" y="0"/>
                      </a:lnTo>
                      <a:lnTo>
                        <a:pt x="739" y="1383"/>
                      </a:lnTo>
                      <a:lnTo>
                        <a:pt x="499" y="1492"/>
                      </a:lnTo>
                      <a:close/>
                    </a:path>
                  </a:pathLst>
                </a:custGeom>
                <a:solidFill>
                  <a:srgbClr val="c3c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97"/>
                <p:cNvSpPr/>
                <p:nvPr/>
              </p:nvSpPr>
              <p:spPr>
                <a:xfrm>
                  <a:off x="4740120" y="4212720"/>
                  <a:ext cx="170280" cy="339840"/>
                </a:xfrm>
                <a:custGeom>
                  <a:avLst/>
                  <a:gdLst/>
                  <a:ahLst/>
                  <a:rect l="l" t="t" r="r" b="b"/>
                  <a:pathLst>
                    <a:path w="757" h="1630">
                      <a:moveTo>
                        <a:pt x="518" y="1630"/>
                      </a:moveTo>
                      <a:lnTo>
                        <a:pt x="0" y="477"/>
                      </a:lnTo>
                      <a:lnTo>
                        <a:pt x="12" y="467"/>
                      </a:lnTo>
                      <a:lnTo>
                        <a:pt x="21" y="0"/>
                      </a:lnTo>
                      <a:lnTo>
                        <a:pt x="80" y="12"/>
                      </a:lnTo>
                      <a:lnTo>
                        <a:pt x="757" y="1521"/>
                      </a:lnTo>
                      <a:lnTo>
                        <a:pt x="518" y="1630"/>
                      </a:lnTo>
                      <a:close/>
                    </a:path>
                  </a:pathLst>
                </a:custGeom>
                <a:solidFill>
                  <a:srgbClr val="c6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98"/>
                <p:cNvSpPr/>
                <p:nvPr/>
              </p:nvSpPr>
              <p:spPr>
                <a:xfrm>
                  <a:off x="4743360" y="4212720"/>
                  <a:ext cx="194040" cy="328320"/>
                </a:xfrm>
                <a:custGeom>
                  <a:avLst/>
                  <a:gdLst/>
                  <a:ahLst/>
                  <a:rect l="l" t="t" r="r" b="b"/>
                  <a:pathLst>
                    <a:path w="860" h="1576">
                      <a:moveTo>
                        <a:pt x="620" y="1576"/>
                      </a:moveTo>
                      <a:lnTo>
                        <a:pt x="0" y="193"/>
                      </a:lnTo>
                      <a:lnTo>
                        <a:pt x="4" y="0"/>
                      </a:lnTo>
                      <a:lnTo>
                        <a:pt x="223" y="45"/>
                      </a:lnTo>
                      <a:lnTo>
                        <a:pt x="860" y="1467"/>
                      </a:lnTo>
                      <a:lnTo>
                        <a:pt x="620" y="1576"/>
                      </a:lnTo>
                      <a:close/>
                    </a:path>
                  </a:pathLst>
                </a:custGeom>
                <a:solidFill>
                  <a:srgbClr val="c8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99"/>
                <p:cNvSpPr/>
                <p:nvPr/>
              </p:nvSpPr>
              <p:spPr>
                <a:xfrm>
                  <a:off x="4758120" y="4215960"/>
                  <a:ext cx="205920" cy="313200"/>
                </a:xfrm>
                <a:custGeom>
                  <a:avLst/>
                  <a:gdLst/>
                  <a:ahLst/>
                  <a:rect l="l" t="t" r="r" b="b"/>
                  <a:pathLst>
                    <a:path w="917" h="1509">
                      <a:moveTo>
                        <a:pt x="677" y="1509"/>
                      </a:moveTo>
                      <a:lnTo>
                        <a:pt x="0" y="0"/>
                      </a:lnTo>
                      <a:lnTo>
                        <a:pt x="318" y="67"/>
                      </a:lnTo>
                      <a:lnTo>
                        <a:pt x="917" y="1401"/>
                      </a:lnTo>
                      <a:lnTo>
                        <a:pt x="677" y="1509"/>
                      </a:lnTo>
                      <a:close/>
                    </a:path>
                  </a:pathLst>
                </a:custGeom>
                <a:solidFill>
                  <a:srgbClr val="ca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00"/>
                <p:cNvSpPr/>
                <p:nvPr/>
              </p:nvSpPr>
              <p:spPr>
                <a:xfrm>
                  <a:off x="4794120" y="4222800"/>
                  <a:ext cx="197280" cy="294480"/>
                </a:xfrm>
                <a:custGeom>
                  <a:avLst/>
                  <a:gdLst/>
                  <a:ahLst/>
                  <a:rect l="l" t="t" r="r" b="b"/>
                  <a:pathLst>
                    <a:path w="876" h="1422">
                      <a:moveTo>
                        <a:pt x="637" y="1422"/>
                      </a:moveTo>
                      <a:lnTo>
                        <a:pt x="0" y="0"/>
                      </a:lnTo>
                      <a:lnTo>
                        <a:pt x="318" y="68"/>
                      </a:lnTo>
                      <a:lnTo>
                        <a:pt x="876" y="1313"/>
                      </a:lnTo>
                      <a:lnTo>
                        <a:pt x="637" y="1422"/>
                      </a:lnTo>
                      <a:close/>
                    </a:path>
                  </a:pathLst>
                </a:custGeom>
                <a:solidFill>
                  <a:srgbClr val="cccc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01"/>
                <p:cNvSpPr/>
                <p:nvPr/>
              </p:nvSpPr>
              <p:spPr>
                <a:xfrm>
                  <a:off x="4829760" y="4229280"/>
                  <a:ext cx="188280" cy="278280"/>
                </a:xfrm>
                <a:custGeom>
                  <a:avLst/>
                  <a:gdLst/>
                  <a:ahLst/>
                  <a:rect l="l" t="t" r="r" b="b"/>
                  <a:pathLst>
                    <a:path w="838" h="1334">
                      <a:moveTo>
                        <a:pt x="599" y="1334"/>
                      </a:moveTo>
                      <a:lnTo>
                        <a:pt x="0" y="0"/>
                      </a:lnTo>
                      <a:lnTo>
                        <a:pt x="319" y="67"/>
                      </a:lnTo>
                      <a:lnTo>
                        <a:pt x="838" y="1225"/>
                      </a:lnTo>
                      <a:lnTo>
                        <a:pt x="599" y="1334"/>
                      </a:lnTo>
                      <a:close/>
                    </a:path>
                  </a:pathLst>
                </a:custGeom>
                <a:solidFill>
                  <a:srgbClr val="cece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02"/>
                <p:cNvSpPr/>
                <p:nvPr/>
              </p:nvSpPr>
              <p:spPr>
                <a:xfrm>
                  <a:off x="4865400" y="4236120"/>
                  <a:ext cx="179280" cy="259920"/>
                </a:xfrm>
                <a:custGeom>
                  <a:avLst/>
                  <a:gdLst/>
                  <a:ahLst/>
                  <a:rect l="l" t="t" r="r" b="b"/>
                  <a:pathLst>
                    <a:path w="799" h="1245">
                      <a:moveTo>
                        <a:pt x="558" y="1245"/>
                      </a:moveTo>
                      <a:lnTo>
                        <a:pt x="0" y="0"/>
                      </a:lnTo>
                      <a:lnTo>
                        <a:pt x="319" y="67"/>
                      </a:lnTo>
                      <a:lnTo>
                        <a:pt x="799" y="1137"/>
                      </a:lnTo>
                      <a:lnTo>
                        <a:pt x="558" y="1245"/>
                      </a:lnTo>
                      <a:close/>
                    </a:path>
                  </a:pathLst>
                </a:custGeom>
                <a:solidFill>
                  <a:srgbClr val="d1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03"/>
                <p:cNvSpPr/>
                <p:nvPr/>
              </p:nvSpPr>
              <p:spPr>
                <a:xfrm>
                  <a:off x="4901760" y="4242960"/>
                  <a:ext cx="169920" cy="241200"/>
                </a:xfrm>
                <a:custGeom>
                  <a:avLst/>
                  <a:gdLst/>
                  <a:ahLst/>
                  <a:rect l="l" t="t" r="r" b="b"/>
                  <a:pathLst>
                    <a:path w="759" h="1158">
                      <a:moveTo>
                        <a:pt x="519" y="1158"/>
                      </a:moveTo>
                      <a:lnTo>
                        <a:pt x="0" y="0"/>
                      </a:lnTo>
                      <a:lnTo>
                        <a:pt x="319" y="67"/>
                      </a:lnTo>
                      <a:lnTo>
                        <a:pt x="759" y="1050"/>
                      </a:lnTo>
                      <a:lnTo>
                        <a:pt x="519" y="1158"/>
                      </a:lnTo>
                      <a:close/>
                    </a:path>
                  </a:pathLst>
                </a:custGeom>
                <a:solidFill>
                  <a:srgbClr val="d4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04"/>
                <p:cNvSpPr/>
                <p:nvPr/>
              </p:nvSpPr>
              <p:spPr>
                <a:xfrm>
                  <a:off x="4937760" y="4251240"/>
                  <a:ext cx="161280" cy="221400"/>
                </a:xfrm>
                <a:custGeom>
                  <a:avLst/>
                  <a:gdLst/>
                  <a:ahLst/>
                  <a:rect l="l" t="t" r="r" b="b"/>
                  <a:pathLst>
                    <a:path w="719" h="1070">
                      <a:moveTo>
                        <a:pt x="480" y="1070"/>
                      </a:moveTo>
                      <a:lnTo>
                        <a:pt x="0" y="0"/>
                      </a:lnTo>
                      <a:lnTo>
                        <a:pt x="318" y="67"/>
                      </a:lnTo>
                      <a:lnTo>
                        <a:pt x="719" y="962"/>
                      </a:lnTo>
                      <a:lnTo>
                        <a:pt x="480" y="1070"/>
                      </a:lnTo>
                      <a:close/>
                    </a:path>
                  </a:pathLst>
                </a:custGeom>
                <a:solidFill>
                  <a:srgbClr val="d7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05"/>
                <p:cNvSpPr/>
                <p:nvPr/>
              </p:nvSpPr>
              <p:spPr>
                <a:xfrm>
                  <a:off x="4973400" y="4257720"/>
                  <a:ext cx="152280" cy="203040"/>
                </a:xfrm>
                <a:custGeom>
                  <a:avLst/>
                  <a:gdLst/>
                  <a:ahLst/>
                  <a:rect l="l" t="t" r="r" b="b"/>
                  <a:pathLst>
                    <a:path w="680" h="983">
                      <a:moveTo>
                        <a:pt x="440" y="983"/>
                      </a:moveTo>
                      <a:lnTo>
                        <a:pt x="0" y="0"/>
                      </a:lnTo>
                      <a:lnTo>
                        <a:pt x="318" y="68"/>
                      </a:lnTo>
                      <a:lnTo>
                        <a:pt x="680" y="874"/>
                      </a:lnTo>
                      <a:lnTo>
                        <a:pt x="440" y="983"/>
                      </a:lnTo>
                      <a:close/>
                    </a:path>
                  </a:pathLst>
                </a:custGeom>
                <a:solidFill>
                  <a:srgbClr val="dbdb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06"/>
                <p:cNvSpPr/>
                <p:nvPr/>
              </p:nvSpPr>
              <p:spPr>
                <a:xfrm>
                  <a:off x="5007600" y="4264560"/>
                  <a:ext cx="145080" cy="186480"/>
                </a:xfrm>
                <a:custGeom>
                  <a:avLst/>
                  <a:gdLst/>
                  <a:ahLst/>
                  <a:rect l="l" t="t" r="r" b="b"/>
                  <a:pathLst>
                    <a:path w="640" h="895">
                      <a:moveTo>
                        <a:pt x="401" y="895"/>
                      </a:moveTo>
                      <a:lnTo>
                        <a:pt x="0" y="0"/>
                      </a:lnTo>
                      <a:lnTo>
                        <a:pt x="318" y="67"/>
                      </a:lnTo>
                      <a:lnTo>
                        <a:pt x="640" y="786"/>
                      </a:lnTo>
                      <a:lnTo>
                        <a:pt x="401" y="895"/>
                      </a:lnTo>
                      <a:close/>
                    </a:path>
                  </a:pathLst>
                </a:custGeom>
                <a:solidFill>
                  <a:srgbClr val="de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07"/>
                <p:cNvSpPr/>
                <p:nvPr/>
              </p:nvSpPr>
              <p:spPr>
                <a:xfrm>
                  <a:off x="5043240" y="4271040"/>
                  <a:ext cx="136080" cy="168120"/>
                </a:xfrm>
                <a:custGeom>
                  <a:avLst/>
                  <a:gdLst/>
                  <a:ahLst/>
                  <a:rect l="l" t="t" r="r" b="b"/>
                  <a:pathLst>
                    <a:path w="601" h="806">
                      <a:moveTo>
                        <a:pt x="362" y="806"/>
                      </a:moveTo>
                      <a:lnTo>
                        <a:pt x="0" y="0"/>
                      </a:lnTo>
                      <a:lnTo>
                        <a:pt x="319" y="67"/>
                      </a:lnTo>
                      <a:lnTo>
                        <a:pt x="601" y="697"/>
                      </a:lnTo>
                      <a:lnTo>
                        <a:pt x="362" y="806"/>
                      </a:lnTo>
                      <a:close/>
                    </a:path>
                  </a:pathLst>
                </a:custGeom>
                <a:solidFill>
                  <a:srgbClr val="e2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08"/>
                <p:cNvSpPr/>
                <p:nvPr/>
              </p:nvSpPr>
              <p:spPr>
                <a:xfrm>
                  <a:off x="5079240" y="4277520"/>
                  <a:ext cx="127080" cy="149760"/>
                </a:xfrm>
                <a:custGeom>
                  <a:avLst/>
                  <a:gdLst/>
                  <a:ahLst/>
                  <a:rect l="l" t="t" r="r" b="b"/>
                  <a:pathLst>
                    <a:path w="563" h="719">
                      <a:moveTo>
                        <a:pt x="322" y="719"/>
                      </a:moveTo>
                      <a:lnTo>
                        <a:pt x="0" y="0"/>
                      </a:lnTo>
                      <a:lnTo>
                        <a:pt x="319" y="67"/>
                      </a:lnTo>
                      <a:lnTo>
                        <a:pt x="563" y="610"/>
                      </a:lnTo>
                      <a:lnTo>
                        <a:pt x="322" y="719"/>
                      </a:lnTo>
                      <a:close/>
                    </a:path>
                  </a:pathLst>
                </a:cu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09"/>
                <p:cNvSpPr/>
                <p:nvPr/>
              </p:nvSpPr>
              <p:spPr>
                <a:xfrm>
                  <a:off x="5114880" y="4284360"/>
                  <a:ext cx="116640" cy="131400"/>
                </a:xfrm>
                <a:custGeom>
                  <a:avLst/>
                  <a:gdLst/>
                  <a:ahLst/>
                  <a:rect l="l" t="t" r="r" b="b"/>
                  <a:pathLst>
                    <a:path w="522" h="630">
                      <a:moveTo>
                        <a:pt x="282" y="630"/>
                      </a:moveTo>
                      <a:lnTo>
                        <a:pt x="0" y="0"/>
                      </a:lnTo>
                      <a:lnTo>
                        <a:pt x="319" y="67"/>
                      </a:lnTo>
                      <a:lnTo>
                        <a:pt x="522" y="521"/>
                      </a:lnTo>
                      <a:lnTo>
                        <a:pt x="282" y="630"/>
                      </a:lnTo>
                      <a:close/>
                    </a:path>
                  </a:pathLst>
                </a:cu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10"/>
                <p:cNvSpPr/>
                <p:nvPr/>
              </p:nvSpPr>
              <p:spPr>
                <a:xfrm>
                  <a:off x="5150880" y="4292640"/>
                  <a:ext cx="107640" cy="111240"/>
                </a:xfrm>
                <a:custGeom>
                  <a:avLst/>
                  <a:gdLst/>
                  <a:ahLst/>
                  <a:rect l="l" t="t" r="r" b="b"/>
                  <a:pathLst>
                    <a:path w="483" h="543">
                      <a:moveTo>
                        <a:pt x="244" y="543"/>
                      </a:moveTo>
                      <a:lnTo>
                        <a:pt x="0" y="0"/>
                      </a:lnTo>
                      <a:lnTo>
                        <a:pt x="318" y="67"/>
                      </a:lnTo>
                      <a:lnTo>
                        <a:pt x="483" y="434"/>
                      </a:lnTo>
                      <a:lnTo>
                        <a:pt x="244" y="543"/>
                      </a:lnTo>
                      <a:close/>
                    </a:path>
                  </a:pathLst>
                </a:custGeom>
                <a:solidFill>
                  <a:srgbClr val="ebeb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111"/>
                <p:cNvSpPr/>
                <p:nvPr/>
              </p:nvSpPr>
              <p:spPr>
                <a:xfrm>
                  <a:off x="5186880" y="4299480"/>
                  <a:ext cx="100440" cy="94680"/>
                </a:xfrm>
                <a:custGeom>
                  <a:avLst/>
                  <a:gdLst/>
                  <a:ahLst/>
                  <a:rect l="l" t="t" r="r" b="b"/>
                  <a:pathLst>
                    <a:path w="443" h="454">
                      <a:moveTo>
                        <a:pt x="203" y="454"/>
                      </a:moveTo>
                      <a:lnTo>
                        <a:pt x="0" y="0"/>
                      </a:lnTo>
                      <a:lnTo>
                        <a:pt x="318" y="67"/>
                      </a:lnTo>
                      <a:lnTo>
                        <a:pt x="443" y="346"/>
                      </a:lnTo>
                      <a:lnTo>
                        <a:pt x="203" y="454"/>
                      </a:lnTo>
                      <a:close/>
                    </a:path>
                  </a:pathLst>
                </a:cu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12"/>
                <p:cNvSpPr/>
                <p:nvPr/>
              </p:nvSpPr>
              <p:spPr>
                <a:xfrm>
                  <a:off x="5222880" y="4305960"/>
                  <a:ext cx="91440" cy="76680"/>
                </a:xfrm>
                <a:custGeom>
                  <a:avLst/>
                  <a:gdLst/>
                  <a:ahLst/>
                  <a:rect l="l" t="t" r="r" b="b"/>
                  <a:pathLst>
                    <a:path w="405" h="367">
                      <a:moveTo>
                        <a:pt x="165" y="367"/>
                      </a:moveTo>
                      <a:lnTo>
                        <a:pt x="0" y="0"/>
                      </a:lnTo>
                      <a:lnTo>
                        <a:pt x="319" y="68"/>
                      </a:lnTo>
                      <a:lnTo>
                        <a:pt x="405" y="258"/>
                      </a:lnTo>
                      <a:lnTo>
                        <a:pt x="165" y="367"/>
                      </a:lnTo>
                      <a:close/>
                    </a:path>
                  </a:pathLst>
                </a:cu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113"/>
                <p:cNvSpPr/>
                <p:nvPr/>
              </p:nvSpPr>
              <p:spPr>
                <a:xfrm>
                  <a:off x="5258520" y="4312800"/>
                  <a:ext cx="80640" cy="57960"/>
                </a:xfrm>
                <a:custGeom>
                  <a:avLst/>
                  <a:gdLst/>
                  <a:ahLst/>
                  <a:rect l="l" t="t" r="r" b="b"/>
                  <a:pathLst>
                    <a:path w="364" h="279">
                      <a:moveTo>
                        <a:pt x="125" y="279"/>
                      </a:moveTo>
                      <a:lnTo>
                        <a:pt x="0" y="0"/>
                      </a:lnTo>
                      <a:lnTo>
                        <a:pt x="319" y="67"/>
                      </a:lnTo>
                      <a:lnTo>
                        <a:pt x="364" y="170"/>
                      </a:lnTo>
                      <a:lnTo>
                        <a:pt x="125" y="279"/>
                      </a:lnTo>
                      <a:close/>
                    </a:path>
                  </a:pathLst>
                </a:cu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114"/>
                <p:cNvSpPr/>
                <p:nvPr/>
              </p:nvSpPr>
              <p:spPr>
                <a:xfrm>
                  <a:off x="5294520" y="4319640"/>
                  <a:ext cx="72000" cy="39600"/>
                </a:xfrm>
                <a:custGeom>
                  <a:avLst/>
                  <a:gdLst/>
                  <a:ahLst/>
                  <a:rect l="l" t="t" r="r" b="b"/>
                  <a:pathLst>
                    <a:path w="326" h="190">
                      <a:moveTo>
                        <a:pt x="86" y="190"/>
                      </a:moveTo>
                      <a:lnTo>
                        <a:pt x="0" y="0"/>
                      </a:lnTo>
                      <a:lnTo>
                        <a:pt x="319" y="67"/>
                      </a:lnTo>
                      <a:lnTo>
                        <a:pt x="326" y="81"/>
                      </a:lnTo>
                      <a:lnTo>
                        <a:pt x="86" y="190"/>
                      </a:lnTo>
                      <a:close/>
                    </a:path>
                  </a:pathLst>
                </a:cu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115"/>
                <p:cNvSpPr/>
                <p:nvPr/>
              </p:nvSpPr>
              <p:spPr>
                <a:xfrm>
                  <a:off x="5330160" y="4327920"/>
                  <a:ext cx="41400" cy="19440"/>
                </a:xfrm>
                <a:custGeom>
                  <a:avLst/>
                  <a:gdLst/>
                  <a:ahLst/>
                  <a:rect l="l" t="t" r="r" b="b"/>
                  <a:pathLst>
                    <a:path w="186" h="103">
                      <a:moveTo>
                        <a:pt x="45" y="103"/>
                      </a:moveTo>
                      <a:lnTo>
                        <a:pt x="0" y="0"/>
                      </a:lnTo>
                      <a:lnTo>
                        <a:pt x="186" y="39"/>
                      </a:lnTo>
                      <a:lnTo>
                        <a:pt x="45" y="103"/>
                      </a:lnTo>
                      <a:close/>
                    </a:path>
                  </a:pathLst>
                </a:cu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16"/>
                <p:cNvSpPr/>
                <p:nvPr/>
              </p:nvSpPr>
              <p:spPr>
                <a:xfrm>
                  <a:off x="5366520" y="433440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27" h="14">
                      <a:moveTo>
                        <a:pt x="7" y="14"/>
                      </a:moveTo>
                      <a:lnTo>
                        <a:pt x="0" y="0"/>
                      </a:lnTo>
                      <a:lnTo>
                        <a:pt x="27" y="5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17"/>
                <p:cNvSpPr/>
                <p:nvPr/>
              </p:nvSpPr>
              <p:spPr>
                <a:xfrm>
                  <a:off x="1455120" y="3446280"/>
                  <a:ext cx="2622600" cy="1441080"/>
                </a:xfrm>
                <a:custGeom>
                  <a:avLst/>
                  <a:gdLst/>
                  <a:ahLst/>
                  <a:rect l="l" t="t" r="r" b="b"/>
                  <a:pathLst>
                    <a:path w="11697" h="6919">
                      <a:moveTo>
                        <a:pt x="0" y="0"/>
                      </a:moveTo>
                      <a:lnTo>
                        <a:pt x="0" y="3601"/>
                      </a:lnTo>
                      <a:lnTo>
                        <a:pt x="11697" y="6919"/>
                      </a:lnTo>
                      <a:lnTo>
                        <a:pt x="11535" y="262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7e9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18"/>
                <p:cNvSpPr/>
                <p:nvPr/>
              </p:nvSpPr>
              <p:spPr>
                <a:xfrm>
                  <a:off x="1455120" y="34462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14" y="4"/>
                      </a:move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119"/>
                <p:cNvSpPr/>
                <p:nvPr/>
              </p:nvSpPr>
              <p:spPr>
                <a:xfrm>
                  <a:off x="1455120" y="3446280"/>
                  <a:ext cx="41400" cy="49680"/>
                </a:xfrm>
                <a:custGeom>
                  <a:avLst/>
                  <a:gdLst/>
                  <a:ahLst/>
                  <a:rect l="l" t="t" r="r" b="b"/>
                  <a:pathLst>
                    <a:path w="183" h="243">
                      <a:moveTo>
                        <a:pt x="183" y="41"/>
                      </a:moveTo>
                      <a:lnTo>
                        <a:pt x="0" y="243"/>
                      </a:lnTo>
                      <a:lnTo>
                        <a:pt x="0" y="0"/>
                      </a:lnTo>
                      <a:lnTo>
                        <a:pt x="183" y="41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120"/>
                <p:cNvSpPr/>
                <p:nvPr/>
              </p:nvSpPr>
              <p:spPr>
                <a:xfrm>
                  <a:off x="1455120" y="3447720"/>
                  <a:ext cx="78840" cy="96480"/>
                </a:xfrm>
                <a:custGeom>
                  <a:avLst/>
                  <a:gdLst/>
                  <a:ahLst/>
                  <a:rect l="l" t="t" r="r" b="b"/>
                  <a:pathLst>
                    <a:path w="351" h="463">
                      <a:moveTo>
                        <a:pt x="0" y="15"/>
                      </a:moveTo>
                      <a:lnTo>
                        <a:pt x="14" y="0"/>
                      </a:lnTo>
                      <a:lnTo>
                        <a:pt x="351" y="76"/>
                      </a:lnTo>
                      <a:lnTo>
                        <a:pt x="0" y="463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21"/>
                <p:cNvSpPr/>
                <p:nvPr/>
              </p:nvSpPr>
              <p:spPr>
                <a:xfrm>
                  <a:off x="1455120" y="3454560"/>
                  <a:ext cx="116640" cy="134640"/>
                </a:xfrm>
                <a:custGeom>
                  <a:avLst/>
                  <a:gdLst/>
                  <a:ahLst/>
                  <a:rect l="l" t="t" r="r" b="b"/>
                  <a:pathLst>
                    <a:path w="518" h="650">
                      <a:moveTo>
                        <a:pt x="0" y="202"/>
                      </a:moveTo>
                      <a:lnTo>
                        <a:pt x="183" y="0"/>
                      </a:lnTo>
                      <a:lnTo>
                        <a:pt x="518" y="77"/>
                      </a:lnTo>
                      <a:lnTo>
                        <a:pt x="0" y="650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122"/>
                <p:cNvSpPr/>
                <p:nvPr/>
              </p:nvSpPr>
              <p:spPr>
                <a:xfrm>
                  <a:off x="1455120" y="3462840"/>
                  <a:ext cx="154440" cy="174600"/>
                </a:xfrm>
                <a:custGeom>
                  <a:avLst/>
                  <a:gdLst/>
                  <a:ahLst/>
                  <a:rect l="l" t="t" r="r" b="b"/>
                  <a:pathLst>
                    <a:path w="686" h="835">
                      <a:moveTo>
                        <a:pt x="0" y="387"/>
                      </a:moveTo>
                      <a:lnTo>
                        <a:pt x="351" y="0"/>
                      </a:lnTo>
                      <a:lnTo>
                        <a:pt x="686" y="77"/>
                      </a:lnTo>
                      <a:lnTo>
                        <a:pt x="0" y="835"/>
                      </a:lnTo>
                      <a:lnTo>
                        <a:pt x="0" y="387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23"/>
                <p:cNvSpPr/>
                <p:nvPr/>
              </p:nvSpPr>
              <p:spPr>
                <a:xfrm>
                  <a:off x="1455120" y="3471120"/>
                  <a:ext cx="191880" cy="211320"/>
                </a:xfrm>
                <a:custGeom>
                  <a:avLst/>
                  <a:gdLst/>
                  <a:ahLst/>
                  <a:rect l="l" t="t" r="r" b="b"/>
                  <a:pathLst>
                    <a:path w="854" h="1020">
                      <a:moveTo>
                        <a:pt x="0" y="573"/>
                      </a:moveTo>
                      <a:lnTo>
                        <a:pt x="518" y="0"/>
                      </a:lnTo>
                      <a:lnTo>
                        <a:pt x="854" y="76"/>
                      </a:lnTo>
                      <a:lnTo>
                        <a:pt x="0" y="1020"/>
                      </a:lnTo>
                      <a:lnTo>
                        <a:pt x="0" y="573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24"/>
                <p:cNvSpPr/>
                <p:nvPr/>
              </p:nvSpPr>
              <p:spPr>
                <a:xfrm>
                  <a:off x="1455120" y="3479400"/>
                  <a:ext cx="227520" cy="249480"/>
                </a:xfrm>
                <a:custGeom>
                  <a:avLst/>
                  <a:gdLst/>
                  <a:ahLst/>
                  <a:rect l="l" t="t" r="r" b="b"/>
                  <a:pathLst>
                    <a:path w="1022" h="1205">
                      <a:moveTo>
                        <a:pt x="0" y="758"/>
                      </a:moveTo>
                      <a:lnTo>
                        <a:pt x="686" y="0"/>
                      </a:lnTo>
                      <a:lnTo>
                        <a:pt x="1022" y="76"/>
                      </a:lnTo>
                      <a:lnTo>
                        <a:pt x="0" y="1205"/>
                      </a:lnTo>
                      <a:lnTo>
                        <a:pt x="0" y="758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125"/>
                <p:cNvSpPr/>
                <p:nvPr/>
              </p:nvSpPr>
              <p:spPr>
                <a:xfrm>
                  <a:off x="1455120" y="3486240"/>
                  <a:ext cx="265320" cy="289800"/>
                </a:xfrm>
                <a:custGeom>
                  <a:avLst/>
                  <a:gdLst/>
                  <a:ahLst/>
                  <a:rect l="l" t="t" r="r" b="b"/>
                  <a:pathLst>
                    <a:path w="1190" h="1392">
                      <a:moveTo>
                        <a:pt x="0" y="944"/>
                      </a:moveTo>
                      <a:lnTo>
                        <a:pt x="854" y="0"/>
                      </a:lnTo>
                      <a:lnTo>
                        <a:pt x="1190" y="77"/>
                      </a:lnTo>
                      <a:lnTo>
                        <a:pt x="0" y="1392"/>
                      </a:lnTo>
                      <a:lnTo>
                        <a:pt x="0" y="944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26"/>
                <p:cNvSpPr/>
                <p:nvPr/>
              </p:nvSpPr>
              <p:spPr>
                <a:xfrm>
                  <a:off x="1455120" y="3494520"/>
                  <a:ext cx="303480" cy="327960"/>
                </a:xfrm>
                <a:custGeom>
                  <a:avLst/>
                  <a:gdLst/>
                  <a:ahLst/>
                  <a:rect l="l" t="t" r="r" b="b"/>
                  <a:pathLst>
                    <a:path w="1358" h="1577">
                      <a:moveTo>
                        <a:pt x="0" y="1129"/>
                      </a:moveTo>
                      <a:lnTo>
                        <a:pt x="1022" y="0"/>
                      </a:lnTo>
                      <a:lnTo>
                        <a:pt x="1358" y="76"/>
                      </a:lnTo>
                      <a:lnTo>
                        <a:pt x="0" y="1577"/>
                      </a:lnTo>
                      <a:lnTo>
                        <a:pt x="0" y="1129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27"/>
                <p:cNvSpPr/>
                <p:nvPr/>
              </p:nvSpPr>
              <p:spPr>
                <a:xfrm>
                  <a:off x="1455120" y="3502800"/>
                  <a:ext cx="342720" cy="366480"/>
                </a:xfrm>
                <a:custGeom>
                  <a:avLst/>
                  <a:gdLst/>
                  <a:ahLst/>
                  <a:rect l="l" t="t" r="r" b="b"/>
                  <a:pathLst>
                    <a:path w="1526" h="1763">
                      <a:moveTo>
                        <a:pt x="0" y="1315"/>
                      </a:moveTo>
                      <a:lnTo>
                        <a:pt x="1190" y="0"/>
                      </a:lnTo>
                      <a:lnTo>
                        <a:pt x="1526" y="76"/>
                      </a:lnTo>
                      <a:lnTo>
                        <a:pt x="0" y="1763"/>
                      </a:lnTo>
                      <a:lnTo>
                        <a:pt x="0" y="1315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128"/>
                <p:cNvSpPr/>
                <p:nvPr/>
              </p:nvSpPr>
              <p:spPr>
                <a:xfrm>
                  <a:off x="1455120" y="3511440"/>
                  <a:ext cx="380160" cy="404640"/>
                </a:xfrm>
                <a:custGeom>
                  <a:avLst/>
                  <a:gdLst/>
                  <a:ahLst/>
                  <a:rect l="l" t="t" r="r" b="b"/>
                  <a:pathLst>
                    <a:path w="1694" h="1948">
                      <a:moveTo>
                        <a:pt x="0" y="1501"/>
                      </a:moveTo>
                      <a:lnTo>
                        <a:pt x="1358" y="0"/>
                      </a:lnTo>
                      <a:lnTo>
                        <a:pt x="1694" y="77"/>
                      </a:lnTo>
                      <a:lnTo>
                        <a:pt x="0" y="1948"/>
                      </a:lnTo>
                      <a:lnTo>
                        <a:pt x="0" y="1501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29"/>
                <p:cNvSpPr/>
                <p:nvPr/>
              </p:nvSpPr>
              <p:spPr>
                <a:xfrm>
                  <a:off x="1455120" y="3519720"/>
                  <a:ext cx="417960" cy="443160"/>
                </a:xfrm>
                <a:custGeom>
                  <a:avLst/>
                  <a:gdLst/>
                  <a:ahLst/>
                  <a:rect l="l" t="t" r="r" b="b"/>
                  <a:pathLst>
                    <a:path w="1862" h="2134">
                      <a:moveTo>
                        <a:pt x="0" y="1687"/>
                      </a:moveTo>
                      <a:lnTo>
                        <a:pt x="1526" y="0"/>
                      </a:lnTo>
                      <a:lnTo>
                        <a:pt x="1862" y="76"/>
                      </a:lnTo>
                      <a:lnTo>
                        <a:pt x="0" y="2134"/>
                      </a:lnTo>
                      <a:lnTo>
                        <a:pt x="0" y="1687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30"/>
                <p:cNvSpPr/>
                <p:nvPr/>
              </p:nvSpPr>
              <p:spPr>
                <a:xfrm>
                  <a:off x="1455120" y="3526200"/>
                  <a:ext cx="453960" cy="483120"/>
                </a:xfrm>
                <a:custGeom>
                  <a:avLst/>
                  <a:gdLst/>
                  <a:ahLst/>
                  <a:rect l="l" t="t" r="r" b="b"/>
                  <a:pathLst>
                    <a:path w="2030" h="2319">
                      <a:moveTo>
                        <a:pt x="0" y="1871"/>
                      </a:moveTo>
                      <a:lnTo>
                        <a:pt x="1694" y="0"/>
                      </a:lnTo>
                      <a:lnTo>
                        <a:pt x="2030" y="76"/>
                      </a:lnTo>
                      <a:lnTo>
                        <a:pt x="0" y="2319"/>
                      </a:lnTo>
                      <a:lnTo>
                        <a:pt x="0" y="1871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31"/>
                <p:cNvSpPr/>
                <p:nvPr/>
              </p:nvSpPr>
              <p:spPr>
                <a:xfrm>
                  <a:off x="1455120" y="3534840"/>
                  <a:ext cx="491760" cy="521280"/>
                </a:xfrm>
                <a:custGeom>
                  <a:avLst/>
                  <a:gdLst/>
                  <a:ahLst/>
                  <a:rect l="l" t="t" r="r" b="b"/>
                  <a:pathLst>
                    <a:path w="2198" h="2505">
                      <a:moveTo>
                        <a:pt x="0" y="2058"/>
                      </a:moveTo>
                      <a:lnTo>
                        <a:pt x="1862" y="0"/>
                      </a:lnTo>
                      <a:lnTo>
                        <a:pt x="2198" y="77"/>
                      </a:lnTo>
                      <a:lnTo>
                        <a:pt x="0" y="2505"/>
                      </a:lnTo>
                      <a:lnTo>
                        <a:pt x="0" y="2058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32"/>
                <p:cNvSpPr/>
                <p:nvPr/>
              </p:nvSpPr>
              <p:spPr>
                <a:xfrm>
                  <a:off x="1455120" y="3543120"/>
                  <a:ext cx="529200" cy="559440"/>
                </a:xfrm>
                <a:custGeom>
                  <a:avLst/>
                  <a:gdLst/>
                  <a:ahLst/>
                  <a:rect l="l" t="t" r="r" b="b"/>
                  <a:pathLst>
                    <a:path w="2366" h="2691">
                      <a:moveTo>
                        <a:pt x="0" y="2243"/>
                      </a:moveTo>
                      <a:lnTo>
                        <a:pt x="2030" y="0"/>
                      </a:lnTo>
                      <a:lnTo>
                        <a:pt x="2366" y="77"/>
                      </a:lnTo>
                      <a:lnTo>
                        <a:pt x="0" y="2691"/>
                      </a:lnTo>
                      <a:lnTo>
                        <a:pt x="0" y="2243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33"/>
                <p:cNvSpPr/>
                <p:nvPr/>
              </p:nvSpPr>
              <p:spPr>
                <a:xfrm>
                  <a:off x="1455120" y="3551400"/>
                  <a:ext cx="567000" cy="597960"/>
                </a:xfrm>
                <a:custGeom>
                  <a:avLst/>
                  <a:gdLst/>
                  <a:ahLst/>
                  <a:rect l="l" t="t" r="r" b="b"/>
                  <a:pathLst>
                    <a:path w="2533" h="2876">
                      <a:moveTo>
                        <a:pt x="0" y="2428"/>
                      </a:moveTo>
                      <a:lnTo>
                        <a:pt x="2198" y="0"/>
                      </a:lnTo>
                      <a:lnTo>
                        <a:pt x="2533" y="76"/>
                      </a:lnTo>
                      <a:lnTo>
                        <a:pt x="0" y="2876"/>
                      </a:lnTo>
                      <a:lnTo>
                        <a:pt x="0" y="2428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134"/>
                <p:cNvSpPr/>
                <p:nvPr/>
              </p:nvSpPr>
              <p:spPr>
                <a:xfrm>
                  <a:off x="1455120" y="3557880"/>
                  <a:ext cx="586440" cy="637920"/>
                </a:xfrm>
                <a:custGeom>
                  <a:avLst/>
                  <a:gdLst/>
                  <a:ahLst/>
                  <a:rect l="l" t="t" r="r" b="b"/>
                  <a:pathLst>
                    <a:path w="2616" h="3062">
                      <a:moveTo>
                        <a:pt x="0" y="2614"/>
                      </a:moveTo>
                      <a:lnTo>
                        <a:pt x="2366" y="0"/>
                      </a:lnTo>
                      <a:lnTo>
                        <a:pt x="2616" y="56"/>
                      </a:lnTo>
                      <a:lnTo>
                        <a:pt x="2616" y="170"/>
                      </a:lnTo>
                      <a:lnTo>
                        <a:pt x="0" y="3062"/>
                      </a:lnTo>
                      <a:lnTo>
                        <a:pt x="0" y="2614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35"/>
                <p:cNvSpPr/>
                <p:nvPr/>
              </p:nvSpPr>
              <p:spPr>
                <a:xfrm>
                  <a:off x="1455120" y="3566160"/>
                  <a:ext cx="586440" cy="631800"/>
                </a:xfrm>
                <a:custGeom>
                  <a:avLst/>
                  <a:gdLst/>
                  <a:ahLst/>
                  <a:rect l="l" t="t" r="r" b="b"/>
                  <a:pathLst>
                    <a:path w="2616" h="3028">
                      <a:moveTo>
                        <a:pt x="0" y="2800"/>
                      </a:moveTo>
                      <a:lnTo>
                        <a:pt x="2533" y="0"/>
                      </a:lnTo>
                      <a:lnTo>
                        <a:pt x="2616" y="19"/>
                      </a:lnTo>
                      <a:lnTo>
                        <a:pt x="2616" y="357"/>
                      </a:lnTo>
                      <a:lnTo>
                        <a:pt x="1173" y="1952"/>
                      </a:lnTo>
                      <a:lnTo>
                        <a:pt x="14" y="3028"/>
                      </a:lnTo>
                      <a:lnTo>
                        <a:pt x="0" y="3025"/>
                      </a:lnTo>
                      <a:lnTo>
                        <a:pt x="0" y="2800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136"/>
                <p:cNvSpPr/>
                <p:nvPr/>
              </p:nvSpPr>
              <p:spPr>
                <a:xfrm>
                  <a:off x="1455120" y="3594240"/>
                  <a:ext cx="586440" cy="603360"/>
                </a:xfrm>
                <a:custGeom>
                  <a:avLst/>
                  <a:gdLst/>
                  <a:ahLst/>
                  <a:rect l="l" t="t" r="r" b="b"/>
                  <a:pathLst>
                    <a:path w="2616" h="2895">
                      <a:moveTo>
                        <a:pt x="0" y="2892"/>
                      </a:moveTo>
                      <a:lnTo>
                        <a:pt x="2616" y="0"/>
                      </a:lnTo>
                      <a:lnTo>
                        <a:pt x="2616" y="448"/>
                      </a:lnTo>
                      <a:lnTo>
                        <a:pt x="2439" y="643"/>
                      </a:lnTo>
                      <a:lnTo>
                        <a:pt x="14" y="2895"/>
                      </a:lnTo>
                      <a:lnTo>
                        <a:pt x="0" y="2892"/>
                      </a:lnTo>
                      <a:lnTo>
                        <a:pt x="0" y="2892"/>
                      </a:lnTo>
                      <a:close/>
                    </a:path>
                  </a:pathLst>
                </a:custGeom>
                <a:solidFill>
                  <a:srgbClr val="d7d2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137"/>
                <p:cNvSpPr/>
                <p:nvPr/>
              </p:nvSpPr>
              <p:spPr>
                <a:xfrm>
                  <a:off x="1716840" y="3641400"/>
                  <a:ext cx="324360" cy="331200"/>
                </a:xfrm>
                <a:custGeom>
                  <a:avLst/>
                  <a:gdLst/>
                  <a:ahLst/>
                  <a:rect l="l" t="t" r="r" b="b"/>
                  <a:pathLst>
                    <a:path w="1443" h="1595">
                      <a:moveTo>
                        <a:pt x="0" y="1595"/>
                      </a:moveTo>
                      <a:lnTo>
                        <a:pt x="1443" y="0"/>
                      </a:lnTo>
                      <a:lnTo>
                        <a:pt x="1443" y="255"/>
                      </a:lnTo>
                      <a:lnTo>
                        <a:pt x="0" y="1595"/>
                      </a:lnTo>
                      <a:close/>
                    </a:path>
                  </a:pathLst>
                </a:custGeom>
                <a:solidFill>
                  <a:srgbClr val="d7d2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138"/>
                <p:cNvSpPr/>
                <p:nvPr/>
              </p:nvSpPr>
              <p:spPr>
                <a:xfrm>
                  <a:off x="2002320" y="3687840"/>
                  <a:ext cx="39240" cy="39960"/>
                </a:xfrm>
                <a:custGeom>
                  <a:avLst/>
                  <a:gdLst/>
                  <a:ahLst/>
                  <a:rect l="l" t="t" r="r" b="b"/>
                  <a:pathLst>
                    <a:path w="177" h="195">
                      <a:moveTo>
                        <a:pt x="0" y="195"/>
                      </a:moveTo>
                      <a:lnTo>
                        <a:pt x="177" y="0"/>
                      </a:lnTo>
                      <a:lnTo>
                        <a:pt x="177" y="31"/>
                      </a:lnTo>
                      <a:lnTo>
                        <a:pt x="0" y="195"/>
                      </a:lnTo>
                      <a:close/>
                    </a:path>
                  </a:pathLst>
                </a:custGeom>
                <a:solidFill>
                  <a:srgbClr val="d7d2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39"/>
                <p:cNvSpPr/>
                <p:nvPr/>
              </p:nvSpPr>
              <p:spPr>
                <a:xfrm>
                  <a:off x="2628360" y="3694680"/>
                  <a:ext cx="18000" cy="21240"/>
                </a:xfrm>
                <a:custGeom>
                  <a:avLst/>
                  <a:gdLst/>
                  <a:ahLst/>
                  <a:rect l="l" t="t" r="r" b="b"/>
                  <a:pathLst>
                    <a:path w="81" h="105">
                      <a:moveTo>
                        <a:pt x="81" y="20"/>
                      </a:moveTo>
                      <a:lnTo>
                        <a:pt x="4" y="105"/>
                      </a:lnTo>
                      <a:lnTo>
                        <a:pt x="0" y="0"/>
                      </a:lnTo>
                      <a:lnTo>
                        <a:pt x="81" y="20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140"/>
                <p:cNvSpPr/>
                <p:nvPr/>
              </p:nvSpPr>
              <p:spPr>
                <a:xfrm>
                  <a:off x="2628360" y="3694680"/>
                  <a:ext cx="57600" cy="69840"/>
                </a:xfrm>
                <a:custGeom>
                  <a:avLst/>
                  <a:gdLst/>
                  <a:ahLst/>
                  <a:rect l="l" t="t" r="r" b="b"/>
                  <a:pathLst>
                    <a:path w="261" h="335">
                      <a:moveTo>
                        <a:pt x="261" y="60"/>
                      </a:moveTo>
                      <a:lnTo>
                        <a:pt x="13" y="335"/>
                      </a:lnTo>
                      <a:lnTo>
                        <a:pt x="0" y="0"/>
                      </a:lnTo>
                      <a:lnTo>
                        <a:pt x="261" y="60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141"/>
                <p:cNvSpPr/>
                <p:nvPr/>
              </p:nvSpPr>
              <p:spPr>
                <a:xfrm>
                  <a:off x="2628360" y="3697920"/>
                  <a:ext cx="98640" cy="113040"/>
                </a:xfrm>
                <a:custGeom>
                  <a:avLst/>
                  <a:gdLst/>
                  <a:ahLst/>
                  <a:rect l="l" t="t" r="r" b="b"/>
                  <a:pathLst>
                    <a:path w="439" h="545">
                      <a:moveTo>
                        <a:pt x="0" y="85"/>
                      </a:moveTo>
                      <a:lnTo>
                        <a:pt x="77" y="0"/>
                      </a:lnTo>
                      <a:lnTo>
                        <a:pt x="439" y="81"/>
                      </a:lnTo>
                      <a:lnTo>
                        <a:pt x="18" y="545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142"/>
                <p:cNvSpPr/>
                <p:nvPr/>
              </p:nvSpPr>
              <p:spPr>
                <a:xfrm>
                  <a:off x="2630520" y="3706200"/>
                  <a:ext cx="137880" cy="153000"/>
                </a:xfrm>
                <a:custGeom>
                  <a:avLst/>
                  <a:gdLst/>
                  <a:ahLst/>
                  <a:rect l="l" t="t" r="r" b="b"/>
                  <a:pathLst>
                    <a:path w="610" h="736">
                      <a:moveTo>
                        <a:pt x="0" y="275"/>
                      </a:moveTo>
                      <a:lnTo>
                        <a:pt x="248" y="0"/>
                      </a:lnTo>
                      <a:lnTo>
                        <a:pt x="610" y="82"/>
                      </a:lnTo>
                      <a:lnTo>
                        <a:pt x="18" y="736"/>
                      </a:lnTo>
                      <a:lnTo>
                        <a:pt x="0" y="275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43"/>
                <p:cNvSpPr/>
                <p:nvPr/>
              </p:nvSpPr>
              <p:spPr>
                <a:xfrm>
                  <a:off x="2631960" y="3714480"/>
                  <a:ext cx="175680" cy="192960"/>
                </a:xfrm>
                <a:custGeom>
                  <a:avLst/>
                  <a:gdLst/>
                  <a:ahLst/>
                  <a:rect l="l" t="t" r="r" b="b"/>
                  <a:pathLst>
                    <a:path w="781" h="925">
                      <a:moveTo>
                        <a:pt x="0" y="464"/>
                      </a:moveTo>
                      <a:lnTo>
                        <a:pt x="421" y="0"/>
                      </a:lnTo>
                      <a:lnTo>
                        <a:pt x="781" y="82"/>
                      </a:lnTo>
                      <a:lnTo>
                        <a:pt x="18" y="925"/>
                      </a:lnTo>
                      <a:lnTo>
                        <a:pt x="0" y="464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44"/>
                <p:cNvSpPr/>
                <p:nvPr/>
              </p:nvSpPr>
              <p:spPr>
                <a:xfrm>
                  <a:off x="2635560" y="3724560"/>
                  <a:ext cx="213480" cy="231480"/>
                </a:xfrm>
                <a:custGeom>
                  <a:avLst/>
                  <a:gdLst/>
                  <a:ahLst/>
                  <a:rect l="l" t="t" r="r" b="b"/>
                  <a:pathLst>
                    <a:path w="953" h="1115">
                      <a:moveTo>
                        <a:pt x="0" y="654"/>
                      </a:moveTo>
                      <a:lnTo>
                        <a:pt x="592" y="0"/>
                      </a:lnTo>
                      <a:lnTo>
                        <a:pt x="953" y="83"/>
                      </a:lnTo>
                      <a:lnTo>
                        <a:pt x="18" y="1115"/>
                      </a:lnTo>
                      <a:lnTo>
                        <a:pt x="0" y="654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145"/>
                <p:cNvSpPr/>
                <p:nvPr/>
              </p:nvSpPr>
              <p:spPr>
                <a:xfrm>
                  <a:off x="2637360" y="3732840"/>
                  <a:ext cx="251280" cy="271440"/>
                </a:xfrm>
                <a:custGeom>
                  <a:avLst/>
                  <a:gdLst/>
                  <a:ahLst/>
                  <a:rect l="l" t="t" r="r" b="b"/>
                  <a:pathLst>
                    <a:path w="1124" h="1304">
                      <a:moveTo>
                        <a:pt x="0" y="843"/>
                      </a:moveTo>
                      <a:lnTo>
                        <a:pt x="763" y="0"/>
                      </a:lnTo>
                      <a:lnTo>
                        <a:pt x="1124" y="83"/>
                      </a:lnTo>
                      <a:lnTo>
                        <a:pt x="18" y="1304"/>
                      </a:lnTo>
                      <a:lnTo>
                        <a:pt x="0" y="843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46"/>
                <p:cNvSpPr/>
                <p:nvPr/>
              </p:nvSpPr>
              <p:spPr>
                <a:xfrm>
                  <a:off x="2639160" y="3741120"/>
                  <a:ext cx="290160" cy="309960"/>
                </a:xfrm>
                <a:custGeom>
                  <a:avLst/>
                  <a:gdLst/>
                  <a:ahLst/>
                  <a:rect l="l" t="t" r="r" b="b"/>
                  <a:pathLst>
                    <a:path w="1295" h="1493">
                      <a:moveTo>
                        <a:pt x="0" y="1032"/>
                      </a:moveTo>
                      <a:lnTo>
                        <a:pt x="935" y="0"/>
                      </a:lnTo>
                      <a:lnTo>
                        <a:pt x="1295" y="81"/>
                      </a:lnTo>
                      <a:lnTo>
                        <a:pt x="18" y="1493"/>
                      </a:lnTo>
                      <a:lnTo>
                        <a:pt x="0" y="1032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147"/>
                <p:cNvSpPr/>
                <p:nvPr/>
              </p:nvSpPr>
              <p:spPr>
                <a:xfrm>
                  <a:off x="2640960" y="3749400"/>
                  <a:ext cx="328320" cy="349560"/>
                </a:xfrm>
                <a:custGeom>
                  <a:avLst/>
                  <a:gdLst/>
                  <a:ahLst/>
                  <a:rect l="l" t="t" r="r" b="b"/>
                  <a:pathLst>
                    <a:path w="1467" h="1682">
                      <a:moveTo>
                        <a:pt x="0" y="1221"/>
                      </a:moveTo>
                      <a:lnTo>
                        <a:pt x="1106" y="0"/>
                      </a:lnTo>
                      <a:lnTo>
                        <a:pt x="1467" y="81"/>
                      </a:lnTo>
                      <a:lnTo>
                        <a:pt x="18" y="1682"/>
                      </a:lnTo>
                      <a:lnTo>
                        <a:pt x="0" y="1221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48"/>
                <p:cNvSpPr/>
                <p:nvPr/>
              </p:nvSpPr>
              <p:spPr>
                <a:xfrm>
                  <a:off x="2643120" y="3757680"/>
                  <a:ext cx="367560" cy="389880"/>
                </a:xfrm>
                <a:custGeom>
                  <a:avLst/>
                  <a:gdLst/>
                  <a:ahLst/>
                  <a:rect l="l" t="t" r="r" b="b"/>
                  <a:pathLst>
                    <a:path w="1638" h="1872">
                      <a:moveTo>
                        <a:pt x="0" y="1412"/>
                      </a:moveTo>
                      <a:lnTo>
                        <a:pt x="1277" y="0"/>
                      </a:lnTo>
                      <a:lnTo>
                        <a:pt x="1638" y="82"/>
                      </a:lnTo>
                      <a:lnTo>
                        <a:pt x="18" y="1872"/>
                      </a:lnTo>
                      <a:lnTo>
                        <a:pt x="0" y="1412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149"/>
                <p:cNvSpPr/>
                <p:nvPr/>
              </p:nvSpPr>
              <p:spPr>
                <a:xfrm>
                  <a:off x="2644560" y="3765960"/>
                  <a:ext cx="405360" cy="429840"/>
                </a:xfrm>
                <a:custGeom>
                  <a:avLst/>
                  <a:gdLst/>
                  <a:ahLst/>
                  <a:rect l="l" t="t" r="r" b="b"/>
                  <a:pathLst>
                    <a:path w="1809" h="2061">
                      <a:moveTo>
                        <a:pt x="0" y="1601"/>
                      </a:moveTo>
                      <a:lnTo>
                        <a:pt x="1449" y="0"/>
                      </a:lnTo>
                      <a:lnTo>
                        <a:pt x="1809" y="83"/>
                      </a:lnTo>
                      <a:lnTo>
                        <a:pt x="17" y="2061"/>
                      </a:lnTo>
                      <a:lnTo>
                        <a:pt x="0" y="1601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150"/>
                <p:cNvSpPr/>
                <p:nvPr/>
              </p:nvSpPr>
              <p:spPr>
                <a:xfrm>
                  <a:off x="2646720" y="3774600"/>
                  <a:ext cx="444600" cy="469440"/>
                </a:xfrm>
                <a:custGeom>
                  <a:avLst/>
                  <a:gdLst/>
                  <a:ahLst/>
                  <a:rect l="l" t="t" r="r" b="b"/>
                  <a:pathLst>
                    <a:path w="1980" h="2252">
                      <a:moveTo>
                        <a:pt x="0" y="1790"/>
                      </a:moveTo>
                      <a:lnTo>
                        <a:pt x="1620" y="0"/>
                      </a:lnTo>
                      <a:lnTo>
                        <a:pt x="1980" y="83"/>
                      </a:lnTo>
                      <a:lnTo>
                        <a:pt x="17" y="2252"/>
                      </a:lnTo>
                      <a:lnTo>
                        <a:pt x="0" y="1790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151"/>
                <p:cNvSpPr/>
                <p:nvPr/>
              </p:nvSpPr>
              <p:spPr>
                <a:xfrm>
                  <a:off x="2648160" y="3784320"/>
                  <a:ext cx="482400" cy="506520"/>
                </a:xfrm>
                <a:custGeom>
                  <a:avLst/>
                  <a:gdLst/>
                  <a:ahLst/>
                  <a:rect l="l" t="t" r="r" b="b"/>
                  <a:pathLst>
                    <a:path w="2153" h="2440">
                      <a:moveTo>
                        <a:pt x="0" y="1978"/>
                      </a:moveTo>
                      <a:lnTo>
                        <a:pt x="1792" y="0"/>
                      </a:lnTo>
                      <a:lnTo>
                        <a:pt x="2153" y="82"/>
                      </a:lnTo>
                      <a:lnTo>
                        <a:pt x="19" y="2440"/>
                      </a:lnTo>
                      <a:lnTo>
                        <a:pt x="0" y="1978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52"/>
                <p:cNvSpPr/>
                <p:nvPr/>
              </p:nvSpPr>
              <p:spPr>
                <a:xfrm>
                  <a:off x="2651760" y="3792960"/>
                  <a:ext cx="520200" cy="546120"/>
                </a:xfrm>
                <a:custGeom>
                  <a:avLst/>
                  <a:gdLst/>
                  <a:ahLst/>
                  <a:rect l="l" t="t" r="r" b="b"/>
                  <a:pathLst>
                    <a:path w="2324" h="2629">
                      <a:moveTo>
                        <a:pt x="0" y="2169"/>
                      </a:moveTo>
                      <a:lnTo>
                        <a:pt x="1963" y="0"/>
                      </a:lnTo>
                      <a:lnTo>
                        <a:pt x="2324" y="81"/>
                      </a:lnTo>
                      <a:lnTo>
                        <a:pt x="19" y="2629"/>
                      </a:lnTo>
                      <a:lnTo>
                        <a:pt x="0" y="2169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153"/>
                <p:cNvSpPr/>
                <p:nvPr/>
              </p:nvSpPr>
              <p:spPr>
                <a:xfrm>
                  <a:off x="2653560" y="3801240"/>
                  <a:ext cx="559800" cy="586440"/>
                </a:xfrm>
                <a:custGeom>
                  <a:avLst/>
                  <a:gdLst/>
                  <a:ahLst/>
                  <a:rect l="l" t="t" r="r" b="b"/>
                  <a:pathLst>
                    <a:path w="2494" h="2819">
                      <a:moveTo>
                        <a:pt x="0" y="2358"/>
                      </a:moveTo>
                      <a:lnTo>
                        <a:pt x="2134" y="0"/>
                      </a:lnTo>
                      <a:lnTo>
                        <a:pt x="2494" y="81"/>
                      </a:lnTo>
                      <a:lnTo>
                        <a:pt x="18" y="2819"/>
                      </a:lnTo>
                      <a:lnTo>
                        <a:pt x="0" y="2358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54"/>
                <p:cNvSpPr/>
                <p:nvPr/>
              </p:nvSpPr>
              <p:spPr>
                <a:xfrm>
                  <a:off x="2655720" y="3809520"/>
                  <a:ext cx="597240" cy="626400"/>
                </a:xfrm>
                <a:custGeom>
                  <a:avLst/>
                  <a:gdLst/>
                  <a:ahLst/>
                  <a:rect l="l" t="t" r="r" b="b"/>
                  <a:pathLst>
                    <a:path w="2667" h="3009">
                      <a:moveTo>
                        <a:pt x="0" y="2548"/>
                      </a:moveTo>
                      <a:lnTo>
                        <a:pt x="2305" y="0"/>
                      </a:lnTo>
                      <a:lnTo>
                        <a:pt x="2667" y="82"/>
                      </a:lnTo>
                      <a:lnTo>
                        <a:pt x="18" y="3009"/>
                      </a:lnTo>
                      <a:lnTo>
                        <a:pt x="0" y="2548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155"/>
                <p:cNvSpPr/>
                <p:nvPr/>
              </p:nvSpPr>
              <p:spPr>
                <a:xfrm>
                  <a:off x="2657160" y="3817800"/>
                  <a:ext cx="636480" cy="636480"/>
                </a:xfrm>
                <a:custGeom>
                  <a:avLst/>
                  <a:gdLst/>
                  <a:ahLst/>
                  <a:rect l="l" t="t" r="r" b="b"/>
                  <a:pathLst>
                    <a:path w="2838" h="3053">
                      <a:moveTo>
                        <a:pt x="0" y="2738"/>
                      </a:moveTo>
                      <a:lnTo>
                        <a:pt x="2476" y="0"/>
                      </a:lnTo>
                      <a:lnTo>
                        <a:pt x="2838" y="83"/>
                      </a:lnTo>
                      <a:lnTo>
                        <a:pt x="680" y="2467"/>
                      </a:lnTo>
                      <a:lnTo>
                        <a:pt x="12" y="3053"/>
                      </a:lnTo>
                      <a:lnTo>
                        <a:pt x="12" y="3053"/>
                      </a:lnTo>
                      <a:lnTo>
                        <a:pt x="0" y="2738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156"/>
                <p:cNvSpPr/>
                <p:nvPr/>
              </p:nvSpPr>
              <p:spPr>
                <a:xfrm>
                  <a:off x="2658960" y="3826080"/>
                  <a:ext cx="665280" cy="628200"/>
                </a:xfrm>
                <a:custGeom>
                  <a:avLst/>
                  <a:gdLst/>
                  <a:ahLst/>
                  <a:rect l="l" t="t" r="r" b="b"/>
                  <a:pathLst>
                    <a:path w="2969" h="3012">
                      <a:moveTo>
                        <a:pt x="0" y="2927"/>
                      </a:moveTo>
                      <a:lnTo>
                        <a:pt x="2649" y="0"/>
                      </a:lnTo>
                      <a:lnTo>
                        <a:pt x="2969" y="74"/>
                      </a:lnTo>
                      <a:lnTo>
                        <a:pt x="2969" y="128"/>
                      </a:lnTo>
                      <a:lnTo>
                        <a:pt x="1729" y="1497"/>
                      </a:lnTo>
                      <a:lnTo>
                        <a:pt x="3" y="3012"/>
                      </a:lnTo>
                      <a:lnTo>
                        <a:pt x="3" y="3012"/>
                      </a:lnTo>
                      <a:lnTo>
                        <a:pt x="0" y="2927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157"/>
                <p:cNvSpPr/>
                <p:nvPr/>
              </p:nvSpPr>
              <p:spPr>
                <a:xfrm>
                  <a:off x="2809800" y="3834360"/>
                  <a:ext cx="514440" cy="496440"/>
                </a:xfrm>
                <a:custGeom>
                  <a:avLst/>
                  <a:gdLst/>
                  <a:ahLst/>
                  <a:rect l="l" t="t" r="r" b="b"/>
                  <a:pathLst>
                    <a:path w="2298" h="2384">
                      <a:moveTo>
                        <a:pt x="0" y="2384"/>
                      </a:moveTo>
                      <a:lnTo>
                        <a:pt x="2158" y="0"/>
                      </a:lnTo>
                      <a:lnTo>
                        <a:pt x="2298" y="32"/>
                      </a:lnTo>
                      <a:lnTo>
                        <a:pt x="2298" y="327"/>
                      </a:lnTo>
                      <a:lnTo>
                        <a:pt x="2116" y="526"/>
                      </a:lnTo>
                      <a:lnTo>
                        <a:pt x="0" y="2384"/>
                      </a:lnTo>
                      <a:close/>
                    </a:path>
                  </a:pathLst>
                </a:custGeom>
                <a:solidFill>
                  <a:srgbClr val="d7d2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58"/>
                <p:cNvSpPr/>
                <p:nvPr/>
              </p:nvSpPr>
              <p:spPr>
                <a:xfrm>
                  <a:off x="3046680" y="3852720"/>
                  <a:ext cx="277560" cy="284760"/>
                </a:xfrm>
                <a:custGeom>
                  <a:avLst/>
                  <a:gdLst/>
                  <a:ahLst/>
                  <a:rect l="l" t="t" r="r" b="b"/>
                  <a:pathLst>
                    <a:path w="1240" h="1369">
                      <a:moveTo>
                        <a:pt x="0" y="1369"/>
                      </a:moveTo>
                      <a:lnTo>
                        <a:pt x="1240" y="0"/>
                      </a:lnTo>
                      <a:lnTo>
                        <a:pt x="1240" y="281"/>
                      </a:lnTo>
                      <a:lnTo>
                        <a:pt x="0" y="1369"/>
                      </a:lnTo>
                      <a:close/>
                    </a:path>
                  </a:pathLst>
                </a:custGeom>
                <a:solidFill>
                  <a:srgbClr val="d7d2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159"/>
                <p:cNvSpPr/>
                <p:nvPr/>
              </p:nvSpPr>
              <p:spPr>
                <a:xfrm>
                  <a:off x="3285000" y="3902760"/>
                  <a:ext cx="39240" cy="41400"/>
                </a:xfrm>
                <a:custGeom>
                  <a:avLst/>
                  <a:gdLst/>
                  <a:ahLst/>
                  <a:rect l="l" t="t" r="r" b="b"/>
                  <a:pathLst>
                    <a:path w="182" h="199">
                      <a:moveTo>
                        <a:pt x="0" y="199"/>
                      </a:moveTo>
                      <a:lnTo>
                        <a:pt x="182" y="0"/>
                      </a:lnTo>
                      <a:lnTo>
                        <a:pt x="182" y="40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d7d2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160"/>
                <p:cNvSpPr/>
                <p:nvPr/>
              </p:nvSpPr>
              <p:spPr>
                <a:xfrm>
                  <a:off x="4076280" y="48790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eb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161"/>
                <p:cNvSpPr/>
                <p:nvPr/>
              </p:nvSpPr>
              <p:spPr>
                <a:xfrm>
                  <a:off x="4076280" y="48790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eb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162"/>
                <p:cNvSpPr/>
                <p:nvPr/>
              </p:nvSpPr>
              <p:spPr>
                <a:xfrm>
                  <a:off x="4045680" y="2849760"/>
                  <a:ext cx="695880" cy="2034360"/>
                </a:xfrm>
                <a:custGeom>
                  <a:avLst/>
                  <a:gdLst/>
                  <a:ahLst/>
                  <a:rect l="l" t="t" r="r" b="b"/>
                  <a:pathLst>
                    <a:path w="3104" h="9763">
                      <a:moveTo>
                        <a:pt x="168" y="9763"/>
                      </a:moveTo>
                      <a:lnTo>
                        <a:pt x="3104" y="7010"/>
                      </a:lnTo>
                      <a:lnTo>
                        <a:pt x="3104" y="3706"/>
                      </a:lnTo>
                      <a:lnTo>
                        <a:pt x="1930" y="0"/>
                      </a:lnTo>
                      <a:lnTo>
                        <a:pt x="0" y="5155"/>
                      </a:lnTo>
                      <a:lnTo>
                        <a:pt x="168" y="9763"/>
                      </a:lnTo>
                      <a:close/>
                    </a:path>
                  </a:pathLst>
                </a:custGeom>
                <a:solidFill>
                  <a:srgbClr val="ede0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3"/>
                <p:cNvSpPr/>
                <p:nvPr/>
              </p:nvSpPr>
              <p:spPr>
                <a:xfrm>
                  <a:off x="4081680" y="4861080"/>
                  <a:ext cx="21240" cy="16560"/>
                </a:xfrm>
                <a:custGeom>
                  <a:avLst/>
                  <a:gdLst/>
                  <a:ahLst/>
                  <a:rect l="l" t="t" r="r" b="b"/>
                  <a:pathLst>
                    <a:path w="89" h="82">
                      <a:moveTo>
                        <a:pt x="77" y="0"/>
                      </a:moveTo>
                      <a:lnTo>
                        <a:pt x="89" y="28"/>
                      </a:lnTo>
                      <a:lnTo>
                        <a:pt x="61" y="54"/>
                      </a:lnTo>
                      <a:lnTo>
                        <a:pt x="1" y="82"/>
                      </a:lnTo>
                      <a:lnTo>
                        <a:pt x="0" y="7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868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64"/>
                <p:cNvSpPr/>
                <p:nvPr/>
              </p:nvSpPr>
              <p:spPr>
                <a:xfrm>
                  <a:off x="4081680" y="484092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190" h="176">
                      <a:moveTo>
                        <a:pt x="179" y="0"/>
                      </a:moveTo>
                      <a:lnTo>
                        <a:pt x="190" y="27"/>
                      </a:lnTo>
                      <a:lnTo>
                        <a:pt x="61" y="148"/>
                      </a:lnTo>
                      <a:lnTo>
                        <a:pt x="1" y="176"/>
                      </a:lnTo>
                      <a:lnTo>
                        <a:pt x="0" y="164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8681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65"/>
                <p:cNvSpPr/>
                <p:nvPr/>
              </p:nvSpPr>
              <p:spPr>
                <a:xfrm>
                  <a:off x="4099320" y="4822560"/>
                  <a:ext cx="48240" cy="44640"/>
                </a:xfrm>
                <a:custGeom>
                  <a:avLst/>
                  <a:gdLst/>
                  <a:ahLst/>
                  <a:rect l="l" t="t" r="r" b="b"/>
                  <a:pathLst>
                    <a:path w="215" h="216">
                      <a:moveTo>
                        <a:pt x="12" y="216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15" y="26"/>
                      </a:lnTo>
                      <a:lnTo>
                        <a:pt x="12" y="216"/>
                      </a:lnTo>
                      <a:close/>
                    </a:path>
                  </a:pathLst>
                </a:custGeom>
                <a:solidFill>
                  <a:srgbClr val="8882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166"/>
                <p:cNvSpPr/>
                <p:nvPr/>
              </p:nvSpPr>
              <p:spPr>
                <a:xfrm>
                  <a:off x="4123080" y="4802400"/>
                  <a:ext cx="48240" cy="44640"/>
                </a:xfrm>
                <a:custGeom>
                  <a:avLst/>
                  <a:gdLst/>
                  <a:ahLst/>
                  <a:rect l="l" t="t" r="r" b="b"/>
                  <a:pathLst>
                    <a:path w="214" h="215">
                      <a:moveTo>
                        <a:pt x="11" y="215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14" y="25"/>
                      </a:lnTo>
                      <a:lnTo>
                        <a:pt x="11" y="215"/>
                      </a:lnTo>
                      <a:close/>
                    </a:path>
                  </a:pathLst>
                </a:custGeom>
                <a:solidFill>
                  <a:srgbClr val="8a84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167"/>
                <p:cNvSpPr/>
                <p:nvPr/>
              </p:nvSpPr>
              <p:spPr>
                <a:xfrm>
                  <a:off x="4146120" y="4782600"/>
                  <a:ext cx="46440" cy="44640"/>
                </a:xfrm>
                <a:custGeom>
                  <a:avLst/>
                  <a:gdLst/>
                  <a:ahLst/>
                  <a:rect l="l" t="t" r="r" b="b"/>
                  <a:pathLst>
                    <a:path w="214" h="214">
                      <a:moveTo>
                        <a:pt x="11" y="214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14" y="23"/>
                      </a:lnTo>
                      <a:lnTo>
                        <a:pt x="11" y="214"/>
                      </a:lnTo>
                      <a:close/>
                    </a:path>
                  </a:pathLst>
                </a:custGeom>
                <a:solidFill>
                  <a:srgbClr val="8c86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68"/>
                <p:cNvSpPr/>
                <p:nvPr/>
              </p:nvSpPr>
              <p:spPr>
                <a:xfrm>
                  <a:off x="4167720" y="4762440"/>
                  <a:ext cx="48240" cy="45000"/>
                </a:xfrm>
                <a:custGeom>
                  <a:avLst/>
                  <a:gdLst/>
                  <a:ahLst/>
                  <a:rect l="l" t="t" r="r" b="b"/>
                  <a:pathLst>
                    <a:path w="214" h="213">
                      <a:moveTo>
                        <a:pt x="10" y="213"/>
                      </a:moveTo>
                      <a:lnTo>
                        <a:pt x="0" y="188"/>
                      </a:lnTo>
                      <a:lnTo>
                        <a:pt x="203" y="0"/>
                      </a:lnTo>
                      <a:lnTo>
                        <a:pt x="214" y="22"/>
                      </a:lnTo>
                      <a:lnTo>
                        <a:pt x="10" y="213"/>
                      </a:lnTo>
                      <a:close/>
                    </a:path>
                  </a:pathLst>
                </a:custGeom>
                <a:solidFill>
                  <a:srgbClr val="8e87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169"/>
                <p:cNvSpPr/>
                <p:nvPr/>
              </p:nvSpPr>
              <p:spPr>
                <a:xfrm>
                  <a:off x="4191120" y="4744440"/>
                  <a:ext cx="48240" cy="43200"/>
                </a:xfrm>
                <a:custGeom>
                  <a:avLst/>
                  <a:gdLst/>
                  <a:ahLst/>
                  <a:rect l="l" t="t" r="r" b="b"/>
                  <a:pathLst>
                    <a:path w="213" h="212">
                      <a:moveTo>
                        <a:pt x="10" y="212"/>
                      </a:moveTo>
                      <a:lnTo>
                        <a:pt x="0" y="189"/>
                      </a:lnTo>
                      <a:lnTo>
                        <a:pt x="203" y="0"/>
                      </a:lnTo>
                      <a:lnTo>
                        <a:pt x="213" y="22"/>
                      </a:lnTo>
                      <a:lnTo>
                        <a:pt x="10" y="212"/>
                      </a:lnTo>
                      <a:close/>
                    </a:path>
                  </a:pathLst>
                </a:custGeom>
                <a:solidFill>
                  <a:srgbClr val="9089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170"/>
                <p:cNvSpPr/>
                <p:nvPr/>
              </p:nvSpPr>
              <p:spPr>
                <a:xfrm>
                  <a:off x="4214520" y="4724280"/>
                  <a:ext cx="48240" cy="43200"/>
                </a:xfrm>
                <a:custGeom>
                  <a:avLst/>
                  <a:gdLst/>
                  <a:ahLst/>
                  <a:rect l="l" t="t" r="r" b="b"/>
                  <a:pathLst>
                    <a:path w="214" h="211">
                      <a:moveTo>
                        <a:pt x="11" y="211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214" y="21"/>
                      </a:lnTo>
                      <a:lnTo>
                        <a:pt x="11" y="211"/>
                      </a:lnTo>
                      <a:close/>
                    </a:path>
                  </a:pathLst>
                </a:custGeom>
                <a:solidFill>
                  <a:srgbClr val="938c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171"/>
                <p:cNvSpPr/>
                <p:nvPr/>
              </p:nvSpPr>
              <p:spPr>
                <a:xfrm>
                  <a:off x="4237920" y="4704120"/>
                  <a:ext cx="46440" cy="43200"/>
                </a:xfrm>
                <a:custGeom>
                  <a:avLst/>
                  <a:gdLst/>
                  <a:ahLst/>
                  <a:rect l="l" t="t" r="r" b="b"/>
                  <a:pathLst>
                    <a:path w="213" h="210">
                      <a:moveTo>
                        <a:pt x="10" y="210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13" y="20"/>
                      </a:lnTo>
                      <a:lnTo>
                        <a:pt x="10" y="210"/>
                      </a:lnTo>
                      <a:close/>
                    </a:path>
                  </a:pathLst>
                </a:custGeom>
                <a:solidFill>
                  <a:srgbClr val="968f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172"/>
                <p:cNvSpPr/>
                <p:nvPr/>
              </p:nvSpPr>
              <p:spPr>
                <a:xfrm>
                  <a:off x="4259520" y="4684320"/>
                  <a:ext cx="48240" cy="43200"/>
                </a:xfrm>
                <a:custGeom>
                  <a:avLst/>
                  <a:gdLst/>
                  <a:ahLst/>
                  <a:rect l="l" t="t" r="r" b="b"/>
                  <a:pathLst>
                    <a:path w="213" h="209">
                      <a:moveTo>
                        <a:pt x="10" y="209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13" y="18"/>
                      </a:lnTo>
                      <a:lnTo>
                        <a:pt x="10" y="209"/>
                      </a:lnTo>
                      <a:close/>
                    </a:path>
                  </a:pathLst>
                </a:custGeom>
                <a:solidFill>
                  <a:srgbClr val="989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173"/>
                <p:cNvSpPr/>
                <p:nvPr/>
              </p:nvSpPr>
              <p:spPr>
                <a:xfrm>
                  <a:off x="4282560" y="4665960"/>
                  <a:ext cx="48240" cy="41400"/>
                </a:xfrm>
                <a:custGeom>
                  <a:avLst/>
                  <a:gdLst/>
                  <a:ahLst/>
                  <a:rect l="l" t="t" r="r" b="b"/>
                  <a:pathLst>
                    <a:path w="212" h="208">
                      <a:moveTo>
                        <a:pt x="9" y="208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12" y="17"/>
                      </a:lnTo>
                      <a:lnTo>
                        <a:pt x="9" y="208"/>
                      </a:lnTo>
                      <a:close/>
                    </a:path>
                  </a:pathLst>
                </a:custGeom>
                <a:solidFill>
                  <a:srgbClr val="9c9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174"/>
                <p:cNvSpPr/>
                <p:nvPr/>
              </p:nvSpPr>
              <p:spPr>
                <a:xfrm>
                  <a:off x="4306320" y="464616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12" h="206">
                      <a:moveTo>
                        <a:pt x="9" y="206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12" y="16"/>
                      </a:lnTo>
                      <a:lnTo>
                        <a:pt x="9" y="206"/>
                      </a:lnTo>
                      <a:close/>
                    </a:path>
                  </a:pathLst>
                </a:custGeom>
                <a:solidFill>
                  <a:srgbClr val="9e98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175"/>
                <p:cNvSpPr/>
                <p:nvPr/>
              </p:nvSpPr>
              <p:spPr>
                <a:xfrm>
                  <a:off x="4329360" y="4626000"/>
                  <a:ext cx="46080" cy="43200"/>
                </a:xfrm>
                <a:custGeom>
                  <a:avLst/>
                  <a:gdLst/>
                  <a:ahLst/>
                  <a:rect l="l" t="t" r="r" b="b"/>
                  <a:pathLst>
                    <a:path w="211" h="205">
                      <a:moveTo>
                        <a:pt x="8" y="205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11" y="15"/>
                      </a:lnTo>
                      <a:lnTo>
                        <a:pt x="8" y="205"/>
                      </a:lnTo>
                      <a:close/>
                    </a:path>
                  </a:pathLst>
                </a:custGeom>
                <a:solidFill>
                  <a:srgbClr val="a19a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76"/>
                <p:cNvSpPr/>
                <p:nvPr/>
              </p:nvSpPr>
              <p:spPr>
                <a:xfrm>
                  <a:off x="4350960" y="4605840"/>
                  <a:ext cx="48240" cy="43200"/>
                </a:xfrm>
                <a:custGeom>
                  <a:avLst/>
                  <a:gdLst/>
                  <a:ahLst/>
                  <a:rect l="l" t="t" r="r" b="b"/>
                  <a:pathLst>
                    <a:path w="211" h="204">
                      <a:moveTo>
                        <a:pt x="8" y="204"/>
                      </a:moveTo>
                      <a:lnTo>
                        <a:pt x="0" y="188"/>
                      </a:lnTo>
                      <a:lnTo>
                        <a:pt x="205" y="0"/>
                      </a:lnTo>
                      <a:lnTo>
                        <a:pt x="211" y="13"/>
                      </a:lnTo>
                      <a:lnTo>
                        <a:pt x="8" y="204"/>
                      </a:lnTo>
                      <a:close/>
                    </a:path>
                  </a:pathLst>
                </a:custGeom>
                <a:solidFill>
                  <a:srgbClr val="a39d8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7"/>
                <p:cNvSpPr/>
                <p:nvPr/>
              </p:nvSpPr>
              <p:spPr>
                <a:xfrm>
                  <a:off x="4374000" y="4586040"/>
                  <a:ext cx="46440" cy="43200"/>
                </a:xfrm>
                <a:custGeom>
                  <a:avLst/>
                  <a:gdLst/>
                  <a:ahLst/>
                  <a:rect l="l" t="t" r="r" b="b"/>
                  <a:pathLst>
                    <a:path w="210" h="203">
                      <a:moveTo>
                        <a:pt x="7" y="203"/>
                      </a:moveTo>
                      <a:lnTo>
                        <a:pt x="0" y="188"/>
                      </a:lnTo>
                      <a:lnTo>
                        <a:pt x="205" y="0"/>
                      </a:lnTo>
                      <a:lnTo>
                        <a:pt x="210" y="12"/>
                      </a:lnTo>
                      <a:lnTo>
                        <a:pt x="7" y="203"/>
                      </a:lnTo>
                      <a:close/>
                    </a:path>
                  </a:pathLst>
                </a:custGeom>
                <a:solidFill>
                  <a:srgbClr val="a69f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178"/>
                <p:cNvSpPr/>
                <p:nvPr/>
              </p:nvSpPr>
              <p:spPr>
                <a:xfrm>
                  <a:off x="4397400" y="4567680"/>
                  <a:ext cx="46440" cy="41400"/>
                </a:xfrm>
                <a:custGeom>
                  <a:avLst/>
                  <a:gdLst/>
                  <a:ahLst/>
                  <a:rect l="l" t="t" r="r" b="b"/>
                  <a:pathLst>
                    <a:path w="209" h="201">
                      <a:moveTo>
                        <a:pt x="6" y="201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09" y="11"/>
                      </a:lnTo>
                      <a:lnTo>
                        <a:pt x="6" y="201"/>
                      </a:lnTo>
                      <a:close/>
                    </a:path>
                  </a:pathLst>
                </a:custGeom>
                <a:solidFill>
                  <a:srgbClr val="a8a1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179"/>
                <p:cNvSpPr/>
                <p:nvPr/>
              </p:nvSpPr>
              <p:spPr>
                <a:xfrm>
                  <a:off x="4420800" y="4547880"/>
                  <a:ext cx="46080" cy="41400"/>
                </a:xfrm>
                <a:custGeom>
                  <a:avLst/>
                  <a:gdLst/>
                  <a:ahLst/>
                  <a:rect l="l" t="t" r="r" b="b"/>
                  <a:pathLst>
                    <a:path w="209" h="200">
                      <a:moveTo>
                        <a:pt x="5" y="200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09" y="10"/>
                      </a:lnTo>
                      <a:lnTo>
                        <a:pt x="5" y="200"/>
                      </a:lnTo>
                      <a:close/>
                    </a:path>
                  </a:pathLst>
                </a:custGeom>
                <a:solidFill>
                  <a:srgbClr val="aaa2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80"/>
                <p:cNvSpPr/>
                <p:nvPr/>
              </p:nvSpPr>
              <p:spPr>
                <a:xfrm>
                  <a:off x="4442400" y="4527720"/>
                  <a:ext cx="46080" cy="41400"/>
                </a:xfrm>
                <a:custGeom>
                  <a:avLst/>
                  <a:gdLst/>
                  <a:ahLst/>
                  <a:rect l="l" t="t" r="r" b="b"/>
                  <a:pathLst>
                    <a:path w="208" h="200">
                      <a:moveTo>
                        <a:pt x="5" y="200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208" y="9"/>
                      </a:lnTo>
                      <a:lnTo>
                        <a:pt x="5" y="200"/>
                      </a:lnTo>
                      <a:close/>
                    </a:path>
                  </a:pathLst>
                </a:custGeom>
                <a:solidFill>
                  <a:srgbClr val="aca4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181"/>
                <p:cNvSpPr/>
                <p:nvPr/>
              </p:nvSpPr>
              <p:spPr>
                <a:xfrm>
                  <a:off x="4465800" y="4507920"/>
                  <a:ext cx="46440" cy="41400"/>
                </a:xfrm>
                <a:custGeom>
                  <a:avLst/>
                  <a:gdLst/>
                  <a:ahLst/>
                  <a:rect l="l" t="t" r="r" b="b"/>
                  <a:pathLst>
                    <a:path w="208" h="199">
                      <a:moveTo>
                        <a:pt x="5" y="199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208" y="8"/>
                      </a:lnTo>
                      <a:lnTo>
                        <a:pt x="5" y="199"/>
                      </a:lnTo>
                      <a:close/>
                    </a:path>
                  </a:pathLst>
                </a:custGeom>
                <a:solidFill>
                  <a:srgbClr val="b0a8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182"/>
                <p:cNvSpPr/>
                <p:nvPr/>
              </p:nvSpPr>
              <p:spPr>
                <a:xfrm>
                  <a:off x="4488840" y="4489200"/>
                  <a:ext cx="46440" cy="39960"/>
                </a:xfrm>
                <a:custGeom>
                  <a:avLst/>
                  <a:gdLst/>
                  <a:ahLst/>
                  <a:rect l="l" t="t" r="r" b="b"/>
                  <a:pathLst>
                    <a:path w="207" h="197">
                      <a:moveTo>
                        <a:pt x="4" y="197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07" y="7"/>
                      </a:lnTo>
                      <a:lnTo>
                        <a:pt x="4" y="197"/>
                      </a:lnTo>
                      <a:close/>
                    </a:path>
                  </a:pathLst>
                </a:custGeom>
                <a:solidFill>
                  <a:srgbClr val="b1a9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183"/>
                <p:cNvSpPr/>
                <p:nvPr/>
              </p:nvSpPr>
              <p:spPr>
                <a:xfrm>
                  <a:off x="4512600" y="4469040"/>
                  <a:ext cx="46080" cy="39960"/>
                </a:xfrm>
                <a:custGeom>
                  <a:avLst/>
                  <a:gdLst/>
                  <a:ahLst/>
                  <a:rect l="l" t="t" r="r" b="b"/>
                  <a:pathLst>
                    <a:path w="207" h="196">
                      <a:moveTo>
                        <a:pt x="4" y="196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07" y="6"/>
                      </a:lnTo>
                      <a:lnTo>
                        <a:pt x="4" y="196"/>
                      </a:lnTo>
                      <a:close/>
                    </a:path>
                  </a:pathLst>
                </a:custGeom>
                <a:solidFill>
                  <a:srgbClr val="b4ab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4"/>
                <p:cNvSpPr/>
                <p:nvPr/>
              </p:nvSpPr>
              <p:spPr>
                <a:xfrm>
                  <a:off x="4533840" y="4449240"/>
                  <a:ext cx="46080" cy="41760"/>
                </a:xfrm>
                <a:custGeom>
                  <a:avLst/>
                  <a:gdLst/>
                  <a:ahLst/>
                  <a:rect l="l" t="t" r="r" b="b"/>
                  <a:pathLst>
                    <a:path w="206" h="195">
                      <a:moveTo>
                        <a:pt x="3" y="195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06" y="5"/>
                      </a:lnTo>
                      <a:lnTo>
                        <a:pt x="3" y="195"/>
                      </a:lnTo>
                      <a:close/>
                    </a:path>
                  </a:pathLst>
                </a:custGeom>
                <a:solidFill>
                  <a:srgbClr val="b6ad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185"/>
                <p:cNvSpPr/>
                <p:nvPr/>
              </p:nvSpPr>
              <p:spPr>
                <a:xfrm>
                  <a:off x="4557240" y="4429440"/>
                  <a:ext cx="46440" cy="41400"/>
                </a:xfrm>
                <a:custGeom>
                  <a:avLst/>
                  <a:gdLst/>
                  <a:ahLst/>
                  <a:rect l="l" t="t" r="r" b="b"/>
                  <a:pathLst>
                    <a:path w="206" h="194">
                      <a:moveTo>
                        <a:pt x="3" y="194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06" y="3"/>
                      </a:lnTo>
                      <a:lnTo>
                        <a:pt x="3" y="194"/>
                      </a:lnTo>
                      <a:close/>
                    </a:path>
                  </a:pathLst>
                </a:custGeom>
                <a:solidFill>
                  <a:srgbClr val="b7ae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186"/>
                <p:cNvSpPr/>
                <p:nvPr/>
              </p:nvSpPr>
              <p:spPr>
                <a:xfrm>
                  <a:off x="4580280" y="4411080"/>
                  <a:ext cx="46440" cy="39960"/>
                </a:xfrm>
                <a:custGeom>
                  <a:avLst/>
                  <a:gdLst/>
                  <a:ahLst/>
                  <a:rect l="l" t="t" r="r" b="b"/>
                  <a:pathLst>
                    <a:path w="205" h="193">
                      <a:moveTo>
                        <a:pt x="2" y="193"/>
                      </a:moveTo>
                      <a:lnTo>
                        <a:pt x="0" y="188"/>
                      </a:lnTo>
                      <a:lnTo>
                        <a:pt x="204" y="0"/>
                      </a:lnTo>
                      <a:lnTo>
                        <a:pt x="205" y="2"/>
                      </a:lnTo>
                      <a:lnTo>
                        <a:pt x="2" y="193"/>
                      </a:lnTo>
                      <a:close/>
                    </a:path>
                  </a:pathLst>
                </a:custGeom>
                <a:solidFill>
                  <a:srgbClr val="b9b0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87"/>
                <p:cNvSpPr/>
                <p:nvPr/>
              </p:nvSpPr>
              <p:spPr>
                <a:xfrm>
                  <a:off x="4604040" y="4390920"/>
                  <a:ext cx="44640" cy="39960"/>
                </a:xfrm>
                <a:custGeom>
                  <a:avLst/>
                  <a:gdLst/>
                  <a:ahLst/>
                  <a:rect l="l" t="t" r="r" b="b"/>
                  <a:pathLst>
                    <a:path w="205" h="192">
                      <a:moveTo>
                        <a:pt x="2" y="192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205" y="2"/>
                      </a:lnTo>
                      <a:lnTo>
                        <a:pt x="2" y="192"/>
                      </a:lnTo>
                      <a:close/>
                    </a:path>
                  </a:pathLst>
                </a:custGeom>
                <a:solidFill>
                  <a:srgbClr val="bbb2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88"/>
                <p:cNvSpPr/>
                <p:nvPr/>
              </p:nvSpPr>
              <p:spPr>
                <a:xfrm>
                  <a:off x="4625280" y="4371120"/>
                  <a:ext cx="46440" cy="39960"/>
                </a:xfrm>
                <a:custGeom>
                  <a:avLst/>
                  <a:gdLst/>
                  <a:ahLst/>
                  <a:rect l="l" t="t" r="r" b="b"/>
                  <a:pathLst>
                    <a:path w="204" h="191">
                      <a:moveTo>
                        <a:pt x="1" y="191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204" y="1"/>
                      </a:lnTo>
                      <a:lnTo>
                        <a:pt x="1" y="191"/>
                      </a:lnTo>
                      <a:close/>
                    </a:path>
                  </a:pathLst>
                </a:custGeom>
                <a:solidFill>
                  <a:srgbClr val="bdb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89"/>
                <p:cNvSpPr/>
                <p:nvPr/>
              </p:nvSpPr>
              <p:spPr>
                <a:xfrm>
                  <a:off x="4648680" y="4350960"/>
                  <a:ext cx="46080" cy="39960"/>
                </a:xfrm>
                <a:custGeom>
                  <a:avLst/>
                  <a:gdLst/>
                  <a:ahLst/>
                  <a:rect l="l" t="t" r="r" b="b"/>
                  <a:pathLst>
                    <a:path w="204" h="191">
                      <a:moveTo>
                        <a:pt x="1" y="191"/>
                      </a:moveTo>
                      <a:lnTo>
                        <a:pt x="0" y="189"/>
                      </a:lnTo>
                      <a:lnTo>
                        <a:pt x="204" y="0"/>
                      </a:lnTo>
                      <a:lnTo>
                        <a:pt x="204" y="2"/>
                      </a:lnTo>
                      <a:lnTo>
                        <a:pt x="1" y="191"/>
                      </a:lnTo>
                      <a:close/>
                    </a:path>
                  </a:pathLst>
                </a:custGeom>
                <a:solidFill>
                  <a:srgbClr val="beb6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90"/>
                <p:cNvSpPr/>
                <p:nvPr/>
              </p:nvSpPr>
              <p:spPr>
                <a:xfrm>
                  <a:off x="4672080" y="4350960"/>
                  <a:ext cx="23040" cy="19800"/>
                </a:xfrm>
                <a:custGeom>
                  <a:avLst/>
                  <a:gdLst/>
                  <a:ahLst/>
                  <a:rect l="l" t="t" r="r" b="b"/>
                  <a:pathLst>
                    <a:path w="107" h="99">
                      <a:moveTo>
                        <a:pt x="0" y="99"/>
                      </a:moveTo>
                      <a:lnTo>
                        <a:pt x="0" y="98"/>
                      </a:lnTo>
                      <a:lnTo>
                        <a:pt x="107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c0b8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91"/>
                <p:cNvSpPr/>
                <p:nvPr/>
              </p:nvSpPr>
              <p:spPr>
                <a:xfrm>
                  <a:off x="4695120" y="435096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5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2ba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192"/>
                <p:cNvSpPr/>
                <p:nvPr/>
              </p:nvSpPr>
              <p:spPr>
                <a:xfrm>
                  <a:off x="4456800" y="2821320"/>
                  <a:ext cx="360360" cy="819720"/>
                </a:xfrm>
                <a:custGeom>
                  <a:avLst/>
                  <a:gdLst/>
                  <a:ahLst/>
                  <a:rect l="l" t="t" r="r" b="b"/>
                  <a:pathLst>
                    <a:path w="1612" h="3935">
                      <a:moveTo>
                        <a:pt x="392" y="74"/>
                      </a:moveTo>
                      <a:lnTo>
                        <a:pt x="1612" y="3935"/>
                      </a:lnTo>
                      <a:lnTo>
                        <a:pt x="1274" y="3892"/>
                      </a:lnTo>
                      <a:lnTo>
                        <a:pt x="0" y="0"/>
                      </a:lnTo>
                      <a:lnTo>
                        <a:pt x="392" y="74"/>
                      </a:lnTo>
                      <a:close/>
                    </a:path>
                  </a:pathLst>
                </a:custGeom>
                <a:solidFill>
                  <a:srgbClr val="c0a2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93"/>
                <p:cNvSpPr/>
                <p:nvPr/>
              </p:nvSpPr>
              <p:spPr>
                <a:xfrm>
                  <a:off x="1317240" y="2508120"/>
                  <a:ext cx="3202200" cy="1492920"/>
                </a:xfrm>
                <a:custGeom>
                  <a:avLst/>
                  <a:gdLst/>
                  <a:ahLst/>
                  <a:rect l="l" t="t" r="r" b="b"/>
                  <a:pathLst>
                    <a:path w="14287" h="7172">
                      <a:moveTo>
                        <a:pt x="2219" y="0"/>
                      </a:moveTo>
                      <a:lnTo>
                        <a:pt x="14287" y="1575"/>
                      </a:lnTo>
                      <a:lnTo>
                        <a:pt x="12299" y="7172"/>
                      </a:lnTo>
                      <a:lnTo>
                        <a:pt x="0" y="4326"/>
                      </a:lnTo>
                      <a:lnTo>
                        <a:pt x="2219" y="0"/>
                      </a:lnTo>
                      <a:close/>
                    </a:path>
                  </a:pathLst>
                </a:custGeom>
                <a:solidFill>
                  <a:srgbClr val="e7e9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4"/>
                <p:cNvSpPr/>
                <p:nvPr/>
              </p:nvSpPr>
              <p:spPr>
                <a:xfrm>
                  <a:off x="1751040" y="2511360"/>
                  <a:ext cx="107640" cy="168120"/>
                </a:xfrm>
                <a:custGeom>
                  <a:avLst/>
                  <a:gdLst/>
                  <a:ahLst/>
                  <a:rect l="l" t="t" r="r" b="b"/>
                  <a:pathLst>
                    <a:path w="478" h="811">
                      <a:moveTo>
                        <a:pt x="478" y="282"/>
                      </a:moveTo>
                      <a:lnTo>
                        <a:pt x="0" y="811"/>
                      </a:lnTo>
                      <a:lnTo>
                        <a:pt x="369" y="0"/>
                      </a:lnTo>
                      <a:lnTo>
                        <a:pt x="386" y="3"/>
                      </a:lnTo>
                      <a:lnTo>
                        <a:pt x="478" y="282"/>
                      </a:lnTo>
                      <a:close/>
                    </a:path>
                  </a:pathLst>
                </a:custGeom>
                <a:solidFill>
                  <a:srgbClr val="cac5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195"/>
                <p:cNvSpPr/>
                <p:nvPr/>
              </p:nvSpPr>
              <p:spPr>
                <a:xfrm>
                  <a:off x="1706400" y="2534760"/>
                  <a:ext cx="164880" cy="237960"/>
                </a:xfrm>
                <a:custGeom>
                  <a:avLst/>
                  <a:gdLst/>
                  <a:ahLst/>
                  <a:rect l="l" t="t" r="r" b="b"/>
                  <a:pathLst>
                    <a:path w="738" h="1145">
                      <a:moveTo>
                        <a:pt x="413" y="242"/>
                      </a:moveTo>
                      <a:lnTo>
                        <a:pt x="631" y="0"/>
                      </a:lnTo>
                      <a:lnTo>
                        <a:pt x="738" y="329"/>
                      </a:lnTo>
                      <a:lnTo>
                        <a:pt x="0" y="1145"/>
                      </a:lnTo>
                      <a:lnTo>
                        <a:pt x="413" y="242"/>
                      </a:lnTo>
                      <a:close/>
                    </a:path>
                  </a:pathLst>
                </a:custGeom>
                <a:solidFill>
                  <a:srgbClr val="cbc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196"/>
                <p:cNvSpPr/>
                <p:nvPr/>
              </p:nvSpPr>
              <p:spPr>
                <a:xfrm>
                  <a:off x="1659600" y="2569680"/>
                  <a:ext cx="223920" cy="298440"/>
                </a:xfrm>
                <a:custGeom>
                  <a:avLst/>
                  <a:gdLst/>
                  <a:ahLst/>
                  <a:rect l="l" t="t" r="r" b="b"/>
                  <a:pathLst>
                    <a:path w="999" h="1433">
                      <a:moveTo>
                        <a:pt x="413" y="529"/>
                      </a:moveTo>
                      <a:lnTo>
                        <a:pt x="891" y="0"/>
                      </a:lnTo>
                      <a:lnTo>
                        <a:pt x="999" y="328"/>
                      </a:lnTo>
                      <a:lnTo>
                        <a:pt x="0" y="1433"/>
                      </a:lnTo>
                      <a:lnTo>
                        <a:pt x="413" y="529"/>
                      </a:lnTo>
                      <a:close/>
                    </a:path>
                  </a:pathLst>
                </a:custGeom>
                <a:solidFill>
                  <a:srgbClr val="ccc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197"/>
                <p:cNvSpPr/>
                <p:nvPr/>
              </p:nvSpPr>
              <p:spPr>
                <a:xfrm>
                  <a:off x="1613160" y="2602800"/>
                  <a:ext cx="281520" cy="358560"/>
                </a:xfrm>
                <a:custGeom>
                  <a:avLst/>
                  <a:gdLst/>
                  <a:ahLst/>
                  <a:rect l="l" t="t" r="r" b="b"/>
                  <a:pathLst>
                    <a:path w="1260" h="1721">
                      <a:moveTo>
                        <a:pt x="414" y="816"/>
                      </a:moveTo>
                      <a:lnTo>
                        <a:pt x="1152" y="0"/>
                      </a:lnTo>
                      <a:lnTo>
                        <a:pt x="1260" y="329"/>
                      </a:lnTo>
                      <a:lnTo>
                        <a:pt x="0" y="1721"/>
                      </a:lnTo>
                      <a:lnTo>
                        <a:pt x="414" y="816"/>
                      </a:lnTo>
                      <a:close/>
                    </a:path>
                  </a:pathLst>
                </a:custGeom>
                <a:solidFill>
                  <a:srgbClr val="cdc7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198"/>
                <p:cNvSpPr/>
                <p:nvPr/>
              </p:nvSpPr>
              <p:spPr>
                <a:xfrm>
                  <a:off x="1566360" y="2638080"/>
                  <a:ext cx="340920" cy="417960"/>
                </a:xfrm>
                <a:custGeom>
                  <a:avLst/>
                  <a:gdLst/>
                  <a:ahLst/>
                  <a:rect l="l" t="t" r="r" b="b"/>
                  <a:pathLst>
                    <a:path w="1521" h="2009">
                      <a:moveTo>
                        <a:pt x="414" y="1105"/>
                      </a:moveTo>
                      <a:lnTo>
                        <a:pt x="1413" y="0"/>
                      </a:lnTo>
                      <a:lnTo>
                        <a:pt x="1521" y="329"/>
                      </a:lnTo>
                      <a:lnTo>
                        <a:pt x="0" y="2009"/>
                      </a:lnTo>
                      <a:lnTo>
                        <a:pt x="414" y="1105"/>
                      </a:lnTo>
                      <a:close/>
                    </a:path>
                  </a:pathLst>
                </a:custGeom>
                <a:solidFill>
                  <a:srgbClr val="cec8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99"/>
                <p:cNvSpPr/>
                <p:nvPr/>
              </p:nvSpPr>
              <p:spPr>
                <a:xfrm>
                  <a:off x="1519560" y="2671200"/>
                  <a:ext cx="400320" cy="478080"/>
                </a:xfrm>
                <a:custGeom>
                  <a:avLst/>
                  <a:gdLst/>
                  <a:ahLst/>
                  <a:rect l="l" t="t" r="r" b="b"/>
                  <a:pathLst>
                    <a:path w="1780" h="2295">
                      <a:moveTo>
                        <a:pt x="412" y="1392"/>
                      </a:moveTo>
                      <a:lnTo>
                        <a:pt x="1672" y="0"/>
                      </a:lnTo>
                      <a:lnTo>
                        <a:pt x="1780" y="328"/>
                      </a:lnTo>
                      <a:lnTo>
                        <a:pt x="0" y="2295"/>
                      </a:lnTo>
                      <a:lnTo>
                        <a:pt x="412" y="1392"/>
                      </a:lnTo>
                      <a:close/>
                    </a:path>
                  </a:pathLst>
                </a:custGeom>
                <a:solidFill>
                  <a:srgbClr val="cec8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00"/>
                <p:cNvSpPr/>
                <p:nvPr/>
              </p:nvSpPr>
              <p:spPr>
                <a:xfrm>
                  <a:off x="1473120" y="2706480"/>
                  <a:ext cx="458640" cy="537840"/>
                </a:xfrm>
                <a:custGeom>
                  <a:avLst/>
                  <a:gdLst/>
                  <a:ahLst/>
                  <a:rect l="l" t="t" r="r" b="b"/>
                  <a:pathLst>
                    <a:path w="2041" h="2584">
                      <a:moveTo>
                        <a:pt x="413" y="1680"/>
                      </a:moveTo>
                      <a:lnTo>
                        <a:pt x="1934" y="0"/>
                      </a:lnTo>
                      <a:lnTo>
                        <a:pt x="2041" y="329"/>
                      </a:lnTo>
                      <a:lnTo>
                        <a:pt x="0" y="2584"/>
                      </a:lnTo>
                      <a:lnTo>
                        <a:pt x="413" y="1680"/>
                      </a:lnTo>
                      <a:close/>
                    </a:path>
                  </a:pathLst>
                </a:custGeom>
                <a:solidFill>
                  <a:srgbClr val="cec8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1"/>
                <p:cNvSpPr/>
                <p:nvPr/>
              </p:nvSpPr>
              <p:spPr>
                <a:xfrm>
                  <a:off x="1428120" y="2739600"/>
                  <a:ext cx="514800" cy="597960"/>
                </a:xfrm>
                <a:custGeom>
                  <a:avLst/>
                  <a:gdLst/>
                  <a:ahLst/>
                  <a:rect l="l" t="t" r="r" b="b"/>
                  <a:pathLst>
                    <a:path w="2301" h="2872">
                      <a:moveTo>
                        <a:pt x="413" y="1967"/>
                      </a:moveTo>
                      <a:lnTo>
                        <a:pt x="2193" y="0"/>
                      </a:lnTo>
                      <a:lnTo>
                        <a:pt x="2301" y="329"/>
                      </a:lnTo>
                      <a:lnTo>
                        <a:pt x="0" y="2872"/>
                      </a:lnTo>
                      <a:lnTo>
                        <a:pt x="413" y="1967"/>
                      </a:lnTo>
                      <a:close/>
                    </a:path>
                  </a:pathLst>
                </a:custGeom>
                <a:solidFill>
                  <a:srgbClr val="cfc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202"/>
                <p:cNvSpPr/>
                <p:nvPr/>
              </p:nvSpPr>
              <p:spPr>
                <a:xfrm>
                  <a:off x="1421280" y="2774880"/>
                  <a:ext cx="534240" cy="616320"/>
                </a:xfrm>
                <a:custGeom>
                  <a:avLst/>
                  <a:gdLst/>
                  <a:ahLst/>
                  <a:rect l="l" t="t" r="r" b="b"/>
                  <a:pathLst>
                    <a:path w="2386" h="2956">
                      <a:moveTo>
                        <a:pt x="237" y="2255"/>
                      </a:moveTo>
                      <a:lnTo>
                        <a:pt x="2278" y="0"/>
                      </a:lnTo>
                      <a:lnTo>
                        <a:pt x="2386" y="329"/>
                      </a:lnTo>
                      <a:lnTo>
                        <a:pt x="7" y="2956"/>
                      </a:lnTo>
                      <a:lnTo>
                        <a:pt x="0" y="2774"/>
                      </a:lnTo>
                      <a:lnTo>
                        <a:pt x="237" y="2255"/>
                      </a:lnTo>
                      <a:close/>
                    </a:path>
                  </a:pathLst>
                </a:custGeom>
                <a:solidFill>
                  <a:srgbClr val="cfc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03"/>
                <p:cNvSpPr/>
                <p:nvPr/>
              </p:nvSpPr>
              <p:spPr>
                <a:xfrm>
                  <a:off x="1421280" y="2809440"/>
                  <a:ext cx="547200" cy="623160"/>
                </a:xfrm>
                <a:custGeom>
                  <a:avLst/>
                  <a:gdLst/>
                  <a:ahLst/>
                  <a:rect l="l" t="t" r="r" b="b"/>
                  <a:pathLst>
                    <a:path w="2439" h="2995">
                      <a:moveTo>
                        <a:pt x="31" y="2543"/>
                      </a:moveTo>
                      <a:lnTo>
                        <a:pt x="2332" y="0"/>
                      </a:lnTo>
                      <a:lnTo>
                        <a:pt x="2439" y="329"/>
                      </a:lnTo>
                      <a:lnTo>
                        <a:pt x="26" y="2995"/>
                      </a:lnTo>
                      <a:lnTo>
                        <a:pt x="14" y="2993"/>
                      </a:lnTo>
                      <a:lnTo>
                        <a:pt x="0" y="2610"/>
                      </a:lnTo>
                      <a:lnTo>
                        <a:pt x="31" y="2543"/>
                      </a:lnTo>
                      <a:close/>
                    </a:path>
                  </a:pathLst>
                </a:custGeom>
                <a:solidFill>
                  <a:srgbClr val="cfc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204"/>
                <p:cNvSpPr/>
                <p:nvPr/>
              </p:nvSpPr>
              <p:spPr>
                <a:xfrm>
                  <a:off x="1422720" y="2842920"/>
                  <a:ext cx="555840" cy="598320"/>
                </a:xfrm>
                <a:custGeom>
                  <a:avLst/>
                  <a:gdLst/>
                  <a:ahLst/>
                  <a:rect l="l" t="t" r="r" b="b"/>
                  <a:pathLst>
                    <a:path w="2487" h="2870">
                      <a:moveTo>
                        <a:pt x="0" y="2627"/>
                      </a:moveTo>
                      <a:lnTo>
                        <a:pt x="2379" y="0"/>
                      </a:lnTo>
                      <a:lnTo>
                        <a:pt x="2487" y="327"/>
                      </a:lnTo>
                      <a:lnTo>
                        <a:pt x="186" y="2870"/>
                      </a:lnTo>
                      <a:lnTo>
                        <a:pt x="7" y="2828"/>
                      </a:lnTo>
                      <a:lnTo>
                        <a:pt x="0" y="2627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205"/>
              <p:cNvGrpSpPr/>
              <p:nvPr/>
            </p:nvGrpSpPr>
            <p:grpSpPr>
              <a:xfrm>
                <a:off x="1317240" y="2518200"/>
                <a:ext cx="3431880" cy="2362680"/>
                <a:chOff x="1317240" y="2518200"/>
                <a:chExt cx="3431880" cy="2362680"/>
              </a:xfrm>
            </p:grpSpPr>
            <p:sp>
              <p:nvSpPr>
                <p:cNvPr id="348" name="Freeform 206"/>
                <p:cNvSpPr/>
                <p:nvPr/>
              </p:nvSpPr>
              <p:spPr>
                <a:xfrm>
                  <a:off x="1426680" y="2877840"/>
                  <a:ext cx="564840" cy="571680"/>
                </a:xfrm>
                <a:custGeom>
                  <a:avLst/>
                  <a:gdLst/>
                  <a:ahLst/>
                  <a:rect l="l" t="t" r="r" b="b"/>
                  <a:pathLst>
                    <a:path w="2521" h="2745">
                      <a:moveTo>
                        <a:pt x="0" y="2666"/>
                      </a:moveTo>
                      <a:lnTo>
                        <a:pt x="2413" y="0"/>
                      </a:lnTo>
                      <a:lnTo>
                        <a:pt x="2521" y="328"/>
                      </a:lnTo>
                      <a:lnTo>
                        <a:pt x="335" y="2745"/>
                      </a:lnTo>
                      <a:lnTo>
                        <a:pt x="0" y="2666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07"/>
                <p:cNvSpPr/>
                <p:nvPr/>
              </p:nvSpPr>
              <p:spPr>
                <a:xfrm>
                  <a:off x="1464480" y="2910960"/>
                  <a:ext cx="539640" cy="546480"/>
                </a:xfrm>
                <a:custGeom>
                  <a:avLst/>
                  <a:gdLst/>
                  <a:ahLst/>
                  <a:rect l="l" t="t" r="r" b="b"/>
                  <a:pathLst>
                    <a:path w="2409" h="2620">
                      <a:moveTo>
                        <a:pt x="0" y="2543"/>
                      </a:moveTo>
                      <a:lnTo>
                        <a:pt x="2301" y="0"/>
                      </a:lnTo>
                      <a:lnTo>
                        <a:pt x="2409" y="329"/>
                      </a:lnTo>
                      <a:lnTo>
                        <a:pt x="336" y="2620"/>
                      </a:lnTo>
                      <a:lnTo>
                        <a:pt x="0" y="2543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08"/>
                <p:cNvSpPr/>
                <p:nvPr/>
              </p:nvSpPr>
              <p:spPr>
                <a:xfrm>
                  <a:off x="1501920" y="2946240"/>
                  <a:ext cx="514800" cy="518040"/>
                </a:xfrm>
                <a:custGeom>
                  <a:avLst/>
                  <a:gdLst/>
                  <a:ahLst/>
                  <a:rect l="l" t="t" r="r" b="b"/>
                  <a:pathLst>
                    <a:path w="2294" h="2494">
                      <a:moveTo>
                        <a:pt x="0" y="2417"/>
                      </a:moveTo>
                      <a:lnTo>
                        <a:pt x="2186" y="0"/>
                      </a:lnTo>
                      <a:lnTo>
                        <a:pt x="2294" y="328"/>
                      </a:lnTo>
                      <a:lnTo>
                        <a:pt x="334" y="2494"/>
                      </a:lnTo>
                      <a:lnTo>
                        <a:pt x="0" y="2417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09"/>
                <p:cNvSpPr/>
                <p:nvPr/>
              </p:nvSpPr>
              <p:spPr>
                <a:xfrm>
                  <a:off x="1539720" y="2979360"/>
                  <a:ext cx="487800" cy="492840"/>
                </a:xfrm>
                <a:custGeom>
                  <a:avLst/>
                  <a:gdLst/>
                  <a:ahLst/>
                  <a:rect l="l" t="t" r="r" b="b"/>
                  <a:pathLst>
                    <a:path w="2180" h="2368">
                      <a:moveTo>
                        <a:pt x="0" y="2291"/>
                      </a:moveTo>
                      <a:lnTo>
                        <a:pt x="2073" y="0"/>
                      </a:lnTo>
                      <a:lnTo>
                        <a:pt x="2180" y="329"/>
                      </a:lnTo>
                      <a:lnTo>
                        <a:pt x="334" y="2368"/>
                      </a:lnTo>
                      <a:lnTo>
                        <a:pt x="0" y="2291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10"/>
                <p:cNvSpPr/>
                <p:nvPr/>
              </p:nvSpPr>
              <p:spPr>
                <a:xfrm>
                  <a:off x="1577160" y="3014640"/>
                  <a:ext cx="462960" cy="466200"/>
                </a:xfrm>
                <a:custGeom>
                  <a:avLst/>
                  <a:gdLst/>
                  <a:ahLst/>
                  <a:rect l="l" t="t" r="r" b="b"/>
                  <a:pathLst>
                    <a:path w="2068" h="2243">
                      <a:moveTo>
                        <a:pt x="0" y="2166"/>
                      </a:moveTo>
                      <a:lnTo>
                        <a:pt x="1960" y="0"/>
                      </a:lnTo>
                      <a:lnTo>
                        <a:pt x="2068" y="329"/>
                      </a:lnTo>
                      <a:lnTo>
                        <a:pt x="336" y="2243"/>
                      </a:lnTo>
                      <a:lnTo>
                        <a:pt x="0" y="2166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1"/>
                <p:cNvSpPr/>
                <p:nvPr/>
              </p:nvSpPr>
              <p:spPr>
                <a:xfrm>
                  <a:off x="1614960" y="3047760"/>
                  <a:ext cx="426600" cy="441360"/>
                </a:xfrm>
                <a:custGeom>
                  <a:avLst/>
                  <a:gdLst/>
                  <a:ahLst/>
                  <a:rect l="l" t="t" r="r" b="b"/>
                  <a:pathLst>
                    <a:path w="1905" h="2117">
                      <a:moveTo>
                        <a:pt x="0" y="2039"/>
                      </a:moveTo>
                      <a:lnTo>
                        <a:pt x="1846" y="0"/>
                      </a:lnTo>
                      <a:lnTo>
                        <a:pt x="1905" y="180"/>
                      </a:lnTo>
                      <a:lnTo>
                        <a:pt x="1905" y="382"/>
                      </a:lnTo>
                      <a:lnTo>
                        <a:pt x="335" y="2117"/>
                      </a:lnTo>
                      <a:lnTo>
                        <a:pt x="0" y="2039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212"/>
                <p:cNvSpPr/>
                <p:nvPr/>
              </p:nvSpPr>
              <p:spPr>
                <a:xfrm>
                  <a:off x="1652760" y="3082680"/>
                  <a:ext cx="388800" cy="415080"/>
                </a:xfrm>
                <a:custGeom>
                  <a:avLst/>
                  <a:gdLst/>
                  <a:ahLst/>
                  <a:rect l="l" t="t" r="r" b="b"/>
                  <a:pathLst>
                    <a:path w="1737" h="1992">
                      <a:moveTo>
                        <a:pt x="0" y="1914"/>
                      </a:moveTo>
                      <a:lnTo>
                        <a:pt x="1732" y="0"/>
                      </a:lnTo>
                      <a:lnTo>
                        <a:pt x="1737" y="16"/>
                      </a:lnTo>
                      <a:lnTo>
                        <a:pt x="1737" y="442"/>
                      </a:lnTo>
                      <a:lnTo>
                        <a:pt x="335" y="1992"/>
                      </a:lnTo>
                      <a:lnTo>
                        <a:pt x="0" y="1914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13"/>
                <p:cNvSpPr/>
                <p:nvPr/>
              </p:nvSpPr>
              <p:spPr>
                <a:xfrm>
                  <a:off x="1688400" y="3128040"/>
                  <a:ext cx="352800" cy="378000"/>
                </a:xfrm>
                <a:custGeom>
                  <a:avLst/>
                  <a:gdLst/>
                  <a:ahLst/>
                  <a:rect l="l" t="t" r="r" b="b"/>
                  <a:pathLst>
                    <a:path w="1570" h="1813">
                      <a:moveTo>
                        <a:pt x="0" y="1735"/>
                      </a:moveTo>
                      <a:lnTo>
                        <a:pt x="1570" y="0"/>
                      </a:lnTo>
                      <a:lnTo>
                        <a:pt x="1570" y="448"/>
                      </a:lnTo>
                      <a:lnTo>
                        <a:pt x="335" y="1813"/>
                      </a:lnTo>
                      <a:lnTo>
                        <a:pt x="0" y="1735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14"/>
                <p:cNvSpPr/>
                <p:nvPr/>
              </p:nvSpPr>
              <p:spPr>
                <a:xfrm>
                  <a:off x="1725840" y="3174480"/>
                  <a:ext cx="315360" cy="338040"/>
                </a:xfrm>
                <a:custGeom>
                  <a:avLst/>
                  <a:gdLst/>
                  <a:ahLst/>
                  <a:rect l="l" t="t" r="r" b="b"/>
                  <a:pathLst>
                    <a:path w="1402" h="1627">
                      <a:moveTo>
                        <a:pt x="0" y="1550"/>
                      </a:moveTo>
                      <a:lnTo>
                        <a:pt x="1402" y="0"/>
                      </a:lnTo>
                      <a:lnTo>
                        <a:pt x="1402" y="448"/>
                      </a:lnTo>
                      <a:lnTo>
                        <a:pt x="334" y="1627"/>
                      </a:lnTo>
                      <a:lnTo>
                        <a:pt x="0" y="1550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15"/>
                <p:cNvSpPr/>
                <p:nvPr/>
              </p:nvSpPr>
              <p:spPr>
                <a:xfrm>
                  <a:off x="1763640" y="3221280"/>
                  <a:ext cx="277560" cy="299520"/>
                </a:xfrm>
                <a:custGeom>
                  <a:avLst/>
                  <a:gdLst/>
                  <a:ahLst/>
                  <a:rect l="l" t="t" r="r" b="b"/>
                  <a:pathLst>
                    <a:path w="1235" h="1442">
                      <a:moveTo>
                        <a:pt x="0" y="1365"/>
                      </a:moveTo>
                      <a:lnTo>
                        <a:pt x="1235" y="0"/>
                      </a:lnTo>
                      <a:lnTo>
                        <a:pt x="1235" y="447"/>
                      </a:lnTo>
                      <a:lnTo>
                        <a:pt x="335" y="1442"/>
                      </a:lnTo>
                      <a:lnTo>
                        <a:pt x="0" y="1365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16"/>
                <p:cNvSpPr/>
                <p:nvPr/>
              </p:nvSpPr>
              <p:spPr>
                <a:xfrm>
                  <a:off x="1801440" y="3267720"/>
                  <a:ext cx="239760" cy="261360"/>
                </a:xfrm>
                <a:custGeom>
                  <a:avLst/>
                  <a:gdLst/>
                  <a:ahLst/>
                  <a:rect l="l" t="t" r="r" b="b"/>
                  <a:pathLst>
                    <a:path w="1068" h="1256">
                      <a:moveTo>
                        <a:pt x="0" y="1179"/>
                      </a:moveTo>
                      <a:lnTo>
                        <a:pt x="1068" y="0"/>
                      </a:lnTo>
                      <a:lnTo>
                        <a:pt x="1068" y="447"/>
                      </a:lnTo>
                      <a:lnTo>
                        <a:pt x="336" y="1256"/>
                      </a:lnTo>
                      <a:lnTo>
                        <a:pt x="0" y="1179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17"/>
                <p:cNvSpPr/>
                <p:nvPr/>
              </p:nvSpPr>
              <p:spPr>
                <a:xfrm>
                  <a:off x="1838880" y="3314160"/>
                  <a:ext cx="202320" cy="223200"/>
                </a:xfrm>
                <a:custGeom>
                  <a:avLst/>
                  <a:gdLst/>
                  <a:ahLst/>
                  <a:rect l="l" t="t" r="r" b="b"/>
                  <a:pathLst>
                    <a:path w="900" h="1073">
                      <a:moveTo>
                        <a:pt x="0" y="995"/>
                      </a:moveTo>
                      <a:lnTo>
                        <a:pt x="900" y="0"/>
                      </a:lnTo>
                      <a:lnTo>
                        <a:pt x="900" y="448"/>
                      </a:lnTo>
                      <a:lnTo>
                        <a:pt x="336" y="1073"/>
                      </a:lnTo>
                      <a:lnTo>
                        <a:pt x="0" y="995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18"/>
                <p:cNvSpPr/>
                <p:nvPr/>
              </p:nvSpPr>
              <p:spPr>
                <a:xfrm>
                  <a:off x="1877040" y="3360960"/>
                  <a:ext cx="164520" cy="184680"/>
                </a:xfrm>
                <a:custGeom>
                  <a:avLst/>
                  <a:gdLst/>
                  <a:ahLst/>
                  <a:rect l="l" t="t" r="r" b="b"/>
                  <a:pathLst>
                    <a:path w="732" h="887">
                      <a:moveTo>
                        <a:pt x="0" y="809"/>
                      </a:moveTo>
                      <a:lnTo>
                        <a:pt x="732" y="0"/>
                      </a:lnTo>
                      <a:lnTo>
                        <a:pt x="732" y="448"/>
                      </a:lnTo>
                      <a:lnTo>
                        <a:pt x="334" y="887"/>
                      </a:lnTo>
                      <a:lnTo>
                        <a:pt x="0" y="809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19"/>
                <p:cNvSpPr/>
                <p:nvPr/>
              </p:nvSpPr>
              <p:spPr>
                <a:xfrm>
                  <a:off x="1914480" y="3407760"/>
                  <a:ext cx="127080" cy="146520"/>
                </a:xfrm>
                <a:custGeom>
                  <a:avLst/>
                  <a:gdLst/>
                  <a:ahLst/>
                  <a:rect l="l" t="t" r="r" b="b"/>
                  <a:pathLst>
                    <a:path w="564" h="702">
                      <a:moveTo>
                        <a:pt x="0" y="625"/>
                      </a:moveTo>
                      <a:lnTo>
                        <a:pt x="564" y="0"/>
                      </a:lnTo>
                      <a:lnTo>
                        <a:pt x="564" y="448"/>
                      </a:lnTo>
                      <a:lnTo>
                        <a:pt x="334" y="702"/>
                      </a:lnTo>
                      <a:lnTo>
                        <a:pt x="0" y="625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20"/>
                <p:cNvSpPr/>
                <p:nvPr/>
              </p:nvSpPr>
              <p:spPr>
                <a:xfrm>
                  <a:off x="1952280" y="3454560"/>
                  <a:ext cx="89280" cy="106560"/>
                </a:xfrm>
                <a:custGeom>
                  <a:avLst/>
                  <a:gdLst/>
                  <a:ahLst/>
                  <a:rect l="l" t="t" r="r" b="b"/>
                  <a:pathLst>
                    <a:path w="398" h="517">
                      <a:moveTo>
                        <a:pt x="0" y="439"/>
                      </a:moveTo>
                      <a:lnTo>
                        <a:pt x="398" y="0"/>
                      </a:lnTo>
                      <a:lnTo>
                        <a:pt x="398" y="447"/>
                      </a:lnTo>
                      <a:lnTo>
                        <a:pt x="336" y="517"/>
                      </a:lnTo>
                      <a:lnTo>
                        <a:pt x="0" y="439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21"/>
                <p:cNvSpPr/>
                <p:nvPr/>
              </p:nvSpPr>
              <p:spPr>
                <a:xfrm>
                  <a:off x="1990080" y="3501000"/>
                  <a:ext cx="51480" cy="63360"/>
                </a:xfrm>
                <a:custGeom>
                  <a:avLst/>
                  <a:gdLst/>
                  <a:ahLst/>
                  <a:rect l="l" t="t" r="r" b="b"/>
                  <a:pathLst>
                    <a:path w="230" h="307">
                      <a:moveTo>
                        <a:pt x="0" y="254"/>
                      </a:moveTo>
                      <a:lnTo>
                        <a:pt x="230" y="0"/>
                      </a:lnTo>
                      <a:lnTo>
                        <a:pt x="230" y="307"/>
                      </a:lnTo>
                      <a:lnTo>
                        <a:pt x="0" y="254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222"/>
                <p:cNvSpPr/>
                <p:nvPr/>
              </p:nvSpPr>
              <p:spPr>
                <a:xfrm>
                  <a:off x="2027520" y="3547800"/>
                  <a:ext cx="14040" cy="16560"/>
                </a:xfrm>
                <a:custGeom>
                  <a:avLst/>
                  <a:gdLst/>
                  <a:ahLst/>
                  <a:rect l="l" t="t" r="r" b="b"/>
                  <a:pathLst>
                    <a:path w="62" h="84">
                      <a:moveTo>
                        <a:pt x="0" y="70"/>
                      </a:moveTo>
                      <a:lnTo>
                        <a:pt x="62" y="0"/>
                      </a:lnTo>
                      <a:lnTo>
                        <a:pt x="62" y="84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223"/>
                <p:cNvSpPr/>
                <p:nvPr/>
              </p:nvSpPr>
              <p:spPr>
                <a:xfrm>
                  <a:off x="2981880" y="2671200"/>
                  <a:ext cx="118080" cy="181440"/>
                </a:xfrm>
                <a:custGeom>
                  <a:avLst/>
                  <a:gdLst/>
                  <a:ahLst/>
                  <a:rect l="l" t="t" r="r" b="b"/>
                  <a:pathLst>
                    <a:path w="532" h="870">
                      <a:moveTo>
                        <a:pt x="532" y="283"/>
                      </a:moveTo>
                      <a:lnTo>
                        <a:pt x="0" y="870"/>
                      </a:lnTo>
                      <a:lnTo>
                        <a:pt x="420" y="0"/>
                      </a:lnTo>
                      <a:lnTo>
                        <a:pt x="532" y="283"/>
                      </a:lnTo>
                      <a:close/>
                    </a:path>
                  </a:pathLst>
                </a:custGeom>
                <a:solidFill>
                  <a:srgbClr val="cac5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24"/>
                <p:cNvSpPr/>
                <p:nvPr/>
              </p:nvSpPr>
              <p:spPr>
                <a:xfrm>
                  <a:off x="2926080" y="2696040"/>
                  <a:ext cx="190080" cy="264960"/>
                </a:xfrm>
                <a:custGeom>
                  <a:avLst/>
                  <a:gdLst/>
                  <a:ahLst/>
                  <a:rect l="l" t="t" r="r" b="b"/>
                  <a:pathLst>
                    <a:path w="846" h="1270">
                      <a:moveTo>
                        <a:pt x="498" y="241"/>
                      </a:moveTo>
                      <a:lnTo>
                        <a:pt x="715" y="0"/>
                      </a:lnTo>
                      <a:lnTo>
                        <a:pt x="846" y="336"/>
                      </a:lnTo>
                      <a:lnTo>
                        <a:pt x="0" y="1270"/>
                      </a:lnTo>
                      <a:lnTo>
                        <a:pt x="498" y="241"/>
                      </a:lnTo>
                      <a:close/>
                    </a:path>
                  </a:pathLst>
                </a:custGeom>
                <a:solidFill>
                  <a:srgbClr val="cbc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225"/>
                <p:cNvSpPr/>
                <p:nvPr/>
              </p:nvSpPr>
              <p:spPr>
                <a:xfrm>
                  <a:off x="2871000" y="2731320"/>
                  <a:ext cx="259920" cy="336600"/>
                </a:xfrm>
                <a:custGeom>
                  <a:avLst/>
                  <a:gdLst/>
                  <a:ahLst/>
                  <a:rect l="l" t="t" r="r" b="b"/>
                  <a:pathLst>
                    <a:path w="1160" h="1617">
                      <a:moveTo>
                        <a:pt x="497" y="587"/>
                      </a:moveTo>
                      <a:lnTo>
                        <a:pt x="1029" y="0"/>
                      </a:lnTo>
                      <a:lnTo>
                        <a:pt x="1160" y="335"/>
                      </a:lnTo>
                      <a:lnTo>
                        <a:pt x="0" y="1617"/>
                      </a:lnTo>
                      <a:lnTo>
                        <a:pt x="497" y="587"/>
                      </a:lnTo>
                      <a:close/>
                    </a:path>
                  </a:pathLst>
                </a:custGeom>
                <a:solidFill>
                  <a:srgbClr val="ccc6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26"/>
                <p:cNvSpPr/>
                <p:nvPr/>
              </p:nvSpPr>
              <p:spPr>
                <a:xfrm>
                  <a:off x="2815200" y="2766240"/>
                  <a:ext cx="329760" cy="407880"/>
                </a:xfrm>
                <a:custGeom>
                  <a:avLst/>
                  <a:gdLst/>
                  <a:ahLst/>
                  <a:rect l="l" t="t" r="r" b="b"/>
                  <a:pathLst>
                    <a:path w="1474" h="1963">
                      <a:moveTo>
                        <a:pt x="496" y="934"/>
                      </a:moveTo>
                      <a:lnTo>
                        <a:pt x="1342" y="0"/>
                      </a:lnTo>
                      <a:lnTo>
                        <a:pt x="1474" y="334"/>
                      </a:lnTo>
                      <a:lnTo>
                        <a:pt x="0" y="1963"/>
                      </a:lnTo>
                      <a:lnTo>
                        <a:pt x="496" y="934"/>
                      </a:lnTo>
                      <a:close/>
                    </a:path>
                  </a:pathLst>
                </a:custGeom>
                <a:solidFill>
                  <a:srgbClr val="cdc7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227"/>
                <p:cNvSpPr/>
                <p:nvPr/>
              </p:nvSpPr>
              <p:spPr>
                <a:xfrm>
                  <a:off x="2759400" y="2801160"/>
                  <a:ext cx="400320" cy="481680"/>
                </a:xfrm>
                <a:custGeom>
                  <a:avLst/>
                  <a:gdLst/>
                  <a:ahLst/>
                  <a:rect l="l" t="t" r="r" b="b"/>
                  <a:pathLst>
                    <a:path w="1789" h="2312">
                      <a:moveTo>
                        <a:pt x="497" y="1282"/>
                      </a:moveTo>
                      <a:lnTo>
                        <a:pt x="1657" y="0"/>
                      </a:lnTo>
                      <a:lnTo>
                        <a:pt x="1789" y="335"/>
                      </a:lnTo>
                      <a:lnTo>
                        <a:pt x="0" y="2312"/>
                      </a:lnTo>
                      <a:lnTo>
                        <a:pt x="497" y="1282"/>
                      </a:lnTo>
                      <a:close/>
                    </a:path>
                  </a:pathLst>
                </a:custGeom>
                <a:solidFill>
                  <a:srgbClr val="cec8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8"/>
                <p:cNvSpPr/>
                <p:nvPr/>
              </p:nvSpPr>
              <p:spPr>
                <a:xfrm>
                  <a:off x="2703960" y="2836080"/>
                  <a:ext cx="469800" cy="552960"/>
                </a:xfrm>
                <a:custGeom>
                  <a:avLst/>
                  <a:gdLst/>
                  <a:ahLst/>
                  <a:rect l="l" t="t" r="r" b="b"/>
                  <a:pathLst>
                    <a:path w="2102" h="2660">
                      <a:moveTo>
                        <a:pt x="497" y="1629"/>
                      </a:moveTo>
                      <a:lnTo>
                        <a:pt x="1971" y="0"/>
                      </a:lnTo>
                      <a:lnTo>
                        <a:pt x="2102" y="336"/>
                      </a:lnTo>
                      <a:lnTo>
                        <a:pt x="0" y="2660"/>
                      </a:lnTo>
                      <a:lnTo>
                        <a:pt x="497" y="1629"/>
                      </a:lnTo>
                      <a:close/>
                    </a:path>
                  </a:pathLst>
                </a:custGeom>
                <a:solidFill>
                  <a:srgbClr val="cec8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229"/>
                <p:cNvSpPr/>
                <p:nvPr/>
              </p:nvSpPr>
              <p:spPr>
                <a:xfrm>
                  <a:off x="2648160" y="2871000"/>
                  <a:ext cx="541800" cy="624960"/>
                </a:xfrm>
                <a:custGeom>
                  <a:avLst/>
                  <a:gdLst/>
                  <a:ahLst/>
                  <a:rect l="l" t="t" r="r" b="b"/>
                  <a:pathLst>
                    <a:path w="2416" h="3007">
                      <a:moveTo>
                        <a:pt x="496" y="1977"/>
                      </a:moveTo>
                      <a:lnTo>
                        <a:pt x="2285" y="0"/>
                      </a:lnTo>
                      <a:lnTo>
                        <a:pt x="2416" y="336"/>
                      </a:lnTo>
                      <a:lnTo>
                        <a:pt x="0" y="3007"/>
                      </a:lnTo>
                      <a:lnTo>
                        <a:pt x="496" y="1977"/>
                      </a:lnTo>
                      <a:close/>
                    </a:path>
                  </a:pathLst>
                </a:custGeom>
                <a:solidFill>
                  <a:srgbClr val="cec8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230"/>
                <p:cNvSpPr/>
                <p:nvPr/>
              </p:nvSpPr>
              <p:spPr>
                <a:xfrm>
                  <a:off x="2621520" y="2904480"/>
                  <a:ext cx="582840" cy="666360"/>
                </a:xfrm>
                <a:custGeom>
                  <a:avLst/>
                  <a:gdLst/>
                  <a:ahLst/>
                  <a:rect l="l" t="t" r="r" b="b"/>
                  <a:pathLst>
                    <a:path w="2597" h="3199">
                      <a:moveTo>
                        <a:pt x="363" y="2324"/>
                      </a:moveTo>
                      <a:lnTo>
                        <a:pt x="2465" y="0"/>
                      </a:lnTo>
                      <a:lnTo>
                        <a:pt x="2597" y="335"/>
                      </a:lnTo>
                      <a:lnTo>
                        <a:pt x="6" y="3199"/>
                      </a:lnTo>
                      <a:lnTo>
                        <a:pt x="0" y="3074"/>
                      </a:lnTo>
                      <a:lnTo>
                        <a:pt x="363" y="2324"/>
                      </a:lnTo>
                      <a:close/>
                    </a:path>
                  </a:pathLst>
                </a:custGeom>
                <a:solidFill>
                  <a:srgbClr val="cfc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231"/>
                <p:cNvSpPr/>
                <p:nvPr/>
              </p:nvSpPr>
              <p:spPr>
                <a:xfrm>
                  <a:off x="2621520" y="2939400"/>
                  <a:ext cx="597240" cy="679680"/>
                </a:xfrm>
                <a:custGeom>
                  <a:avLst/>
                  <a:gdLst/>
                  <a:ahLst/>
                  <a:rect l="l" t="t" r="r" b="b"/>
                  <a:pathLst>
                    <a:path w="2664" h="3261">
                      <a:moveTo>
                        <a:pt x="115" y="2671"/>
                      </a:moveTo>
                      <a:lnTo>
                        <a:pt x="2531" y="0"/>
                      </a:lnTo>
                      <a:lnTo>
                        <a:pt x="2664" y="335"/>
                      </a:lnTo>
                      <a:lnTo>
                        <a:pt x="15" y="3261"/>
                      </a:lnTo>
                      <a:lnTo>
                        <a:pt x="0" y="2906"/>
                      </a:lnTo>
                      <a:lnTo>
                        <a:pt x="115" y="2671"/>
                      </a:lnTo>
                      <a:close/>
                    </a:path>
                  </a:pathLst>
                </a:custGeom>
                <a:solidFill>
                  <a:srgbClr val="cfc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232"/>
                <p:cNvSpPr/>
                <p:nvPr/>
              </p:nvSpPr>
              <p:spPr>
                <a:xfrm>
                  <a:off x="2622960" y="2974680"/>
                  <a:ext cx="609840" cy="693000"/>
                </a:xfrm>
                <a:custGeom>
                  <a:avLst/>
                  <a:gdLst/>
                  <a:ahLst/>
                  <a:rect l="l" t="t" r="r" b="b"/>
                  <a:pathLst>
                    <a:path w="2724" h="3326">
                      <a:moveTo>
                        <a:pt x="0" y="2864"/>
                      </a:moveTo>
                      <a:lnTo>
                        <a:pt x="2591" y="0"/>
                      </a:lnTo>
                      <a:lnTo>
                        <a:pt x="2724" y="335"/>
                      </a:lnTo>
                      <a:lnTo>
                        <a:pt x="18" y="3326"/>
                      </a:lnTo>
                      <a:lnTo>
                        <a:pt x="0" y="2864"/>
                      </a:lnTo>
                      <a:close/>
                    </a:path>
                  </a:pathLst>
                </a:custGeom>
                <a:solidFill>
                  <a:srgbClr val="cfc9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233"/>
                <p:cNvSpPr/>
                <p:nvPr/>
              </p:nvSpPr>
              <p:spPr>
                <a:xfrm>
                  <a:off x="2625120" y="3009240"/>
                  <a:ext cx="623880" cy="686520"/>
                </a:xfrm>
                <a:custGeom>
                  <a:avLst/>
                  <a:gdLst/>
                  <a:ahLst/>
                  <a:rect l="l" t="t" r="r" b="b"/>
                  <a:pathLst>
                    <a:path w="2780" h="3290">
                      <a:moveTo>
                        <a:pt x="0" y="2926"/>
                      </a:moveTo>
                      <a:lnTo>
                        <a:pt x="2649" y="0"/>
                      </a:lnTo>
                      <a:lnTo>
                        <a:pt x="2780" y="335"/>
                      </a:lnTo>
                      <a:lnTo>
                        <a:pt x="105" y="3290"/>
                      </a:lnTo>
                      <a:lnTo>
                        <a:pt x="12" y="3269"/>
                      </a:lnTo>
                      <a:lnTo>
                        <a:pt x="0" y="2926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234"/>
                <p:cNvSpPr/>
                <p:nvPr/>
              </p:nvSpPr>
              <p:spPr>
                <a:xfrm>
                  <a:off x="2626560" y="3044520"/>
                  <a:ext cx="636480" cy="659520"/>
                </a:xfrm>
                <a:custGeom>
                  <a:avLst/>
                  <a:gdLst/>
                  <a:ahLst/>
                  <a:rect l="l" t="t" r="r" b="b"/>
                  <a:pathLst>
                    <a:path w="2837" h="3164">
                      <a:moveTo>
                        <a:pt x="0" y="2991"/>
                      </a:moveTo>
                      <a:lnTo>
                        <a:pt x="2706" y="0"/>
                      </a:lnTo>
                      <a:lnTo>
                        <a:pt x="2837" y="335"/>
                      </a:lnTo>
                      <a:lnTo>
                        <a:pt x="277" y="3164"/>
                      </a:lnTo>
                      <a:lnTo>
                        <a:pt x="3" y="3102"/>
                      </a:lnTo>
                      <a:lnTo>
                        <a:pt x="0" y="2991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235"/>
                <p:cNvSpPr/>
                <p:nvPr/>
              </p:nvSpPr>
              <p:spPr>
                <a:xfrm>
                  <a:off x="2648160" y="3079440"/>
                  <a:ext cx="629640" cy="632880"/>
                </a:xfrm>
                <a:custGeom>
                  <a:avLst/>
                  <a:gdLst/>
                  <a:ahLst/>
                  <a:rect l="l" t="t" r="r" b="b"/>
                  <a:pathLst>
                    <a:path w="2807" h="3038">
                      <a:moveTo>
                        <a:pt x="0" y="2955"/>
                      </a:moveTo>
                      <a:lnTo>
                        <a:pt x="2675" y="0"/>
                      </a:lnTo>
                      <a:lnTo>
                        <a:pt x="2807" y="335"/>
                      </a:lnTo>
                      <a:lnTo>
                        <a:pt x="361" y="3038"/>
                      </a:lnTo>
                      <a:lnTo>
                        <a:pt x="0" y="2955"/>
                      </a:lnTo>
                      <a:close/>
                    </a:path>
                  </a:pathLst>
                </a:custGeom>
                <a:solidFill>
                  <a:srgbClr val="d0c9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236"/>
                <p:cNvSpPr/>
                <p:nvPr/>
              </p:nvSpPr>
              <p:spPr>
                <a:xfrm>
                  <a:off x="2689200" y="3114360"/>
                  <a:ext cx="602640" cy="606240"/>
                </a:xfrm>
                <a:custGeom>
                  <a:avLst/>
                  <a:gdLst/>
                  <a:ahLst/>
                  <a:rect l="l" t="t" r="r" b="b"/>
                  <a:pathLst>
                    <a:path w="2692" h="2913">
                      <a:moveTo>
                        <a:pt x="0" y="2829"/>
                      </a:moveTo>
                      <a:lnTo>
                        <a:pt x="2560" y="0"/>
                      </a:lnTo>
                      <a:lnTo>
                        <a:pt x="2692" y="336"/>
                      </a:lnTo>
                      <a:lnTo>
                        <a:pt x="359" y="2913"/>
                      </a:lnTo>
                      <a:lnTo>
                        <a:pt x="0" y="2829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237"/>
                <p:cNvSpPr/>
                <p:nvPr/>
              </p:nvSpPr>
              <p:spPr>
                <a:xfrm>
                  <a:off x="2728800" y="3149640"/>
                  <a:ext cx="579600" cy="579600"/>
                </a:xfrm>
                <a:custGeom>
                  <a:avLst/>
                  <a:gdLst/>
                  <a:ahLst/>
                  <a:rect l="l" t="t" r="r" b="b"/>
                  <a:pathLst>
                    <a:path w="2577" h="2787">
                      <a:moveTo>
                        <a:pt x="0" y="2703"/>
                      </a:moveTo>
                      <a:lnTo>
                        <a:pt x="2446" y="0"/>
                      </a:lnTo>
                      <a:lnTo>
                        <a:pt x="2577" y="336"/>
                      </a:lnTo>
                      <a:lnTo>
                        <a:pt x="359" y="2787"/>
                      </a:lnTo>
                      <a:lnTo>
                        <a:pt x="0" y="2703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238"/>
                <p:cNvSpPr/>
                <p:nvPr/>
              </p:nvSpPr>
              <p:spPr>
                <a:xfrm>
                  <a:off x="2770200" y="3184200"/>
                  <a:ext cx="552240" cy="555120"/>
                </a:xfrm>
                <a:custGeom>
                  <a:avLst/>
                  <a:gdLst/>
                  <a:ahLst/>
                  <a:rect l="l" t="t" r="r" b="b"/>
                  <a:pathLst>
                    <a:path w="2464" h="2660">
                      <a:moveTo>
                        <a:pt x="0" y="2577"/>
                      </a:moveTo>
                      <a:lnTo>
                        <a:pt x="2333" y="0"/>
                      </a:lnTo>
                      <a:lnTo>
                        <a:pt x="2464" y="334"/>
                      </a:lnTo>
                      <a:lnTo>
                        <a:pt x="360" y="2660"/>
                      </a:lnTo>
                      <a:lnTo>
                        <a:pt x="0" y="2577"/>
                      </a:lnTo>
                      <a:close/>
                    </a:path>
                  </a:pathLst>
                </a:custGeom>
                <a:solidFill>
                  <a:srgbClr val="d0ca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239"/>
                <p:cNvSpPr/>
                <p:nvPr/>
              </p:nvSpPr>
              <p:spPr>
                <a:xfrm>
                  <a:off x="2809800" y="3219480"/>
                  <a:ext cx="514440" cy="528120"/>
                </a:xfrm>
                <a:custGeom>
                  <a:avLst/>
                  <a:gdLst/>
                  <a:ahLst/>
                  <a:rect l="l" t="t" r="r" b="b"/>
                  <a:pathLst>
                    <a:path w="2296" h="2534">
                      <a:moveTo>
                        <a:pt x="0" y="2451"/>
                      </a:moveTo>
                      <a:lnTo>
                        <a:pt x="2218" y="0"/>
                      </a:lnTo>
                      <a:lnTo>
                        <a:pt x="2296" y="195"/>
                      </a:lnTo>
                      <a:lnTo>
                        <a:pt x="2296" y="395"/>
                      </a:lnTo>
                      <a:lnTo>
                        <a:pt x="360" y="253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240"/>
                <p:cNvSpPr/>
                <p:nvPr/>
              </p:nvSpPr>
              <p:spPr>
                <a:xfrm>
                  <a:off x="2850840" y="3254400"/>
                  <a:ext cx="473400" cy="501120"/>
                </a:xfrm>
                <a:custGeom>
                  <a:avLst/>
                  <a:gdLst/>
                  <a:ahLst/>
                  <a:rect l="l" t="t" r="r" b="b"/>
                  <a:pathLst>
                    <a:path w="2116" h="2410">
                      <a:moveTo>
                        <a:pt x="0" y="2326"/>
                      </a:moveTo>
                      <a:lnTo>
                        <a:pt x="2104" y="0"/>
                      </a:lnTo>
                      <a:lnTo>
                        <a:pt x="2116" y="29"/>
                      </a:lnTo>
                      <a:lnTo>
                        <a:pt x="2116" y="470"/>
                      </a:lnTo>
                      <a:lnTo>
                        <a:pt x="360" y="2410"/>
                      </a:lnTo>
                      <a:lnTo>
                        <a:pt x="0" y="2326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241"/>
                <p:cNvSpPr/>
                <p:nvPr/>
              </p:nvSpPr>
              <p:spPr>
                <a:xfrm>
                  <a:off x="2890440" y="3303000"/>
                  <a:ext cx="433800" cy="461160"/>
                </a:xfrm>
                <a:custGeom>
                  <a:avLst/>
                  <a:gdLst/>
                  <a:ahLst/>
                  <a:rect l="l" t="t" r="r" b="b"/>
                  <a:pathLst>
                    <a:path w="1936" h="2221">
                      <a:moveTo>
                        <a:pt x="0" y="2139"/>
                      </a:moveTo>
                      <a:lnTo>
                        <a:pt x="1936" y="0"/>
                      </a:lnTo>
                      <a:lnTo>
                        <a:pt x="1936" y="481"/>
                      </a:lnTo>
                      <a:lnTo>
                        <a:pt x="359" y="2221"/>
                      </a:lnTo>
                      <a:lnTo>
                        <a:pt x="0" y="2139"/>
                      </a:lnTo>
                      <a:close/>
                    </a:path>
                  </a:pathLst>
                </a:custGeom>
                <a:solidFill>
                  <a:srgbClr val="d1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242"/>
                <p:cNvSpPr/>
                <p:nvPr/>
              </p:nvSpPr>
              <p:spPr>
                <a:xfrm>
                  <a:off x="2931840" y="3352680"/>
                  <a:ext cx="392400" cy="419760"/>
                </a:xfrm>
                <a:custGeom>
                  <a:avLst/>
                  <a:gdLst/>
                  <a:ahLst/>
                  <a:rect l="l" t="t" r="r" b="b"/>
                  <a:pathLst>
                    <a:path w="1756" h="2022">
                      <a:moveTo>
                        <a:pt x="0" y="1940"/>
                      </a:moveTo>
                      <a:lnTo>
                        <a:pt x="1756" y="0"/>
                      </a:lnTo>
                      <a:lnTo>
                        <a:pt x="1756" y="481"/>
                      </a:lnTo>
                      <a:lnTo>
                        <a:pt x="360" y="2022"/>
                      </a:lnTo>
                      <a:lnTo>
                        <a:pt x="0" y="1940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43"/>
                <p:cNvSpPr/>
                <p:nvPr/>
              </p:nvSpPr>
              <p:spPr>
                <a:xfrm>
                  <a:off x="2971440" y="3402720"/>
                  <a:ext cx="352800" cy="380160"/>
                </a:xfrm>
                <a:custGeom>
                  <a:avLst/>
                  <a:gdLst/>
                  <a:ahLst/>
                  <a:rect l="l" t="t" r="r" b="b"/>
                  <a:pathLst>
                    <a:path w="1577" h="1824">
                      <a:moveTo>
                        <a:pt x="0" y="1740"/>
                      </a:moveTo>
                      <a:lnTo>
                        <a:pt x="1577" y="0"/>
                      </a:lnTo>
                      <a:lnTo>
                        <a:pt x="1577" y="481"/>
                      </a:lnTo>
                      <a:lnTo>
                        <a:pt x="360" y="1824"/>
                      </a:lnTo>
                      <a:lnTo>
                        <a:pt x="0" y="1740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244"/>
                <p:cNvSpPr/>
                <p:nvPr/>
              </p:nvSpPr>
              <p:spPr>
                <a:xfrm>
                  <a:off x="3012480" y="3452400"/>
                  <a:ext cx="311760" cy="338400"/>
                </a:xfrm>
                <a:custGeom>
                  <a:avLst/>
                  <a:gdLst/>
                  <a:ahLst/>
                  <a:rect l="l" t="t" r="r" b="b"/>
                  <a:pathLst>
                    <a:path w="1396" h="1624">
                      <a:moveTo>
                        <a:pt x="0" y="1541"/>
                      </a:moveTo>
                      <a:lnTo>
                        <a:pt x="1396" y="0"/>
                      </a:lnTo>
                      <a:lnTo>
                        <a:pt x="1396" y="480"/>
                      </a:lnTo>
                      <a:lnTo>
                        <a:pt x="359" y="1624"/>
                      </a:lnTo>
                      <a:lnTo>
                        <a:pt x="0" y="1541"/>
                      </a:lnTo>
                      <a:close/>
                    </a:path>
                  </a:pathLst>
                </a:custGeom>
                <a:solidFill>
                  <a:srgbClr val="d3cd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245"/>
                <p:cNvSpPr/>
                <p:nvPr/>
              </p:nvSpPr>
              <p:spPr>
                <a:xfrm>
                  <a:off x="3051720" y="3502800"/>
                  <a:ext cx="272520" cy="296640"/>
                </a:xfrm>
                <a:custGeom>
                  <a:avLst/>
                  <a:gdLst/>
                  <a:ahLst/>
                  <a:rect l="l" t="t" r="r" b="b"/>
                  <a:pathLst>
                    <a:path w="1217" h="1426">
                      <a:moveTo>
                        <a:pt x="0" y="1343"/>
                      </a:moveTo>
                      <a:lnTo>
                        <a:pt x="1217" y="0"/>
                      </a:lnTo>
                      <a:lnTo>
                        <a:pt x="1217" y="481"/>
                      </a:lnTo>
                      <a:lnTo>
                        <a:pt x="360" y="1426"/>
                      </a:lnTo>
                      <a:lnTo>
                        <a:pt x="0" y="1343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246"/>
                <p:cNvSpPr/>
                <p:nvPr/>
              </p:nvSpPr>
              <p:spPr>
                <a:xfrm>
                  <a:off x="3093480" y="3552840"/>
                  <a:ext cx="230760" cy="254880"/>
                </a:xfrm>
                <a:custGeom>
                  <a:avLst/>
                  <a:gdLst/>
                  <a:ahLst/>
                  <a:rect l="l" t="t" r="r" b="b"/>
                  <a:pathLst>
                    <a:path w="1037" h="1228">
                      <a:moveTo>
                        <a:pt x="0" y="1144"/>
                      </a:moveTo>
                      <a:lnTo>
                        <a:pt x="1037" y="0"/>
                      </a:lnTo>
                      <a:lnTo>
                        <a:pt x="1037" y="481"/>
                      </a:lnTo>
                      <a:lnTo>
                        <a:pt x="360" y="1228"/>
                      </a:lnTo>
                      <a:lnTo>
                        <a:pt x="0" y="1144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47"/>
                <p:cNvSpPr/>
                <p:nvPr/>
              </p:nvSpPr>
              <p:spPr>
                <a:xfrm>
                  <a:off x="3132720" y="3602520"/>
                  <a:ext cx="191520" cy="213480"/>
                </a:xfrm>
                <a:custGeom>
                  <a:avLst/>
                  <a:gdLst/>
                  <a:ahLst/>
                  <a:rect l="l" t="t" r="r" b="b"/>
                  <a:pathLst>
                    <a:path w="857" h="1029">
                      <a:moveTo>
                        <a:pt x="0" y="945"/>
                      </a:moveTo>
                      <a:lnTo>
                        <a:pt x="857" y="0"/>
                      </a:lnTo>
                      <a:lnTo>
                        <a:pt x="857" y="480"/>
                      </a:lnTo>
                      <a:lnTo>
                        <a:pt x="360" y="1029"/>
                      </a:lnTo>
                      <a:lnTo>
                        <a:pt x="0" y="945"/>
                      </a:lnTo>
                      <a:close/>
                    </a:path>
                  </a:pathLst>
                </a:custGeom>
                <a:solidFill>
                  <a:srgbClr val="d4c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248"/>
                <p:cNvSpPr/>
                <p:nvPr/>
              </p:nvSpPr>
              <p:spPr>
                <a:xfrm>
                  <a:off x="3173760" y="3652920"/>
                  <a:ext cx="150480" cy="172800"/>
                </a:xfrm>
                <a:custGeom>
                  <a:avLst/>
                  <a:gdLst/>
                  <a:ahLst/>
                  <a:rect l="l" t="t" r="r" b="b"/>
                  <a:pathLst>
                    <a:path w="677" h="830">
                      <a:moveTo>
                        <a:pt x="0" y="747"/>
                      </a:moveTo>
                      <a:lnTo>
                        <a:pt x="677" y="0"/>
                      </a:lnTo>
                      <a:lnTo>
                        <a:pt x="677" y="481"/>
                      </a:lnTo>
                      <a:lnTo>
                        <a:pt x="359" y="830"/>
                      </a:lnTo>
                      <a:lnTo>
                        <a:pt x="0" y="747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249"/>
                <p:cNvSpPr/>
                <p:nvPr/>
              </p:nvSpPr>
              <p:spPr>
                <a:xfrm>
                  <a:off x="3213360" y="3702600"/>
                  <a:ext cx="110880" cy="131400"/>
                </a:xfrm>
                <a:custGeom>
                  <a:avLst/>
                  <a:gdLst/>
                  <a:ahLst/>
                  <a:rect l="l" t="t" r="r" b="b"/>
                  <a:pathLst>
                    <a:path w="497" h="632">
                      <a:moveTo>
                        <a:pt x="0" y="549"/>
                      </a:moveTo>
                      <a:lnTo>
                        <a:pt x="497" y="0"/>
                      </a:lnTo>
                      <a:lnTo>
                        <a:pt x="497" y="481"/>
                      </a:lnTo>
                      <a:lnTo>
                        <a:pt x="359" y="632"/>
                      </a:lnTo>
                      <a:lnTo>
                        <a:pt x="0" y="549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250"/>
                <p:cNvSpPr/>
                <p:nvPr/>
              </p:nvSpPr>
              <p:spPr>
                <a:xfrm>
                  <a:off x="3254400" y="3752640"/>
                  <a:ext cx="69840" cy="88200"/>
                </a:xfrm>
                <a:custGeom>
                  <a:avLst/>
                  <a:gdLst/>
                  <a:ahLst/>
                  <a:rect l="l" t="t" r="r" b="b"/>
                  <a:pathLst>
                    <a:path w="318" h="422">
                      <a:moveTo>
                        <a:pt x="0" y="349"/>
                      </a:moveTo>
                      <a:lnTo>
                        <a:pt x="318" y="0"/>
                      </a:lnTo>
                      <a:lnTo>
                        <a:pt x="318" y="422"/>
                      </a:lnTo>
                      <a:lnTo>
                        <a:pt x="0" y="349"/>
                      </a:lnTo>
                      <a:close/>
                    </a:path>
                  </a:pathLst>
                </a:custGeom>
                <a:solidFill>
                  <a:srgbClr val="d6d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251"/>
                <p:cNvSpPr/>
                <p:nvPr/>
              </p:nvSpPr>
              <p:spPr>
                <a:xfrm>
                  <a:off x="3294000" y="3802680"/>
                  <a:ext cx="30240" cy="38520"/>
                </a:xfrm>
                <a:custGeom>
                  <a:avLst/>
                  <a:gdLst/>
                  <a:ahLst/>
                  <a:rect l="l" t="t" r="r" b="b"/>
                  <a:pathLst>
                    <a:path w="138" h="182">
                      <a:moveTo>
                        <a:pt x="0" y="151"/>
                      </a:moveTo>
                      <a:lnTo>
                        <a:pt x="138" y="0"/>
                      </a:lnTo>
                      <a:lnTo>
                        <a:pt x="138" y="18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d7d2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252"/>
                <p:cNvSpPr/>
                <p:nvPr/>
              </p:nvSpPr>
              <p:spPr>
                <a:xfrm>
                  <a:off x="4458240" y="2827800"/>
                  <a:ext cx="60840" cy="88200"/>
                </a:xfrm>
                <a:custGeom>
                  <a:avLst/>
                  <a:gdLst/>
                  <a:ahLst/>
                  <a:rect l="l" t="t" r="r" b="b"/>
                  <a:pathLst>
                    <a:path w="275" h="423">
                      <a:moveTo>
                        <a:pt x="138" y="423"/>
                      </a:moveTo>
                      <a:lnTo>
                        <a:pt x="0" y="0"/>
                      </a:lnTo>
                      <a:lnTo>
                        <a:pt x="275" y="37"/>
                      </a:lnTo>
                      <a:lnTo>
                        <a:pt x="138" y="423"/>
                      </a:lnTo>
                      <a:close/>
                    </a:path>
                  </a:pathLst>
                </a:custGeom>
                <a:solidFill>
                  <a:srgbClr val="d2cc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253"/>
                <p:cNvSpPr/>
                <p:nvPr/>
              </p:nvSpPr>
              <p:spPr>
                <a:xfrm>
                  <a:off x="3498480" y="3877560"/>
                  <a:ext cx="543240" cy="116640"/>
                </a:xfrm>
                <a:custGeom>
                  <a:avLst/>
                  <a:gdLst/>
                  <a:ahLst/>
                  <a:rect l="l" t="t" r="r" b="b"/>
                  <a:pathLst>
                    <a:path w="2423" h="560">
                      <a:moveTo>
                        <a:pt x="2423" y="560"/>
                      </a:moveTo>
                      <a:lnTo>
                        <a:pt x="0" y="0"/>
                      </a:lnTo>
                      <a:lnTo>
                        <a:pt x="2422" y="550"/>
                      </a:lnTo>
                      <a:lnTo>
                        <a:pt x="2423" y="560"/>
                      </a:lnTo>
                      <a:close/>
                    </a:path>
                  </a:pathLst>
                </a:custGeom>
                <a:solidFill>
                  <a:srgbClr val="e2e5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254"/>
                <p:cNvSpPr/>
                <p:nvPr/>
              </p:nvSpPr>
              <p:spPr>
                <a:xfrm>
                  <a:off x="4045680" y="2849400"/>
                  <a:ext cx="450360" cy="1151280"/>
                </a:xfrm>
                <a:custGeom>
                  <a:avLst/>
                  <a:gdLst/>
                  <a:ahLst/>
                  <a:rect l="l" t="t" r="r" b="b"/>
                  <a:pathLst>
                    <a:path w="2007" h="5528">
                      <a:moveTo>
                        <a:pt x="2007" y="241"/>
                      </a:moveTo>
                      <a:lnTo>
                        <a:pt x="129" y="5528"/>
                      </a:lnTo>
                      <a:lnTo>
                        <a:pt x="13" y="5500"/>
                      </a:lnTo>
                      <a:lnTo>
                        <a:pt x="0" y="5155"/>
                      </a:lnTo>
                      <a:lnTo>
                        <a:pt x="1930" y="0"/>
                      </a:lnTo>
                      <a:lnTo>
                        <a:pt x="2007" y="241"/>
                      </a:lnTo>
                      <a:close/>
                    </a:path>
                  </a:pathLst>
                </a:custGeom>
                <a:solidFill>
                  <a:srgbClr val="e4e4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255"/>
                <p:cNvSpPr/>
                <p:nvPr/>
              </p:nvSpPr>
              <p:spPr>
                <a:xfrm>
                  <a:off x="4470840" y="2849400"/>
                  <a:ext cx="25200" cy="66600"/>
                </a:xfrm>
                <a:custGeom>
                  <a:avLst/>
                  <a:gdLst/>
                  <a:ahLst/>
                  <a:rect l="l" t="t" r="r" b="b"/>
                  <a:pathLst>
                    <a:path w="105" h="317">
                      <a:moveTo>
                        <a:pt x="78" y="317"/>
                      </a:moveTo>
                      <a:lnTo>
                        <a:pt x="0" y="77"/>
                      </a:lnTo>
                      <a:lnTo>
                        <a:pt x="28" y="0"/>
                      </a:lnTo>
                      <a:lnTo>
                        <a:pt x="105" y="241"/>
                      </a:lnTo>
                      <a:lnTo>
                        <a:pt x="78" y="317"/>
                      </a:lnTo>
                      <a:close/>
                    </a:path>
                  </a:pathLst>
                </a:custGeom>
                <a:solidFill>
                  <a:srgbClr val="d2cc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256"/>
                <p:cNvSpPr/>
                <p:nvPr/>
              </p:nvSpPr>
              <p:spPr>
                <a:xfrm>
                  <a:off x="2653560" y="4454280"/>
                  <a:ext cx="1418760" cy="426600"/>
                </a:xfrm>
                <a:custGeom>
                  <a:avLst/>
                  <a:gdLst/>
                  <a:ahLst/>
                  <a:rect l="l" t="t" r="r" b="b"/>
                  <a:pathLst>
                    <a:path w="6331" h="2055">
                      <a:moveTo>
                        <a:pt x="0" y="277"/>
                      </a:moveTo>
                      <a:lnTo>
                        <a:pt x="0" y="0"/>
                      </a:lnTo>
                      <a:lnTo>
                        <a:pt x="6323" y="1659"/>
                      </a:lnTo>
                      <a:lnTo>
                        <a:pt x="6331" y="2055"/>
                      </a:lnTo>
                      <a:lnTo>
                        <a:pt x="0" y="277"/>
                      </a:lnTo>
                      <a:close/>
                    </a:path>
                  </a:pathLst>
                </a:custGeom>
                <a:solidFill>
                  <a:srgbClr val="c4c0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257"/>
                <p:cNvSpPr/>
                <p:nvPr/>
              </p:nvSpPr>
              <p:spPr>
                <a:xfrm>
                  <a:off x="2664720" y="3927600"/>
                  <a:ext cx="2077200" cy="873000"/>
                </a:xfrm>
                <a:custGeom>
                  <a:avLst/>
                  <a:gdLst/>
                  <a:ahLst/>
                  <a:rect l="l" t="t" r="r" b="b"/>
                  <a:pathLst>
                    <a:path w="9264" h="4193">
                      <a:moveTo>
                        <a:pt x="0" y="2526"/>
                      </a:moveTo>
                      <a:lnTo>
                        <a:pt x="2829" y="0"/>
                      </a:lnTo>
                      <a:lnTo>
                        <a:pt x="9264" y="1532"/>
                      </a:lnTo>
                      <a:lnTo>
                        <a:pt x="6265" y="4193"/>
                      </a:lnTo>
                      <a:lnTo>
                        <a:pt x="0" y="2526"/>
                      </a:lnTo>
                      <a:close/>
                    </a:path>
                  </a:pathLst>
                </a:custGeom>
                <a:solidFill>
                  <a:srgbClr val="e2e2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258"/>
                <p:cNvSpPr/>
                <p:nvPr/>
              </p:nvSpPr>
              <p:spPr>
                <a:xfrm>
                  <a:off x="2949840" y="4131000"/>
                  <a:ext cx="104040" cy="86760"/>
                </a:xfrm>
                <a:custGeom>
                  <a:avLst/>
                  <a:gdLst/>
                  <a:ahLst/>
                  <a:rect l="l" t="t" r="r" b="b"/>
                  <a:pathLst>
                    <a:path w="462" h="412">
                      <a:moveTo>
                        <a:pt x="462" y="0"/>
                      </a:moveTo>
                      <a:lnTo>
                        <a:pt x="432" y="33"/>
                      </a:lnTo>
                      <a:lnTo>
                        <a:pt x="0" y="412"/>
                      </a:lnTo>
                      <a:lnTo>
                        <a:pt x="462" y="0"/>
                      </a:lnTo>
                      <a:close/>
                    </a:path>
                  </a:pathLst>
                </a:custGeom>
                <a:solidFill>
                  <a:srgbClr val="bea9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259"/>
                <p:cNvSpPr/>
                <p:nvPr/>
              </p:nvSpPr>
              <p:spPr>
                <a:xfrm>
                  <a:off x="2949840" y="3927600"/>
                  <a:ext cx="351360" cy="290160"/>
                </a:xfrm>
                <a:custGeom>
                  <a:avLst/>
                  <a:gdLst/>
                  <a:ahLst/>
                  <a:rect l="l" t="t" r="r" b="b"/>
                  <a:pathLst>
                    <a:path w="1563" h="1390">
                      <a:moveTo>
                        <a:pt x="1563" y="2"/>
                      </a:moveTo>
                      <a:lnTo>
                        <a:pt x="1490" y="82"/>
                      </a:lnTo>
                      <a:lnTo>
                        <a:pt x="0" y="1390"/>
                      </a:lnTo>
                      <a:lnTo>
                        <a:pt x="1557" y="0"/>
                      </a:lnTo>
                      <a:lnTo>
                        <a:pt x="1563" y="2"/>
                      </a:lnTo>
                      <a:close/>
                    </a:path>
                  </a:pathLst>
                </a:custGeom>
                <a:solidFill>
                  <a:srgbClr val="bfaa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260"/>
                <p:cNvSpPr/>
                <p:nvPr/>
              </p:nvSpPr>
              <p:spPr>
                <a:xfrm>
                  <a:off x="3046680" y="3927600"/>
                  <a:ext cx="255960" cy="209880"/>
                </a:xfrm>
                <a:custGeom>
                  <a:avLst/>
                  <a:gdLst/>
                  <a:ahLst/>
                  <a:rect l="l" t="t" r="r" b="b"/>
                  <a:pathLst>
                    <a:path w="1145" h="1011">
                      <a:moveTo>
                        <a:pt x="0" y="1011"/>
                      </a:moveTo>
                      <a:lnTo>
                        <a:pt x="30" y="978"/>
                      </a:lnTo>
                      <a:lnTo>
                        <a:pt x="1125" y="0"/>
                      </a:lnTo>
                      <a:lnTo>
                        <a:pt x="1145" y="5"/>
                      </a:lnTo>
                      <a:lnTo>
                        <a:pt x="0" y="1011"/>
                      </a:lnTo>
                      <a:close/>
                    </a:path>
                  </a:pathLst>
                </a:custGeom>
                <a:solidFill>
                  <a:srgbClr val="c0ab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261"/>
                <p:cNvSpPr/>
                <p:nvPr/>
              </p:nvSpPr>
              <p:spPr>
                <a:xfrm>
                  <a:off x="3285000" y="3927600"/>
                  <a:ext cx="17640" cy="16560"/>
                </a:xfrm>
                <a:custGeom>
                  <a:avLst/>
                  <a:gdLst/>
                  <a:ahLst/>
                  <a:rect l="l" t="t" r="r" b="b"/>
                  <a:pathLst>
                    <a:path w="87" h="80">
                      <a:moveTo>
                        <a:pt x="0" y="80"/>
                      </a:moveTo>
                      <a:lnTo>
                        <a:pt x="73" y="0"/>
                      </a:lnTo>
                      <a:lnTo>
                        <a:pt x="87" y="3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c2ad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262"/>
                <p:cNvSpPr/>
                <p:nvPr/>
              </p:nvSpPr>
              <p:spPr>
                <a:xfrm>
                  <a:off x="3479040" y="4654440"/>
                  <a:ext cx="591840" cy="146520"/>
                </a:xfrm>
                <a:custGeom>
                  <a:avLst/>
                  <a:gdLst/>
                  <a:ahLst/>
                  <a:rect l="l" t="t" r="r" b="b"/>
                  <a:pathLst>
                    <a:path w="2639" h="701">
                      <a:moveTo>
                        <a:pt x="0" y="0"/>
                      </a:moveTo>
                      <a:lnTo>
                        <a:pt x="2639" y="693"/>
                      </a:lnTo>
                      <a:lnTo>
                        <a:pt x="2639" y="696"/>
                      </a:lnTo>
                      <a:lnTo>
                        <a:pt x="2632" y="70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5b2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263"/>
                <p:cNvSpPr/>
                <p:nvPr/>
              </p:nvSpPr>
              <p:spPr>
                <a:xfrm>
                  <a:off x="2664720" y="3927600"/>
                  <a:ext cx="2077200" cy="873000"/>
                </a:xfrm>
                <a:custGeom>
                  <a:avLst/>
                  <a:gdLst/>
                  <a:ahLst/>
                  <a:rect l="l" t="t" r="r" b="b"/>
                  <a:pathLst>
                    <a:path w="9264" h="4193">
                      <a:moveTo>
                        <a:pt x="0" y="2526"/>
                      </a:moveTo>
                      <a:lnTo>
                        <a:pt x="2829" y="0"/>
                      </a:lnTo>
                      <a:lnTo>
                        <a:pt x="9264" y="1532"/>
                      </a:lnTo>
                      <a:lnTo>
                        <a:pt x="6265" y="4193"/>
                      </a:lnTo>
                      <a:lnTo>
                        <a:pt x="0" y="2526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64"/>
                <p:cNvSpPr/>
                <p:nvPr/>
              </p:nvSpPr>
              <p:spPr>
                <a:xfrm>
                  <a:off x="2664720" y="3927600"/>
                  <a:ext cx="1410120" cy="873000"/>
                </a:xfrm>
                <a:custGeom>
                  <a:avLst/>
                  <a:gdLst/>
                  <a:ahLst/>
                  <a:rect l="l" t="t" r="r" b="b"/>
                  <a:pathLst>
                    <a:path w="6285" h="4193">
                      <a:moveTo>
                        <a:pt x="0" y="2526"/>
                      </a:moveTo>
                      <a:lnTo>
                        <a:pt x="2829" y="0"/>
                      </a:lnTo>
                      <a:lnTo>
                        <a:pt x="6157" y="793"/>
                      </a:lnTo>
                      <a:lnTo>
                        <a:pt x="6285" y="4176"/>
                      </a:lnTo>
                      <a:lnTo>
                        <a:pt x="6265" y="4193"/>
                      </a:lnTo>
                      <a:lnTo>
                        <a:pt x="0" y="2526"/>
                      </a:lnTo>
                      <a:close/>
                    </a:path>
                  </a:pathLst>
                </a:custGeom>
                <a:solidFill>
                  <a:srgbClr val="d0d3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65"/>
                <p:cNvSpPr/>
                <p:nvPr/>
              </p:nvSpPr>
              <p:spPr>
                <a:xfrm>
                  <a:off x="2949840" y="4131000"/>
                  <a:ext cx="104040" cy="86760"/>
                </a:xfrm>
                <a:custGeom>
                  <a:avLst/>
                  <a:gdLst/>
                  <a:ahLst/>
                  <a:rect l="l" t="t" r="r" b="b"/>
                  <a:pathLst>
                    <a:path w="462" h="412">
                      <a:moveTo>
                        <a:pt x="462" y="0"/>
                      </a:moveTo>
                      <a:lnTo>
                        <a:pt x="432" y="33"/>
                      </a:lnTo>
                      <a:lnTo>
                        <a:pt x="0" y="412"/>
                      </a:lnTo>
                      <a:lnTo>
                        <a:pt x="462" y="0"/>
                      </a:lnTo>
                      <a:close/>
                    </a:path>
                  </a:pathLst>
                </a:custGeom>
                <a:solidFill>
                  <a:srgbClr val="c1b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66"/>
                <p:cNvSpPr/>
                <p:nvPr/>
              </p:nvSpPr>
              <p:spPr>
                <a:xfrm>
                  <a:off x="2949840" y="3927600"/>
                  <a:ext cx="351360" cy="290160"/>
                </a:xfrm>
                <a:custGeom>
                  <a:avLst/>
                  <a:gdLst/>
                  <a:ahLst/>
                  <a:rect l="l" t="t" r="r" b="b"/>
                  <a:pathLst>
                    <a:path w="1563" h="1390">
                      <a:moveTo>
                        <a:pt x="1563" y="2"/>
                      </a:moveTo>
                      <a:lnTo>
                        <a:pt x="1490" y="82"/>
                      </a:lnTo>
                      <a:lnTo>
                        <a:pt x="0" y="1390"/>
                      </a:lnTo>
                      <a:lnTo>
                        <a:pt x="1557" y="0"/>
                      </a:lnTo>
                      <a:lnTo>
                        <a:pt x="1563" y="2"/>
                      </a:lnTo>
                      <a:close/>
                    </a:path>
                  </a:pathLst>
                </a:custGeom>
                <a:solidFill>
                  <a:srgbClr val="c2b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67"/>
                <p:cNvSpPr/>
                <p:nvPr/>
              </p:nvSpPr>
              <p:spPr>
                <a:xfrm>
                  <a:off x="3046680" y="3927600"/>
                  <a:ext cx="255960" cy="209880"/>
                </a:xfrm>
                <a:custGeom>
                  <a:avLst/>
                  <a:gdLst/>
                  <a:ahLst/>
                  <a:rect l="l" t="t" r="r" b="b"/>
                  <a:pathLst>
                    <a:path w="1145" h="1011">
                      <a:moveTo>
                        <a:pt x="0" y="1011"/>
                      </a:moveTo>
                      <a:lnTo>
                        <a:pt x="30" y="978"/>
                      </a:lnTo>
                      <a:lnTo>
                        <a:pt x="1125" y="0"/>
                      </a:lnTo>
                      <a:lnTo>
                        <a:pt x="1145" y="5"/>
                      </a:lnTo>
                      <a:lnTo>
                        <a:pt x="0" y="1011"/>
                      </a:lnTo>
                      <a:close/>
                    </a:path>
                  </a:pathLst>
                </a:custGeom>
                <a:solidFill>
                  <a:srgbClr val="c2b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68"/>
                <p:cNvSpPr/>
                <p:nvPr/>
              </p:nvSpPr>
              <p:spPr>
                <a:xfrm>
                  <a:off x="3285000" y="3927600"/>
                  <a:ext cx="17640" cy="16560"/>
                </a:xfrm>
                <a:custGeom>
                  <a:avLst/>
                  <a:gdLst/>
                  <a:ahLst/>
                  <a:rect l="l" t="t" r="r" b="b"/>
                  <a:pathLst>
                    <a:path w="87" h="80">
                      <a:moveTo>
                        <a:pt x="0" y="80"/>
                      </a:moveTo>
                      <a:lnTo>
                        <a:pt x="73" y="0"/>
                      </a:lnTo>
                      <a:lnTo>
                        <a:pt x="87" y="3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c2b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69"/>
                <p:cNvSpPr/>
                <p:nvPr/>
              </p:nvSpPr>
              <p:spPr>
                <a:xfrm>
                  <a:off x="3479040" y="4654440"/>
                  <a:ext cx="591840" cy="146520"/>
                </a:xfrm>
                <a:custGeom>
                  <a:avLst/>
                  <a:gdLst/>
                  <a:ahLst/>
                  <a:rect l="l" t="t" r="r" b="b"/>
                  <a:pathLst>
                    <a:path w="2639" h="701">
                      <a:moveTo>
                        <a:pt x="0" y="0"/>
                      </a:moveTo>
                      <a:lnTo>
                        <a:pt x="2639" y="693"/>
                      </a:lnTo>
                      <a:lnTo>
                        <a:pt x="2639" y="696"/>
                      </a:lnTo>
                      <a:lnTo>
                        <a:pt x="2632" y="70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5b2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70"/>
                <p:cNvSpPr/>
                <p:nvPr/>
              </p:nvSpPr>
              <p:spPr>
                <a:xfrm>
                  <a:off x="2664720" y="3927600"/>
                  <a:ext cx="2077200" cy="873000"/>
                </a:xfrm>
                <a:custGeom>
                  <a:avLst/>
                  <a:gdLst/>
                  <a:ahLst/>
                  <a:rect l="l" t="t" r="r" b="b"/>
                  <a:pathLst>
                    <a:path w="9264" h="4193">
                      <a:moveTo>
                        <a:pt x="0" y="2526"/>
                      </a:moveTo>
                      <a:lnTo>
                        <a:pt x="2829" y="0"/>
                      </a:lnTo>
                      <a:lnTo>
                        <a:pt x="9264" y="1532"/>
                      </a:lnTo>
                      <a:lnTo>
                        <a:pt x="6265" y="4193"/>
                      </a:lnTo>
                      <a:lnTo>
                        <a:pt x="0" y="2526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271"/>
                <p:cNvSpPr/>
                <p:nvPr/>
              </p:nvSpPr>
              <p:spPr>
                <a:xfrm>
                  <a:off x="4051080" y="4094280"/>
                  <a:ext cx="690480" cy="698040"/>
                </a:xfrm>
                <a:custGeom>
                  <a:avLst/>
                  <a:gdLst/>
                  <a:ahLst/>
                  <a:rect l="l" t="t" r="r" b="b"/>
                  <a:pathLst>
                    <a:path w="3074" h="3356">
                      <a:moveTo>
                        <a:pt x="0" y="0"/>
                      </a:moveTo>
                      <a:lnTo>
                        <a:pt x="3074" y="732"/>
                      </a:lnTo>
                      <a:lnTo>
                        <a:pt x="3074" y="738"/>
                      </a:lnTo>
                      <a:lnTo>
                        <a:pt x="122" y="33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7cc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72"/>
                <p:cNvSpPr/>
                <p:nvPr/>
              </p:nvSpPr>
              <p:spPr>
                <a:xfrm>
                  <a:off x="2664720" y="3927600"/>
                  <a:ext cx="2077200" cy="873000"/>
                </a:xfrm>
                <a:custGeom>
                  <a:avLst/>
                  <a:gdLst/>
                  <a:ahLst/>
                  <a:rect l="l" t="t" r="r" b="b"/>
                  <a:pathLst>
                    <a:path w="9264" h="4193">
                      <a:moveTo>
                        <a:pt x="0" y="2526"/>
                      </a:moveTo>
                      <a:lnTo>
                        <a:pt x="2829" y="0"/>
                      </a:lnTo>
                      <a:lnTo>
                        <a:pt x="9264" y="1532"/>
                      </a:lnTo>
                      <a:lnTo>
                        <a:pt x="6265" y="4193"/>
                      </a:lnTo>
                      <a:lnTo>
                        <a:pt x="0" y="2526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273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solidFill>
                  <a:srgbClr val="e2e2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274"/>
                <p:cNvSpPr/>
                <p:nvPr/>
              </p:nvSpPr>
              <p:spPr>
                <a:xfrm>
                  <a:off x="2664720" y="39225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26" y="0"/>
                      </a:moveTo>
                      <a:lnTo>
                        <a:pt x="8" y="21"/>
                      </a:lnTo>
                      <a:lnTo>
                        <a:pt x="0" y="19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b19d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275"/>
                <p:cNvSpPr/>
                <p:nvPr/>
              </p:nvSpPr>
              <p:spPr>
                <a:xfrm>
                  <a:off x="2664720" y="3826080"/>
                  <a:ext cx="148680" cy="109800"/>
                </a:xfrm>
                <a:custGeom>
                  <a:avLst/>
                  <a:gdLst/>
                  <a:ahLst/>
                  <a:rect l="l" t="t" r="r" b="b"/>
                  <a:pathLst>
                    <a:path w="663" h="522">
                      <a:moveTo>
                        <a:pt x="663" y="0"/>
                      </a:moveTo>
                      <a:lnTo>
                        <a:pt x="190" y="522"/>
                      </a:lnTo>
                      <a:lnTo>
                        <a:pt x="0" y="482"/>
                      </a:lnTo>
                      <a:lnTo>
                        <a:pt x="663" y="0"/>
                      </a:lnTo>
                      <a:close/>
                    </a:path>
                  </a:pathLst>
                </a:custGeom>
                <a:solidFill>
                  <a:srgbClr val="b29d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76"/>
                <p:cNvSpPr/>
                <p:nvPr/>
              </p:nvSpPr>
              <p:spPr>
                <a:xfrm>
                  <a:off x="2666160" y="3731040"/>
                  <a:ext cx="290160" cy="213120"/>
                </a:xfrm>
                <a:custGeom>
                  <a:avLst/>
                  <a:gdLst/>
                  <a:ahLst/>
                  <a:rect l="l" t="t" r="r" b="b"/>
                  <a:pathLst>
                    <a:path w="1291" h="1024">
                      <a:moveTo>
                        <a:pt x="0" y="947"/>
                      </a:moveTo>
                      <a:lnTo>
                        <a:pt x="18" y="926"/>
                      </a:lnTo>
                      <a:lnTo>
                        <a:pt x="1291" y="0"/>
                      </a:lnTo>
                      <a:lnTo>
                        <a:pt x="365" y="1024"/>
                      </a:lnTo>
                      <a:lnTo>
                        <a:pt x="0" y="947"/>
                      </a:lnTo>
                      <a:close/>
                    </a:path>
                  </a:pathLst>
                </a:custGeom>
                <a:solidFill>
                  <a:srgbClr val="b39e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277"/>
                <p:cNvSpPr/>
                <p:nvPr/>
              </p:nvSpPr>
              <p:spPr>
                <a:xfrm>
                  <a:off x="2707200" y="3634200"/>
                  <a:ext cx="391320" cy="316440"/>
                </a:xfrm>
                <a:custGeom>
                  <a:avLst/>
                  <a:gdLst/>
                  <a:ahLst/>
                  <a:rect l="l" t="t" r="r" b="b"/>
                  <a:pathLst>
                    <a:path w="1747" h="1526">
                      <a:moveTo>
                        <a:pt x="0" y="1449"/>
                      </a:moveTo>
                      <a:lnTo>
                        <a:pt x="473" y="927"/>
                      </a:lnTo>
                      <a:lnTo>
                        <a:pt x="1747" y="0"/>
                      </a:lnTo>
                      <a:lnTo>
                        <a:pt x="365" y="1526"/>
                      </a:lnTo>
                      <a:lnTo>
                        <a:pt x="0" y="1449"/>
                      </a:lnTo>
                      <a:close/>
                    </a:path>
                  </a:pathLst>
                </a:custGeom>
                <a:solidFill>
                  <a:srgbClr val="b4a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78"/>
                <p:cNvSpPr/>
                <p:nvPr/>
              </p:nvSpPr>
              <p:spPr>
                <a:xfrm>
                  <a:off x="2748600" y="3537720"/>
                  <a:ext cx="493200" cy="421560"/>
                </a:xfrm>
                <a:custGeom>
                  <a:avLst/>
                  <a:gdLst/>
                  <a:ahLst/>
                  <a:rect l="l" t="t" r="r" b="b"/>
                  <a:pathLst>
                    <a:path w="2200" h="2027">
                      <a:moveTo>
                        <a:pt x="0" y="1950"/>
                      </a:moveTo>
                      <a:lnTo>
                        <a:pt x="926" y="926"/>
                      </a:lnTo>
                      <a:lnTo>
                        <a:pt x="2200" y="0"/>
                      </a:lnTo>
                      <a:lnTo>
                        <a:pt x="365" y="2027"/>
                      </a:lnTo>
                      <a:lnTo>
                        <a:pt x="0" y="1950"/>
                      </a:lnTo>
                      <a:close/>
                    </a:path>
                  </a:pathLst>
                </a:custGeom>
                <a:solidFill>
                  <a:srgbClr val="b5a1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79"/>
                <p:cNvSpPr/>
                <p:nvPr/>
              </p:nvSpPr>
              <p:spPr>
                <a:xfrm>
                  <a:off x="2790000" y="3489120"/>
                  <a:ext cx="534600" cy="478080"/>
                </a:xfrm>
                <a:custGeom>
                  <a:avLst/>
                  <a:gdLst/>
                  <a:ahLst/>
                  <a:rect l="l" t="t" r="r" b="b"/>
                  <a:pathLst>
                    <a:path w="2389" h="2298">
                      <a:moveTo>
                        <a:pt x="0" y="2221"/>
                      </a:moveTo>
                      <a:lnTo>
                        <a:pt x="1382" y="695"/>
                      </a:lnTo>
                      <a:lnTo>
                        <a:pt x="2338" y="0"/>
                      </a:lnTo>
                      <a:lnTo>
                        <a:pt x="2389" y="7"/>
                      </a:lnTo>
                      <a:lnTo>
                        <a:pt x="2389" y="64"/>
                      </a:lnTo>
                      <a:lnTo>
                        <a:pt x="366" y="2298"/>
                      </a:lnTo>
                      <a:lnTo>
                        <a:pt x="0" y="2221"/>
                      </a:lnTo>
                      <a:close/>
                    </a:path>
                  </a:pathLst>
                </a:custGeom>
                <a:solidFill>
                  <a:srgbClr val="b7a2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80"/>
                <p:cNvSpPr/>
                <p:nvPr/>
              </p:nvSpPr>
              <p:spPr>
                <a:xfrm>
                  <a:off x="2829240" y="3489120"/>
                  <a:ext cx="495000" cy="486720"/>
                </a:xfrm>
                <a:custGeom>
                  <a:avLst/>
                  <a:gdLst/>
                  <a:ahLst/>
                  <a:rect l="l" t="t" r="r" b="b"/>
                  <a:pathLst>
                    <a:path w="2206" h="2337">
                      <a:moveTo>
                        <a:pt x="0" y="2260"/>
                      </a:moveTo>
                      <a:lnTo>
                        <a:pt x="1835" y="233"/>
                      </a:lnTo>
                      <a:lnTo>
                        <a:pt x="2155" y="0"/>
                      </a:lnTo>
                      <a:lnTo>
                        <a:pt x="2206" y="7"/>
                      </a:lnTo>
                      <a:lnTo>
                        <a:pt x="2206" y="304"/>
                      </a:lnTo>
                      <a:lnTo>
                        <a:pt x="365" y="2337"/>
                      </a:lnTo>
                      <a:lnTo>
                        <a:pt x="0" y="2260"/>
                      </a:lnTo>
                      <a:close/>
                    </a:path>
                  </a:pathLst>
                </a:custGeom>
                <a:solidFill>
                  <a:srgbClr val="b8a3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81"/>
                <p:cNvSpPr/>
                <p:nvPr/>
              </p:nvSpPr>
              <p:spPr>
                <a:xfrm>
                  <a:off x="2871000" y="3502800"/>
                  <a:ext cx="453600" cy="481320"/>
                </a:xfrm>
                <a:custGeom>
                  <a:avLst/>
                  <a:gdLst/>
                  <a:ahLst/>
                  <a:rect l="l" t="t" r="r" b="b"/>
                  <a:pathLst>
                    <a:path w="2023" h="2311">
                      <a:moveTo>
                        <a:pt x="0" y="2234"/>
                      </a:moveTo>
                      <a:lnTo>
                        <a:pt x="2023" y="0"/>
                      </a:lnTo>
                      <a:lnTo>
                        <a:pt x="2023" y="481"/>
                      </a:lnTo>
                      <a:lnTo>
                        <a:pt x="365" y="2311"/>
                      </a:lnTo>
                      <a:lnTo>
                        <a:pt x="0" y="2234"/>
                      </a:lnTo>
                      <a:close/>
                    </a:path>
                  </a:pathLst>
                </a:custGeom>
                <a:solidFill>
                  <a:srgbClr val="b9a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282"/>
                <p:cNvSpPr/>
                <p:nvPr/>
              </p:nvSpPr>
              <p:spPr>
                <a:xfrm>
                  <a:off x="2912040" y="3552840"/>
                  <a:ext cx="412200" cy="438120"/>
                </a:xfrm>
                <a:custGeom>
                  <a:avLst/>
                  <a:gdLst/>
                  <a:ahLst/>
                  <a:rect l="l" t="t" r="r" b="b"/>
                  <a:pathLst>
                    <a:path w="1841" h="2110">
                      <a:moveTo>
                        <a:pt x="0" y="2033"/>
                      </a:moveTo>
                      <a:lnTo>
                        <a:pt x="1841" y="0"/>
                      </a:lnTo>
                      <a:lnTo>
                        <a:pt x="1841" y="481"/>
                      </a:lnTo>
                      <a:lnTo>
                        <a:pt x="365" y="2110"/>
                      </a:lnTo>
                      <a:lnTo>
                        <a:pt x="0" y="2033"/>
                      </a:lnTo>
                      <a:close/>
                    </a:path>
                  </a:pathLst>
                </a:custGeom>
                <a:solidFill>
                  <a:srgbClr val="baa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283"/>
                <p:cNvSpPr/>
                <p:nvPr/>
              </p:nvSpPr>
              <p:spPr>
                <a:xfrm>
                  <a:off x="2953440" y="3602520"/>
                  <a:ext cx="370800" cy="396720"/>
                </a:xfrm>
                <a:custGeom>
                  <a:avLst/>
                  <a:gdLst/>
                  <a:ahLst/>
                  <a:rect l="l" t="t" r="r" b="b"/>
                  <a:pathLst>
                    <a:path w="1658" h="1909">
                      <a:moveTo>
                        <a:pt x="0" y="1830"/>
                      </a:moveTo>
                      <a:lnTo>
                        <a:pt x="1658" y="0"/>
                      </a:lnTo>
                      <a:lnTo>
                        <a:pt x="1658" y="480"/>
                      </a:lnTo>
                      <a:lnTo>
                        <a:pt x="365" y="1909"/>
                      </a:lnTo>
                      <a:lnTo>
                        <a:pt x="0" y="1830"/>
                      </a:lnTo>
                      <a:close/>
                    </a:path>
                  </a:pathLst>
                </a:custGeom>
                <a:solidFill>
                  <a:srgbClr val="bba6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284"/>
                <p:cNvSpPr/>
                <p:nvPr/>
              </p:nvSpPr>
              <p:spPr>
                <a:xfrm>
                  <a:off x="2994480" y="3652920"/>
                  <a:ext cx="329760" cy="354600"/>
                </a:xfrm>
                <a:custGeom>
                  <a:avLst/>
                  <a:gdLst/>
                  <a:ahLst/>
                  <a:rect l="l" t="t" r="r" b="b"/>
                  <a:pathLst>
                    <a:path w="1476" h="1707">
                      <a:moveTo>
                        <a:pt x="0" y="1629"/>
                      </a:moveTo>
                      <a:lnTo>
                        <a:pt x="1476" y="0"/>
                      </a:lnTo>
                      <a:lnTo>
                        <a:pt x="1476" y="481"/>
                      </a:lnTo>
                      <a:lnTo>
                        <a:pt x="365" y="1707"/>
                      </a:lnTo>
                      <a:lnTo>
                        <a:pt x="0" y="1629"/>
                      </a:lnTo>
                      <a:close/>
                    </a:path>
                  </a:pathLst>
                </a:custGeom>
                <a:solidFill>
                  <a:srgbClr val="bca8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85"/>
                <p:cNvSpPr/>
                <p:nvPr/>
              </p:nvSpPr>
              <p:spPr>
                <a:xfrm>
                  <a:off x="3035520" y="3702600"/>
                  <a:ext cx="288720" cy="313200"/>
                </a:xfrm>
                <a:custGeom>
                  <a:avLst/>
                  <a:gdLst/>
                  <a:ahLst/>
                  <a:rect l="l" t="t" r="r" b="b"/>
                  <a:pathLst>
                    <a:path w="1293" h="1506">
                      <a:moveTo>
                        <a:pt x="0" y="1429"/>
                      </a:moveTo>
                      <a:lnTo>
                        <a:pt x="1293" y="0"/>
                      </a:lnTo>
                      <a:lnTo>
                        <a:pt x="1293" y="481"/>
                      </a:lnTo>
                      <a:lnTo>
                        <a:pt x="365" y="1506"/>
                      </a:lnTo>
                      <a:lnTo>
                        <a:pt x="0" y="1429"/>
                      </a:lnTo>
                      <a:close/>
                    </a:path>
                  </a:pathLst>
                </a:custGeom>
                <a:solidFill>
                  <a:srgbClr val="bda8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286"/>
                <p:cNvSpPr/>
                <p:nvPr/>
              </p:nvSpPr>
              <p:spPr>
                <a:xfrm>
                  <a:off x="3075120" y="3752640"/>
                  <a:ext cx="249120" cy="271440"/>
                </a:xfrm>
                <a:custGeom>
                  <a:avLst/>
                  <a:gdLst/>
                  <a:ahLst/>
                  <a:rect l="l" t="t" r="r" b="b"/>
                  <a:pathLst>
                    <a:path w="1111" h="1303">
                      <a:moveTo>
                        <a:pt x="0" y="1226"/>
                      </a:moveTo>
                      <a:lnTo>
                        <a:pt x="1111" y="0"/>
                      </a:lnTo>
                      <a:lnTo>
                        <a:pt x="1111" y="480"/>
                      </a:lnTo>
                      <a:lnTo>
                        <a:pt x="366" y="1303"/>
                      </a:lnTo>
                      <a:lnTo>
                        <a:pt x="0" y="1226"/>
                      </a:lnTo>
                      <a:close/>
                    </a:path>
                  </a:pathLst>
                </a:custGeom>
                <a:solidFill>
                  <a:srgbClr val="bea9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87"/>
                <p:cNvSpPr/>
                <p:nvPr/>
              </p:nvSpPr>
              <p:spPr>
                <a:xfrm>
                  <a:off x="3116520" y="3802680"/>
                  <a:ext cx="207720" cy="226440"/>
                </a:xfrm>
                <a:custGeom>
                  <a:avLst/>
                  <a:gdLst/>
                  <a:ahLst/>
                  <a:rect l="l" t="t" r="r" b="b"/>
                  <a:pathLst>
                    <a:path w="928" h="1085">
                      <a:moveTo>
                        <a:pt x="0" y="1025"/>
                      </a:moveTo>
                      <a:lnTo>
                        <a:pt x="928" y="0"/>
                      </a:lnTo>
                      <a:lnTo>
                        <a:pt x="928" y="481"/>
                      </a:lnTo>
                      <a:lnTo>
                        <a:pt x="746" y="680"/>
                      </a:lnTo>
                      <a:lnTo>
                        <a:pt x="286" y="1085"/>
                      </a:lnTo>
                      <a:lnTo>
                        <a:pt x="0" y="1025"/>
                      </a:lnTo>
                      <a:close/>
                    </a:path>
                  </a:pathLst>
                </a:custGeom>
                <a:solidFill>
                  <a:srgbClr val="bfaa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88"/>
                <p:cNvSpPr/>
                <p:nvPr/>
              </p:nvSpPr>
              <p:spPr>
                <a:xfrm>
                  <a:off x="3157560" y="3852720"/>
                  <a:ext cx="166680" cy="176400"/>
                </a:xfrm>
                <a:custGeom>
                  <a:avLst/>
                  <a:gdLst/>
                  <a:ahLst/>
                  <a:rect l="l" t="t" r="r" b="b"/>
                  <a:pathLst>
                    <a:path w="745" h="845">
                      <a:moveTo>
                        <a:pt x="0" y="823"/>
                      </a:moveTo>
                      <a:lnTo>
                        <a:pt x="745" y="0"/>
                      </a:lnTo>
                      <a:lnTo>
                        <a:pt x="745" y="281"/>
                      </a:lnTo>
                      <a:lnTo>
                        <a:pt x="103" y="845"/>
                      </a:lnTo>
                      <a:lnTo>
                        <a:pt x="0" y="823"/>
                      </a:lnTo>
                      <a:close/>
                    </a:path>
                  </a:pathLst>
                </a:custGeom>
                <a:solidFill>
                  <a:srgbClr val="c0ab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89"/>
                <p:cNvSpPr/>
                <p:nvPr/>
              </p:nvSpPr>
              <p:spPr>
                <a:xfrm>
                  <a:off x="3285000" y="3902760"/>
                  <a:ext cx="39240" cy="41400"/>
                </a:xfrm>
                <a:custGeom>
                  <a:avLst/>
                  <a:gdLst/>
                  <a:ahLst/>
                  <a:rect l="l" t="t" r="r" b="b"/>
                  <a:pathLst>
                    <a:path w="182" h="199">
                      <a:moveTo>
                        <a:pt x="0" y="199"/>
                      </a:moveTo>
                      <a:lnTo>
                        <a:pt x="182" y="0"/>
                      </a:lnTo>
                      <a:lnTo>
                        <a:pt x="182" y="40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c2ad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290"/>
                <p:cNvSpPr/>
                <p:nvPr/>
              </p:nvSpPr>
              <p:spPr>
                <a:xfrm>
                  <a:off x="3177720" y="3927600"/>
                  <a:ext cx="990000" cy="191520"/>
                </a:xfrm>
                <a:custGeom>
                  <a:avLst/>
                  <a:gdLst/>
                  <a:ahLst/>
                  <a:rect l="l" t="t" r="r" b="b"/>
                  <a:pathLst>
                    <a:path w="4415" h="922">
                      <a:moveTo>
                        <a:pt x="0" y="483"/>
                      </a:moveTo>
                      <a:lnTo>
                        <a:pt x="541" y="0"/>
                      </a:lnTo>
                      <a:lnTo>
                        <a:pt x="4415" y="922"/>
                      </a:lnTo>
                    </a:path>
                  </a:pathLst>
                </a:custGeom>
                <a:noFill/>
                <a:ln w="0">
                  <a:solidFill>
                    <a:srgbClr val="9594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91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92"/>
                <p:cNvSpPr/>
                <p:nvPr/>
              </p:nvSpPr>
              <p:spPr>
                <a:xfrm>
                  <a:off x="2664720" y="3755880"/>
                  <a:ext cx="1384920" cy="443160"/>
                </a:xfrm>
                <a:custGeom>
                  <a:avLst/>
                  <a:gdLst/>
                  <a:ahLst/>
                  <a:rect l="l" t="t" r="r" b="b"/>
                  <a:pathLst>
                    <a:path w="6177" h="2129">
                      <a:moveTo>
                        <a:pt x="0" y="824"/>
                      </a:moveTo>
                      <a:lnTo>
                        <a:pt x="1133" y="0"/>
                      </a:lnTo>
                      <a:lnTo>
                        <a:pt x="6139" y="1138"/>
                      </a:lnTo>
                      <a:lnTo>
                        <a:pt x="6177" y="2129"/>
                      </a:lnTo>
                      <a:lnTo>
                        <a:pt x="0" y="824"/>
                      </a:lnTo>
                      <a:close/>
                    </a:path>
                  </a:pathLst>
                </a:custGeom>
                <a:solidFill>
                  <a:srgbClr val="d0d3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93"/>
                <p:cNvSpPr/>
                <p:nvPr/>
              </p:nvSpPr>
              <p:spPr>
                <a:xfrm>
                  <a:off x="2664720" y="39225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26" y="0"/>
                      </a:moveTo>
                      <a:lnTo>
                        <a:pt x="8" y="21"/>
                      </a:lnTo>
                      <a:lnTo>
                        <a:pt x="0" y="19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bfbb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94"/>
                <p:cNvSpPr/>
                <p:nvPr/>
              </p:nvSpPr>
              <p:spPr>
                <a:xfrm>
                  <a:off x="2664720" y="3826080"/>
                  <a:ext cx="148680" cy="109800"/>
                </a:xfrm>
                <a:custGeom>
                  <a:avLst/>
                  <a:gdLst/>
                  <a:ahLst/>
                  <a:rect l="l" t="t" r="r" b="b"/>
                  <a:pathLst>
                    <a:path w="663" h="522">
                      <a:moveTo>
                        <a:pt x="663" y="0"/>
                      </a:moveTo>
                      <a:lnTo>
                        <a:pt x="190" y="522"/>
                      </a:lnTo>
                      <a:lnTo>
                        <a:pt x="0" y="482"/>
                      </a:lnTo>
                      <a:lnTo>
                        <a:pt x="663" y="0"/>
                      </a:lnTo>
                      <a:close/>
                    </a:path>
                  </a:pathLst>
                </a:custGeom>
                <a:solidFill>
                  <a:srgbClr val="bfbb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95"/>
                <p:cNvSpPr/>
                <p:nvPr/>
              </p:nvSpPr>
              <p:spPr>
                <a:xfrm>
                  <a:off x="2666160" y="3755880"/>
                  <a:ext cx="263520" cy="187920"/>
                </a:xfrm>
                <a:custGeom>
                  <a:avLst/>
                  <a:gdLst/>
                  <a:ahLst/>
                  <a:rect l="l" t="t" r="r" b="b"/>
                  <a:pathLst>
                    <a:path w="1172" h="903">
                      <a:moveTo>
                        <a:pt x="0" y="826"/>
                      </a:moveTo>
                      <a:lnTo>
                        <a:pt x="18" y="805"/>
                      </a:lnTo>
                      <a:lnTo>
                        <a:pt x="1125" y="0"/>
                      </a:lnTo>
                      <a:lnTo>
                        <a:pt x="1172" y="10"/>
                      </a:lnTo>
                      <a:lnTo>
                        <a:pt x="365" y="903"/>
                      </a:lnTo>
                      <a:lnTo>
                        <a:pt x="0" y="826"/>
                      </a:lnTo>
                      <a:close/>
                    </a:path>
                  </a:pathLst>
                </a:custGeom>
                <a:solidFill>
                  <a:srgbClr val="bfbb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96"/>
                <p:cNvSpPr/>
                <p:nvPr/>
              </p:nvSpPr>
              <p:spPr>
                <a:xfrm>
                  <a:off x="2707200" y="3755880"/>
                  <a:ext cx="261720" cy="194760"/>
                </a:xfrm>
                <a:custGeom>
                  <a:avLst/>
                  <a:gdLst/>
                  <a:ahLst/>
                  <a:rect l="l" t="t" r="r" b="b"/>
                  <a:pathLst>
                    <a:path w="1171" h="941">
                      <a:moveTo>
                        <a:pt x="0" y="864"/>
                      </a:moveTo>
                      <a:lnTo>
                        <a:pt x="473" y="342"/>
                      </a:lnTo>
                      <a:lnTo>
                        <a:pt x="943" y="0"/>
                      </a:lnTo>
                      <a:lnTo>
                        <a:pt x="1171" y="51"/>
                      </a:lnTo>
                      <a:lnTo>
                        <a:pt x="365" y="941"/>
                      </a:lnTo>
                      <a:lnTo>
                        <a:pt x="0" y="864"/>
                      </a:lnTo>
                      <a:close/>
                    </a:path>
                  </a:pathLst>
                </a:custGeom>
                <a:solidFill>
                  <a:srgbClr val="bfbb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97"/>
                <p:cNvSpPr/>
                <p:nvPr/>
              </p:nvSpPr>
              <p:spPr>
                <a:xfrm>
                  <a:off x="2748600" y="3757680"/>
                  <a:ext cx="261720" cy="201600"/>
                </a:xfrm>
                <a:custGeom>
                  <a:avLst/>
                  <a:gdLst/>
                  <a:ahLst/>
                  <a:rect l="l" t="t" r="r" b="b"/>
                  <a:pathLst>
                    <a:path w="1168" h="970">
                      <a:moveTo>
                        <a:pt x="0" y="893"/>
                      </a:moveTo>
                      <a:lnTo>
                        <a:pt x="807" y="0"/>
                      </a:lnTo>
                      <a:lnTo>
                        <a:pt x="1168" y="82"/>
                      </a:lnTo>
                      <a:lnTo>
                        <a:pt x="365" y="970"/>
                      </a:lnTo>
                      <a:lnTo>
                        <a:pt x="0" y="893"/>
                      </a:lnTo>
                      <a:close/>
                    </a:path>
                  </a:pathLst>
                </a:custGeom>
                <a:solidFill>
                  <a:srgbClr val="c0bc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98"/>
                <p:cNvSpPr/>
                <p:nvPr/>
              </p:nvSpPr>
              <p:spPr>
                <a:xfrm>
                  <a:off x="2790000" y="3765960"/>
                  <a:ext cx="260280" cy="201600"/>
                </a:xfrm>
                <a:custGeom>
                  <a:avLst/>
                  <a:gdLst/>
                  <a:ahLst/>
                  <a:rect l="l" t="t" r="r" b="b"/>
                  <a:pathLst>
                    <a:path w="1166" h="967">
                      <a:moveTo>
                        <a:pt x="0" y="890"/>
                      </a:moveTo>
                      <a:lnTo>
                        <a:pt x="806" y="0"/>
                      </a:lnTo>
                      <a:lnTo>
                        <a:pt x="1166" y="83"/>
                      </a:lnTo>
                      <a:lnTo>
                        <a:pt x="366" y="967"/>
                      </a:lnTo>
                      <a:lnTo>
                        <a:pt x="0" y="890"/>
                      </a:lnTo>
                      <a:close/>
                    </a:path>
                  </a:pathLst>
                </a:custGeom>
                <a:solidFill>
                  <a:srgbClr val="c0bc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99"/>
                <p:cNvSpPr/>
                <p:nvPr/>
              </p:nvSpPr>
              <p:spPr>
                <a:xfrm>
                  <a:off x="2829240" y="3774600"/>
                  <a:ext cx="261720" cy="201240"/>
                </a:xfrm>
                <a:custGeom>
                  <a:avLst/>
                  <a:gdLst/>
                  <a:ahLst/>
                  <a:rect l="l" t="t" r="r" b="b"/>
                  <a:pathLst>
                    <a:path w="1163" h="965">
                      <a:moveTo>
                        <a:pt x="0" y="888"/>
                      </a:moveTo>
                      <a:lnTo>
                        <a:pt x="803" y="0"/>
                      </a:lnTo>
                      <a:lnTo>
                        <a:pt x="1163" y="83"/>
                      </a:lnTo>
                      <a:lnTo>
                        <a:pt x="365" y="965"/>
                      </a:lnTo>
                      <a:lnTo>
                        <a:pt x="0" y="888"/>
                      </a:lnTo>
                      <a:close/>
                    </a:path>
                  </a:pathLst>
                </a:custGeom>
                <a:solidFill>
                  <a:srgbClr val="c0bc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300"/>
                <p:cNvSpPr/>
                <p:nvPr/>
              </p:nvSpPr>
              <p:spPr>
                <a:xfrm>
                  <a:off x="2871000" y="3784320"/>
                  <a:ext cx="259920" cy="199800"/>
                </a:xfrm>
                <a:custGeom>
                  <a:avLst/>
                  <a:gdLst/>
                  <a:ahLst/>
                  <a:rect l="l" t="t" r="r" b="b"/>
                  <a:pathLst>
                    <a:path w="1161" h="961">
                      <a:moveTo>
                        <a:pt x="0" y="884"/>
                      </a:moveTo>
                      <a:lnTo>
                        <a:pt x="800" y="0"/>
                      </a:lnTo>
                      <a:lnTo>
                        <a:pt x="1161" y="82"/>
                      </a:lnTo>
                      <a:lnTo>
                        <a:pt x="365" y="961"/>
                      </a:lnTo>
                      <a:lnTo>
                        <a:pt x="0" y="884"/>
                      </a:lnTo>
                      <a:close/>
                    </a:path>
                  </a:pathLst>
                </a:custGeom>
                <a:solidFill>
                  <a:srgbClr val="c0b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301"/>
                <p:cNvSpPr/>
                <p:nvPr/>
              </p:nvSpPr>
              <p:spPr>
                <a:xfrm>
                  <a:off x="2912040" y="3792600"/>
                  <a:ext cx="260280" cy="198360"/>
                </a:xfrm>
                <a:custGeom>
                  <a:avLst/>
                  <a:gdLst/>
                  <a:ahLst/>
                  <a:rect l="l" t="t" r="r" b="b"/>
                  <a:pathLst>
                    <a:path w="1159" h="959">
                      <a:moveTo>
                        <a:pt x="0" y="882"/>
                      </a:moveTo>
                      <a:lnTo>
                        <a:pt x="798" y="0"/>
                      </a:lnTo>
                      <a:lnTo>
                        <a:pt x="1159" y="81"/>
                      </a:lnTo>
                      <a:lnTo>
                        <a:pt x="365" y="959"/>
                      </a:lnTo>
                      <a:lnTo>
                        <a:pt x="0" y="882"/>
                      </a:lnTo>
                      <a:close/>
                    </a:path>
                  </a:pathLst>
                </a:custGeom>
                <a:solidFill>
                  <a:srgbClr val="c0b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302"/>
                <p:cNvSpPr/>
                <p:nvPr/>
              </p:nvSpPr>
              <p:spPr>
                <a:xfrm>
                  <a:off x="2953440" y="3800880"/>
                  <a:ext cx="259920" cy="198360"/>
                </a:xfrm>
                <a:custGeom>
                  <a:avLst/>
                  <a:gdLst/>
                  <a:ahLst/>
                  <a:rect l="l" t="t" r="r" b="b"/>
                  <a:pathLst>
                    <a:path w="1156" h="958">
                      <a:moveTo>
                        <a:pt x="0" y="879"/>
                      </a:moveTo>
                      <a:lnTo>
                        <a:pt x="796" y="0"/>
                      </a:lnTo>
                      <a:lnTo>
                        <a:pt x="1156" y="81"/>
                      </a:lnTo>
                      <a:lnTo>
                        <a:pt x="365" y="958"/>
                      </a:lnTo>
                      <a:lnTo>
                        <a:pt x="0" y="879"/>
                      </a:lnTo>
                      <a:close/>
                    </a:path>
                  </a:pathLst>
                </a:custGeom>
                <a:solidFill>
                  <a:srgbClr val="c1b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303"/>
                <p:cNvSpPr/>
                <p:nvPr/>
              </p:nvSpPr>
              <p:spPr>
                <a:xfrm>
                  <a:off x="2994480" y="3809160"/>
                  <a:ext cx="258120" cy="198360"/>
                </a:xfrm>
                <a:custGeom>
                  <a:avLst/>
                  <a:gdLst/>
                  <a:ahLst/>
                  <a:rect l="l" t="t" r="r" b="b"/>
                  <a:pathLst>
                    <a:path w="1156" h="956">
                      <a:moveTo>
                        <a:pt x="0" y="878"/>
                      </a:moveTo>
                      <a:lnTo>
                        <a:pt x="794" y="0"/>
                      </a:lnTo>
                      <a:lnTo>
                        <a:pt x="1156" y="82"/>
                      </a:lnTo>
                      <a:lnTo>
                        <a:pt x="365" y="956"/>
                      </a:lnTo>
                      <a:lnTo>
                        <a:pt x="0" y="878"/>
                      </a:lnTo>
                      <a:close/>
                    </a:path>
                  </a:pathLst>
                </a:custGeom>
                <a:solidFill>
                  <a:srgbClr val="c1b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304"/>
                <p:cNvSpPr/>
                <p:nvPr/>
              </p:nvSpPr>
              <p:spPr>
                <a:xfrm>
                  <a:off x="3035520" y="3817800"/>
                  <a:ext cx="258120" cy="198360"/>
                </a:xfrm>
                <a:custGeom>
                  <a:avLst/>
                  <a:gdLst/>
                  <a:ahLst/>
                  <a:rect l="l" t="t" r="r" b="b"/>
                  <a:pathLst>
                    <a:path w="1153" h="954">
                      <a:moveTo>
                        <a:pt x="0" y="877"/>
                      </a:moveTo>
                      <a:lnTo>
                        <a:pt x="791" y="0"/>
                      </a:lnTo>
                      <a:lnTo>
                        <a:pt x="1153" y="83"/>
                      </a:lnTo>
                      <a:lnTo>
                        <a:pt x="365" y="954"/>
                      </a:lnTo>
                      <a:lnTo>
                        <a:pt x="0" y="877"/>
                      </a:lnTo>
                      <a:close/>
                    </a:path>
                  </a:pathLst>
                </a:custGeom>
                <a:solidFill>
                  <a:srgbClr val="c1b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305"/>
                <p:cNvSpPr/>
                <p:nvPr/>
              </p:nvSpPr>
              <p:spPr>
                <a:xfrm>
                  <a:off x="3075120" y="3826080"/>
                  <a:ext cx="249120" cy="198360"/>
                </a:xfrm>
                <a:custGeom>
                  <a:avLst/>
                  <a:gdLst/>
                  <a:ahLst/>
                  <a:rect l="l" t="t" r="r" b="b"/>
                  <a:pathLst>
                    <a:path w="1111" h="951">
                      <a:moveTo>
                        <a:pt x="0" y="874"/>
                      </a:moveTo>
                      <a:lnTo>
                        <a:pt x="791" y="0"/>
                      </a:lnTo>
                      <a:lnTo>
                        <a:pt x="1111" y="74"/>
                      </a:lnTo>
                      <a:lnTo>
                        <a:pt x="1111" y="128"/>
                      </a:lnTo>
                      <a:lnTo>
                        <a:pt x="366" y="951"/>
                      </a:lnTo>
                      <a:lnTo>
                        <a:pt x="0" y="874"/>
                      </a:lnTo>
                      <a:close/>
                    </a:path>
                  </a:pathLst>
                </a:custGeom>
                <a:solidFill>
                  <a:srgbClr val="c1b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306"/>
                <p:cNvSpPr/>
                <p:nvPr/>
              </p:nvSpPr>
              <p:spPr>
                <a:xfrm>
                  <a:off x="3116520" y="3834360"/>
                  <a:ext cx="207720" cy="194760"/>
                </a:xfrm>
                <a:custGeom>
                  <a:avLst/>
                  <a:gdLst/>
                  <a:ahLst/>
                  <a:rect l="l" t="t" r="r" b="b"/>
                  <a:pathLst>
                    <a:path w="928" h="931">
                      <a:moveTo>
                        <a:pt x="0" y="871"/>
                      </a:moveTo>
                      <a:lnTo>
                        <a:pt x="788" y="0"/>
                      </a:lnTo>
                      <a:lnTo>
                        <a:pt x="928" y="32"/>
                      </a:lnTo>
                      <a:lnTo>
                        <a:pt x="928" y="327"/>
                      </a:lnTo>
                      <a:lnTo>
                        <a:pt x="746" y="526"/>
                      </a:lnTo>
                      <a:lnTo>
                        <a:pt x="286" y="931"/>
                      </a:lnTo>
                      <a:lnTo>
                        <a:pt x="0" y="871"/>
                      </a:lnTo>
                      <a:close/>
                    </a:path>
                  </a:pathLst>
                </a:custGeom>
                <a:solidFill>
                  <a:srgbClr val="c2b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307"/>
                <p:cNvSpPr/>
                <p:nvPr/>
              </p:nvSpPr>
              <p:spPr>
                <a:xfrm>
                  <a:off x="3157560" y="3852720"/>
                  <a:ext cx="166680" cy="176400"/>
                </a:xfrm>
                <a:custGeom>
                  <a:avLst/>
                  <a:gdLst/>
                  <a:ahLst/>
                  <a:rect l="l" t="t" r="r" b="b"/>
                  <a:pathLst>
                    <a:path w="745" h="845">
                      <a:moveTo>
                        <a:pt x="0" y="823"/>
                      </a:moveTo>
                      <a:lnTo>
                        <a:pt x="745" y="0"/>
                      </a:lnTo>
                      <a:lnTo>
                        <a:pt x="745" y="281"/>
                      </a:lnTo>
                      <a:lnTo>
                        <a:pt x="103" y="845"/>
                      </a:lnTo>
                      <a:lnTo>
                        <a:pt x="0" y="823"/>
                      </a:lnTo>
                      <a:close/>
                    </a:path>
                  </a:pathLst>
                </a:custGeom>
                <a:solidFill>
                  <a:srgbClr val="c2b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308"/>
                <p:cNvSpPr/>
                <p:nvPr/>
              </p:nvSpPr>
              <p:spPr>
                <a:xfrm>
                  <a:off x="3285000" y="3902760"/>
                  <a:ext cx="39240" cy="41400"/>
                </a:xfrm>
                <a:custGeom>
                  <a:avLst/>
                  <a:gdLst/>
                  <a:ahLst/>
                  <a:rect l="l" t="t" r="r" b="b"/>
                  <a:pathLst>
                    <a:path w="182" h="199">
                      <a:moveTo>
                        <a:pt x="0" y="199"/>
                      </a:moveTo>
                      <a:lnTo>
                        <a:pt x="182" y="0"/>
                      </a:lnTo>
                      <a:lnTo>
                        <a:pt x="182" y="40"/>
                      </a:lnTo>
                      <a:lnTo>
                        <a:pt x="0" y="199"/>
                      </a:lnTo>
                      <a:close/>
                    </a:path>
                  </a:pathLst>
                </a:custGeom>
                <a:solidFill>
                  <a:srgbClr val="c2b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309"/>
                <p:cNvSpPr/>
                <p:nvPr/>
              </p:nvSpPr>
              <p:spPr>
                <a:xfrm>
                  <a:off x="3177720" y="3927600"/>
                  <a:ext cx="867960" cy="164880"/>
                </a:xfrm>
                <a:custGeom>
                  <a:avLst/>
                  <a:gdLst/>
                  <a:ahLst/>
                  <a:rect l="l" t="t" r="r" b="b"/>
                  <a:pathLst>
                    <a:path w="3869" h="793">
                      <a:moveTo>
                        <a:pt x="0" y="483"/>
                      </a:moveTo>
                      <a:lnTo>
                        <a:pt x="541" y="0"/>
                      </a:lnTo>
                      <a:lnTo>
                        <a:pt x="3869" y="793"/>
                      </a:lnTo>
                    </a:path>
                  </a:pathLst>
                </a:custGeom>
                <a:noFill/>
                <a:ln w="0">
                  <a:solidFill>
                    <a:srgbClr val="9594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310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11"/>
                <p:cNvSpPr/>
                <p:nvPr/>
              </p:nvSpPr>
              <p:spPr>
                <a:xfrm>
                  <a:off x="4045680" y="3606120"/>
                  <a:ext cx="695880" cy="594720"/>
                </a:xfrm>
                <a:custGeom>
                  <a:avLst/>
                  <a:gdLst/>
                  <a:ahLst/>
                  <a:rect l="l" t="t" r="r" b="b"/>
                  <a:pathLst>
                    <a:path w="3104" h="2853">
                      <a:moveTo>
                        <a:pt x="571" y="0"/>
                      </a:moveTo>
                      <a:lnTo>
                        <a:pt x="3104" y="373"/>
                      </a:lnTo>
                      <a:lnTo>
                        <a:pt x="3104" y="409"/>
                      </a:lnTo>
                      <a:lnTo>
                        <a:pt x="59" y="2853"/>
                      </a:lnTo>
                      <a:lnTo>
                        <a:pt x="48" y="2851"/>
                      </a:lnTo>
                      <a:lnTo>
                        <a:pt x="0" y="1525"/>
                      </a:lnTo>
                      <a:lnTo>
                        <a:pt x="571" y="0"/>
                      </a:lnTo>
                      <a:close/>
                    </a:path>
                  </a:pathLst>
                </a:custGeom>
                <a:solidFill>
                  <a:srgbClr val="d7cc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12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13"/>
                <p:cNvSpPr/>
                <p:nvPr/>
              </p:nvSpPr>
              <p:spPr>
                <a:xfrm>
                  <a:off x="2921040" y="3489120"/>
                  <a:ext cx="1302480" cy="511560"/>
                </a:xfrm>
                <a:custGeom>
                  <a:avLst/>
                  <a:gdLst/>
                  <a:ahLst/>
                  <a:rect l="l" t="t" r="r" b="b"/>
                  <a:pathLst>
                    <a:path w="5804" h="2462">
                      <a:moveTo>
                        <a:pt x="0" y="1272"/>
                      </a:moveTo>
                      <a:lnTo>
                        <a:pt x="1749" y="0"/>
                      </a:lnTo>
                      <a:lnTo>
                        <a:pt x="5804" y="597"/>
                      </a:lnTo>
                      <a:lnTo>
                        <a:pt x="5141" y="2462"/>
                      </a:lnTo>
                      <a:lnTo>
                        <a:pt x="0" y="1272"/>
                      </a:lnTo>
                      <a:close/>
                    </a:path>
                  </a:pathLst>
                </a:custGeom>
                <a:solidFill>
                  <a:srgbClr val="d0d3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14"/>
                <p:cNvSpPr/>
                <p:nvPr/>
              </p:nvSpPr>
              <p:spPr>
                <a:xfrm>
                  <a:off x="2921040" y="3731040"/>
                  <a:ext cx="35640" cy="24840"/>
                </a:xfrm>
                <a:custGeom>
                  <a:avLst/>
                  <a:gdLst/>
                  <a:ahLst/>
                  <a:rect l="l" t="t" r="r" b="b"/>
                  <a:pathLst>
                    <a:path w="155" h="124">
                      <a:moveTo>
                        <a:pt x="155" y="0"/>
                      </a:moveTo>
                      <a:lnTo>
                        <a:pt x="44" y="124"/>
                      </a:lnTo>
                      <a:lnTo>
                        <a:pt x="0" y="113"/>
                      </a:lnTo>
                      <a:lnTo>
                        <a:pt x="155" y="0"/>
                      </a:lnTo>
                      <a:close/>
                    </a:path>
                  </a:pathLst>
                </a:custGeom>
                <a:solidFill>
                  <a:srgbClr val="bfbb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15"/>
                <p:cNvSpPr/>
                <p:nvPr/>
              </p:nvSpPr>
              <p:spPr>
                <a:xfrm>
                  <a:off x="2921040" y="3634200"/>
                  <a:ext cx="177480" cy="129960"/>
                </a:xfrm>
                <a:custGeom>
                  <a:avLst/>
                  <a:gdLst/>
                  <a:ahLst/>
                  <a:rect l="l" t="t" r="r" b="b"/>
                  <a:pathLst>
                    <a:path w="793" h="628">
                      <a:moveTo>
                        <a:pt x="793" y="0"/>
                      </a:moveTo>
                      <a:lnTo>
                        <a:pt x="223" y="628"/>
                      </a:lnTo>
                      <a:lnTo>
                        <a:pt x="0" y="577"/>
                      </a:lnTo>
                      <a:lnTo>
                        <a:pt x="793" y="0"/>
                      </a:lnTo>
                      <a:close/>
                    </a:path>
                  </a:pathLst>
                </a:custGeom>
                <a:solidFill>
                  <a:srgbClr val="bfbb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16"/>
                <p:cNvSpPr/>
                <p:nvPr/>
              </p:nvSpPr>
              <p:spPr>
                <a:xfrm>
                  <a:off x="2931840" y="3537720"/>
                  <a:ext cx="310320" cy="234720"/>
                </a:xfrm>
                <a:custGeom>
                  <a:avLst/>
                  <a:gdLst/>
                  <a:ahLst/>
                  <a:rect l="l" t="t" r="r" b="b"/>
                  <a:pathLst>
                    <a:path w="1385" h="1132">
                      <a:moveTo>
                        <a:pt x="0" y="1050"/>
                      </a:moveTo>
                      <a:lnTo>
                        <a:pt x="111" y="926"/>
                      </a:lnTo>
                      <a:lnTo>
                        <a:pt x="1385" y="0"/>
                      </a:lnTo>
                      <a:lnTo>
                        <a:pt x="360" y="1132"/>
                      </a:lnTo>
                      <a:lnTo>
                        <a:pt x="0" y="1050"/>
                      </a:lnTo>
                      <a:close/>
                    </a:path>
                  </a:pathLst>
                </a:custGeom>
                <a:solidFill>
                  <a:srgbClr val="c0bc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17"/>
                <p:cNvSpPr/>
                <p:nvPr/>
              </p:nvSpPr>
              <p:spPr>
                <a:xfrm>
                  <a:off x="2971440" y="3489120"/>
                  <a:ext cx="352800" cy="293400"/>
                </a:xfrm>
                <a:custGeom>
                  <a:avLst/>
                  <a:gdLst/>
                  <a:ahLst/>
                  <a:rect l="l" t="t" r="r" b="b"/>
                  <a:pathLst>
                    <a:path w="1577" h="1407">
                      <a:moveTo>
                        <a:pt x="0" y="1323"/>
                      </a:moveTo>
                      <a:lnTo>
                        <a:pt x="570" y="695"/>
                      </a:lnTo>
                      <a:lnTo>
                        <a:pt x="1526" y="0"/>
                      </a:lnTo>
                      <a:lnTo>
                        <a:pt x="1577" y="7"/>
                      </a:lnTo>
                      <a:lnTo>
                        <a:pt x="1577" y="64"/>
                      </a:lnTo>
                      <a:lnTo>
                        <a:pt x="360" y="1407"/>
                      </a:lnTo>
                      <a:lnTo>
                        <a:pt x="0" y="1323"/>
                      </a:lnTo>
                      <a:close/>
                    </a:path>
                  </a:pathLst>
                </a:custGeom>
                <a:solidFill>
                  <a:srgbClr val="c0bc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18"/>
                <p:cNvSpPr/>
                <p:nvPr/>
              </p:nvSpPr>
              <p:spPr>
                <a:xfrm>
                  <a:off x="3012480" y="3489120"/>
                  <a:ext cx="311760" cy="301680"/>
                </a:xfrm>
                <a:custGeom>
                  <a:avLst/>
                  <a:gdLst/>
                  <a:ahLst/>
                  <a:rect l="l" t="t" r="r" b="b"/>
                  <a:pathLst>
                    <a:path w="1396" h="1448">
                      <a:moveTo>
                        <a:pt x="0" y="1365"/>
                      </a:moveTo>
                      <a:lnTo>
                        <a:pt x="1025" y="233"/>
                      </a:lnTo>
                      <a:lnTo>
                        <a:pt x="1345" y="0"/>
                      </a:lnTo>
                      <a:lnTo>
                        <a:pt x="1396" y="7"/>
                      </a:lnTo>
                      <a:lnTo>
                        <a:pt x="1396" y="304"/>
                      </a:lnTo>
                      <a:lnTo>
                        <a:pt x="359" y="1448"/>
                      </a:lnTo>
                      <a:lnTo>
                        <a:pt x="0" y="1365"/>
                      </a:lnTo>
                      <a:close/>
                    </a:path>
                  </a:pathLst>
                </a:custGeom>
                <a:solidFill>
                  <a:srgbClr val="c0bc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19"/>
                <p:cNvSpPr/>
                <p:nvPr/>
              </p:nvSpPr>
              <p:spPr>
                <a:xfrm>
                  <a:off x="3051720" y="3502800"/>
                  <a:ext cx="272520" cy="296640"/>
                </a:xfrm>
                <a:custGeom>
                  <a:avLst/>
                  <a:gdLst/>
                  <a:ahLst/>
                  <a:rect l="l" t="t" r="r" b="b"/>
                  <a:pathLst>
                    <a:path w="1217" h="1426">
                      <a:moveTo>
                        <a:pt x="0" y="1343"/>
                      </a:moveTo>
                      <a:lnTo>
                        <a:pt x="1217" y="0"/>
                      </a:lnTo>
                      <a:lnTo>
                        <a:pt x="1217" y="481"/>
                      </a:lnTo>
                      <a:lnTo>
                        <a:pt x="360" y="1426"/>
                      </a:lnTo>
                      <a:lnTo>
                        <a:pt x="0" y="1343"/>
                      </a:lnTo>
                      <a:close/>
                    </a:path>
                  </a:pathLst>
                </a:custGeom>
                <a:solidFill>
                  <a:srgbClr val="c0b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320"/>
                <p:cNvSpPr/>
                <p:nvPr/>
              </p:nvSpPr>
              <p:spPr>
                <a:xfrm>
                  <a:off x="3093480" y="3552840"/>
                  <a:ext cx="230760" cy="254880"/>
                </a:xfrm>
                <a:custGeom>
                  <a:avLst/>
                  <a:gdLst/>
                  <a:ahLst/>
                  <a:rect l="l" t="t" r="r" b="b"/>
                  <a:pathLst>
                    <a:path w="1037" h="1228">
                      <a:moveTo>
                        <a:pt x="0" y="1144"/>
                      </a:moveTo>
                      <a:lnTo>
                        <a:pt x="1037" y="0"/>
                      </a:lnTo>
                      <a:lnTo>
                        <a:pt x="1037" y="481"/>
                      </a:lnTo>
                      <a:lnTo>
                        <a:pt x="360" y="1228"/>
                      </a:lnTo>
                      <a:lnTo>
                        <a:pt x="0" y="1144"/>
                      </a:lnTo>
                      <a:close/>
                    </a:path>
                  </a:pathLst>
                </a:custGeom>
                <a:solidFill>
                  <a:srgbClr val="c0bd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321"/>
                <p:cNvSpPr/>
                <p:nvPr/>
              </p:nvSpPr>
              <p:spPr>
                <a:xfrm>
                  <a:off x="3132720" y="3602520"/>
                  <a:ext cx="191520" cy="213480"/>
                </a:xfrm>
                <a:custGeom>
                  <a:avLst/>
                  <a:gdLst/>
                  <a:ahLst/>
                  <a:rect l="l" t="t" r="r" b="b"/>
                  <a:pathLst>
                    <a:path w="857" h="1029">
                      <a:moveTo>
                        <a:pt x="0" y="945"/>
                      </a:moveTo>
                      <a:lnTo>
                        <a:pt x="857" y="0"/>
                      </a:lnTo>
                      <a:lnTo>
                        <a:pt x="857" y="480"/>
                      </a:lnTo>
                      <a:lnTo>
                        <a:pt x="360" y="1029"/>
                      </a:lnTo>
                      <a:lnTo>
                        <a:pt x="0" y="945"/>
                      </a:lnTo>
                      <a:close/>
                    </a:path>
                  </a:pathLst>
                </a:custGeom>
                <a:solidFill>
                  <a:srgbClr val="c1b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322"/>
                <p:cNvSpPr/>
                <p:nvPr/>
              </p:nvSpPr>
              <p:spPr>
                <a:xfrm>
                  <a:off x="3173760" y="3652920"/>
                  <a:ext cx="150480" cy="172800"/>
                </a:xfrm>
                <a:custGeom>
                  <a:avLst/>
                  <a:gdLst/>
                  <a:ahLst/>
                  <a:rect l="l" t="t" r="r" b="b"/>
                  <a:pathLst>
                    <a:path w="677" h="830">
                      <a:moveTo>
                        <a:pt x="0" y="747"/>
                      </a:moveTo>
                      <a:lnTo>
                        <a:pt x="677" y="0"/>
                      </a:lnTo>
                      <a:lnTo>
                        <a:pt x="677" y="481"/>
                      </a:lnTo>
                      <a:lnTo>
                        <a:pt x="359" y="830"/>
                      </a:lnTo>
                      <a:lnTo>
                        <a:pt x="0" y="747"/>
                      </a:lnTo>
                      <a:close/>
                    </a:path>
                  </a:pathLst>
                </a:custGeom>
                <a:solidFill>
                  <a:srgbClr val="c1b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323"/>
                <p:cNvSpPr/>
                <p:nvPr/>
              </p:nvSpPr>
              <p:spPr>
                <a:xfrm>
                  <a:off x="3213360" y="3702600"/>
                  <a:ext cx="110880" cy="131400"/>
                </a:xfrm>
                <a:custGeom>
                  <a:avLst/>
                  <a:gdLst/>
                  <a:ahLst/>
                  <a:rect l="l" t="t" r="r" b="b"/>
                  <a:pathLst>
                    <a:path w="497" h="632">
                      <a:moveTo>
                        <a:pt x="0" y="549"/>
                      </a:moveTo>
                      <a:lnTo>
                        <a:pt x="497" y="0"/>
                      </a:lnTo>
                      <a:lnTo>
                        <a:pt x="497" y="481"/>
                      </a:lnTo>
                      <a:lnTo>
                        <a:pt x="359" y="632"/>
                      </a:lnTo>
                      <a:lnTo>
                        <a:pt x="0" y="549"/>
                      </a:lnTo>
                      <a:close/>
                    </a:path>
                  </a:pathLst>
                </a:custGeom>
                <a:solidFill>
                  <a:srgbClr val="c1b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324"/>
                <p:cNvSpPr/>
                <p:nvPr/>
              </p:nvSpPr>
              <p:spPr>
                <a:xfrm>
                  <a:off x="3254400" y="3752640"/>
                  <a:ext cx="69840" cy="88200"/>
                </a:xfrm>
                <a:custGeom>
                  <a:avLst/>
                  <a:gdLst/>
                  <a:ahLst/>
                  <a:rect l="l" t="t" r="r" b="b"/>
                  <a:pathLst>
                    <a:path w="318" h="422">
                      <a:moveTo>
                        <a:pt x="0" y="349"/>
                      </a:moveTo>
                      <a:lnTo>
                        <a:pt x="318" y="0"/>
                      </a:lnTo>
                      <a:lnTo>
                        <a:pt x="318" y="422"/>
                      </a:lnTo>
                      <a:lnTo>
                        <a:pt x="0" y="349"/>
                      </a:lnTo>
                      <a:close/>
                    </a:path>
                  </a:pathLst>
                </a:custGeom>
                <a:solidFill>
                  <a:srgbClr val="c1b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325"/>
                <p:cNvSpPr/>
                <p:nvPr/>
              </p:nvSpPr>
              <p:spPr>
                <a:xfrm>
                  <a:off x="3294000" y="3802680"/>
                  <a:ext cx="30240" cy="38520"/>
                </a:xfrm>
                <a:custGeom>
                  <a:avLst/>
                  <a:gdLst/>
                  <a:ahLst/>
                  <a:rect l="l" t="t" r="r" b="b"/>
                  <a:pathLst>
                    <a:path w="138" h="182">
                      <a:moveTo>
                        <a:pt x="0" y="151"/>
                      </a:moveTo>
                      <a:lnTo>
                        <a:pt x="138" y="0"/>
                      </a:lnTo>
                      <a:lnTo>
                        <a:pt x="138" y="18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2b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326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327"/>
                <p:cNvSpPr/>
                <p:nvPr/>
              </p:nvSpPr>
              <p:spPr>
                <a:xfrm>
                  <a:off x="3177720" y="3927600"/>
                  <a:ext cx="990000" cy="272880"/>
                </a:xfrm>
                <a:custGeom>
                  <a:avLst/>
                  <a:gdLst/>
                  <a:ahLst/>
                  <a:rect l="l" t="t" r="r" b="b"/>
                  <a:pathLst>
                    <a:path w="4415" h="1313">
                      <a:moveTo>
                        <a:pt x="4415" y="922"/>
                      </a:moveTo>
                      <a:lnTo>
                        <a:pt x="3927" y="1313"/>
                      </a:lnTo>
                      <a:lnTo>
                        <a:pt x="0" y="483"/>
                      </a:lnTo>
                      <a:lnTo>
                        <a:pt x="541" y="0"/>
                      </a:lnTo>
                      <a:lnTo>
                        <a:pt x="4415" y="922"/>
                      </a:lnTo>
                      <a:close/>
                    </a:path>
                  </a:pathLst>
                </a:custGeom>
                <a:solidFill>
                  <a:srgbClr val="cccc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328"/>
                <p:cNvSpPr/>
                <p:nvPr/>
              </p:nvSpPr>
              <p:spPr>
                <a:xfrm>
                  <a:off x="3177720" y="3927600"/>
                  <a:ext cx="123480" cy="101520"/>
                </a:xfrm>
                <a:custGeom>
                  <a:avLst/>
                  <a:gdLst/>
                  <a:ahLst/>
                  <a:rect l="l" t="t" r="r" b="b"/>
                  <a:pathLst>
                    <a:path w="547" h="487">
                      <a:moveTo>
                        <a:pt x="547" y="2"/>
                      </a:moveTo>
                      <a:lnTo>
                        <a:pt x="474" y="82"/>
                      </a:lnTo>
                      <a:lnTo>
                        <a:pt x="14" y="487"/>
                      </a:lnTo>
                      <a:lnTo>
                        <a:pt x="0" y="483"/>
                      </a:lnTo>
                      <a:lnTo>
                        <a:pt x="541" y="0"/>
                      </a:lnTo>
                      <a:lnTo>
                        <a:pt x="547" y="2"/>
                      </a:lnTo>
                      <a:close/>
                    </a:path>
                  </a:pathLst>
                </a:custGeom>
                <a:solidFill>
                  <a:srgbClr val="b1a4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329"/>
                <p:cNvSpPr/>
                <p:nvPr/>
              </p:nvSpPr>
              <p:spPr>
                <a:xfrm>
                  <a:off x="3177720" y="3927600"/>
                  <a:ext cx="125280" cy="101520"/>
                </a:xfrm>
                <a:custGeom>
                  <a:avLst/>
                  <a:gdLst/>
                  <a:ahLst/>
                  <a:rect l="l" t="t" r="r" b="b"/>
                  <a:pathLst>
                    <a:path w="561" h="487">
                      <a:moveTo>
                        <a:pt x="14" y="487"/>
                      </a:moveTo>
                      <a:lnTo>
                        <a:pt x="561" y="5"/>
                      </a:lnTo>
                      <a:lnTo>
                        <a:pt x="541" y="0"/>
                      </a:lnTo>
                      <a:lnTo>
                        <a:pt x="0" y="483"/>
                      </a:lnTo>
                      <a:lnTo>
                        <a:pt x="14" y="487"/>
                      </a:lnTo>
                      <a:close/>
                    </a:path>
                  </a:pathLst>
                </a:custGeom>
                <a:solidFill>
                  <a:srgbClr val="b2a6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330"/>
                <p:cNvSpPr/>
                <p:nvPr/>
              </p:nvSpPr>
              <p:spPr>
                <a:xfrm>
                  <a:off x="3285000" y="3927600"/>
                  <a:ext cx="17640" cy="16560"/>
                </a:xfrm>
                <a:custGeom>
                  <a:avLst/>
                  <a:gdLst/>
                  <a:ahLst/>
                  <a:rect l="l" t="t" r="r" b="b"/>
                  <a:pathLst>
                    <a:path w="87" h="80">
                      <a:moveTo>
                        <a:pt x="0" y="80"/>
                      </a:moveTo>
                      <a:lnTo>
                        <a:pt x="73" y="0"/>
                      </a:lnTo>
                      <a:lnTo>
                        <a:pt x="87" y="3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b3a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331"/>
                <p:cNvSpPr/>
                <p:nvPr/>
              </p:nvSpPr>
              <p:spPr>
                <a:xfrm>
                  <a:off x="3177720" y="3927600"/>
                  <a:ext cx="990000" cy="191520"/>
                </a:xfrm>
                <a:custGeom>
                  <a:avLst/>
                  <a:gdLst/>
                  <a:ahLst/>
                  <a:rect l="l" t="t" r="r" b="b"/>
                  <a:pathLst>
                    <a:path w="4415" h="922">
                      <a:moveTo>
                        <a:pt x="0" y="483"/>
                      </a:moveTo>
                      <a:lnTo>
                        <a:pt x="541" y="0"/>
                      </a:lnTo>
                      <a:lnTo>
                        <a:pt x="4415" y="922"/>
                      </a:lnTo>
                    </a:path>
                  </a:pathLst>
                </a:custGeom>
                <a:noFill/>
                <a:ln w="0">
                  <a:solidFill>
                    <a:srgbClr val="9594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332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333"/>
                <p:cNvSpPr/>
                <p:nvPr/>
              </p:nvSpPr>
              <p:spPr>
                <a:xfrm>
                  <a:off x="3498480" y="3877560"/>
                  <a:ext cx="543240" cy="116640"/>
                </a:xfrm>
                <a:custGeom>
                  <a:avLst/>
                  <a:gdLst/>
                  <a:ahLst/>
                  <a:rect l="l" t="t" r="r" b="b"/>
                  <a:pathLst>
                    <a:path w="2423" h="560">
                      <a:moveTo>
                        <a:pt x="2423" y="560"/>
                      </a:moveTo>
                      <a:lnTo>
                        <a:pt x="0" y="0"/>
                      </a:lnTo>
                      <a:lnTo>
                        <a:pt x="2422" y="550"/>
                      </a:lnTo>
                      <a:lnTo>
                        <a:pt x="2423" y="560"/>
                      </a:lnTo>
                      <a:close/>
                    </a:path>
                  </a:pathLst>
                </a:custGeom>
                <a:solidFill>
                  <a:srgbClr val="cbd0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334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Freeform 335"/>
                <p:cNvSpPr/>
                <p:nvPr/>
              </p:nvSpPr>
              <p:spPr>
                <a:xfrm>
                  <a:off x="4045680" y="3606120"/>
                  <a:ext cx="177480" cy="394560"/>
                </a:xfrm>
                <a:custGeom>
                  <a:avLst/>
                  <a:gdLst/>
                  <a:ahLst/>
                  <a:rect l="l" t="t" r="r" b="b"/>
                  <a:pathLst>
                    <a:path w="792" h="1898">
                      <a:moveTo>
                        <a:pt x="571" y="0"/>
                      </a:moveTo>
                      <a:lnTo>
                        <a:pt x="792" y="33"/>
                      </a:lnTo>
                      <a:lnTo>
                        <a:pt x="129" y="1898"/>
                      </a:lnTo>
                      <a:lnTo>
                        <a:pt x="13" y="1870"/>
                      </a:lnTo>
                      <a:lnTo>
                        <a:pt x="0" y="1525"/>
                      </a:lnTo>
                      <a:lnTo>
                        <a:pt x="571" y="0"/>
                      </a:lnTo>
                      <a:close/>
                    </a:path>
                  </a:pathLst>
                </a:custGeom>
                <a:solidFill>
                  <a:srgbClr val="cec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36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337"/>
                <p:cNvSpPr/>
                <p:nvPr/>
              </p:nvSpPr>
              <p:spPr>
                <a:xfrm>
                  <a:off x="3177720" y="3927600"/>
                  <a:ext cx="871560" cy="271440"/>
                </a:xfrm>
                <a:custGeom>
                  <a:avLst/>
                  <a:gdLst/>
                  <a:ahLst/>
                  <a:rect l="l" t="t" r="r" b="b"/>
                  <a:pathLst>
                    <a:path w="3889" h="1305">
                      <a:moveTo>
                        <a:pt x="3889" y="1305"/>
                      </a:moveTo>
                      <a:lnTo>
                        <a:pt x="0" y="483"/>
                      </a:lnTo>
                      <a:lnTo>
                        <a:pt x="541" y="0"/>
                      </a:lnTo>
                      <a:lnTo>
                        <a:pt x="3869" y="793"/>
                      </a:lnTo>
                      <a:lnTo>
                        <a:pt x="3889" y="1305"/>
                      </a:lnTo>
                      <a:close/>
                    </a:path>
                  </a:pathLst>
                </a:custGeom>
                <a:solidFill>
                  <a:srgbClr val="c0c2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Freeform 338"/>
                <p:cNvSpPr/>
                <p:nvPr/>
              </p:nvSpPr>
              <p:spPr>
                <a:xfrm>
                  <a:off x="3177720" y="3927600"/>
                  <a:ext cx="123480" cy="101520"/>
                </a:xfrm>
                <a:custGeom>
                  <a:avLst/>
                  <a:gdLst/>
                  <a:ahLst/>
                  <a:rect l="l" t="t" r="r" b="b"/>
                  <a:pathLst>
                    <a:path w="547" h="487">
                      <a:moveTo>
                        <a:pt x="547" y="2"/>
                      </a:moveTo>
                      <a:lnTo>
                        <a:pt x="474" y="82"/>
                      </a:lnTo>
                      <a:lnTo>
                        <a:pt x="14" y="487"/>
                      </a:lnTo>
                      <a:lnTo>
                        <a:pt x="0" y="483"/>
                      </a:lnTo>
                      <a:lnTo>
                        <a:pt x="541" y="0"/>
                      </a:lnTo>
                      <a:lnTo>
                        <a:pt x="547" y="2"/>
                      </a:lnTo>
                      <a:close/>
                    </a:path>
                  </a:pathLst>
                </a:custGeom>
                <a:solidFill>
                  <a:srgbClr val="b3b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339"/>
                <p:cNvSpPr/>
                <p:nvPr/>
              </p:nvSpPr>
              <p:spPr>
                <a:xfrm>
                  <a:off x="3177720" y="3927600"/>
                  <a:ext cx="125280" cy="101520"/>
                </a:xfrm>
                <a:custGeom>
                  <a:avLst/>
                  <a:gdLst/>
                  <a:ahLst/>
                  <a:rect l="l" t="t" r="r" b="b"/>
                  <a:pathLst>
                    <a:path w="561" h="487">
                      <a:moveTo>
                        <a:pt x="14" y="487"/>
                      </a:moveTo>
                      <a:lnTo>
                        <a:pt x="561" y="5"/>
                      </a:lnTo>
                      <a:lnTo>
                        <a:pt x="541" y="0"/>
                      </a:lnTo>
                      <a:lnTo>
                        <a:pt x="0" y="483"/>
                      </a:lnTo>
                      <a:lnTo>
                        <a:pt x="14" y="487"/>
                      </a:lnTo>
                      <a:close/>
                    </a:path>
                  </a:pathLst>
                </a:custGeom>
                <a:solidFill>
                  <a:srgbClr val="b3b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40"/>
                <p:cNvSpPr/>
                <p:nvPr/>
              </p:nvSpPr>
              <p:spPr>
                <a:xfrm>
                  <a:off x="3285000" y="3927600"/>
                  <a:ext cx="17640" cy="16560"/>
                </a:xfrm>
                <a:custGeom>
                  <a:avLst/>
                  <a:gdLst/>
                  <a:ahLst/>
                  <a:rect l="l" t="t" r="r" b="b"/>
                  <a:pathLst>
                    <a:path w="87" h="80">
                      <a:moveTo>
                        <a:pt x="0" y="80"/>
                      </a:moveTo>
                      <a:lnTo>
                        <a:pt x="73" y="0"/>
                      </a:lnTo>
                      <a:lnTo>
                        <a:pt x="87" y="3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b3b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41"/>
                <p:cNvSpPr/>
                <p:nvPr/>
              </p:nvSpPr>
              <p:spPr>
                <a:xfrm flipV="1">
                  <a:off x="3177720" y="3927600"/>
                  <a:ext cx="122040" cy="100080"/>
                </a:xfrm>
                <a:prstGeom prst="line">
                  <a:avLst/>
                </a:prstGeom>
                <a:ln w="0">
                  <a:solidFill>
                    <a:srgbClr val="95947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342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343"/>
                <p:cNvSpPr/>
                <p:nvPr/>
              </p:nvSpPr>
              <p:spPr>
                <a:xfrm>
                  <a:off x="4051080" y="4094280"/>
                  <a:ext cx="116640" cy="106560"/>
                </a:xfrm>
                <a:custGeom>
                  <a:avLst/>
                  <a:gdLst/>
                  <a:ahLst/>
                  <a:rect l="l" t="t" r="r" b="b"/>
                  <a:pathLst>
                    <a:path w="517" h="514">
                      <a:moveTo>
                        <a:pt x="517" y="123"/>
                      </a:moveTo>
                      <a:lnTo>
                        <a:pt x="29" y="514"/>
                      </a:lnTo>
                      <a:lnTo>
                        <a:pt x="18" y="512"/>
                      </a:lnTo>
                      <a:lnTo>
                        <a:pt x="0" y="0"/>
                      </a:lnTo>
                      <a:lnTo>
                        <a:pt x="517" y="123"/>
                      </a:lnTo>
                      <a:close/>
                    </a:path>
                  </a:pathLst>
                </a:custGeom>
                <a:solidFill>
                  <a:srgbClr val="c4bd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44"/>
                <p:cNvSpPr/>
                <p:nvPr/>
              </p:nvSpPr>
              <p:spPr>
                <a:xfrm>
                  <a:off x="2664720" y="3489120"/>
                  <a:ext cx="2084400" cy="711360"/>
                </a:xfrm>
                <a:custGeom>
                  <a:avLst/>
                  <a:gdLst/>
                  <a:ahLst/>
                  <a:rect l="l" t="t" r="r" b="b"/>
                  <a:pathLst>
                    <a:path w="9297" h="3417">
                      <a:moveTo>
                        <a:pt x="0" y="2104"/>
                      </a:moveTo>
                      <a:lnTo>
                        <a:pt x="2893" y="0"/>
                      </a:lnTo>
                      <a:lnTo>
                        <a:pt x="9297" y="942"/>
                      </a:lnTo>
                      <a:lnTo>
                        <a:pt x="6215" y="3417"/>
                      </a:lnTo>
                      <a:lnTo>
                        <a:pt x="0" y="2104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9795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45"/>
                <p:cNvSpPr/>
                <p:nvPr/>
              </p:nvSpPr>
              <p:spPr>
                <a:xfrm>
                  <a:off x="1749600" y="2518200"/>
                  <a:ext cx="234720" cy="116280"/>
                </a:xfrm>
                <a:custGeom>
                  <a:avLst/>
                  <a:gdLst/>
                  <a:ahLst/>
                  <a:rect l="l" t="t" r="r" b="b"/>
                  <a:pathLst>
                    <a:path w="1046" h="558">
                      <a:moveTo>
                        <a:pt x="1046" y="94"/>
                      </a:moveTo>
                      <a:lnTo>
                        <a:pt x="0" y="558"/>
                      </a:lnTo>
                      <a:lnTo>
                        <a:pt x="287" y="0"/>
                      </a:lnTo>
                      <a:lnTo>
                        <a:pt x="1046" y="94"/>
                      </a:lnTo>
                      <a:close/>
                    </a:path>
                  </a:pathLst>
                </a:custGeom>
                <a:solidFill>
                  <a:srgbClr val="5d67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346"/>
                <p:cNvSpPr/>
                <p:nvPr/>
              </p:nvSpPr>
              <p:spPr>
                <a:xfrm>
                  <a:off x="1713240" y="2527920"/>
                  <a:ext cx="364320" cy="169920"/>
                </a:xfrm>
                <a:custGeom>
                  <a:avLst/>
                  <a:gdLst/>
                  <a:ahLst/>
                  <a:rect l="l" t="t" r="r" b="b"/>
                  <a:pathLst>
                    <a:path w="1618" h="822">
                      <a:moveTo>
                        <a:pt x="314" y="210"/>
                      </a:moveTo>
                      <a:lnTo>
                        <a:pt x="786" y="0"/>
                      </a:lnTo>
                      <a:lnTo>
                        <a:pt x="1618" y="103"/>
                      </a:lnTo>
                      <a:lnTo>
                        <a:pt x="0" y="822"/>
                      </a:lnTo>
                      <a:lnTo>
                        <a:pt x="314" y="210"/>
                      </a:lnTo>
                      <a:close/>
                    </a:path>
                  </a:pathLst>
                </a:custGeom>
                <a:solidFill>
                  <a:srgbClr val="616a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347"/>
                <p:cNvSpPr/>
                <p:nvPr/>
              </p:nvSpPr>
              <p:spPr>
                <a:xfrm>
                  <a:off x="1679400" y="2538000"/>
                  <a:ext cx="491400" cy="224640"/>
                </a:xfrm>
                <a:custGeom>
                  <a:avLst/>
                  <a:gdLst/>
                  <a:ahLst/>
                  <a:rect l="l" t="t" r="r" b="b"/>
                  <a:pathLst>
                    <a:path w="2190" h="1076">
                      <a:moveTo>
                        <a:pt x="313" y="464"/>
                      </a:moveTo>
                      <a:lnTo>
                        <a:pt x="1359" y="0"/>
                      </a:lnTo>
                      <a:lnTo>
                        <a:pt x="2190" y="102"/>
                      </a:lnTo>
                      <a:lnTo>
                        <a:pt x="0" y="1076"/>
                      </a:lnTo>
                      <a:lnTo>
                        <a:pt x="313" y="464"/>
                      </a:lnTo>
                      <a:close/>
                    </a:path>
                  </a:pathLst>
                </a:custGeom>
                <a:solidFill>
                  <a:srgbClr val="656e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348"/>
                <p:cNvSpPr/>
                <p:nvPr/>
              </p:nvSpPr>
              <p:spPr>
                <a:xfrm>
                  <a:off x="1643400" y="2549520"/>
                  <a:ext cx="620640" cy="276480"/>
                </a:xfrm>
                <a:custGeom>
                  <a:avLst/>
                  <a:gdLst/>
                  <a:ahLst/>
                  <a:rect l="l" t="t" r="r" b="b"/>
                  <a:pathLst>
                    <a:path w="2763" h="1331">
                      <a:moveTo>
                        <a:pt x="314" y="719"/>
                      </a:moveTo>
                      <a:lnTo>
                        <a:pt x="1932" y="0"/>
                      </a:lnTo>
                      <a:lnTo>
                        <a:pt x="2763" y="103"/>
                      </a:lnTo>
                      <a:lnTo>
                        <a:pt x="0" y="1331"/>
                      </a:lnTo>
                      <a:lnTo>
                        <a:pt x="314" y="719"/>
                      </a:lnTo>
                      <a:close/>
                    </a:path>
                  </a:pathLst>
                </a:custGeom>
                <a:solidFill>
                  <a:srgbClr val="6b728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49"/>
                <p:cNvSpPr/>
                <p:nvPr/>
              </p:nvSpPr>
              <p:spPr>
                <a:xfrm>
                  <a:off x="1609560" y="2559600"/>
                  <a:ext cx="748080" cy="329760"/>
                </a:xfrm>
                <a:custGeom>
                  <a:avLst/>
                  <a:gdLst/>
                  <a:ahLst/>
                  <a:rect l="l" t="t" r="r" b="b"/>
                  <a:pathLst>
                    <a:path w="3337" h="1585">
                      <a:moveTo>
                        <a:pt x="314" y="974"/>
                      </a:moveTo>
                      <a:lnTo>
                        <a:pt x="2504" y="0"/>
                      </a:lnTo>
                      <a:lnTo>
                        <a:pt x="3337" y="103"/>
                      </a:lnTo>
                      <a:lnTo>
                        <a:pt x="0" y="1585"/>
                      </a:lnTo>
                      <a:lnTo>
                        <a:pt x="314" y="974"/>
                      </a:lnTo>
                      <a:close/>
                    </a:path>
                  </a:pathLst>
                </a:custGeom>
                <a:solidFill>
                  <a:srgbClr val="7077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350"/>
                <p:cNvSpPr/>
                <p:nvPr/>
              </p:nvSpPr>
              <p:spPr>
                <a:xfrm>
                  <a:off x="1573200" y="2569320"/>
                  <a:ext cx="877320" cy="383400"/>
                </a:xfrm>
                <a:custGeom>
                  <a:avLst/>
                  <a:gdLst/>
                  <a:ahLst/>
                  <a:rect l="l" t="t" r="r" b="b"/>
                  <a:pathLst>
                    <a:path w="3908" h="1839">
                      <a:moveTo>
                        <a:pt x="313" y="1228"/>
                      </a:moveTo>
                      <a:lnTo>
                        <a:pt x="3076" y="0"/>
                      </a:lnTo>
                      <a:lnTo>
                        <a:pt x="3908" y="102"/>
                      </a:lnTo>
                      <a:lnTo>
                        <a:pt x="0" y="1839"/>
                      </a:lnTo>
                      <a:lnTo>
                        <a:pt x="313" y="1228"/>
                      </a:lnTo>
                      <a:close/>
                    </a:path>
                  </a:pathLst>
                </a:custGeom>
                <a:solidFill>
                  <a:srgbClr val="757b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51"/>
                <p:cNvSpPr/>
                <p:nvPr/>
              </p:nvSpPr>
              <p:spPr>
                <a:xfrm>
                  <a:off x="1537560" y="2581200"/>
                  <a:ext cx="1006200" cy="436680"/>
                </a:xfrm>
                <a:custGeom>
                  <a:avLst/>
                  <a:gdLst/>
                  <a:ahLst/>
                  <a:rect l="l" t="t" r="r" b="b"/>
                  <a:pathLst>
                    <a:path w="4482" h="2094">
                      <a:moveTo>
                        <a:pt x="314" y="1482"/>
                      </a:moveTo>
                      <a:lnTo>
                        <a:pt x="3651" y="0"/>
                      </a:lnTo>
                      <a:lnTo>
                        <a:pt x="4482" y="103"/>
                      </a:lnTo>
                      <a:lnTo>
                        <a:pt x="0" y="2094"/>
                      </a:lnTo>
                      <a:lnTo>
                        <a:pt x="314" y="1482"/>
                      </a:lnTo>
                      <a:close/>
                    </a:path>
                  </a:pathLst>
                </a:custGeom>
                <a:solidFill>
                  <a:srgbClr val="7a80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52"/>
                <p:cNvSpPr/>
                <p:nvPr/>
              </p:nvSpPr>
              <p:spPr>
                <a:xfrm>
                  <a:off x="1503720" y="2591280"/>
                  <a:ext cx="1133280" cy="489600"/>
                </a:xfrm>
                <a:custGeom>
                  <a:avLst/>
                  <a:gdLst/>
                  <a:ahLst/>
                  <a:rect l="l" t="t" r="r" b="b"/>
                  <a:pathLst>
                    <a:path w="5054" h="2349">
                      <a:moveTo>
                        <a:pt x="314" y="1737"/>
                      </a:moveTo>
                      <a:lnTo>
                        <a:pt x="4222" y="0"/>
                      </a:lnTo>
                      <a:lnTo>
                        <a:pt x="5054" y="103"/>
                      </a:lnTo>
                      <a:lnTo>
                        <a:pt x="0" y="2349"/>
                      </a:lnTo>
                      <a:lnTo>
                        <a:pt x="314" y="1737"/>
                      </a:lnTo>
                      <a:close/>
                    </a:path>
                  </a:pathLst>
                </a:custGeom>
                <a:solidFill>
                  <a:srgbClr val="7b81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353"/>
                <p:cNvSpPr/>
                <p:nvPr/>
              </p:nvSpPr>
              <p:spPr>
                <a:xfrm>
                  <a:off x="1467720" y="2602800"/>
                  <a:ext cx="1263240" cy="541800"/>
                </a:xfrm>
                <a:custGeom>
                  <a:avLst/>
                  <a:gdLst/>
                  <a:ahLst/>
                  <a:rect l="l" t="t" r="r" b="b"/>
                  <a:pathLst>
                    <a:path w="5627" h="2603">
                      <a:moveTo>
                        <a:pt x="314" y="1991"/>
                      </a:moveTo>
                      <a:lnTo>
                        <a:pt x="4796" y="0"/>
                      </a:lnTo>
                      <a:lnTo>
                        <a:pt x="5627" y="102"/>
                      </a:lnTo>
                      <a:lnTo>
                        <a:pt x="0" y="2603"/>
                      </a:lnTo>
                      <a:lnTo>
                        <a:pt x="314" y="1991"/>
                      </a:lnTo>
                      <a:close/>
                    </a:path>
                  </a:pathLst>
                </a:custGeom>
                <a:solidFill>
                  <a:srgbClr val="7c82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54"/>
                <p:cNvSpPr/>
                <p:nvPr/>
              </p:nvSpPr>
              <p:spPr>
                <a:xfrm>
                  <a:off x="1433880" y="2612880"/>
                  <a:ext cx="1389960" cy="594720"/>
                </a:xfrm>
                <a:custGeom>
                  <a:avLst/>
                  <a:gdLst/>
                  <a:ahLst/>
                  <a:rect l="l" t="t" r="r" b="b"/>
                  <a:pathLst>
                    <a:path w="6199" h="2857">
                      <a:moveTo>
                        <a:pt x="314" y="2246"/>
                      </a:moveTo>
                      <a:lnTo>
                        <a:pt x="5368" y="0"/>
                      </a:lnTo>
                      <a:lnTo>
                        <a:pt x="6199" y="104"/>
                      </a:lnTo>
                      <a:lnTo>
                        <a:pt x="0" y="2857"/>
                      </a:lnTo>
                      <a:lnTo>
                        <a:pt x="314" y="2246"/>
                      </a:lnTo>
                      <a:close/>
                    </a:path>
                  </a:pathLst>
                </a:custGeom>
                <a:solidFill>
                  <a:srgbClr val="7d8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55"/>
                <p:cNvSpPr/>
                <p:nvPr/>
              </p:nvSpPr>
              <p:spPr>
                <a:xfrm>
                  <a:off x="1397520" y="2622600"/>
                  <a:ext cx="1517760" cy="648360"/>
                </a:xfrm>
                <a:custGeom>
                  <a:avLst/>
                  <a:gdLst/>
                  <a:ahLst/>
                  <a:rect l="l" t="t" r="r" b="b"/>
                  <a:pathLst>
                    <a:path w="6771" h="3112">
                      <a:moveTo>
                        <a:pt x="313" y="2501"/>
                      </a:moveTo>
                      <a:lnTo>
                        <a:pt x="5940" y="0"/>
                      </a:lnTo>
                      <a:lnTo>
                        <a:pt x="6771" y="104"/>
                      </a:lnTo>
                      <a:lnTo>
                        <a:pt x="0" y="3112"/>
                      </a:lnTo>
                      <a:lnTo>
                        <a:pt x="313" y="2501"/>
                      </a:lnTo>
                      <a:close/>
                    </a:path>
                  </a:pathLst>
                </a:custGeom>
                <a:solidFill>
                  <a:srgbClr val="7f85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56"/>
                <p:cNvSpPr/>
                <p:nvPr/>
              </p:nvSpPr>
              <p:spPr>
                <a:xfrm>
                  <a:off x="1361880" y="2634480"/>
                  <a:ext cx="1646640" cy="701640"/>
                </a:xfrm>
                <a:custGeom>
                  <a:avLst/>
                  <a:gdLst/>
                  <a:ahLst/>
                  <a:rect l="l" t="t" r="r" b="b"/>
                  <a:pathLst>
                    <a:path w="7345" h="3365">
                      <a:moveTo>
                        <a:pt x="315" y="2753"/>
                      </a:moveTo>
                      <a:lnTo>
                        <a:pt x="6514" y="0"/>
                      </a:lnTo>
                      <a:lnTo>
                        <a:pt x="7345" y="102"/>
                      </a:lnTo>
                      <a:lnTo>
                        <a:pt x="0" y="3365"/>
                      </a:lnTo>
                      <a:lnTo>
                        <a:pt x="315" y="2753"/>
                      </a:lnTo>
                      <a:close/>
                    </a:path>
                  </a:pathLst>
                </a:custGeom>
                <a:solidFill>
                  <a:srgbClr val="8085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57"/>
                <p:cNvSpPr/>
                <p:nvPr/>
              </p:nvSpPr>
              <p:spPr>
                <a:xfrm>
                  <a:off x="1327680" y="2644560"/>
                  <a:ext cx="1774440" cy="754560"/>
                </a:xfrm>
                <a:custGeom>
                  <a:avLst/>
                  <a:gdLst/>
                  <a:ahLst/>
                  <a:rect l="l" t="t" r="r" b="b"/>
                  <a:pathLst>
                    <a:path w="7918" h="3621">
                      <a:moveTo>
                        <a:pt x="314" y="3008"/>
                      </a:moveTo>
                      <a:lnTo>
                        <a:pt x="7085" y="0"/>
                      </a:lnTo>
                      <a:lnTo>
                        <a:pt x="7918" y="103"/>
                      </a:lnTo>
                      <a:lnTo>
                        <a:pt x="0" y="3621"/>
                      </a:lnTo>
                      <a:lnTo>
                        <a:pt x="314" y="3008"/>
                      </a:lnTo>
                      <a:close/>
                    </a:path>
                  </a:pathLst>
                </a:custGeom>
                <a:solidFill>
                  <a:srgbClr val="8287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58"/>
                <p:cNvSpPr/>
                <p:nvPr/>
              </p:nvSpPr>
              <p:spPr>
                <a:xfrm>
                  <a:off x="1317240" y="2656440"/>
                  <a:ext cx="1878120" cy="774360"/>
                </a:xfrm>
                <a:custGeom>
                  <a:avLst/>
                  <a:gdLst/>
                  <a:ahLst/>
                  <a:rect l="l" t="t" r="r" b="b"/>
                  <a:pathLst>
                    <a:path w="8383" h="3720">
                      <a:moveTo>
                        <a:pt x="206" y="3263"/>
                      </a:moveTo>
                      <a:lnTo>
                        <a:pt x="7551" y="0"/>
                      </a:lnTo>
                      <a:lnTo>
                        <a:pt x="8383" y="103"/>
                      </a:lnTo>
                      <a:lnTo>
                        <a:pt x="241" y="3720"/>
                      </a:lnTo>
                      <a:lnTo>
                        <a:pt x="0" y="3667"/>
                      </a:lnTo>
                      <a:lnTo>
                        <a:pt x="206" y="3263"/>
                      </a:lnTo>
                      <a:close/>
                    </a:path>
                  </a:pathLst>
                </a:custGeom>
                <a:solidFill>
                  <a:srgbClr val="8489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359"/>
                <p:cNvSpPr/>
                <p:nvPr/>
              </p:nvSpPr>
              <p:spPr>
                <a:xfrm>
                  <a:off x="1317240" y="2666160"/>
                  <a:ext cx="1971360" cy="781200"/>
                </a:xfrm>
                <a:custGeom>
                  <a:avLst/>
                  <a:gdLst/>
                  <a:ahLst/>
                  <a:rect l="l" t="t" r="r" b="b"/>
                  <a:pathLst>
                    <a:path w="8799" h="3748">
                      <a:moveTo>
                        <a:pt x="50" y="3518"/>
                      </a:moveTo>
                      <a:lnTo>
                        <a:pt x="7968" y="0"/>
                      </a:lnTo>
                      <a:lnTo>
                        <a:pt x="8799" y="103"/>
                      </a:lnTo>
                      <a:lnTo>
                        <a:pt x="594" y="3748"/>
                      </a:lnTo>
                      <a:lnTo>
                        <a:pt x="0" y="3615"/>
                      </a:lnTo>
                      <a:lnTo>
                        <a:pt x="50" y="3518"/>
                      </a:lnTo>
                      <a:close/>
                    </a:path>
                  </a:pathLst>
                </a:custGeom>
                <a:solidFill>
                  <a:srgbClr val="8589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360"/>
                <p:cNvSpPr/>
                <p:nvPr/>
              </p:nvSpPr>
              <p:spPr>
                <a:xfrm>
                  <a:off x="1370880" y="2678040"/>
                  <a:ext cx="2010960" cy="786240"/>
                </a:xfrm>
                <a:custGeom>
                  <a:avLst/>
                  <a:gdLst/>
                  <a:ahLst/>
                  <a:rect l="l" t="t" r="r" b="b"/>
                  <a:pathLst>
                    <a:path w="8974" h="3776">
                      <a:moveTo>
                        <a:pt x="0" y="3617"/>
                      </a:moveTo>
                      <a:lnTo>
                        <a:pt x="8142" y="0"/>
                      </a:lnTo>
                      <a:lnTo>
                        <a:pt x="8974" y="103"/>
                      </a:lnTo>
                      <a:lnTo>
                        <a:pt x="706" y="3776"/>
                      </a:lnTo>
                      <a:lnTo>
                        <a:pt x="0" y="3617"/>
                      </a:lnTo>
                      <a:close/>
                    </a:path>
                  </a:pathLst>
                </a:custGeom>
                <a:solidFill>
                  <a:srgbClr val="878b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61"/>
                <p:cNvSpPr/>
                <p:nvPr/>
              </p:nvSpPr>
              <p:spPr>
                <a:xfrm>
                  <a:off x="1449720" y="2687760"/>
                  <a:ext cx="2025360" cy="793080"/>
                </a:xfrm>
                <a:custGeom>
                  <a:avLst/>
                  <a:gdLst/>
                  <a:ahLst/>
                  <a:rect l="l" t="t" r="r" b="b"/>
                  <a:pathLst>
                    <a:path w="9036" h="3803">
                      <a:moveTo>
                        <a:pt x="0" y="3645"/>
                      </a:moveTo>
                      <a:lnTo>
                        <a:pt x="8205" y="0"/>
                      </a:lnTo>
                      <a:lnTo>
                        <a:pt x="9036" y="102"/>
                      </a:lnTo>
                      <a:lnTo>
                        <a:pt x="707" y="3803"/>
                      </a:lnTo>
                      <a:lnTo>
                        <a:pt x="0" y="3645"/>
                      </a:lnTo>
                      <a:close/>
                    </a:path>
                  </a:pathLst>
                </a:custGeom>
                <a:solidFill>
                  <a:srgbClr val="898d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362"/>
                <p:cNvSpPr/>
                <p:nvPr/>
              </p:nvSpPr>
              <p:spPr>
                <a:xfrm>
                  <a:off x="1528560" y="2697840"/>
                  <a:ext cx="2039760" cy="798120"/>
                </a:xfrm>
                <a:custGeom>
                  <a:avLst/>
                  <a:gdLst/>
                  <a:ahLst/>
                  <a:rect l="l" t="t" r="r" b="b"/>
                  <a:pathLst>
                    <a:path w="9099" h="3832">
                      <a:moveTo>
                        <a:pt x="0" y="3673"/>
                      </a:moveTo>
                      <a:lnTo>
                        <a:pt x="8268" y="0"/>
                      </a:lnTo>
                      <a:lnTo>
                        <a:pt x="9099" y="103"/>
                      </a:lnTo>
                      <a:lnTo>
                        <a:pt x="708" y="3832"/>
                      </a:lnTo>
                      <a:lnTo>
                        <a:pt x="0" y="3673"/>
                      </a:lnTo>
                      <a:close/>
                    </a:path>
                  </a:pathLst>
                </a:custGeom>
                <a:solidFill>
                  <a:srgbClr val="8b8e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63"/>
                <p:cNvSpPr/>
                <p:nvPr/>
              </p:nvSpPr>
              <p:spPr>
                <a:xfrm>
                  <a:off x="1607400" y="2709720"/>
                  <a:ext cx="2054160" cy="802800"/>
                </a:xfrm>
                <a:custGeom>
                  <a:avLst/>
                  <a:gdLst/>
                  <a:ahLst/>
                  <a:rect l="l" t="t" r="r" b="b"/>
                  <a:pathLst>
                    <a:path w="9161" h="3859">
                      <a:moveTo>
                        <a:pt x="0" y="3701"/>
                      </a:moveTo>
                      <a:lnTo>
                        <a:pt x="8329" y="0"/>
                      </a:lnTo>
                      <a:lnTo>
                        <a:pt x="9161" y="103"/>
                      </a:lnTo>
                      <a:lnTo>
                        <a:pt x="706" y="3859"/>
                      </a:lnTo>
                      <a:lnTo>
                        <a:pt x="0" y="3701"/>
                      </a:lnTo>
                      <a:close/>
                    </a:path>
                  </a:pathLst>
                </a:custGeom>
                <a:solidFill>
                  <a:srgbClr val="8d8f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64"/>
                <p:cNvSpPr/>
                <p:nvPr/>
              </p:nvSpPr>
              <p:spPr>
                <a:xfrm>
                  <a:off x="1686600" y="2719440"/>
                  <a:ext cx="2068560" cy="809640"/>
                </a:xfrm>
                <a:custGeom>
                  <a:avLst/>
                  <a:gdLst/>
                  <a:ahLst/>
                  <a:rect l="l" t="t" r="r" b="b"/>
                  <a:pathLst>
                    <a:path w="9222" h="3886">
                      <a:moveTo>
                        <a:pt x="0" y="3729"/>
                      </a:moveTo>
                      <a:lnTo>
                        <a:pt x="8391" y="0"/>
                      </a:lnTo>
                      <a:lnTo>
                        <a:pt x="9222" y="102"/>
                      </a:lnTo>
                      <a:lnTo>
                        <a:pt x="706" y="3886"/>
                      </a:lnTo>
                      <a:lnTo>
                        <a:pt x="0" y="3729"/>
                      </a:lnTo>
                      <a:close/>
                    </a:path>
                  </a:pathLst>
                </a:custGeom>
                <a:solidFill>
                  <a:srgbClr val="8e92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65"/>
                <p:cNvSpPr/>
                <p:nvPr/>
              </p:nvSpPr>
              <p:spPr>
                <a:xfrm>
                  <a:off x="1765440" y="2731320"/>
                  <a:ext cx="2082960" cy="814680"/>
                </a:xfrm>
                <a:custGeom>
                  <a:avLst/>
                  <a:gdLst/>
                  <a:ahLst/>
                  <a:rect l="l" t="t" r="r" b="b"/>
                  <a:pathLst>
                    <a:path w="9287" h="3915">
                      <a:moveTo>
                        <a:pt x="0" y="3756"/>
                      </a:moveTo>
                      <a:lnTo>
                        <a:pt x="8455" y="0"/>
                      </a:lnTo>
                      <a:lnTo>
                        <a:pt x="9287" y="103"/>
                      </a:lnTo>
                      <a:lnTo>
                        <a:pt x="707" y="3915"/>
                      </a:lnTo>
                      <a:lnTo>
                        <a:pt x="0" y="3756"/>
                      </a:lnTo>
                      <a:close/>
                    </a:path>
                  </a:pathLst>
                </a:custGeom>
                <a:solidFill>
                  <a:srgbClr val="8f93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66"/>
                <p:cNvSpPr/>
                <p:nvPr/>
              </p:nvSpPr>
              <p:spPr>
                <a:xfrm>
                  <a:off x="1846440" y="2741400"/>
                  <a:ext cx="2095200" cy="821160"/>
                </a:xfrm>
                <a:custGeom>
                  <a:avLst/>
                  <a:gdLst/>
                  <a:ahLst/>
                  <a:rect l="l" t="t" r="r" b="b"/>
                  <a:pathLst>
                    <a:path w="9349" h="3943">
                      <a:moveTo>
                        <a:pt x="0" y="3784"/>
                      </a:moveTo>
                      <a:lnTo>
                        <a:pt x="8516" y="0"/>
                      </a:lnTo>
                      <a:lnTo>
                        <a:pt x="9349" y="103"/>
                      </a:lnTo>
                      <a:lnTo>
                        <a:pt x="707" y="3943"/>
                      </a:lnTo>
                      <a:lnTo>
                        <a:pt x="0" y="3784"/>
                      </a:lnTo>
                      <a:close/>
                    </a:path>
                  </a:pathLst>
                </a:custGeom>
                <a:solidFill>
                  <a:srgbClr val="9195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67"/>
                <p:cNvSpPr/>
                <p:nvPr/>
              </p:nvSpPr>
              <p:spPr>
                <a:xfrm>
                  <a:off x="1925280" y="2752560"/>
                  <a:ext cx="2109600" cy="826560"/>
                </a:xfrm>
                <a:custGeom>
                  <a:avLst/>
                  <a:gdLst/>
                  <a:ahLst/>
                  <a:rect l="l" t="t" r="r" b="b"/>
                  <a:pathLst>
                    <a:path w="9411" h="3970">
                      <a:moveTo>
                        <a:pt x="0" y="3812"/>
                      </a:moveTo>
                      <a:lnTo>
                        <a:pt x="8580" y="0"/>
                      </a:lnTo>
                      <a:lnTo>
                        <a:pt x="9411" y="102"/>
                      </a:lnTo>
                      <a:lnTo>
                        <a:pt x="706" y="3970"/>
                      </a:lnTo>
                      <a:lnTo>
                        <a:pt x="0" y="3812"/>
                      </a:lnTo>
                      <a:close/>
                    </a:path>
                  </a:pathLst>
                </a:custGeom>
                <a:solidFill>
                  <a:srgbClr val="9296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68"/>
                <p:cNvSpPr/>
                <p:nvPr/>
              </p:nvSpPr>
              <p:spPr>
                <a:xfrm>
                  <a:off x="2004120" y="2763000"/>
                  <a:ext cx="2124000" cy="833040"/>
                </a:xfrm>
                <a:custGeom>
                  <a:avLst/>
                  <a:gdLst/>
                  <a:ahLst/>
                  <a:rect l="l" t="t" r="r" b="b"/>
                  <a:pathLst>
                    <a:path w="9473" h="3999">
                      <a:moveTo>
                        <a:pt x="0" y="3840"/>
                      </a:moveTo>
                      <a:lnTo>
                        <a:pt x="8642" y="0"/>
                      </a:lnTo>
                      <a:lnTo>
                        <a:pt x="9473" y="103"/>
                      </a:lnTo>
                      <a:lnTo>
                        <a:pt x="706" y="3999"/>
                      </a:lnTo>
                      <a:lnTo>
                        <a:pt x="0" y="3840"/>
                      </a:lnTo>
                      <a:close/>
                    </a:path>
                  </a:pathLst>
                </a:custGeom>
                <a:solidFill>
                  <a:srgbClr val="949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9"/>
                <p:cNvSpPr/>
                <p:nvPr/>
              </p:nvSpPr>
              <p:spPr>
                <a:xfrm>
                  <a:off x="2083320" y="2772720"/>
                  <a:ext cx="2138400" cy="839880"/>
                </a:xfrm>
                <a:custGeom>
                  <a:avLst/>
                  <a:gdLst/>
                  <a:ahLst/>
                  <a:rect l="l" t="t" r="r" b="b"/>
                  <a:pathLst>
                    <a:path w="9537" h="4027">
                      <a:moveTo>
                        <a:pt x="0" y="3868"/>
                      </a:moveTo>
                      <a:lnTo>
                        <a:pt x="8705" y="0"/>
                      </a:lnTo>
                      <a:lnTo>
                        <a:pt x="9537" y="103"/>
                      </a:lnTo>
                      <a:lnTo>
                        <a:pt x="707" y="4027"/>
                      </a:lnTo>
                      <a:lnTo>
                        <a:pt x="0" y="3868"/>
                      </a:lnTo>
                      <a:close/>
                    </a:path>
                  </a:pathLst>
                </a:custGeom>
                <a:solidFill>
                  <a:srgbClr val="969b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70"/>
                <p:cNvSpPr/>
                <p:nvPr/>
              </p:nvSpPr>
              <p:spPr>
                <a:xfrm>
                  <a:off x="2162160" y="2784600"/>
                  <a:ext cx="2152800" cy="844920"/>
                </a:xfrm>
                <a:custGeom>
                  <a:avLst/>
                  <a:gdLst/>
                  <a:ahLst/>
                  <a:rect l="l" t="t" r="r" b="b"/>
                  <a:pathLst>
                    <a:path w="9598" h="4053">
                      <a:moveTo>
                        <a:pt x="0" y="3896"/>
                      </a:moveTo>
                      <a:lnTo>
                        <a:pt x="8767" y="0"/>
                      </a:lnTo>
                      <a:lnTo>
                        <a:pt x="9598" y="103"/>
                      </a:lnTo>
                      <a:lnTo>
                        <a:pt x="707" y="4053"/>
                      </a:lnTo>
                      <a:lnTo>
                        <a:pt x="0" y="3896"/>
                      </a:lnTo>
                      <a:close/>
                    </a:path>
                  </a:pathLst>
                </a:custGeom>
                <a:solidFill>
                  <a:srgbClr val="979c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371"/>
                <p:cNvSpPr/>
                <p:nvPr/>
              </p:nvSpPr>
              <p:spPr>
                <a:xfrm>
                  <a:off x="2241000" y="2794680"/>
                  <a:ext cx="2167200" cy="849600"/>
                </a:xfrm>
                <a:custGeom>
                  <a:avLst/>
                  <a:gdLst/>
                  <a:ahLst/>
                  <a:rect l="l" t="t" r="r" b="b"/>
                  <a:pathLst>
                    <a:path w="9661" h="4082">
                      <a:moveTo>
                        <a:pt x="0" y="3924"/>
                      </a:moveTo>
                      <a:lnTo>
                        <a:pt x="8830" y="0"/>
                      </a:lnTo>
                      <a:lnTo>
                        <a:pt x="9661" y="104"/>
                      </a:lnTo>
                      <a:lnTo>
                        <a:pt x="706" y="4082"/>
                      </a:lnTo>
                      <a:lnTo>
                        <a:pt x="0" y="3924"/>
                      </a:lnTo>
                      <a:close/>
                    </a:path>
                  </a:pathLst>
                </a:custGeom>
                <a:solidFill>
                  <a:srgbClr val="989e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372"/>
                <p:cNvSpPr/>
                <p:nvPr/>
              </p:nvSpPr>
              <p:spPr>
                <a:xfrm>
                  <a:off x="2321640" y="2805840"/>
                  <a:ext cx="2179800" cy="846720"/>
                </a:xfrm>
                <a:custGeom>
                  <a:avLst/>
                  <a:gdLst/>
                  <a:ahLst/>
                  <a:rect l="l" t="t" r="r" b="b"/>
                  <a:pathLst>
                    <a:path w="9724" h="4063">
                      <a:moveTo>
                        <a:pt x="0" y="3950"/>
                      </a:moveTo>
                      <a:lnTo>
                        <a:pt x="8891" y="0"/>
                      </a:lnTo>
                      <a:lnTo>
                        <a:pt x="9724" y="103"/>
                      </a:lnTo>
                      <a:lnTo>
                        <a:pt x="6716" y="1438"/>
                      </a:lnTo>
                      <a:lnTo>
                        <a:pt x="496" y="4063"/>
                      </a:lnTo>
                      <a:lnTo>
                        <a:pt x="0" y="3950"/>
                      </a:lnTo>
                      <a:close/>
                    </a:path>
                  </a:pathLst>
                </a:custGeom>
                <a:solidFill>
                  <a:srgbClr val="9aa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73"/>
                <p:cNvSpPr/>
                <p:nvPr/>
              </p:nvSpPr>
              <p:spPr>
                <a:xfrm>
                  <a:off x="2400480" y="2816280"/>
                  <a:ext cx="2129760" cy="836640"/>
                </a:xfrm>
                <a:custGeom>
                  <a:avLst/>
                  <a:gdLst/>
                  <a:ahLst/>
                  <a:rect l="l" t="t" r="r" b="b"/>
                  <a:pathLst>
                    <a:path w="9495" h="4011">
                      <a:moveTo>
                        <a:pt x="0" y="3978"/>
                      </a:moveTo>
                      <a:lnTo>
                        <a:pt x="8955" y="0"/>
                      </a:lnTo>
                      <a:lnTo>
                        <a:pt x="9495" y="67"/>
                      </a:lnTo>
                      <a:lnTo>
                        <a:pt x="144" y="4011"/>
                      </a:lnTo>
                      <a:lnTo>
                        <a:pt x="0" y="3978"/>
                      </a:lnTo>
                      <a:close/>
                    </a:path>
                  </a:pathLst>
                </a:custGeom>
                <a:solidFill>
                  <a:srgbClr val="9da1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74"/>
                <p:cNvSpPr/>
                <p:nvPr/>
              </p:nvSpPr>
              <p:spPr>
                <a:xfrm>
                  <a:off x="3826800" y="2827800"/>
                  <a:ext cx="703440" cy="277920"/>
                </a:xfrm>
                <a:custGeom>
                  <a:avLst/>
                  <a:gdLst/>
                  <a:ahLst/>
                  <a:rect l="l" t="t" r="r" b="b"/>
                  <a:pathLst>
                    <a:path w="3131" h="1335">
                      <a:moveTo>
                        <a:pt x="0" y="1335"/>
                      </a:moveTo>
                      <a:lnTo>
                        <a:pt x="3008" y="0"/>
                      </a:lnTo>
                      <a:lnTo>
                        <a:pt x="3131" y="16"/>
                      </a:lnTo>
                      <a:lnTo>
                        <a:pt x="0" y="1335"/>
                      </a:lnTo>
                      <a:close/>
                    </a:path>
                  </a:pathLst>
                </a:custGeom>
                <a:solidFill>
                  <a:srgbClr val="a0a4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375"/>
                <p:cNvSpPr/>
                <p:nvPr/>
              </p:nvSpPr>
              <p:spPr>
                <a:xfrm>
                  <a:off x="1431720" y="3435840"/>
                  <a:ext cx="28800" cy="39960"/>
                </a:xfrm>
                <a:custGeom>
                  <a:avLst/>
                  <a:gdLst/>
                  <a:ahLst/>
                  <a:rect l="l" t="t" r="r" b="b"/>
                  <a:pathLst>
                    <a:path w="126" h="196">
                      <a:moveTo>
                        <a:pt x="126" y="27"/>
                      </a:moveTo>
                      <a:lnTo>
                        <a:pt x="0" y="196"/>
                      </a:lnTo>
                      <a:lnTo>
                        <a:pt x="0" y="0"/>
                      </a:lnTo>
                      <a:lnTo>
                        <a:pt x="126" y="27"/>
                      </a:lnTo>
                      <a:close/>
                    </a:path>
                  </a:pathLst>
                </a:custGeom>
                <a:solidFill>
                  <a:srgbClr val="af7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76"/>
                <p:cNvSpPr/>
                <p:nvPr/>
              </p:nvSpPr>
              <p:spPr>
                <a:xfrm>
                  <a:off x="1431720" y="3435840"/>
                  <a:ext cx="57240" cy="81360"/>
                </a:xfrm>
                <a:custGeom>
                  <a:avLst/>
                  <a:gdLst/>
                  <a:ahLst/>
                  <a:rect l="l" t="t" r="r" b="b"/>
                  <a:pathLst>
                    <a:path w="253" h="392">
                      <a:moveTo>
                        <a:pt x="253" y="55"/>
                      </a:moveTo>
                      <a:lnTo>
                        <a:pt x="0" y="392"/>
                      </a:lnTo>
                      <a:lnTo>
                        <a:pt x="0" y="0"/>
                      </a:lnTo>
                      <a:lnTo>
                        <a:pt x="253" y="55"/>
                      </a:lnTo>
                      <a:close/>
                    </a:path>
                  </a:pathLst>
                </a:custGeom>
                <a:solidFill>
                  <a:srgbClr val="af70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377"/>
                <p:cNvSpPr/>
                <p:nvPr/>
              </p:nvSpPr>
              <p:spPr>
                <a:xfrm>
                  <a:off x="1431720" y="3441240"/>
                  <a:ext cx="86040" cy="116280"/>
                </a:xfrm>
                <a:custGeom>
                  <a:avLst/>
                  <a:gdLst/>
                  <a:ahLst/>
                  <a:rect l="l" t="t" r="r" b="b"/>
                  <a:pathLst>
                    <a:path w="380" h="562">
                      <a:moveTo>
                        <a:pt x="0" y="169"/>
                      </a:moveTo>
                      <a:lnTo>
                        <a:pt x="126" y="0"/>
                      </a:lnTo>
                      <a:lnTo>
                        <a:pt x="380" y="54"/>
                      </a:lnTo>
                      <a:lnTo>
                        <a:pt x="0" y="562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b072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378"/>
                <p:cNvSpPr/>
                <p:nvPr/>
              </p:nvSpPr>
              <p:spPr>
                <a:xfrm>
                  <a:off x="1431720" y="3447720"/>
                  <a:ext cx="114480" cy="151560"/>
                </a:xfrm>
                <a:custGeom>
                  <a:avLst/>
                  <a:gdLst/>
                  <a:ahLst/>
                  <a:rect l="l" t="t" r="r" b="b"/>
                  <a:pathLst>
                    <a:path w="507" h="730">
                      <a:moveTo>
                        <a:pt x="0" y="337"/>
                      </a:moveTo>
                      <a:lnTo>
                        <a:pt x="253" y="0"/>
                      </a:lnTo>
                      <a:lnTo>
                        <a:pt x="507" y="53"/>
                      </a:lnTo>
                      <a:lnTo>
                        <a:pt x="0" y="730"/>
                      </a:lnTo>
                      <a:lnTo>
                        <a:pt x="0" y="337"/>
                      </a:lnTo>
                      <a:close/>
                    </a:path>
                  </a:pathLst>
                </a:custGeom>
                <a:solidFill>
                  <a:srgbClr val="b275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79"/>
                <p:cNvSpPr/>
                <p:nvPr/>
              </p:nvSpPr>
              <p:spPr>
                <a:xfrm>
                  <a:off x="1431720" y="3452400"/>
                  <a:ext cx="141480" cy="186480"/>
                </a:xfrm>
                <a:custGeom>
                  <a:avLst/>
                  <a:gdLst/>
                  <a:ahLst/>
                  <a:rect l="l" t="t" r="r" b="b"/>
                  <a:pathLst>
                    <a:path w="634" h="900">
                      <a:moveTo>
                        <a:pt x="0" y="508"/>
                      </a:moveTo>
                      <a:lnTo>
                        <a:pt x="380" y="0"/>
                      </a:lnTo>
                      <a:lnTo>
                        <a:pt x="634" y="53"/>
                      </a:lnTo>
                      <a:lnTo>
                        <a:pt x="0" y="900"/>
                      </a:lnTo>
                      <a:lnTo>
                        <a:pt x="0" y="508"/>
                      </a:lnTo>
                      <a:close/>
                    </a:path>
                  </a:pathLst>
                </a:custGeom>
                <a:solidFill>
                  <a:srgbClr val="b378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80"/>
                <p:cNvSpPr/>
                <p:nvPr/>
              </p:nvSpPr>
              <p:spPr>
                <a:xfrm>
                  <a:off x="1431720" y="3457800"/>
                  <a:ext cx="170280" cy="223200"/>
                </a:xfrm>
                <a:custGeom>
                  <a:avLst/>
                  <a:gdLst/>
                  <a:ahLst/>
                  <a:rect l="l" t="t" r="r" b="b"/>
                  <a:pathLst>
                    <a:path w="761" h="1069">
                      <a:moveTo>
                        <a:pt x="0" y="677"/>
                      </a:moveTo>
                      <a:lnTo>
                        <a:pt x="507" y="0"/>
                      </a:lnTo>
                      <a:lnTo>
                        <a:pt x="761" y="53"/>
                      </a:lnTo>
                      <a:lnTo>
                        <a:pt x="0" y="1069"/>
                      </a:lnTo>
                      <a:lnTo>
                        <a:pt x="0" y="677"/>
                      </a:lnTo>
                      <a:close/>
                    </a:path>
                  </a:pathLst>
                </a:custGeom>
                <a:solidFill>
                  <a:srgbClr val="b57b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81"/>
                <p:cNvSpPr/>
                <p:nvPr/>
              </p:nvSpPr>
              <p:spPr>
                <a:xfrm>
                  <a:off x="1431720" y="3462840"/>
                  <a:ext cx="199080" cy="257760"/>
                </a:xfrm>
                <a:custGeom>
                  <a:avLst/>
                  <a:gdLst/>
                  <a:ahLst/>
                  <a:rect l="l" t="t" r="r" b="b"/>
                  <a:pathLst>
                    <a:path w="888" h="1238">
                      <a:moveTo>
                        <a:pt x="0" y="847"/>
                      </a:moveTo>
                      <a:lnTo>
                        <a:pt x="634" y="0"/>
                      </a:lnTo>
                      <a:lnTo>
                        <a:pt x="888" y="54"/>
                      </a:lnTo>
                      <a:lnTo>
                        <a:pt x="0" y="1238"/>
                      </a:lnTo>
                      <a:lnTo>
                        <a:pt x="0" y="847"/>
                      </a:lnTo>
                      <a:close/>
                    </a:path>
                  </a:pathLst>
                </a:custGeom>
                <a:solidFill>
                  <a:srgbClr val="b67d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382"/>
                <p:cNvSpPr/>
                <p:nvPr/>
              </p:nvSpPr>
              <p:spPr>
                <a:xfrm>
                  <a:off x="1431720" y="3469680"/>
                  <a:ext cx="227520" cy="293040"/>
                </a:xfrm>
                <a:custGeom>
                  <a:avLst/>
                  <a:gdLst/>
                  <a:ahLst/>
                  <a:rect l="l" t="t" r="r" b="b"/>
                  <a:pathLst>
                    <a:path w="1015" h="1407">
                      <a:moveTo>
                        <a:pt x="0" y="1016"/>
                      </a:moveTo>
                      <a:lnTo>
                        <a:pt x="761" y="0"/>
                      </a:lnTo>
                      <a:lnTo>
                        <a:pt x="1015" y="53"/>
                      </a:lnTo>
                      <a:lnTo>
                        <a:pt x="0" y="1407"/>
                      </a:lnTo>
                      <a:lnTo>
                        <a:pt x="0" y="1016"/>
                      </a:lnTo>
                      <a:close/>
                    </a:path>
                  </a:pathLst>
                </a:custGeom>
                <a:solidFill>
                  <a:srgbClr val="b8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383"/>
                <p:cNvSpPr/>
                <p:nvPr/>
              </p:nvSpPr>
              <p:spPr>
                <a:xfrm>
                  <a:off x="1431720" y="3474360"/>
                  <a:ext cx="256680" cy="327960"/>
                </a:xfrm>
                <a:custGeom>
                  <a:avLst/>
                  <a:gdLst/>
                  <a:ahLst/>
                  <a:rect l="l" t="t" r="r" b="b"/>
                  <a:pathLst>
                    <a:path w="1142" h="1576">
                      <a:moveTo>
                        <a:pt x="0" y="1184"/>
                      </a:moveTo>
                      <a:lnTo>
                        <a:pt x="888" y="0"/>
                      </a:lnTo>
                      <a:lnTo>
                        <a:pt x="1142" y="54"/>
                      </a:lnTo>
                      <a:lnTo>
                        <a:pt x="0" y="1576"/>
                      </a:lnTo>
                      <a:lnTo>
                        <a:pt x="0" y="1184"/>
                      </a:lnTo>
                      <a:close/>
                    </a:path>
                  </a:pathLst>
                </a:custGeom>
                <a:solidFill>
                  <a:srgbClr val="ba83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384"/>
                <p:cNvSpPr/>
                <p:nvPr/>
              </p:nvSpPr>
              <p:spPr>
                <a:xfrm>
                  <a:off x="1431720" y="3480840"/>
                  <a:ext cx="285120" cy="363240"/>
                </a:xfrm>
                <a:custGeom>
                  <a:avLst/>
                  <a:gdLst/>
                  <a:ahLst/>
                  <a:rect l="l" t="t" r="r" b="b"/>
                  <a:pathLst>
                    <a:path w="1269" h="1746">
                      <a:moveTo>
                        <a:pt x="0" y="1354"/>
                      </a:moveTo>
                      <a:lnTo>
                        <a:pt x="1015" y="0"/>
                      </a:lnTo>
                      <a:lnTo>
                        <a:pt x="1269" y="54"/>
                      </a:lnTo>
                      <a:lnTo>
                        <a:pt x="0" y="1746"/>
                      </a:lnTo>
                      <a:lnTo>
                        <a:pt x="0" y="1354"/>
                      </a:lnTo>
                      <a:close/>
                    </a:path>
                  </a:pathLst>
                </a:custGeom>
                <a:solidFill>
                  <a:srgbClr val="bb85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85"/>
                <p:cNvSpPr/>
                <p:nvPr/>
              </p:nvSpPr>
              <p:spPr>
                <a:xfrm>
                  <a:off x="1431720" y="3486240"/>
                  <a:ext cx="313920" cy="398160"/>
                </a:xfrm>
                <a:custGeom>
                  <a:avLst/>
                  <a:gdLst/>
                  <a:ahLst/>
                  <a:rect l="l" t="t" r="r" b="b"/>
                  <a:pathLst>
                    <a:path w="1396" h="1914">
                      <a:moveTo>
                        <a:pt x="0" y="1522"/>
                      </a:moveTo>
                      <a:lnTo>
                        <a:pt x="1142" y="0"/>
                      </a:lnTo>
                      <a:lnTo>
                        <a:pt x="1396" y="53"/>
                      </a:lnTo>
                      <a:lnTo>
                        <a:pt x="0" y="1914"/>
                      </a:lnTo>
                      <a:lnTo>
                        <a:pt x="0" y="1522"/>
                      </a:lnTo>
                      <a:close/>
                    </a:path>
                  </a:pathLst>
                </a:custGeom>
                <a:solidFill>
                  <a:srgbClr val="bd8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386"/>
                <p:cNvSpPr/>
                <p:nvPr/>
              </p:nvSpPr>
              <p:spPr>
                <a:xfrm>
                  <a:off x="1431720" y="3491280"/>
                  <a:ext cx="342360" cy="434880"/>
                </a:xfrm>
                <a:custGeom>
                  <a:avLst/>
                  <a:gdLst/>
                  <a:ahLst/>
                  <a:rect l="l" t="t" r="r" b="b"/>
                  <a:pathLst>
                    <a:path w="1523" h="2085">
                      <a:moveTo>
                        <a:pt x="0" y="1692"/>
                      </a:moveTo>
                      <a:lnTo>
                        <a:pt x="1269" y="0"/>
                      </a:lnTo>
                      <a:lnTo>
                        <a:pt x="1523" y="54"/>
                      </a:lnTo>
                      <a:lnTo>
                        <a:pt x="0" y="2085"/>
                      </a:lnTo>
                      <a:lnTo>
                        <a:pt x="0" y="1692"/>
                      </a:lnTo>
                      <a:close/>
                    </a:path>
                  </a:pathLst>
                </a:custGeom>
                <a:solidFill>
                  <a:srgbClr val="be89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387"/>
                <p:cNvSpPr/>
                <p:nvPr/>
              </p:nvSpPr>
              <p:spPr>
                <a:xfrm>
                  <a:off x="1431720" y="3497760"/>
                  <a:ext cx="369720" cy="468000"/>
                </a:xfrm>
                <a:custGeom>
                  <a:avLst/>
                  <a:gdLst/>
                  <a:ahLst/>
                  <a:rect l="l" t="t" r="r" b="b"/>
                  <a:pathLst>
                    <a:path w="1650" h="2254">
                      <a:moveTo>
                        <a:pt x="0" y="1861"/>
                      </a:moveTo>
                      <a:lnTo>
                        <a:pt x="1396" y="0"/>
                      </a:lnTo>
                      <a:lnTo>
                        <a:pt x="1650" y="53"/>
                      </a:lnTo>
                      <a:lnTo>
                        <a:pt x="0" y="2254"/>
                      </a:lnTo>
                      <a:lnTo>
                        <a:pt x="0" y="1861"/>
                      </a:lnTo>
                      <a:close/>
                    </a:path>
                  </a:pathLst>
                </a:custGeom>
                <a:solidFill>
                  <a:srgbClr val="bf8c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88"/>
                <p:cNvSpPr/>
                <p:nvPr/>
              </p:nvSpPr>
              <p:spPr>
                <a:xfrm>
                  <a:off x="1431720" y="3502800"/>
                  <a:ext cx="398160" cy="504720"/>
                </a:xfrm>
                <a:custGeom>
                  <a:avLst/>
                  <a:gdLst/>
                  <a:ahLst/>
                  <a:rect l="l" t="t" r="r" b="b"/>
                  <a:pathLst>
                    <a:path w="1777" h="2422">
                      <a:moveTo>
                        <a:pt x="0" y="2031"/>
                      </a:moveTo>
                      <a:lnTo>
                        <a:pt x="1523" y="0"/>
                      </a:lnTo>
                      <a:lnTo>
                        <a:pt x="1777" y="53"/>
                      </a:lnTo>
                      <a:lnTo>
                        <a:pt x="0" y="2422"/>
                      </a:lnTo>
                      <a:lnTo>
                        <a:pt x="0" y="2031"/>
                      </a:lnTo>
                      <a:close/>
                    </a:path>
                  </a:pathLst>
                </a:custGeom>
                <a:solidFill>
                  <a:srgbClr val="c08f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89"/>
                <p:cNvSpPr/>
                <p:nvPr/>
              </p:nvSpPr>
              <p:spPr>
                <a:xfrm>
                  <a:off x="1431720" y="3507840"/>
                  <a:ext cx="426960" cy="540000"/>
                </a:xfrm>
                <a:custGeom>
                  <a:avLst/>
                  <a:gdLst/>
                  <a:ahLst/>
                  <a:rect l="l" t="t" r="r" b="b"/>
                  <a:pathLst>
                    <a:path w="1904" h="2592">
                      <a:moveTo>
                        <a:pt x="0" y="2201"/>
                      </a:moveTo>
                      <a:lnTo>
                        <a:pt x="1650" y="0"/>
                      </a:lnTo>
                      <a:lnTo>
                        <a:pt x="1904" y="53"/>
                      </a:lnTo>
                      <a:lnTo>
                        <a:pt x="0" y="2592"/>
                      </a:lnTo>
                      <a:lnTo>
                        <a:pt x="0" y="2201"/>
                      </a:lnTo>
                      <a:close/>
                    </a:path>
                  </a:pathLst>
                </a:custGeom>
                <a:solidFill>
                  <a:srgbClr val="c292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390"/>
                <p:cNvSpPr/>
                <p:nvPr/>
              </p:nvSpPr>
              <p:spPr>
                <a:xfrm>
                  <a:off x="1431720" y="3514680"/>
                  <a:ext cx="455400" cy="574560"/>
                </a:xfrm>
                <a:custGeom>
                  <a:avLst/>
                  <a:gdLst/>
                  <a:ahLst/>
                  <a:rect l="l" t="t" r="r" b="b"/>
                  <a:pathLst>
                    <a:path w="2031" h="2761">
                      <a:moveTo>
                        <a:pt x="0" y="2369"/>
                      </a:moveTo>
                      <a:lnTo>
                        <a:pt x="1777" y="0"/>
                      </a:lnTo>
                      <a:lnTo>
                        <a:pt x="2031" y="54"/>
                      </a:lnTo>
                      <a:lnTo>
                        <a:pt x="0" y="2761"/>
                      </a:lnTo>
                      <a:lnTo>
                        <a:pt x="0" y="2369"/>
                      </a:lnTo>
                      <a:close/>
                    </a:path>
                  </a:pathLst>
                </a:custGeom>
                <a:solidFill>
                  <a:srgbClr val="c49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91"/>
                <p:cNvSpPr/>
                <p:nvPr/>
              </p:nvSpPr>
              <p:spPr>
                <a:xfrm>
                  <a:off x="1431720" y="3519360"/>
                  <a:ext cx="484200" cy="609840"/>
                </a:xfrm>
                <a:custGeom>
                  <a:avLst/>
                  <a:gdLst/>
                  <a:ahLst/>
                  <a:rect l="l" t="t" r="r" b="b"/>
                  <a:pathLst>
                    <a:path w="2158" h="2931">
                      <a:moveTo>
                        <a:pt x="0" y="2539"/>
                      </a:moveTo>
                      <a:lnTo>
                        <a:pt x="1904" y="0"/>
                      </a:lnTo>
                      <a:lnTo>
                        <a:pt x="2158" y="55"/>
                      </a:lnTo>
                      <a:lnTo>
                        <a:pt x="0" y="2931"/>
                      </a:lnTo>
                      <a:lnTo>
                        <a:pt x="0" y="2539"/>
                      </a:lnTo>
                      <a:close/>
                    </a:path>
                  </a:pathLst>
                </a:custGeom>
                <a:solidFill>
                  <a:srgbClr val="c497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92"/>
                <p:cNvSpPr/>
                <p:nvPr/>
              </p:nvSpPr>
              <p:spPr>
                <a:xfrm>
                  <a:off x="1431720" y="3524400"/>
                  <a:ext cx="513000" cy="646560"/>
                </a:xfrm>
                <a:custGeom>
                  <a:avLst/>
                  <a:gdLst/>
                  <a:ahLst/>
                  <a:rect l="l" t="t" r="r" b="b"/>
                  <a:pathLst>
                    <a:path w="2284" h="3099">
                      <a:moveTo>
                        <a:pt x="0" y="2707"/>
                      </a:moveTo>
                      <a:lnTo>
                        <a:pt x="2031" y="0"/>
                      </a:lnTo>
                      <a:lnTo>
                        <a:pt x="2284" y="53"/>
                      </a:lnTo>
                      <a:lnTo>
                        <a:pt x="0" y="3099"/>
                      </a:lnTo>
                      <a:lnTo>
                        <a:pt x="0" y="2707"/>
                      </a:lnTo>
                      <a:close/>
                    </a:path>
                  </a:pathLst>
                </a:custGeom>
                <a:solidFill>
                  <a:srgbClr val="c598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393"/>
                <p:cNvSpPr/>
                <p:nvPr/>
              </p:nvSpPr>
              <p:spPr>
                <a:xfrm>
                  <a:off x="1431720" y="3531240"/>
                  <a:ext cx="541800" cy="659520"/>
                </a:xfrm>
                <a:custGeom>
                  <a:avLst/>
                  <a:gdLst/>
                  <a:ahLst/>
                  <a:rect l="l" t="t" r="r" b="b"/>
                  <a:pathLst>
                    <a:path w="2411" h="3167">
                      <a:moveTo>
                        <a:pt x="0" y="2876"/>
                      </a:moveTo>
                      <a:lnTo>
                        <a:pt x="2158" y="0"/>
                      </a:lnTo>
                      <a:lnTo>
                        <a:pt x="2411" y="53"/>
                      </a:lnTo>
                      <a:lnTo>
                        <a:pt x="75" y="3167"/>
                      </a:lnTo>
                      <a:lnTo>
                        <a:pt x="0" y="3145"/>
                      </a:lnTo>
                      <a:lnTo>
                        <a:pt x="0" y="3145"/>
                      </a:lnTo>
                      <a:lnTo>
                        <a:pt x="0" y="2876"/>
                      </a:lnTo>
                      <a:close/>
                    </a:path>
                  </a:pathLst>
                </a:custGeom>
                <a:solidFill>
                  <a:srgbClr val="c599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94"/>
                <p:cNvSpPr/>
                <p:nvPr/>
              </p:nvSpPr>
              <p:spPr>
                <a:xfrm>
                  <a:off x="1431720" y="3535920"/>
                  <a:ext cx="568440" cy="661680"/>
                </a:xfrm>
                <a:custGeom>
                  <a:avLst/>
                  <a:gdLst/>
                  <a:ahLst/>
                  <a:rect l="l" t="t" r="r" b="b"/>
                  <a:pathLst>
                    <a:path w="2538" h="3177">
                      <a:moveTo>
                        <a:pt x="0" y="3046"/>
                      </a:moveTo>
                      <a:lnTo>
                        <a:pt x="2284" y="0"/>
                      </a:lnTo>
                      <a:lnTo>
                        <a:pt x="2538" y="54"/>
                      </a:lnTo>
                      <a:lnTo>
                        <a:pt x="196" y="3177"/>
                      </a:lnTo>
                      <a:lnTo>
                        <a:pt x="0" y="3119"/>
                      </a:lnTo>
                      <a:lnTo>
                        <a:pt x="0" y="3119"/>
                      </a:lnTo>
                      <a:lnTo>
                        <a:pt x="0" y="3046"/>
                      </a:lnTo>
                      <a:close/>
                    </a:path>
                  </a:pathLst>
                </a:custGeom>
                <a:solidFill>
                  <a:srgbClr val="c69a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95"/>
                <p:cNvSpPr/>
                <p:nvPr/>
              </p:nvSpPr>
              <p:spPr>
                <a:xfrm>
                  <a:off x="1449720" y="3540960"/>
                  <a:ext cx="579600" cy="663120"/>
                </a:xfrm>
                <a:custGeom>
                  <a:avLst/>
                  <a:gdLst/>
                  <a:ahLst/>
                  <a:rect l="l" t="t" r="r" b="b"/>
                  <a:pathLst>
                    <a:path w="2590" h="3185">
                      <a:moveTo>
                        <a:pt x="0" y="3114"/>
                      </a:moveTo>
                      <a:lnTo>
                        <a:pt x="2336" y="0"/>
                      </a:lnTo>
                      <a:lnTo>
                        <a:pt x="2590" y="53"/>
                      </a:lnTo>
                      <a:lnTo>
                        <a:pt x="242" y="3185"/>
                      </a:lnTo>
                      <a:lnTo>
                        <a:pt x="0" y="3114"/>
                      </a:lnTo>
                      <a:close/>
                    </a:path>
                  </a:pathLst>
                </a:custGeom>
                <a:solidFill>
                  <a:srgbClr val="c89c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96"/>
                <p:cNvSpPr/>
                <p:nvPr/>
              </p:nvSpPr>
              <p:spPr>
                <a:xfrm>
                  <a:off x="1476720" y="3547800"/>
                  <a:ext cx="581040" cy="664560"/>
                </a:xfrm>
                <a:custGeom>
                  <a:avLst/>
                  <a:gdLst/>
                  <a:ahLst/>
                  <a:rect l="l" t="t" r="r" b="b"/>
                  <a:pathLst>
                    <a:path w="2596" h="3193">
                      <a:moveTo>
                        <a:pt x="0" y="3123"/>
                      </a:moveTo>
                      <a:lnTo>
                        <a:pt x="2342" y="0"/>
                      </a:lnTo>
                      <a:lnTo>
                        <a:pt x="2596" y="54"/>
                      </a:lnTo>
                      <a:lnTo>
                        <a:pt x="242" y="3193"/>
                      </a:lnTo>
                      <a:lnTo>
                        <a:pt x="0" y="3123"/>
                      </a:lnTo>
                      <a:close/>
                    </a:path>
                  </a:pathLst>
                </a:custGeom>
                <a:solidFill>
                  <a:srgbClr val="c89c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397"/>
                <p:cNvSpPr/>
                <p:nvPr/>
              </p:nvSpPr>
              <p:spPr>
                <a:xfrm>
                  <a:off x="1503720" y="3552840"/>
                  <a:ext cx="582840" cy="666360"/>
                </a:xfrm>
                <a:custGeom>
                  <a:avLst/>
                  <a:gdLst/>
                  <a:ahLst/>
                  <a:rect l="l" t="t" r="r" b="b"/>
                  <a:pathLst>
                    <a:path w="2602" h="3202">
                      <a:moveTo>
                        <a:pt x="0" y="3132"/>
                      </a:moveTo>
                      <a:lnTo>
                        <a:pt x="2348" y="0"/>
                      </a:lnTo>
                      <a:lnTo>
                        <a:pt x="2602" y="54"/>
                      </a:lnTo>
                      <a:lnTo>
                        <a:pt x="241" y="3202"/>
                      </a:lnTo>
                      <a:lnTo>
                        <a:pt x="0" y="3132"/>
                      </a:lnTo>
                      <a:close/>
                    </a:path>
                  </a:pathLst>
                </a:custGeom>
                <a:solidFill>
                  <a:srgbClr val="c99e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98"/>
                <p:cNvSpPr/>
                <p:nvPr/>
              </p:nvSpPr>
              <p:spPr>
                <a:xfrm>
                  <a:off x="1530720" y="3557520"/>
                  <a:ext cx="584640" cy="669960"/>
                </a:xfrm>
                <a:custGeom>
                  <a:avLst/>
                  <a:gdLst/>
                  <a:ahLst/>
                  <a:rect l="l" t="t" r="r" b="b"/>
                  <a:pathLst>
                    <a:path w="2608" h="3209">
                      <a:moveTo>
                        <a:pt x="0" y="3139"/>
                      </a:moveTo>
                      <a:lnTo>
                        <a:pt x="2354" y="0"/>
                      </a:lnTo>
                      <a:lnTo>
                        <a:pt x="2608" y="53"/>
                      </a:lnTo>
                      <a:lnTo>
                        <a:pt x="240" y="3209"/>
                      </a:lnTo>
                      <a:lnTo>
                        <a:pt x="0" y="3139"/>
                      </a:lnTo>
                      <a:close/>
                    </a:path>
                  </a:pathLst>
                </a:custGeom>
                <a:solidFill>
                  <a:srgbClr val="ca9f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99"/>
                <p:cNvSpPr/>
                <p:nvPr/>
              </p:nvSpPr>
              <p:spPr>
                <a:xfrm>
                  <a:off x="1557360" y="3564360"/>
                  <a:ext cx="586440" cy="669960"/>
                </a:xfrm>
                <a:custGeom>
                  <a:avLst/>
                  <a:gdLst/>
                  <a:ahLst/>
                  <a:rect l="l" t="t" r="r" b="b"/>
                  <a:pathLst>
                    <a:path w="2615" h="3218">
                      <a:moveTo>
                        <a:pt x="0" y="3148"/>
                      </a:moveTo>
                      <a:lnTo>
                        <a:pt x="2361" y="0"/>
                      </a:lnTo>
                      <a:lnTo>
                        <a:pt x="2615" y="54"/>
                      </a:lnTo>
                      <a:lnTo>
                        <a:pt x="242" y="3218"/>
                      </a:lnTo>
                      <a:lnTo>
                        <a:pt x="0" y="3148"/>
                      </a:lnTo>
                      <a:close/>
                    </a:path>
                  </a:pathLst>
                </a:custGeom>
                <a:solidFill>
                  <a:srgbClr val="caa0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400"/>
                <p:cNvSpPr/>
                <p:nvPr/>
              </p:nvSpPr>
              <p:spPr>
                <a:xfrm>
                  <a:off x="1584360" y="3569400"/>
                  <a:ext cx="588240" cy="671400"/>
                </a:xfrm>
                <a:custGeom>
                  <a:avLst/>
                  <a:gdLst/>
                  <a:ahLst/>
                  <a:rect l="l" t="t" r="r" b="b"/>
                  <a:pathLst>
                    <a:path w="2622" h="3226">
                      <a:moveTo>
                        <a:pt x="0" y="3156"/>
                      </a:moveTo>
                      <a:lnTo>
                        <a:pt x="2368" y="0"/>
                      </a:lnTo>
                      <a:lnTo>
                        <a:pt x="2622" y="53"/>
                      </a:lnTo>
                      <a:lnTo>
                        <a:pt x="242" y="3226"/>
                      </a:lnTo>
                      <a:lnTo>
                        <a:pt x="0" y="3156"/>
                      </a:lnTo>
                      <a:close/>
                    </a:path>
                  </a:pathLst>
                </a:custGeom>
                <a:solidFill>
                  <a:srgbClr val="cca2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401"/>
                <p:cNvSpPr/>
                <p:nvPr/>
              </p:nvSpPr>
              <p:spPr>
                <a:xfrm>
                  <a:off x="1611360" y="3576240"/>
                  <a:ext cx="590040" cy="672840"/>
                </a:xfrm>
                <a:custGeom>
                  <a:avLst/>
                  <a:gdLst/>
                  <a:ahLst/>
                  <a:rect l="l" t="t" r="r" b="b"/>
                  <a:pathLst>
                    <a:path w="2627" h="3235">
                      <a:moveTo>
                        <a:pt x="0" y="3164"/>
                      </a:moveTo>
                      <a:lnTo>
                        <a:pt x="2373" y="0"/>
                      </a:lnTo>
                      <a:lnTo>
                        <a:pt x="2627" y="53"/>
                      </a:lnTo>
                      <a:lnTo>
                        <a:pt x="240" y="3235"/>
                      </a:lnTo>
                      <a:lnTo>
                        <a:pt x="0" y="3164"/>
                      </a:lnTo>
                      <a:close/>
                    </a:path>
                  </a:pathLst>
                </a:custGeom>
                <a:solidFill>
                  <a:srgbClr val="cca2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02"/>
                <p:cNvSpPr/>
                <p:nvPr/>
              </p:nvSpPr>
              <p:spPr>
                <a:xfrm>
                  <a:off x="1638000" y="3580920"/>
                  <a:ext cx="590040" cy="674640"/>
                </a:xfrm>
                <a:custGeom>
                  <a:avLst/>
                  <a:gdLst/>
                  <a:ahLst/>
                  <a:rect l="l" t="t" r="r" b="b"/>
                  <a:pathLst>
                    <a:path w="2634" h="3244">
                      <a:moveTo>
                        <a:pt x="0" y="3173"/>
                      </a:moveTo>
                      <a:lnTo>
                        <a:pt x="2380" y="0"/>
                      </a:lnTo>
                      <a:lnTo>
                        <a:pt x="2634" y="54"/>
                      </a:lnTo>
                      <a:lnTo>
                        <a:pt x="241" y="3244"/>
                      </a:lnTo>
                      <a:lnTo>
                        <a:pt x="0" y="3173"/>
                      </a:lnTo>
                      <a:close/>
                    </a:path>
                  </a:pathLst>
                </a:custGeom>
                <a:solidFill>
                  <a:srgbClr val="cda4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403"/>
                <p:cNvSpPr/>
                <p:nvPr/>
              </p:nvSpPr>
              <p:spPr>
                <a:xfrm>
                  <a:off x="1665000" y="3585960"/>
                  <a:ext cx="592200" cy="678240"/>
                </a:xfrm>
                <a:custGeom>
                  <a:avLst/>
                  <a:gdLst/>
                  <a:ahLst/>
                  <a:rect l="l" t="t" r="r" b="b"/>
                  <a:pathLst>
                    <a:path w="2641" h="3252">
                      <a:moveTo>
                        <a:pt x="0" y="3182"/>
                      </a:moveTo>
                      <a:lnTo>
                        <a:pt x="2387" y="0"/>
                      </a:lnTo>
                      <a:lnTo>
                        <a:pt x="2641" y="54"/>
                      </a:lnTo>
                      <a:lnTo>
                        <a:pt x="242" y="3252"/>
                      </a:lnTo>
                      <a:lnTo>
                        <a:pt x="0" y="3182"/>
                      </a:lnTo>
                      <a:close/>
                    </a:path>
                  </a:pathLst>
                </a:custGeom>
                <a:solidFill>
                  <a:srgbClr val="cfa5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404"/>
                <p:cNvSpPr/>
                <p:nvPr/>
              </p:nvSpPr>
              <p:spPr>
                <a:xfrm>
                  <a:off x="1692000" y="3591000"/>
                  <a:ext cx="593280" cy="680040"/>
                </a:xfrm>
                <a:custGeom>
                  <a:avLst/>
                  <a:gdLst/>
                  <a:ahLst/>
                  <a:rect l="l" t="t" r="r" b="b"/>
                  <a:pathLst>
                    <a:path w="2647" h="3260">
                      <a:moveTo>
                        <a:pt x="0" y="3190"/>
                      </a:moveTo>
                      <a:lnTo>
                        <a:pt x="2393" y="0"/>
                      </a:lnTo>
                      <a:lnTo>
                        <a:pt x="2647" y="54"/>
                      </a:lnTo>
                      <a:lnTo>
                        <a:pt x="242" y="3260"/>
                      </a:lnTo>
                      <a:lnTo>
                        <a:pt x="0" y="3190"/>
                      </a:lnTo>
                      <a:close/>
                    </a:path>
                  </a:pathLst>
                </a:custGeom>
                <a:solidFill>
                  <a:srgbClr val="cfa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405"/>
                <p:cNvSpPr/>
                <p:nvPr/>
              </p:nvSpPr>
              <p:spPr>
                <a:xfrm>
                  <a:off x="1719000" y="3597840"/>
                  <a:ext cx="568440" cy="679680"/>
                </a:xfrm>
                <a:custGeom>
                  <a:avLst/>
                  <a:gdLst/>
                  <a:ahLst/>
                  <a:rect l="l" t="t" r="r" b="b"/>
                  <a:pathLst>
                    <a:path w="2533" h="3268">
                      <a:moveTo>
                        <a:pt x="0" y="3198"/>
                      </a:moveTo>
                      <a:lnTo>
                        <a:pt x="2399" y="0"/>
                      </a:lnTo>
                      <a:lnTo>
                        <a:pt x="2533" y="28"/>
                      </a:lnTo>
                      <a:lnTo>
                        <a:pt x="2533" y="28"/>
                      </a:lnTo>
                      <a:lnTo>
                        <a:pt x="2533" y="213"/>
                      </a:lnTo>
                      <a:lnTo>
                        <a:pt x="241" y="3268"/>
                      </a:lnTo>
                      <a:lnTo>
                        <a:pt x="0" y="3198"/>
                      </a:lnTo>
                      <a:close/>
                    </a:path>
                  </a:pathLst>
                </a:custGeom>
                <a:solidFill>
                  <a:srgbClr val="d0a7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Freeform 406"/>
              <p:cNvSpPr/>
              <p:nvPr/>
            </p:nvSpPr>
            <p:spPr>
              <a:xfrm>
                <a:off x="1746000" y="3602880"/>
                <a:ext cx="541800" cy="683280"/>
              </a:xfrm>
              <a:custGeom>
                <a:avLst/>
                <a:gdLst/>
                <a:ahLst/>
                <a:rect l="l" t="t" r="r" b="b"/>
                <a:pathLst>
                  <a:path w="2412" h="3276">
                    <a:moveTo>
                      <a:pt x="0" y="3206"/>
                    </a:moveTo>
                    <a:lnTo>
                      <a:pt x="2405" y="0"/>
                    </a:lnTo>
                    <a:lnTo>
                      <a:pt x="2412" y="1"/>
                    </a:lnTo>
                    <a:lnTo>
                      <a:pt x="2412" y="1"/>
                    </a:lnTo>
                    <a:lnTo>
                      <a:pt x="2412" y="382"/>
                    </a:lnTo>
                    <a:lnTo>
                      <a:pt x="240" y="3276"/>
                    </a:lnTo>
                    <a:lnTo>
                      <a:pt x="0" y="3206"/>
                    </a:lnTo>
                    <a:close/>
                  </a:path>
                </a:pathLst>
              </a:custGeom>
              <a:solidFill>
                <a:srgbClr val="d2a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407"/>
              <p:cNvSpPr/>
              <p:nvPr/>
            </p:nvSpPr>
            <p:spPr>
              <a:xfrm>
                <a:off x="1774440" y="3641400"/>
                <a:ext cx="513360" cy="651240"/>
              </a:xfrm>
              <a:custGeom>
                <a:avLst/>
                <a:gdLst/>
                <a:ahLst/>
                <a:rect l="l" t="t" r="r" b="b"/>
                <a:pathLst>
                  <a:path w="2292" h="3125">
                    <a:moveTo>
                      <a:pt x="0" y="3055"/>
                    </a:moveTo>
                    <a:lnTo>
                      <a:pt x="2292" y="0"/>
                    </a:lnTo>
                    <a:lnTo>
                      <a:pt x="2292" y="391"/>
                    </a:lnTo>
                    <a:lnTo>
                      <a:pt x="242" y="3125"/>
                    </a:lnTo>
                    <a:lnTo>
                      <a:pt x="0" y="3055"/>
                    </a:lnTo>
                    <a:close/>
                  </a:path>
                </a:pathLst>
              </a:custGeom>
              <a:solidFill>
                <a:srgbClr val="d2aa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408"/>
              <p:cNvSpPr/>
              <p:nvPr/>
            </p:nvSpPr>
            <p:spPr>
              <a:xfrm>
                <a:off x="1801800" y="3683160"/>
                <a:ext cx="486000" cy="618120"/>
              </a:xfrm>
              <a:custGeom>
                <a:avLst/>
                <a:gdLst/>
                <a:ahLst/>
                <a:rect l="l" t="t" r="r" b="b"/>
                <a:pathLst>
                  <a:path w="2172" h="2965">
                    <a:moveTo>
                      <a:pt x="0" y="2894"/>
                    </a:moveTo>
                    <a:lnTo>
                      <a:pt x="2172" y="0"/>
                    </a:lnTo>
                    <a:lnTo>
                      <a:pt x="2172" y="391"/>
                    </a:lnTo>
                    <a:lnTo>
                      <a:pt x="242" y="2965"/>
                    </a:lnTo>
                    <a:lnTo>
                      <a:pt x="0" y="2894"/>
                    </a:lnTo>
                    <a:close/>
                  </a:path>
                </a:pathLst>
              </a:custGeom>
              <a:solidFill>
                <a:srgbClr val="d3ac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409"/>
              <p:cNvSpPr/>
              <p:nvPr/>
            </p:nvSpPr>
            <p:spPr>
              <a:xfrm>
                <a:off x="1828800" y="3723120"/>
                <a:ext cx="459000" cy="585000"/>
              </a:xfrm>
              <a:custGeom>
                <a:avLst/>
                <a:gdLst/>
                <a:ahLst/>
                <a:rect l="l" t="t" r="r" b="b"/>
                <a:pathLst>
                  <a:path w="2050" h="2805">
                    <a:moveTo>
                      <a:pt x="0" y="2734"/>
                    </a:moveTo>
                    <a:lnTo>
                      <a:pt x="2050" y="0"/>
                    </a:lnTo>
                    <a:lnTo>
                      <a:pt x="2050" y="392"/>
                    </a:lnTo>
                    <a:lnTo>
                      <a:pt x="241" y="2805"/>
                    </a:lnTo>
                    <a:lnTo>
                      <a:pt x="0" y="2734"/>
                    </a:lnTo>
                    <a:close/>
                  </a:path>
                </a:pathLst>
              </a:custGeom>
              <a:solidFill>
                <a:srgbClr val="d4a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410"/>
              <p:cNvSpPr/>
              <p:nvPr/>
            </p:nvSpPr>
            <p:spPr>
              <a:xfrm>
                <a:off x="1855440" y="3764520"/>
                <a:ext cx="432360" cy="549720"/>
              </a:xfrm>
              <a:custGeom>
                <a:avLst/>
                <a:gdLst/>
                <a:ahLst/>
                <a:rect l="l" t="t" r="r" b="b"/>
                <a:pathLst>
                  <a:path w="1930" h="2644">
                    <a:moveTo>
                      <a:pt x="0" y="2574"/>
                    </a:moveTo>
                    <a:lnTo>
                      <a:pt x="1930" y="0"/>
                    </a:lnTo>
                    <a:lnTo>
                      <a:pt x="1930" y="392"/>
                    </a:lnTo>
                    <a:lnTo>
                      <a:pt x="241" y="2644"/>
                    </a:lnTo>
                    <a:lnTo>
                      <a:pt x="0" y="2574"/>
                    </a:lnTo>
                    <a:close/>
                  </a:path>
                </a:pathLst>
              </a:custGeom>
              <a:solidFill>
                <a:srgbClr val="d5b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411"/>
              <p:cNvSpPr/>
              <p:nvPr/>
            </p:nvSpPr>
            <p:spPr>
              <a:xfrm>
                <a:off x="1882440" y="3804840"/>
                <a:ext cx="405360" cy="518040"/>
              </a:xfrm>
              <a:custGeom>
                <a:avLst/>
                <a:gdLst/>
                <a:ahLst/>
                <a:rect l="l" t="t" r="r" b="b"/>
                <a:pathLst>
                  <a:path w="1809" h="2483">
                    <a:moveTo>
                      <a:pt x="0" y="2413"/>
                    </a:moveTo>
                    <a:lnTo>
                      <a:pt x="1809" y="0"/>
                    </a:lnTo>
                    <a:lnTo>
                      <a:pt x="1809" y="392"/>
                    </a:lnTo>
                    <a:lnTo>
                      <a:pt x="241" y="2483"/>
                    </a:lnTo>
                    <a:lnTo>
                      <a:pt x="0" y="2413"/>
                    </a:lnTo>
                    <a:close/>
                  </a:path>
                </a:pathLst>
              </a:custGeom>
              <a:solidFill>
                <a:srgbClr val="d7b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412"/>
              <p:cNvSpPr/>
              <p:nvPr/>
            </p:nvSpPr>
            <p:spPr>
              <a:xfrm>
                <a:off x="1909080" y="3846240"/>
                <a:ext cx="378720" cy="483120"/>
              </a:xfrm>
              <a:custGeom>
                <a:avLst/>
                <a:gdLst/>
                <a:ahLst/>
                <a:rect l="l" t="t" r="r" b="b"/>
                <a:pathLst>
                  <a:path w="1689" h="2322">
                    <a:moveTo>
                      <a:pt x="0" y="2252"/>
                    </a:moveTo>
                    <a:lnTo>
                      <a:pt x="1689" y="0"/>
                    </a:lnTo>
                    <a:lnTo>
                      <a:pt x="1689" y="393"/>
                    </a:lnTo>
                    <a:lnTo>
                      <a:pt x="242" y="2322"/>
                    </a:lnTo>
                    <a:lnTo>
                      <a:pt x="0" y="2252"/>
                    </a:lnTo>
                    <a:close/>
                  </a:path>
                </a:pathLst>
              </a:custGeom>
              <a:solidFill>
                <a:srgbClr val="d7b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413"/>
              <p:cNvSpPr/>
              <p:nvPr/>
            </p:nvSpPr>
            <p:spPr>
              <a:xfrm>
                <a:off x="1936080" y="3886200"/>
                <a:ext cx="351720" cy="451440"/>
              </a:xfrm>
              <a:custGeom>
                <a:avLst/>
                <a:gdLst/>
                <a:ahLst/>
                <a:rect l="l" t="t" r="r" b="b"/>
                <a:pathLst>
                  <a:path w="1568" h="2161">
                    <a:moveTo>
                      <a:pt x="0" y="2091"/>
                    </a:moveTo>
                    <a:lnTo>
                      <a:pt x="1568" y="0"/>
                    </a:lnTo>
                    <a:lnTo>
                      <a:pt x="1568" y="393"/>
                    </a:lnTo>
                    <a:lnTo>
                      <a:pt x="241" y="2161"/>
                    </a:lnTo>
                    <a:lnTo>
                      <a:pt x="0" y="2091"/>
                    </a:lnTo>
                    <a:close/>
                  </a:path>
                </a:pathLst>
              </a:custGeom>
              <a:solidFill>
                <a:srgbClr val="d9b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414"/>
              <p:cNvSpPr/>
              <p:nvPr/>
            </p:nvSpPr>
            <p:spPr>
              <a:xfrm>
                <a:off x="1963080" y="3927960"/>
                <a:ext cx="325080" cy="416520"/>
              </a:xfrm>
              <a:custGeom>
                <a:avLst/>
                <a:gdLst/>
                <a:ahLst/>
                <a:rect l="l" t="t" r="r" b="b"/>
                <a:pathLst>
                  <a:path w="1447" h="1999">
                    <a:moveTo>
                      <a:pt x="0" y="1929"/>
                    </a:moveTo>
                    <a:lnTo>
                      <a:pt x="1447" y="0"/>
                    </a:lnTo>
                    <a:lnTo>
                      <a:pt x="1447" y="391"/>
                    </a:lnTo>
                    <a:lnTo>
                      <a:pt x="242" y="1999"/>
                    </a:lnTo>
                    <a:lnTo>
                      <a:pt x="0" y="1929"/>
                    </a:lnTo>
                    <a:close/>
                  </a:path>
                </a:pathLst>
              </a:custGeom>
              <a:solidFill>
                <a:srgbClr val="dab7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15"/>
              <p:cNvSpPr/>
              <p:nvPr/>
            </p:nvSpPr>
            <p:spPr>
              <a:xfrm>
                <a:off x="1990080" y="3967920"/>
                <a:ext cx="297720" cy="383040"/>
              </a:xfrm>
              <a:custGeom>
                <a:avLst/>
                <a:gdLst/>
                <a:ahLst/>
                <a:rect l="l" t="t" r="r" b="b"/>
                <a:pathLst>
                  <a:path w="1327" h="1839">
                    <a:moveTo>
                      <a:pt x="0" y="1768"/>
                    </a:moveTo>
                    <a:lnTo>
                      <a:pt x="1327" y="0"/>
                    </a:lnTo>
                    <a:lnTo>
                      <a:pt x="1327" y="391"/>
                    </a:lnTo>
                    <a:lnTo>
                      <a:pt x="242" y="1839"/>
                    </a:lnTo>
                    <a:lnTo>
                      <a:pt x="0" y="1768"/>
                    </a:lnTo>
                    <a:close/>
                  </a:path>
                </a:pathLst>
              </a:custGeom>
              <a:solidFill>
                <a:srgbClr val="dab9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16"/>
              <p:cNvSpPr/>
              <p:nvPr/>
            </p:nvSpPr>
            <p:spPr>
              <a:xfrm>
                <a:off x="2017080" y="4009680"/>
                <a:ext cx="270720" cy="349920"/>
              </a:xfrm>
              <a:custGeom>
                <a:avLst/>
                <a:gdLst/>
                <a:ahLst/>
                <a:rect l="l" t="t" r="r" b="b"/>
                <a:pathLst>
                  <a:path w="1205" h="1679">
                    <a:moveTo>
                      <a:pt x="0" y="1608"/>
                    </a:moveTo>
                    <a:lnTo>
                      <a:pt x="1205" y="0"/>
                    </a:lnTo>
                    <a:lnTo>
                      <a:pt x="1205" y="392"/>
                    </a:lnTo>
                    <a:lnTo>
                      <a:pt x="240" y="1679"/>
                    </a:lnTo>
                    <a:lnTo>
                      <a:pt x="0" y="1608"/>
                    </a:lnTo>
                    <a:close/>
                  </a:path>
                </a:pathLst>
              </a:custGeom>
              <a:solidFill>
                <a:srgbClr val="dcba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17"/>
              <p:cNvSpPr/>
              <p:nvPr/>
            </p:nvSpPr>
            <p:spPr>
              <a:xfrm>
                <a:off x="2044080" y="4049640"/>
                <a:ext cx="244080" cy="316440"/>
              </a:xfrm>
              <a:custGeom>
                <a:avLst/>
                <a:gdLst/>
                <a:ahLst/>
                <a:rect l="l" t="t" r="r" b="b"/>
                <a:pathLst>
                  <a:path w="1085" h="1518">
                    <a:moveTo>
                      <a:pt x="0" y="1448"/>
                    </a:moveTo>
                    <a:lnTo>
                      <a:pt x="1085" y="0"/>
                    </a:lnTo>
                    <a:lnTo>
                      <a:pt x="1085" y="392"/>
                    </a:lnTo>
                    <a:lnTo>
                      <a:pt x="241" y="1518"/>
                    </a:lnTo>
                    <a:lnTo>
                      <a:pt x="0" y="1448"/>
                    </a:lnTo>
                    <a:close/>
                  </a:path>
                </a:pathLst>
              </a:custGeom>
              <a:solidFill>
                <a:srgbClr val="dcb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18"/>
              <p:cNvSpPr/>
              <p:nvPr/>
            </p:nvSpPr>
            <p:spPr>
              <a:xfrm>
                <a:off x="2070720" y="4091040"/>
                <a:ext cx="217080" cy="281880"/>
              </a:xfrm>
              <a:custGeom>
                <a:avLst/>
                <a:gdLst/>
                <a:ahLst/>
                <a:rect l="l" t="t" r="r" b="b"/>
                <a:pathLst>
                  <a:path w="965" h="1357">
                    <a:moveTo>
                      <a:pt x="0" y="1287"/>
                    </a:moveTo>
                    <a:lnTo>
                      <a:pt x="965" y="0"/>
                    </a:lnTo>
                    <a:lnTo>
                      <a:pt x="965" y="392"/>
                    </a:lnTo>
                    <a:lnTo>
                      <a:pt x="241" y="1357"/>
                    </a:lnTo>
                    <a:lnTo>
                      <a:pt x="0" y="1287"/>
                    </a:lnTo>
                    <a:close/>
                  </a:path>
                </a:pathLst>
              </a:custGeom>
              <a:solidFill>
                <a:srgbClr val="ddb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19"/>
              <p:cNvSpPr/>
              <p:nvPr/>
            </p:nvSpPr>
            <p:spPr>
              <a:xfrm>
                <a:off x="2099520" y="4131360"/>
                <a:ext cx="188280" cy="249840"/>
              </a:xfrm>
              <a:custGeom>
                <a:avLst/>
                <a:gdLst/>
                <a:ahLst/>
                <a:rect l="l" t="t" r="r" b="b"/>
                <a:pathLst>
                  <a:path w="844" h="1196">
                    <a:moveTo>
                      <a:pt x="0" y="1126"/>
                    </a:moveTo>
                    <a:lnTo>
                      <a:pt x="844" y="0"/>
                    </a:lnTo>
                    <a:lnTo>
                      <a:pt x="844" y="392"/>
                    </a:lnTo>
                    <a:lnTo>
                      <a:pt x="241" y="1196"/>
                    </a:lnTo>
                    <a:lnTo>
                      <a:pt x="0" y="1126"/>
                    </a:lnTo>
                    <a:close/>
                  </a:path>
                </a:pathLst>
              </a:custGeom>
              <a:solidFill>
                <a:srgbClr val="dfb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20"/>
              <p:cNvSpPr/>
              <p:nvPr/>
            </p:nvSpPr>
            <p:spPr>
              <a:xfrm>
                <a:off x="2126520" y="4172760"/>
                <a:ext cx="161280" cy="214920"/>
              </a:xfrm>
              <a:custGeom>
                <a:avLst/>
                <a:gdLst/>
                <a:ahLst/>
                <a:rect l="l" t="t" r="r" b="b"/>
                <a:pathLst>
                  <a:path w="724" h="1035">
                    <a:moveTo>
                      <a:pt x="0" y="965"/>
                    </a:moveTo>
                    <a:lnTo>
                      <a:pt x="724" y="0"/>
                    </a:lnTo>
                    <a:lnTo>
                      <a:pt x="724" y="392"/>
                    </a:lnTo>
                    <a:lnTo>
                      <a:pt x="242" y="1035"/>
                    </a:lnTo>
                    <a:lnTo>
                      <a:pt x="0" y="965"/>
                    </a:lnTo>
                    <a:close/>
                  </a:path>
                </a:pathLst>
              </a:custGeom>
              <a:solidFill>
                <a:srgbClr val="dfc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21"/>
              <p:cNvSpPr/>
              <p:nvPr/>
            </p:nvSpPr>
            <p:spPr>
              <a:xfrm>
                <a:off x="2153520" y="4212720"/>
                <a:ext cx="134640" cy="183240"/>
              </a:xfrm>
              <a:custGeom>
                <a:avLst/>
                <a:gdLst/>
                <a:ahLst/>
                <a:rect l="l" t="t" r="r" b="b"/>
                <a:pathLst>
                  <a:path w="603" h="874">
                    <a:moveTo>
                      <a:pt x="0" y="804"/>
                    </a:moveTo>
                    <a:lnTo>
                      <a:pt x="603" y="0"/>
                    </a:lnTo>
                    <a:lnTo>
                      <a:pt x="603" y="393"/>
                    </a:lnTo>
                    <a:lnTo>
                      <a:pt x="241" y="874"/>
                    </a:lnTo>
                    <a:lnTo>
                      <a:pt x="0" y="804"/>
                    </a:lnTo>
                    <a:close/>
                  </a:path>
                </a:pathLst>
              </a:custGeom>
              <a:solidFill>
                <a:srgbClr val="e0c1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22"/>
              <p:cNvSpPr/>
              <p:nvPr/>
            </p:nvSpPr>
            <p:spPr>
              <a:xfrm>
                <a:off x="2180160" y="4254840"/>
                <a:ext cx="107640" cy="147960"/>
              </a:xfrm>
              <a:custGeom>
                <a:avLst/>
                <a:gdLst/>
                <a:ahLst/>
                <a:rect l="l" t="t" r="r" b="b"/>
                <a:pathLst>
                  <a:path w="482" h="714">
                    <a:moveTo>
                      <a:pt x="0" y="643"/>
                    </a:moveTo>
                    <a:lnTo>
                      <a:pt x="482" y="0"/>
                    </a:lnTo>
                    <a:lnTo>
                      <a:pt x="482" y="392"/>
                    </a:lnTo>
                    <a:lnTo>
                      <a:pt x="242" y="714"/>
                    </a:lnTo>
                    <a:lnTo>
                      <a:pt x="0" y="643"/>
                    </a:lnTo>
                    <a:close/>
                  </a:path>
                </a:pathLst>
              </a:custGeom>
              <a:solidFill>
                <a:srgbClr val="e1c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423"/>
              <p:cNvSpPr/>
              <p:nvPr/>
            </p:nvSpPr>
            <p:spPr>
              <a:xfrm>
                <a:off x="2207160" y="4294440"/>
                <a:ext cx="80640" cy="115200"/>
              </a:xfrm>
              <a:custGeom>
                <a:avLst/>
                <a:gdLst/>
                <a:ahLst/>
                <a:rect l="l" t="t" r="r" b="b"/>
                <a:pathLst>
                  <a:path w="362" h="552">
                    <a:moveTo>
                      <a:pt x="0" y="481"/>
                    </a:moveTo>
                    <a:lnTo>
                      <a:pt x="362" y="0"/>
                    </a:lnTo>
                    <a:lnTo>
                      <a:pt x="362" y="391"/>
                    </a:lnTo>
                    <a:lnTo>
                      <a:pt x="242" y="552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e1c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424"/>
              <p:cNvSpPr/>
              <p:nvPr/>
            </p:nvSpPr>
            <p:spPr>
              <a:xfrm>
                <a:off x="2233800" y="4336560"/>
                <a:ext cx="54000" cy="81360"/>
              </a:xfrm>
              <a:custGeom>
                <a:avLst/>
                <a:gdLst/>
                <a:ahLst/>
                <a:rect l="l" t="t" r="r" b="b"/>
                <a:pathLst>
                  <a:path w="240" h="392">
                    <a:moveTo>
                      <a:pt x="0" y="322"/>
                    </a:moveTo>
                    <a:lnTo>
                      <a:pt x="240" y="0"/>
                    </a:lnTo>
                    <a:lnTo>
                      <a:pt x="240" y="392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e3c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425"/>
              <p:cNvSpPr/>
              <p:nvPr/>
            </p:nvSpPr>
            <p:spPr>
              <a:xfrm>
                <a:off x="2260800" y="4376160"/>
                <a:ext cx="27000" cy="41760"/>
              </a:xfrm>
              <a:custGeom>
                <a:avLst/>
                <a:gdLst/>
                <a:ahLst/>
                <a:rect l="l" t="t" r="r" b="b"/>
                <a:pathLst>
                  <a:path w="120" h="196">
                    <a:moveTo>
                      <a:pt x="0" y="161"/>
                    </a:moveTo>
                    <a:lnTo>
                      <a:pt x="120" y="0"/>
                    </a:lnTo>
                    <a:lnTo>
                      <a:pt x="120" y="196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e4c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426"/>
              <p:cNvSpPr/>
              <p:nvPr/>
            </p:nvSpPr>
            <p:spPr>
              <a:xfrm>
                <a:off x="1589760" y="3484440"/>
                <a:ext cx="321120" cy="433440"/>
              </a:xfrm>
              <a:custGeom>
                <a:avLst/>
                <a:gdLst/>
                <a:ahLst/>
                <a:rect l="l" t="t" r="r" b="b"/>
                <a:pathLst>
                  <a:path w="1430" h="2083">
                    <a:moveTo>
                      <a:pt x="32" y="0"/>
                    </a:moveTo>
                    <a:lnTo>
                      <a:pt x="0" y="1735"/>
                    </a:lnTo>
                    <a:lnTo>
                      <a:pt x="1430" y="2083"/>
                    </a:lnTo>
                    <a:lnTo>
                      <a:pt x="1430" y="26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f53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427"/>
              <p:cNvSpPr/>
              <p:nvPr/>
            </p:nvSpPr>
            <p:spPr>
              <a:xfrm>
                <a:off x="1588320" y="3481200"/>
                <a:ext cx="57240" cy="380160"/>
              </a:xfrm>
              <a:custGeom>
                <a:avLst/>
                <a:gdLst/>
                <a:ahLst/>
                <a:rect l="l" t="t" r="r" b="b"/>
                <a:pathLst>
                  <a:path w="254" h="1821">
                    <a:moveTo>
                      <a:pt x="0" y="0"/>
                    </a:moveTo>
                    <a:lnTo>
                      <a:pt x="0" y="1723"/>
                    </a:lnTo>
                    <a:lnTo>
                      <a:pt x="254" y="1821"/>
                    </a:lnTo>
                    <a:lnTo>
                      <a:pt x="254" y="8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6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428"/>
              <p:cNvSpPr/>
              <p:nvPr/>
            </p:nvSpPr>
            <p:spPr>
              <a:xfrm>
                <a:off x="1634760" y="3834720"/>
                <a:ext cx="336960" cy="100080"/>
              </a:xfrm>
              <a:custGeom>
                <a:avLst/>
                <a:gdLst/>
                <a:ahLst/>
                <a:rect l="l" t="t" r="r" b="b"/>
                <a:pathLst>
                  <a:path w="1504" h="475">
                    <a:moveTo>
                      <a:pt x="317" y="0"/>
                    </a:moveTo>
                    <a:lnTo>
                      <a:pt x="1504" y="264"/>
                    </a:lnTo>
                    <a:lnTo>
                      <a:pt x="1478" y="475"/>
                    </a:lnTo>
                    <a:lnTo>
                      <a:pt x="0" y="132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29"/>
              <p:cNvSpPr/>
              <p:nvPr/>
            </p:nvSpPr>
            <p:spPr>
              <a:xfrm>
                <a:off x="2224800" y="3604680"/>
                <a:ext cx="426960" cy="909360"/>
              </a:xfrm>
              <a:custGeom>
                <a:avLst/>
                <a:gdLst/>
                <a:ahLst/>
                <a:rect l="l" t="t" r="r" b="b"/>
                <a:pathLst>
                  <a:path w="1907" h="4361">
                    <a:moveTo>
                      <a:pt x="0" y="0"/>
                    </a:moveTo>
                    <a:lnTo>
                      <a:pt x="0" y="3813"/>
                    </a:lnTo>
                    <a:lnTo>
                      <a:pt x="1907" y="4361"/>
                    </a:lnTo>
                    <a:lnTo>
                      <a:pt x="1907" y="5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69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430"/>
              <p:cNvSpPr/>
              <p:nvPr/>
            </p:nvSpPr>
            <p:spPr>
              <a:xfrm>
                <a:off x="1778400" y="4346280"/>
                <a:ext cx="902160" cy="339840"/>
              </a:xfrm>
              <a:custGeom>
                <a:avLst/>
                <a:gdLst/>
                <a:ahLst/>
                <a:rect l="l" t="t" r="r" b="b"/>
                <a:pathLst>
                  <a:path w="4024" h="1632">
                    <a:moveTo>
                      <a:pt x="2076" y="0"/>
                    </a:moveTo>
                    <a:lnTo>
                      <a:pt x="0" y="720"/>
                    </a:lnTo>
                    <a:lnTo>
                      <a:pt x="2494" y="1632"/>
                    </a:lnTo>
                    <a:lnTo>
                      <a:pt x="4024" y="593"/>
                    </a:lnTo>
                    <a:lnTo>
                      <a:pt x="2076" y="0"/>
                    </a:lnTo>
                    <a:close/>
                  </a:path>
                </a:pathLst>
              </a:custGeom>
              <a:solidFill>
                <a:srgbClr val="fff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431"/>
              <p:cNvSpPr/>
              <p:nvPr/>
            </p:nvSpPr>
            <p:spPr>
              <a:xfrm>
                <a:off x="1778400" y="4469400"/>
                <a:ext cx="900720" cy="298440"/>
              </a:xfrm>
              <a:custGeom>
                <a:avLst/>
                <a:gdLst/>
                <a:ahLst/>
                <a:rect l="l" t="t" r="r" b="b"/>
                <a:pathLst>
                  <a:path w="4020" h="1430">
                    <a:moveTo>
                      <a:pt x="0" y="136"/>
                    </a:moveTo>
                    <a:lnTo>
                      <a:pt x="14" y="490"/>
                    </a:lnTo>
                    <a:lnTo>
                      <a:pt x="2494" y="1430"/>
                    </a:lnTo>
                    <a:lnTo>
                      <a:pt x="4007" y="354"/>
                    </a:lnTo>
                    <a:lnTo>
                      <a:pt x="4020" y="0"/>
                    </a:lnTo>
                    <a:lnTo>
                      <a:pt x="2494" y="1022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9795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432"/>
              <p:cNvSpPr/>
              <p:nvPr/>
            </p:nvSpPr>
            <p:spPr>
              <a:xfrm>
                <a:off x="1640160" y="3494880"/>
                <a:ext cx="64080" cy="367920"/>
              </a:xfrm>
              <a:custGeom>
                <a:avLst/>
                <a:gdLst/>
                <a:ahLst/>
                <a:rect l="l" t="t" r="r" b="b"/>
                <a:pathLst>
                  <a:path w="290" h="1768">
                    <a:moveTo>
                      <a:pt x="26" y="1768"/>
                    </a:moveTo>
                    <a:lnTo>
                      <a:pt x="290" y="1636"/>
                    </a:lnTo>
                    <a:lnTo>
                      <a:pt x="290" y="54"/>
                    </a:lnTo>
                    <a:lnTo>
                      <a:pt x="0" y="0"/>
                    </a:lnTo>
                    <a:lnTo>
                      <a:pt x="26" y="1768"/>
                    </a:lnTo>
                    <a:close/>
                  </a:path>
                </a:pathLst>
              </a:custGeom>
              <a:solidFill>
                <a:srgbClr val="c1a3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433"/>
              <p:cNvSpPr/>
              <p:nvPr/>
            </p:nvSpPr>
            <p:spPr>
              <a:xfrm>
                <a:off x="1913040" y="3548160"/>
                <a:ext cx="57240" cy="379800"/>
              </a:xfrm>
              <a:custGeom>
                <a:avLst/>
                <a:gdLst/>
                <a:ahLst/>
                <a:rect l="l" t="t" r="r" b="b"/>
                <a:pathLst>
                  <a:path w="254" h="1820">
                    <a:moveTo>
                      <a:pt x="0" y="0"/>
                    </a:moveTo>
                    <a:lnTo>
                      <a:pt x="0" y="1722"/>
                    </a:lnTo>
                    <a:lnTo>
                      <a:pt x="254" y="1820"/>
                    </a:lnTo>
                    <a:lnTo>
                      <a:pt x="254" y="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6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434"/>
              <p:cNvSpPr/>
              <p:nvPr/>
            </p:nvSpPr>
            <p:spPr>
              <a:xfrm>
                <a:off x="1640160" y="3659760"/>
                <a:ext cx="282960" cy="88200"/>
              </a:xfrm>
              <a:custGeom>
                <a:avLst/>
                <a:gdLst/>
                <a:ahLst/>
                <a:rect l="l" t="t" r="r" b="b"/>
                <a:pathLst>
                  <a:path w="1266" h="422">
                    <a:moveTo>
                      <a:pt x="0" y="79"/>
                    </a:moveTo>
                    <a:lnTo>
                      <a:pt x="264" y="0"/>
                    </a:lnTo>
                    <a:lnTo>
                      <a:pt x="1213" y="184"/>
                    </a:lnTo>
                    <a:lnTo>
                      <a:pt x="1266" y="422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5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7" name="Picture 4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4640" y="4439520"/>
                <a:ext cx="28656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Rectangle 436"/>
              <p:cNvSpPr/>
              <p:nvPr/>
            </p:nvSpPr>
            <p:spPr>
              <a:xfrm>
                <a:off x="1947240" y="3684600"/>
                <a:ext cx="1440" cy="820080"/>
              </a:xfrm>
              <a:prstGeom prst="rect">
                <a:avLst/>
              </a:prstGeom>
              <a:solidFill>
                <a:srgbClr val="b7d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437"/>
              <p:cNvSpPr/>
              <p:nvPr/>
            </p:nvSpPr>
            <p:spPr>
              <a:xfrm>
                <a:off x="1945080" y="3684600"/>
                <a:ext cx="3600" cy="820080"/>
              </a:xfrm>
              <a:prstGeom prst="rect">
                <a:avLst/>
              </a:prstGeom>
              <a:solidFill>
                <a:srgbClr val="b7d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438"/>
              <p:cNvSpPr/>
              <p:nvPr/>
            </p:nvSpPr>
            <p:spPr>
              <a:xfrm>
                <a:off x="1943280" y="3684600"/>
                <a:ext cx="3600" cy="820080"/>
              </a:xfrm>
              <a:prstGeom prst="rect">
                <a:avLst/>
              </a:prstGeom>
              <a:solidFill>
                <a:srgbClr val="b8d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439"/>
              <p:cNvSpPr/>
              <p:nvPr/>
            </p:nvSpPr>
            <p:spPr>
              <a:xfrm>
                <a:off x="1941480" y="3684600"/>
                <a:ext cx="3600" cy="820080"/>
              </a:xfrm>
              <a:prstGeom prst="rect">
                <a:avLst/>
              </a:prstGeom>
              <a:solidFill>
                <a:srgbClr val="bad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440"/>
              <p:cNvSpPr/>
              <p:nvPr/>
            </p:nvSpPr>
            <p:spPr>
              <a:xfrm>
                <a:off x="1939680" y="3684600"/>
                <a:ext cx="3600" cy="820080"/>
              </a:xfrm>
              <a:prstGeom prst="rect">
                <a:avLst/>
              </a:prstGeom>
              <a:solidFill>
                <a:srgbClr val="bbd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441"/>
              <p:cNvSpPr/>
              <p:nvPr/>
            </p:nvSpPr>
            <p:spPr>
              <a:xfrm>
                <a:off x="1938240" y="3684600"/>
                <a:ext cx="3240" cy="820080"/>
              </a:xfrm>
              <a:prstGeom prst="rect">
                <a:avLst/>
              </a:prstGeom>
              <a:solidFill>
                <a:srgbClr val="bcd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442"/>
              <p:cNvSpPr/>
              <p:nvPr/>
            </p:nvSpPr>
            <p:spPr>
              <a:xfrm>
                <a:off x="1936080" y="3684600"/>
                <a:ext cx="3600" cy="820080"/>
              </a:xfrm>
              <a:prstGeom prst="rect">
                <a:avLst/>
              </a:prstGeom>
              <a:solidFill>
                <a:srgbClr val="bd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443"/>
              <p:cNvSpPr/>
              <p:nvPr/>
            </p:nvSpPr>
            <p:spPr>
              <a:xfrm>
                <a:off x="1934640" y="3684600"/>
                <a:ext cx="3600" cy="820080"/>
              </a:xfrm>
              <a:prstGeom prst="rect">
                <a:avLst/>
              </a:prstGeom>
              <a:solidFill>
                <a:srgbClr val="be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444"/>
              <p:cNvSpPr/>
              <p:nvPr/>
            </p:nvSpPr>
            <p:spPr>
              <a:xfrm>
                <a:off x="1932480" y="3684600"/>
                <a:ext cx="3600" cy="820080"/>
              </a:xfrm>
              <a:prstGeom prst="rect">
                <a:avLst/>
              </a:prstGeom>
              <a:solidFill>
                <a:srgbClr val="bfe1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445"/>
              <p:cNvSpPr/>
              <p:nvPr/>
            </p:nvSpPr>
            <p:spPr>
              <a:xfrm>
                <a:off x="1932480" y="3684600"/>
                <a:ext cx="1800" cy="820080"/>
              </a:xfrm>
              <a:prstGeom prst="rect">
                <a:avLst/>
              </a:prstGeom>
              <a:solidFill>
                <a:srgbClr val="c0e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446"/>
              <p:cNvSpPr/>
              <p:nvPr/>
            </p:nvSpPr>
            <p:spPr>
              <a:xfrm>
                <a:off x="1930680" y="3684600"/>
                <a:ext cx="1440" cy="820080"/>
              </a:xfrm>
              <a:prstGeom prst="rect">
                <a:avLst/>
              </a:prstGeom>
              <a:solidFill>
                <a:srgbClr val="c2e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447"/>
              <p:cNvSpPr/>
              <p:nvPr/>
            </p:nvSpPr>
            <p:spPr>
              <a:xfrm>
                <a:off x="1929240" y="3684600"/>
                <a:ext cx="3240" cy="820080"/>
              </a:xfrm>
              <a:prstGeom prst="rect">
                <a:avLst/>
              </a:prstGeom>
              <a:solidFill>
                <a:srgbClr val="c3e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448"/>
              <p:cNvSpPr/>
              <p:nvPr/>
            </p:nvSpPr>
            <p:spPr>
              <a:xfrm>
                <a:off x="1927080" y="3684600"/>
                <a:ext cx="3600" cy="820080"/>
              </a:xfrm>
              <a:prstGeom prst="rect">
                <a:avLst/>
              </a:prstGeom>
              <a:solidFill>
                <a:srgbClr val="c4e3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449"/>
              <p:cNvSpPr/>
              <p:nvPr/>
            </p:nvSpPr>
            <p:spPr>
              <a:xfrm>
                <a:off x="1925640" y="3684600"/>
                <a:ext cx="3600" cy="820080"/>
              </a:xfrm>
              <a:prstGeom prst="rect">
                <a:avLst/>
              </a:prstGeom>
              <a:solidFill>
                <a:srgbClr val="c5e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450"/>
              <p:cNvSpPr/>
              <p:nvPr/>
            </p:nvSpPr>
            <p:spPr>
              <a:xfrm>
                <a:off x="1923480" y="3684600"/>
                <a:ext cx="3600" cy="820080"/>
              </a:xfrm>
              <a:prstGeom prst="rect">
                <a:avLst/>
              </a:prstGeom>
              <a:solidFill>
                <a:srgbClr val="c6e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451"/>
              <p:cNvSpPr/>
              <p:nvPr/>
            </p:nvSpPr>
            <p:spPr>
              <a:xfrm>
                <a:off x="1921680" y="3684600"/>
                <a:ext cx="3600" cy="820080"/>
              </a:xfrm>
              <a:prstGeom prst="rect">
                <a:avLst/>
              </a:prstGeom>
              <a:solidFill>
                <a:srgbClr val="c7e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Rectangle 452"/>
              <p:cNvSpPr/>
              <p:nvPr/>
            </p:nvSpPr>
            <p:spPr>
              <a:xfrm>
                <a:off x="1920240" y="3684600"/>
                <a:ext cx="3240" cy="820080"/>
              </a:xfrm>
              <a:prstGeom prst="rect">
                <a:avLst/>
              </a:prstGeom>
              <a:solidFill>
                <a:srgbClr val="c8e5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453"/>
              <p:cNvSpPr/>
              <p:nvPr/>
            </p:nvSpPr>
            <p:spPr>
              <a:xfrm>
                <a:off x="1918080" y="3684600"/>
                <a:ext cx="3600" cy="820080"/>
              </a:xfrm>
              <a:prstGeom prst="rect">
                <a:avLst/>
              </a:prstGeom>
              <a:solidFill>
                <a:srgbClr val="ca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Rectangle 454"/>
              <p:cNvSpPr/>
              <p:nvPr/>
            </p:nvSpPr>
            <p:spPr>
              <a:xfrm>
                <a:off x="1916640" y="3684600"/>
                <a:ext cx="3600" cy="820080"/>
              </a:xfrm>
              <a:prstGeom prst="rect">
                <a:avLst/>
              </a:prstGeom>
              <a:solidFill>
                <a:srgbClr val="cce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455"/>
              <p:cNvSpPr/>
              <p:nvPr/>
            </p:nvSpPr>
            <p:spPr>
              <a:xfrm>
                <a:off x="1914480" y="3684600"/>
                <a:ext cx="3600" cy="820080"/>
              </a:xfrm>
              <a:prstGeom prst="rect">
                <a:avLst/>
              </a:prstGeom>
              <a:solidFill>
                <a:srgbClr val="cee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456"/>
              <p:cNvSpPr/>
              <p:nvPr/>
            </p:nvSpPr>
            <p:spPr>
              <a:xfrm>
                <a:off x="1913040" y="3684600"/>
                <a:ext cx="3600" cy="820080"/>
              </a:xfrm>
              <a:prstGeom prst="rect">
                <a:avLst/>
              </a:prstGeom>
              <a:solidFill>
                <a:srgbClr val="cfe8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457"/>
              <p:cNvSpPr/>
              <p:nvPr/>
            </p:nvSpPr>
            <p:spPr>
              <a:xfrm>
                <a:off x="1911240" y="3684600"/>
                <a:ext cx="3240" cy="820080"/>
              </a:xfrm>
              <a:prstGeom prst="rect">
                <a:avLst/>
              </a:prstGeom>
              <a:solidFill>
                <a:srgbClr val="d1e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458"/>
              <p:cNvSpPr/>
              <p:nvPr/>
            </p:nvSpPr>
            <p:spPr>
              <a:xfrm>
                <a:off x="1909080" y="3684600"/>
                <a:ext cx="3600" cy="820080"/>
              </a:xfrm>
              <a:prstGeom prst="rect">
                <a:avLst/>
              </a:prstGeom>
              <a:solidFill>
                <a:srgbClr val="d3e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459"/>
              <p:cNvSpPr/>
              <p:nvPr/>
            </p:nvSpPr>
            <p:spPr>
              <a:xfrm>
                <a:off x="1907640" y="3684600"/>
                <a:ext cx="3600" cy="820080"/>
              </a:xfrm>
              <a:prstGeom prst="rect">
                <a:avLst/>
              </a:prstGeom>
              <a:solidFill>
                <a:srgbClr val="d5e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460"/>
              <p:cNvSpPr/>
              <p:nvPr/>
            </p:nvSpPr>
            <p:spPr>
              <a:xfrm>
                <a:off x="1905480" y="3684600"/>
                <a:ext cx="3600" cy="820080"/>
              </a:xfrm>
              <a:prstGeom prst="rect">
                <a:avLst/>
              </a:prstGeom>
              <a:solidFill>
                <a:srgbClr val="d6e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461"/>
              <p:cNvSpPr/>
              <p:nvPr/>
            </p:nvSpPr>
            <p:spPr>
              <a:xfrm>
                <a:off x="1904040" y="3684600"/>
                <a:ext cx="3600" cy="820080"/>
              </a:xfrm>
              <a:prstGeom prst="rect">
                <a:avLst/>
              </a:prstGeom>
              <a:solidFill>
                <a:srgbClr val="d8e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462"/>
              <p:cNvSpPr/>
              <p:nvPr/>
            </p:nvSpPr>
            <p:spPr>
              <a:xfrm>
                <a:off x="1901880" y="3684600"/>
                <a:ext cx="3600" cy="820080"/>
              </a:xfrm>
              <a:prstGeom prst="rect">
                <a:avLst/>
              </a:prstGeom>
              <a:solidFill>
                <a:srgbClr val="dbe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463"/>
              <p:cNvSpPr/>
              <p:nvPr/>
            </p:nvSpPr>
            <p:spPr>
              <a:xfrm>
                <a:off x="1900440" y="3684600"/>
                <a:ext cx="3600" cy="820080"/>
              </a:xfrm>
              <a:prstGeom prst="rect">
                <a:avLst/>
              </a:prstGeom>
              <a:solidFill>
                <a:srgbClr val="dd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464"/>
              <p:cNvSpPr/>
              <p:nvPr/>
            </p:nvSpPr>
            <p:spPr>
              <a:xfrm>
                <a:off x="1898640" y="3684600"/>
                <a:ext cx="3240" cy="820080"/>
              </a:xfrm>
              <a:prstGeom prst="rect">
                <a:avLst/>
              </a:prstGeom>
              <a:solidFill>
                <a:srgbClr val="dee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465"/>
              <p:cNvSpPr/>
              <p:nvPr/>
            </p:nvSpPr>
            <p:spPr>
              <a:xfrm>
                <a:off x="1896480" y="3684600"/>
                <a:ext cx="3600" cy="820080"/>
              </a:xfrm>
              <a:prstGeom prst="rect">
                <a:avLst/>
              </a:prstGeom>
              <a:solidFill>
                <a:srgbClr val="e0f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466"/>
              <p:cNvSpPr/>
              <p:nvPr/>
            </p:nvSpPr>
            <p:spPr>
              <a:xfrm>
                <a:off x="1896480" y="3684600"/>
                <a:ext cx="1800" cy="820080"/>
              </a:xfrm>
              <a:prstGeom prst="rect">
                <a:avLst/>
              </a:prstGeom>
              <a:solidFill>
                <a:srgbClr val="e1f0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467"/>
              <p:cNvSpPr/>
              <p:nvPr/>
            </p:nvSpPr>
            <p:spPr>
              <a:xfrm>
                <a:off x="1895040" y="3684600"/>
                <a:ext cx="1440" cy="820080"/>
              </a:xfrm>
              <a:prstGeom prst="rect">
                <a:avLst/>
              </a:prstGeom>
              <a:solidFill>
                <a:srgbClr val="e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468"/>
              <p:cNvSpPr/>
              <p:nvPr/>
            </p:nvSpPr>
            <p:spPr>
              <a:xfrm>
                <a:off x="1892880" y="3684600"/>
                <a:ext cx="3600" cy="820080"/>
              </a:xfrm>
              <a:prstGeom prst="rect">
                <a:avLst/>
              </a:prstGeom>
              <a:solidFill>
                <a:srgbClr val="e4f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469"/>
              <p:cNvSpPr/>
              <p:nvPr/>
            </p:nvSpPr>
            <p:spPr>
              <a:xfrm>
                <a:off x="1891440" y="3684600"/>
                <a:ext cx="3600" cy="820080"/>
              </a:xfrm>
              <a:prstGeom prst="rect">
                <a:avLst/>
              </a:prstGeom>
              <a:solidFill>
                <a:srgbClr val="e6f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470"/>
              <p:cNvSpPr/>
              <p:nvPr/>
            </p:nvSpPr>
            <p:spPr>
              <a:xfrm>
                <a:off x="1889640" y="3684600"/>
                <a:ext cx="3240" cy="820080"/>
              </a:xfrm>
              <a:prstGeom prst="rect">
                <a:avLst/>
              </a:prstGeom>
              <a:solidFill>
                <a:srgbClr val="e7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471"/>
              <p:cNvSpPr/>
              <p:nvPr/>
            </p:nvSpPr>
            <p:spPr>
              <a:xfrm>
                <a:off x="1887840" y="3684600"/>
                <a:ext cx="3600" cy="820080"/>
              </a:xfrm>
              <a:prstGeom prst="rect">
                <a:avLst/>
              </a:prstGeom>
              <a:solidFill>
                <a:srgbClr val="e9f4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472"/>
              <p:cNvSpPr/>
              <p:nvPr/>
            </p:nvSpPr>
            <p:spPr>
              <a:xfrm>
                <a:off x="1886040" y="3684600"/>
                <a:ext cx="3600" cy="820080"/>
              </a:xfrm>
              <a:prstGeom prst="rect">
                <a:avLst/>
              </a:prstGeom>
              <a:solidFill>
                <a:srgbClr val="ea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473"/>
              <p:cNvSpPr/>
              <p:nvPr/>
            </p:nvSpPr>
            <p:spPr>
              <a:xfrm>
                <a:off x="1883880" y="3684600"/>
                <a:ext cx="3600" cy="820080"/>
              </a:xfrm>
              <a:prstGeom prst="rect">
                <a:avLst/>
              </a:prstGeom>
              <a:solidFill>
                <a:srgbClr val="ecf5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474"/>
              <p:cNvSpPr/>
              <p:nvPr/>
            </p:nvSpPr>
            <p:spPr>
              <a:xfrm>
                <a:off x="1882440" y="3684600"/>
                <a:ext cx="3600" cy="820080"/>
              </a:xfrm>
              <a:prstGeom prst="rect">
                <a:avLst/>
              </a:prstGeom>
              <a:solidFill>
                <a:srgbClr val="edf6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475"/>
              <p:cNvSpPr/>
              <p:nvPr/>
            </p:nvSpPr>
            <p:spPr>
              <a:xfrm>
                <a:off x="1880640" y="3684600"/>
                <a:ext cx="3240" cy="820080"/>
              </a:xfrm>
              <a:prstGeom prst="rect">
                <a:avLst/>
              </a:prstGeom>
              <a:solidFill>
                <a:srgbClr val="ef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476"/>
              <p:cNvSpPr/>
              <p:nvPr/>
            </p:nvSpPr>
            <p:spPr>
              <a:xfrm>
                <a:off x="1878840" y="3684600"/>
                <a:ext cx="3600" cy="820080"/>
              </a:xfrm>
              <a:prstGeom prst="rect">
                <a:avLst/>
              </a:prstGeom>
              <a:solidFill>
                <a:srgbClr val="f0f8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477"/>
              <p:cNvSpPr/>
              <p:nvPr/>
            </p:nvSpPr>
            <p:spPr>
              <a:xfrm>
                <a:off x="1877040" y="3684600"/>
                <a:ext cx="3600" cy="820080"/>
              </a:xfrm>
              <a:prstGeom prst="rect">
                <a:avLst/>
              </a:prstGeom>
              <a:solidFill>
                <a:srgbClr val="f2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478"/>
              <p:cNvSpPr/>
              <p:nvPr/>
            </p:nvSpPr>
            <p:spPr>
              <a:xfrm>
                <a:off x="1875240" y="3684600"/>
                <a:ext cx="3600" cy="820080"/>
              </a:xfrm>
              <a:prstGeom prst="rect">
                <a:avLst/>
              </a:prstGeom>
              <a:solidFill>
                <a:srgbClr val="f3f9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479"/>
              <p:cNvSpPr/>
              <p:nvPr/>
            </p:nvSpPr>
            <p:spPr>
              <a:xfrm>
                <a:off x="1873440" y="3684600"/>
                <a:ext cx="3600" cy="820080"/>
              </a:xfrm>
              <a:prstGeom prst="rect">
                <a:avLst/>
              </a:prstGeom>
              <a:solidFill>
                <a:srgbClr val="f4fa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480"/>
              <p:cNvSpPr/>
              <p:nvPr/>
            </p:nvSpPr>
            <p:spPr>
              <a:xfrm>
                <a:off x="1871640" y="3684600"/>
                <a:ext cx="3240" cy="820080"/>
              </a:xfrm>
              <a:prstGeom prst="rect">
                <a:avLst/>
              </a:prstGeom>
              <a:solidFill>
                <a:srgbClr val="f6fa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481"/>
              <p:cNvSpPr/>
              <p:nvPr/>
            </p:nvSpPr>
            <p:spPr>
              <a:xfrm>
                <a:off x="1869840" y="3684600"/>
                <a:ext cx="3600" cy="820080"/>
              </a:xfrm>
              <a:prstGeom prst="rect">
                <a:avLst/>
              </a:prstGeom>
              <a:solidFill>
                <a:srgbClr val="f7f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482"/>
              <p:cNvSpPr/>
              <p:nvPr/>
            </p:nvSpPr>
            <p:spPr>
              <a:xfrm>
                <a:off x="1868040" y="3684600"/>
                <a:ext cx="3600" cy="820080"/>
              </a:xfrm>
              <a:prstGeom prst="rect">
                <a:avLst/>
              </a:prstGeom>
              <a:solidFill>
                <a:srgbClr val="f8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483"/>
              <p:cNvSpPr/>
              <p:nvPr/>
            </p:nvSpPr>
            <p:spPr>
              <a:xfrm>
                <a:off x="1866240" y="3684600"/>
                <a:ext cx="3600" cy="820080"/>
              </a:xfrm>
              <a:prstGeom prst="rect">
                <a:avLst/>
              </a:prstGeom>
              <a:solidFill>
                <a:srgbClr val="fafc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484"/>
              <p:cNvSpPr/>
              <p:nvPr/>
            </p:nvSpPr>
            <p:spPr>
              <a:xfrm>
                <a:off x="1864440" y="3684600"/>
                <a:ext cx="3600" cy="820080"/>
              </a:xfrm>
              <a:prstGeom prst="rect">
                <a:avLst/>
              </a:prstGeom>
              <a:solidFill>
                <a:srgbClr val="fbfd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485"/>
              <p:cNvSpPr/>
              <p:nvPr/>
            </p:nvSpPr>
            <p:spPr>
              <a:xfrm>
                <a:off x="1862280" y="3684600"/>
                <a:ext cx="3600" cy="820080"/>
              </a:xfrm>
              <a:prstGeom prst="rect">
                <a:avLst/>
              </a:prstGeom>
              <a:solidFill>
                <a:srgbClr val="fcfe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486"/>
              <p:cNvSpPr/>
              <p:nvPr/>
            </p:nvSpPr>
            <p:spPr>
              <a:xfrm>
                <a:off x="1862280" y="3684600"/>
                <a:ext cx="1800" cy="82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9" name="Picture 48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6600" y="4551120"/>
                <a:ext cx="288720" cy="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Rectangle 488"/>
              <p:cNvSpPr/>
              <p:nvPr/>
            </p:nvSpPr>
            <p:spPr>
              <a:xfrm>
                <a:off x="2422440" y="3799800"/>
                <a:ext cx="1800" cy="819720"/>
              </a:xfrm>
              <a:prstGeom prst="rect">
                <a:avLst/>
              </a:prstGeom>
              <a:solidFill>
                <a:srgbClr val="b7d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89"/>
              <p:cNvSpPr/>
              <p:nvPr/>
            </p:nvSpPr>
            <p:spPr>
              <a:xfrm>
                <a:off x="2418480" y="3799800"/>
                <a:ext cx="5400" cy="819720"/>
              </a:xfrm>
              <a:prstGeom prst="rect">
                <a:avLst/>
              </a:prstGeom>
              <a:solidFill>
                <a:srgbClr val="b7dd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490"/>
              <p:cNvSpPr/>
              <p:nvPr/>
            </p:nvSpPr>
            <p:spPr>
              <a:xfrm>
                <a:off x="2417040" y="3799800"/>
                <a:ext cx="5040" cy="819720"/>
              </a:xfrm>
              <a:prstGeom prst="rect">
                <a:avLst/>
              </a:prstGeom>
              <a:solidFill>
                <a:srgbClr val="b8d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491"/>
              <p:cNvSpPr/>
              <p:nvPr/>
            </p:nvSpPr>
            <p:spPr>
              <a:xfrm>
                <a:off x="2415240" y="3799800"/>
                <a:ext cx="3240" cy="819720"/>
              </a:xfrm>
              <a:prstGeom prst="rect">
                <a:avLst/>
              </a:prstGeom>
              <a:solidFill>
                <a:srgbClr val="bad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492"/>
              <p:cNvSpPr/>
              <p:nvPr/>
            </p:nvSpPr>
            <p:spPr>
              <a:xfrm>
                <a:off x="2413440" y="3799800"/>
                <a:ext cx="3600" cy="819720"/>
              </a:xfrm>
              <a:prstGeom prst="rect">
                <a:avLst/>
              </a:prstGeom>
              <a:solidFill>
                <a:srgbClr val="bbd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493"/>
              <p:cNvSpPr/>
              <p:nvPr/>
            </p:nvSpPr>
            <p:spPr>
              <a:xfrm>
                <a:off x="2411640" y="3799800"/>
                <a:ext cx="3600" cy="819720"/>
              </a:xfrm>
              <a:prstGeom prst="rect">
                <a:avLst/>
              </a:prstGeom>
              <a:solidFill>
                <a:srgbClr val="bcd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494"/>
              <p:cNvSpPr/>
              <p:nvPr/>
            </p:nvSpPr>
            <p:spPr>
              <a:xfrm>
                <a:off x="2409840" y="3799800"/>
                <a:ext cx="3600" cy="819720"/>
              </a:xfrm>
              <a:prstGeom prst="rect">
                <a:avLst/>
              </a:prstGeom>
              <a:solidFill>
                <a:srgbClr val="bde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495"/>
              <p:cNvSpPr/>
              <p:nvPr/>
            </p:nvSpPr>
            <p:spPr>
              <a:xfrm>
                <a:off x="2406600" y="3799800"/>
                <a:ext cx="5040" cy="819720"/>
              </a:xfrm>
              <a:prstGeom prst="rect">
                <a:avLst/>
              </a:prstGeom>
              <a:solidFill>
                <a:srgbClr val="bee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496"/>
              <p:cNvSpPr/>
              <p:nvPr/>
            </p:nvSpPr>
            <p:spPr>
              <a:xfrm>
                <a:off x="2404440" y="3799800"/>
                <a:ext cx="5040" cy="819720"/>
              </a:xfrm>
              <a:prstGeom prst="rect">
                <a:avLst/>
              </a:prstGeom>
              <a:solidFill>
                <a:srgbClr val="bfe1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497"/>
              <p:cNvSpPr/>
              <p:nvPr/>
            </p:nvSpPr>
            <p:spPr>
              <a:xfrm>
                <a:off x="2402640" y="3799800"/>
                <a:ext cx="3600" cy="819720"/>
              </a:xfrm>
              <a:prstGeom prst="rect">
                <a:avLst/>
              </a:prstGeom>
              <a:solidFill>
                <a:srgbClr val="c0e1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498"/>
              <p:cNvSpPr/>
              <p:nvPr/>
            </p:nvSpPr>
            <p:spPr>
              <a:xfrm>
                <a:off x="2400840" y="3799800"/>
                <a:ext cx="3600" cy="819720"/>
              </a:xfrm>
              <a:prstGeom prst="rect">
                <a:avLst/>
              </a:prstGeom>
              <a:solidFill>
                <a:srgbClr val="c2e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499"/>
              <p:cNvSpPr/>
              <p:nvPr/>
            </p:nvSpPr>
            <p:spPr>
              <a:xfrm>
                <a:off x="2399040" y="3799800"/>
                <a:ext cx="3600" cy="819720"/>
              </a:xfrm>
              <a:prstGeom prst="rect">
                <a:avLst/>
              </a:prstGeom>
              <a:solidFill>
                <a:srgbClr val="c3e2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500"/>
              <p:cNvSpPr/>
              <p:nvPr/>
            </p:nvSpPr>
            <p:spPr>
              <a:xfrm>
                <a:off x="2397600" y="3799800"/>
                <a:ext cx="3240" cy="819720"/>
              </a:xfrm>
              <a:prstGeom prst="rect">
                <a:avLst/>
              </a:prstGeom>
              <a:solidFill>
                <a:srgbClr val="c4e3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501"/>
              <p:cNvSpPr/>
              <p:nvPr/>
            </p:nvSpPr>
            <p:spPr>
              <a:xfrm>
                <a:off x="2395440" y="3799800"/>
                <a:ext cx="3600" cy="819720"/>
              </a:xfrm>
              <a:prstGeom prst="rect">
                <a:avLst/>
              </a:prstGeom>
              <a:solidFill>
                <a:srgbClr val="c5e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502"/>
              <p:cNvSpPr/>
              <p:nvPr/>
            </p:nvSpPr>
            <p:spPr>
              <a:xfrm>
                <a:off x="2391840" y="3799800"/>
                <a:ext cx="5400" cy="819720"/>
              </a:xfrm>
              <a:prstGeom prst="rect">
                <a:avLst/>
              </a:prstGeom>
              <a:solidFill>
                <a:srgbClr val="c6e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503"/>
              <p:cNvSpPr/>
              <p:nvPr/>
            </p:nvSpPr>
            <p:spPr>
              <a:xfrm>
                <a:off x="2390040" y="3799800"/>
                <a:ext cx="5040" cy="819720"/>
              </a:xfrm>
              <a:prstGeom prst="rect">
                <a:avLst/>
              </a:prstGeom>
              <a:solidFill>
                <a:srgbClr val="c7e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504"/>
              <p:cNvSpPr/>
              <p:nvPr/>
            </p:nvSpPr>
            <p:spPr>
              <a:xfrm>
                <a:off x="2388600" y="3799800"/>
                <a:ext cx="3240" cy="819720"/>
              </a:xfrm>
              <a:prstGeom prst="rect">
                <a:avLst/>
              </a:prstGeom>
              <a:solidFill>
                <a:srgbClr val="c8e5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505"/>
              <p:cNvSpPr/>
              <p:nvPr/>
            </p:nvSpPr>
            <p:spPr>
              <a:xfrm>
                <a:off x="2386440" y="3799800"/>
                <a:ext cx="3600" cy="819720"/>
              </a:xfrm>
              <a:prstGeom prst="rect">
                <a:avLst/>
              </a:prstGeom>
              <a:solidFill>
                <a:srgbClr val="ca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506"/>
              <p:cNvSpPr/>
              <p:nvPr/>
            </p:nvSpPr>
            <p:spPr>
              <a:xfrm>
                <a:off x="2385000" y="3799800"/>
                <a:ext cx="3600" cy="819720"/>
              </a:xfrm>
              <a:prstGeom prst="rect">
                <a:avLst/>
              </a:prstGeom>
              <a:solidFill>
                <a:srgbClr val="cce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507"/>
              <p:cNvSpPr/>
              <p:nvPr/>
            </p:nvSpPr>
            <p:spPr>
              <a:xfrm>
                <a:off x="2381040" y="3799800"/>
                <a:ext cx="5040" cy="819720"/>
              </a:xfrm>
              <a:prstGeom prst="rect">
                <a:avLst/>
              </a:prstGeom>
              <a:solidFill>
                <a:srgbClr val="cee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508"/>
              <p:cNvSpPr/>
              <p:nvPr/>
            </p:nvSpPr>
            <p:spPr>
              <a:xfrm>
                <a:off x="2379240" y="3799800"/>
                <a:ext cx="5400" cy="819720"/>
              </a:xfrm>
              <a:prstGeom prst="rect">
                <a:avLst/>
              </a:prstGeom>
              <a:solidFill>
                <a:srgbClr val="cfe8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509"/>
              <p:cNvSpPr/>
              <p:nvPr/>
            </p:nvSpPr>
            <p:spPr>
              <a:xfrm>
                <a:off x="2377440" y="3799800"/>
                <a:ext cx="3600" cy="819720"/>
              </a:xfrm>
              <a:prstGeom prst="rect">
                <a:avLst/>
              </a:prstGeom>
              <a:solidFill>
                <a:srgbClr val="d1e9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510"/>
              <p:cNvSpPr/>
              <p:nvPr/>
            </p:nvSpPr>
            <p:spPr>
              <a:xfrm>
                <a:off x="2376000" y="3799800"/>
                <a:ext cx="3240" cy="819720"/>
              </a:xfrm>
              <a:prstGeom prst="rect">
                <a:avLst/>
              </a:prstGeom>
              <a:solidFill>
                <a:srgbClr val="d3e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511"/>
              <p:cNvSpPr/>
              <p:nvPr/>
            </p:nvSpPr>
            <p:spPr>
              <a:xfrm>
                <a:off x="2373840" y="3799800"/>
                <a:ext cx="3600" cy="819720"/>
              </a:xfrm>
              <a:prstGeom prst="rect">
                <a:avLst/>
              </a:prstGeom>
              <a:solidFill>
                <a:srgbClr val="d5e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512"/>
              <p:cNvSpPr/>
              <p:nvPr/>
            </p:nvSpPr>
            <p:spPr>
              <a:xfrm>
                <a:off x="2372400" y="3799800"/>
                <a:ext cx="3600" cy="819720"/>
              </a:xfrm>
              <a:prstGeom prst="rect">
                <a:avLst/>
              </a:prstGeom>
              <a:solidFill>
                <a:srgbClr val="d6e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513"/>
              <p:cNvSpPr/>
              <p:nvPr/>
            </p:nvSpPr>
            <p:spPr>
              <a:xfrm>
                <a:off x="2368440" y="3799800"/>
                <a:ext cx="5040" cy="819720"/>
              </a:xfrm>
              <a:prstGeom prst="rect">
                <a:avLst/>
              </a:prstGeom>
              <a:solidFill>
                <a:srgbClr val="d8e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514"/>
              <p:cNvSpPr/>
              <p:nvPr/>
            </p:nvSpPr>
            <p:spPr>
              <a:xfrm>
                <a:off x="2367000" y="3799800"/>
                <a:ext cx="5040" cy="819720"/>
              </a:xfrm>
              <a:prstGeom prst="rect">
                <a:avLst/>
              </a:prstGeom>
              <a:solidFill>
                <a:srgbClr val="dbed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515"/>
              <p:cNvSpPr/>
              <p:nvPr/>
            </p:nvSpPr>
            <p:spPr>
              <a:xfrm>
                <a:off x="2364840" y="3799800"/>
                <a:ext cx="3600" cy="819720"/>
              </a:xfrm>
              <a:prstGeom prst="rect">
                <a:avLst/>
              </a:prstGeom>
              <a:solidFill>
                <a:srgbClr val="dd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516"/>
              <p:cNvSpPr/>
              <p:nvPr/>
            </p:nvSpPr>
            <p:spPr>
              <a:xfrm>
                <a:off x="2363400" y="3799800"/>
                <a:ext cx="3600" cy="819720"/>
              </a:xfrm>
              <a:prstGeom prst="rect">
                <a:avLst/>
              </a:prstGeom>
              <a:solidFill>
                <a:srgbClr val="dee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517"/>
              <p:cNvSpPr/>
              <p:nvPr/>
            </p:nvSpPr>
            <p:spPr>
              <a:xfrm>
                <a:off x="2361240" y="3799800"/>
                <a:ext cx="3600" cy="819720"/>
              </a:xfrm>
              <a:prstGeom prst="rect">
                <a:avLst/>
              </a:prstGeom>
              <a:solidFill>
                <a:srgbClr val="e0f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518"/>
              <p:cNvSpPr/>
              <p:nvPr/>
            </p:nvSpPr>
            <p:spPr>
              <a:xfrm>
                <a:off x="2359800" y="3799800"/>
                <a:ext cx="3600" cy="819720"/>
              </a:xfrm>
              <a:prstGeom prst="rect">
                <a:avLst/>
              </a:prstGeom>
              <a:solidFill>
                <a:srgbClr val="e1f0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519"/>
              <p:cNvSpPr/>
              <p:nvPr/>
            </p:nvSpPr>
            <p:spPr>
              <a:xfrm>
                <a:off x="2358000" y="3799800"/>
                <a:ext cx="3240" cy="819720"/>
              </a:xfrm>
              <a:prstGeom prst="rect">
                <a:avLst/>
              </a:prstGeom>
              <a:solidFill>
                <a:srgbClr val="e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520"/>
              <p:cNvSpPr/>
              <p:nvPr/>
            </p:nvSpPr>
            <p:spPr>
              <a:xfrm>
                <a:off x="2354400" y="3799800"/>
                <a:ext cx="5040" cy="819720"/>
              </a:xfrm>
              <a:prstGeom prst="rect">
                <a:avLst/>
              </a:prstGeom>
              <a:solidFill>
                <a:srgbClr val="e4f2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521"/>
              <p:cNvSpPr/>
              <p:nvPr/>
            </p:nvSpPr>
            <p:spPr>
              <a:xfrm>
                <a:off x="2352240" y="3799800"/>
                <a:ext cx="5400" cy="819720"/>
              </a:xfrm>
              <a:prstGeom prst="rect">
                <a:avLst/>
              </a:prstGeom>
              <a:solidFill>
                <a:srgbClr val="e6f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522"/>
              <p:cNvSpPr/>
              <p:nvPr/>
            </p:nvSpPr>
            <p:spPr>
              <a:xfrm>
                <a:off x="2350800" y="3799800"/>
                <a:ext cx="3600" cy="819720"/>
              </a:xfrm>
              <a:prstGeom prst="rect">
                <a:avLst/>
              </a:prstGeom>
              <a:solidFill>
                <a:srgbClr val="e7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523"/>
              <p:cNvSpPr/>
              <p:nvPr/>
            </p:nvSpPr>
            <p:spPr>
              <a:xfrm>
                <a:off x="2348640" y="3799800"/>
                <a:ext cx="3600" cy="819720"/>
              </a:xfrm>
              <a:prstGeom prst="rect">
                <a:avLst/>
              </a:prstGeom>
              <a:solidFill>
                <a:srgbClr val="e9f4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524"/>
              <p:cNvSpPr/>
              <p:nvPr/>
            </p:nvSpPr>
            <p:spPr>
              <a:xfrm>
                <a:off x="2347200" y="3799800"/>
                <a:ext cx="3600" cy="819720"/>
              </a:xfrm>
              <a:prstGeom prst="rect">
                <a:avLst/>
              </a:prstGeom>
              <a:solidFill>
                <a:srgbClr val="ea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525"/>
              <p:cNvSpPr/>
              <p:nvPr/>
            </p:nvSpPr>
            <p:spPr>
              <a:xfrm>
                <a:off x="2343240" y="3799800"/>
                <a:ext cx="5040" cy="819720"/>
              </a:xfrm>
              <a:prstGeom prst="rect">
                <a:avLst/>
              </a:prstGeom>
              <a:solidFill>
                <a:srgbClr val="ecf5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526"/>
              <p:cNvSpPr/>
              <p:nvPr/>
            </p:nvSpPr>
            <p:spPr>
              <a:xfrm>
                <a:off x="2341800" y="3799800"/>
                <a:ext cx="5040" cy="819720"/>
              </a:xfrm>
              <a:prstGeom prst="rect">
                <a:avLst/>
              </a:prstGeom>
              <a:solidFill>
                <a:srgbClr val="edf6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527"/>
              <p:cNvSpPr/>
              <p:nvPr/>
            </p:nvSpPr>
            <p:spPr>
              <a:xfrm>
                <a:off x="2339640" y="3799800"/>
                <a:ext cx="3600" cy="819720"/>
              </a:xfrm>
              <a:prstGeom prst="rect">
                <a:avLst/>
              </a:prstGeom>
              <a:solidFill>
                <a:srgbClr val="ef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528"/>
              <p:cNvSpPr/>
              <p:nvPr/>
            </p:nvSpPr>
            <p:spPr>
              <a:xfrm>
                <a:off x="2338200" y="3799800"/>
                <a:ext cx="3600" cy="819720"/>
              </a:xfrm>
              <a:prstGeom prst="rect">
                <a:avLst/>
              </a:prstGeom>
              <a:solidFill>
                <a:srgbClr val="f0f8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529"/>
              <p:cNvSpPr/>
              <p:nvPr/>
            </p:nvSpPr>
            <p:spPr>
              <a:xfrm>
                <a:off x="2336400" y="3799800"/>
                <a:ext cx="3240" cy="819720"/>
              </a:xfrm>
              <a:prstGeom prst="rect">
                <a:avLst/>
              </a:prstGeom>
              <a:solidFill>
                <a:srgbClr val="f2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530"/>
              <p:cNvSpPr/>
              <p:nvPr/>
            </p:nvSpPr>
            <p:spPr>
              <a:xfrm>
                <a:off x="2334240" y="3799800"/>
                <a:ext cx="3600" cy="819720"/>
              </a:xfrm>
              <a:prstGeom prst="rect">
                <a:avLst/>
              </a:prstGeom>
              <a:solidFill>
                <a:srgbClr val="f3f9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531"/>
              <p:cNvSpPr/>
              <p:nvPr/>
            </p:nvSpPr>
            <p:spPr>
              <a:xfrm>
                <a:off x="2332800" y="3799800"/>
                <a:ext cx="3600" cy="819720"/>
              </a:xfrm>
              <a:prstGeom prst="rect">
                <a:avLst/>
              </a:prstGeom>
              <a:solidFill>
                <a:srgbClr val="f4fa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532"/>
              <p:cNvSpPr/>
              <p:nvPr/>
            </p:nvSpPr>
            <p:spPr>
              <a:xfrm>
                <a:off x="2329200" y="3799800"/>
                <a:ext cx="5040" cy="819720"/>
              </a:xfrm>
              <a:prstGeom prst="rect">
                <a:avLst/>
              </a:prstGeom>
              <a:solidFill>
                <a:srgbClr val="f6fa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533"/>
              <p:cNvSpPr/>
              <p:nvPr/>
            </p:nvSpPr>
            <p:spPr>
              <a:xfrm>
                <a:off x="2327400" y="3799800"/>
                <a:ext cx="5040" cy="819720"/>
              </a:xfrm>
              <a:prstGeom prst="rect">
                <a:avLst/>
              </a:prstGeom>
              <a:solidFill>
                <a:srgbClr val="f7f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534"/>
              <p:cNvSpPr/>
              <p:nvPr/>
            </p:nvSpPr>
            <p:spPr>
              <a:xfrm>
                <a:off x="2325600" y="3799800"/>
                <a:ext cx="3600" cy="819720"/>
              </a:xfrm>
              <a:prstGeom prst="rect">
                <a:avLst/>
              </a:prstGeom>
              <a:solidFill>
                <a:srgbClr val="f8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535"/>
              <p:cNvSpPr/>
              <p:nvPr/>
            </p:nvSpPr>
            <p:spPr>
              <a:xfrm>
                <a:off x="2323800" y="3799800"/>
                <a:ext cx="3600" cy="819720"/>
              </a:xfrm>
              <a:prstGeom prst="rect">
                <a:avLst/>
              </a:prstGeom>
              <a:solidFill>
                <a:srgbClr val="fafc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536"/>
              <p:cNvSpPr/>
              <p:nvPr/>
            </p:nvSpPr>
            <p:spPr>
              <a:xfrm>
                <a:off x="2321640" y="3799800"/>
                <a:ext cx="3600" cy="819720"/>
              </a:xfrm>
              <a:prstGeom prst="rect">
                <a:avLst/>
              </a:prstGeom>
              <a:solidFill>
                <a:srgbClr val="fbfd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537"/>
              <p:cNvSpPr/>
              <p:nvPr/>
            </p:nvSpPr>
            <p:spPr>
              <a:xfrm>
                <a:off x="2320200" y="3799800"/>
                <a:ext cx="3600" cy="819720"/>
              </a:xfrm>
              <a:prstGeom prst="rect">
                <a:avLst/>
              </a:prstGeom>
              <a:solidFill>
                <a:srgbClr val="fcfe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538"/>
              <p:cNvSpPr/>
              <p:nvPr/>
            </p:nvSpPr>
            <p:spPr>
              <a:xfrm>
                <a:off x="2320200" y="3799800"/>
                <a:ext cx="1440" cy="81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539"/>
              <p:cNvSpPr/>
              <p:nvPr/>
            </p:nvSpPr>
            <p:spPr>
              <a:xfrm>
                <a:off x="1895040" y="3036240"/>
                <a:ext cx="150480" cy="374760"/>
              </a:xfrm>
              <a:custGeom>
                <a:avLst/>
                <a:gdLst/>
                <a:ahLst/>
                <a:rect l="l" t="t" r="r" b="b"/>
                <a:pathLst>
                  <a:path w="676" h="1801">
                    <a:moveTo>
                      <a:pt x="34" y="1801"/>
                    </a:moveTo>
                    <a:lnTo>
                      <a:pt x="501" y="1167"/>
                    </a:lnTo>
                    <a:lnTo>
                      <a:pt x="676" y="369"/>
                    </a:lnTo>
                    <a:lnTo>
                      <a:pt x="670" y="0"/>
                    </a:lnTo>
                    <a:lnTo>
                      <a:pt x="34" y="247"/>
                    </a:lnTo>
                    <a:lnTo>
                      <a:pt x="0" y="348"/>
                    </a:lnTo>
                    <a:lnTo>
                      <a:pt x="34" y="1801"/>
                    </a:lnTo>
                    <a:close/>
                  </a:path>
                </a:pathLst>
              </a:custGeom>
              <a:solidFill>
                <a:srgbClr val="727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540"/>
              <p:cNvSpPr/>
              <p:nvPr/>
            </p:nvSpPr>
            <p:spPr>
              <a:xfrm>
                <a:off x="1588320" y="2904840"/>
                <a:ext cx="329760" cy="502920"/>
              </a:xfrm>
              <a:custGeom>
                <a:avLst/>
                <a:gdLst/>
                <a:ahLst/>
                <a:rect l="l" t="t" r="r" b="b"/>
                <a:pathLst>
                  <a:path w="1471" h="2417">
                    <a:moveTo>
                      <a:pt x="693" y="0"/>
                    </a:moveTo>
                    <a:lnTo>
                      <a:pt x="0" y="676"/>
                    </a:lnTo>
                    <a:lnTo>
                      <a:pt x="152" y="710"/>
                    </a:lnTo>
                    <a:lnTo>
                      <a:pt x="135" y="2078"/>
                    </a:lnTo>
                    <a:lnTo>
                      <a:pt x="1403" y="2417"/>
                    </a:lnTo>
                    <a:lnTo>
                      <a:pt x="1369" y="964"/>
                    </a:lnTo>
                    <a:lnTo>
                      <a:pt x="1471" y="980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541"/>
              <p:cNvSpPr/>
              <p:nvPr/>
            </p:nvSpPr>
            <p:spPr>
              <a:xfrm>
                <a:off x="1656000" y="3296520"/>
                <a:ext cx="8640" cy="11520"/>
              </a:xfrm>
              <a:custGeom>
                <a:avLst/>
                <a:gdLst/>
                <a:ahLst/>
                <a:rect l="l" t="t" r="r" b="b"/>
                <a:pathLst>
                  <a:path w="40" h="58">
                    <a:moveTo>
                      <a:pt x="0" y="0"/>
                    </a:moveTo>
                    <a:lnTo>
                      <a:pt x="40" y="5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7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542"/>
              <p:cNvSpPr/>
              <p:nvPr/>
            </p:nvSpPr>
            <p:spPr>
              <a:xfrm>
                <a:off x="1656000" y="3288240"/>
                <a:ext cx="16200" cy="23400"/>
              </a:xfrm>
              <a:custGeom>
                <a:avLst/>
                <a:gdLst/>
                <a:ahLst/>
                <a:rect l="l" t="t" r="r" b="b"/>
                <a:pathLst>
                  <a:path w="74" h="106">
                    <a:moveTo>
                      <a:pt x="7" y="89"/>
                    </a:moveTo>
                    <a:lnTo>
                      <a:pt x="0" y="79"/>
                    </a:lnTo>
                    <a:lnTo>
                      <a:pt x="0" y="0"/>
                    </a:lnTo>
                    <a:lnTo>
                      <a:pt x="74" y="106"/>
                    </a:lnTo>
                    <a:lnTo>
                      <a:pt x="7" y="89"/>
                    </a:lnTo>
                    <a:close/>
                  </a:path>
                </a:pathLst>
              </a:custGeom>
              <a:solidFill>
                <a:srgbClr val="b0c6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543"/>
              <p:cNvSpPr/>
              <p:nvPr/>
            </p:nvSpPr>
            <p:spPr>
              <a:xfrm>
                <a:off x="1656000" y="3279600"/>
                <a:ext cx="23400" cy="33120"/>
              </a:xfrm>
              <a:custGeom>
                <a:avLst/>
                <a:gdLst/>
                <a:ahLst/>
                <a:rect l="l" t="t" r="r" b="b"/>
                <a:pathLst>
                  <a:path w="107" h="155">
                    <a:moveTo>
                      <a:pt x="40" y="138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107" y="155"/>
                    </a:lnTo>
                    <a:lnTo>
                      <a:pt x="40" y="138"/>
                    </a:lnTo>
                    <a:close/>
                  </a:path>
                </a:pathLst>
              </a:custGeom>
              <a:solidFill>
                <a:srgbClr val="aec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544"/>
              <p:cNvSpPr/>
              <p:nvPr/>
            </p:nvSpPr>
            <p:spPr>
              <a:xfrm>
                <a:off x="1656000" y="327132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41" h="204">
                    <a:moveTo>
                      <a:pt x="74" y="187"/>
                    </a:moveTo>
                    <a:lnTo>
                      <a:pt x="0" y="81"/>
                    </a:lnTo>
                    <a:lnTo>
                      <a:pt x="0" y="0"/>
                    </a:lnTo>
                    <a:lnTo>
                      <a:pt x="141" y="204"/>
                    </a:lnTo>
                    <a:lnTo>
                      <a:pt x="74" y="187"/>
                    </a:lnTo>
                    <a:close/>
                  </a:path>
                </a:pathLst>
              </a:custGeom>
              <a:solidFill>
                <a:srgbClr val="ad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545"/>
              <p:cNvSpPr/>
              <p:nvPr/>
            </p:nvSpPr>
            <p:spPr>
              <a:xfrm>
                <a:off x="1656000" y="3263040"/>
                <a:ext cx="39240" cy="53280"/>
              </a:xfrm>
              <a:custGeom>
                <a:avLst/>
                <a:gdLst/>
                <a:ahLst/>
                <a:rect l="l" t="t" r="r" b="b"/>
                <a:pathLst>
                  <a:path w="174" h="252">
                    <a:moveTo>
                      <a:pt x="107" y="235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174" y="252"/>
                    </a:lnTo>
                    <a:lnTo>
                      <a:pt x="107" y="235"/>
                    </a:lnTo>
                    <a:close/>
                  </a:path>
                </a:pathLst>
              </a:custGeom>
              <a:solidFill>
                <a:srgbClr val="acc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546"/>
              <p:cNvSpPr/>
              <p:nvPr/>
            </p:nvSpPr>
            <p:spPr>
              <a:xfrm>
                <a:off x="1656000" y="3254760"/>
                <a:ext cx="46440" cy="63000"/>
              </a:xfrm>
              <a:custGeom>
                <a:avLst/>
                <a:gdLst/>
                <a:ahLst/>
                <a:rect l="l" t="t" r="r" b="b"/>
                <a:pathLst>
                  <a:path w="207" h="301">
                    <a:moveTo>
                      <a:pt x="141" y="284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207" y="301"/>
                    </a:lnTo>
                    <a:lnTo>
                      <a:pt x="141" y="284"/>
                    </a:lnTo>
                    <a:close/>
                  </a:path>
                </a:pathLst>
              </a:custGeom>
              <a:solidFill>
                <a:srgbClr val="aac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547"/>
              <p:cNvSpPr/>
              <p:nvPr/>
            </p:nvSpPr>
            <p:spPr>
              <a:xfrm>
                <a:off x="1656000" y="3246480"/>
                <a:ext cx="54000" cy="73080"/>
              </a:xfrm>
              <a:custGeom>
                <a:avLst/>
                <a:gdLst/>
                <a:ahLst/>
                <a:rect l="l" t="t" r="r" b="b"/>
                <a:pathLst>
                  <a:path w="241" h="349">
                    <a:moveTo>
                      <a:pt x="174" y="332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241" y="349"/>
                    </a:lnTo>
                    <a:lnTo>
                      <a:pt x="174" y="332"/>
                    </a:lnTo>
                    <a:close/>
                  </a:path>
                </a:pathLst>
              </a:custGeom>
              <a:solidFill>
                <a:srgbClr val="aab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548"/>
              <p:cNvSpPr/>
              <p:nvPr/>
            </p:nvSpPr>
            <p:spPr>
              <a:xfrm>
                <a:off x="1656000" y="3238200"/>
                <a:ext cx="60840" cy="82800"/>
              </a:xfrm>
              <a:custGeom>
                <a:avLst/>
                <a:gdLst/>
                <a:ahLst/>
                <a:rect l="l" t="t" r="r" b="b"/>
                <a:pathLst>
                  <a:path w="273" h="398">
                    <a:moveTo>
                      <a:pt x="207" y="381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273" y="398"/>
                    </a:lnTo>
                    <a:lnTo>
                      <a:pt x="207" y="381"/>
                    </a:lnTo>
                    <a:close/>
                  </a:path>
                </a:pathLst>
              </a:custGeom>
              <a:solidFill>
                <a:srgbClr val="a8be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549"/>
              <p:cNvSpPr/>
              <p:nvPr/>
            </p:nvSpPr>
            <p:spPr>
              <a:xfrm>
                <a:off x="1656000" y="3229920"/>
                <a:ext cx="68040" cy="92880"/>
              </a:xfrm>
              <a:custGeom>
                <a:avLst/>
                <a:gdLst/>
                <a:ahLst/>
                <a:rect l="l" t="t" r="r" b="b"/>
                <a:pathLst>
                  <a:path w="307" h="445">
                    <a:moveTo>
                      <a:pt x="241" y="428"/>
                    </a:moveTo>
                    <a:lnTo>
                      <a:pt x="0" y="79"/>
                    </a:lnTo>
                    <a:lnTo>
                      <a:pt x="0" y="0"/>
                    </a:lnTo>
                    <a:lnTo>
                      <a:pt x="307" y="445"/>
                    </a:lnTo>
                    <a:lnTo>
                      <a:pt x="241" y="428"/>
                    </a:lnTo>
                    <a:close/>
                  </a:path>
                </a:pathLst>
              </a:custGeom>
              <a:solidFill>
                <a:srgbClr val="a6b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550"/>
              <p:cNvSpPr/>
              <p:nvPr/>
            </p:nvSpPr>
            <p:spPr>
              <a:xfrm>
                <a:off x="1656000" y="3221640"/>
                <a:ext cx="75600" cy="102960"/>
              </a:xfrm>
              <a:custGeom>
                <a:avLst/>
                <a:gdLst/>
                <a:ahLst/>
                <a:rect l="l" t="t" r="r" b="b"/>
                <a:pathLst>
                  <a:path w="340" h="495">
                    <a:moveTo>
                      <a:pt x="273" y="478"/>
                    </a:moveTo>
                    <a:lnTo>
                      <a:pt x="0" y="80"/>
                    </a:lnTo>
                    <a:lnTo>
                      <a:pt x="0" y="0"/>
                    </a:lnTo>
                    <a:lnTo>
                      <a:pt x="340" y="495"/>
                    </a:lnTo>
                    <a:lnTo>
                      <a:pt x="273" y="478"/>
                    </a:lnTo>
                    <a:close/>
                  </a:path>
                </a:pathLst>
              </a:custGeom>
              <a:solidFill>
                <a:srgbClr val="a6b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551"/>
              <p:cNvSpPr/>
              <p:nvPr/>
            </p:nvSpPr>
            <p:spPr>
              <a:xfrm>
                <a:off x="1656000" y="3214800"/>
                <a:ext cx="84600" cy="111240"/>
              </a:xfrm>
              <a:custGeom>
                <a:avLst/>
                <a:gdLst/>
                <a:ahLst/>
                <a:rect l="l" t="t" r="r" b="b"/>
                <a:pathLst>
                  <a:path w="373" h="536">
                    <a:moveTo>
                      <a:pt x="307" y="519"/>
                    </a:moveTo>
                    <a:lnTo>
                      <a:pt x="0" y="74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373" y="536"/>
                    </a:lnTo>
                    <a:lnTo>
                      <a:pt x="307" y="519"/>
                    </a:lnTo>
                    <a:close/>
                  </a:path>
                </a:pathLst>
              </a:custGeom>
              <a:solidFill>
                <a:srgbClr val="a4b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552"/>
              <p:cNvSpPr/>
              <p:nvPr/>
            </p:nvSpPr>
            <p:spPr>
              <a:xfrm>
                <a:off x="1656000" y="3214800"/>
                <a:ext cx="91440" cy="113040"/>
              </a:xfrm>
              <a:custGeom>
                <a:avLst/>
                <a:gdLst/>
                <a:ahLst/>
                <a:rect l="l" t="t" r="r" b="b"/>
                <a:pathLst>
                  <a:path w="407" h="545">
                    <a:moveTo>
                      <a:pt x="340" y="528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8" y="8"/>
                    </a:lnTo>
                    <a:lnTo>
                      <a:pt x="407" y="545"/>
                    </a:lnTo>
                    <a:lnTo>
                      <a:pt x="340" y="528"/>
                    </a:lnTo>
                    <a:close/>
                  </a:path>
                </a:pathLst>
              </a:custGeom>
              <a:solidFill>
                <a:srgbClr val="a2b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553"/>
              <p:cNvSpPr/>
              <p:nvPr/>
            </p:nvSpPr>
            <p:spPr>
              <a:xfrm>
                <a:off x="1658160" y="3214800"/>
                <a:ext cx="96480" cy="114840"/>
              </a:xfrm>
              <a:custGeom>
                <a:avLst/>
                <a:gdLst/>
                <a:ahLst/>
                <a:rect l="l" t="t" r="r" b="b"/>
                <a:pathLst>
                  <a:path w="434" h="552">
                    <a:moveTo>
                      <a:pt x="367" y="535"/>
                    </a:moveTo>
                    <a:lnTo>
                      <a:pt x="0" y="0"/>
                    </a:lnTo>
                    <a:lnTo>
                      <a:pt x="63" y="14"/>
                    </a:lnTo>
                    <a:lnTo>
                      <a:pt x="434" y="552"/>
                    </a:lnTo>
                    <a:lnTo>
                      <a:pt x="367" y="535"/>
                    </a:lnTo>
                    <a:close/>
                  </a:path>
                </a:pathLst>
              </a:custGeom>
              <a:solidFill>
                <a:srgbClr val="a2b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554"/>
              <p:cNvSpPr/>
              <p:nvPr/>
            </p:nvSpPr>
            <p:spPr>
              <a:xfrm>
                <a:off x="1665000" y="3216240"/>
                <a:ext cx="97200" cy="115200"/>
              </a:xfrm>
              <a:custGeom>
                <a:avLst/>
                <a:gdLst/>
                <a:ahLst/>
                <a:rect l="l" t="t" r="r" b="b"/>
                <a:pathLst>
                  <a:path w="436" h="554">
                    <a:moveTo>
                      <a:pt x="369" y="537"/>
                    </a:moveTo>
                    <a:lnTo>
                      <a:pt x="0" y="0"/>
                    </a:lnTo>
                    <a:lnTo>
                      <a:pt x="64" y="12"/>
                    </a:lnTo>
                    <a:lnTo>
                      <a:pt x="436" y="554"/>
                    </a:lnTo>
                    <a:lnTo>
                      <a:pt x="369" y="537"/>
                    </a:lnTo>
                    <a:close/>
                  </a:path>
                </a:pathLst>
              </a:custGeom>
              <a:solidFill>
                <a:srgbClr val="a0b5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555"/>
              <p:cNvSpPr/>
              <p:nvPr/>
            </p:nvSpPr>
            <p:spPr>
              <a:xfrm>
                <a:off x="1672560" y="3218040"/>
                <a:ext cx="96480" cy="114840"/>
              </a:xfrm>
              <a:custGeom>
                <a:avLst/>
                <a:gdLst/>
                <a:ahLst/>
                <a:rect l="l" t="t" r="r" b="b"/>
                <a:pathLst>
                  <a:path w="438" h="555">
                    <a:moveTo>
                      <a:pt x="371" y="538"/>
                    </a:moveTo>
                    <a:lnTo>
                      <a:pt x="0" y="0"/>
                    </a:lnTo>
                    <a:lnTo>
                      <a:pt x="65" y="12"/>
                    </a:lnTo>
                    <a:lnTo>
                      <a:pt x="438" y="555"/>
                    </a:lnTo>
                    <a:lnTo>
                      <a:pt x="371" y="538"/>
                    </a:lnTo>
                    <a:close/>
                  </a:path>
                </a:pathLst>
              </a:custGeom>
              <a:solidFill>
                <a:srgbClr val="9fb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56"/>
              <p:cNvSpPr/>
              <p:nvPr/>
            </p:nvSpPr>
            <p:spPr>
              <a:xfrm>
                <a:off x="1679760" y="3219840"/>
                <a:ext cx="96480" cy="114840"/>
              </a:xfrm>
              <a:custGeom>
                <a:avLst/>
                <a:gdLst/>
                <a:ahLst/>
                <a:rect l="l" t="t" r="r" b="b"/>
                <a:pathLst>
                  <a:path w="438" h="559">
                    <a:moveTo>
                      <a:pt x="372" y="542"/>
                    </a:moveTo>
                    <a:lnTo>
                      <a:pt x="0" y="0"/>
                    </a:lnTo>
                    <a:lnTo>
                      <a:pt x="64" y="14"/>
                    </a:lnTo>
                    <a:lnTo>
                      <a:pt x="438" y="559"/>
                    </a:lnTo>
                    <a:lnTo>
                      <a:pt x="372" y="542"/>
                    </a:lnTo>
                    <a:close/>
                  </a:path>
                </a:pathLst>
              </a:custGeom>
              <a:solidFill>
                <a:srgbClr val="9db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57"/>
              <p:cNvSpPr/>
              <p:nvPr/>
            </p:nvSpPr>
            <p:spPr>
              <a:xfrm>
                <a:off x="1686600" y="3219840"/>
                <a:ext cx="98640" cy="116640"/>
              </a:xfrm>
              <a:custGeom>
                <a:avLst/>
                <a:gdLst/>
                <a:ahLst/>
                <a:rect l="l" t="t" r="r" b="b"/>
                <a:pathLst>
                  <a:path w="440" h="560">
                    <a:moveTo>
                      <a:pt x="373" y="543"/>
                    </a:moveTo>
                    <a:lnTo>
                      <a:pt x="0" y="0"/>
                    </a:lnTo>
                    <a:lnTo>
                      <a:pt x="63" y="14"/>
                    </a:lnTo>
                    <a:lnTo>
                      <a:pt x="440" y="560"/>
                    </a:lnTo>
                    <a:lnTo>
                      <a:pt x="373" y="543"/>
                    </a:lnTo>
                    <a:close/>
                  </a:path>
                </a:pathLst>
              </a:custGeom>
              <a:solidFill>
                <a:srgbClr val="9bb0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58"/>
              <p:cNvSpPr/>
              <p:nvPr/>
            </p:nvSpPr>
            <p:spPr>
              <a:xfrm>
                <a:off x="1694160" y="3221640"/>
                <a:ext cx="98280" cy="116280"/>
              </a:xfrm>
              <a:custGeom>
                <a:avLst/>
                <a:gdLst/>
                <a:ahLst/>
                <a:rect l="l" t="t" r="r" b="b"/>
                <a:pathLst>
                  <a:path w="441" h="561">
                    <a:moveTo>
                      <a:pt x="374" y="545"/>
                    </a:moveTo>
                    <a:lnTo>
                      <a:pt x="0" y="0"/>
                    </a:lnTo>
                    <a:lnTo>
                      <a:pt x="64" y="14"/>
                    </a:lnTo>
                    <a:lnTo>
                      <a:pt x="441" y="561"/>
                    </a:lnTo>
                    <a:lnTo>
                      <a:pt x="374" y="545"/>
                    </a:lnTo>
                    <a:close/>
                  </a:path>
                </a:pathLst>
              </a:custGeom>
              <a:solidFill>
                <a:srgbClr val="9ba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59"/>
              <p:cNvSpPr/>
              <p:nvPr/>
            </p:nvSpPr>
            <p:spPr>
              <a:xfrm>
                <a:off x="1701360" y="3223080"/>
                <a:ext cx="98280" cy="118080"/>
              </a:xfrm>
              <a:custGeom>
                <a:avLst/>
                <a:gdLst/>
                <a:ahLst/>
                <a:rect l="l" t="t" r="r" b="b"/>
                <a:pathLst>
                  <a:path w="444" h="563">
                    <a:moveTo>
                      <a:pt x="377" y="546"/>
                    </a:moveTo>
                    <a:lnTo>
                      <a:pt x="0" y="0"/>
                    </a:lnTo>
                    <a:lnTo>
                      <a:pt x="65" y="12"/>
                    </a:lnTo>
                    <a:lnTo>
                      <a:pt x="444" y="563"/>
                    </a:lnTo>
                    <a:lnTo>
                      <a:pt x="377" y="546"/>
                    </a:lnTo>
                    <a:close/>
                  </a:path>
                </a:pathLst>
              </a:custGeom>
              <a:solidFill>
                <a:srgbClr val="98a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60"/>
              <p:cNvSpPr/>
              <p:nvPr/>
            </p:nvSpPr>
            <p:spPr>
              <a:xfrm>
                <a:off x="1708200" y="3224520"/>
                <a:ext cx="98640" cy="118080"/>
              </a:xfrm>
              <a:custGeom>
                <a:avLst/>
                <a:gdLst/>
                <a:ahLst/>
                <a:rect l="l" t="t" r="r" b="b"/>
                <a:pathLst>
                  <a:path w="444" h="564">
                    <a:moveTo>
                      <a:pt x="377" y="547"/>
                    </a:moveTo>
                    <a:lnTo>
                      <a:pt x="0" y="0"/>
                    </a:lnTo>
                    <a:lnTo>
                      <a:pt x="64" y="12"/>
                    </a:lnTo>
                    <a:lnTo>
                      <a:pt x="444" y="564"/>
                    </a:lnTo>
                    <a:lnTo>
                      <a:pt x="377" y="547"/>
                    </a:lnTo>
                    <a:close/>
                  </a:path>
                </a:pathLst>
              </a:custGeom>
              <a:solidFill>
                <a:srgbClr val="97aa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61"/>
              <p:cNvSpPr/>
              <p:nvPr/>
            </p:nvSpPr>
            <p:spPr>
              <a:xfrm>
                <a:off x="1715400" y="3226320"/>
                <a:ext cx="98280" cy="118080"/>
              </a:xfrm>
              <a:custGeom>
                <a:avLst/>
                <a:gdLst/>
                <a:ahLst/>
                <a:rect l="l" t="t" r="r" b="b"/>
                <a:pathLst>
                  <a:path w="445" h="568">
                    <a:moveTo>
                      <a:pt x="379" y="551"/>
                    </a:moveTo>
                    <a:lnTo>
                      <a:pt x="0" y="0"/>
                    </a:lnTo>
                    <a:lnTo>
                      <a:pt x="64" y="14"/>
                    </a:lnTo>
                    <a:lnTo>
                      <a:pt x="445" y="568"/>
                    </a:lnTo>
                    <a:lnTo>
                      <a:pt x="379" y="551"/>
                    </a:lnTo>
                    <a:close/>
                  </a:path>
                </a:pathLst>
              </a:custGeom>
              <a:solidFill>
                <a:srgbClr val="96a9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62"/>
              <p:cNvSpPr/>
              <p:nvPr/>
            </p:nvSpPr>
            <p:spPr>
              <a:xfrm>
                <a:off x="1722960" y="3226320"/>
                <a:ext cx="98280" cy="119520"/>
              </a:xfrm>
              <a:custGeom>
                <a:avLst/>
                <a:gdLst/>
                <a:ahLst/>
                <a:rect l="l" t="t" r="r" b="b"/>
                <a:pathLst>
                  <a:path w="447" h="569">
                    <a:moveTo>
                      <a:pt x="380" y="552"/>
                    </a:moveTo>
                    <a:lnTo>
                      <a:pt x="0" y="0"/>
                    </a:lnTo>
                    <a:lnTo>
                      <a:pt x="64" y="14"/>
                    </a:lnTo>
                    <a:lnTo>
                      <a:pt x="447" y="569"/>
                    </a:lnTo>
                    <a:lnTo>
                      <a:pt x="380" y="552"/>
                    </a:lnTo>
                    <a:close/>
                  </a:path>
                </a:pathLst>
              </a:custGeom>
              <a:solidFill>
                <a:srgbClr val="93a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63"/>
              <p:cNvSpPr/>
              <p:nvPr/>
            </p:nvSpPr>
            <p:spPr>
              <a:xfrm>
                <a:off x="1729800" y="3228120"/>
                <a:ext cx="100440" cy="119880"/>
              </a:xfrm>
              <a:custGeom>
                <a:avLst/>
                <a:gdLst/>
                <a:ahLst/>
                <a:rect l="l" t="t" r="r" b="b"/>
                <a:pathLst>
                  <a:path w="448" h="571">
                    <a:moveTo>
                      <a:pt x="381" y="554"/>
                    </a:moveTo>
                    <a:lnTo>
                      <a:pt x="0" y="0"/>
                    </a:lnTo>
                    <a:lnTo>
                      <a:pt x="64" y="12"/>
                    </a:lnTo>
                    <a:lnTo>
                      <a:pt x="448" y="571"/>
                    </a:lnTo>
                    <a:lnTo>
                      <a:pt x="381" y="554"/>
                    </a:lnTo>
                    <a:close/>
                  </a:path>
                </a:pathLst>
              </a:custGeom>
              <a:solidFill>
                <a:srgbClr val="92a4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64"/>
              <p:cNvSpPr/>
              <p:nvPr/>
            </p:nvSpPr>
            <p:spPr>
              <a:xfrm>
                <a:off x="1737000" y="3229920"/>
                <a:ext cx="100440" cy="119520"/>
              </a:xfrm>
              <a:custGeom>
                <a:avLst/>
                <a:gdLst/>
                <a:ahLst/>
                <a:rect l="l" t="t" r="r" b="b"/>
                <a:pathLst>
                  <a:path w="450" h="572">
                    <a:moveTo>
                      <a:pt x="383" y="555"/>
                    </a:moveTo>
                    <a:lnTo>
                      <a:pt x="0" y="0"/>
                    </a:lnTo>
                    <a:lnTo>
                      <a:pt x="64" y="12"/>
                    </a:lnTo>
                    <a:lnTo>
                      <a:pt x="450" y="572"/>
                    </a:lnTo>
                    <a:lnTo>
                      <a:pt x="383" y="555"/>
                    </a:lnTo>
                    <a:close/>
                  </a:path>
                </a:pathLst>
              </a:custGeom>
              <a:solidFill>
                <a:srgbClr val="90a2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65"/>
              <p:cNvSpPr/>
              <p:nvPr/>
            </p:nvSpPr>
            <p:spPr>
              <a:xfrm>
                <a:off x="1744200" y="3231360"/>
                <a:ext cx="100440" cy="119520"/>
              </a:xfrm>
              <a:custGeom>
                <a:avLst/>
                <a:gdLst/>
                <a:ahLst/>
                <a:rect l="l" t="t" r="r" b="b"/>
                <a:pathLst>
                  <a:path w="450" h="576">
                    <a:moveTo>
                      <a:pt x="384" y="559"/>
                    </a:moveTo>
                    <a:lnTo>
                      <a:pt x="0" y="0"/>
                    </a:lnTo>
                    <a:lnTo>
                      <a:pt x="64" y="14"/>
                    </a:lnTo>
                    <a:lnTo>
                      <a:pt x="450" y="576"/>
                    </a:lnTo>
                    <a:lnTo>
                      <a:pt x="384" y="559"/>
                    </a:lnTo>
                    <a:close/>
                  </a:path>
                </a:pathLst>
              </a:custGeom>
              <a:solidFill>
                <a:srgbClr val="8fa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66"/>
              <p:cNvSpPr/>
              <p:nvPr/>
            </p:nvSpPr>
            <p:spPr>
              <a:xfrm>
                <a:off x="1751400" y="3232800"/>
                <a:ext cx="100440" cy="119880"/>
              </a:xfrm>
              <a:custGeom>
                <a:avLst/>
                <a:gdLst/>
                <a:ahLst/>
                <a:rect l="l" t="t" r="r" b="b"/>
                <a:pathLst>
                  <a:path w="451" h="577">
                    <a:moveTo>
                      <a:pt x="386" y="560"/>
                    </a:moveTo>
                    <a:lnTo>
                      <a:pt x="0" y="0"/>
                    </a:lnTo>
                    <a:lnTo>
                      <a:pt x="63" y="14"/>
                    </a:lnTo>
                    <a:lnTo>
                      <a:pt x="451" y="577"/>
                    </a:lnTo>
                    <a:lnTo>
                      <a:pt x="386" y="560"/>
                    </a:lnTo>
                    <a:close/>
                  </a:path>
                </a:pathLst>
              </a:custGeom>
              <a:solidFill>
                <a:srgbClr val="8e9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67"/>
              <p:cNvSpPr/>
              <p:nvPr/>
            </p:nvSpPr>
            <p:spPr>
              <a:xfrm>
                <a:off x="1758600" y="3234960"/>
                <a:ext cx="100440" cy="119520"/>
              </a:xfrm>
              <a:custGeom>
                <a:avLst/>
                <a:gdLst/>
                <a:ahLst/>
                <a:rect l="l" t="t" r="r" b="b"/>
                <a:pathLst>
                  <a:path w="453" h="579">
                    <a:moveTo>
                      <a:pt x="386" y="562"/>
                    </a:moveTo>
                    <a:lnTo>
                      <a:pt x="0" y="0"/>
                    </a:lnTo>
                    <a:lnTo>
                      <a:pt x="64" y="13"/>
                    </a:lnTo>
                    <a:lnTo>
                      <a:pt x="453" y="579"/>
                    </a:lnTo>
                    <a:lnTo>
                      <a:pt x="386" y="562"/>
                    </a:lnTo>
                    <a:close/>
                  </a:path>
                </a:pathLst>
              </a:custGeom>
              <a:solidFill>
                <a:srgbClr val="8c9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68"/>
              <p:cNvSpPr/>
              <p:nvPr/>
            </p:nvSpPr>
            <p:spPr>
              <a:xfrm>
                <a:off x="1765800" y="3234960"/>
                <a:ext cx="95040" cy="119520"/>
              </a:xfrm>
              <a:custGeom>
                <a:avLst/>
                <a:gdLst/>
                <a:ahLst/>
                <a:rect l="l" t="t" r="r" b="b"/>
                <a:pathLst>
                  <a:path w="428" h="573">
                    <a:moveTo>
                      <a:pt x="388" y="563"/>
                    </a:moveTo>
                    <a:lnTo>
                      <a:pt x="0" y="0"/>
                    </a:lnTo>
                    <a:lnTo>
                      <a:pt x="65" y="12"/>
                    </a:lnTo>
                    <a:lnTo>
                      <a:pt x="427" y="539"/>
                    </a:lnTo>
                    <a:lnTo>
                      <a:pt x="428" y="573"/>
                    </a:lnTo>
                    <a:lnTo>
                      <a:pt x="388" y="563"/>
                    </a:lnTo>
                    <a:close/>
                  </a:path>
                </a:pathLst>
              </a:custGeom>
              <a:solidFill>
                <a:srgbClr val="8b9c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69"/>
              <p:cNvSpPr/>
              <p:nvPr/>
            </p:nvSpPr>
            <p:spPr>
              <a:xfrm>
                <a:off x="1773000" y="3236400"/>
                <a:ext cx="87840" cy="118080"/>
              </a:xfrm>
              <a:custGeom>
                <a:avLst/>
                <a:gdLst/>
                <a:ahLst/>
                <a:rect l="l" t="t" r="r" b="b"/>
                <a:pathLst>
                  <a:path w="395" h="567">
                    <a:moveTo>
                      <a:pt x="389" y="566"/>
                    </a:moveTo>
                    <a:lnTo>
                      <a:pt x="0" y="0"/>
                    </a:lnTo>
                    <a:lnTo>
                      <a:pt x="64" y="13"/>
                    </a:lnTo>
                    <a:lnTo>
                      <a:pt x="393" y="491"/>
                    </a:lnTo>
                    <a:lnTo>
                      <a:pt x="395" y="567"/>
                    </a:lnTo>
                    <a:lnTo>
                      <a:pt x="389" y="566"/>
                    </a:lnTo>
                    <a:close/>
                  </a:path>
                </a:pathLst>
              </a:custGeom>
              <a:solidFill>
                <a:srgbClr val="8a9b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70"/>
              <p:cNvSpPr/>
              <p:nvPr/>
            </p:nvSpPr>
            <p:spPr>
              <a:xfrm>
                <a:off x="1780200" y="3238200"/>
                <a:ext cx="80280" cy="109800"/>
              </a:xfrm>
              <a:custGeom>
                <a:avLst/>
                <a:gdLst/>
                <a:ahLst/>
                <a:rect l="l" t="t" r="r" b="b"/>
                <a:pathLst>
                  <a:path w="362" h="527">
                    <a:moveTo>
                      <a:pt x="362" y="527"/>
                    </a:moveTo>
                    <a:lnTo>
                      <a:pt x="0" y="0"/>
                    </a:lnTo>
                    <a:lnTo>
                      <a:pt x="64" y="14"/>
                    </a:lnTo>
                    <a:lnTo>
                      <a:pt x="361" y="445"/>
                    </a:lnTo>
                    <a:lnTo>
                      <a:pt x="362" y="527"/>
                    </a:lnTo>
                    <a:close/>
                  </a:path>
                </a:pathLst>
              </a:custGeom>
              <a:solidFill>
                <a:srgbClr val="899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71"/>
              <p:cNvSpPr/>
              <p:nvPr/>
            </p:nvSpPr>
            <p:spPr>
              <a:xfrm>
                <a:off x="1787040" y="3239640"/>
                <a:ext cx="73440" cy="100080"/>
              </a:xfrm>
              <a:custGeom>
                <a:avLst/>
                <a:gdLst/>
                <a:ahLst/>
                <a:rect l="l" t="t" r="r" b="b"/>
                <a:pathLst>
                  <a:path w="329" h="478">
                    <a:moveTo>
                      <a:pt x="329" y="478"/>
                    </a:moveTo>
                    <a:lnTo>
                      <a:pt x="0" y="0"/>
                    </a:lnTo>
                    <a:lnTo>
                      <a:pt x="65" y="14"/>
                    </a:lnTo>
                    <a:lnTo>
                      <a:pt x="328" y="396"/>
                    </a:lnTo>
                    <a:lnTo>
                      <a:pt x="329" y="478"/>
                    </a:lnTo>
                    <a:close/>
                  </a:path>
                </a:pathLst>
              </a:custGeom>
              <a:solidFill>
                <a:srgbClr val="899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72"/>
              <p:cNvSpPr/>
              <p:nvPr/>
            </p:nvSpPr>
            <p:spPr>
              <a:xfrm>
                <a:off x="1794600" y="3241080"/>
                <a:ext cx="66240" cy="90000"/>
              </a:xfrm>
              <a:custGeom>
                <a:avLst/>
                <a:gdLst/>
                <a:ahLst/>
                <a:rect l="l" t="t" r="r" b="b"/>
                <a:pathLst>
                  <a:path w="297" h="431">
                    <a:moveTo>
                      <a:pt x="297" y="431"/>
                    </a:moveTo>
                    <a:lnTo>
                      <a:pt x="0" y="0"/>
                    </a:lnTo>
                    <a:lnTo>
                      <a:pt x="64" y="13"/>
                    </a:lnTo>
                    <a:lnTo>
                      <a:pt x="294" y="348"/>
                    </a:lnTo>
                    <a:lnTo>
                      <a:pt x="297" y="431"/>
                    </a:lnTo>
                    <a:close/>
                  </a:path>
                </a:pathLst>
              </a:custGeom>
              <a:solidFill>
                <a:srgbClr val="879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73"/>
              <p:cNvSpPr/>
              <p:nvPr/>
            </p:nvSpPr>
            <p:spPr>
              <a:xfrm>
                <a:off x="1801800" y="3243240"/>
                <a:ext cx="58680" cy="78120"/>
              </a:xfrm>
              <a:custGeom>
                <a:avLst/>
                <a:gdLst/>
                <a:ahLst/>
                <a:rect l="l" t="t" r="r" b="b"/>
                <a:pathLst>
                  <a:path w="263" h="382">
                    <a:moveTo>
                      <a:pt x="263" y="382"/>
                    </a:moveTo>
                    <a:lnTo>
                      <a:pt x="0" y="0"/>
                    </a:lnTo>
                    <a:lnTo>
                      <a:pt x="63" y="12"/>
                    </a:lnTo>
                    <a:lnTo>
                      <a:pt x="260" y="299"/>
                    </a:lnTo>
                    <a:lnTo>
                      <a:pt x="263" y="382"/>
                    </a:lnTo>
                    <a:close/>
                  </a:path>
                </a:pathLst>
              </a:custGeom>
              <a:solidFill>
                <a:srgbClr val="8797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74"/>
              <p:cNvSpPr/>
              <p:nvPr/>
            </p:nvSpPr>
            <p:spPr>
              <a:xfrm>
                <a:off x="1808640" y="3243240"/>
                <a:ext cx="50400" cy="69840"/>
              </a:xfrm>
              <a:custGeom>
                <a:avLst/>
                <a:gdLst/>
                <a:ahLst/>
                <a:rect l="l" t="t" r="r" b="b"/>
                <a:pathLst>
                  <a:path w="230" h="335">
                    <a:moveTo>
                      <a:pt x="230" y="335"/>
                    </a:moveTo>
                    <a:lnTo>
                      <a:pt x="0" y="0"/>
                    </a:lnTo>
                    <a:lnTo>
                      <a:pt x="64" y="13"/>
                    </a:lnTo>
                    <a:lnTo>
                      <a:pt x="228" y="251"/>
                    </a:lnTo>
                    <a:lnTo>
                      <a:pt x="230" y="335"/>
                    </a:lnTo>
                    <a:close/>
                  </a:path>
                </a:pathLst>
              </a:custGeom>
              <a:solidFill>
                <a:srgbClr val="869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75"/>
              <p:cNvSpPr/>
              <p:nvPr/>
            </p:nvSpPr>
            <p:spPr>
              <a:xfrm>
                <a:off x="1816200" y="3244680"/>
                <a:ext cx="42840" cy="59760"/>
              </a:xfrm>
              <a:custGeom>
                <a:avLst/>
                <a:gdLst/>
                <a:ahLst/>
                <a:rect l="l" t="t" r="r" b="b"/>
                <a:pathLst>
                  <a:path w="197" h="287">
                    <a:moveTo>
                      <a:pt x="197" y="287"/>
                    </a:moveTo>
                    <a:lnTo>
                      <a:pt x="0" y="0"/>
                    </a:lnTo>
                    <a:lnTo>
                      <a:pt x="65" y="14"/>
                    </a:lnTo>
                    <a:lnTo>
                      <a:pt x="195" y="204"/>
                    </a:lnTo>
                    <a:lnTo>
                      <a:pt x="197" y="287"/>
                    </a:lnTo>
                    <a:close/>
                  </a:path>
                </a:pathLst>
              </a:custGeom>
              <a:solidFill>
                <a:srgbClr val="859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76"/>
              <p:cNvSpPr/>
              <p:nvPr/>
            </p:nvSpPr>
            <p:spPr>
              <a:xfrm>
                <a:off x="1823040" y="3246480"/>
                <a:ext cx="36000" cy="49680"/>
              </a:xfrm>
              <a:custGeom>
                <a:avLst/>
                <a:gdLst/>
                <a:ahLst/>
                <a:rect l="l" t="t" r="r" b="b"/>
                <a:pathLst>
                  <a:path w="164" h="238">
                    <a:moveTo>
                      <a:pt x="164" y="238"/>
                    </a:moveTo>
                    <a:lnTo>
                      <a:pt x="0" y="0"/>
                    </a:lnTo>
                    <a:lnTo>
                      <a:pt x="64" y="13"/>
                    </a:lnTo>
                    <a:lnTo>
                      <a:pt x="162" y="155"/>
                    </a:lnTo>
                    <a:lnTo>
                      <a:pt x="164" y="238"/>
                    </a:lnTo>
                    <a:close/>
                  </a:path>
                </a:pathLst>
              </a:custGeom>
              <a:solidFill>
                <a:srgbClr val="81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77"/>
              <p:cNvSpPr/>
              <p:nvPr/>
            </p:nvSpPr>
            <p:spPr>
              <a:xfrm>
                <a:off x="1830240" y="3247920"/>
                <a:ext cx="28800" cy="39960"/>
              </a:xfrm>
              <a:custGeom>
                <a:avLst/>
                <a:gdLst/>
                <a:ahLst/>
                <a:rect l="l" t="t" r="r" b="b"/>
                <a:pathLst>
                  <a:path w="130" h="190">
                    <a:moveTo>
                      <a:pt x="130" y="190"/>
                    </a:moveTo>
                    <a:lnTo>
                      <a:pt x="0" y="0"/>
                    </a:lnTo>
                    <a:lnTo>
                      <a:pt x="63" y="12"/>
                    </a:lnTo>
                    <a:lnTo>
                      <a:pt x="129" y="107"/>
                    </a:lnTo>
                    <a:lnTo>
                      <a:pt x="130" y="190"/>
                    </a:lnTo>
                    <a:close/>
                  </a:path>
                </a:pathLst>
              </a:custGeom>
              <a:solidFill>
                <a:srgbClr val="7d8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78"/>
              <p:cNvSpPr/>
              <p:nvPr/>
            </p:nvSpPr>
            <p:spPr>
              <a:xfrm>
                <a:off x="1837800" y="324936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98" h="142">
                    <a:moveTo>
                      <a:pt x="98" y="142"/>
                    </a:moveTo>
                    <a:lnTo>
                      <a:pt x="0" y="0"/>
                    </a:lnTo>
                    <a:lnTo>
                      <a:pt x="64" y="13"/>
                    </a:lnTo>
                    <a:lnTo>
                      <a:pt x="97" y="59"/>
                    </a:lnTo>
                    <a:lnTo>
                      <a:pt x="98" y="142"/>
                    </a:lnTo>
                    <a:close/>
                  </a:path>
                </a:pathLst>
              </a:custGeom>
              <a:solidFill>
                <a:srgbClr val="7a89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79"/>
              <p:cNvSpPr/>
              <p:nvPr/>
            </p:nvSpPr>
            <p:spPr>
              <a:xfrm>
                <a:off x="1844640" y="324936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66" h="95">
                    <a:moveTo>
                      <a:pt x="66" y="95"/>
                    </a:moveTo>
                    <a:lnTo>
                      <a:pt x="0" y="0"/>
                    </a:lnTo>
                    <a:lnTo>
                      <a:pt x="64" y="14"/>
                    </a:lnTo>
                    <a:lnTo>
                      <a:pt x="66" y="95"/>
                    </a:lnTo>
                    <a:close/>
                  </a:path>
                </a:pathLst>
              </a:custGeom>
              <a:solidFill>
                <a:srgbClr val="758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80"/>
              <p:cNvSpPr/>
              <p:nvPr/>
            </p:nvSpPr>
            <p:spPr>
              <a:xfrm>
                <a:off x="1851840" y="325152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33" y="46"/>
                    </a:moveTo>
                    <a:lnTo>
                      <a:pt x="0" y="0"/>
                    </a:lnTo>
                    <a:lnTo>
                      <a:pt x="32" y="7"/>
                    </a:lnTo>
                    <a:lnTo>
                      <a:pt x="33" y="46"/>
                    </a:lnTo>
                    <a:close/>
                  </a:path>
                </a:pathLst>
              </a:custGeom>
              <a:solidFill>
                <a:srgbClr val="728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81"/>
              <p:cNvSpPr/>
              <p:nvPr/>
            </p:nvSpPr>
            <p:spPr>
              <a:xfrm>
                <a:off x="1652760" y="3063240"/>
                <a:ext cx="207720" cy="146520"/>
              </a:xfrm>
              <a:custGeom>
                <a:avLst/>
                <a:gdLst/>
                <a:ahLst/>
                <a:rect l="l" t="t" r="r" b="b"/>
                <a:pathLst>
                  <a:path w="929" h="701">
                    <a:moveTo>
                      <a:pt x="0" y="0"/>
                    </a:moveTo>
                    <a:lnTo>
                      <a:pt x="8" y="519"/>
                    </a:lnTo>
                    <a:lnTo>
                      <a:pt x="929" y="701"/>
                    </a:lnTo>
                    <a:lnTo>
                      <a:pt x="919" y="1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82"/>
              <p:cNvSpPr/>
              <p:nvPr/>
            </p:nvSpPr>
            <p:spPr>
              <a:xfrm>
                <a:off x="1650960" y="3063240"/>
                <a:ext cx="32040" cy="126360"/>
              </a:xfrm>
              <a:custGeom>
                <a:avLst/>
                <a:gdLst/>
                <a:ahLst/>
                <a:rect l="l" t="t" r="r" b="b"/>
                <a:pathLst>
                  <a:path w="147" h="602">
                    <a:moveTo>
                      <a:pt x="6" y="602"/>
                    </a:moveTo>
                    <a:lnTo>
                      <a:pt x="147" y="532"/>
                    </a:lnTo>
                    <a:lnTo>
                      <a:pt x="142" y="28"/>
                    </a:lnTo>
                    <a:lnTo>
                      <a:pt x="0" y="0"/>
                    </a:lnTo>
                    <a:lnTo>
                      <a:pt x="6" y="602"/>
                    </a:lnTo>
                    <a:close/>
                  </a:path>
                </a:pathLst>
              </a:custGeom>
              <a:solidFill>
                <a:srgbClr val="5e69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83"/>
              <p:cNvSpPr/>
              <p:nvPr/>
            </p:nvSpPr>
            <p:spPr>
              <a:xfrm>
                <a:off x="1650960" y="3176280"/>
                <a:ext cx="209880" cy="56520"/>
              </a:xfrm>
              <a:custGeom>
                <a:avLst/>
                <a:gdLst/>
                <a:ahLst/>
                <a:rect l="l" t="t" r="r" b="b"/>
                <a:pathLst>
                  <a:path w="932" h="272">
                    <a:moveTo>
                      <a:pt x="0" y="70"/>
                    </a:moveTo>
                    <a:lnTo>
                      <a:pt x="932" y="272"/>
                    </a:lnTo>
                    <a:lnTo>
                      <a:pt x="932" y="163"/>
                    </a:lnTo>
                    <a:lnTo>
                      <a:pt x="132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84"/>
              <p:cNvSpPr/>
              <p:nvPr/>
            </p:nvSpPr>
            <p:spPr>
              <a:xfrm>
                <a:off x="1654560" y="3216240"/>
                <a:ext cx="32040" cy="86760"/>
              </a:xfrm>
              <a:custGeom>
                <a:avLst/>
                <a:gdLst/>
                <a:ahLst/>
                <a:rect l="l" t="t" r="r" b="b"/>
                <a:pathLst>
                  <a:path w="146" h="418">
                    <a:moveTo>
                      <a:pt x="5" y="418"/>
                    </a:moveTo>
                    <a:lnTo>
                      <a:pt x="146" y="370"/>
                    </a:lnTo>
                    <a:lnTo>
                      <a:pt x="142" y="19"/>
                    </a:lnTo>
                    <a:lnTo>
                      <a:pt x="0" y="0"/>
                    </a:lnTo>
                    <a:lnTo>
                      <a:pt x="5" y="418"/>
                    </a:lnTo>
                    <a:close/>
                  </a:path>
                </a:pathLst>
              </a:custGeom>
              <a:solidFill>
                <a:srgbClr val="5e69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85"/>
              <p:cNvSpPr/>
              <p:nvPr/>
            </p:nvSpPr>
            <p:spPr>
              <a:xfrm>
                <a:off x="1654560" y="3289680"/>
                <a:ext cx="205920" cy="66600"/>
              </a:xfrm>
              <a:custGeom>
                <a:avLst/>
                <a:gdLst/>
                <a:ahLst/>
                <a:rect l="l" t="t" r="r" b="b"/>
                <a:pathLst>
                  <a:path w="916" h="319">
                    <a:moveTo>
                      <a:pt x="0" y="77"/>
                    </a:moveTo>
                    <a:lnTo>
                      <a:pt x="916" y="319"/>
                    </a:lnTo>
                    <a:lnTo>
                      <a:pt x="916" y="178"/>
                    </a:lnTo>
                    <a:lnTo>
                      <a:pt x="163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f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86"/>
              <p:cNvSpPr/>
              <p:nvPr/>
            </p:nvSpPr>
            <p:spPr>
              <a:xfrm>
                <a:off x="1303200" y="3419640"/>
                <a:ext cx="1139040" cy="190080"/>
              </a:xfrm>
              <a:custGeom>
                <a:avLst/>
                <a:gdLst/>
                <a:ahLst/>
                <a:rect l="l" t="t" r="r" b="b"/>
                <a:pathLst>
                  <a:path w="5084" h="912">
                    <a:moveTo>
                      <a:pt x="0" y="0"/>
                    </a:moveTo>
                    <a:lnTo>
                      <a:pt x="42" y="212"/>
                    </a:lnTo>
                    <a:lnTo>
                      <a:pt x="4894" y="912"/>
                    </a:lnTo>
                    <a:lnTo>
                      <a:pt x="5084" y="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b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87"/>
              <p:cNvSpPr/>
              <p:nvPr/>
            </p:nvSpPr>
            <p:spPr>
              <a:xfrm>
                <a:off x="1740960" y="3373200"/>
                <a:ext cx="808560" cy="496440"/>
              </a:xfrm>
              <a:custGeom>
                <a:avLst/>
                <a:gdLst/>
                <a:ahLst/>
                <a:rect l="l" t="t" r="r" b="b"/>
                <a:pathLst>
                  <a:path w="3606" h="2384">
                    <a:moveTo>
                      <a:pt x="3606" y="2384"/>
                    </a:moveTo>
                    <a:lnTo>
                      <a:pt x="1719" y="0"/>
                    </a:lnTo>
                    <a:lnTo>
                      <a:pt x="0" y="1663"/>
                    </a:lnTo>
                    <a:lnTo>
                      <a:pt x="3606" y="2384"/>
                    </a:lnTo>
                    <a:close/>
                  </a:path>
                </a:pathLst>
              </a:custGeom>
              <a:solidFill>
                <a:srgbClr val="fff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88"/>
              <p:cNvSpPr/>
              <p:nvPr/>
            </p:nvSpPr>
            <p:spPr>
              <a:xfrm>
                <a:off x="1742400" y="2741400"/>
                <a:ext cx="381960" cy="362880"/>
              </a:xfrm>
              <a:custGeom>
                <a:avLst/>
                <a:gdLst/>
                <a:ahLst/>
                <a:rect l="l" t="t" r="r" b="b"/>
                <a:pathLst>
                  <a:path w="1705" h="1748">
                    <a:moveTo>
                      <a:pt x="0" y="774"/>
                    </a:moveTo>
                    <a:lnTo>
                      <a:pt x="1705" y="0"/>
                    </a:lnTo>
                    <a:lnTo>
                      <a:pt x="1307" y="1548"/>
                    </a:lnTo>
                    <a:lnTo>
                      <a:pt x="753" y="1748"/>
                    </a:lnTo>
                    <a:lnTo>
                      <a:pt x="0" y="774"/>
                    </a:lnTo>
                    <a:close/>
                  </a:path>
                </a:pathLst>
              </a:custGeom>
              <a:solidFill>
                <a:srgbClr val="979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89"/>
              <p:cNvSpPr/>
              <p:nvPr/>
            </p:nvSpPr>
            <p:spPr>
              <a:xfrm>
                <a:off x="2504880" y="2836440"/>
                <a:ext cx="2021760" cy="813240"/>
              </a:xfrm>
              <a:custGeom>
                <a:avLst/>
                <a:gdLst/>
                <a:ahLst/>
                <a:rect l="l" t="t" r="r" b="b"/>
                <a:pathLst>
                  <a:path w="9011" h="3912">
                    <a:moveTo>
                      <a:pt x="9011" y="0"/>
                    </a:moveTo>
                    <a:lnTo>
                      <a:pt x="8896" y="269"/>
                    </a:lnTo>
                    <a:lnTo>
                      <a:pt x="191" y="3912"/>
                    </a:lnTo>
                    <a:lnTo>
                      <a:pt x="0" y="3720"/>
                    </a:lnTo>
                    <a:lnTo>
                      <a:pt x="9011" y="0"/>
                    </a:lnTo>
                    <a:close/>
                  </a:path>
                </a:pathLst>
              </a:custGeom>
              <a:solidFill>
                <a:srgbClr val="727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90"/>
              <p:cNvSpPr/>
              <p:nvPr/>
            </p:nvSpPr>
            <p:spPr>
              <a:xfrm>
                <a:off x="2126520" y="2958120"/>
                <a:ext cx="957600" cy="911520"/>
              </a:xfrm>
              <a:custGeom>
                <a:avLst/>
                <a:gdLst/>
                <a:ahLst/>
                <a:rect l="l" t="t" r="r" b="b"/>
                <a:pathLst>
                  <a:path w="4272" h="4381">
                    <a:moveTo>
                      <a:pt x="0" y="1941"/>
                    </a:moveTo>
                    <a:lnTo>
                      <a:pt x="4272" y="0"/>
                    </a:lnTo>
                    <a:lnTo>
                      <a:pt x="3274" y="3882"/>
                    </a:lnTo>
                    <a:lnTo>
                      <a:pt x="1887" y="4381"/>
                    </a:lnTo>
                    <a:lnTo>
                      <a:pt x="0" y="1941"/>
                    </a:lnTo>
                    <a:close/>
                  </a:path>
                </a:pathLst>
              </a:custGeom>
              <a:solidFill>
                <a:srgbClr val="a8a9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组合 1187"/>
            <p:cNvGrpSpPr/>
            <p:nvPr/>
          </p:nvGrpSpPr>
          <p:grpSpPr>
            <a:xfrm>
              <a:off x="3333600" y="3400560"/>
              <a:ext cx="814320" cy="649080"/>
              <a:chOff x="3333600" y="3400560"/>
              <a:chExt cx="814320" cy="649080"/>
            </a:xfrm>
          </p:grpSpPr>
          <p:pic>
            <p:nvPicPr>
              <p:cNvPr id="734" name="Picture 591" descr="server"/>
              <p:cNvPicPr/>
              <p:nvPr/>
            </p:nvPicPr>
            <p:blipFill>
              <a:blip r:embed="rId3"/>
              <a:stretch/>
            </p:blipFill>
            <p:spPr>
              <a:xfrm>
                <a:off x="3902040" y="3608280"/>
                <a:ext cx="245880" cy="35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5" name="Picture 1943" descr="图片686"/>
              <p:cNvPicPr/>
              <p:nvPr/>
            </p:nvPicPr>
            <p:blipFill>
              <a:blip r:embed="rId4"/>
              <a:stretch/>
            </p:blipFill>
            <p:spPr>
              <a:xfrm>
                <a:off x="3551400" y="3448800"/>
                <a:ext cx="347760" cy="23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6" name="Picture 593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3600" y="3400560"/>
                <a:ext cx="442800" cy="64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37" name="Picture 492" descr="EndUser Female"/>
          <p:cNvPicPr/>
          <p:nvPr/>
        </p:nvPicPr>
        <p:blipFill>
          <a:blip r:embed="rId6"/>
          <a:stretch/>
        </p:blipFill>
        <p:spPr>
          <a:xfrm>
            <a:off x="5630760" y="4255920"/>
            <a:ext cx="912960" cy="14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cccc"/>
            </a:outerShdw>
          </a:effectLst>
        </p:spPr>
      </p:pic>
      <p:pic>
        <p:nvPicPr>
          <p:cNvPr id="738" name="Picture 17" descr="无线覆盖"/>
          <p:cNvPicPr/>
          <p:nvPr/>
        </p:nvPicPr>
        <p:blipFill>
          <a:blip r:embed="rId7"/>
          <a:stretch/>
        </p:blipFill>
        <p:spPr>
          <a:xfrm>
            <a:off x="3992400" y="3486240"/>
            <a:ext cx="360360" cy="3366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462" descr="图片241"/>
          <p:cNvPicPr/>
          <p:nvPr/>
        </p:nvPicPr>
        <p:blipFill>
          <a:blip r:embed="rId8"/>
          <a:stretch/>
        </p:blipFill>
        <p:spPr>
          <a:xfrm>
            <a:off x="4309920" y="3559320"/>
            <a:ext cx="247680" cy="2602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7" descr="无线覆盖"/>
          <p:cNvPicPr/>
          <p:nvPr/>
        </p:nvPicPr>
        <p:blipFill>
          <a:blip r:embed="rId9"/>
          <a:stretch/>
        </p:blipFill>
        <p:spPr>
          <a:xfrm>
            <a:off x="4468680" y="3687840"/>
            <a:ext cx="365400" cy="371520"/>
          </a:xfrm>
          <a:prstGeom prst="rect">
            <a:avLst/>
          </a:prstGeom>
          <a:ln w="0">
            <a:noFill/>
          </a:ln>
        </p:spPr>
      </p:pic>
      <p:sp>
        <p:nvSpPr>
          <p:cNvPr id="741" name="TextBox 1183"/>
          <p:cNvSpPr/>
          <p:nvPr/>
        </p:nvSpPr>
        <p:spPr>
          <a:xfrm>
            <a:off x="5734080" y="570708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非法用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7" descr="无线覆盖"/>
          <p:cNvPicPr/>
          <p:nvPr/>
        </p:nvPicPr>
        <p:blipFill>
          <a:blip r:embed="rId1"/>
          <a:stretch/>
        </p:blipFill>
        <p:spPr>
          <a:xfrm>
            <a:off x="3121200" y="3608280"/>
            <a:ext cx="974520" cy="1006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37" descr="图片777"/>
          <p:cNvPicPr/>
          <p:nvPr/>
        </p:nvPicPr>
        <p:blipFill>
          <a:blip r:embed="rId2"/>
          <a:stretch/>
        </p:blipFill>
        <p:spPr>
          <a:xfrm>
            <a:off x="3484440" y="1768320"/>
            <a:ext cx="2059200" cy="151632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安全威胁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9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非法用户入侵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746" name="Picture 462" descr="图片241"/>
          <p:cNvPicPr/>
          <p:nvPr/>
        </p:nvPicPr>
        <p:blipFill>
          <a:blip r:embed="rId3"/>
          <a:stretch/>
        </p:blipFill>
        <p:spPr>
          <a:xfrm>
            <a:off x="3500280" y="2949480"/>
            <a:ext cx="792360" cy="8352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943" descr="图片686"/>
          <p:cNvPicPr/>
          <p:nvPr/>
        </p:nvPicPr>
        <p:blipFill>
          <a:blip r:embed="rId4"/>
          <a:stretch/>
        </p:blipFill>
        <p:spPr>
          <a:xfrm>
            <a:off x="2408400" y="4497480"/>
            <a:ext cx="1188720" cy="8110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10"/>
          <p:cNvSpPr/>
          <p:nvPr/>
        </p:nvSpPr>
        <p:spPr>
          <a:xfrm>
            <a:off x="1343160" y="492444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常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5"/>
          <p:cNvSpPr/>
          <p:nvPr/>
        </p:nvSpPr>
        <p:spPr>
          <a:xfrm>
            <a:off x="4000680" y="23144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业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338" descr="图片262"/>
          <p:cNvPicPr/>
          <p:nvPr/>
        </p:nvPicPr>
        <p:blipFill>
          <a:blip r:embed="rId5"/>
          <a:stretch/>
        </p:blipFill>
        <p:spPr>
          <a:xfrm>
            <a:off x="5946840" y="3971880"/>
            <a:ext cx="798480" cy="835200"/>
          </a:xfrm>
          <a:prstGeom prst="rect">
            <a:avLst/>
          </a:prstGeom>
          <a:ln w="0">
            <a:noFill/>
          </a:ln>
        </p:spPr>
      </p:pic>
      <p:sp>
        <p:nvSpPr>
          <p:cNvPr id="751" name="TextBox 18"/>
          <p:cNvSpPr/>
          <p:nvPr/>
        </p:nvSpPr>
        <p:spPr>
          <a:xfrm>
            <a:off x="6848640" y="424800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直接箭头连接符 20" descr=""/>
          <p:cNvPicPr/>
          <p:nvPr/>
        </p:nvPicPr>
        <p:blipFill>
          <a:blip r:embed="rId6"/>
          <a:stretch/>
        </p:blipFill>
        <p:spPr>
          <a:xfrm>
            <a:off x="5078520" y="3071880"/>
            <a:ext cx="888840" cy="81756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589" descr="图片175"/>
          <p:cNvPicPr/>
          <p:nvPr/>
        </p:nvPicPr>
        <p:blipFill>
          <a:blip r:embed="rId7"/>
          <a:stretch/>
        </p:blipFill>
        <p:spPr>
          <a:xfrm>
            <a:off x="4373640" y="4705200"/>
            <a:ext cx="1052280" cy="723960"/>
          </a:xfrm>
          <a:prstGeom prst="rect">
            <a:avLst/>
          </a:prstGeom>
          <a:ln w="0">
            <a:noFill/>
          </a:ln>
        </p:spPr>
      </p:pic>
      <p:pic>
        <p:nvPicPr>
          <p:cNvPr id="754" name="直接箭头连接符 23" descr=""/>
          <p:cNvPicPr/>
          <p:nvPr/>
        </p:nvPicPr>
        <p:blipFill>
          <a:blip r:embed="rId8"/>
          <a:stretch/>
        </p:blipFill>
        <p:spPr>
          <a:xfrm>
            <a:off x="4091040" y="3767040"/>
            <a:ext cx="577800" cy="1006560"/>
          </a:xfrm>
          <a:prstGeom prst="rect">
            <a:avLst/>
          </a:prstGeom>
          <a:ln w="0">
            <a:noFill/>
          </a:ln>
        </p:spPr>
      </p:pic>
      <p:sp>
        <p:nvSpPr>
          <p:cNvPr id="755" name="TextBox 25"/>
          <p:cNvSpPr/>
          <p:nvPr/>
        </p:nvSpPr>
        <p:spPr>
          <a:xfrm>
            <a:off x="4352760" y="5619600"/>
            <a:ext cx="14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法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安全威胁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9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数据安全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758" name="组合 7"/>
          <p:cNvGrpSpPr/>
          <p:nvPr/>
        </p:nvGrpSpPr>
        <p:grpSpPr>
          <a:xfrm>
            <a:off x="1808280" y="3478320"/>
            <a:ext cx="868320" cy="531720"/>
            <a:chOff x="1808280" y="3478320"/>
            <a:chExt cx="868320" cy="531720"/>
          </a:xfrm>
        </p:grpSpPr>
        <p:pic>
          <p:nvPicPr>
            <p:cNvPr id="759" name="Picture 1943" descr="图片686"/>
            <p:cNvPicPr/>
            <p:nvPr/>
          </p:nvPicPr>
          <p:blipFill>
            <a:blip r:embed="rId1"/>
            <a:stretch/>
          </p:blipFill>
          <p:spPr>
            <a:xfrm>
              <a:off x="1808280" y="3492720"/>
              <a:ext cx="86832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12" descr=""/>
            <p:cNvPicPr/>
            <p:nvPr/>
          </p:nvPicPr>
          <p:blipFill>
            <a:blip r:embed="rId2"/>
            <a:stretch/>
          </p:blipFill>
          <p:spPr>
            <a:xfrm>
              <a:off x="2182320" y="3478320"/>
              <a:ext cx="426960" cy="33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1" name="Picture 593" descr=""/>
          <p:cNvPicPr/>
          <p:nvPr/>
        </p:nvPicPr>
        <p:blipFill>
          <a:blip r:embed="rId3"/>
          <a:stretch/>
        </p:blipFill>
        <p:spPr>
          <a:xfrm>
            <a:off x="1352520" y="3219480"/>
            <a:ext cx="1038240" cy="189540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462" descr="图片241"/>
          <p:cNvPicPr/>
          <p:nvPr/>
        </p:nvPicPr>
        <p:blipFill>
          <a:blip r:embed="rId4"/>
          <a:stretch/>
        </p:blipFill>
        <p:spPr>
          <a:xfrm>
            <a:off x="5014800" y="2397240"/>
            <a:ext cx="642960" cy="677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27" descr="图片767"/>
          <p:cNvPicPr/>
          <p:nvPr/>
        </p:nvPicPr>
        <p:blipFill>
          <a:blip r:embed="rId5"/>
          <a:stretch/>
        </p:blipFill>
        <p:spPr>
          <a:xfrm>
            <a:off x="6408720" y="2419200"/>
            <a:ext cx="1066680" cy="633600"/>
          </a:xfrm>
          <a:prstGeom prst="rect">
            <a:avLst/>
          </a:prstGeom>
          <a:ln w="0">
            <a:noFill/>
          </a:ln>
        </p:spPr>
      </p:pic>
      <p:pic>
        <p:nvPicPr>
          <p:cNvPr id="764" name="直接连接符 11" descr=""/>
          <p:cNvPicPr/>
          <p:nvPr/>
        </p:nvPicPr>
        <p:blipFill>
          <a:blip r:embed="rId6"/>
          <a:stretch/>
        </p:blipFill>
        <p:spPr>
          <a:xfrm>
            <a:off x="5645160" y="2712960"/>
            <a:ext cx="779400" cy="49320"/>
          </a:xfrm>
          <a:prstGeom prst="rect">
            <a:avLst/>
          </a:prstGeom>
          <a:ln w="0">
            <a:noFill/>
          </a:ln>
        </p:spPr>
      </p:pic>
      <p:pic>
        <p:nvPicPr>
          <p:cNvPr id="765" name="直接箭头连接符 14" descr=""/>
          <p:cNvPicPr/>
          <p:nvPr/>
        </p:nvPicPr>
        <p:blipFill>
          <a:blip r:embed="rId7"/>
          <a:stretch/>
        </p:blipFill>
        <p:spPr>
          <a:xfrm>
            <a:off x="2773440" y="2822400"/>
            <a:ext cx="2139840" cy="944640"/>
          </a:xfrm>
          <a:prstGeom prst="rect">
            <a:avLst/>
          </a:prstGeom>
          <a:ln w="0">
            <a:noFill/>
          </a:ln>
        </p:spPr>
      </p:pic>
      <p:sp>
        <p:nvSpPr>
          <p:cNvPr id="766" name="TextBox 15"/>
          <p:cNvSpPr/>
          <p:nvPr/>
        </p:nvSpPr>
        <p:spPr>
          <a:xfrm rot="20269800">
            <a:off x="2734920" y="2930040"/>
            <a:ext cx="22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账号、密码、用户信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93" descr="图片52"/>
          <p:cNvPicPr/>
          <p:nvPr/>
        </p:nvPicPr>
        <p:blipFill>
          <a:blip r:embed="rId8"/>
          <a:stretch/>
        </p:blipFill>
        <p:spPr>
          <a:xfrm>
            <a:off x="4159080" y="3352680"/>
            <a:ext cx="530280" cy="1055880"/>
          </a:xfrm>
          <a:prstGeom prst="rect">
            <a:avLst/>
          </a:prstGeom>
          <a:ln w="0">
            <a:noFill/>
          </a:ln>
        </p:spPr>
      </p:pic>
      <p:grpSp>
        <p:nvGrpSpPr>
          <p:cNvPr id="768" name="Group 1238"/>
          <p:cNvGrpSpPr/>
          <p:nvPr/>
        </p:nvGrpSpPr>
        <p:grpSpPr>
          <a:xfrm>
            <a:off x="4962600" y="4505400"/>
            <a:ext cx="1504800" cy="838080"/>
            <a:chOff x="4962600" y="4505400"/>
            <a:chExt cx="1504800" cy="838080"/>
          </a:xfrm>
        </p:grpSpPr>
        <p:grpSp>
          <p:nvGrpSpPr>
            <p:cNvPr id="769" name="Group 1239"/>
            <p:cNvGrpSpPr/>
            <p:nvPr/>
          </p:nvGrpSpPr>
          <p:grpSpPr>
            <a:xfrm>
              <a:off x="4977000" y="4505400"/>
              <a:ext cx="1490040" cy="838080"/>
              <a:chOff x="4977000" y="4505400"/>
              <a:chExt cx="1490040" cy="838080"/>
            </a:xfrm>
          </p:grpSpPr>
          <p:sp>
            <p:nvSpPr>
              <p:cNvPr id="770" name="Freeform 1240"/>
              <p:cNvSpPr/>
              <p:nvPr/>
            </p:nvSpPr>
            <p:spPr>
              <a:xfrm>
                <a:off x="6003720" y="4510080"/>
                <a:ext cx="106920" cy="153000"/>
              </a:xfrm>
              <a:custGeom>
                <a:avLst/>
                <a:gdLst/>
                <a:ahLst/>
                <a:rect l="l" t="t" r="r" b="b"/>
                <a:pathLst>
                  <a:path w="1035" h="1852">
                    <a:moveTo>
                      <a:pt x="227" y="3"/>
                    </a:moveTo>
                    <a:lnTo>
                      <a:pt x="227" y="6"/>
                    </a:lnTo>
                    <a:lnTo>
                      <a:pt x="227" y="6"/>
                    </a:lnTo>
                    <a:lnTo>
                      <a:pt x="225" y="6"/>
                    </a:lnTo>
                    <a:lnTo>
                      <a:pt x="224" y="7"/>
                    </a:lnTo>
                    <a:lnTo>
                      <a:pt x="224" y="8"/>
                    </a:lnTo>
                    <a:lnTo>
                      <a:pt x="224" y="9"/>
                    </a:lnTo>
                    <a:lnTo>
                      <a:pt x="223" y="12"/>
                    </a:lnTo>
                    <a:lnTo>
                      <a:pt x="219" y="17"/>
                    </a:lnTo>
                    <a:lnTo>
                      <a:pt x="211" y="28"/>
                    </a:lnTo>
                    <a:lnTo>
                      <a:pt x="204" y="39"/>
                    </a:lnTo>
                    <a:lnTo>
                      <a:pt x="196" y="51"/>
                    </a:lnTo>
                    <a:lnTo>
                      <a:pt x="188" y="67"/>
                    </a:lnTo>
                    <a:lnTo>
                      <a:pt x="175" y="92"/>
                    </a:lnTo>
                    <a:lnTo>
                      <a:pt x="162" y="121"/>
                    </a:lnTo>
                    <a:lnTo>
                      <a:pt x="148" y="153"/>
                    </a:lnTo>
                    <a:lnTo>
                      <a:pt x="135" y="190"/>
                    </a:lnTo>
                    <a:lnTo>
                      <a:pt x="122" y="229"/>
                    </a:lnTo>
                    <a:lnTo>
                      <a:pt x="108" y="272"/>
                    </a:lnTo>
                    <a:lnTo>
                      <a:pt x="95" y="319"/>
                    </a:lnTo>
                    <a:lnTo>
                      <a:pt x="82" y="369"/>
                    </a:lnTo>
                    <a:lnTo>
                      <a:pt x="66" y="424"/>
                    </a:lnTo>
                    <a:lnTo>
                      <a:pt x="53" y="476"/>
                    </a:lnTo>
                    <a:lnTo>
                      <a:pt x="42" y="523"/>
                    </a:lnTo>
                    <a:lnTo>
                      <a:pt x="33" y="566"/>
                    </a:lnTo>
                    <a:lnTo>
                      <a:pt x="25" y="604"/>
                    </a:lnTo>
                    <a:lnTo>
                      <a:pt x="18" y="637"/>
                    </a:lnTo>
                    <a:lnTo>
                      <a:pt x="14" y="667"/>
                    </a:lnTo>
                    <a:lnTo>
                      <a:pt x="11" y="691"/>
                    </a:lnTo>
                    <a:lnTo>
                      <a:pt x="5" y="707"/>
                    </a:lnTo>
                    <a:lnTo>
                      <a:pt x="3" y="720"/>
                    </a:lnTo>
                    <a:lnTo>
                      <a:pt x="3" y="732"/>
                    </a:lnTo>
                    <a:lnTo>
                      <a:pt x="3" y="743"/>
                    </a:lnTo>
                    <a:lnTo>
                      <a:pt x="3" y="752"/>
                    </a:lnTo>
                    <a:lnTo>
                      <a:pt x="3" y="759"/>
                    </a:lnTo>
                    <a:lnTo>
                      <a:pt x="1" y="761"/>
                    </a:lnTo>
                    <a:lnTo>
                      <a:pt x="0" y="764"/>
                    </a:lnTo>
                    <a:lnTo>
                      <a:pt x="0" y="767"/>
                    </a:lnTo>
                    <a:lnTo>
                      <a:pt x="0" y="769"/>
                    </a:lnTo>
                    <a:lnTo>
                      <a:pt x="13" y="825"/>
                    </a:lnTo>
                    <a:lnTo>
                      <a:pt x="26" y="879"/>
                    </a:lnTo>
                    <a:lnTo>
                      <a:pt x="42" y="929"/>
                    </a:lnTo>
                    <a:lnTo>
                      <a:pt x="57" y="976"/>
                    </a:lnTo>
                    <a:lnTo>
                      <a:pt x="73" y="1022"/>
                    </a:lnTo>
                    <a:lnTo>
                      <a:pt x="91" y="1063"/>
                    </a:lnTo>
                    <a:lnTo>
                      <a:pt x="108" y="1103"/>
                    </a:lnTo>
                    <a:lnTo>
                      <a:pt x="128" y="1139"/>
                    </a:lnTo>
                    <a:lnTo>
                      <a:pt x="137" y="1156"/>
                    </a:lnTo>
                    <a:lnTo>
                      <a:pt x="148" y="1173"/>
                    </a:lnTo>
                    <a:lnTo>
                      <a:pt x="158" y="1188"/>
                    </a:lnTo>
                    <a:lnTo>
                      <a:pt x="168" y="1204"/>
                    </a:lnTo>
                    <a:lnTo>
                      <a:pt x="179" y="1218"/>
                    </a:lnTo>
                    <a:lnTo>
                      <a:pt x="190" y="1231"/>
                    </a:lnTo>
                    <a:lnTo>
                      <a:pt x="201" y="1245"/>
                    </a:lnTo>
                    <a:lnTo>
                      <a:pt x="213" y="1257"/>
                    </a:lnTo>
                    <a:lnTo>
                      <a:pt x="225" y="1269"/>
                    </a:lnTo>
                    <a:lnTo>
                      <a:pt x="236" y="1280"/>
                    </a:lnTo>
                    <a:lnTo>
                      <a:pt x="248" y="1290"/>
                    </a:lnTo>
                    <a:lnTo>
                      <a:pt x="260" y="1299"/>
                    </a:lnTo>
                    <a:lnTo>
                      <a:pt x="274" y="1308"/>
                    </a:lnTo>
                    <a:lnTo>
                      <a:pt x="286" y="1317"/>
                    </a:lnTo>
                    <a:lnTo>
                      <a:pt x="299" y="1323"/>
                    </a:lnTo>
                    <a:lnTo>
                      <a:pt x="312" y="1330"/>
                    </a:lnTo>
                    <a:lnTo>
                      <a:pt x="308" y="1390"/>
                    </a:lnTo>
                    <a:lnTo>
                      <a:pt x="306" y="1445"/>
                    </a:lnTo>
                    <a:lnTo>
                      <a:pt x="305" y="1497"/>
                    </a:lnTo>
                    <a:lnTo>
                      <a:pt x="304" y="1546"/>
                    </a:lnTo>
                    <a:lnTo>
                      <a:pt x="304" y="1592"/>
                    </a:lnTo>
                    <a:lnTo>
                      <a:pt x="305" y="1633"/>
                    </a:lnTo>
                    <a:lnTo>
                      <a:pt x="307" y="1671"/>
                    </a:lnTo>
                    <a:lnTo>
                      <a:pt x="309" y="1706"/>
                    </a:lnTo>
                    <a:lnTo>
                      <a:pt x="314" y="1737"/>
                    </a:lnTo>
                    <a:lnTo>
                      <a:pt x="318" y="1764"/>
                    </a:lnTo>
                    <a:lnTo>
                      <a:pt x="324" y="1787"/>
                    </a:lnTo>
                    <a:lnTo>
                      <a:pt x="330" y="1808"/>
                    </a:lnTo>
                    <a:lnTo>
                      <a:pt x="333" y="1816"/>
                    </a:lnTo>
                    <a:lnTo>
                      <a:pt x="338" y="1823"/>
                    </a:lnTo>
                    <a:lnTo>
                      <a:pt x="341" y="1831"/>
                    </a:lnTo>
                    <a:lnTo>
                      <a:pt x="346" y="1837"/>
                    </a:lnTo>
                    <a:lnTo>
                      <a:pt x="350" y="1842"/>
                    </a:lnTo>
                    <a:lnTo>
                      <a:pt x="355" y="1847"/>
                    </a:lnTo>
                    <a:lnTo>
                      <a:pt x="360" y="1850"/>
                    </a:lnTo>
                    <a:lnTo>
                      <a:pt x="366" y="1852"/>
                    </a:lnTo>
                    <a:lnTo>
                      <a:pt x="368" y="1842"/>
                    </a:lnTo>
                    <a:lnTo>
                      <a:pt x="369" y="1833"/>
                    </a:lnTo>
                    <a:lnTo>
                      <a:pt x="370" y="1825"/>
                    </a:lnTo>
                    <a:lnTo>
                      <a:pt x="372" y="1817"/>
                    </a:lnTo>
                    <a:lnTo>
                      <a:pt x="383" y="1772"/>
                    </a:lnTo>
                    <a:lnTo>
                      <a:pt x="396" y="1731"/>
                    </a:lnTo>
                    <a:lnTo>
                      <a:pt x="402" y="1711"/>
                    </a:lnTo>
                    <a:lnTo>
                      <a:pt x="409" y="1693"/>
                    </a:lnTo>
                    <a:lnTo>
                      <a:pt x="417" y="1674"/>
                    </a:lnTo>
                    <a:lnTo>
                      <a:pt x="424" y="1656"/>
                    </a:lnTo>
                    <a:lnTo>
                      <a:pt x="433" y="1639"/>
                    </a:lnTo>
                    <a:lnTo>
                      <a:pt x="442" y="1623"/>
                    </a:lnTo>
                    <a:lnTo>
                      <a:pt x="451" y="1606"/>
                    </a:lnTo>
                    <a:lnTo>
                      <a:pt x="461" y="1592"/>
                    </a:lnTo>
                    <a:lnTo>
                      <a:pt x="471" y="1576"/>
                    </a:lnTo>
                    <a:lnTo>
                      <a:pt x="481" y="1563"/>
                    </a:lnTo>
                    <a:lnTo>
                      <a:pt x="492" y="1550"/>
                    </a:lnTo>
                    <a:lnTo>
                      <a:pt x="503" y="1536"/>
                    </a:lnTo>
                    <a:lnTo>
                      <a:pt x="514" y="1524"/>
                    </a:lnTo>
                    <a:lnTo>
                      <a:pt x="527" y="1513"/>
                    </a:lnTo>
                    <a:lnTo>
                      <a:pt x="539" y="1502"/>
                    </a:lnTo>
                    <a:lnTo>
                      <a:pt x="551" y="1492"/>
                    </a:lnTo>
                    <a:lnTo>
                      <a:pt x="564" y="1483"/>
                    </a:lnTo>
                    <a:lnTo>
                      <a:pt x="578" y="1473"/>
                    </a:lnTo>
                    <a:lnTo>
                      <a:pt x="592" y="1465"/>
                    </a:lnTo>
                    <a:lnTo>
                      <a:pt x="606" y="1457"/>
                    </a:lnTo>
                    <a:lnTo>
                      <a:pt x="621" y="1451"/>
                    </a:lnTo>
                    <a:lnTo>
                      <a:pt x="636" y="1444"/>
                    </a:lnTo>
                    <a:lnTo>
                      <a:pt x="651" y="1439"/>
                    </a:lnTo>
                    <a:lnTo>
                      <a:pt x="667" y="1433"/>
                    </a:lnTo>
                    <a:lnTo>
                      <a:pt x="683" y="1429"/>
                    </a:lnTo>
                    <a:lnTo>
                      <a:pt x="700" y="1425"/>
                    </a:lnTo>
                    <a:lnTo>
                      <a:pt x="717" y="1422"/>
                    </a:lnTo>
                    <a:lnTo>
                      <a:pt x="735" y="1419"/>
                    </a:lnTo>
                    <a:lnTo>
                      <a:pt x="738" y="1413"/>
                    </a:lnTo>
                    <a:lnTo>
                      <a:pt x="742" y="1409"/>
                    </a:lnTo>
                    <a:lnTo>
                      <a:pt x="742" y="1419"/>
                    </a:lnTo>
                    <a:lnTo>
                      <a:pt x="757" y="1419"/>
                    </a:lnTo>
                    <a:lnTo>
                      <a:pt x="774" y="1418"/>
                    </a:lnTo>
                    <a:lnTo>
                      <a:pt x="792" y="1416"/>
                    </a:lnTo>
                    <a:lnTo>
                      <a:pt x="809" y="1415"/>
                    </a:lnTo>
                    <a:lnTo>
                      <a:pt x="812" y="1418"/>
                    </a:lnTo>
                    <a:lnTo>
                      <a:pt x="815" y="1419"/>
                    </a:lnTo>
                    <a:lnTo>
                      <a:pt x="817" y="1419"/>
                    </a:lnTo>
                    <a:lnTo>
                      <a:pt x="819" y="1419"/>
                    </a:lnTo>
                    <a:lnTo>
                      <a:pt x="835" y="1424"/>
                    </a:lnTo>
                    <a:lnTo>
                      <a:pt x="849" y="1430"/>
                    </a:lnTo>
                    <a:lnTo>
                      <a:pt x="863" y="1436"/>
                    </a:lnTo>
                    <a:lnTo>
                      <a:pt x="876" y="1444"/>
                    </a:lnTo>
                    <a:lnTo>
                      <a:pt x="889" y="1453"/>
                    </a:lnTo>
                    <a:lnTo>
                      <a:pt x="901" y="1462"/>
                    </a:lnTo>
                    <a:lnTo>
                      <a:pt x="913" y="1472"/>
                    </a:lnTo>
                    <a:lnTo>
                      <a:pt x="924" y="1483"/>
                    </a:lnTo>
                    <a:lnTo>
                      <a:pt x="934" y="1495"/>
                    </a:lnTo>
                    <a:lnTo>
                      <a:pt x="944" y="1508"/>
                    </a:lnTo>
                    <a:lnTo>
                      <a:pt x="953" y="1522"/>
                    </a:lnTo>
                    <a:lnTo>
                      <a:pt x="961" y="1536"/>
                    </a:lnTo>
                    <a:lnTo>
                      <a:pt x="969" y="1552"/>
                    </a:lnTo>
                    <a:lnTo>
                      <a:pt x="977" y="1568"/>
                    </a:lnTo>
                    <a:lnTo>
                      <a:pt x="984" y="1585"/>
                    </a:lnTo>
                    <a:lnTo>
                      <a:pt x="990" y="1604"/>
                    </a:lnTo>
                    <a:lnTo>
                      <a:pt x="998" y="1553"/>
                    </a:lnTo>
                    <a:lnTo>
                      <a:pt x="1006" y="1503"/>
                    </a:lnTo>
                    <a:lnTo>
                      <a:pt x="1012" y="1454"/>
                    </a:lnTo>
                    <a:lnTo>
                      <a:pt x="1018" y="1406"/>
                    </a:lnTo>
                    <a:lnTo>
                      <a:pt x="1022" y="1359"/>
                    </a:lnTo>
                    <a:lnTo>
                      <a:pt x="1027" y="1312"/>
                    </a:lnTo>
                    <a:lnTo>
                      <a:pt x="1030" y="1266"/>
                    </a:lnTo>
                    <a:lnTo>
                      <a:pt x="1032" y="1221"/>
                    </a:lnTo>
                    <a:lnTo>
                      <a:pt x="1034" y="1177"/>
                    </a:lnTo>
                    <a:lnTo>
                      <a:pt x="1035" y="1133"/>
                    </a:lnTo>
                    <a:lnTo>
                      <a:pt x="1035" y="1090"/>
                    </a:lnTo>
                    <a:lnTo>
                      <a:pt x="1034" y="1048"/>
                    </a:lnTo>
                    <a:lnTo>
                      <a:pt x="1031" y="1006"/>
                    </a:lnTo>
                    <a:lnTo>
                      <a:pt x="1028" y="966"/>
                    </a:lnTo>
                    <a:lnTo>
                      <a:pt x="1025" y="926"/>
                    </a:lnTo>
                    <a:lnTo>
                      <a:pt x="1020" y="888"/>
                    </a:lnTo>
                    <a:lnTo>
                      <a:pt x="1015" y="849"/>
                    </a:lnTo>
                    <a:lnTo>
                      <a:pt x="1009" y="812"/>
                    </a:lnTo>
                    <a:lnTo>
                      <a:pt x="1002" y="776"/>
                    </a:lnTo>
                    <a:lnTo>
                      <a:pt x="995" y="739"/>
                    </a:lnTo>
                    <a:lnTo>
                      <a:pt x="986" y="705"/>
                    </a:lnTo>
                    <a:lnTo>
                      <a:pt x="977" y="670"/>
                    </a:lnTo>
                    <a:lnTo>
                      <a:pt x="966" y="636"/>
                    </a:lnTo>
                    <a:lnTo>
                      <a:pt x="956" y="604"/>
                    </a:lnTo>
                    <a:lnTo>
                      <a:pt x="944" y="572"/>
                    </a:lnTo>
                    <a:lnTo>
                      <a:pt x="930" y="540"/>
                    </a:lnTo>
                    <a:lnTo>
                      <a:pt x="917" y="509"/>
                    </a:lnTo>
                    <a:lnTo>
                      <a:pt x="903" y="479"/>
                    </a:lnTo>
                    <a:lnTo>
                      <a:pt x="888" y="451"/>
                    </a:lnTo>
                    <a:lnTo>
                      <a:pt x="872" y="423"/>
                    </a:lnTo>
                    <a:lnTo>
                      <a:pt x="855" y="395"/>
                    </a:lnTo>
                    <a:lnTo>
                      <a:pt x="837" y="369"/>
                    </a:lnTo>
                    <a:lnTo>
                      <a:pt x="833" y="358"/>
                    </a:lnTo>
                    <a:lnTo>
                      <a:pt x="827" y="348"/>
                    </a:lnTo>
                    <a:lnTo>
                      <a:pt x="823" y="336"/>
                    </a:lnTo>
                    <a:lnTo>
                      <a:pt x="819" y="325"/>
                    </a:lnTo>
                    <a:lnTo>
                      <a:pt x="809" y="304"/>
                    </a:lnTo>
                    <a:lnTo>
                      <a:pt x="798" y="283"/>
                    </a:lnTo>
                    <a:lnTo>
                      <a:pt x="787" y="263"/>
                    </a:lnTo>
                    <a:lnTo>
                      <a:pt x="776" y="244"/>
                    </a:lnTo>
                    <a:lnTo>
                      <a:pt x="763" y="226"/>
                    </a:lnTo>
                    <a:lnTo>
                      <a:pt x="751" y="208"/>
                    </a:lnTo>
                    <a:lnTo>
                      <a:pt x="737" y="190"/>
                    </a:lnTo>
                    <a:lnTo>
                      <a:pt x="723" y="173"/>
                    </a:lnTo>
                    <a:lnTo>
                      <a:pt x="708" y="158"/>
                    </a:lnTo>
                    <a:lnTo>
                      <a:pt x="694" y="143"/>
                    </a:lnTo>
                    <a:lnTo>
                      <a:pt x="679" y="129"/>
                    </a:lnTo>
                    <a:lnTo>
                      <a:pt x="662" y="116"/>
                    </a:lnTo>
                    <a:lnTo>
                      <a:pt x="645" y="104"/>
                    </a:lnTo>
                    <a:lnTo>
                      <a:pt x="629" y="91"/>
                    </a:lnTo>
                    <a:lnTo>
                      <a:pt x="611" y="80"/>
                    </a:lnTo>
                    <a:lnTo>
                      <a:pt x="593" y="69"/>
                    </a:lnTo>
                    <a:lnTo>
                      <a:pt x="574" y="60"/>
                    </a:lnTo>
                    <a:lnTo>
                      <a:pt x="554" y="51"/>
                    </a:lnTo>
                    <a:lnTo>
                      <a:pt x="534" y="43"/>
                    </a:lnTo>
                    <a:lnTo>
                      <a:pt x="514" y="36"/>
                    </a:lnTo>
                    <a:lnTo>
                      <a:pt x="493" y="28"/>
                    </a:lnTo>
                    <a:lnTo>
                      <a:pt x="472" y="23"/>
                    </a:lnTo>
                    <a:lnTo>
                      <a:pt x="450" y="17"/>
                    </a:lnTo>
                    <a:lnTo>
                      <a:pt x="428" y="13"/>
                    </a:lnTo>
                    <a:lnTo>
                      <a:pt x="404" y="9"/>
                    </a:lnTo>
                    <a:lnTo>
                      <a:pt x="380" y="6"/>
                    </a:lnTo>
                    <a:lnTo>
                      <a:pt x="357" y="4"/>
                    </a:lnTo>
                    <a:lnTo>
                      <a:pt x="331" y="2"/>
                    </a:lnTo>
                    <a:lnTo>
                      <a:pt x="306" y="2"/>
                    </a:lnTo>
                    <a:lnTo>
                      <a:pt x="280" y="0"/>
                    </a:lnTo>
                    <a:lnTo>
                      <a:pt x="254" y="2"/>
                    </a:lnTo>
                    <a:lnTo>
                      <a:pt x="227" y="3"/>
                    </a:lnTo>
                    <a:close/>
                  </a:path>
                </a:pathLst>
              </a:custGeom>
              <a:solidFill>
                <a:srgbClr val="6f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241"/>
              <p:cNvSpPr/>
              <p:nvPr/>
            </p:nvSpPr>
            <p:spPr>
              <a:xfrm>
                <a:off x="5999760" y="4510080"/>
                <a:ext cx="26640" cy="56880"/>
              </a:xfrm>
              <a:custGeom>
                <a:avLst/>
                <a:gdLst/>
                <a:ahLst/>
                <a:rect l="l" t="t" r="r" b="b"/>
                <a:pathLst>
                  <a:path w="258" h="692">
                    <a:moveTo>
                      <a:pt x="245" y="10"/>
                    </a:moveTo>
                    <a:lnTo>
                      <a:pt x="235" y="5"/>
                    </a:lnTo>
                    <a:lnTo>
                      <a:pt x="228" y="1"/>
                    </a:lnTo>
                    <a:lnTo>
                      <a:pt x="225" y="0"/>
                    </a:lnTo>
                    <a:lnTo>
                      <a:pt x="223" y="0"/>
                    </a:lnTo>
                    <a:lnTo>
                      <a:pt x="163" y="117"/>
                    </a:lnTo>
                    <a:lnTo>
                      <a:pt x="151" y="144"/>
                    </a:lnTo>
                    <a:lnTo>
                      <a:pt x="140" y="172"/>
                    </a:lnTo>
                    <a:lnTo>
                      <a:pt x="127" y="200"/>
                    </a:lnTo>
                    <a:lnTo>
                      <a:pt x="116" y="229"/>
                    </a:lnTo>
                    <a:lnTo>
                      <a:pt x="105" y="259"/>
                    </a:lnTo>
                    <a:lnTo>
                      <a:pt x="94" y="289"/>
                    </a:lnTo>
                    <a:lnTo>
                      <a:pt x="84" y="320"/>
                    </a:lnTo>
                    <a:lnTo>
                      <a:pt x="74" y="352"/>
                    </a:lnTo>
                    <a:lnTo>
                      <a:pt x="62" y="391"/>
                    </a:lnTo>
                    <a:lnTo>
                      <a:pt x="52" y="431"/>
                    </a:lnTo>
                    <a:lnTo>
                      <a:pt x="41" y="470"/>
                    </a:lnTo>
                    <a:lnTo>
                      <a:pt x="32" y="512"/>
                    </a:lnTo>
                    <a:lnTo>
                      <a:pt x="22" y="554"/>
                    </a:lnTo>
                    <a:lnTo>
                      <a:pt x="14" y="597"/>
                    </a:lnTo>
                    <a:lnTo>
                      <a:pt x="6" y="640"/>
                    </a:lnTo>
                    <a:lnTo>
                      <a:pt x="0" y="686"/>
                    </a:lnTo>
                    <a:lnTo>
                      <a:pt x="50" y="692"/>
                    </a:lnTo>
                    <a:lnTo>
                      <a:pt x="53" y="668"/>
                    </a:lnTo>
                    <a:lnTo>
                      <a:pt x="57" y="638"/>
                    </a:lnTo>
                    <a:lnTo>
                      <a:pt x="64" y="605"/>
                    </a:lnTo>
                    <a:lnTo>
                      <a:pt x="72" y="567"/>
                    </a:lnTo>
                    <a:lnTo>
                      <a:pt x="81" y="524"/>
                    </a:lnTo>
                    <a:lnTo>
                      <a:pt x="92" y="477"/>
                    </a:lnTo>
                    <a:lnTo>
                      <a:pt x="105" y="425"/>
                    </a:lnTo>
                    <a:lnTo>
                      <a:pt x="121" y="370"/>
                    </a:lnTo>
                    <a:lnTo>
                      <a:pt x="134" y="320"/>
                    </a:lnTo>
                    <a:lnTo>
                      <a:pt x="147" y="273"/>
                    </a:lnTo>
                    <a:lnTo>
                      <a:pt x="161" y="230"/>
                    </a:lnTo>
                    <a:lnTo>
                      <a:pt x="174" y="191"/>
                    </a:lnTo>
                    <a:lnTo>
                      <a:pt x="187" y="154"/>
                    </a:lnTo>
                    <a:lnTo>
                      <a:pt x="201" y="122"/>
                    </a:lnTo>
                    <a:lnTo>
                      <a:pt x="214" y="93"/>
                    </a:lnTo>
                    <a:lnTo>
                      <a:pt x="227" y="68"/>
                    </a:lnTo>
                    <a:lnTo>
                      <a:pt x="235" y="52"/>
                    </a:lnTo>
                    <a:lnTo>
                      <a:pt x="243" y="40"/>
                    </a:lnTo>
                    <a:lnTo>
                      <a:pt x="250" y="29"/>
                    </a:lnTo>
                    <a:lnTo>
                      <a:pt x="258" y="18"/>
                    </a:lnTo>
                    <a:lnTo>
                      <a:pt x="256" y="16"/>
                    </a:lnTo>
                    <a:lnTo>
                      <a:pt x="253" y="13"/>
                    </a:lnTo>
                    <a:lnTo>
                      <a:pt x="249" y="11"/>
                    </a:lnTo>
                    <a:lnTo>
                      <a:pt x="245" y="10"/>
                    </a:lnTo>
                    <a:close/>
                  </a:path>
                </a:pathLst>
              </a:custGeom>
              <a:solidFill>
                <a:srgbClr val="9f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242"/>
              <p:cNvSpPr/>
              <p:nvPr/>
            </p:nvSpPr>
            <p:spPr>
              <a:xfrm>
                <a:off x="5834160" y="4505400"/>
                <a:ext cx="188280" cy="123840"/>
              </a:xfrm>
              <a:custGeom>
                <a:avLst/>
                <a:gdLst/>
                <a:ahLst/>
                <a:rect l="l" t="t" r="r" b="b"/>
                <a:pathLst>
                  <a:path w="1814" h="1499">
                    <a:moveTo>
                      <a:pt x="1814" y="58"/>
                    </a:moveTo>
                    <a:lnTo>
                      <a:pt x="1807" y="55"/>
                    </a:lnTo>
                    <a:lnTo>
                      <a:pt x="1782" y="45"/>
                    </a:lnTo>
                    <a:lnTo>
                      <a:pt x="1756" y="37"/>
                    </a:lnTo>
                    <a:lnTo>
                      <a:pt x="1731" y="30"/>
                    </a:lnTo>
                    <a:lnTo>
                      <a:pt x="1704" y="23"/>
                    </a:lnTo>
                    <a:lnTo>
                      <a:pt x="1677" y="17"/>
                    </a:lnTo>
                    <a:lnTo>
                      <a:pt x="1651" y="12"/>
                    </a:lnTo>
                    <a:lnTo>
                      <a:pt x="1624" y="8"/>
                    </a:lnTo>
                    <a:lnTo>
                      <a:pt x="1596" y="5"/>
                    </a:lnTo>
                    <a:lnTo>
                      <a:pt x="1570" y="3"/>
                    </a:lnTo>
                    <a:lnTo>
                      <a:pt x="1542" y="1"/>
                    </a:lnTo>
                    <a:lnTo>
                      <a:pt x="1514" y="0"/>
                    </a:lnTo>
                    <a:lnTo>
                      <a:pt x="1485" y="1"/>
                    </a:lnTo>
                    <a:lnTo>
                      <a:pt x="1458" y="2"/>
                    </a:lnTo>
                    <a:lnTo>
                      <a:pt x="1429" y="3"/>
                    </a:lnTo>
                    <a:lnTo>
                      <a:pt x="1400" y="6"/>
                    </a:lnTo>
                    <a:lnTo>
                      <a:pt x="1371" y="10"/>
                    </a:lnTo>
                    <a:lnTo>
                      <a:pt x="1341" y="14"/>
                    </a:lnTo>
                    <a:lnTo>
                      <a:pt x="1312" y="20"/>
                    </a:lnTo>
                    <a:lnTo>
                      <a:pt x="1282" y="25"/>
                    </a:lnTo>
                    <a:lnTo>
                      <a:pt x="1252" y="32"/>
                    </a:lnTo>
                    <a:lnTo>
                      <a:pt x="1221" y="41"/>
                    </a:lnTo>
                    <a:lnTo>
                      <a:pt x="1191" y="48"/>
                    </a:lnTo>
                    <a:lnTo>
                      <a:pt x="1160" y="58"/>
                    </a:lnTo>
                    <a:lnTo>
                      <a:pt x="1129" y="68"/>
                    </a:lnTo>
                    <a:lnTo>
                      <a:pt x="1098" y="79"/>
                    </a:lnTo>
                    <a:lnTo>
                      <a:pt x="1067" y="92"/>
                    </a:lnTo>
                    <a:lnTo>
                      <a:pt x="1035" y="105"/>
                    </a:lnTo>
                    <a:lnTo>
                      <a:pt x="1003" y="118"/>
                    </a:lnTo>
                    <a:lnTo>
                      <a:pt x="971" y="134"/>
                    </a:lnTo>
                    <a:lnTo>
                      <a:pt x="938" y="149"/>
                    </a:lnTo>
                    <a:lnTo>
                      <a:pt x="906" y="165"/>
                    </a:lnTo>
                    <a:lnTo>
                      <a:pt x="873" y="183"/>
                    </a:lnTo>
                    <a:lnTo>
                      <a:pt x="841" y="200"/>
                    </a:lnTo>
                    <a:lnTo>
                      <a:pt x="809" y="219"/>
                    </a:lnTo>
                    <a:lnTo>
                      <a:pt x="776" y="239"/>
                    </a:lnTo>
                    <a:lnTo>
                      <a:pt x="745" y="258"/>
                    </a:lnTo>
                    <a:lnTo>
                      <a:pt x="714" y="279"/>
                    </a:lnTo>
                    <a:lnTo>
                      <a:pt x="683" y="299"/>
                    </a:lnTo>
                    <a:lnTo>
                      <a:pt x="653" y="320"/>
                    </a:lnTo>
                    <a:lnTo>
                      <a:pt x="624" y="342"/>
                    </a:lnTo>
                    <a:lnTo>
                      <a:pt x="596" y="364"/>
                    </a:lnTo>
                    <a:lnTo>
                      <a:pt x="567" y="387"/>
                    </a:lnTo>
                    <a:lnTo>
                      <a:pt x="538" y="410"/>
                    </a:lnTo>
                    <a:lnTo>
                      <a:pt x="510" y="434"/>
                    </a:lnTo>
                    <a:lnTo>
                      <a:pt x="484" y="458"/>
                    </a:lnTo>
                    <a:lnTo>
                      <a:pt x="457" y="483"/>
                    </a:lnTo>
                    <a:lnTo>
                      <a:pt x="430" y="507"/>
                    </a:lnTo>
                    <a:lnTo>
                      <a:pt x="405" y="533"/>
                    </a:lnTo>
                    <a:lnTo>
                      <a:pt x="379" y="560"/>
                    </a:lnTo>
                    <a:lnTo>
                      <a:pt x="354" y="586"/>
                    </a:lnTo>
                    <a:lnTo>
                      <a:pt x="329" y="613"/>
                    </a:lnTo>
                    <a:lnTo>
                      <a:pt x="306" y="640"/>
                    </a:lnTo>
                    <a:lnTo>
                      <a:pt x="282" y="669"/>
                    </a:lnTo>
                    <a:lnTo>
                      <a:pt x="258" y="697"/>
                    </a:lnTo>
                    <a:lnTo>
                      <a:pt x="236" y="727"/>
                    </a:lnTo>
                    <a:lnTo>
                      <a:pt x="214" y="756"/>
                    </a:lnTo>
                    <a:lnTo>
                      <a:pt x="192" y="786"/>
                    </a:lnTo>
                    <a:lnTo>
                      <a:pt x="171" y="817"/>
                    </a:lnTo>
                    <a:lnTo>
                      <a:pt x="150" y="848"/>
                    </a:lnTo>
                    <a:lnTo>
                      <a:pt x="130" y="879"/>
                    </a:lnTo>
                    <a:lnTo>
                      <a:pt x="110" y="911"/>
                    </a:lnTo>
                    <a:lnTo>
                      <a:pt x="91" y="943"/>
                    </a:lnTo>
                    <a:lnTo>
                      <a:pt x="72" y="976"/>
                    </a:lnTo>
                    <a:lnTo>
                      <a:pt x="53" y="1010"/>
                    </a:lnTo>
                    <a:lnTo>
                      <a:pt x="40" y="1041"/>
                    </a:lnTo>
                    <a:lnTo>
                      <a:pt x="29" y="1072"/>
                    </a:lnTo>
                    <a:lnTo>
                      <a:pt x="19" y="1102"/>
                    </a:lnTo>
                    <a:lnTo>
                      <a:pt x="12" y="1133"/>
                    </a:lnTo>
                    <a:lnTo>
                      <a:pt x="5" y="1163"/>
                    </a:lnTo>
                    <a:lnTo>
                      <a:pt x="2" y="1193"/>
                    </a:lnTo>
                    <a:lnTo>
                      <a:pt x="0" y="1222"/>
                    </a:lnTo>
                    <a:lnTo>
                      <a:pt x="0" y="1251"/>
                    </a:lnTo>
                    <a:lnTo>
                      <a:pt x="1" y="1280"/>
                    </a:lnTo>
                    <a:lnTo>
                      <a:pt x="4" y="1309"/>
                    </a:lnTo>
                    <a:lnTo>
                      <a:pt x="10" y="1337"/>
                    </a:lnTo>
                    <a:lnTo>
                      <a:pt x="17" y="1366"/>
                    </a:lnTo>
                    <a:lnTo>
                      <a:pt x="25" y="1393"/>
                    </a:lnTo>
                    <a:lnTo>
                      <a:pt x="37" y="1420"/>
                    </a:lnTo>
                    <a:lnTo>
                      <a:pt x="49" y="1448"/>
                    </a:lnTo>
                    <a:lnTo>
                      <a:pt x="63" y="1474"/>
                    </a:lnTo>
                    <a:lnTo>
                      <a:pt x="106" y="1495"/>
                    </a:lnTo>
                    <a:lnTo>
                      <a:pt x="109" y="1498"/>
                    </a:lnTo>
                    <a:lnTo>
                      <a:pt x="112" y="1499"/>
                    </a:lnTo>
                    <a:lnTo>
                      <a:pt x="114" y="1499"/>
                    </a:lnTo>
                    <a:lnTo>
                      <a:pt x="116" y="1499"/>
                    </a:lnTo>
                    <a:lnTo>
                      <a:pt x="127" y="1478"/>
                    </a:lnTo>
                    <a:lnTo>
                      <a:pt x="131" y="1442"/>
                    </a:lnTo>
                    <a:lnTo>
                      <a:pt x="127" y="1478"/>
                    </a:lnTo>
                    <a:lnTo>
                      <a:pt x="151" y="1458"/>
                    </a:lnTo>
                    <a:lnTo>
                      <a:pt x="174" y="1438"/>
                    </a:lnTo>
                    <a:lnTo>
                      <a:pt x="198" y="1419"/>
                    </a:lnTo>
                    <a:lnTo>
                      <a:pt x="223" y="1400"/>
                    </a:lnTo>
                    <a:lnTo>
                      <a:pt x="247" y="1381"/>
                    </a:lnTo>
                    <a:lnTo>
                      <a:pt x="273" y="1363"/>
                    </a:lnTo>
                    <a:lnTo>
                      <a:pt x="298" y="1346"/>
                    </a:lnTo>
                    <a:lnTo>
                      <a:pt x="324" y="1329"/>
                    </a:lnTo>
                    <a:lnTo>
                      <a:pt x="350" y="1314"/>
                    </a:lnTo>
                    <a:lnTo>
                      <a:pt x="377" y="1298"/>
                    </a:lnTo>
                    <a:lnTo>
                      <a:pt x="404" y="1283"/>
                    </a:lnTo>
                    <a:lnTo>
                      <a:pt x="431" y="1268"/>
                    </a:lnTo>
                    <a:lnTo>
                      <a:pt x="460" y="1254"/>
                    </a:lnTo>
                    <a:lnTo>
                      <a:pt x="488" y="1239"/>
                    </a:lnTo>
                    <a:lnTo>
                      <a:pt x="517" y="1227"/>
                    </a:lnTo>
                    <a:lnTo>
                      <a:pt x="546" y="1214"/>
                    </a:lnTo>
                    <a:lnTo>
                      <a:pt x="576" y="1202"/>
                    </a:lnTo>
                    <a:lnTo>
                      <a:pt x="606" y="1190"/>
                    </a:lnTo>
                    <a:lnTo>
                      <a:pt x="636" y="1179"/>
                    </a:lnTo>
                    <a:lnTo>
                      <a:pt x="667" y="1168"/>
                    </a:lnTo>
                    <a:lnTo>
                      <a:pt x="698" y="1158"/>
                    </a:lnTo>
                    <a:lnTo>
                      <a:pt x="730" y="1148"/>
                    </a:lnTo>
                    <a:lnTo>
                      <a:pt x="762" y="1139"/>
                    </a:lnTo>
                    <a:lnTo>
                      <a:pt x="794" y="1131"/>
                    </a:lnTo>
                    <a:lnTo>
                      <a:pt x="827" y="1123"/>
                    </a:lnTo>
                    <a:lnTo>
                      <a:pt x="861" y="1115"/>
                    </a:lnTo>
                    <a:lnTo>
                      <a:pt x="894" y="1108"/>
                    </a:lnTo>
                    <a:lnTo>
                      <a:pt x="928" y="1102"/>
                    </a:lnTo>
                    <a:lnTo>
                      <a:pt x="997" y="1090"/>
                    </a:lnTo>
                    <a:lnTo>
                      <a:pt x="1068" y="1081"/>
                    </a:lnTo>
                    <a:lnTo>
                      <a:pt x="1119" y="1070"/>
                    </a:lnTo>
                    <a:lnTo>
                      <a:pt x="1168" y="1057"/>
                    </a:lnTo>
                    <a:lnTo>
                      <a:pt x="1215" y="1044"/>
                    </a:lnTo>
                    <a:lnTo>
                      <a:pt x="1258" y="1030"/>
                    </a:lnTo>
                    <a:lnTo>
                      <a:pt x="1278" y="1022"/>
                    </a:lnTo>
                    <a:lnTo>
                      <a:pt x="1298" y="1014"/>
                    </a:lnTo>
                    <a:lnTo>
                      <a:pt x="1318" y="1005"/>
                    </a:lnTo>
                    <a:lnTo>
                      <a:pt x="1337" y="996"/>
                    </a:lnTo>
                    <a:lnTo>
                      <a:pt x="1354" y="988"/>
                    </a:lnTo>
                    <a:lnTo>
                      <a:pt x="1372" y="979"/>
                    </a:lnTo>
                    <a:lnTo>
                      <a:pt x="1389" y="969"/>
                    </a:lnTo>
                    <a:lnTo>
                      <a:pt x="1404" y="959"/>
                    </a:lnTo>
                    <a:lnTo>
                      <a:pt x="1420" y="948"/>
                    </a:lnTo>
                    <a:lnTo>
                      <a:pt x="1434" y="938"/>
                    </a:lnTo>
                    <a:lnTo>
                      <a:pt x="1449" y="927"/>
                    </a:lnTo>
                    <a:lnTo>
                      <a:pt x="1462" y="915"/>
                    </a:lnTo>
                    <a:lnTo>
                      <a:pt x="1475" y="903"/>
                    </a:lnTo>
                    <a:lnTo>
                      <a:pt x="1488" y="891"/>
                    </a:lnTo>
                    <a:lnTo>
                      <a:pt x="1499" y="879"/>
                    </a:lnTo>
                    <a:lnTo>
                      <a:pt x="1510" y="867"/>
                    </a:lnTo>
                    <a:lnTo>
                      <a:pt x="1520" y="853"/>
                    </a:lnTo>
                    <a:lnTo>
                      <a:pt x="1529" y="840"/>
                    </a:lnTo>
                    <a:lnTo>
                      <a:pt x="1537" y="827"/>
                    </a:lnTo>
                    <a:lnTo>
                      <a:pt x="1546" y="812"/>
                    </a:lnTo>
                    <a:lnTo>
                      <a:pt x="1554" y="798"/>
                    </a:lnTo>
                    <a:lnTo>
                      <a:pt x="1561" y="784"/>
                    </a:lnTo>
                    <a:lnTo>
                      <a:pt x="1567" y="769"/>
                    </a:lnTo>
                    <a:lnTo>
                      <a:pt x="1573" y="754"/>
                    </a:lnTo>
                    <a:lnTo>
                      <a:pt x="1587" y="744"/>
                    </a:lnTo>
                    <a:lnTo>
                      <a:pt x="1591" y="744"/>
                    </a:lnTo>
                    <a:lnTo>
                      <a:pt x="1597" y="698"/>
                    </a:lnTo>
                    <a:lnTo>
                      <a:pt x="1605" y="655"/>
                    </a:lnTo>
                    <a:lnTo>
                      <a:pt x="1613" y="612"/>
                    </a:lnTo>
                    <a:lnTo>
                      <a:pt x="1623" y="570"/>
                    </a:lnTo>
                    <a:lnTo>
                      <a:pt x="1632" y="528"/>
                    </a:lnTo>
                    <a:lnTo>
                      <a:pt x="1643" y="489"/>
                    </a:lnTo>
                    <a:lnTo>
                      <a:pt x="1653" y="449"/>
                    </a:lnTo>
                    <a:lnTo>
                      <a:pt x="1665" y="410"/>
                    </a:lnTo>
                    <a:lnTo>
                      <a:pt x="1675" y="378"/>
                    </a:lnTo>
                    <a:lnTo>
                      <a:pt x="1685" y="347"/>
                    </a:lnTo>
                    <a:lnTo>
                      <a:pt x="1696" y="317"/>
                    </a:lnTo>
                    <a:lnTo>
                      <a:pt x="1707" y="287"/>
                    </a:lnTo>
                    <a:lnTo>
                      <a:pt x="1718" y="258"/>
                    </a:lnTo>
                    <a:lnTo>
                      <a:pt x="1731" y="230"/>
                    </a:lnTo>
                    <a:lnTo>
                      <a:pt x="1742" y="202"/>
                    </a:lnTo>
                    <a:lnTo>
                      <a:pt x="1754" y="175"/>
                    </a:lnTo>
                    <a:lnTo>
                      <a:pt x="1814" y="58"/>
                    </a:lnTo>
                    <a:close/>
                  </a:path>
                </a:pathLst>
              </a:custGeom>
              <a:solidFill>
                <a:srgbClr val="6f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243"/>
              <p:cNvSpPr/>
              <p:nvPr/>
            </p:nvSpPr>
            <p:spPr>
              <a:xfrm>
                <a:off x="6090120" y="4537440"/>
                <a:ext cx="40320" cy="127080"/>
              </a:xfrm>
              <a:custGeom>
                <a:avLst/>
                <a:gdLst/>
                <a:ahLst/>
                <a:rect l="l" t="t" r="r" b="b"/>
                <a:pathLst>
                  <a:path w="384" h="1545">
                    <a:moveTo>
                      <a:pt x="5" y="0"/>
                    </a:moveTo>
                    <a:lnTo>
                      <a:pt x="0" y="44"/>
                    </a:lnTo>
                    <a:lnTo>
                      <a:pt x="18" y="70"/>
                    </a:lnTo>
                    <a:lnTo>
                      <a:pt x="35" y="98"/>
                    </a:lnTo>
                    <a:lnTo>
                      <a:pt x="51" y="126"/>
                    </a:lnTo>
                    <a:lnTo>
                      <a:pt x="66" y="154"/>
                    </a:lnTo>
                    <a:lnTo>
                      <a:pt x="80" y="184"/>
                    </a:lnTo>
                    <a:lnTo>
                      <a:pt x="93" y="215"/>
                    </a:lnTo>
                    <a:lnTo>
                      <a:pt x="107" y="247"/>
                    </a:lnTo>
                    <a:lnTo>
                      <a:pt x="119" y="279"/>
                    </a:lnTo>
                    <a:lnTo>
                      <a:pt x="129" y="311"/>
                    </a:lnTo>
                    <a:lnTo>
                      <a:pt x="140" y="345"/>
                    </a:lnTo>
                    <a:lnTo>
                      <a:pt x="149" y="380"/>
                    </a:lnTo>
                    <a:lnTo>
                      <a:pt x="158" y="414"/>
                    </a:lnTo>
                    <a:lnTo>
                      <a:pt x="165" y="451"/>
                    </a:lnTo>
                    <a:lnTo>
                      <a:pt x="172" y="487"/>
                    </a:lnTo>
                    <a:lnTo>
                      <a:pt x="178" y="524"/>
                    </a:lnTo>
                    <a:lnTo>
                      <a:pt x="183" y="563"/>
                    </a:lnTo>
                    <a:lnTo>
                      <a:pt x="188" y="601"/>
                    </a:lnTo>
                    <a:lnTo>
                      <a:pt x="191" y="641"/>
                    </a:lnTo>
                    <a:lnTo>
                      <a:pt x="194" y="681"/>
                    </a:lnTo>
                    <a:lnTo>
                      <a:pt x="197" y="723"/>
                    </a:lnTo>
                    <a:lnTo>
                      <a:pt x="198" y="765"/>
                    </a:lnTo>
                    <a:lnTo>
                      <a:pt x="198" y="808"/>
                    </a:lnTo>
                    <a:lnTo>
                      <a:pt x="197" y="852"/>
                    </a:lnTo>
                    <a:lnTo>
                      <a:pt x="195" y="896"/>
                    </a:lnTo>
                    <a:lnTo>
                      <a:pt x="193" y="941"/>
                    </a:lnTo>
                    <a:lnTo>
                      <a:pt x="190" y="987"/>
                    </a:lnTo>
                    <a:lnTo>
                      <a:pt x="185" y="1034"/>
                    </a:lnTo>
                    <a:lnTo>
                      <a:pt x="181" y="1081"/>
                    </a:lnTo>
                    <a:lnTo>
                      <a:pt x="175" y="1129"/>
                    </a:lnTo>
                    <a:lnTo>
                      <a:pt x="169" y="1178"/>
                    </a:lnTo>
                    <a:lnTo>
                      <a:pt x="161" y="1228"/>
                    </a:lnTo>
                    <a:lnTo>
                      <a:pt x="153" y="1279"/>
                    </a:lnTo>
                    <a:lnTo>
                      <a:pt x="161" y="1305"/>
                    </a:lnTo>
                    <a:lnTo>
                      <a:pt x="168" y="1333"/>
                    </a:lnTo>
                    <a:lnTo>
                      <a:pt x="172" y="1364"/>
                    </a:lnTo>
                    <a:lnTo>
                      <a:pt x="177" y="1397"/>
                    </a:lnTo>
                    <a:lnTo>
                      <a:pt x="179" y="1432"/>
                    </a:lnTo>
                    <a:lnTo>
                      <a:pt x="180" y="1467"/>
                    </a:lnTo>
                    <a:lnTo>
                      <a:pt x="180" y="1505"/>
                    </a:lnTo>
                    <a:lnTo>
                      <a:pt x="178" y="1545"/>
                    </a:lnTo>
                    <a:lnTo>
                      <a:pt x="194" y="1523"/>
                    </a:lnTo>
                    <a:lnTo>
                      <a:pt x="209" y="1501"/>
                    </a:lnTo>
                    <a:lnTo>
                      <a:pt x="223" y="1478"/>
                    </a:lnTo>
                    <a:lnTo>
                      <a:pt x="238" y="1455"/>
                    </a:lnTo>
                    <a:lnTo>
                      <a:pt x="251" y="1432"/>
                    </a:lnTo>
                    <a:lnTo>
                      <a:pt x="263" y="1407"/>
                    </a:lnTo>
                    <a:lnTo>
                      <a:pt x="276" y="1384"/>
                    </a:lnTo>
                    <a:lnTo>
                      <a:pt x="289" y="1360"/>
                    </a:lnTo>
                    <a:lnTo>
                      <a:pt x="307" y="1315"/>
                    </a:lnTo>
                    <a:lnTo>
                      <a:pt x="324" y="1270"/>
                    </a:lnTo>
                    <a:lnTo>
                      <a:pt x="339" y="1223"/>
                    </a:lnTo>
                    <a:lnTo>
                      <a:pt x="352" y="1177"/>
                    </a:lnTo>
                    <a:lnTo>
                      <a:pt x="362" y="1129"/>
                    </a:lnTo>
                    <a:lnTo>
                      <a:pt x="371" y="1080"/>
                    </a:lnTo>
                    <a:lnTo>
                      <a:pt x="377" y="1032"/>
                    </a:lnTo>
                    <a:lnTo>
                      <a:pt x="382" y="982"/>
                    </a:lnTo>
                    <a:lnTo>
                      <a:pt x="384" y="931"/>
                    </a:lnTo>
                    <a:lnTo>
                      <a:pt x="384" y="880"/>
                    </a:lnTo>
                    <a:lnTo>
                      <a:pt x="382" y="828"/>
                    </a:lnTo>
                    <a:lnTo>
                      <a:pt x="378" y="774"/>
                    </a:lnTo>
                    <a:lnTo>
                      <a:pt x="372" y="720"/>
                    </a:lnTo>
                    <a:lnTo>
                      <a:pt x="364" y="666"/>
                    </a:lnTo>
                    <a:lnTo>
                      <a:pt x="354" y="610"/>
                    </a:lnTo>
                    <a:lnTo>
                      <a:pt x="342" y="555"/>
                    </a:lnTo>
                    <a:lnTo>
                      <a:pt x="325" y="489"/>
                    </a:lnTo>
                    <a:lnTo>
                      <a:pt x="309" y="429"/>
                    </a:lnTo>
                    <a:lnTo>
                      <a:pt x="291" y="373"/>
                    </a:lnTo>
                    <a:lnTo>
                      <a:pt x="273" y="320"/>
                    </a:lnTo>
                    <a:lnTo>
                      <a:pt x="254" y="272"/>
                    </a:lnTo>
                    <a:lnTo>
                      <a:pt x="234" y="227"/>
                    </a:lnTo>
                    <a:lnTo>
                      <a:pt x="224" y="207"/>
                    </a:lnTo>
                    <a:lnTo>
                      <a:pt x="214" y="187"/>
                    </a:lnTo>
                    <a:lnTo>
                      <a:pt x="204" y="168"/>
                    </a:lnTo>
                    <a:lnTo>
                      <a:pt x="194" y="150"/>
                    </a:lnTo>
                    <a:lnTo>
                      <a:pt x="183" y="133"/>
                    </a:lnTo>
                    <a:lnTo>
                      <a:pt x="173" y="117"/>
                    </a:lnTo>
                    <a:lnTo>
                      <a:pt x="162" y="102"/>
                    </a:lnTo>
                    <a:lnTo>
                      <a:pt x="151" y="89"/>
                    </a:lnTo>
                    <a:lnTo>
                      <a:pt x="140" y="76"/>
                    </a:lnTo>
                    <a:lnTo>
                      <a:pt x="128" y="64"/>
                    </a:lnTo>
                    <a:lnTo>
                      <a:pt x="117" y="54"/>
                    </a:lnTo>
                    <a:lnTo>
                      <a:pt x="104" y="44"/>
                    </a:lnTo>
                    <a:lnTo>
                      <a:pt x="93" y="35"/>
                    </a:lnTo>
                    <a:lnTo>
                      <a:pt x="81" y="27"/>
                    </a:lnTo>
                    <a:lnTo>
                      <a:pt x="68" y="20"/>
                    </a:lnTo>
                    <a:lnTo>
                      <a:pt x="56" y="14"/>
                    </a:lnTo>
                    <a:lnTo>
                      <a:pt x="43" y="9"/>
                    </a:lnTo>
                    <a:lnTo>
                      <a:pt x="30" y="6"/>
                    </a:lnTo>
                    <a:lnTo>
                      <a:pt x="1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f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244"/>
              <p:cNvSpPr/>
              <p:nvPr/>
            </p:nvSpPr>
            <p:spPr>
              <a:xfrm>
                <a:off x="5838480" y="4566240"/>
                <a:ext cx="242280" cy="252360"/>
              </a:xfrm>
              <a:custGeom>
                <a:avLst/>
                <a:gdLst/>
                <a:ahLst/>
                <a:rect l="l" t="t" r="r" b="b"/>
                <a:pathLst>
                  <a:path w="2330" h="3041">
                    <a:moveTo>
                      <a:pt x="1528" y="10"/>
                    </a:moveTo>
                    <a:lnTo>
                      <a:pt x="1522" y="25"/>
                    </a:lnTo>
                    <a:lnTo>
                      <a:pt x="1516" y="40"/>
                    </a:lnTo>
                    <a:lnTo>
                      <a:pt x="1509" y="54"/>
                    </a:lnTo>
                    <a:lnTo>
                      <a:pt x="1501" y="68"/>
                    </a:lnTo>
                    <a:lnTo>
                      <a:pt x="1492" y="83"/>
                    </a:lnTo>
                    <a:lnTo>
                      <a:pt x="1484" y="96"/>
                    </a:lnTo>
                    <a:lnTo>
                      <a:pt x="1475" y="109"/>
                    </a:lnTo>
                    <a:lnTo>
                      <a:pt x="1465" y="123"/>
                    </a:lnTo>
                    <a:lnTo>
                      <a:pt x="1454" y="135"/>
                    </a:lnTo>
                    <a:lnTo>
                      <a:pt x="1443" y="147"/>
                    </a:lnTo>
                    <a:lnTo>
                      <a:pt x="1430" y="159"/>
                    </a:lnTo>
                    <a:lnTo>
                      <a:pt x="1417" y="171"/>
                    </a:lnTo>
                    <a:lnTo>
                      <a:pt x="1404" y="183"/>
                    </a:lnTo>
                    <a:lnTo>
                      <a:pt x="1389" y="194"/>
                    </a:lnTo>
                    <a:lnTo>
                      <a:pt x="1375" y="204"/>
                    </a:lnTo>
                    <a:lnTo>
                      <a:pt x="1359" y="215"/>
                    </a:lnTo>
                    <a:lnTo>
                      <a:pt x="1344" y="225"/>
                    </a:lnTo>
                    <a:lnTo>
                      <a:pt x="1327" y="235"/>
                    </a:lnTo>
                    <a:lnTo>
                      <a:pt x="1309" y="244"/>
                    </a:lnTo>
                    <a:lnTo>
                      <a:pt x="1292" y="252"/>
                    </a:lnTo>
                    <a:lnTo>
                      <a:pt x="1273" y="261"/>
                    </a:lnTo>
                    <a:lnTo>
                      <a:pt x="1253" y="270"/>
                    </a:lnTo>
                    <a:lnTo>
                      <a:pt x="1233" y="278"/>
                    </a:lnTo>
                    <a:lnTo>
                      <a:pt x="1213" y="286"/>
                    </a:lnTo>
                    <a:lnTo>
                      <a:pt x="1170" y="300"/>
                    </a:lnTo>
                    <a:lnTo>
                      <a:pt x="1123" y="313"/>
                    </a:lnTo>
                    <a:lnTo>
                      <a:pt x="1074" y="326"/>
                    </a:lnTo>
                    <a:lnTo>
                      <a:pt x="1023" y="337"/>
                    </a:lnTo>
                    <a:lnTo>
                      <a:pt x="952" y="346"/>
                    </a:lnTo>
                    <a:lnTo>
                      <a:pt x="883" y="358"/>
                    </a:lnTo>
                    <a:lnTo>
                      <a:pt x="849" y="364"/>
                    </a:lnTo>
                    <a:lnTo>
                      <a:pt x="816" y="371"/>
                    </a:lnTo>
                    <a:lnTo>
                      <a:pt x="782" y="379"/>
                    </a:lnTo>
                    <a:lnTo>
                      <a:pt x="749" y="387"/>
                    </a:lnTo>
                    <a:lnTo>
                      <a:pt x="717" y="395"/>
                    </a:lnTo>
                    <a:lnTo>
                      <a:pt x="685" y="404"/>
                    </a:lnTo>
                    <a:lnTo>
                      <a:pt x="653" y="414"/>
                    </a:lnTo>
                    <a:lnTo>
                      <a:pt x="622" y="424"/>
                    </a:lnTo>
                    <a:lnTo>
                      <a:pt x="591" y="435"/>
                    </a:lnTo>
                    <a:lnTo>
                      <a:pt x="561" y="446"/>
                    </a:lnTo>
                    <a:lnTo>
                      <a:pt x="531" y="458"/>
                    </a:lnTo>
                    <a:lnTo>
                      <a:pt x="501" y="470"/>
                    </a:lnTo>
                    <a:lnTo>
                      <a:pt x="472" y="483"/>
                    </a:lnTo>
                    <a:lnTo>
                      <a:pt x="443" y="495"/>
                    </a:lnTo>
                    <a:lnTo>
                      <a:pt x="415" y="510"/>
                    </a:lnTo>
                    <a:lnTo>
                      <a:pt x="386" y="524"/>
                    </a:lnTo>
                    <a:lnTo>
                      <a:pt x="359" y="539"/>
                    </a:lnTo>
                    <a:lnTo>
                      <a:pt x="332" y="554"/>
                    </a:lnTo>
                    <a:lnTo>
                      <a:pt x="305" y="570"/>
                    </a:lnTo>
                    <a:lnTo>
                      <a:pt x="279" y="585"/>
                    </a:lnTo>
                    <a:lnTo>
                      <a:pt x="253" y="602"/>
                    </a:lnTo>
                    <a:lnTo>
                      <a:pt x="228" y="619"/>
                    </a:lnTo>
                    <a:lnTo>
                      <a:pt x="202" y="637"/>
                    </a:lnTo>
                    <a:lnTo>
                      <a:pt x="178" y="656"/>
                    </a:lnTo>
                    <a:lnTo>
                      <a:pt x="153" y="675"/>
                    </a:lnTo>
                    <a:lnTo>
                      <a:pt x="129" y="694"/>
                    </a:lnTo>
                    <a:lnTo>
                      <a:pt x="106" y="714"/>
                    </a:lnTo>
                    <a:lnTo>
                      <a:pt x="82" y="734"/>
                    </a:lnTo>
                    <a:lnTo>
                      <a:pt x="76" y="759"/>
                    </a:lnTo>
                    <a:lnTo>
                      <a:pt x="76" y="757"/>
                    </a:lnTo>
                    <a:lnTo>
                      <a:pt x="75" y="756"/>
                    </a:lnTo>
                    <a:lnTo>
                      <a:pt x="74" y="756"/>
                    </a:lnTo>
                    <a:lnTo>
                      <a:pt x="71" y="755"/>
                    </a:lnTo>
                    <a:lnTo>
                      <a:pt x="69" y="755"/>
                    </a:lnTo>
                    <a:lnTo>
                      <a:pt x="67" y="755"/>
                    </a:lnTo>
                    <a:lnTo>
                      <a:pt x="64" y="754"/>
                    </a:lnTo>
                    <a:lnTo>
                      <a:pt x="61" y="751"/>
                    </a:lnTo>
                    <a:lnTo>
                      <a:pt x="61" y="755"/>
                    </a:lnTo>
                    <a:lnTo>
                      <a:pt x="36" y="914"/>
                    </a:lnTo>
                    <a:lnTo>
                      <a:pt x="29" y="926"/>
                    </a:lnTo>
                    <a:lnTo>
                      <a:pt x="21" y="937"/>
                    </a:lnTo>
                    <a:lnTo>
                      <a:pt x="16" y="949"/>
                    </a:lnTo>
                    <a:lnTo>
                      <a:pt x="10" y="963"/>
                    </a:lnTo>
                    <a:lnTo>
                      <a:pt x="6" y="979"/>
                    </a:lnTo>
                    <a:lnTo>
                      <a:pt x="4" y="996"/>
                    </a:lnTo>
                    <a:lnTo>
                      <a:pt x="1" y="1015"/>
                    </a:lnTo>
                    <a:lnTo>
                      <a:pt x="0" y="1035"/>
                    </a:lnTo>
                    <a:lnTo>
                      <a:pt x="7" y="1028"/>
                    </a:lnTo>
                    <a:lnTo>
                      <a:pt x="17" y="1020"/>
                    </a:lnTo>
                    <a:lnTo>
                      <a:pt x="29" y="1012"/>
                    </a:lnTo>
                    <a:lnTo>
                      <a:pt x="44" y="1004"/>
                    </a:lnTo>
                    <a:lnTo>
                      <a:pt x="54" y="1002"/>
                    </a:lnTo>
                    <a:lnTo>
                      <a:pt x="65" y="1001"/>
                    </a:lnTo>
                    <a:lnTo>
                      <a:pt x="76" y="1002"/>
                    </a:lnTo>
                    <a:lnTo>
                      <a:pt x="86" y="1004"/>
                    </a:lnTo>
                    <a:lnTo>
                      <a:pt x="102" y="1006"/>
                    </a:lnTo>
                    <a:lnTo>
                      <a:pt x="118" y="1011"/>
                    </a:lnTo>
                    <a:lnTo>
                      <a:pt x="134" y="1018"/>
                    </a:lnTo>
                    <a:lnTo>
                      <a:pt x="149" y="1028"/>
                    </a:lnTo>
                    <a:lnTo>
                      <a:pt x="165" y="1039"/>
                    </a:lnTo>
                    <a:lnTo>
                      <a:pt x="180" y="1052"/>
                    </a:lnTo>
                    <a:lnTo>
                      <a:pt x="196" y="1067"/>
                    </a:lnTo>
                    <a:lnTo>
                      <a:pt x="210" y="1085"/>
                    </a:lnTo>
                    <a:lnTo>
                      <a:pt x="224" y="1101"/>
                    </a:lnTo>
                    <a:lnTo>
                      <a:pt x="240" y="1116"/>
                    </a:lnTo>
                    <a:lnTo>
                      <a:pt x="258" y="1131"/>
                    </a:lnTo>
                    <a:lnTo>
                      <a:pt x="278" y="1144"/>
                    </a:lnTo>
                    <a:lnTo>
                      <a:pt x="299" y="1157"/>
                    </a:lnTo>
                    <a:lnTo>
                      <a:pt x="322" y="1169"/>
                    </a:lnTo>
                    <a:lnTo>
                      <a:pt x="347" y="1181"/>
                    </a:lnTo>
                    <a:lnTo>
                      <a:pt x="374" y="1192"/>
                    </a:lnTo>
                    <a:lnTo>
                      <a:pt x="369" y="1202"/>
                    </a:lnTo>
                    <a:lnTo>
                      <a:pt x="362" y="1209"/>
                    </a:lnTo>
                    <a:lnTo>
                      <a:pt x="355" y="1215"/>
                    </a:lnTo>
                    <a:lnTo>
                      <a:pt x="349" y="1219"/>
                    </a:lnTo>
                    <a:lnTo>
                      <a:pt x="341" y="1223"/>
                    </a:lnTo>
                    <a:lnTo>
                      <a:pt x="333" y="1224"/>
                    </a:lnTo>
                    <a:lnTo>
                      <a:pt x="323" y="1225"/>
                    </a:lnTo>
                    <a:lnTo>
                      <a:pt x="313" y="1224"/>
                    </a:lnTo>
                    <a:lnTo>
                      <a:pt x="327" y="1245"/>
                    </a:lnTo>
                    <a:lnTo>
                      <a:pt x="338" y="1264"/>
                    </a:lnTo>
                    <a:lnTo>
                      <a:pt x="349" y="1280"/>
                    </a:lnTo>
                    <a:lnTo>
                      <a:pt x="360" y="1295"/>
                    </a:lnTo>
                    <a:lnTo>
                      <a:pt x="376" y="1315"/>
                    </a:lnTo>
                    <a:lnTo>
                      <a:pt x="389" y="1332"/>
                    </a:lnTo>
                    <a:lnTo>
                      <a:pt x="393" y="1340"/>
                    </a:lnTo>
                    <a:lnTo>
                      <a:pt x="398" y="1347"/>
                    </a:lnTo>
                    <a:lnTo>
                      <a:pt x="400" y="1354"/>
                    </a:lnTo>
                    <a:lnTo>
                      <a:pt x="402" y="1359"/>
                    </a:lnTo>
                    <a:lnTo>
                      <a:pt x="416" y="1383"/>
                    </a:lnTo>
                    <a:lnTo>
                      <a:pt x="427" y="1403"/>
                    </a:lnTo>
                    <a:lnTo>
                      <a:pt x="432" y="1412"/>
                    </a:lnTo>
                    <a:lnTo>
                      <a:pt x="435" y="1419"/>
                    </a:lnTo>
                    <a:lnTo>
                      <a:pt x="437" y="1424"/>
                    </a:lnTo>
                    <a:lnTo>
                      <a:pt x="437" y="1430"/>
                    </a:lnTo>
                    <a:lnTo>
                      <a:pt x="437" y="1434"/>
                    </a:lnTo>
                    <a:lnTo>
                      <a:pt x="437" y="1440"/>
                    </a:lnTo>
                    <a:lnTo>
                      <a:pt x="444" y="1474"/>
                    </a:lnTo>
                    <a:lnTo>
                      <a:pt x="449" y="1504"/>
                    </a:lnTo>
                    <a:lnTo>
                      <a:pt x="450" y="1517"/>
                    </a:lnTo>
                    <a:lnTo>
                      <a:pt x="450" y="1528"/>
                    </a:lnTo>
                    <a:lnTo>
                      <a:pt x="450" y="1538"/>
                    </a:lnTo>
                    <a:lnTo>
                      <a:pt x="449" y="1546"/>
                    </a:lnTo>
                    <a:lnTo>
                      <a:pt x="443" y="1585"/>
                    </a:lnTo>
                    <a:lnTo>
                      <a:pt x="437" y="1624"/>
                    </a:lnTo>
                    <a:lnTo>
                      <a:pt x="429" y="1664"/>
                    </a:lnTo>
                    <a:lnTo>
                      <a:pt x="420" y="1706"/>
                    </a:lnTo>
                    <a:lnTo>
                      <a:pt x="410" y="1749"/>
                    </a:lnTo>
                    <a:lnTo>
                      <a:pt x="398" y="1793"/>
                    </a:lnTo>
                    <a:lnTo>
                      <a:pt x="384" y="1838"/>
                    </a:lnTo>
                    <a:lnTo>
                      <a:pt x="370" y="1884"/>
                    </a:lnTo>
                    <a:lnTo>
                      <a:pt x="353" y="1915"/>
                    </a:lnTo>
                    <a:lnTo>
                      <a:pt x="340" y="1945"/>
                    </a:lnTo>
                    <a:lnTo>
                      <a:pt x="334" y="1959"/>
                    </a:lnTo>
                    <a:lnTo>
                      <a:pt x="329" y="1972"/>
                    </a:lnTo>
                    <a:lnTo>
                      <a:pt x="325" y="1986"/>
                    </a:lnTo>
                    <a:lnTo>
                      <a:pt x="322" y="1999"/>
                    </a:lnTo>
                    <a:lnTo>
                      <a:pt x="319" y="2011"/>
                    </a:lnTo>
                    <a:lnTo>
                      <a:pt x="318" y="2023"/>
                    </a:lnTo>
                    <a:lnTo>
                      <a:pt x="317" y="2034"/>
                    </a:lnTo>
                    <a:lnTo>
                      <a:pt x="317" y="2045"/>
                    </a:lnTo>
                    <a:lnTo>
                      <a:pt x="318" y="2057"/>
                    </a:lnTo>
                    <a:lnTo>
                      <a:pt x="319" y="2067"/>
                    </a:lnTo>
                    <a:lnTo>
                      <a:pt x="321" y="2076"/>
                    </a:lnTo>
                    <a:lnTo>
                      <a:pt x="324" y="2086"/>
                    </a:lnTo>
                    <a:lnTo>
                      <a:pt x="328" y="2095"/>
                    </a:lnTo>
                    <a:lnTo>
                      <a:pt x="333" y="2104"/>
                    </a:lnTo>
                    <a:lnTo>
                      <a:pt x="338" y="2112"/>
                    </a:lnTo>
                    <a:lnTo>
                      <a:pt x="343" y="2119"/>
                    </a:lnTo>
                    <a:lnTo>
                      <a:pt x="349" y="2125"/>
                    </a:lnTo>
                    <a:lnTo>
                      <a:pt x="354" y="2132"/>
                    </a:lnTo>
                    <a:lnTo>
                      <a:pt x="360" y="2137"/>
                    </a:lnTo>
                    <a:lnTo>
                      <a:pt x="366" y="2143"/>
                    </a:lnTo>
                    <a:lnTo>
                      <a:pt x="374" y="2147"/>
                    </a:lnTo>
                    <a:lnTo>
                      <a:pt x="381" y="2152"/>
                    </a:lnTo>
                    <a:lnTo>
                      <a:pt x="389" y="2156"/>
                    </a:lnTo>
                    <a:lnTo>
                      <a:pt x="398" y="2160"/>
                    </a:lnTo>
                    <a:lnTo>
                      <a:pt x="415" y="2164"/>
                    </a:lnTo>
                    <a:lnTo>
                      <a:pt x="434" y="2167"/>
                    </a:lnTo>
                    <a:lnTo>
                      <a:pt x="453" y="2171"/>
                    </a:lnTo>
                    <a:lnTo>
                      <a:pt x="471" y="2172"/>
                    </a:lnTo>
                    <a:lnTo>
                      <a:pt x="486" y="2173"/>
                    </a:lnTo>
                    <a:lnTo>
                      <a:pt x="501" y="2172"/>
                    </a:lnTo>
                    <a:lnTo>
                      <a:pt x="513" y="2171"/>
                    </a:lnTo>
                    <a:lnTo>
                      <a:pt x="524" y="2169"/>
                    </a:lnTo>
                    <a:lnTo>
                      <a:pt x="533" y="2165"/>
                    </a:lnTo>
                    <a:lnTo>
                      <a:pt x="541" y="2161"/>
                    </a:lnTo>
                    <a:lnTo>
                      <a:pt x="553" y="2155"/>
                    </a:lnTo>
                    <a:lnTo>
                      <a:pt x="562" y="2151"/>
                    </a:lnTo>
                    <a:lnTo>
                      <a:pt x="568" y="2146"/>
                    </a:lnTo>
                    <a:lnTo>
                      <a:pt x="573" y="2143"/>
                    </a:lnTo>
                    <a:lnTo>
                      <a:pt x="583" y="2137"/>
                    </a:lnTo>
                    <a:lnTo>
                      <a:pt x="594" y="2132"/>
                    </a:lnTo>
                    <a:lnTo>
                      <a:pt x="605" y="2127"/>
                    </a:lnTo>
                    <a:lnTo>
                      <a:pt x="615" y="2122"/>
                    </a:lnTo>
                    <a:lnTo>
                      <a:pt x="634" y="2113"/>
                    </a:lnTo>
                    <a:lnTo>
                      <a:pt x="650" y="2108"/>
                    </a:lnTo>
                    <a:lnTo>
                      <a:pt x="668" y="2104"/>
                    </a:lnTo>
                    <a:lnTo>
                      <a:pt x="684" y="2102"/>
                    </a:lnTo>
                    <a:lnTo>
                      <a:pt x="698" y="2103"/>
                    </a:lnTo>
                    <a:lnTo>
                      <a:pt x="711" y="2105"/>
                    </a:lnTo>
                    <a:lnTo>
                      <a:pt x="725" y="2109"/>
                    </a:lnTo>
                    <a:lnTo>
                      <a:pt x="736" y="2114"/>
                    </a:lnTo>
                    <a:lnTo>
                      <a:pt x="741" y="2114"/>
                    </a:lnTo>
                    <a:lnTo>
                      <a:pt x="747" y="2114"/>
                    </a:lnTo>
                    <a:lnTo>
                      <a:pt x="758" y="2112"/>
                    </a:lnTo>
                    <a:lnTo>
                      <a:pt x="769" y="2109"/>
                    </a:lnTo>
                    <a:lnTo>
                      <a:pt x="778" y="2104"/>
                    </a:lnTo>
                    <a:lnTo>
                      <a:pt x="787" y="2099"/>
                    </a:lnTo>
                    <a:lnTo>
                      <a:pt x="795" y="2092"/>
                    </a:lnTo>
                    <a:lnTo>
                      <a:pt x="801" y="2084"/>
                    </a:lnTo>
                    <a:lnTo>
                      <a:pt x="808" y="2075"/>
                    </a:lnTo>
                    <a:lnTo>
                      <a:pt x="812" y="2065"/>
                    </a:lnTo>
                    <a:lnTo>
                      <a:pt x="817" y="2054"/>
                    </a:lnTo>
                    <a:lnTo>
                      <a:pt x="820" y="2042"/>
                    </a:lnTo>
                    <a:lnTo>
                      <a:pt x="821" y="2029"/>
                    </a:lnTo>
                    <a:lnTo>
                      <a:pt x="822" y="2014"/>
                    </a:lnTo>
                    <a:lnTo>
                      <a:pt x="824" y="1999"/>
                    </a:lnTo>
                    <a:lnTo>
                      <a:pt x="822" y="1982"/>
                    </a:lnTo>
                    <a:lnTo>
                      <a:pt x="820" y="1963"/>
                    </a:lnTo>
                    <a:lnTo>
                      <a:pt x="818" y="1945"/>
                    </a:lnTo>
                    <a:lnTo>
                      <a:pt x="809" y="1936"/>
                    </a:lnTo>
                    <a:lnTo>
                      <a:pt x="804" y="1930"/>
                    </a:lnTo>
                    <a:lnTo>
                      <a:pt x="804" y="1927"/>
                    </a:lnTo>
                    <a:lnTo>
                      <a:pt x="792" y="1918"/>
                    </a:lnTo>
                    <a:lnTo>
                      <a:pt x="782" y="1909"/>
                    </a:lnTo>
                    <a:lnTo>
                      <a:pt x="774" y="1904"/>
                    </a:lnTo>
                    <a:lnTo>
                      <a:pt x="765" y="1900"/>
                    </a:lnTo>
                    <a:lnTo>
                      <a:pt x="755" y="1897"/>
                    </a:lnTo>
                    <a:lnTo>
                      <a:pt x="746" y="1895"/>
                    </a:lnTo>
                    <a:lnTo>
                      <a:pt x="737" y="1894"/>
                    </a:lnTo>
                    <a:lnTo>
                      <a:pt x="727" y="1894"/>
                    </a:lnTo>
                    <a:lnTo>
                      <a:pt x="717" y="1894"/>
                    </a:lnTo>
                    <a:lnTo>
                      <a:pt x="707" y="1896"/>
                    </a:lnTo>
                    <a:lnTo>
                      <a:pt x="697" y="1898"/>
                    </a:lnTo>
                    <a:lnTo>
                      <a:pt x="686" y="1901"/>
                    </a:lnTo>
                    <a:lnTo>
                      <a:pt x="676" y="1906"/>
                    </a:lnTo>
                    <a:lnTo>
                      <a:pt x="665" y="1911"/>
                    </a:lnTo>
                    <a:lnTo>
                      <a:pt x="654" y="1917"/>
                    </a:lnTo>
                    <a:lnTo>
                      <a:pt x="643" y="1923"/>
                    </a:lnTo>
                    <a:lnTo>
                      <a:pt x="631" y="1932"/>
                    </a:lnTo>
                    <a:lnTo>
                      <a:pt x="618" y="1941"/>
                    </a:lnTo>
                    <a:lnTo>
                      <a:pt x="631" y="1932"/>
                    </a:lnTo>
                    <a:lnTo>
                      <a:pt x="643" y="1923"/>
                    </a:lnTo>
                    <a:lnTo>
                      <a:pt x="654" y="1917"/>
                    </a:lnTo>
                    <a:lnTo>
                      <a:pt x="665" y="1911"/>
                    </a:lnTo>
                    <a:lnTo>
                      <a:pt x="676" y="1906"/>
                    </a:lnTo>
                    <a:lnTo>
                      <a:pt x="686" y="1901"/>
                    </a:lnTo>
                    <a:lnTo>
                      <a:pt x="697" y="1898"/>
                    </a:lnTo>
                    <a:lnTo>
                      <a:pt x="707" y="1896"/>
                    </a:lnTo>
                    <a:lnTo>
                      <a:pt x="717" y="1894"/>
                    </a:lnTo>
                    <a:lnTo>
                      <a:pt x="727" y="1894"/>
                    </a:lnTo>
                    <a:lnTo>
                      <a:pt x="737" y="1894"/>
                    </a:lnTo>
                    <a:lnTo>
                      <a:pt x="746" y="1895"/>
                    </a:lnTo>
                    <a:lnTo>
                      <a:pt x="755" y="1897"/>
                    </a:lnTo>
                    <a:lnTo>
                      <a:pt x="765" y="1900"/>
                    </a:lnTo>
                    <a:lnTo>
                      <a:pt x="774" y="1904"/>
                    </a:lnTo>
                    <a:lnTo>
                      <a:pt x="782" y="1909"/>
                    </a:lnTo>
                    <a:lnTo>
                      <a:pt x="792" y="1918"/>
                    </a:lnTo>
                    <a:lnTo>
                      <a:pt x="804" y="1927"/>
                    </a:lnTo>
                    <a:lnTo>
                      <a:pt x="804" y="1930"/>
                    </a:lnTo>
                    <a:lnTo>
                      <a:pt x="809" y="1936"/>
                    </a:lnTo>
                    <a:lnTo>
                      <a:pt x="818" y="1945"/>
                    </a:lnTo>
                    <a:lnTo>
                      <a:pt x="820" y="1963"/>
                    </a:lnTo>
                    <a:lnTo>
                      <a:pt x="822" y="1982"/>
                    </a:lnTo>
                    <a:lnTo>
                      <a:pt x="824" y="1999"/>
                    </a:lnTo>
                    <a:lnTo>
                      <a:pt x="822" y="2014"/>
                    </a:lnTo>
                    <a:lnTo>
                      <a:pt x="821" y="2029"/>
                    </a:lnTo>
                    <a:lnTo>
                      <a:pt x="820" y="2042"/>
                    </a:lnTo>
                    <a:lnTo>
                      <a:pt x="817" y="2054"/>
                    </a:lnTo>
                    <a:lnTo>
                      <a:pt x="812" y="2065"/>
                    </a:lnTo>
                    <a:lnTo>
                      <a:pt x="808" y="2075"/>
                    </a:lnTo>
                    <a:lnTo>
                      <a:pt x="801" y="2084"/>
                    </a:lnTo>
                    <a:lnTo>
                      <a:pt x="795" y="2092"/>
                    </a:lnTo>
                    <a:lnTo>
                      <a:pt x="787" y="2099"/>
                    </a:lnTo>
                    <a:lnTo>
                      <a:pt x="778" y="2104"/>
                    </a:lnTo>
                    <a:lnTo>
                      <a:pt x="769" y="2109"/>
                    </a:lnTo>
                    <a:lnTo>
                      <a:pt x="758" y="2112"/>
                    </a:lnTo>
                    <a:lnTo>
                      <a:pt x="747" y="2114"/>
                    </a:lnTo>
                    <a:lnTo>
                      <a:pt x="741" y="2114"/>
                    </a:lnTo>
                    <a:lnTo>
                      <a:pt x="736" y="2114"/>
                    </a:lnTo>
                    <a:lnTo>
                      <a:pt x="725" y="2109"/>
                    </a:lnTo>
                    <a:lnTo>
                      <a:pt x="711" y="2105"/>
                    </a:lnTo>
                    <a:lnTo>
                      <a:pt x="698" y="2103"/>
                    </a:lnTo>
                    <a:lnTo>
                      <a:pt x="684" y="2102"/>
                    </a:lnTo>
                    <a:lnTo>
                      <a:pt x="668" y="2104"/>
                    </a:lnTo>
                    <a:lnTo>
                      <a:pt x="650" y="2108"/>
                    </a:lnTo>
                    <a:lnTo>
                      <a:pt x="634" y="2113"/>
                    </a:lnTo>
                    <a:lnTo>
                      <a:pt x="615" y="2122"/>
                    </a:lnTo>
                    <a:lnTo>
                      <a:pt x="605" y="2127"/>
                    </a:lnTo>
                    <a:lnTo>
                      <a:pt x="594" y="2132"/>
                    </a:lnTo>
                    <a:lnTo>
                      <a:pt x="583" y="2137"/>
                    </a:lnTo>
                    <a:lnTo>
                      <a:pt x="573" y="2143"/>
                    </a:lnTo>
                    <a:lnTo>
                      <a:pt x="568" y="2146"/>
                    </a:lnTo>
                    <a:lnTo>
                      <a:pt x="562" y="2151"/>
                    </a:lnTo>
                    <a:lnTo>
                      <a:pt x="553" y="2155"/>
                    </a:lnTo>
                    <a:lnTo>
                      <a:pt x="541" y="2161"/>
                    </a:lnTo>
                    <a:lnTo>
                      <a:pt x="533" y="2165"/>
                    </a:lnTo>
                    <a:lnTo>
                      <a:pt x="524" y="2169"/>
                    </a:lnTo>
                    <a:lnTo>
                      <a:pt x="513" y="2171"/>
                    </a:lnTo>
                    <a:lnTo>
                      <a:pt x="501" y="2172"/>
                    </a:lnTo>
                    <a:lnTo>
                      <a:pt x="486" y="2173"/>
                    </a:lnTo>
                    <a:lnTo>
                      <a:pt x="471" y="2172"/>
                    </a:lnTo>
                    <a:lnTo>
                      <a:pt x="453" y="2171"/>
                    </a:lnTo>
                    <a:lnTo>
                      <a:pt x="434" y="2167"/>
                    </a:lnTo>
                    <a:lnTo>
                      <a:pt x="415" y="2164"/>
                    </a:lnTo>
                    <a:lnTo>
                      <a:pt x="398" y="2160"/>
                    </a:lnTo>
                    <a:lnTo>
                      <a:pt x="389" y="2156"/>
                    </a:lnTo>
                    <a:lnTo>
                      <a:pt x="381" y="2152"/>
                    </a:lnTo>
                    <a:lnTo>
                      <a:pt x="374" y="2147"/>
                    </a:lnTo>
                    <a:lnTo>
                      <a:pt x="366" y="2143"/>
                    </a:lnTo>
                    <a:lnTo>
                      <a:pt x="360" y="2137"/>
                    </a:lnTo>
                    <a:lnTo>
                      <a:pt x="354" y="2132"/>
                    </a:lnTo>
                    <a:lnTo>
                      <a:pt x="349" y="2125"/>
                    </a:lnTo>
                    <a:lnTo>
                      <a:pt x="343" y="2119"/>
                    </a:lnTo>
                    <a:lnTo>
                      <a:pt x="338" y="2112"/>
                    </a:lnTo>
                    <a:lnTo>
                      <a:pt x="333" y="2104"/>
                    </a:lnTo>
                    <a:lnTo>
                      <a:pt x="328" y="2095"/>
                    </a:lnTo>
                    <a:lnTo>
                      <a:pt x="324" y="2086"/>
                    </a:lnTo>
                    <a:lnTo>
                      <a:pt x="321" y="2076"/>
                    </a:lnTo>
                    <a:lnTo>
                      <a:pt x="319" y="2067"/>
                    </a:lnTo>
                    <a:lnTo>
                      <a:pt x="318" y="2057"/>
                    </a:lnTo>
                    <a:lnTo>
                      <a:pt x="317" y="2045"/>
                    </a:lnTo>
                    <a:lnTo>
                      <a:pt x="317" y="2034"/>
                    </a:lnTo>
                    <a:lnTo>
                      <a:pt x="318" y="2023"/>
                    </a:lnTo>
                    <a:lnTo>
                      <a:pt x="319" y="2011"/>
                    </a:lnTo>
                    <a:lnTo>
                      <a:pt x="322" y="1999"/>
                    </a:lnTo>
                    <a:lnTo>
                      <a:pt x="325" y="1986"/>
                    </a:lnTo>
                    <a:lnTo>
                      <a:pt x="329" y="1972"/>
                    </a:lnTo>
                    <a:lnTo>
                      <a:pt x="334" y="1959"/>
                    </a:lnTo>
                    <a:lnTo>
                      <a:pt x="340" y="1945"/>
                    </a:lnTo>
                    <a:lnTo>
                      <a:pt x="353" y="1915"/>
                    </a:lnTo>
                    <a:lnTo>
                      <a:pt x="370" y="1884"/>
                    </a:lnTo>
                    <a:lnTo>
                      <a:pt x="384" y="1838"/>
                    </a:lnTo>
                    <a:lnTo>
                      <a:pt x="398" y="1793"/>
                    </a:lnTo>
                    <a:lnTo>
                      <a:pt x="410" y="1749"/>
                    </a:lnTo>
                    <a:lnTo>
                      <a:pt x="420" y="1706"/>
                    </a:lnTo>
                    <a:lnTo>
                      <a:pt x="429" y="1664"/>
                    </a:lnTo>
                    <a:lnTo>
                      <a:pt x="437" y="1624"/>
                    </a:lnTo>
                    <a:lnTo>
                      <a:pt x="443" y="1585"/>
                    </a:lnTo>
                    <a:lnTo>
                      <a:pt x="449" y="1546"/>
                    </a:lnTo>
                    <a:lnTo>
                      <a:pt x="450" y="1538"/>
                    </a:lnTo>
                    <a:lnTo>
                      <a:pt x="450" y="1528"/>
                    </a:lnTo>
                    <a:lnTo>
                      <a:pt x="450" y="1517"/>
                    </a:lnTo>
                    <a:lnTo>
                      <a:pt x="449" y="1504"/>
                    </a:lnTo>
                    <a:lnTo>
                      <a:pt x="444" y="1474"/>
                    </a:lnTo>
                    <a:lnTo>
                      <a:pt x="437" y="1440"/>
                    </a:lnTo>
                    <a:lnTo>
                      <a:pt x="437" y="1437"/>
                    </a:lnTo>
                    <a:lnTo>
                      <a:pt x="437" y="1437"/>
                    </a:lnTo>
                    <a:lnTo>
                      <a:pt x="437" y="1433"/>
                    </a:lnTo>
                    <a:lnTo>
                      <a:pt x="437" y="1432"/>
                    </a:lnTo>
                    <a:lnTo>
                      <a:pt x="437" y="1430"/>
                    </a:lnTo>
                    <a:lnTo>
                      <a:pt x="405" y="1431"/>
                    </a:lnTo>
                    <a:lnTo>
                      <a:pt x="371" y="1432"/>
                    </a:lnTo>
                    <a:lnTo>
                      <a:pt x="335" y="1431"/>
                    </a:lnTo>
                    <a:lnTo>
                      <a:pt x="299" y="1430"/>
                    </a:lnTo>
                    <a:lnTo>
                      <a:pt x="283" y="1427"/>
                    </a:lnTo>
                    <a:lnTo>
                      <a:pt x="269" y="1422"/>
                    </a:lnTo>
                    <a:lnTo>
                      <a:pt x="256" y="1417"/>
                    </a:lnTo>
                    <a:lnTo>
                      <a:pt x="242" y="1412"/>
                    </a:lnTo>
                    <a:lnTo>
                      <a:pt x="227" y="1406"/>
                    </a:lnTo>
                    <a:lnTo>
                      <a:pt x="213" y="1398"/>
                    </a:lnTo>
                    <a:lnTo>
                      <a:pt x="200" y="1391"/>
                    </a:lnTo>
                    <a:lnTo>
                      <a:pt x="189" y="1383"/>
                    </a:lnTo>
                    <a:lnTo>
                      <a:pt x="179" y="1376"/>
                    </a:lnTo>
                    <a:lnTo>
                      <a:pt x="170" y="1368"/>
                    </a:lnTo>
                    <a:lnTo>
                      <a:pt x="163" y="1358"/>
                    </a:lnTo>
                    <a:lnTo>
                      <a:pt x="157" y="1348"/>
                    </a:lnTo>
                    <a:lnTo>
                      <a:pt x="152" y="1337"/>
                    </a:lnTo>
                    <a:lnTo>
                      <a:pt x="149" y="1325"/>
                    </a:lnTo>
                    <a:lnTo>
                      <a:pt x="147" y="1311"/>
                    </a:lnTo>
                    <a:lnTo>
                      <a:pt x="147" y="1298"/>
                    </a:lnTo>
                    <a:lnTo>
                      <a:pt x="139" y="1298"/>
                    </a:lnTo>
                    <a:lnTo>
                      <a:pt x="125" y="1295"/>
                    </a:lnTo>
                    <a:lnTo>
                      <a:pt x="121" y="1295"/>
                    </a:lnTo>
                    <a:lnTo>
                      <a:pt x="132" y="1405"/>
                    </a:lnTo>
                    <a:lnTo>
                      <a:pt x="138" y="1419"/>
                    </a:lnTo>
                    <a:lnTo>
                      <a:pt x="143" y="1432"/>
                    </a:lnTo>
                    <a:lnTo>
                      <a:pt x="151" y="1443"/>
                    </a:lnTo>
                    <a:lnTo>
                      <a:pt x="160" y="1454"/>
                    </a:lnTo>
                    <a:lnTo>
                      <a:pt x="170" y="1463"/>
                    </a:lnTo>
                    <a:lnTo>
                      <a:pt x="181" y="1472"/>
                    </a:lnTo>
                    <a:lnTo>
                      <a:pt x="193" y="1479"/>
                    </a:lnTo>
                    <a:lnTo>
                      <a:pt x="207" y="1484"/>
                    </a:lnTo>
                    <a:lnTo>
                      <a:pt x="221" y="1490"/>
                    </a:lnTo>
                    <a:lnTo>
                      <a:pt x="237" y="1493"/>
                    </a:lnTo>
                    <a:lnTo>
                      <a:pt x="253" y="1495"/>
                    </a:lnTo>
                    <a:lnTo>
                      <a:pt x="271" y="1497"/>
                    </a:lnTo>
                    <a:lnTo>
                      <a:pt x="289" y="1497"/>
                    </a:lnTo>
                    <a:lnTo>
                      <a:pt x="309" y="1495"/>
                    </a:lnTo>
                    <a:lnTo>
                      <a:pt x="330" y="1493"/>
                    </a:lnTo>
                    <a:lnTo>
                      <a:pt x="352" y="1490"/>
                    </a:lnTo>
                    <a:lnTo>
                      <a:pt x="330" y="1493"/>
                    </a:lnTo>
                    <a:lnTo>
                      <a:pt x="309" y="1495"/>
                    </a:lnTo>
                    <a:lnTo>
                      <a:pt x="289" y="1497"/>
                    </a:lnTo>
                    <a:lnTo>
                      <a:pt x="271" y="1497"/>
                    </a:lnTo>
                    <a:lnTo>
                      <a:pt x="253" y="1495"/>
                    </a:lnTo>
                    <a:lnTo>
                      <a:pt x="237" y="1493"/>
                    </a:lnTo>
                    <a:lnTo>
                      <a:pt x="221" y="1490"/>
                    </a:lnTo>
                    <a:lnTo>
                      <a:pt x="207" y="1484"/>
                    </a:lnTo>
                    <a:lnTo>
                      <a:pt x="193" y="1479"/>
                    </a:lnTo>
                    <a:lnTo>
                      <a:pt x="181" y="1472"/>
                    </a:lnTo>
                    <a:lnTo>
                      <a:pt x="170" y="1463"/>
                    </a:lnTo>
                    <a:lnTo>
                      <a:pt x="160" y="1454"/>
                    </a:lnTo>
                    <a:lnTo>
                      <a:pt x="151" y="1443"/>
                    </a:lnTo>
                    <a:lnTo>
                      <a:pt x="143" y="1432"/>
                    </a:lnTo>
                    <a:lnTo>
                      <a:pt x="138" y="1419"/>
                    </a:lnTo>
                    <a:lnTo>
                      <a:pt x="132" y="1405"/>
                    </a:lnTo>
                    <a:lnTo>
                      <a:pt x="130" y="1438"/>
                    </a:lnTo>
                    <a:lnTo>
                      <a:pt x="128" y="1470"/>
                    </a:lnTo>
                    <a:lnTo>
                      <a:pt x="126" y="1500"/>
                    </a:lnTo>
                    <a:lnTo>
                      <a:pt x="122" y="1530"/>
                    </a:lnTo>
                    <a:lnTo>
                      <a:pt x="119" y="1560"/>
                    </a:lnTo>
                    <a:lnTo>
                      <a:pt x="116" y="1587"/>
                    </a:lnTo>
                    <a:lnTo>
                      <a:pt x="111" y="1615"/>
                    </a:lnTo>
                    <a:lnTo>
                      <a:pt x="107" y="1643"/>
                    </a:lnTo>
                    <a:lnTo>
                      <a:pt x="102" y="1668"/>
                    </a:lnTo>
                    <a:lnTo>
                      <a:pt x="99" y="1694"/>
                    </a:lnTo>
                    <a:lnTo>
                      <a:pt x="96" y="1718"/>
                    </a:lnTo>
                    <a:lnTo>
                      <a:pt x="94" y="1742"/>
                    </a:lnTo>
                    <a:lnTo>
                      <a:pt x="94" y="1763"/>
                    </a:lnTo>
                    <a:lnTo>
                      <a:pt x="94" y="1785"/>
                    </a:lnTo>
                    <a:lnTo>
                      <a:pt x="95" y="1805"/>
                    </a:lnTo>
                    <a:lnTo>
                      <a:pt x="97" y="1824"/>
                    </a:lnTo>
                    <a:lnTo>
                      <a:pt x="98" y="1841"/>
                    </a:lnTo>
                    <a:lnTo>
                      <a:pt x="100" y="1860"/>
                    </a:lnTo>
                    <a:lnTo>
                      <a:pt x="104" y="1877"/>
                    </a:lnTo>
                    <a:lnTo>
                      <a:pt x="107" y="1895"/>
                    </a:lnTo>
                    <a:lnTo>
                      <a:pt x="115" y="1928"/>
                    </a:lnTo>
                    <a:lnTo>
                      <a:pt x="125" y="1962"/>
                    </a:lnTo>
                    <a:lnTo>
                      <a:pt x="140" y="2003"/>
                    </a:lnTo>
                    <a:lnTo>
                      <a:pt x="157" y="2043"/>
                    </a:lnTo>
                    <a:lnTo>
                      <a:pt x="173" y="2083"/>
                    </a:lnTo>
                    <a:lnTo>
                      <a:pt x="191" y="2123"/>
                    </a:lnTo>
                    <a:lnTo>
                      <a:pt x="210" y="2162"/>
                    </a:lnTo>
                    <a:lnTo>
                      <a:pt x="230" y="2201"/>
                    </a:lnTo>
                    <a:lnTo>
                      <a:pt x="250" y="2239"/>
                    </a:lnTo>
                    <a:lnTo>
                      <a:pt x="271" y="2278"/>
                    </a:lnTo>
                    <a:lnTo>
                      <a:pt x="291" y="2313"/>
                    </a:lnTo>
                    <a:lnTo>
                      <a:pt x="312" y="2346"/>
                    </a:lnTo>
                    <a:lnTo>
                      <a:pt x="335" y="2380"/>
                    </a:lnTo>
                    <a:lnTo>
                      <a:pt x="359" y="2414"/>
                    </a:lnTo>
                    <a:lnTo>
                      <a:pt x="382" y="2446"/>
                    </a:lnTo>
                    <a:lnTo>
                      <a:pt x="408" y="2478"/>
                    </a:lnTo>
                    <a:lnTo>
                      <a:pt x="433" y="2510"/>
                    </a:lnTo>
                    <a:lnTo>
                      <a:pt x="459" y="2541"/>
                    </a:lnTo>
                    <a:lnTo>
                      <a:pt x="474" y="2558"/>
                    </a:lnTo>
                    <a:lnTo>
                      <a:pt x="489" y="2577"/>
                    </a:lnTo>
                    <a:lnTo>
                      <a:pt x="502" y="2595"/>
                    </a:lnTo>
                    <a:lnTo>
                      <a:pt x="514" y="2616"/>
                    </a:lnTo>
                    <a:lnTo>
                      <a:pt x="525" y="2638"/>
                    </a:lnTo>
                    <a:lnTo>
                      <a:pt x="535" y="2660"/>
                    </a:lnTo>
                    <a:lnTo>
                      <a:pt x="544" y="2683"/>
                    </a:lnTo>
                    <a:lnTo>
                      <a:pt x="552" y="2707"/>
                    </a:lnTo>
                    <a:lnTo>
                      <a:pt x="564" y="2747"/>
                    </a:lnTo>
                    <a:lnTo>
                      <a:pt x="576" y="2787"/>
                    </a:lnTo>
                    <a:lnTo>
                      <a:pt x="587" y="2826"/>
                    </a:lnTo>
                    <a:lnTo>
                      <a:pt x="597" y="2864"/>
                    </a:lnTo>
                    <a:lnTo>
                      <a:pt x="599" y="2873"/>
                    </a:lnTo>
                    <a:lnTo>
                      <a:pt x="602" y="2883"/>
                    </a:lnTo>
                    <a:lnTo>
                      <a:pt x="605" y="2893"/>
                    </a:lnTo>
                    <a:lnTo>
                      <a:pt x="609" y="2903"/>
                    </a:lnTo>
                    <a:lnTo>
                      <a:pt x="619" y="2923"/>
                    </a:lnTo>
                    <a:lnTo>
                      <a:pt x="629" y="2941"/>
                    </a:lnTo>
                    <a:lnTo>
                      <a:pt x="629" y="2941"/>
                    </a:lnTo>
                    <a:lnTo>
                      <a:pt x="633" y="2941"/>
                    </a:lnTo>
                    <a:lnTo>
                      <a:pt x="640" y="2950"/>
                    </a:lnTo>
                    <a:lnTo>
                      <a:pt x="647" y="2959"/>
                    </a:lnTo>
                    <a:lnTo>
                      <a:pt x="662" y="2970"/>
                    </a:lnTo>
                    <a:lnTo>
                      <a:pt x="676" y="2985"/>
                    </a:lnTo>
                    <a:lnTo>
                      <a:pt x="686" y="2994"/>
                    </a:lnTo>
                    <a:lnTo>
                      <a:pt x="698" y="3001"/>
                    </a:lnTo>
                    <a:lnTo>
                      <a:pt x="709" y="3009"/>
                    </a:lnTo>
                    <a:lnTo>
                      <a:pt x="721" y="3016"/>
                    </a:lnTo>
                    <a:lnTo>
                      <a:pt x="734" y="3021"/>
                    </a:lnTo>
                    <a:lnTo>
                      <a:pt x="747" y="3027"/>
                    </a:lnTo>
                    <a:lnTo>
                      <a:pt x="760" y="3031"/>
                    </a:lnTo>
                    <a:lnTo>
                      <a:pt x="774" y="3035"/>
                    </a:lnTo>
                    <a:lnTo>
                      <a:pt x="788" y="3037"/>
                    </a:lnTo>
                    <a:lnTo>
                      <a:pt x="802" y="3039"/>
                    </a:lnTo>
                    <a:lnTo>
                      <a:pt x="817" y="3040"/>
                    </a:lnTo>
                    <a:lnTo>
                      <a:pt x="831" y="3041"/>
                    </a:lnTo>
                    <a:lnTo>
                      <a:pt x="847" y="3040"/>
                    </a:lnTo>
                    <a:lnTo>
                      <a:pt x="863" y="3039"/>
                    </a:lnTo>
                    <a:lnTo>
                      <a:pt x="879" y="3037"/>
                    </a:lnTo>
                    <a:lnTo>
                      <a:pt x="896" y="3033"/>
                    </a:lnTo>
                    <a:lnTo>
                      <a:pt x="936" y="3020"/>
                    </a:lnTo>
                    <a:lnTo>
                      <a:pt x="978" y="3003"/>
                    </a:lnTo>
                    <a:lnTo>
                      <a:pt x="1019" y="2986"/>
                    </a:lnTo>
                    <a:lnTo>
                      <a:pt x="1062" y="2966"/>
                    </a:lnTo>
                    <a:lnTo>
                      <a:pt x="1105" y="2945"/>
                    </a:lnTo>
                    <a:lnTo>
                      <a:pt x="1150" y="2921"/>
                    </a:lnTo>
                    <a:lnTo>
                      <a:pt x="1195" y="2896"/>
                    </a:lnTo>
                    <a:lnTo>
                      <a:pt x="1241" y="2869"/>
                    </a:lnTo>
                    <a:lnTo>
                      <a:pt x="1287" y="2840"/>
                    </a:lnTo>
                    <a:lnTo>
                      <a:pt x="1334" y="2809"/>
                    </a:lnTo>
                    <a:lnTo>
                      <a:pt x="1382" y="2777"/>
                    </a:lnTo>
                    <a:lnTo>
                      <a:pt x="1430" y="2743"/>
                    </a:lnTo>
                    <a:lnTo>
                      <a:pt x="1479" y="2706"/>
                    </a:lnTo>
                    <a:lnTo>
                      <a:pt x="1529" y="2669"/>
                    </a:lnTo>
                    <a:lnTo>
                      <a:pt x="1580" y="2629"/>
                    </a:lnTo>
                    <a:lnTo>
                      <a:pt x="1631" y="2587"/>
                    </a:lnTo>
                    <a:lnTo>
                      <a:pt x="1656" y="2565"/>
                    </a:lnTo>
                    <a:lnTo>
                      <a:pt x="1681" y="2544"/>
                    </a:lnTo>
                    <a:lnTo>
                      <a:pt x="1704" y="2522"/>
                    </a:lnTo>
                    <a:lnTo>
                      <a:pt x="1728" y="2500"/>
                    </a:lnTo>
                    <a:lnTo>
                      <a:pt x="1751" y="2477"/>
                    </a:lnTo>
                    <a:lnTo>
                      <a:pt x="1773" y="2453"/>
                    </a:lnTo>
                    <a:lnTo>
                      <a:pt x="1794" y="2430"/>
                    </a:lnTo>
                    <a:lnTo>
                      <a:pt x="1815" y="2406"/>
                    </a:lnTo>
                    <a:lnTo>
                      <a:pt x="1835" y="2381"/>
                    </a:lnTo>
                    <a:lnTo>
                      <a:pt x="1855" y="2357"/>
                    </a:lnTo>
                    <a:lnTo>
                      <a:pt x="1874" y="2332"/>
                    </a:lnTo>
                    <a:lnTo>
                      <a:pt x="1892" y="2306"/>
                    </a:lnTo>
                    <a:lnTo>
                      <a:pt x="1910" y="2279"/>
                    </a:lnTo>
                    <a:lnTo>
                      <a:pt x="1926" y="2253"/>
                    </a:lnTo>
                    <a:lnTo>
                      <a:pt x="1943" y="2226"/>
                    </a:lnTo>
                    <a:lnTo>
                      <a:pt x="1958" y="2198"/>
                    </a:lnTo>
                    <a:lnTo>
                      <a:pt x="1973" y="2172"/>
                    </a:lnTo>
                    <a:lnTo>
                      <a:pt x="1987" y="2143"/>
                    </a:lnTo>
                    <a:lnTo>
                      <a:pt x="2002" y="2115"/>
                    </a:lnTo>
                    <a:lnTo>
                      <a:pt x="2014" y="2086"/>
                    </a:lnTo>
                    <a:lnTo>
                      <a:pt x="2027" y="2057"/>
                    </a:lnTo>
                    <a:lnTo>
                      <a:pt x="2038" y="2028"/>
                    </a:lnTo>
                    <a:lnTo>
                      <a:pt x="2049" y="1998"/>
                    </a:lnTo>
                    <a:lnTo>
                      <a:pt x="2060" y="1967"/>
                    </a:lnTo>
                    <a:lnTo>
                      <a:pt x="2070" y="1936"/>
                    </a:lnTo>
                    <a:lnTo>
                      <a:pt x="2079" y="1905"/>
                    </a:lnTo>
                    <a:lnTo>
                      <a:pt x="2088" y="1874"/>
                    </a:lnTo>
                    <a:lnTo>
                      <a:pt x="2096" y="1841"/>
                    </a:lnTo>
                    <a:lnTo>
                      <a:pt x="2103" y="1809"/>
                    </a:lnTo>
                    <a:lnTo>
                      <a:pt x="2109" y="1776"/>
                    </a:lnTo>
                    <a:lnTo>
                      <a:pt x="2116" y="1744"/>
                    </a:lnTo>
                    <a:lnTo>
                      <a:pt x="2120" y="1709"/>
                    </a:lnTo>
                    <a:lnTo>
                      <a:pt x="2120" y="1699"/>
                    </a:lnTo>
                    <a:lnTo>
                      <a:pt x="2120" y="1691"/>
                    </a:lnTo>
                    <a:lnTo>
                      <a:pt x="2120" y="1683"/>
                    </a:lnTo>
                    <a:lnTo>
                      <a:pt x="2120" y="1674"/>
                    </a:lnTo>
                    <a:lnTo>
                      <a:pt x="2120" y="1683"/>
                    </a:lnTo>
                    <a:lnTo>
                      <a:pt x="2120" y="1691"/>
                    </a:lnTo>
                    <a:lnTo>
                      <a:pt x="2120" y="1699"/>
                    </a:lnTo>
                    <a:lnTo>
                      <a:pt x="2120" y="1709"/>
                    </a:lnTo>
                    <a:lnTo>
                      <a:pt x="2140" y="1728"/>
                    </a:lnTo>
                    <a:lnTo>
                      <a:pt x="2160" y="1745"/>
                    </a:lnTo>
                    <a:lnTo>
                      <a:pt x="2183" y="1762"/>
                    </a:lnTo>
                    <a:lnTo>
                      <a:pt x="2206" y="1777"/>
                    </a:lnTo>
                    <a:lnTo>
                      <a:pt x="2209" y="1779"/>
                    </a:lnTo>
                    <a:lnTo>
                      <a:pt x="2212" y="1782"/>
                    </a:lnTo>
                    <a:lnTo>
                      <a:pt x="2217" y="1783"/>
                    </a:lnTo>
                    <a:lnTo>
                      <a:pt x="2220" y="1784"/>
                    </a:lnTo>
                    <a:lnTo>
                      <a:pt x="2229" y="1785"/>
                    </a:lnTo>
                    <a:lnTo>
                      <a:pt x="2238" y="1785"/>
                    </a:lnTo>
                    <a:lnTo>
                      <a:pt x="2244" y="1785"/>
                    </a:lnTo>
                    <a:lnTo>
                      <a:pt x="2249" y="1785"/>
                    </a:lnTo>
                    <a:lnTo>
                      <a:pt x="2259" y="1785"/>
                    </a:lnTo>
                    <a:lnTo>
                      <a:pt x="2270" y="1785"/>
                    </a:lnTo>
                    <a:lnTo>
                      <a:pt x="2280" y="1785"/>
                    </a:lnTo>
                    <a:lnTo>
                      <a:pt x="2291" y="1785"/>
                    </a:lnTo>
                    <a:lnTo>
                      <a:pt x="2297" y="1782"/>
                    </a:lnTo>
                    <a:lnTo>
                      <a:pt x="2301" y="1779"/>
                    </a:lnTo>
                    <a:lnTo>
                      <a:pt x="2306" y="1775"/>
                    </a:lnTo>
                    <a:lnTo>
                      <a:pt x="2309" y="1770"/>
                    </a:lnTo>
                    <a:lnTo>
                      <a:pt x="2315" y="1736"/>
                    </a:lnTo>
                    <a:lnTo>
                      <a:pt x="2320" y="1701"/>
                    </a:lnTo>
                    <a:lnTo>
                      <a:pt x="2325" y="1665"/>
                    </a:lnTo>
                    <a:lnTo>
                      <a:pt x="2330" y="1629"/>
                    </a:lnTo>
                    <a:lnTo>
                      <a:pt x="2307" y="1637"/>
                    </a:lnTo>
                    <a:lnTo>
                      <a:pt x="2283" y="1645"/>
                    </a:lnTo>
                    <a:lnTo>
                      <a:pt x="2260" y="1650"/>
                    </a:lnTo>
                    <a:lnTo>
                      <a:pt x="2235" y="1653"/>
                    </a:lnTo>
                    <a:lnTo>
                      <a:pt x="2208" y="1647"/>
                    </a:lnTo>
                    <a:lnTo>
                      <a:pt x="2184" y="1641"/>
                    </a:lnTo>
                    <a:lnTo>
                      <a:pt x="2160" y="1633"/>
                    </a:lnTo>
                    <a:lnTo>
                      <a:pt x="2138" y="1625"/>
                    </a:lnTo>
                    <a:lnTo>
                      <a:pt x="2115" y="1613"/>
                    </a:lnTo>
                    <a:lnTo>
                      <a:pt x="2094" y="1600"/>
                    </a:lnTo>
                    <a:lnTo>
                      <a:pt x="2073" y="1584"/>
                    </a:lnTo>
                    <a:lnTo>
                      <a:pt x="2054" y="1568"/>
                    </a:lnTo>
                    <a:lnTo>
                      <a:pt x="2036" y="1550"/>
                    </a:lnTo>
                    <a:lnTo>
                      <a:pt x="2021" y="1530"/>
                    </a:lnTo>
                    <a:lnTo>
                      <a:pt x="2005" y="1509"/>
                    </a:lnTo>
                    <a:lnTo>
                      <a:pt x="1992" y="1487"/>
                    </a:lnTo>
                    <a:lnTo>
                      <a:pt x="1981" y="1462"/>
                    </a:lnTo>
                    <a:lnTo>
                      <a:pt x="1970" y="1437"/>
                    </a:lnTo>
                    <a:lnTo>
                      <a:pt x="1961" y="1410"/>
                    </a:lnTo>
                    <a:lnTo>
                      <a:pt x="1953" y="1381"/>
                    </a:lnTo>
                    <a:lnTo>
                      <a:pt x="1946" y="1351"/>
                    </a:lnTo>
                    <a:lnTo>
                      <a:pt x="1942" y="1320"/>
                    </a:lnTo>
                    <a:lnTo>
                      <a:pt x="1938" y="1287"/>
                    </a:lnTo>
                    <a:lnTo>
                      <a:pt x="1936" y="1253"/>
                    </a:lnTo>
                    <a:lnTo>
                      <a:pt x="1938" y="1230"/>
                    </a:lnTo>
                    <a:lnTo>
                      <a:pt x="1942" y="1208"/>
                    </a:lnTo>
                    <a:lnTo>
                      <a:pt x="1945" y="1187"/>
                    </a:lnTo>
                    <a:lnTo>
                      <a:pt x="1951" y="1167"/>
                    </a:lnTo>
                    <a:lnTo>
                      <a:pt x="1945" y="1165"/>
                    </a:lnTo>
                    <a:lnTo>
                      <a:pt x="1940" y="1162"/>
                    </a:lnTo>
                    <a:lnTo>
                      <a:pt x="1935" y="1157"/>
                    </a:lnTo>
                    <a:lnTo>
                      <a:pt x="1931" y="1152"/>
                    </a:lnTo>
                    <a:lnTo>
                      <a:pt x="1926" y="1146"/>
                    </a:lnTo>
                    <a:lnTo>
                      <a:pt x="1923" y="1138"/>
                    </a:lnTo>
                    <a:lnTo>
                      <a:pt x="1918" y="1131"/>
                    </a:lnTo>
                    <a:lnTo>
                      <a:pt x="1915" y="1123"/>
                    </a:lnTo>
                    <a:lnTo>
                      <a:pt x="1909" y="1102"/>
                    </a:lnTo>
                    <a:lnTo>
                      <a:pt x="1903" y="1079"/>
                    </a:lnTo>
                    <a:lnTo>
                      <a:pt x="1899" y="1052"/>
                    </a:lnTo>
                    <a:lnTo>
                      <a:pt x="1894" y="1021"/>
                    </a:lnTo>
                    <a:lnTo>
                      <a:pt x="1892" y="986"/>
                    </a:lnTo>
                    <a:lnTo>
                      <a:pt x="1890" y="948"/>
                    </a:lnTo>
                    <a:lnTo>
                      <a:pt x="1889" y="907"/>
                    </a:lnTo>
                    <a:lnTo>
                      <a:pt x="1889" y="861"/>
                    </a:lnTo>
                    <a:lnTo>
                      <a:pt x="1890" y="812"/>
                    </a:lnTo>
                    <a:lnTo>
                      <a:pt x="1891" y="760"/>
                    </a:lnTo>
                    <a:lnTo>
                      <a:pt x="1893" y="705"/>
                    </a:lnTo>
                    <a:lnTo>
                      <a:pt x="1897" y="645"/>
                    </a:lnTo>
                    <a:lnTo>
                      <a:pt x="1884" y="638"/>
                    </a:lnTo>
                    <a:lnTo>
                      <a:pt x="1871" y="632"/>
                    </a:lnTo>
                    <a:lnTo>
                      <a:pt x="1859" y="623"/>
                    </a:lnTo>
                    <a:lnTo>
                      <a:pt x="1845" y="614"/>
                    </a:lnTo>
                    <a:lnTo>
                      <a:pt x="1833" y="605"/>
                    </a:lnTo>
                    <a:lnTo>
                      <a:pt x="1821" y="595"/>
                    </a:lnTo>
                    <a:lnTo>
                      <a:pt x="1810" y="584"/>
                    </a:lnTo>
                    <a:lnTo>
                      <a:pt x="1798" y="572"/>
                    </a:lnTo>
                    <a:lnTo>
                      <a:pt x="1786" y="560"/>
                    </a:lnTo>
                    <a:lnTo>
                      <a:pt x="1775" y="546"/>
                    </a:lnTo>
                    <a:lnTo>
                      <a:pt x="1764" y="533"/>
                    </a:lnTo>
                    <a:lnTo>
                      <a:pt x="1753" y="519"/>
                    </a:lnTo>
                    <a:lnTo>
                      <a:pt x="1743" y="503"/>
                    </a:lnTo>
                    <a:lnTo>
                      <a:pt x="1733" y="488"/>
                    </a:lnTo>
                    <a:lnTo>
                      <a:pt x="1722" y="471"/>
                    </a:lnTo>
                    <a:lnTo>
                      <a:pt x="1713" y="454"/>
                    </a:lnTo>
                    <a:lnTo>
                      <a:pt x="1693" y="418"/>
                    </a:lnTo>
                    <a:lnTo>
                      <a:pt x="1676" y="378"/>
                    </a:lnTo>
                    <a:lnTo>
                      <a:pt x="1658" y="337"/>
                    </a:lnTo>
                    <a:lnTo>
                      <a:pt x="1642" y="291"/>
                    </a:lnTo>
                    <a:lnTo>
                      <a:pt x="1627" y="244"/>
                    </a:lnTo>
                    <a:lnTo>
                      <a:pt x="1611" y="194"/>
                    </a:lnTo>
                    <a:lnTo>
                      <a:pt x="1598" y="140"/>
                    </a:lnTo>
                    <a:lnTo>
                      <a:pt x="1585" y="84"/>
                    </a:lnTo>
                    <a:lnTo>
                      <a:pt x="1585" y="82"/>
                    </a:lnTo>
                    <a:lnTo>
                      <a:pt x="1585" y="79"/>
                    </a:lnTo>
                    <a:lnTo>
                      <a:pt x="1586" y="76"/>
                    </a:lnTo>
                    <a:lnTo>
                      <a:pt x="1588" y="74"/>
                    </a:lnTo>
                    <a:lnTo>
                      <a:pt x="1588" y="67"/>
                    </a:lnTo>
                    <a:lnTo>
                      <a:pt x="1588" y="58"/>
                    </a:lnTo>
                    <a:lnTo>
                      <a:pt x="1588" y="47"/>
                    </a:lnTo>
                    <a:lnTo>
                      <a:pt x="1588" y="35"/>
                    </a:lnTo>
                    <a:lnTo>
                      <a:pt x="1590" y="22"/>
                    </a:lnTo>
                    <a:lnTo>
                      <a:pt x="1596" y="6"/>
                    </a:lnTo>
                    <a:lnTo>
                      <a:pt x="1546" y="0"/>
                    </a:lnTo>
                    <a:lnTo>
                      <a:pt x="1542" y="0"/>
                    </a:lnTo>
                    <a:lnTo>
                      <a:pt x="1528" y="10"/>
                    </a:lnTo>
                    <a:close/>
                    <a:moveTo>
                      <a:pt x="1333" y="1040"/>
                    </a:moveTo>
                    <a:lnTo>
                      <a:pt x="1293" y="1046"/>
                    </a:lnTo>
                    <a:lnTo>
                      <a:pt x="1253" y="1054"/>
                    </a:lnTo>
                    <a:lnTo>
                      <a:pt x="1214" y="1063"/>
                    </a:lnTo>
                    <a:lnTo>
                      <a:pt x="1175" y="1073"/>
                    </a:lnTo>
                    <a:lnTo>
                      <a:pt x="1137" y="1084"/>
                    </a:lnTo>
                    <a:lnTo>
                      <a:pt x="1100" y="1095"/>
                    </a:lnTo>
                    <a:lnTo>
                      <a:pt x="1063" y="1107"/>
                    </a:lnTo>
                    <a:lnTo>
                      <a:pt x="1027" y="1121"/>
                    </a:lnTo>
                    <a:lnTo>
                      <a:pt x="1025" y="1123"/>
                    </a:lnTo>
                    <a:lnTo>
                      <a:pt x="1023" y="1124"/>
                    </a:lnTo>
                    <a:lnTo>
                      <a:pt x="1022" y="1124"/>
                    </a:lnTo>
                    <a:lnTo>
                      <a:pt x="1020" y="1124"/>
                    </a:lnTo>
                    <a:lnTo>
                      <a:pt x="1011" y="1127"/>
                    </a:lnTo>
                    <a:lnTo>
                      <a:pt x="1002" y="1132"/>
                    </a:lnTo>
                    <a:lnTo>
                      <a:pt x="991" y="1135"/>
                    </a:lnTo>
                    <a:lnTo>
                      <a:pt x="981" y="1138"/>
                    </a:lnTo>
                    <a:lnTo>
                      <a:pt x="943" y="1157"/>
                    </a:lnTo>
                    <a:lnTo>
                      <a:pt x="907" y="1175"/>
                    </a:lnTo>
                    <a:lnTo>
                      <a:pt x="889" y="1185"/>
                    </a:lnTo>
                    <a:lnTo>
                      <a:pt x="870" y="1195"/>
                    </a:lnTo>
                    <a:lnTo>
                      <a:pt x="852" y="1205"/>
                    </a:lnTo>
                    <a:lnTo>
                      <a:pt x="836" y="1217"/>
                    </a:lnTo>
                    <a:lnTo>
                      <a:pt x="789" y="1171"/>
                    </a:lnTo>
                    <a:lnTo>
                      <a:pt x="811" y="1159"/>
                    </a:lnTo>
                    <a:lnTo>
                      <a:pt x="834" y="1149"/>
                    </a:lnTo>
                    <a:lnTo>
                      <a:pt x="856" y="1140"/>
                    </a:lnTo>
                    <a:lnTo>
                      <a:pt x="878" y="1128"/>
                    </a:lnTo>
                    <a:lnTo>
                      <a:pt x="899" y="1120"/>
                    </a:lnTo>
                    <a:lnTo>
                      <a:pt x="920" y="1110"/>
                    </a:lnTo>
                    <a:lnTo>
                      <a:pt x="942" y="1101"/>
                    </a:lnTo>
                    <a:lnTo>
                      <a:pt x="963" y="1093"/>
                    </a:lnTo>
                    <a:lnTo>
                      <a:pt x="1010" y="1073"/>
                    </a:lnTo>
                    <a:lnTo>
                      <a:pt x="1057" y="1055"/>
                    </a:lnTo>
                    <a:lnTo>
                      <a:pt x="1103" y="1040"/>
                    </a:lnTo>
                    <a:lnTo>
                      <a:pt x="1150" y="1025"/>
                    </a:lnTo>
                    <a:lnTo>
                      <a:pt x="1195" y="1012"/>
                    </a:lnTo>
                    <a:lnTo>
                      <a:pt x="1242" y="1000"/>
                    </a:lnTo>
                    <a:lnTo>
                      <a:pt x="1287" y="989"/>
                    </a:lnTo>
                    <a:lnTo>
                      <a:pt x="1333" y="979"/>
                    </a:lnTo>
                    <a:lnTo>
                      <a:pt x="1382" y="990"/>
                    </a:lnTo>
                    <a:lnTo>
                      <a:pt x="1430" y="1002"/>
                    </a:lnTo>
                    <a:lnTo>
                      <a:pt x="1479" y="1014"/>
                    </a:lnTo>
                    <a:lnTo>
                      <a:pt x="1528" y="1026"/>
                    </a:lnTo>
                    <a:lnTo>
                      <a:pt x="1577" y="1041"/>
                    </a:lnTo>
                    <a:lnTo>
                      <a:pt x="1625" y="1055"/>
                    </a:lnTo>
                    <a:lnTo>
                      <a:pt x="1674" y="1070"/>
                    </a:lnTo>
                    <a:lnTo>
                      <a:pt x="1723" y="1085"/>
                    </a:lnTo>
                    <a:lnTo>
                      <a:pt x="1333" y="1040"/>
                    </a:lnTo>
                    <a:close/>
                    <a:moveTo>
                      <a:pt x="1066" y="1238"/>
                    </a:moveTo>
                    <a:lnTo>
                      <a:pt x="1080" y="1235"/>
                    </a:lnTo>
                    <a:lnTo>
                      <a:pt x="1095" y="1230"/>
                    </a:lnTo>
                    <a:lnTo>
                      <a:pt x="1111" y="1227"/>
                    </a:lnTo>
                    <a:lnTo>
                      <a:pt x="1126" y="1224"/>
                    </a:lnTo>
                    <a:lnTo>
                      <a:pt x="1141" y="1222"/>
                    </a:lnTo>
                    <a:lnTo>
                      <a:pt x="1155" y="1220"/>
                    </a:lnTo>
                    <a:lnTo>
                      <a:pt x="1170" y="1220"/>
                    </a:lnTo>
                    <a:lnTo>
                      <a:pt x="1185" y="1220"/>
                    </a:lnTo>
                    <a:lnTo>
                      <a:pt x="1201" y="1222"/>
                    </a:lnTo>
                    <a:lnTo>
                      <a:pt x="1216" y="1223"/>
                    </a:lnTo>
                    <a:lnTo>
                      <a:pt x="1233" y="1225"/>
                    </a:lnTo>
                    <a:lnTo>
                      <a:pt x="1250" y="1227"/>
                    </a:lnTo>
                    <a:lnTo>
                      <a:pt x="1283" y="1234"/>
                    </a:lnTo>
                    <a:lnTo>
                      <a:pt x="1318" y="1244"/>
                    </a:lnTo>
                    <a:lnTo>
                      <a:pt x="1355" y="1255"/>
                    </a:lnTo>
                    <a:lnTo>
                      <a:pt x="1393" y="1270"/>
                    </a:lnTo>
                    <a:lnTo>
                      <a:pt x="1406" y="1274"/>
                    </a:lnTo>
                    <a:lnTo>
                      <a:pt x="1419" y="1277"/>
                    </a:lnTo>
                    <a:lnTo>
                      <a:pt x="1433" y="1283"/>
                    </a:lnTo>
                    <a:lnTo>
                      <a:pt x="1446" y="1288"/>
                    </a:lnTo>
                    <a:lnTo>
                      <a:pt x="1446" y="1288"/>
                    </a:lnTo>
                    <a:lnTo>
                      <a:pt x="1446" y="1291"/>
                    </a:lnTo>
                    <a:lnTo>
                      <a:pt x="1463" y="1287"/>
                    </a:lnTo>
                    <a:lnTo>
                      <a:pt x="1480" y="1283"/>
                    </a:lnTo>
                    <a:lnTo>
                      <a:pt x="1499" y="1277"/>
                    </a:lnTo>
                    <a:lnTo>
                      <a:pt x="1519" y="1271"/>
                    </a:lnTo>
                    <a:lnTo>
                      <a:pt x="1540" y="1265"/>
                    </a:lnTo>
                    <a:lnTo>
                      <a:pt x="1562" y="1257"/>
                    </a:lnTo>
                    <a:lnTo>
                      <a:pt x="1587" y="1248"/>
                    </a:lnTo>
                    <a:lnTo>
                      <a:pt x="1613" y="1238"/>
                    </a:lnTo>
                    <a:lnTo>
                      <a:pt x="1587" y="1248"/>
                    </a:lnTo>
                    <a:lnTo>
                      <a:pt x="1562" y="1257"/>
                    </a:lnTo>
                    <a:lnTo>
                      <a:pt x="1540" y="1265"/>
                    </a:lnTo>
                    <a:lnTo>
                      <a:pt x="1519" y="1271"/>
                    </a:lnTo>
                    <a:lnTo>
                      <a:pt x="1499" y="1277"/>
                    </a:lnTo>
                    <a:lnTo>
                      <a:pt x="1480" y="1283"/>
                    </a:lnTo>
                    <a:lnTo>
                      <a:pt x="1463" y="1287"/>
                    </a:lnTo>
                    <a:lnTo>
                      <a:pt x="1446" y="1291"/>
                    </a:lnTo>
                    <a:lnTo>
                      <a:pt x="1443" y="1291"/>
                    </a:lnTo>
                    <a:lnTo>
                      <a:pt x="1439" y="1291"/>
                    </a:lnTo>
                    <a:lnTo>
                      <a:pt x="1436" y="1291"/>
                    </a:lnTo>
                    <a:lnTo>
                      <a:pt x="1431" y="1293"/>
                    </a:lnTo>
                    <a:lnTo>
                      <a:pt x="1428" y="1295"/>
                    </a:lnTo>
                    <a:lnTo>
                      <a:pt x="1420" y="1298"/>
                    </a:lnTo>
                    <a:lnTo>
                      <a:pt x="1415" y="1303"/>
                    </a:lnTo>
                    <a:lnTo>
                      <a:pt x="1409" y="1307"/>
                    </a:lnTo>
                    <a:lnTo>
                      <a:pt x="1404" y="1312"/>
                    </a:lnTo>
                    <a:lnTo>
                      <a:pt x="1385" y="1327"/>
                    </a:lnTo>
                    <a:lnTo>
                      <a:pt x="1367" y="1341"/>
                    </a:lnTo>
                    <a:lnTo>
                      <a:pt x="1348" y="1354"/>
                    </a:lnTo>
                    <a:lnTo>
                      <a:pt x="1331" y="1365"/>
                    </a:lnTo>
                    <a:lnTo>
                      <a:pt x="1314" y="1376"/>
                    </a:lnTo>
                    <a:lnTo>
                      <a:pt x="1296" y="1385"/>
                    </a:lnTo>
                    <a:lnTo>
                      <a:pt x="1279" y="1393"/>
                    </a:lnTo>
                    <a:lnTo>
                      <a:pt x="1264" y="1400"/>
                    </a:lnTo>
                    <a:lnTo>
                      <a:pt x="1247" y="1407"/>
                    </a:lnTo>
                    <a:lnTo>
                      <a:pt x="1232" y="1411"/>
                    </a:lnTo>
                    <a:lnTo>
                      <a:pt x="1217" y="1416"/>
                    </a:lnTo>
                    <a:lnTo>
                      <a:pt x="1202" y="1418"/>
                    </a:lnTo>
                    <a:lnTo>
                      <a:pt x="1187" y="1420"/>
                    </a:lnTo>
                    <a:lnTo>
                      <a:pt x="1174" y="1421"/>
                    </a:lnTo>
                    <a:lnTo>
                      <a:pt x="1161" y="1420"/>
                    </a:lnTo>
                    <a:lnTo>
                      <a:pt x="1147" y="1419"/>
                    </a:lnTo>
                    <a:lnTo>
                      <a:pt x="1136" y="1417"/>
                    </a:lnTo>
                    <a:lnTo>
                      <a:pt x="1124" y="1416"/>
                    </a:lnTo>
                    <a:lnTo>
                      <a:pt x="1113" y="1415"/>
                    </a:lnTo>
                    <a:lnTo>
                      <a:pt x="1102" y="1412"/>
                    </a:lnTo>
                    <a:lnTo>
                      <a:pt x="1061" y="1412"/>
                    </a:lnTo>
                    <a:lnTo>
                      <a:pt x="1024" y="1413"/>
                    </a:lnTo>
                    <a:lnTo>
                      <a:pt x="1007" y="1415"/>
                    </a:lnTo>
                    <a:lnTo>
                      <a:pt x="990" y="1417"/>
                    </a:lnTo>
                    <a:lnTo>
                      <a:pt x="974" y="1419"/>
                    </a:lnTo>
                    <a:lnTo>
                      <a:pt x="960" y="1422"/>
                    </a:lnTo>
                    <a:lnTo>
                      <a:pt x="941" y="1427"/>
                    </a:lnTo>
                    <a:lnTo>
                      <a:pt x="927" y="1428"/>
                    </a:lnTo>
                    <a:lnTo>
                      <a:pt x="922" y="1429"/>
                    </a:lnTo>
                    <a:lnTo>
                      <a:pt x="918" y="1428"/>
                    </a:lnTo>
                    <a:lnTo>
                      <a:pt x="916" y="1427"/>
                    </a:lnTo>
                    <a:lnTo>
                      <a:pt x="913" y="1426"/>
                    </a:lnTo>
                    <a:lnTo>
                      <a:pt x="911" y="1424"/>
                    </a:lnTo>
                    <a:lnTo>
                      <a:pt x="909" y="1422"/>
                    </a:lnTo>
                    <a:lnTo>
                      <a:pt x="909" y="1420"/>
                    </a:lnTo>
                    <a:lnTo>
                      <a:pt x="908" y="1418"/>
                    </a:lnTo>
                    <a:lnTo>
                      <a:pt x="909" y="1410"/>
                    </a:lnTo>
                    <a:lnTo>
                      <a:pt x="913" y="1401"/>
                    </a:lnTo>
                    <a:lnTo>
                      <a:pt x="913" y="1401"/>
                    </a:lnTo>
                    <a:lnTo>
                      <a:pt x="917" y="1398"/>
                    </a:lnTo>
                    <a:lnTo>
                      <a:pt x="928" y="1387"/>
                    </a:lnTo>
                    <a:lnTo>
                      <a:pt x="938" y="1377"/>
                    </a:lnTo>
                    <a:lnTo>
                      <a:pt x="952" y="1361"/>
                    </a:lnTo>
                    <a:lnTo>
                      <a:pt x="966" y="1347"/>
                    </a:lnTo>
                    <a:lnTo>
                      <a:pt x="979" y="1335"/>
                    </a:lnTo>
                    <a:lnTo>
                      <a:pt x="993" y="1324"/>
                    </a:lnTo>
                    <a:lnTo>
                      <a:pt x="1008" y="1314"/>
                    </a:lnTo>
                    <a:lnTo>
                      <a:pt x="1021" y="1305"/>
                    </a:lnTo>
                    <a:lnTo>
                      <a:pt x="1035" y="1297"/>
                    </a:lnTo>
                    <a:lnTo>
                      <a:pt x="1049" y="1291"/>
                    </a:lnTo>
                    <a:lnTo>
                      <a:pt x="1049" y="1288"/>
                    </a:lnTo>
                    <a:lnTo>
                      <a:pt x="1049" y="1288"/>
                    </a:lnTo>
                    <a:lnTo>
                      <a:pt x="1066" y="1283"/>
                    </a:lnTo>
                    <a:lnTo>
                      <a:pt x="1084" y="1278"/>
                    </a:lnTo>
                    <a:lnTo>
                      <a:pt x="1101" y="1275"/>
                    </a:lnTo>
                    <a:lnTo>
                      <a:pt x="1120" y="1274"/>
                    </a:lnTo>
                    <a:lnTo>
                      <a:pt x="1197" y="1270"/>
                    </a:lnTo>
                    <a:lnTo>
                      <a:pt x="1205" y="1268"/>
                    </a:lnTo>
                    <a:lnTo>
                      <a:pt x="1212" y="1267"/>
                    </a:lnTo>
                    <a:lnTo>
                      <a:pt x="1217" y="1266"/>
                    </a:lnTo>
                    <a:lnTo>
                      <a:pt x="1223" y="1266"/>
                    </a:lnTo>
                    <a:lnTo>
                      <a:pt x="1250" y="1265"/>
                    </a:lnTo>
                    <a:lnTo>
                      <a:pt x="1275" y="1265"/>
                    </a:lnTo>
                    <a:lnTo>
                      <a:pt x="1298" y="1266"/>
                    </a:lnTo>
                    <a:lnTo>
                      <a:pt x="1321" y="1268"/>
                    </a:lnTo>
                    <a:lnTo>
                      <a:pt x="1341" y="1273"/>
                    </a:lnTo>
                    <a:lnTo>
                      <a:pt x="1358" y="1277"/>
                    </a:lnTo>
                    <a:lnTo>
                      <a:pt x="1375" y="1284"/>
                    </a:lnTo>
                    <a:lnTo>
                      <a:pt x="1389" y="1291"/>
                    </a:lnTo>
                    <a:lnTo>
                      <a:pt x="1396" y="1294"/>
                    </a:lnTo>
                    <a:lnTo>
                      <a:pt x="1405" y="1295"/>
                    </a:lnTo>
                    <a:lnTo>
                      <a:pt x="1416" y="1295"/>
                    </a:lnTo>
                    <a:lnTo>
                      <a:pt x="1428" y="1295"/>
                    </a:lnTo>
                    <a:lnTo>
                      <a:pt x="1431" y="1293"/>
                    </a:lnTo>
                    <a:lnTo>
                      <a:pt x="1436" y="1291"/>
                    </a:lnTo>
                    <a:lnTo>
                      <a:pt x="1439" y="1291"/>
                    </a:lnTo>
                    <a:lnTo>
                      <a:pt x="1443" y="1291"/>
                    </a:lnTo>
                    <a:lnTo>
                      <a:pt x="1446" y="1291"/>
                    </a:lnTo>
                    <a:lnTo>
                      <a:pt x="1446" y="1288"/>
                    </a:lnTo>
                    <a:lnTo>
                      <a:pt x="1446" y="1288"/>
                    </a:lnTo>
                    <a:lnTo>
                      <a:pt x="1433" y="1283"/>
                    </a:lnTo>
                    <a:lnTo>
                      <a:pt x="1419" y="1277"/>
                    </a:lnTo>
                    <a:lnTo>
                      <a:pt x="1406" y="1274"/>
                    </a:lnTo>
                    <a:lnTo>
                      <a:pt x="1393" y="1270"/>
                    </a:lnTo>
                    <a:lnTo>
                      <a:pt x="1355" y="1255"/>
                    </a:lnTo>
                    <a:lnTo>
                      <a:pt x="1318" y="1244"/>
                    </a:lnTo>
                    <a:lnTo>
                      <a:pt x="1283" y="1234"/>
                    </a:lnTo>
                    <a:lnTo>
                      <a:pt x="1250" y="1227"/>
                    </a:lnTo>
                    <a:lnTo>
                      <a:pt x="1233" y="1225"/>
                    </a:lnTo>
                    <a:lnTo>
                      <a:pt x="1216" y="1223"/>
                    </a:lnTo>
                    <a:lnTo>
                      <a:pt x="1201" y="1222"/>
                    </a:lnTo>
                    <a:lnTo>
                      <a:pt x="1185" y="1220"/>
                    </a:lnTo>
                    <a:lnTo>
                      <a:pt x="1170" y="1220"/>
                    </a:lnTo>
                    <a:lnTo>
                      <a:pt x="1155" y="1220"/>
                    </a:lnTo>
                    <a:lnTo>
                      <a:pt x="1141" y="1222"/>
                    </a:lnTo>
                    <a:lnTo>
                      <a:pt x="1126" y="1224"/>
                    </a:lnTo>
                    <a:lnTo>
                      <a:pt x="1111" y="1227"/>
                    </a:lnTo>
                    <a:lnTo>
                      <a:pt x="1095" y="1230"/>
                    </a:lnTo>
                    <a:lnTo>
                      <a:pt x="1080" y="1235"/>
                    </a:lnTo>
                    <a:lnTo>
                      <a:pt x="1066" y="1238"/>
                    </a:lnTo>
                    <a:lnTo>
                      <a:pt x="1057" y="1240"/>
                    </a:lnTo>
                    <a:lnTo>
                      <a:pt x="1047" y="1244"/>
                    </a:lnTo>
                    <a:lnTo>
                      <a:pt x="1039" y="1247"/>
                    </a:lnTo>
                    <a:lnTo>
                      <a:pt x="1031" y="1253"/>
                    </a:lnTo>
                    <a:lnTo>
                      <a:pt x="1013" y="1261"/>
                    </a:lnTo>
                    <a:lnTo>
                      <a:pt x="998" y="1271"/>
                    </a:lnTo>
                    <a:lnTo>
                      <a:pt x="983" y="1284"/>
                    </a:lnTo>
                    <a:lnTo>
                      <a:pt x="969" y="1297"/>
                    </a:lnTo>
                    <a:lnTo>
                      <a:pt x="956" y="1312"/>
                    </a:lnTo>
                    <a:lnTo>
                      <a:pt x="943" y="1328"/>
                    </a:lnTo>
                    <a:lnTo>
                      <a:pt x="931" y="1347"/>
                    </a:lnTo>
                    <a:lnTo>
                      <a:pt x="920" y="1366"/>
                    </a:lnTo>
                    <a:lnTo>
                      <a:pt x="931" y="1347"/>
                    </a:lnTo>
                    <a:lnTo>
                      <a:pt x="943" y="1328"/>
                    </a:lnTo>
                    <a:lnTo>
                      <a:pt x="956" y="1312"/>
                    </a:lnTo>
                    <a:lnTo>
                      <a:pt x="969" y="1297"/>
                    </a:lnTo>
                    <a:lnTo>
                      <a:pt x="983" y="1284"/>
                    </a:lnTo>
                    <a:lnTo>
                      <a:pt x="998" y="1271"/>
                    </a:lnTo>
                    <a:lnTo>
                      <a:pt x="1013" y="1261"/>
                    </a:lnTo>
                    <a:lnTo>
                      <a:pt x="1031" y="1253"/>
                    </a:lnTo>
                    <a:lnTo>
                      <a:pt x="1039" y="1247"/>
                    </a:lnTo>
                    <a:lnTo>
                      <a:pt x="1047" y="1244"/>
                    </a:lnTo>
                    <a:lnTo>
                      <a:pt x="1057" y="1240"/>
                    </a:lnTo>
                    <a:lnTo>
                      <a:pt x="1066" y="1238"/>
                    </a:lnTo>
                    <a:close/>
                    <a:moveTo>
                      <a:pt x="1170" y="2367"/>
                    </a:moveTo>
                    <a:lnTo>
                      <a:pt x="1170" y="2370"/>
                    </a:lnTo>
                    <a:lnTo>
                      <a:pt x="1135" y="2407"/>
                    </a:lnTo>
                    <a:lnTo>
                      <a:pt x="1102" y="2442"/>
                    </a:lnTo>
                    <a:lnTo>
                      <a:pt x="1069" y="2473"/>
                    </a:lnTo>
                    <a:lnTo>
                      <a:pt x="1037" y="2502"/>
                    </a:lnTo>
                    <a:lnTo>
                      <a:pt x="1004" y="2529"/>
                    </a:lnTo>
                    <a:lnTo>
                      <a:pt x="973" y="2552"/>
                    </a:lnTo>
                    <a:lnTo>
                      <a:pt x="942" y="2573"/>
                    </a:lnTo>
                    <a:lnTo>
                      <a:pt x="911" y="2592"/>
                    </a:lnTo>
                    <a:lnTo>
                      <a:pt x="896" y="2600"/>
                    </a:lnTo>
                    <a:lnTo>
                      <a:pt x="881" y="2608"/>
                    </a:lnTo>
                    <a:lnTo>
                      <a:pt x="866" y="2614"/>
                    </a:lnTo>
                    <a:lnTo>
                      <a:pt x="851" y="2620"/>
                    </a:lnTo>
                    <a:lnTo>
                      <a:pt x="837" y="2625"/>
                    </a:lnTo>
                    <a:lnTo>
                      <a:pt x="822" y="2630"/>
                    </a:lnTo>
                    <a:lnTo>
                      <a:pt x="807" y="2634"/>
                    </a:lnTo>
                    <a:lnTo>
                      <a:pt x="794" y="2638"/>
                    </a:lnTo>
                    <a:lnTo>
                      <a:pt x="779" y="2640"/>
                    </a:lnTo>
                    <a:lnTo>
                      <a:pt x="765" y="2642"/>
                    </a:lnTo>
                    <a:lnTo>
                      <a:pt x="750" y="2643"/>
                    </a:lnTo>
                    <a:lnTo>
                      <a:pt x="737" y="2644"/>
                    </a:lnTo>
                    <a:lnTo>
                      <a:pt x="723" y="2644"/>
                    </a:lnTo>
                    <a:lnTo>
                      <a:pt x="709" y="2643"/>
                    </a:lnTo>
                    <a:lnTo>
                      <a:pt x="696" y="2642"/>
                    </a:lnTo>
                    <a:lnTo>
                      <a:pt x="683" y="2640"/>
                    </a:lnTo>
                    <a:lnTo>
                      <a:pt x="670" y="2639"/>
                    </a:lnTo>
                    <a:lnTo>
                      <a:pt x="658" y="2636"/>
                    </a:lnTo>
                    <a:lnTo>
                      <a:pt x="638" y="2628"/>
                    </a:lnTo>
                    <a:lnTo>
                      <a:pt x="621" y="2619"/>
                    </a:lnTo>
                    <a:lnTo>
                      <a:pt x="604" y="2610"/>
                    </a:lnTo>
                    <a:lnTo>
                      <a:pt x="589" y="2599"/>
                    </a:lnTo>
                    <a:lnTo>
                      <a:pt x="575" y="2588"/>
                    </a:lnTo>
                    <a:lnTo>
                      <a:pt x="563" y="2577"/>
                    </a:lnTo>
                    <a:lnTo>
                      <a:pt x="553" y="2564"/>
                    </a:lnTo>
                    <a:lnTo>
                      <a:pt x="544" y="2551"/>
                    </a:lnTo>
                    <a:lnTo>
                      <a:pt x="537" y="2538"/>
                    </a:lnTo>
                    <a:lnTo>
                      <a:pt x="532" y="2523"/>
                    </a:lnTo>
                    <a:lnTo>
                      <a:pt x="527" y="2508"/>
                    </a:lnTo>
                    <a:lnTo>
                      <a:pt x="525" y="2492"/>
                    </a:lnTo>
                    <a:lnTo>
                      <a:pt x="525" y="2477"/>
                    </a:lnTo>
                    <a:lnTo>
                      <a:pt x="526" y="2459"/>
                    </a:lnTo>
                    <a:lnTo>
                      <a:pt x="528" y="2441"/>
                    </a:lnTo>
                    <a:lnTo>
                      <a:pt x="534" y="2424"/>
                    </a:lnTo>
                    <a:lnTo>
                      <a:pt x="513" y="2410"/>
                    </a:lnTo>
                    <a:lnTo>
                      <a:pt x="494" y="2397"/>
                    </a:lnTo>
                    <a:lnTo>
                      <a:pt x="475" y="2385"/>
                    </a:lnTo>
                    <a:lnTo>
                      <a:pt x="459" y="2374"/>
                    </a:lnTo>
                    <a:lnTo>
                      <a:pt x="442" y="2361"/>
                    </a:lnTo>
                    <a:lnTo>
                      <a:pt x="427" y="2349"/>
                    </a:lnTo>
                    <a:lnTo>
                      <a:pt x="415" y="2338"/>
                    </a:lnTo>
                    <a:lnTo>
                      <a:pt x="405" y="2327"/>
                    </a:lnTo>
                    <a:lnTo>
                      <a:pt x="405" y="2326"/>
                    </a:lnTo>
                    <a:lnTo>
                      <a:pt x="402" y="2324"/>
                    </a:lnTo>
                    <a:lnTo>
                      <a:pt x="402" y="2320"/>
                    </a:lnTo>
                    <a:lnTo>
                      <a:pt x="403" y="2320"/>
                    </a:lnTo>
                    <a:lnTo>
                      <a:pt x="405" y="2320"/>
                    </a:lnTo>
                    <a:lnTo>
                      <a:pt x="430" y="2330"/>
                    </a:lnTo>
                    <a:lnTo>
                      <a:pt x="453" y="2339"/>
                    </a:lnTo>
                    <a:lnTo>
                      <a:pt x="476" y="2347"/>
                    </a:lnTo>
                    <a:lnTo>
                      <a:pt x="498" y="2353"/>
                    </a:lnTo>
                    <a:lnTo>
                      <a:pt x="508" y="2353"/>
                    </a:lnTo>
                    <a:lnTo>
                      <a:pt x="520" y="2353"/>
                    </a:lnTo>
                    <a:lnTo>
                      <a:pt x="530" y="2353"/>
                    </a:lnTo>
                    <a:lnTo>
                      <a:pt x="541" y="2353"/>
                    </a:lnTo>
                    <a:lnTo>
                      <a:pt x="551" y="2350"/>
                    </a:lnTo>
                    <a:lnTo>
                      <a:pt x="562" y="2349"/>
                    </a:lnTo>
                    <a:lnTo>
                      <a:pt x="571" y="2350"/>
                    </a:lnTo>
                    <a:lnTo>
                      <a:pt x="579" y="2353"/>
                    </a:lnTo>
                    <a:lnTo>
                      <a:pt x="591" y="2364"/>
                    </a:lnTo>
                    <a:lnTo>
                      <a:pt x="601" y="2377"/>
                    </a:lnTo>
                    <a:lnTo>
                      <a:pt x="603" y="2381"/>
                    </a:lnTo>
                    <a:lnTo>
                      <a:pt x="606" y="2384"/>
                    </a:lnTo>
                    <a:lnTo>
                      <a:pt x="609" y="2386"/>
                    </a:lnTo>
                    <a:lnTo>
                      <a:pt x="614" y="2388"/>
                    </a:lnTo>
                    <a:lnTo>
                      <a:pt x="619" y="2389"/>
                    </a:lnTo>
                    <a:lnTo>
                      <a:pt x="625" y="2389"/>
                    </a:lnTo>
                    <a:lnTo>
                      <a:pt x="632" y="2389"/>
                    </a:lnTo>
                    <a:lnTo>
                      <a:pt x="638" y="2388"/>
                    </a:lnTo>
                    <a:lnTo>
                      <a:pt x="654" y="2384"/>
                    </a:lnTo>
                    <a:lnTo>
                      <a:pt x="673" y="2377"/>
                    </a:lnTo>
                    <a:lnTo>
                      <a:pt x="694" y="2368"/>
                    </a:lnTo>
                    <a:lnTo>
                      <a:pt x="718" y="2356"/>
                    </a:lnTo>
                    <a:lnTo>
                      <a:pt x="745" y="2350"/>
                    </a:lnTo>
                    <a:lnTo>
                      <a:pt x="771" y="2347"/>
                    </a:lnTo>
                    <a:lnTo>
                      <a:pt x="798" y="2345"/>
                    </a:lnTo>
                    <a:lnTo>
                      <a:pt x="825" y="2345"/>
                    </a:lnTo>
                    <a:lnTo>
                      <a:pt x="851" y="2348"/>
                    </a:lnTo>
                    <a:lnTo>
                      <a:pt x="878" y="2351"/>
                    </a:lnTo>
                    <a:lnTo>
                      <a:pt x="905" y="2358"/>
                    </a:lnTo>
                    <a:lnTo>
                      <a:pt x="931" y="2367"/>
                    </a:lnTo>
                    <a:lnTo>
                      <a:pt x="949" y="2374"/>
                    </a:lnTo>
                    <a:lnTo>
                      <a:pt x="966" y="2380"/>
                    </a:lnTo>
                    <a:lnTo>
                      <a:pt x="983" y="2385"/>
                    </a:lnTo>
                    <a:lnTo>
                      <a:pt x="1001" y="2387"/>
                    </a:lnTo>
                    <a:lnTo>
                      <a:pt x="1019" y="2388"/>
                    </a:lnTo>
                    <a:lnTo>
                      <a:pt x="1037" y="2388"/>
                    </a:lnTo>
                    <a:lnTo>
                      <a:pt x="1054" y="2385"/>
                    </a:lnTo>
                    <a:lnTo>
                      <a:pt x="1073" y="2380"/>
                    </a:lnTo>
                    <a:lnTo>
                      <a:pt x="1085" y="2376"/>
                    </a:lnTo>
                    <a:lnTo>
                      <a:pt x="1102" y="2368"/>
                    </a:lnTo>
                    <a:lnTo>
                      <a:pt x="1123" y="2358"/>
                    </a:lnTo>
                    <a:lnTo>
                      <a:pt x="1152" y="2345"/>
                    </a:lnTo>
                    <a:lnTo>
                      <a:pt x="1156" y="2354"/>
                    </a:lnTo>
                    <a:lnTo>
                      <a:pt x="1162" y="2359"/>
                    </a:lnTo>
                    <a:lnTo>
                      <a:pt x="1197" y="2374"/>
                    </a:lnTo>
                    <a:lnTo>
                      <a:pt x="1190" y="2374"/>
                    </a:lnTo>
                    <a:lnTo>
                      <a:pt x="1183" y="2371"/>
                    </a:lnTo>
                    <a:lnTo>
                      <a:pt x="1176" y="2369"/>
                    </a:lnTo>
                    <a:lnTo>
                      <a:pt x="1170" y="2367"/>
                    </a:lnTo>
                    <a:close/>
                    <a:moveTo>
                      <a:pt x="902" y="1469"/>
                    </a:moveTo>
                    <a:lnTo>
                      <a:pt x="913" y="1474"/>
                    </a:lnTo>
                    <a:lnTo>
                      <a:pt x="926" y="1480"/>
                    </a:lnTo>
                    <a:lnTo>
                      <a:pt x="939" y="1484"/>
                    </a:lnTo>
                    <a:lnTo>
                      <a:pt x="953" y="1489"/>
                    </a:lnTo>
                    <a:lnTo>
                      <a:pt x="969" y="1492"/>
                    </a:lnTo>
                    <a:lnTo>
                      <a:pt x="984" y="1497"/>
                    </a:lnTo>
                    <a:lnTo>
                      <a:pt x="1002" y="1499"/>
                    </a:lnTo>
                    <a:lnTo>
                      <a:pt x="1020" y="1501"/>
                    </a:lnTo>
                    <a:lnTo>
                      <a:pt x="1060" y="1505"/>
                    </a:lnTo>
                    <a:lnTo>
                      <a:pt x="1104" y="1508"/>
                    </a:lnTo>
                    <a:lnTo>
                      <a:pt x="1152" y="1509"/>
                    </a:lnTo>
                    <a:lnTo>
                      <a:pt x="1205" y="1508"/>
                    </a:lnTo>
                    <a:lnTo>
                      <a:pt x="1152" y="1509"/>
                    </a:lnTo>
                    <a:lnTo>
                      <a:pt x="1104" y="1508"/>
                    </a:lnTo>
                    <a:lnTo>
                      <a:pt x="1060" y="1505"/>
                    </a:lnTo>
                    <a:lnTo>
                      <a:pt x="1020" y="1501"/>
                    </a:lnTo>
                    <a:lnTo>
                      <a:pt x="1002" y="1499"/>
                    </a:lnTo>
                    <a:lnTo>
                      <a:pt x="984" y="1497"/>
                    </a:lnTo>
                    <a:lnTo>
                      <a:pt x="969" y="1492"/>
                    </a:lnTo>
                    <a:lnTo>
                      <a:pt x="953" y="1489"/>
                    </a:lnTo>
                    <a:lnTo>
                      <a:pt x="939" y="1484"/>
                    </a:lnTo>
                    <a:lnTo>
                      <a:pt x="926" y="1480"/>
                    </a:lnTo>
                    <a:lnTo>
                      <a:pt x="913" y="1474"/>
                    </a:lnTo>
                    <a:lnTo>
                      <a:pt x="902" y="1469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245"/>
              <p:cNvSpPr/>
              <p:nvPr/>
            </p:nvSpPr>
            <p:spPr>
              <a:xfrm>
                <a:off x="5920560" y="4647600"/>
                <a:ext cx="96840" cy="19800"/>
              </a:xfrm>
              <a:custGeom>
                <a:avLst/>
                <a:gdLst/>
                <a:ahLst/>
                <a:rect l="l" t="t" r="r" b="b"/>
                <a:pathLst>
                  <a:path w="934" h="238">
                    <a:moveTo>
                      <a:pt x="238" y="142"/>
                    </a:moveTo>
                    <a:lnTo>
                      <a:pt x="274" y="128"/>
                    </a:lnTo>
                    <a:lnTo>
                      <a:pt x="311" y="116"/>
                    </a:lnTo>
                    <a:lnTo>
                      <a:pt x="348" y="105"/>
                    </a:lnTo>
                    <a:lnTo>
                      <a:pt x="386" y="94"/>
                    </a:lnTo>
                    <a:lnTo>
                      <a:pt x="425" y="84"/>
                    </a:lnTo>
                    <a:lnTo>
                      <a:pt x="464" y="75"/>
                    </a:lnTo>
                    <a:lnTo>
                      <a:pt x="504" y="67"/>
                    </a:lnTo>
                    <a:lnTo>
                      <a:pt x="544" y="61"/>
                    </a:lnTo>
                    <a:lnTo>
                      <a:pt x="934" y="106"/>
                    </a:lnTo>
                    <a:lnTo>
                      <a:pt x="885" y="91"/>
                    </a:lnTo>
                    <a:lnTo>
                      <a:pt x="836" y="76"/>
                    </a:lnTo>
                    <a:lnTo>
                      <a:pt x="788" y="62"/>
                    </a:lnTo>
                    <a:lnTo>
                      <a:pt x="739" y="47"/>
                    </a:lnTo>
                    <a:lnTo>
                      <a:pt x="690" y="35"/>
                    </a:lnTo>
                    <a:lnTo>
                      <a:pt x="641" y="23"/>
                    </a:lnTo>
                    <a:lnTo>
                      <a:pt x="593" y="11"/>
                    </a:lnTo>
                    <a:lnTo>
                      <a:pt x="544" y="0"/>
                    </a:lnTo>
                    <a:lnTo>
                      <a:pt x="498" y="10"/>
                    </a:lnTo>
                    <a:lnTo>
                      <a:pt x="453" y="21"/>
                    </a:lnTo>
                    <a:lnTo>
                      <a:pt x="406" y="33"/>
                    </a:lnTo>
                    <a:lnTo>
                      <a:pt x="361" y="46"/>
                    </a:lnTo>
                    <a:lnTo>
                      <a:pt x="314" y="61"/>
                    </a:lnTo>
                    <a:lnTo>
                      <a:pt x="268" y="76"/>
                    </a:lnTo>
                    <a:lnTo>
                      <a:pt x="221" y="94"/>
                    </a:lnTo>
                    <a:lnTo>
                      <a:pt x="174" y="114"/>
                    </a:lnTo>
                    <a:lnTo>
                      <a:pt x="153" y="122"/>
                    </a:lnTo>
                    <a:lnTo>
                      <a:pt x="131" y="131"/>
                    </a:lnTo>
                    <a:lnTo>
                      <a:pt x="110" y="141"/>
                    </a:lnTo>
                    <a:lnTo>
                      <a:pt x="89" y="149"/>
                    </a:lnTo>
                    <a:lnTo>
                      <a:pt x="67" y="161"/>
                    </a:lnTo>
                    <a:lnTo>
                      <a:pt x="45" y="170"/>
                    </a:lnTo>
                    <a:lnTo>
                      <a:pt x="22" y="180"/>
                    </a:lnTo>
                    <a:lnTo>
                      <a:pt x="0" y="192"/>
                    </a:lnTo>
                    <a:lnTo>
                      <a:pt x="47" y="238"/>
                    </a:lnTo>
                    <a:lnTo>
                      <a:pt x="63" y="226"/>
                    </a:lnTo>
                    <a:lnTo>
                      <a:pt x="81" y="216"/>
                    </a:lnTo>
                    <a:lnTo>
                      <a:pt x="100" y="206"/>
                    </a:lnTo>
                    <a:lnTo>
                      <a:pt x="118" y="196"/>
                    </a:lnTo>
                    <a:lnTo>
                      <a:pt x="154" y="178"/>
                    </a:lnTo>
                    <a:lnTo>
                      <a:pt x="192" y="159"/>
                    </a:lnTo>
                    <a:lnTo>
                      <a:pt x="202" y="156"/>
                    </a:lnTo>
                    <a:lnTo>
                      <a:pt x="213" y="153"/>
                    </a:lnTo>
                    <a:lnTo>
                      <a:pt x="222" y="148"/>
                    </a:lnTo>
                    <a:lnTo>
                      <a:pt x="231" y="145"/>
                    </a:lnTo>
                    <a:lnTo>
                      <a:pt x="233" y="145"/>
                    </a:lnTo>
                    <a:lnTo>
                      <a:pt x="234" y="145"/>
                    </a:lnTo>
                    <a:lnTo>
                      <a:pt x="236" y="144"/>
                    </a:lnTo>
                    <a:lnTo>
                      <a:pt x="238" y="142"/>
                    </a:lnTo>
                    <a:close/>
                  </a:path>
                </a:pathLst>
              </a:custGeom>
              <a:solidFill>
                <a:srgbClr val="6f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246"/>
              <p:cNvSpPr/>
              <p:nvPr/>
            </p:nvSpPr>
            <p:spPr>
              <a:xfrm>
                <a:off x="5932800" y="4671360"/>
                <a:ext cx="54000" cy="13320"/>
              </a:xfrm>
              <a:custGeom>
                <a:avLst/>
                <a:gdLst/>
                <a:ahLst/>
                <a:rect l="l" t="t" r="r" b="b"/>
                <a:pathLst>
                  <a:path w="520" h="164">
                    <a:moveTo>
                      <a:pt x="315" y="1"/>
                    </a:moveTo>
                    <a:lnTo>
                      <a:pt x="309" y="1"/>
                    </a:lnTo>
                    <a:lnTo>
                      <a:pt x="304" y="2"/>
                    </a:lnTo>
                    <a:lnTo>
                      <a:pt x="297" y="3"/>
                    </a:lnTo>
                    <a:lnTo>
                      <a:pt x="289" y="5"/>
                    </a:lnTo>
                    <a:lnTo>
                      <a:pt x="315" y="5"/>
                    </a:lnTo>
                    <a:lnTo>
                      <a:pt x="318" y="10"/>
                    </a:lnTo>
                    <a:lnTo>
                      <a:pt x="322" y="14"/>
                    </a:lnTo>
                    <a:lnTo>
                      <a:pt x="325" y="21"/>
                    </a:lnTo>
                    <a:lnTo>
                      <a:pt x="327" y="28"/>
                    </a:lnTo>
                    <a:lnTo>
                      <a:pt x="329" y="35"/>
                    </a:lnTo>
                    <a:lnTo>
                      <a:pt x="330" y="42"/>
                    </a:lnTo>
                    <a:lnTo>
                      <a:pt x="332" y="50"/>
                    </a:lnTo>
                    <a:lnTo>
                      <a:pt x="333" y="59"/>
                    </a:lnTo>
                    <a:lnTo>
                      <a:pt x="333" y="62"/>
                    </a:lnTo>
                    <a:lnTo>
                      <a:pt x="328" y="76"/>
                    </a:lnTo>
                    <a:lnTo>
                      <a:pt x="324" y="89"/>
                    </a:lnTo>
                    <a:lnTo>
                      <a:pt x="320" y="95"/>
                    </a:lnTo>
                    <a:lnTo>
                      <a:pt x="317" y="101"/>
                    </a:lnTo>
                    <a:lnTo>
                      <a:pt x="314" y="106"/>
                    </a:lnTo>
                    <a:lnTo>
                      <a:pt x="309" y="111"/>
                    </a:lnTo>
                    <a:lnTo>
                      <a:pt x="304" y="115"/>
                    </a:lnTo>
                    <a:lnTo>
                      <a:pt x="298" y="120"/>
                    </a:lnTo>
                    <a:lnTo>
                      <a:pt x="293" y="124"/>
                    </a:lnTo>
                    <a:lnTo>
                      <a:pt x="286" y="127"/>
                    </a:lnTo>
                    <a:lnTo>
                      <a:pt x="279" y="130"/>
                    </a:lnTo>
                    <a:lnTo>
                      <a:pt x="272" y="133"/>
                    </a:lnTo>
                    <a:lnTo>
                      <a:pt x="263" y="135"/>
                    </a:lnTo>
                    <a:lnTo>
                      <a:pt x="254" y="136"/>
                    </a:lnTo>
                    <a:lnTo>
                      <a:pt x="251" y="138"/>
                    </a:lnTo>
                    <a:lnTo>
                      <a:pt x="246" y="140"/>
                    </a:lnTo>
                    <a:lnTo>
                      <a:pt x="242" y="140"/>
                    </a:lnTo>
                    <a:lnTo>
                      <a:pt x="236" y="140"/>
                    </a:lnTo>
                    <a:lnTo>
                      <a:pt x="224" y="142"/>
                    </a:lnTo>
                    <a:lnTo>
                      <a:pt x="214" y="141"/>
                    </a:lnTo>
                    <a:lnTo>
                      <a:pt x="204" y="141"/>
                    </a:lnTo>
                    <a:lnTo>
                      <a:pt x="194" y="140"/>
                    </a:lnTo>
                    <a:lnTo>
                      <a:pt x="185" y="138"/>
                    </a:lnTo>
                    <a:lnTo>
                      <a:pt x="176" y="135"/>
                    </a:lnTo>
                    <a:lnTo>
                      <a:pt x="170" y="133"/>
                    </a:lnTo>
                    <a:lnTo>
                      <a:pt x="162" y="128"/>
                    </a:lnTo>
                    <a:lnTo>
                      <a:pt x="156" y="124"/>
                    </a:lnTo>
                    <a:lnTo>
                      <a:pt x="151" y="118"/>
                    </a:lnTo>
                    <a:lnTo>
                      <a:pt x="146" y="113"/>
                    </a:lnTo>
                    <a:lnTo>
                      <a:pt x="143" y="105"/>
                    </a:lnTo>
                    <a:lnTo>
                      <a:pt x="140" y="98"/>
                    </a:lnTo>
                    <a:lnTo>
                      <a:pt x="137" y="90"/>
                    </a:lnTo>
                    <a:lnTo>
                      <a:pt x="136" y="81"/>
                    </a:lnTo>
                    <a:lnTo>
                      <a:pt x="135" y="72"/>
                    </a:lnTo>
                    <a:lnTo>
                      <a:pt x="135" y="61"/>
                    </a:lnTo>
                    <a:lnTo>
                      <a:pt x="136" y="50"/>
                    </a:lnTo>
                    <a:lnTo>
                      <a:pt x="139" y="39"/>
                    </a:lnTo>
                    <a:lnTo>
                      <a:pt x="141" y="26"/>
                    </a:lnTo>
                    <a:lnTo>
                      <a:pt x="127" y="32"/>
                    </a:lnTo>
                    <a:lnTo>
                      <a:pt x="113" y="40"/>
                    </a:lnTo>
                    <a:lnTo>
                      <a:pt x="100" y="49"/>
                    </a:lnTo>
                    <a:lnTo>
                      <a:pt x="85" y="59"/>
                    </a:lnTo>
                    <a:lnTo>
                      <a:pt x="71" y="70"/>
                    </a:lnTo>
                    <a:lnTo>
                      <a:pt x="58" y="82"/>
                    </a:lnTo>
                    <a:lnTo>
                      <a:pt x="44" y="96"/>
                    </a:lnTo>
                    <a:lnTo>
                      <a:pt x="30" y="112"/>
                    </a:lnTo>
                    <a:lnTo>
                      <a:pt x="20" y="122"/>
                    </a:lnTo>
                    <a:lnTo>
                      <a:pt x="9" y="133"/>
                    </a:lnTo>
                    <a:lnTo>
                      <a:pt x="5" y="136"/>
                    </a:lnTo>
                    <a:lnTo>
                      <a:pt x="5" y="136"/>
                    </a:lnTo>
                    <a:lnTo>
                      <a:pt x="1" y="145"/>
                    </a:lnTo>
                    <a:lnTo>
                      <a:pt x="0" y="153"/>
                    </a:lnTo>
                    <a:lnTo>
                      <a:pt x="1" y="155"/>
                    </a:lnTo>
                    <a:lnTo>
                      <a:pt x="1" y="157"/>
                    </a:lnTo>
                    <a:lnTo>
                      <a:pt x="3" y="159"/>
                    </a:lnTo>
                    <a:lnTo>
                      <a:pt x="5" y="161"/>
                    </a:lnTo>
                    <a:lnTo>
                      <a:pt x="8" y="162"/>
                    </a:lnTo>
                    <a:lnTo>
                      <a:pt x="10" y="163"/>
                    </a:lnTo>
                    <a:lnTo>
                      <a:pt x="14" y="164"/>
                    </a:lnTo>
                    <a:lnTo>
                      <a:pt x="19" y="163"/>
                    </a:lnTo>
                    <a:lnTo>
                      <a:pt x="33" y="162"/>
                    </a:lnTo>
                    <a:lnTo>
                      <a:pt x="52" y="157"/>
                    </a:lnTo>
                    <a:lnTo>
                      <a:pt x="66" y="154"/>
                    </a:lnTo>
                    <a:lnTo>
                      <a:pt x="82" y="152"/>
                    </a:lnTo>
                    <a:lnTo>
                      <a:pt x="99" y="150"/>
                    </a:lnTo>
                    <a:lnTo>
                      <a:pt x="116" y="148"/>
                    </a:lnTo>
                    <a:lnTo>
                      <a:pt x="153" y="147"/>
                    </a:lnTo>
                    <a:lnTo>
                      <a:pt x="194" y="147"/>
                    </a:lnTo>
                    <a:lnTo>
                      <a:pt x="205" y="150"/>
                    </a:lnTo>
                    <a:lnTo>
                      <a:pt x="216" y="151"/>
                    </a:lnTo>
                    <a:lnTo>
                      <a:pt x="228" y="152"/>
                    </a:lnTo>
                    <a:lnTo>
                      <a:pt x="239" y="154"/>
                    </a:lnTo>
                    <a:lnTo>
                      <a:pt x="253" y="155"/>
                    </a:lnTo>
                    <a:lnTo>
                      <a:pt x="266" y="156"/>
                    </a:lnTo>
                    <a:lnTo>
                      <a:pt x="279" y="155"/>
                    </a:lnTo>
                    <a:lnTo>
                      <a:pt x="294" y="153"/>
                    </a:lnTo>
                    <a:lnTo>
                      <a:pt x="309" y="151"/>
                    </a:lnTo>
                    <a:lnTo>
                      <a:pt x="324" y="146"/>
                    </a:lnTo>
                    <a:lnTo>
                      <a:pt x="339" y="142"/>
                    </a:lnTo>
                    <a:lnTo>
                      <a:pt x="356" y="135"/>
                    </a:lnTo>
                    <a:lnTo>
                      <a:pt x="371" y="128"/>
                    </a:lnTo>
                    <a:lnTo>
                      <a:pt x="388" y="120"/>
                    </a:lnTo>
                    <a:lnTo>
                      <a:pt x="406" y="111"/>
                    </a:lnTo>
                    <a:lnTo>
                      <a:pt x="423" y="100"/>
                    </a:lnTo>
                    <a:lnTo>
                      <a:pt x="440" y="89"/>
                    </a:lnTo>
                    <a:lnTo>
                      <a:pt x="459" y="76"/>
                    </a:lnTo>
                    <a:lnTo>
                      <a:pt x="477" y="62"/>
                    </a:lnTo>
                    <a:lnTo>
                      <a:pt x="496" y="47"/>
                    </a:lnTo>
                    <a:lnTo>
                      <a:pt x="501" y="42"/>
                    </a:lnTo>
                    <a:lnTo>
                      <a:pt x="507" y="38"/>
                    </a:lnTo>
                    <a:lnTo>
                      <a:pt x="512" y="33"/>
                    </a:lnTo>
                    <a:lnTo>
                      <a:pt x="520" y="30"/>
                    </a:lnTo>
                    <a:lnTo>
                      <a:pt x="508" y="30"/>
                    </a:lnTo>
                    <a:lnTo>
                      <a:pt x="497" y="30"/>
                    </a:lnTo>
                    <a:lnTo>
                      <a:pt x="488" y="29"/>
                    </a:lnTo>
                    <a:lnTo>
                      <a:pt x="481" y="26"/>
                    </a:lnTo>
                    <a:lnTo>
                      <a:pt x="467" y="19"/>
                    </a:lnTo>
                    <a:lnTo>
                      <a:pt x="450" y="12"/>
                    </a:lnTo>
                    <a:lnTo>
                      <a:pt x="433" y="8"/>
                    </a:lnTo>
                    <a:lnTo>
                      <a:pt x="413" y="3"/>
                    </a:lnTo>
                    <a:lnTo>
                      <a:pt x="390" y="1"/>
                    </a:lnTo>
                    <a:lnTo>
                      <a:pt x="367" y="0"/>
                    </a:lnTo>
                    <a:lnTo>
                      <a:pt x="342" y="0"/>
                    </a:lnTo>
                    <a:lnTo>
                      <a:pt x="31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247"/>
              <p:cNvSpPr/>
              <p:nvPr/>
            </p:nvSpPr>
            <p:spPr>
              <a:xfrm>
                <a:off x="5946840" y="46724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0" y="0"/>
                    </a:moveTo>
                    <a:lnTo>
                      <a:pt x="154" y="0"/>
                    </a:lnTo>
                    <a:lnTo>
                      <a:pt x="83" y="4"/>
                    </a:lnTo>
                    <a:lnTo>
                      <a:pt x="65" y="6"/>
                    </a:lnTo>
                    <a:lnTo>
                      <a:pt x="45" y="9"/>
                    </a:lnTo>
                    <a:lnTo>
                      <a:pt x="25" y="15"/>
                    </a:lnTo>
                    <a:lnTo>
                      <a:pt x="6" y="21"/>
                    </a:lnTo>
                    <a:lnTo>
                      <a:pt x="4" y="34"/>
                    </a:lnTo>
                    <a:lnTo>
                      <a:pt x="1" y="45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1" y="76"/>
                    </a:lnTo>
                    <a:lnTo>
                      <a:pt x="2" y="85"/>
                    </a:lnTo>
                    <a:lnTo>
                      <a:pt x="5" y="93"/>
                    </a:lnTo>
                    <a:lnTo>
                      <a:pt x="8" y="100"/>
                    </a:lnTo>
                    <a:lnTo>
                      <a:pt x="11" y="108"/>
                    </a:lnTo>
                    <a:lnTo>
                      <a:pt x="16" y="113"/>
                    </a:lnTo>
                    <a:lnTo>
                      <a:pt x="21" y="119"/>
                    </a:lnTo>
                    <a:lnTo>
                      <a:pt x="27" y="123"/>
                    </a:lnTo>
                    <a:lnTo>
                      <a:pt x="35" y="128"/>
                    </a:lnTo>
                    <a:lnTo>
                      <a:pt x="41" y="130"/>
                    </a:lnTo>
                    <a:lnTo>
                      <a:pt x="50" y="133"/>
                    </a:lnTo>
                    <a:lnTo>
                      <a:pt x="59" y="135"/>
                    </a:lnTo>
                    <a:lnTo>
                      <a:pt x="69" y="136"/>
                    </a:lnTo>
                    <a:lnTo>
                      <a:pt x="79" y="136"/>
                    </a:lnTo>
                    <a:lnTo>
                      <a:pt x="89" y="137"/>
                    </a:lnTo>
                    <a:lnTo>
                      <a:pt x="101" y="135"/>
                    </a:lnTo>
                    <a:lnTo>
                      <a:pt x="107" y="135"/>
                    </a:lnTo>
                    <a:lnTo>
                      <a:pt x="111" y="135"/>
                    </a:lnTo>
                    <a:lnTo>
                      <a:pt x="116" y="133"/>
                    </a:lnTo>
                    <a:lnTo>
                      <a:pt x="119" y="131"/>
                    </a:lnTo>
                    <a:lnTo>
                      <a:pt x="128" y="130"/>
                    </a:lnTo>
                    <a:lnTo>
                      <a:pt x="137" y="128"/>
                    </a:lnTo>
                    <a:lnTo>
                      <a:pt x="144" y="125"/>
                    </a:lnTo>
                    <a:lnTo>
                      <a:pt x="151" y="122"/>
                    </a:lnTo>
                    <a:lnTo>
                      <a:pt x="158" y="119"/>
                    </a:lnTo>
                    <a:lnTo>
                      <a:pt x="163" y="115"/>
                    </a:lnTo>
                    <a:lnTo>
                      <a:pt x="169" y="110"/>
                    </a:lnTo>
                    <a:lnTo>
                      <a:pt x="174" y="106"/>
                    </a:lnTo>
                    <a:lnTo>
                      <a:pt x="179" y="101"/>
                    </a:lnTo>
                    <a:lnTo>
                      <a:pt x="182" y="96"/>
                    </a:lnTo>
                    <a:lnTo>
                      <a:pt x="185" y="90"/>
                    </a:lnTo>
                    <a:lnTo>
                      <a:pt x="189" y="84"/>
                    </a:lnTo>
                    <a:lnTo>
                      <a:pt x="193" y="71"/>
                    </a:lnTo>
                    <a:lnTo>
                      <a:pt x="198" y="57"/>
                    </a:lnTo>
                    <a:lnTo>
                      <a:pt x="198" y="54"/>
                    </a:lnTo>
                    <a:lnTo>
                      <a:pt x="197" y="45"/>
                    </a:lnTo>
                    <a:lnTo>
                      <a:pt x="195" y="37"/>
                    </a:lnTo>
                    <a:lnTo>
                      <a:pt x="194" y="30"/>
                    </a:lnTo>
                    <a:lnTo>
                      <a:pt x="192" y="23"/>
                    </a:lnTo>
                    <a:lnTo>
                      <a:pt x="190" y="16"/>
                    </a:lnTo>
                    <a:lnTo>
                      <a:pt x="187" y="9"/>
                    </a:lnTo>
                    <a:lnTo>
                      <a:pt x="183" y="5"/>
                    </a:lnTo>
                    <a:lnTo>
                      <a:pt x="180" y="0"/>
                    </a:lnTo>
                    <a:close/>
                    <a:moveTo>
                      <a:pt x="45" y="21"/>
                    </a:moveTo>
                    <a:lnTo>
                      <a:pt x="50" y="19"/>
                    </a:lnTo>
                    <a:lnTo>
                      <a:pt x="57" y="18"/>
                    </a:lnTo>
                    <a:lnTo>
                      <a:pt x="63" y="18"/>
                    </a:lnTo>
                    <a:lnTo>
                      <a:pt x="69" y="18"/>
                    </a:lnTo>
                    <a:lnTo>
                      <a:pt x="77" y="18"/>
                    </a:lnTo>
                    <a:lnTo>
                      <a:pt x="83" y="18"/>
                    </a:lnTo>
                    <a:lnTo>
                      <a:pt x="89" y="19"/>
                    </a:lnTo>
                    <a:lnTo>
                      <a:pt x="94" y="21"/>
                    </a:lnTo>
                    <a:lnTo>
                      <a:pt x="99" y="31"/>
                    </a:lnTo>
                    <a:lnTo>
                      <a:pt x="101" y="39"/>
                    </a:lnTo>
                    <a:lnTo>
                      <a:pt x="109" y="39"/>
                    </a:lnTo>
                    <a:lnTo>
                      <a:pt x="116" y="41"/>
                    </a:lnTo>
                    <a:lnTo>
                      <a:pt x="122" y="44"/>
                    </a:lnTo>
                    <a:lnTo>
                      <a:pt x="130" y="46"/>
                    </a:lnTo>
                    <a:lnTo>
                      <a:pt x="133" y="51"/>
                    </a:lnTo>
                    <a:lnTo>
                      <a:pt x="136" y="57"/>
                    </a:lnTo>
                    <a:lnTo>
                      <a:pt x="137" y="64"/>
                    </a:lnTo>
                    <a:lnTo>
                      <a:pt x="137" y="71"/>
                    </a:lnTo>
                    <a:lnTo>
                      <a:pt x="137" y="76"/>
                    </a:lnTo>
                    <a:lnTo>
                      <a:pt x="136" y="81"/>
                    </a:lnTo>
                    <a:lnTo>
                      <a:pt x="133" y="86"/>
                    </a:lnTo>
                    <a:lnTo>
                      <a:pt x="130" y="89"/>
                    </a:lnTo>
                    <a:lnTo>
                      <a:pt x="122" y="93"/>
                    </a:lnTo>
                    <a:lnTo>
                      <a:pt x="116" y="97"/>
                    </a:lnTo>
                    <a:lnTo>
                      <a:pt x="109" y="99"/>
                    </a:lnTo>
                    <a:lnTo>
                      <a:pt x="101" y="99"/>
                    </a:lnTo>
                    <a:lnTo>
                      <a:pt x="96" y="99"/>
                    </a:lnTo>
                    <a:lnTo>
                      <a:pt x="89" y="97"/>
                    </a:lnTo>
                    <a:lnTo>
                      <a:pt x="83" y="93"/>
                    </a:lnTo>
                    <a:lnTo>
                      <a:pt x="80" y="89"/>
                    </a:lnTo>
                    <a:lnTo>
                      <a:pt x="75" y="86"/>
                    </a:lnTo>
                    <a:lnTo>
                      <a:pt x="70" y="81"/>
                    </a:lnTo>
                    <a:lnTo>
                      <a:pt x="67" y="76"/>
                    </a:lnTo>
                    <a:lnTo>
                      <a:pt x="66" y="71"/>
                    </a:lnTo>
                    <a:lnTo>
                      <a:pt x="66" y="67"/>
                    </a:lnTo>
                    <a:lnTo>
                      <a:pt x="66" y="64"/>
                    </a:lnTo>
                    <a:lnTo>
                      <a:pt x="60" y="64"/>
                    </a:lnTo>
                    <a:lnTo>
                      <a:pt x="55" y="62"/>
                    </a:lnTo>
                    <a:lnTo>
                      <a:pt x="50" y="61"/>
                    </a:lnTo>
                    <a:lnTo>
                      <a:pt x="45" y="57"/>
                    </a:lnTo>
                    <a:lnTo>
                      <a:pt x="42" y="54"/>
                    </a:lnTo>
                    <a:lnTo>
                      <a:pt x="39" y="49"/>
                    </a:lnTo>
                    <a:lnTo>
                      <a:pt x="38" y="45"/>
                    </a:lnTo>
                    <a:lnTo>
                      <a:pt x="37" y="39"/>
                    </a:lnTo>
                    <a:lnTo>
                      <a:pt x="39" y="3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6f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248"/>
              <p:cNvSpPr/>
              <p:nvPr/>
            </p:nvSpPr>
            <p:spPr>
              <a:xfrm>
                <a:off x="5950800" y="467316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32" y="0"/>
                    </a:moveTo>
                    <a:lnTo>
                      <a:pt x="26" y="0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8" y="3"/>
                    </a:lnTo>
                    <a:lnTo>
                      <a:pt x="2" y="13"/>
                    </a:lnTo>
                    <a:lnTo>
                      <a:pt x="0" y="21"/>
                    </a:lnTo>
                    <a:lnTo>
                      <a:pt x="1" y="27"/>
                    </a:lnTo>
                    <a:lnTo>
                      <a:pt x="2" y="31"/>
                    </a:lnTo>
                    <a:lnTo>
                      <a:pt x="5" y="36"/>
                    </a:lnTo>
                    <a:lnTo>
                      <a:pt x="8" y="39"/>
                    </a:lnTo>
                    <a:lnTo>
                      <a:pt x="13" y="43"/>
                    </a:lnTo>
                    <a:lnTo>
                      <a:pt x="18" y="44"/>
                    </a:lnTo>
                    <a:lnTo>
                      <a:pt x="23" y="46"/>
                    </a:lnTo>
                    <a:lnTo>
                      <a:pt x="29" y="46"/>
                    </a:lnTo>
                    <a:lnTo>
                      <a:pt x="32" y="46"/>
                    </a:lnTo>
                    <a:lnTo>
                      <a:pt x="40" y="46"/>
                    </a:lnTo>
                    <a:lnTo>
                      <a:pt x="46" y="44"/>
                    </a:lnTo>
                    <a:lnTo>
                      <a:pt x="52" y="43"/>
                    </a:lnTo>
                    <a:lnTo>
                      <a:pt x="57" y="39"/>
                    </a:lnTo>
                    <a:lnTo>
                      <a:pt x="61" y="36"/>
                    </a:lnTo>
                    <a:lnTo>
                      <a:pt x="63" y="31"/>
                    </a:lnTo>
                    <a:lnTo>
                      <a:pt x="64" y="27"/>
                    </a:lnTo>
                    <a:lnTo>
                      <a:pt x="64" y="21"/>
                    </a:lnTo>
                    <a:lnTo>
                      <a:pt x="62" y="13"/>
                    </a:lnTo>
                    <a:lnTo>
                      <a:pt x="57" y="3"/>
                    </a:lnTo>
                    <a:lnTo>
                      <a:pt x="52" y="1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249"/>
              <p:cNvSpPr/>
              <p:nvPr/>
            </p:nvSpPr>
            <p:spPr>
              <a:xfrm>
                <a:off x="5954040" y="46749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1" h="60">
                    <a:moveTo>
                      <a:pt x="3" y="25"/>
                    </a:move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1" y="37"/>
                    </a:lnTo>
                    <a:lnTo>
                      <a:pt x="4" y="42"/>
                    </a:lnTo>
                    <a:lnTo>
                      <a:pt x="9" y="47"/>
                    </a:lnTo>
                    <a:lnTo>
                      <a:pt x="14" y="50"/>
                    </a:lnTo>
                    <a:lnTo>
                      <a:pt x="17" y="54"/>
                    </a:lnTo>
                    <a:lnTo>
                      <a:pt x="23" y="58"/>
                    </a:lnTo>
                    <a:lnTo>
                      <a:pt x="30" y="60"/>
                    </a:lnTo>
                    <a:lnTo>
                      <a:pt x="35" y="60"/>
                    </a:lnTo>
                    <a:lnTo>
                      <a:pt x="43" y="60"/>
                    </a:lnTo>
                    <a:lnTo>
                      <a:pt x="50" y="58"/>
                    </a:lnTo>
                    <a:lnTo>
                      <a:pt x="56" y="54"/>
                    </a:lnTo>
                    <a:lnTo>
                      <a:pt x="64" y="50"/>
                    </a:lnTo>
                    <a:lnTo>
                      <a:pt x="67" y="47"/>
                    </a:lnTo>
                    <a:lnTo>
                      <a:pt x="70" y="42"/>
                    </a:lnTo>
                    <a:lnTo>
                      <a:pt x="71" y="37"/>
                    </a:lnTo>
                    <a:lnTo>
                      <a:pt x="71" y="32"/>
                    </a:lnTo>
                    <a:lnTo>
                      <a:pt x="71" y="25"/>
                    </a:lnTo>
                    <a:lnTo>
                      <a:pt x="70" y="18"/>
                    </a:lnTo>
                    <a:lnTo>
                      <a:pt x="67" y="12"/>
                    </a:lnTo>
                    <a:lnTo>
                      <a:pt x="64" y="7"/>
                    </a:lnTo>
                    <a:lnTo>
                      <a:pt x="56" y="5"/>
                    </a:lnTo>
                    <a:lnTo>
                      <a:pt x="50" y="2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4" y="10"/>
                    </a:lnTo>
                    <a:lnTo>
                      <a:pt x="32" y="15"/>
                    </a:lnTo>
                    <a:lnTo>
                      <a:pt x="28" y="18"/>
                    </a:lnTo>
                    <a:lnTo>
                      <a:pt x="23" y="22"/>
                    </a:lnTo>
                    <a:lnTo>
                      <a:pt x="17" y="23"/>
                    </a:lnTo>
                    <a:lnTo>
                      <a:pt x="11" y="25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250"/>
              <p:cNvSpPr/>
              <p:nvPr/>
            </p:nvSpPr>
            <p:spPr>
              <a:xfrm>
                <a:off x="5893560" y="4760640"/>
                <a:ext cx="66240" cy="24840"/>
              </a:xfrm>
              <a:custGeom>
                <a:avLst/>
                <a:gdLst/>
                <a:ahLst/>
                <a:rect l="l" t="t" r="r" b="b"/>
                <a:pathLst>
                  <a:path w="645" h="299">
                    <a:moveTo>
                      <a:pt x="637" y="14"/>
                    </a:moveTo>
                    <a:lnTo>
                      <a:pt x="631" y="9"/>
                    </a:lnTo>
                    <a:lnTo>
                      <a:pt x="627" y="0"/>
                    </a:lnTo>
                    <a:lnTo>
                      <a:pt x="598" y="13"/>
                    </a:lnTo>
                    <a:lnTo>
                      <a:pt x="577" y="23"/>
                    </a:lnTo>
                    <a:lnTo>
                      <a:pt x="560" y="31"/>
                    </a:lnTo>
                    <a:lnTo>
                      <a:pt x="548" y="35"/>
                    </a:lnTo>
                    <a:lnTo>
                      <a:pt x="550" y="35"/>
                    </a:lnTo>
                    <a:lnTo>
                      <a:pt x="554" y="35"/>
                    </a:lnTo>
                    <a:lnTo>
                      <a:pt x="556" y="34"/>
                    </a:lnTo>
                    <a:lnTo>
                      <a:pt x="559" y="32"/>
                    </a:lnTo>
                    <a:lnTo>
                      <a:pt x="551" y="44"/>
                    </a:lnTo>
                    <a:lnTo>
                      <a:pt x="543" y="54"/>
                    </a:lnTo>
                    <a:lnTo>
                      <a:pt x="533" y="64"/>
                    </a:lnTo>
                    <a:lnTo>
                      <a:pt x="522" y="73"/>
                    </a:lnTo>
                    <a:lnTo>
                      <a:pt x="509" y="81"/>
                    </a:lnTo>
                    <a:lnTo>
                      <a:pt x="497" y="89"/>
                    </a:lnTo>
                    <a:lnTo>
                      <a:pt x="483" y="94"/>
                    </a:lnTo>
                    <a:lnTo>
                      <a:pt x="468" y="100"/>
                    </a:lnTo>
                    <a:lnTo>
                      <a:pt x="453" y="104"/>
                    </a:lnTo>
                    <a:lnTo>
                      <a:pt x="436" y="108"/>
                    </a:lnTo>
                    <a:lnTo>
                      <a:pt x="418" y="111"/>
                    </a:lnTo>
                    <a:lnTo>
                      <a:pt x="399" y="113"/>
                    </a:lnTo>
                    <a:lnTo>
                      <a:pt x="380" y="114"/>
                    </a:lnTo>
                    <a:lnTo>
                      <a:pt x="358" y="115"/>
                    </a:lnTo>
                    <a:lnTo>
                      <a:pt x="336" y="115"/>
                    </a:lnTo>
                    <a:lnTo>
                      <a:pt x="314" y="114"/>
                    </a:lnTo>
                    <a:lnTo>
                      <a:pt x="312" y="114"/>
                    </a:lnTo>
                    <a:lnTo>
                      <a:pt x="311" y="114"/>
                    </a:lnTo>
                    <a:lnTo>
                      <a:pt x="289" y="121"/>
                    </a:lnTo>
                    <a:lnTo>
                      <a:pt x="267" y="126"/>
                    </a:lnTo>
                    <a:lnTo>
                      <a:pt x="246" y="132"/>
                    </a:lnTo>
                    <a:lnTo>
                      <a:pt x="228" y="136"/>
                    </a:lnTo>
                    <a:lnTo>
                      <a:pt x="210" y="138"/>
                    </a:lnTo>
                    <a:lnTo>
                      <a:pt x="192" y="141"/>
                    </a:lnTo>
                    <a:lnTo>
                      <a:pt x="177" y="142"/>
                    </a:lnTo>
                    <a:lnTo>
                      <a:pt x="161" y="143"/>
                    </a:lnTo>
                    <a:lnTo>
                      <a:pt x="147" y="142"/>
                    </a:lnTo>
                    <a:lnTo>
                      <a:pt x="133" y="140"/>
                    </a:lnTo>
                    <a:lnTo>
                      <a:pt x="121" y="137"/>
                    </a:lnTo>
                    <a:lnTo>
                      <a:pt x="109" y="133"/>
                    </a:lnTo>
                    <a:lnTo>
                      <a:pt x="99" y="128"/>
                    </a:lnTo>
                    <a:lnTo>
                      <a:pt x="89" y="122"/>
                    </a:lnTo>
                    <a:lnTo>
                      <a:pt x="80" y="115"/>
                    </a:lnTo>
                    <a:lnTo>
                      <a:pt x="72" y="107"/>
                    </a:lnTo>
                    <a:lnTo>
                      <a:pt x="57" y="99"/>
                    </a:lnTo>
                    <a:lnTo>
                      <a:pt x="40" y="92"/>
                    </a:lnTo>
                    <a:lnTo>
                      <a:pt x="25" y="84"/>
                    </a:lnTo>
                    <a:lnTo>
                      <a:pt x="9" y="79"/>
                    </a:lnTo>
                    <a:lnTo>
                      <a:pt x="3" y="96"/>
                    </a:lnTo>
                    <a:lnTo>
                      <a:pt x="1" y="114"/>
                    </a:lnTo>
                    <a:lnTo>
                      <a:pt x="0" y="132"/>
                    </a:lnTo>
                    <a:lnTo>
                      <a:pt x="0" y="147"/>
                    </a:lnTo>
                    <a:lnTo>
                      <a:pt x="2" y="163"/>
                    </a:lnTo>
                    <a:lnTo>
                      <a:pt x="7" y="178"/>
                    </a:lnTo>
                    <a:lnTo>
                      <a:pt x="12" y="193"/>
                    </a:lnTo>
                    <a:lnTo>
                      <a:pt x="19" y="206"/>
                    </a:lnTo>
                    <a:lnTo>
                      <a:pt x="28" y="219"/>
                    </a:lnTo>
                    <a:lnTo>
                      <a:pt x="38" y="232"/>
                    </a:lnTo>
                    <a:lnTo>
                      <a:pt x="50" y="243"/>
                    </a:lnTo>
                    <a:lnTo>
                      <a:pt x="64" y="254"/>
                    </a:lnTo>
                    <a:lnTo>
                      <a:pt x="79" y="265"/>
                    </a:lnTo>
                    <a:lnTo>
                      <a:pt x="96" y="274"/>
                    </a:lnTo>
                    <a:lnTo>
                      <a:pt x="113" y="283"/>
                    </a:lnTo>
                    <a:lnTo>
                      <a:pt x="133" y="291"/>
                    </a:lnTo>
                    <a:lnTo>
                      <a:pt x="145" y="294"/>
                    </a:lnTo>
                    <a:lnTo>
                      <a:pt x="158" y="295"/>
                    </a:lnTo>
                    <a:lnTo>
                      <a:pt x="171" y="297"/>
                    </a:lnTo>
                    <a:lnTo>
                      <a:pt x="184" y="298"/>
                    </a:lnTo>
                    <a:lnTo>
                      <a:pt x="198" y="299"/>
                    </a:lnTo>
                    <a:lnTo>
                      <a:pt x="212" y="299"/>
                    </a:lnTo>
                    <a:lnTo>
                      <a:pt x="225" y="298"/>
                    </a:lnTo>
                    <a:lnTo>
                      <a:pt x="240" y="297"/>
                    </a:lnTo>
                    <a:lnTo>
                      <a:pt x="254" y="295"/>
                    </a:lnTo>
                    <a:lnTo>
                      <a:pt x="269" y="293"/>
                    </a:lnTo>
                    <a:lnTo>
                      <a:pt x="282" y="289"/>
                    </a:lnTo>
                    <a:lnTo>
                      <a:pt x="297" y="285"/>
                    </a:lnTo>
                    <a:lnTo>
                      <a:pt x="312" y="280"/>
                    </a:lnTo>
                    <a:lnTo>
                      <a:pt x="326" y="275"/>
                    </a:lnTo>
                    <a:lnTo>
                      <a:pt x="341" y="269"/>
                    </a:lnTo>
                    <a:lnTo>
                      <a:pt x="356" y="263"/>
                    </a:lnTo>
                    <a:lnTo>
                      <a:pt x="371" y="255"/>
                    </a:lnTo>
                    <a:lnTo>
                      <a:pt x="386" y="247"/>
                    </a:lnTo>
                    <a:lnTo>
                      <a:pt x="417" y="228"/>
                    </a:lnTo>
                    <a:lnTo>
                      <a:pt x="448" y="207"/>
                    </a:lnTo>
                    <a:lnTo>
                      <a:pt x="479" y="184"/>
                    </a:lnTo>
                    <a:lnTo>
                      <a:pt x="512" y="157"/>
                    </a:lnTo>
                    <a:lnTo>
                      <a:pt x="544" y="128"/>
                    </a:lnTo>
                    <a:lnTo>
                      <a:pt x="577" y="97"/>
                    </a:lnTo>
                    <a:lnTo>
                      <a:pt x="610" y="62"/>
                    </a:lnTo>
                    <a:lnTo>
                      <a:pt x="645" y="25"/>
                    </a:lnTo>
                    <a:lnTo>
                      <a:pt x="637" y="14"/>
                    </a:lnTo>
                    <a:close/>
                  </a:path>
                </a:pathLst>
              </a:custGeom>
              <a:solidFill>
                <a:srgbClr val="b76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251"/>
              <p:cNvSpPr/>
              <p:nvPr/>
            </p:nvSpPr>
            <p:spPr>
              <a:xfrm>
                <a:off x="5879880" y="4759200"/>
                <a:ext cx="71640" cy="12960"/>
              </a:xfrm>
              <a:custGeom>
                <a:avLst/>
                <a:gdLst/>
                <a:ahLst/>
                <a:rect l="l" t="t" r="r" b="b"/>
                <a:pathLst>
                  <a:path w="682" h="168">
                    <a:moveTo>
                      <a:pt x="682" y="57"/>
                    </a:moveTo>
                    <a:lnTo>
                      <a:pt x="679" y="59"/>
                    </a:lnTo>
                    <a:lnTo>
                      <a:pt x="677" y="60"/>
                    </a:lnTo>
                    <a:lnTo>
                      <a:pt x="673" y="60"/>
                    </a:lnTo>
                    <a:lnTo>
                      <a:pt x="671" y="60"/>
                    </a:lnTo>
                    <a:lnTo>
                      <a:pt x="652" y="65"/>
                    </a:lnTo>
                    <a:lnTo>
                      <a:pt x="635" y="68"/>
                    </a:lnTo>
                    <a:lnTo>
                      <a:pt x="617" y="68"/>
                    </a:lnTo>
                    <a:lnTo>
                      <a:pt x="599" y="67"/>
                    </a:lnTo>
                    <a:lnTo>
                      <a:pt x="581" y="65"/>
                    </a:lnTo>
                    <a:lnTo>
                      <a:pt x="564" y="60"/>
                    </a:lnTo>
                    <a:lnTo>
                      <a:pt x="547" y="54"/>
                    </a:lnTo>
                    <a:lnTo>
                      <a:pt x="529" y="47"/>
                    </a:lnTo>
                    <a:lnTo>
                      <a:pt x="503" y="38"/>
                    </a:lnTo>
                    <a:lnTo>
                      <a:pt x="476" y="31"/>
                    </a:lnTo>
                    <a:lnTo>
                      <a:pt x="449" y="28"/>
                    </a:lnTo>
                    <a:lnTo>
                      <a:pt x="423" y="25"/>
                    </a:lnTo>
                    <a:lnTo>
                      <a:pt x="396" y="25"/>
                    </a:lnTo>
                    <a:lnTo>
                      <a:pt x="369" y="27"/>
                    </a:lnTo>
                    <a:lnTo>
                      <a:pt x="343" y="30"/>
                    </a:lnTo>
                    <a:lnTo>
                      <a:pt x="316" y="36"/>
                    </a:lnTo>
                    <a:lnTo>
                      <a:pt x="292" y="48"/>
                    </a:lnTo>
                    <a:lnTo>
                      <a:pt x="271" y="57"/>
                    </a:lnTo>
                    <a:lnTo>
                      <a:pt x="252" y="64"/>
                    </a:lnTo>
                    <a:lnTo>
                      <a:pt x="236" y="68"/>
                    </a:lnTo>
                    <a:lnTo>
                      <a:pt x="230" y="69"/>
                    </a:lnTo>
                    <a:lnTo>
                      <a:pt x="223" y="69"/>
                    </a:lnTo>
                    <a:lnTo>
                      <a:pt x="217" y="69"/>
                    </a:lnTo>
                    <a:lnTo>
                      <a:pt x="212" y="68"/>
                    </a:lnTo>
                    <a:lnTo>
                      <a:pt x="207" y="66"/>
                    </a:lnTo>
                    <a:lnTo>
                      <a:pt x="204" y="64"/>
                    </a:lnTo>
                    <a:lnTo>
                      <a:pt x="201" y="61"/>
                    </a:lnTo>
                    <a:lnTo>
                      <a:pt x="199" y="57"/>
                    </a:lnTo>
                    <a:lnTo>
                      <a:pt x="189" y="44"/>
                    </a:lnTo>
                    <a:lnTo>
                      <a:pt x="177" y="33"/>
                    </a:lnTo>
                    <a:lnTo>
                      <a:pt x="169" y="30"/>
                    </a:lnTo>
                    <a:lnTo>
                      <a:pt x="160" y="29"/>
                    </a:lnTo>
                    <a:lnTo>
                      <a:pt x="149" y="30"/>
                    </a:lnTo>
                    <a:lnTo>
                      <a:pt x="139" y="33"/>
                    </a:lnTo>
                    <a:lnTo>
                      <a:pt x="128" y="33"/>
                    </a:lnTo>
                    <a:lnTo>
                      <a:pt x="118" y="33"/>
                    </a:lnTo>
                    <a:lnTo>
                      <a:pt x="106" y="33"/>
                    </a:lnTo>
                    <a:lnTo>
                      <a:pt x="96" y="33"/>
                    </a:lnTo>
                    <a:lnTo>
                      <a:pt x="74" y="27"/>
                    </a:lnTo>
                    <a:lnTo>
                      <a:pt x="51" y="19"/>
                    </a:lnTo>
                    <a:lnTo>
                      <a:pt x="28" y="1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13" y="18"/>
                    </a:lnTo>
                    <a:lnTo>
                      <a:pt x="25" y="29"/>
                    </a:lnTo>
                    <a:lnTo>
                      <a:pt x="40" y="41"/>
                    </a:lnTo>
                    <a:lnTo>
                      <a:pt x="57" y="54"/>
                    </a:lnTo>
                    <a:lnTo>
                      <a:pt x="73" y="65"/>
                    </a:lnTo>
                    <a:lnTo>
                      <a:pt x="92" y="77"/>
                    </a:lnTo>
                    <a:lnTo>
                      <a:pt x="111" y="90"/>
                    </a:lnTo>
                    <a:lnTo>
                      <a:pt x="132" y="104"/>
                    </a:lnTo>
                    <a:lnTo>
                      <a:pt x="148" y="109"/>
                    </a:lnTo>
                    <a:lnTo>
                      <a:pt x="163" y="117"/>
                    </a:lnTo>
                    <a:lnTo>
                      <a:pt x="180" y="124"/>
                    </a:lnTo>
                    <a:lnTo>
                      <a:pt x="195" y="132"/>
                    </a:lnTo>
                    <a:lnTo>
                      <a:pt x="203" y="140"/>
                    </a:lnTo>
                    <a:lnTo>
                      <a:pt x="212" y="147"/>
                    </a:lnTo>
                    <a:lnTo>
                      <a:pt x="222" y="153"/>
                    </a:lnTo>
                    <a:lnTo>
                      <a:pt x="232" y="158"/>
                    </a:lnTo>
                    <a:lnTo>
                      <a:pt x="244" y="162"/>
                    </a:lnTo>
                    <a:lnTo>
                      <a:pt x="256" y="165"/>
                    </a:lnTo>
                    <a:lnTo>
                      <a:pt x="270" y="167"/>
                    </a:lnTo>
                    <a:lnTo>
                      <a:pt x="284" y="168"/>
                    </a:lnTo>
                    <a:lnTo>
                      <a:pt x="300" y="167"/>
                    </a:lnTo>
                    <a:lnTo>
                      <a:pt x="315" y="166"/>
                    </a:lnTo>
                    <a:lnTo>
                      <a:pt x="333" y="163"/>
                    </a:lnTo>
                    <a:lnTo>
                      <a:pt x="351" y="161"/>
                    </a:lnTo>
                    <a:lnTo>
                      <a:pt x="369" y="157"/>
                    </a:lnTo>
                    <a:lnTo>
                      <a:pt x="390" y="151"/>
                    </a:lnTo>
                    <a:lnTo>
                      <a:pt x="412" y="146"/>
                    </a:lnTo>
                    <a:lnTo>
                      <a:pt x="434" y="139"/>
                    </a:lnTo>
                    <a:lnTo>
                      <a:pt x="435" y="139"/>
                    </a:lnTo>
                    <a:lnTo>
                      <a:pt x="437" y="139"/>
                    </a:lnTo>
                    <a:lnTo>
                      <a:pt x="459" y="140"/>
                    </a:lnTo>
                    <a:lnTo>
                      <a:pt x="481" y="140"/>
                    </a:lnTo>
                    <a:lnTo>
                      <a:pt x="503" y="139"/>
                    </a:lnTo>
                    <a:lnTo>
                      <a:pt x="522" y="138"/>
                    </a:lnTo>
                    <a:lnTo>
                      <a:pt x="541" y="136"/>
                    </a:lnTo>
                    <a:lnTo>
                      <a:pt x="559" y="133"/>
                    </a:lnTo>
                    <a:lnTo>
                      <a:pt x="576" y="129"/>
                    </a:lnTo>
                    <a:lnTo>
                      <a:pt x="591" y="125"/>
                    </a:lnTo>
                    <a:lnTo>
                      <a:pt x="606" y="119"/>
                    </a:lnTo>
                    <a:lnTo>
                      <a:pt x="620" y="114"/>
                    </a:lnTo>
                    <a:lnTo>
                      <a:pt x="632" y="106"/>
                    </a:lnTo>
                    <a:lnTo>
                      <a:pt x="645" y="98"/>
                    </a:lnTo>
                    <a:lnTo>
                      <a:pt x="656" y="89"/>
                    </a:lnTo>
                    <a:lnTo>
                      <a:pt x="666" y="79"/>
                    </a:lnTo>
                    <a:lnTo>
                      <a:pt x="674" y="69"/>
                    </a:lnTo>
                    <a:lnTo>
                      <a:pt x="682" y="57"/>
                    </a:lnTo>
                    <a:close/>
                  </a:path>
                </a:pathLst>
              </a:custGeom>
              <a:solidFill>
                <a:srgbClr val="b768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252"/>
              <p:cNvSpPr/>
              <p:nvPr/>
            </p:nvSpPr>
            <p:spPr>
              <a:xfrm>
                <a:off x="6079680" y="46267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3" y="10"/>
                    </a:lnTo>
                    <a:lnTo>
                      <a:pt x="7" y="1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253"/>
              <p:cNvSpPr/>
              <p:nvPr/>
            </p:nvSpPr>
            <p:spPr>
              <a:xfrm>
                <a:off x="6040440" y="4627440"/>
                <a:ext cx="68400" cy="75960"/>
              </a:xfrm>
              <a:custGeom>
                <a:avLst/>
                <a:gdLst/>
                <a:ahLst/>
                <a:rect l="l" t="t" r="r" b="b"/>
                <a:pathLst>
                  <a:path w="666" h="923">
                    <a:moveTo>
                      <a:pt x="391" y="4"/>
                    </a:moveTo>
                    <a:lnTo>
                      <a:pt x="387" y="4"/>
                    </a:lnTo>
                    <a:lnTo>
                      <a:pt x="384" y="4"/>
                    </a:lnTo>
                    <a:lnTo>
                      <a:pt x="366" y="7"/>
                    </a:lnTo>
                    <a:lnTo>
                      <a:pt x="349" y="10"/>
                    </a:lnTo>
                    <a:lnTo>
                      <a:pt x="332" y="14"/>
                    </a:lnTo>
                    <a:lnTo>
                      <a:pt x="316" y="18"/>
                    </a:lnTo>
                    <a:lnTo>
                      <a:pt x="300" y="24"/>
                    </a:lnTo>
                    <a:lnTo>
                      <a:pt x="285" y="29"/>
                    </a:lnTo>
                    <a:lnTo>
                      <a:pt x="270" y="36"/>
                    </a:lnTo>
                    <a:lnTo>
                      <a:pt x="255" y="42"/>
                    </a:lnTo>
                    <a:lnTo>
                      <a:pt x="241" y="50"/>
                    </a:lnTo>
                    <a:lnTo>
                      <a:pt x="227" y="58"/>
                    </a:lnTo>
                    <a:lnTo>
                      <a:pt x="213" y="68"/>
                    </a:lnTo>
                    <a:lnTo>
                      <a:pt x="200" y="77"/>
                    </a:lnTo>
                    <a:lnTo>
                      <a:pt x="188" y="87"/>
                    </a:lnTo>
                    <a:lnTo>
                      <a:pt x="176" y="98"/>
                    </a:lnTo>
                    <a:lnTo>
                      <a:pt x="163" y="109"/>
                    </a:lnTo>
                    <a:lnTo>
                      <a:pt x="152" y="121"/>
                    </a:lnTo>
                    <a:lnTo>
                      <a:pt x="141" y="135"/>
                    </a:lnTo>
                    <a:lnTo>
                      <a:pt x="130" y="148"/>
                    </a:lnTo>
                    <a:lnTo>
                      <a:pt x="120" y="161"/>
                    </a:lnTo>
                    <a:lnTo>
                      <a:pt x="110" y="177"/>
                    </a:lnTo>
                    <a:lnTo>
                      <a:pt x="100" y="191"/>
                    </a:lnTo>
                    <a:lnTo>
                      <a:pt x="91" y="208"/>
                    </a:lnTo>
                    <a:lnTo>
                      <a:pt x="82" y="224"/>
                    </a:lnTo>
                    <a:lnTo>
                      <a:pt x="73" y="241"/>
                    </a:lnTo>
                    <a:lnTo>
                      <a:pt x="66" y="259"/>
                    </a:lnTo>
                    <a:lnTo>
                      <a:pt x="58" y="278"/>
                    </a:lnTo>
                    <a:lnTo>
                      <a:pt x="51" y="296"/>
                    </a:lnTo>
                    <a:lnTo>
                      <a:pt x="45" y="316"/>
                    </a:lnTo>
                    <a:lnTo>
                      <a:pt x="32" y="357"/>
                    </a:lnTo>
                    <a:lnTo>
                      <a:pt x="21" y="402"/>
                    </a:lnTo>
                    <a:lnTo>
                      <a:pt x="19" y="410"/>
                    </a:lnTo>
                    <a:lnTo>
                      <a:pt x="18" y="418"/>
                    </a:lnTo>
                    <a:lnTo>
                      <a:pt x="17" y="427"/>
                    </a:lnTo>
                    <a:lnTo>
                      <a:pt x="15" y="437"/>
                    </a:lnTo>
                    <a:lnTo>
                      <a:pt x="9" y="457"/>
                    </a:lnTo>
                    <a:lnTo>
                      <a:pt x="6" y="478"/>
                    </a:lnTo>
                    <a:lnTo>
                      <a:pt x="2" y="500"/>
                    </a:lnTo>
                    <a:lnTo>
                      <a:pt x="0" y="523"/>
                    </a:lnTo>
                    <a:lnTo>
                      <a:pt x="2" y="557"/>
                    </a:lnTo>
                    <a:lnTo>
                      <a:pt x="6" y="590"/>
                    </a:lnTo>
                    <a:lnTo>
                      <a:pt x="10" y="621"/>
                    </a:lnTo>
                    <a:lnTo>
                      <a:pt x="17" y="651"/>
                    </a:lnTo>
                    <a:lnTo>
                      <a:pt x="25" y="680"/>
                    </a:lnTo>
                    <a:lnTo>
                      <a:pt x="34" y="707"/>
                    </a:lnTo>
                    <a:lnTo>
                      <a:pt x="45" y="732"/>
                    </a:lnTo>
                    <a:lnTo>
                      <a:pt x="56" y="757"/>
                    </a:lnTo>
                    <a:lnTo>
                      <a:pt x="69" y="779"/>
                    </a:lnTo>
                    <a:lnTo>
                      <a:pt x="85" y="800"/>
                    </a:lnTo>
                    <a:lnTo>
                      <a:pt x="100" y="820"/>
                    </a:lnTo>
                    <a:lnTo>
                      <a:pt x="118" y="838"/>
                    </a:lnTo>
                    <a:lnTo>
                      <a:pt x="137" y="854"/>
                    </a:lnTo>
                    <a:lnTo>
                      <a:pt x="158" y="870"/>
                    </a:lnTo>
                    <a:lnTo>
                      <a:pt x="179" y="883"/>
                    </a:lnTo>
                    <a:lnTo>
                      <a:pt x="202" y="895"/>
                    </a:lnTo>
                    <a:lnTo>
                      <a:pt x="224" y="903"/>
                    </a:lnTo>
                    <a:lnTo>
                      <a:pt x="248" y="911"/>
                    </a:lnTo>
                    <a:lnTo>
                      <a:pt x="272" y="917"/>
                    </a:lnTo>
                    <a:lnTo>
                      <a:pt x="299" y="923"/>
                    </a:lnTo>
                    <a:lnTo>
                      <a:pt x="324" y="920"/>
                    </a:lnTo>
                    <a:lnTo>
                      <a:pt x="347" y="915"/>
                    </a:lnTo>
                    <a:lnTo>
                      <a:pt x="371" y="907"/>
                    </a:lnTo>
                    <a:lnTo>
                      <a:pt x="394" y="899"/>
                    </a:lnTo>
                    <a:lnTo>
                      <a:pt x="410" y="891"/>
                    </a:lnTo>
                    <a:lnTo>
                      <a:pt x="423" y="885"/>
                    </a:lnTo>
                    <a:lnTo>
                      <a:pt x="433" y="882"/>
                    </a:lnTo>
                    <a:lnTo>
                      <a:pt x="441" y="881"/>
                    </a:lnTo>
                    <a:lnTo>
                      <a:pt x="460" y="864"/>
                    </a:lnTo>
                    <a:lnTo>
                      <a:pt x="477" y="846"/>
                    </a:lnTo>
                    <a:lnTo>
                      <a:pt x="496" y="826"/>
                    </a:lnTo>
                    <a:lnTo>
                      <a:pt x="515" y="806"/>
                    </a:lnTo>
                    <a:lnTo>
                      <a:pt x="517" y="802"/>
                    </a:lnTo>
                    <a:lnTo>
                      <a:pt x="522" y="795"/>
                    </a:lnTo>
                    <a:lnTo>
                      <a:pt x="536" y="778"/>
                    </a:lnTo>
                    <a:lnTo>
                      <a:pt x="549" y="759"/>
                    </a:lnTo>
                    <a:lnTo>
                      <a:pt x="562" y="738"/>
                    </a:lnTo>
                    <a:lnTo>
                      <a:pt x="574" y="717"/>
                    </a:lnTo>
                    <a:lnTo>
                      <a:pt x="586" y="694"/>
                    </a:lnTo>
                    <a:lnTo>
                      <a:pt x="596" y="672"/>
                    </a:lnTo>
                    <a:lnTo>
                      <a:pt x="607" y="649"/>
                    </a:lnTo>
                    <a:lnTo>
                      <a:pt x="618" y="625"/>
                    </a:lnTo>
                    <a:lnTo>
                      <a:pt x="626" y="604"/>
                    </a:lnTo>
                    <a:lnTo>
                      <a:pt x="633" y="582"/>
                    </a:lnTo>
                    <a:lnTo>
                      <a:pt x="639" y="561"/>
                    </a:lnTo>
                    <a:lnTo>
                      <a:pt x="646" y="540"/>
                    </a:lnTo>
                    <a:lnTo>
                      <a:pt x="646" y="536"/>
                    </a:lnTo>
                    <a:lnTo>
                      <a:pt x="646" y="533"/>
                    </a:lnTo>
                    <a:lnTo>
                      <a:pt x="646" y="530"/>
                    </a:lnTo>
                    <a:lnTo>
                      <a:pt x="647" y="529"/>
                    </a:lnTo>
                    <a:lnTo>
                      <a:pt x="648" y="529"/>
                    </a:lnTo>
                    <a:lnTo>
                      <a:pt x="650" y="529"/>
                    </a:lnTo>
                    <a:lnTo>
                      <a:pt x="654" y="513"/>
                    </a:lnTo>
                    <a:lnTo>
                      <a:pt x="657" y="495"/>
                    </a:lnTo>
                    <a:lnTo>
                      <a:pt x="661" y="475"/>
                    </a:lnTo>
                    <a:lnTo>
                      <a:pt x="664" y="455"/>
                    </a:lnTo>
                    <a:lnTo>
                      <a:pt x="666" y="415"/>
                    </a:lnTo>
                    <a:lnTo>
                      <a:pt x="666" y="377"/>
                    </a:lnTo>
                    <a:lnTo>
                      <a:pt x="665" y="342"/>
                    </a:lnTo>
                    <a:lnTo>
                      <a:pt x="663" y="307"/>
                    </a:lnTo>
                    <a:lnTo>
                      <a:pt x="658" y="274"/>
                    </a:lnTo>
                    <a:lnTo>
                      <a:pt x="654" y="243"/>
                    </a:lnTo>
                    <a:lnTo>
                      <a:pt x="647" y="215"/>
                    </a:lnTo>
                    <a:lnTo>
                      <a:pt x="639" y="189"/>
                    </a:lnTo>
                    <a:lnTo>
                      <a:pt x="633" y="170"/>
                    </a:lnTo>
                    <a:lnTo>
                      <a:pt x="626" y="153"/>
                    </a:lnTo>
                    <a:lnTo>
                      <a:pt x="618" y="137"/>
                    </a:lnTo>
                    <a:lnTo>
                      <a:pt x="610" y="121"/>
                    </a:lnTo>
                    <a:lnTo>
                      <a:pt x="602" y="107"/>
                    </a:lnTo>
                    <a:lnTo>
                      <a:pt x="593" y="93"/>
                    </a:lnTo>
                    <a:lnTo>
                      <a:pt x="583" y="80"/>
                    </a:lnTo>
                    <a:lnTo>
                      <a:pt x="573" y="68"/>
                    </a:lnTo>
                    <a:lnTo>
                      <a:pt x="562" y="57"/>
                    </a:lnTo>
                    <a:lnTo>
                      <a:pt x="550" y="47"/>
                    </a:lnTo>
                    <a:lnTo>
                      <a:pt x="538" y="38"/>
                    </a:lnTo>
                    <a:lnTo>
                      <a:pt x="525" y="29"/>
                    </a:lnTo>
                    <a:lnTo>
                      <a:pt x="512" y="21"/>
                    </a:lnTo>
                    <a:lnTo>
                      <a:pt x="498" y="15"/>
                    </a:lnTo>
                    <a:lnTo>
                      <a:pt x="484" y="9"/>
                    </a:lnTo>
                    <a:lnTo>
                      <a:pt x="468" y="4"/>
                    </a:lnTo>
                    <a:lnTo>
                      <a:pt x="466" y="4"/>
                    </a:lnTo>
                    <a:lnTo>
                      <a:pt x="464" y="4"/>
                    </a:lnTo>
                    <a:lnTo>
                      <a:pt x="461" y="3"/>
                    </a:lnTo>
                    <a:lnTo>
                      <a:pt x="458" y="0"/>
                    </a:lnTo>
                    <a:lnTo>
                      <a:pt x="441" y="1"/>
                    </a:lnTo>
                    <a:lnTo>
                      <a:pt x="423" y="3"/>
                    </a:lnTo>
                    <a:lnTo>
                      <a:pt x="406" y="4"/>
                    </a:lnTo>
                    <a:lnTo>
                      <a:pt x="391" y="4"/>
                    </a:lnTo>
                    <a:close/>
                    <a:moveTo>
                      <a:pt x="557" y="447"/>
                    </a:moveTo>
                    <a:lnTo>
                      <a:pt x="555" y="463"/>
                    </a:lnTo>
                    <a:lnTo>
                      <a:pt x="553" y="478"/>
                    </a:lnTo>
                    <a:lnTo>
                      <a:pt x="549" y="493"/>
                    </a:lnTo>
                    <a:lnTo>
                      <a:pt x="547" y="508"/>
                    </a:lnTo>
                    <a:lnTo>
                      <a:pt x="541" y="527"/>
                    </a:lnTo>
                    <a:lnTo>
                      <a:pt x="534" y="547"/>
                    </a:lnTo>
                    <a:lnTo>
                      <a:pt x="526" y="567"/>
                    </a:lnTo>
                    <a:lnTo>
                      <a:pt x="518" y="586"/>
                    </a:lnTo>
                    <a:lnTo>
                      <a:pt x="508" y="604"/>
                    </a:lnTo>
                    <a:lnTo>
                      <a:pt x="499" y="621"/>
                    </a:lnTo>
                    <a:lnTo>
                      <a:pt x="489" y="638"/>
                    </a:lnTo>
                    <a:lnTo>
                      <a:pt x="479" y="653"/>
                    </a:lnTo>
                    <a:lnTo>
                      <a:pt x="461" y="675"/>
                    </a:lnTo>
                    <a:lnTo>
                      <a:pt x="442" y="696"/>
                    </a:lnTo>
                    <a:lnTo>
                      <a:pt x="431" y="706"/>
                    </a:lnTo>
                    <a:lnTo>
                      <a:pt x="421" y="714"/>
                    </a:lnTo>
                    <a:lnTo>
                      <a:pt x="410" y="723"/>
                    </a:lnTo>
                    <a:lnTo>
                      <a:pt x="397" y="731"/>
                    </a:lnTo>
                    <a:lnTo>
                      <a:pt x="390" y="733"/>
                    </a:lnTo>
                    <a:lnTo>
                      <a:pt x="382" y="734"/>
                    </a:lnTo>
                    <a:lnTo>
                      <a:pt x="374" y="736"/>
                    </a:lnTo>
                    <a:lnTo>
                      <a:pt x="366" y="736"/>
                    </a:lnTo>
                    <a:lnTo>
                      <a:pt x="355" y="733"/>
                    </a:lnTo>
                    <a:lnTo>
                      <a:pt x="345" y="731"/>
                    </a:lnTo>
                    <a:lnTo>
                      <a:pt x="335" y="729"/>
                    </a:lnTo>
                    <a:lnTo>
                      <a:pt x="326" y="726"/>
                    </a:lnTo>
                    <a:lnTo>
                      <a:pt x="316" y="722"/>
                    </a:lnTo>
                    <a:lnTo>
                      <a:pt x="308" y="718"/>
                    </a:lnTo>
                    <a:lnTo>
                      <a:pt x="300" y="713"/>
                    </a:lnTo>
                    <a:lnTo>
                      <a:pt x="291" y="708"/>
                    </a:lnTo>
                    <a:lnTo>
                      <a:pt x="283" y="702"/>
                    </a:lnTo>
                    <a:lnTo>
                      <a:pt x="276" y="696"/>
                    </a:lnTo>
                    <a:lnTo>
                      <a:pt x="269" y="689"/>
                    </a:lnTo>
                    <a:lnTo>
                      <a:pt x="262" y="681"/>
                    </a:lnTo>
                    <a:lnTo>
                      <a:pt x="255" y="673"/>
                    </a:lnTo>
                    <a:lnTo>
                      <a:pt x="250" y="666"/>
                    </a:lnTo>
                    <a:lnTo>
                      <a:pt x="243" y="656"/>
                    </a:lnTo>
                    <a:lnTo>
                      <a:pt x="238" y="647"/>
                    </a:lnTo>
                    <a:lnTo>
                      <a:pt x="238" y="641"/>
                    </a:lnTo>
                    <a:lnTo>
                      <a:pt x="238" y="636"/>
                    </a:lnTo>
                    <a:lnTo>
                      <a:pt x="232" y="620"/>
                    </a:lnTo>
                    <a:lnTo>
                      <a:pt x="227" y="605"/>
                    </a:lnTo>
                    <a:lnTo>
                      <a:pt x="222" y="587"/>
                    </a:lnTo>
                    <a:lnTo>
                      <a:pt x="219" y="569"/>
                    </a:lnTo>
                    <a:lnTo>
                      <a:pt x="215" y="550"/>
                    </a:lnTo>
                    <a:lnTo>
                      <a:pt x="213" y="530"/>
                    </a:lnTo>
                    <a:lnTo>
                      <a:pt x="211" y="509"/>
                    </a:lnTo>
                    <a:lnTo>
                      <a:pt x="210" y="487"/>
                    </a:lnTo>
                    <a:lnTo>
                      <a:pt x="210" y="485"/>
                    </a:lnTo>
                    <a:lnTo>
                      <a:pt x="213" y="479"/>
                    </a:lnTo>
                    <a:lnTo>
                      <a:pt x="218" y="456"/>
                    </a:lnTo>
                    <a:lnTo>
                      <a:pt x="222" y="434"/>
                    </a:lnTo>
                    <a:lnTo>
                      <a:pt x="228" y="413"/>
                    </a:lnTo>
                    <a:lnTo>
                      <a:pt x="234" y="393"/>
                    </a:lnTo>
                    <a:lnTo>
                      <a:pt x="241" y="374"/>
                    </a:lnTo>
                    <a:lnTo>
                      <a:pt x="249" y="356"/>
                    </a:lnTo>
                    <a:lnTo>
                      <a:pt x="258" y="341"/>
                    </a:lnTo>
                    <a:lnTo>
                      <a:pt x="266" y="325"/>
                    </a:lnTo>
                    <a:lnTo>
                      <a:pt x="275" y="311"/>
                    </a:lnTo>
                    <a:lnTo>
                      <a:pt x="285" y="299"/>
                    </a:lnTo>
                    <a:lnTo>
                      <a:pt x="296" y="286"/>
                    </a:lnTo>
                    <a:lnTo>
                      <a:pt x="308" y="276"/>
                    </a:lnTo>
                    <a:lnTo>
                      <a:pt x="320" y="266"/>
                    </a:lnTo>
                    <a:lnTo>
                      <a:pt x="332" y="259"/>
                    </a:lnTo>
                    <a:lnTo>
                      <a:pt x="345" y="251"/>
                    </a:lnTo>
                    <a:lnTo>
                      <a:pt x="359" y="245"/>
                    </a:lnTo>
                    <a:lnTo>
                      <a:pt x="371" y="241"/>
                    </a:lnTo>
                    <a:lnTo>
                      <a:pt x="384" y="238"/>
                    </a:lnTo>
                    <a:lnTo>
                      <a:pt x="397" y="234"/>
                    </a:lnTo>
                    <a:lnTo>
                      <a:pt x="411" y="233"/>
                    </a:lnTo>
                    <a:lnTo>
                      <a:pt x="425" y="233"/>
                    </a:lnTo>
                    <a:lnTo>
                      <a:pt x="440" y="233"/>
                    </a:lnTo>
                    <a:lnTo>
                      <a:pt x="454" y="233"/>
                    </a:lnTo>
                    <a:lnTo>
                      <a:pt x="468" y="234"/>
                    </a:lnTo>
                    <a:lnTo>
                      <a:pt x="482" y="241"/>
                    </a:lnTo>
                    <a:lnTo>
                      <a:pt x="493" y="248"/>
                    </a:lnTo>
                    <a:lnTo>
                      <a:pt x="503" y="256"/>
                    </a:lnTo>
                    <a:lnTo>
                      <a:pt x="512" y="266"/>
                    </a:lnTo>
                    <a:lnTo>
                      <a:pt x="517" y="274"/>
                    </a:lnTo>
                    <a:lnTo>
                      <a:pt x="523" y="282"/>
                    </a:lnTo>
                    <a:lnTo>
                      <a:pt x="527" y="291"/>
                    </a:lnTo>
                    <a:lnTo>
                      <a:pt x="532" y="300"/>
                    </a:lnTo>
                    <a:lnTo>
                      <a:pt x="541" y="319"/>
                    </a:lnTo>
                    <a:lnTo>
                      <a:pt x="546" y="339"/>
                    </a:lnTo>
                    <a:lnTo>
                      <a:pt x="552" y="362"/>
                    </a:lnTo>
                    <a:lnTo>
                      <a:pt x="555" y="386"/>
                    </a:lnTo>
                    <a:lnTo>
                      <a:pt x="557" y="412"/>
                    </a:lnTo>
                    <a:lnTo>
                      <a:pt x="557" y="441"/>
                    </a:lnTo>
                    <a:lnTo>
                      <a:pt x="557" y="443"/>
                    </a:lnTo>
                    <a:lnTo>
                      <a:pt x="557" y="447"/>
                    </a:lnTo>
                    <a:close/>
                  </a:path>
                </a:pathLst>
              </a:custGeom>
              <a:solidFill>
                <a:srgbClr val="869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254"/>
              <p:cNvSpPr/>
              <p:nvPr/>
            </p:nvSpPr>
            <p:spPr>
              <a:xfrm>
                <a:off x="6068520" y="464688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284" h="439">
                    <a:moveTo>
                      <a:pt x="274" y="275"/>
                    </a:moveTo>
                    <a:lnTo>
                      <a:pt x="276" y="260"/>
                    </a:lnTo>
                    <a:lnTo>
                      <a:pt x="280" y="245"/>
                    </a:lnTo>
                    <a:lnTo>
                      <a:pt x="282" y="230"/>
                    </a:lnTo>
                    <a:lnTo>
                      <a:pt x="284" y="214"/>
                    </a:lnTo>
                    <a:lnTo>
                      <a:pt x="284" y="210"/>
                    </a:lnTo>
                    <a:lnTo>
                      <a:pt x="284" y="208"/>
                    </a:lnTo>
                    <a:lnTo>
                      <a:pt x="284" y="179"/>
                    </a:lnTo>
                    <a:lnTo>
                      <a:pt x="282" y="153"/>
                    </a:lnTo>
                    <a:lnTo>
                      <a:pt x="279" y="129"/>
                    </a:lnTo>
                    <a:lnTo>
                      <a:pt x="273" y="106"/>
                    </a:lnTo>
                    <a:lnTo>
                      <a:pt x="268" y="86"/>
                    </a:lnTo>
                    <a:lnTo>
                      <a:pt x="259" y="67"/>
                    </a:lnTo>
                    <a:lnTo>
                      <a:pt x="254" y="58"/>
                    </a:lnTo>
                    <a:lnTo>
                      <a:pt x="250" y="49"/>
                    </a:lnTo>
                    <a:lnTo>
                      <a:pt x="244" y="41"/>
                    </a:lnTo>
                    <a:lnTo>
                      <a:pt x="239" y="33"/>
                    </a:lnTo>
                    <a:lnTo>
                      <a:pt x="230" y="23"/>
                    </a:lnTo>
                    <a:lnTo>
                      <a:pt x="220" y="15"/>
                    </a:lnTo>
                    <a:lnTo>
                      <a:pt x="209" y="8"/>
                    </a:lnTo>
                    <a:lnTo>
                      <a:pt x="195" y="1"/>
                    </a:lnTo>
                    <a:lnTo>
                      <a:pt x="181" y="0"/>
                    </a:lnTo>
                    <a:lnTo>
                      <a:pt x="167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24" y="1"/>
                    </a:lnTo>
                    <a:lnTo>
                      <a:pt x="111" y="5"/>
                    </a:lnTo>
                    <a:lnTo>
                      <a:pt x="98" y="8"/>
                    </a:lnTo>
                    <a:lnTo>
                      <a:pt x="86" y="12"/>
                    </a:lnTo>
                    <a:lnTo>
                      <a:pt x="67" y="41"/>
                    </a:lnTo>
                    <a:lnTo>
                      <a:pt x="50" y="71"/>
                    </a:lnTo>
                    <a:lnTo>
                      <a:pt x="42" y="86"/>
                    </a:lnTo>
                    <a:lnTo>
                      <a:pt x="36" y="101"/>
                    </a:lnTo>
                    <a:lnTo>
                      <a:pt x="29" y="116"/>
                    </a:lnTo>
                    <a:lnTo>
                      <a:pt x="23" y="130"/>
                    </a:lnTo>
                    <a:lnTo>
                      <a:pt x="18" y="145"/>
                    </a:lnTo>
                    <a:lnTo>
                      <a:pt x="13" y="161"/>
                    </a:lnTo>
                    <a:lnTo>
                      <a:pt x="9" y="175"/>
                    </a:lnTo>
                    <a:lnTo>
                      <a:pt x="7" y="191"/>
                    </a:lnTo>
                    <a:lnTo>
                      <a:pt x="3" y="206"/>
                    </a:lnTo>
                    <a:lnTo>
                      <a:pt x="2" y="222"/>
                    </a:lnTo>
                    <a:lnTo>
                      <a:pt x="1" y="237"/>
                    </a:lnTo>
                    <a:lnTo>
                      <a:pt x="0" y="254"/>
                    </a:lnTo>
                    <a:lnTo>
                      <a:pt x="1" y="269"/>
                    </a:lnTo>
                    <a:lnTo>
                      <a:pt x="2" y="284"/>
                    </a:lnTo>
                    <a:lnTo>
                      <a:pt x="3" y="300"/>
                    </a:lnTo>
                    <a:lnTo>
                      <a:pt x="7" y="316"/>
                    </a:lnTo>
                    <a:lnTo>
                      <a:pt x="10" y="333"/>
                    </a:lnTo>
                    <a:lnTo>
                      <a:pt x="13" y="349"/>
                    </a:lnTo>
                    <a:lnTo>
                      <a:pt x="19" y="365"/>
                    </a:lnTo>
                    <a:lnTo>
                      <a:pt x="26" y="382"/>
                    </a:lnTo>
                    <a:lnTo>
                      <a:pt x="33" y="393"/>
                    </a:lnTo>
                    <a:lnTo>
                      <a:pt x="42" y="403"/>
                    </a:lnTo>
                    <a:lnTo>
                      <a:pt x="51" y="412"/>
                    </a:lnTo>
                    <a:lnTo>
                      <a:pt x="60" y="419"/>
                    </a:lnTo>
                    <a:lnTo>
                      <a:pt x="70" y="426"/>
                    </a:lnTo>
                    <a:lnTo>
                      <a:pt x="81" y="430"/>
                    </a:lnTo>
                    <a:lnTo>
                      <a:pt x="92" y="435"/>
                    </a:lnTo>
                    <a:lnTo>
                      <a:pt x="103" y="438"/>
                    </a:lnTo>
                    <a:lnTo>
                      <a:pt x="114" y="439"/>
                    </a:lnTo>
                    <a:lnTo>
                      <a:pt x="127" y="439"/>
                    </a:lnTo>
                    <a:lnTo>
                      <a:pt x="139" y="439"/>
                    </a:lnTo>
                    <a:lnTo>
                      <a:pt x="151" y="437"/>
                    </a:lnTo>
                    <a:lnTo>
                      <a:pt x="164" y="435"/>
                    </a:lnTo>
                    <a:lnTo>
                      <a:pt x="178" y="432"/>
                    </a:lnTo>
                    <a:lnTo>
                      <a:pt x="192" y="426"/>
                    </a:lnTo>
                    <a:lnTo>
                      <a:pt x="206" y="420"/>
                    </a:lnTo>
                    <a:lnTo>
                      <a:pt x="216" y="405"/>
                    </a:lnTo>
                    <a:lnTo>
                      <a:pt x="226" y="388"/>
                    </a:lnTo>
                    <a:lnTo>
                      <a:pt x="235" y="371"/>
                    </a:lnTo>
                    <a:lnTo>
                      <a:pt x="245" y="353"/>
                    </a:lnTo>
                    <a:lnTo>
                      <a:pt x="253" y="334"/>
                    </a:lnTo>
                    <a:lnTo>
                      <a:pt x="261" y="314"/>
                    </a:lnTo>
                    <a:lnTo>
                      <a:pt x="268" y="294"/>
                    </a:lnTo>
                    <a:lnTo>
                      <a:pt x="274" y="275"/>
                    </a:lnTo>
                    <a:close/>
                  </a:path>
                </a:pathLst>
              </a:custGeom>
              <a:solidFill>
                <a:srgbClr val="e5e7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55"/>
              <p:cNvSpPr/>
              <p:nvPr/>
            </p:nvSpPr>
            <p:spPr>
              <a:xfrm>
                <a:off x="6062040" y="4647600"/>
                <a:ext cx="28080" cy="40320"/>
              </a:xfrm>
              <a:custGeom>
                <a:avLst/>
                <a:gdLst/>
                <a:ahLst/>
                <a:rect l="l" t="t" r="r" b="b"/>
                <a:pathLst>
                  <a:path w="269" h="491">
                    <a:moveTo>
                      <a:pt x="149" y="0"/>
                    </a:moveTo>
                    <a:lnTo>
                      <a:pt x="135" y="6"/>
                    </a:lnTo>
                    <a:lnTo>
                      <a:pt x="122" y="14"/>
                    </a:lnTo>
                    <a:lnTo>
                      <a:pt x="110" y="21"/>
                    </a:lnTo>
                    <a:lnTo>
                      <a:pt x="98" y="31"/>
                    </a:lnTo>
                    <a:lnTo>
                      <a:pt x="86" y="41"/>
                    </a:lnTo>
                    <a:lnTo>
                      <a:pt x="75" y="54"/>
                    </a:lnTo>
                    <a:lnTo>
                      <a:pt x="65" y="66"/>
                    </a:lnTo>
                    <a:lnTo>
                      <a:pt x="56" y="80"/>
                    </a:lnTo>
                    <a:lnTo>
                      <a:pt x="48" y="96"/>
                    </a:lnTo>
                    <a:lnTo>
                      <a:pt x="39" y="111"/>
                    </a:lnTo>
                    <a:lnTo>
                      <a:pt x="31" y="129"/>
                    </a:lnTo>
                    <a:lnTo>
                      <a:pt x="24" y="148"/>
                    </a:lnTo>
                    <a:lnTo>
                      <a:pt x="18" y="168"/>
                    </a:lnTo>
                    <a:lnTo>
                      <a:pt x="12" y="189"/>
                    </a:lnTo>
                    <a:lnTo>
                      <a:pt x="8" y="211"/>
                    </a:lnTo>
                    <a:lnTo>
                      <a:pt x="3" y="234"/>
                    </a:lnTo>
                    <a:lnTo>
                      <a:pt x="0" y="240"/>
                    </a:lnTo>
                    <a:lnTo>
                      <a:pt x="0" y="242"/>
                    </a:lnTo>
                    <a:lnTo>
                      <a:pt x="1" y="264"/>
                    </a:lnTo>
                    <a:lnTo>
                      <a:pt x="3" y="285"/>
                    </a:lnTo>
                    <a:lnTo>
                      <a:pt x="5" y="305"/>
                    </a:lnTo>
                    <a:lnTo>
                      <a:pt x="9" y="324"/>
                    </a:lnTo>
                    <a:lnTo>
                      <a:pt x="12" y="342"/>
                    </a:lnTo>
                    <a:lnTo>
                      <a:pt x="17" y="360"/>
                    </a:lnTo>
                    <a:lnTo>
                      <a:pt x="22" y="375"/>
                    </a:lnTo>
                    <a:lnTo>
                      <a:pt x="28" y="391"/>
                    </a:lnTo>
                    <a:lnTo>
                      <a:pt x="28" y="396"/>
                    </a:lnTo>
                    <a:lnTo>
                      <a:pt x="28" y="402"/>
                    </a:lnTo>
                    <a:lnTo>
                      <a:pt x="33" y="411"/>
                    </a:lnTo>
                    <a:lnTo>
                      <a:pt x="40" y="421"/>
                    </a:lnTo>
                    <a:lnTo>
                      <a:pt x="45" y="428"/>
                    </a:lnTo>
                    <a:lnTo>
                      <a:pt x="52" y="436"/>
                    </a:lnTo>
                    <a:lnTo>
                      <a:pt x="59" y="444"/>
                    </a:lnTo>
                    <a:lnTo>
                      <a:pt x="66" y="451"/>
                    </a:lnTo>
                    <a:lnTo>
                      <a:pt x="73" y="457"/>
                    </a:lnTo>
                    <a:lnTo>
                      <a:pt x="81" y="463"/>
                    </a:lnTo>
                    <a:lnTo>
                      <a:pt x="90" y="468"/>
                    </a:lnTo>
                    <a:lnTo>
                      <a:pt x="98" y="473"/>
                    </a:lnTo>
                    <a:lnTo>
                      <a:pt x="106" y="477"/>
                    </a:lnTo>
                    <a:lnTo>
                      <a:pt x="116" y="481"/>
                    </a:lnTo>
                    <a:lnTo>
                      <a:pt x="125" y="484"/>
                    </a:lnTo>
                    <a:lnTo>
                      <a:pt x="135" y="486"/>
                    </a:lnTo>
                    <a:lnTo>
                      <a:pt x="145" y="488"/>
                    </a:lnTo>
                    <a:lnTo>
                      <a:pt x="156" y="491"/>
                    </a:lnTo>
                    <a:lnTo>
                      <a:pt x="164" y="491"/>
                    </a:lnTo>
                    <a:lnTo>
                      <a:pt x="172" y="489"/>
                    </a:lnTo>
                    <a:lnTo>
                      <a:pt x="180" y="488"/>
                    </a:lnTo>
                    <a:lnTo>
                      <a:pt x="187" y="486"/>
                    </a:lnTo>
                    <a:lnTo>
                      <a:pt x="200" y="478"/>
                    </a:lnTo>
                    <a:lnTo>
                      <a:pt x="211" y="469"/>
                    </a:lnTo>
                    <a:lnTo>
                      <a:pt x="221" y="461"/>
                    </a:lnTo>
                    <a:lnTo>
                      <a:pt x="232" y="451"/>
                    </a:lnTo>
                    <a:lnTo>
                      <a:pt x="251" y="430"/>
                    </a:lnTo>
                    <a:lnTo>
                      <a:pt x="269" y="408"/>
                    </a:lnTo>
                    <a:lnTo>
                      <a:pt x="255" y="414"/>
                    </a:lnTo>
                    <a:lnTo>
                      <a:pt x="241" y="420"/>
                    </a:lnTo>
                    <a:lnTo>
                      <a:pt x="227" y="423"/>
                    </a:lnTo>
                    <a:lnTo>
                      <a:pt x="214" y="425"/>
                    </a:lnTo>
                    <a:lnTo>
                      <a:pt x="202" y="427"/>
                    </a:lnTo>
                    <a:lnTo>
                      <a:pt x="190" y="427"/>
                    </a:lnTo>
                    <a:lnTo>
                      <a:pt x="177" y="427"/>
                    </a:lnTo>
                    <a:lnTo>
                      <a:pt x="166" y="426"/>
                    </a:lnTo>
                    <a:lnTo>
                      <a:pt x="155" y="423"/>
                    </a:lnTo>
                    <a:lnTo>
                      <a:pt x="144" y="418"/>
                    </a:lnTo>
                    <a:lnTo>
                      <a:pt x="133" y="414"/>
                    </a:lnTo>
                    <a:lnTo>
                      <a:pt x="123" y="407"/>
                    </a:lnTo>
                    <a:lnTo>
                      <a:pt x="114" y="400"/>
                    </a:lnTo>
                    <a:lnTo>
                      <a:pt x="105" y="391"/>
                    </a:lnTo>
                    <a:lnTo>
                      <a:pt x="96" y="381"/>
                    </a:lnTo>
                    <a:lnTo>
                      <a:pt x="89" y="370"/>
                    </a:lnTo>
                    <a:lnTo>
                      <a:pt x="82" y="353"/>
                    </a:lnTo>
                    <a:lnTo>
                      <a:pt x="76" y="337"/>
                    </a:lnTo>
                    <a:lnTo>
                      <a:pt x="73" y="321"/>
                    </a:lnTo>
                    <a:lnTo>
                      <a:pt x="70" y="304"/>
                    </a:lnTo>
                    <a:lnTo>
                      <a:pt x="66" y="288"/>
                    </a:lnTo>
                    <a:lnTo>
                      <a:pt x="65" y="272"/>
                    </a:lnTo>
                    <a:lnTo>
                      <a:pt x="64" y="257"/>
                    </a:lnTo>
                    <a:lnTo>
                      <a:pt x="63" y="242"/>
                    </a:lnTo>
                    <a:lnTo>
                      <a:pt x="64" y="225"/>
                    </a:lnTo>
                    <a:lnTo>
                      <a:pt x="65" y="210"/>
                    </a:lnTo>
                    <a:lnTo>
                      <a:pt x="66" y="194"/>
                    </a:lnTo>
                    <a:lnTo>
                      <a:pt x="70" y="179"/>
                    </a:lnTo>
                    <a:lnTo>
                      <a:pt x="72" y="163"/>
                    </a:lnTo>
                    <a:lnTo>
                      <a:pt x="76" y="149"/>
                    </a:lnTo>
                    <a:lnTo>
                      <a:pt x="81" y="133"/>
                    </a:lnTo>
                    <a:lnTo>
                      <a:pt x="86" y="118"/>
                    </a:lnTo>
                    <a:lnTo>
                      <a:pt x="92" y="104"/>
                    </a:lnTo>
                    <a:lnTo>
                      <a:pt x="99" y="89"/>
                    </a:lnTo>
                    <a:lnTo>
                      <a:pt x="105" y="74"/>
                    </a:lnTo>
                    <a:lnTo>
                      <a:pt x="113" y="59"/>
                    </a:lnTo>
                    <a:lnTo>
                      <a:pt x="130" y="29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e5e7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256"/>
              <p:cNvSpPr/>
              <p:nvPr/>
            </p:nvSpPr>
            <p:spPr>
              <a:xfrm>
                <a:off x="6080760" y="4649040"/>
                <a:ext cx="86040" cy="134640"/>
              </a:xfrm>
              <a:custGeom>
                <a:avLst/>
                <a:gdLst/>
                <a:ahLst/>
                <a:rect l="l" t="t" r="r" b="b"/>
                <a:pathLst>
                  <a:path w="825" h="1625">
                    <a:moveTo>
                      <a:pt x="381" y="0"/>
                    </a:moveTo>
                    <a:lnTo>
                      <a:pt x="368" y="24"/>
                    </a:lnTo>
                    <a:lnTo>
                      <a:pt x="355" y="47"/>
                    </a:lnTo>
                    <a:lnTo>
                      <a:pt x="343" y="72"/>
                    </a:lnTo>
                    <a:lnTo>
                      <a:pt x="330" y="95"/>
                    </a:lnTo>
                    <a:lnTo>
                      <a:pt x="315" y="118"/>
                    </a:lnTo>
                    <a:lnTo>
                      <a:pt x="301" y="141"/>
                    </a:lnTo>
                    <a:lnTo>
                      <a:pt x="286" y="163"/>
                    </a:lnTo>
                    <a:lnTo>
                      <a:pt x="270" y="185"/>
                    </a:lnTo>
                    <a:lnTo>
                      <a:pt x="267" y="205"/>
                    </a:lnTo>
                    <a:lnTo>
                      <a:pt x="263" y="225"/>
                    </a:lnTo>
                    <a:lnTo>
                      <a:pt x="260" y="243"/>
                    </a:lnTo>
                    <a:lnTo>
                      <a:pt x="256" y="259"/>
                    </a:lnTo>
                    <a:lnTo>
                      <a:pt x="254" y="259"/>
                    </a:lnTo>
                    <a:lnTo>
                      <a:pt x="253" y="259"/>
                    </a:lnTo>
                    <a:lnTo>
                      <a:pt x="252" y="260"/>
                    </a:lnTo>
                    <a:lnTo>
                      <a:pt x="252" y="263"/>
                    </a:lnTo>
                    <a:lnTo>
                      <a:pt x="252" y="266"/>
                    </a:lnTo>
                    <a:lnTo>
                      <a:pt x="252" y="270"/>
                    </a:lnTo>
                    <a:lnTo>
                      <a:pt x="245" y="291"/>
                    </a:lnTo>
                    <a:lnTo>
                      <a:pt x="239" y="312"/>
                    </a:lnTo>
                    <a:lnTo>
                      <a:pt x="232" y="334"/>
                    </a:lnTo>
                    <a:lnTo>
                      <a:pt x="224" y="355"/>
                    </a:lnTo>
                    <a:lnTo>
                      <a:pt x="213" y="379"/>
                    </a:lnTo>
                    <a:lnTo>
                      <a:pt x="202" y="402"/>
                    </a:lnTo>
                    <a:lnTo>
                      <a:pt x="192" y="424"/>
                    </a:lnTo>
                    <a:lnTo>
                      <a:pt x="180" y="447"/>
                    </a:lnTo>
                    <a:lnTo>
                      <a:pt x="168" y="468"/>
                    </a:lnTo>
                    <a:lnTo>
                      <a:pt x="155" y="489"/>
                    </a:lnTo>
                    <a:lnTo>
                      <a:pt x="142" y="508"/>
                    </a:lnTo>
                    <a:lnTo>
                      <a:pt x="128" y="525"/>
                    </a:lnTo>
                    <a:lnTo>
                      <a:pt x="123" y="532"/>
                    </a:lnTo>
                    <a:lnTo>
                      <a:pt x="121" y="536"/>
                    </a:lnTo>
                    <a:lnTo>
                      <a:pt x="120" y="556"/>
                    </a:lnTo>
                    <a:lnTo>
                      <a:pt x="119" y="575"/>
                    </a:lnTo>
                    <a:lnTo>
                      <a:pt x="114" y="594"/>
                    </a:lnTo>
                    <a:lnTo>
                      <a:pt x="110" y="613"/>
                    </a:lnTo>
                    <a:lnTo>
                      <a:pt x="103" y="632"/>
                    </a:lnTo>
                    <a:lnTo>
                      <a:pt x="95" y="650"/>
                    </a:lnTo>
                    <a:lnTo>
                      <a:pt x="85" y="667"/>
                    </a:lnTo>
                    <a:lnTo>
                      <a:pt x="74" y="685"/>
                    </a:lnTo>
                    <a:lnTo>
                      <a:pt x="73" y="690"/>
                    </a:lnTo>
                    <a:lnTo>
                      <a:pt x="70" y="693"/>
                    </a:lnTo>
                    <a:lnTo>
                      <a:pt x="67" y="696"/>
                    </a:lnTo>
                    <a:lnTo>
                      <a:pt x="62" y="699"/>
                    </a:lnTo>
                    <a:lnTo>
                      <a:pt x="52" y="706"/>
                    </a:lnTo>
                    <a:lnTo>
                      <a:pt x="39" y="714"/>
                    </a:lnTo>
                    <a:lnTo>
                      <a:pt x="38" y="746"/>
                    </a:lnTo>
                    <a:lnTo>
                      <a:pt x="34" y="779"/>
                    </a:lnTo>
                    <a:lnTo>
                      <a:pt x="31" y="810"/>
                    </a:lnTo>
                    <a:lnTo>
                      <a:pt x="27" y="843"/>
                    </a:lnTo>
                    <a:lnTo>
                      <a:pt x="21" y="874"/>
                    </a:lnTo>
                    <a:lnTo>
                      <a:pt x="14" y="905"/>
                    </a:lnTo>
                    <a:lnTo>
                      <a:pt x="8" y="935"/>
                    </a:lnTo>
                    <a:lnTo>
                      <a:pt x="0" y="966"/>
                    </a:lnTo>
                    <a:lnTo>
                      <a:pt x="0" y="969"/>
                    </a:lnTo>
                    <a:lnTo>
                      <a:pt x="0" y="972"/>
                    </a:lnTo>
                    <a:lnTo>
                      <a:pt x="29" y="981"/>
                    </a:lnTo>
                    <a:lnTo>
                      <a:pt x="57" y="989"/>
                    </a:lnTo>
                    <a:lnTo>
                      <a:pt x="82" y="998"/>
                    </a:lnTo>
                    <a:lnTo>
                      <a:pt x="107" y="1008"/>
                    </a:lnTo>
                    <a:lnTo>
                      <a:pt x="130" y="1017"/>
                    </a:lnTo>
                    <a:lnTo>
                      <a:pt x="152" y="1027"/>
                    </a:lnTo>
                    <a:lnTo>
                      <a:pt x="172" y="1037"/>
                    </a:lnTo>
                    <a:lnTo>
                      <a:pt x="192" y="1047"/>
                    </a:lnTo>
                    <a:lnTo>
                      <a:pt x="210" y="1058"/>
                    </a:lnTo>
                    <a:lnTo>
                      <a:pt x="225" y="1069"/>
                    </a:lnTo>
                    <a:lnTo>
                      <a:pt x="241" y="1080"/>
                    </a:lnTo>
                    <a:lnTo>
                      <a:pt x="254" y="1091"/>
                    </a:lnTo>
                    <a:lnTo>
                      <a:pt x="266" y="1103"/>
                    </a:lnTo>
                    <a:lnTo>
                      <a:pt x="277" y="1114"/>
                    </a:lnTo>
                    <a:lnTo>
                      <a:pt x="287" y="1127"/>
                    </a:lnTo>
                    <a:lnTo>
                      <a:pt x="295" y="1140"/>
                    </a:lnTo>
                    <a:lnTo>
                      <a:pt x="298" y="1142"/>
                    </a:lnTo>
                    <a:lnTo>
                      <a:pt x="302" y="1146"/>
                    </a:lnTo>
                    <a:lnTo>
                      <a:pt x="302" y="1147"/>
                    </a:lnTo>
                    <a:lnTo>
                      <a:pt x="302" y="1150"/>
                    </a:lnTo>
                    <a:lnTo>
                      <a:pt x="302" y="1151"/>
                    </a:lnTo>
                    <a:lnTo>
                      <a:pt x="303" y="1154"/>
                    </a:lnTo>
                    <a:lnTo>
                      <a:pt x="304" y="1156"/>
                    </a:lnTo>
                    <a:lnTo>
                      <a:pt x="305" y="1157"/>
                    </a:lnTo>
                    <a:lnTo>
                      <a:pt x="305" y="1157"/>
                    </a:lnTo>
                    <a:lnTo>
                      <a:pt x="305" y="1161"/>
                    </a:lnTo>
                    <a:lnTo>
                      <a:pt x="310" y="1166"/>
                    </a:lnTo>
                    <a:lnTo>
                      <a:pt x="313" y="1175"/>
                    </a:lnTo>
                    <a:lnTo>
                      <a:pt x="387" y="1299"/>
                    </a:lnTo>
                    <a:lnTo>
                      <a:pt x="396" y="1296"/>
                    </a:lnTo>
                    <a:lnTo>
                      <a:pt x="405" y="1294"/>
                    </a:lnTo>
                    <a:lnTo>
                      <a:pt x="414" y="1293"/>
                    </a:lnTo>
                    <a:lnTo>
                      <a:pt x="423" y="1292"/>
                    </a:lnTo>
                    <a:lnTo>
                      <a:pt x="433" y="1293"/>
                    </a:lnTo>
                    <a:lnTo>
                      <a:pt x="442" y="1295"/>
                    </a:lnTo>
                    <a:lnTo>
                      <a:pt x="452" y="1298"/>
                    </a:lnTo>
                    <a:lnTo>
                      <a:pt x="462" y="1303"/>
                    </a:lnTo>
                    <a:lnTo>
                      <a:pt x="472" y="1308"/>
                    </a:lnTo>
                    <a:lnTo>
                      <a:pt x="482" y="1314"/>
                    </a:lnTo>
                    <a:lnTo>
                      <a:pt x="492" y="1322"/>
                    </a:lnTo>
                    <a:lnTo>
                      <a:pt x="502" y="1330"/>
                    </a:lnTo>
                    <a:lnTo>
                      <a:pt x="511" y="1340"/>
                    </a:lnTo>
                    <a:lnTo>
                      <a:pt x="523" y="1351"/>
                    </a:lnTo>
                    <a:lnTo>
                      <a:pt x="533" y="1364"/>
                    </a:lnTo>
                    <a:lnTo>
                      <a:pt x="544" y="1377"/>
                    </a:lnTo>
                    <a:lnTo>
                      <a:pt x="581" y="1410"/>
                    </a:lnTo>
                    <a:lnTo>
                      <a:pt x="617" y="1444"/>
                    </a:lnTo>
                    <a:lnTo>
                      <a:pt x="651" y="1476"/>
                    </a:lnTo>
                    <a:lnTo>
                      <a:pt x="685" y="1507"/>
                    </a:lnTo>
                    <a:lnTo>
                      <a:pt x="715" y="1538"/>
                    </a:lnTo>
                    <a:lnTo>
                      <a:pt x="743" y="1568"/>
                    </a:lnTo>
                    <a:lnTo>
                      <a:pt x="771" y="1598"/>
                    </a:lnTo>
                    <a:lnTo>
                      <a:pt x="795" y="1625"/>
                    </a:lnTo>
                    <a:lnTo>
                      <a:pt x="803" y="1600"/>
                    </a:lnTo>
                    <a:lnTo>
                      <a:pt x="810" y="1573"/>
                    </a:lnTo>
                    <a:lnTo>
                      <a:pt x="814" y="1548"/>
                    </a:lnTo>
                    <a:lnTo>
                      <a:pt x="819" y="1522"/>
                    </a:lnTo>
                    <a:lnTo>
                      <a:pt x="822" y="1497"/>
                    </a:lnTo>
                    <a:lnTo>
                      <a:pt x="824" y="1471"/>
                    </a:lnTo>
                    <a:lnTo>
                      <a:pt x="825" y="1447"/>
                    </a:lnTo>
                    <a:lnTo>
                      <a:pt x="825" y="1422"/>
                    </a:lnTo>
                    <a:lnTo>
                      <a:pt x="825" y="1398"/>
                    </a:lnTo>
                    <a:lnTo>
                      <a:pt x="823" y="1375"/>
                    </a:lnTo>
                    <a:lnTo>
                      <a:pt x="820" y="1350"/>
                    </a:lnTo>
                    <a:lnTo>
                      <a:pt x="817" y="1327"/>
                    </a:lnTo>
                    <a:lnTo>
                      <a:pt x="812" y="1304"/>
                    </a:lnTo>
                    <a:lnTo>
                      <a:pt x="807" y="1281"/>
                    </a:lnTo>
                    <a:lnTo>
                      <a:pt x="800" y="1258"/>
                    </a:lnTo>
                    <a:lnTo>
                      <a:pt x="792" y="1235"/>
                    </a:lnTo>
                    <a:lnTo>
                      <a:pt x="778" y="1213"/>
                    </a:lnTo>
                    <a:lnTo>
                      <a:pt x="764" y="1190"/>
                    </a:lnTo>
                    <a:lnTo>
                      <a:pt x="752" y="1166"/>
                    </a:lnTo>
                    <a:lnTo>
                      <a:pt x="741" y="1142"/>
                    </a:lnTo>
                    <a:lnTo>
                      <a:pt x="732" y="1119"/>
                    </a:lnTo>
                    <a:lnTo>
                      <a:pt x="724" y="1094"/>
                    </a:lnTo>
                    <a:lnTo>
                      <a:pt x="718" y="1070"/>
                    </a:lnTo>
                    <a:lnTo>
                      <a:pt x="712" y="1044"/>
                    </a:lnTo>
                    <a:lnTo>
                      <a:pt x="709" y="1020"/>
                    </a:lnTo>
                    <a:lnTo>
                      <a:pt x="707" y="994"/>
                    </a:lnTo>
                    <a:lnTo>
                      <a:pt x="706" y="969"/>
                    </a:lnTo>
                    <a:lnTo>
                      <a:pt x="706" y="942"/>
                    </a:lnTo>
                    <a:lnTo>
                      <a:pt x="708" y="917"/>
                    </a:lnTo>
                    <a:lnTo>
                      <a:pt x="710" y="890"/>
                    </a:lnTo>
                    <a:lnTo>
                      <a:pt x="716" y="865"/>
                    </a:lnTo>
                    <a:lnTo>
                      <a:pt x="721" y="838"/>
                    </a:lnTo>
                    <a:lnTo>
                      <a:pt x="723" y="818"/>
                    </a:lnTo>
                    <a:lnTo>
                      <a:pt x="724" y="798"/>
                    </a:lnTo>
                    <a:lnTo>
                      <a:pt x="724" y="777"/>
                    </a:lnTo>
                    <a:lnTo>
                      <a:pt x="723" y="756"/>
                    </a:lnTo>
                    <a:lnTo>
                      <a:pt x="722" y="735"/>
                    </a:lnTo>
                    <a:lnTo>
                      <a:pt x="720" y="713"/>
                    </a:lnTo>
                    <a:lnTo>
                      <a:pt x="717" y="691"/>
                    </a:lnTo>
                    <a:lnTo>
                      <a:pt x="713" y="667"/>
                    </a:lnTo>
                    <a:lnTo>
                      <a:pt x="709" y="644"/>
                    </a:lnTo>
                    <a:lnTo>
                      <a:pt x="703" y="621"/>
                    </a:lnTo>
                    <a:lnTo>
                      <a:pt x="697" y="596"/>
                    </a:lnTo>
                    <a:lnTo>
                      <a:pt x="690" y="572"/>
                    </a:lnTo>
                    <a:lnTo>
                      <a:pt x="681" y="548"/>
                    </a:lnTo>
                    <a:lnTo>
                      <a:pt x="673" y="522"/>
                    </a:lnTo>
                    <a:lnTo>
                      <a:pt x="663" y="497"/>
                    </a:lnTo>
                    <a:lnTo>
                      <a:pt x="653" y="471"/>
                    </a:lnTo>
                    <a:lnTo>
                      <a:pt x="630" y="418"/>
                    </a:lnTo>
                    <a:lnTo>
                      <a:pt x="604" y="362"/>
                    </a:lnTo>
                    <a:lnTo>
                      <a:pt x="575" y="307"/>
                    </a:lnTo>
                    <a:lnTo>
                      <a:pt x="541" y="248"/>
                    </a:lnTo>
                    <a:lnTo>
                      <a:pt x="506" y="188"/>
                    </a:lnTo>
                    <a:lnTo>
                      <a:pt x="467" y="127"/>
                    </a:lnTo>
                    <a:lnTo>
                      <a:pt x="425" y="64"/>
                    </a:lnTo>
                    <a:lnTo>
                      <a:pt x="381" y="0"/>
                    </a:lnTo>
                    <a:close/>
                  </a:path>
                </a:pathLst>
              </a:custGeom>
              <a:solidFill>
                <a:srgbClr val="6f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257"/>
              <p:cNvSpPr/>
              <p:nvPr/>
            </p:nvSpPr>
            <p:spPr>
              <a:xfrm>
                <a:off x="6022800" y="4745160"/>
                <a:ext cx="115200" cy="131400"/>
              </a:xfrm>
              <a:custGeom>
                <a:avLst/>
                <a:gdLst/>
                <a:ahLst/>
                <a:rect l="l" t="t" r="r" b="b"/>
                <a:pathLst>
                  <a:path w="1111" h="1591">
                    <a:moveTo>
                      <a:pt x="944" y="142"/>
                    </a:moveTo>
                    <a:lnTo>
                      <a:pt x="870" y="18"/>
                    </a:lnTo>
                    <a:lnTo>
                      <a:pt x="867" y="9"/>
                    </a:lnTo>
                    <a:lnTo>
                      <a:pt x="862" y="4"/>
                    </a:lnTo>
                    <a:lnTo>
                      <a:pt x="862" y="0"/>
                    </a:lnTo>
                    <a:lnTo>
                      <a:pt x="862" y="0"/>
                    </a:lnTo>
                    <a:lnTo>
                      <a:pt x="773" y="36"/>
                    </a:lnTo>
                    <a:lnTo>
                      <a:pt x="773" y="55"/>
                    </a:lnTo>
                    <a:lnTo>
                      <a:pt x="771" y="73"/>
                    </a:lnTo>
                    <a:lnTo>
                      <a:pt x="769" y="91"/>
                    </a:lnTo>
                    <a:lnTo>
                      <a:pt x="767" y="110"/>
                    </a:lnTo>
                    <a:lnTo>
                      <a:pt x="758" y="147"/>
                    </a:lnTo>
                    <a:lnTo>
                      <a:pt x="748" y="183"/>
                    </a:lnTo>
                    <a:lnTo>
                      <a:pt x="737" y="221"/>
                    </a:lnTo>
                    <a:lnTo>
                      <a:pt x="725" y="260"/>
                    </a:lnTo>
                    <a:lnTo>
                      <a:pt x="723" y="264"/>
                    </a:lnTo>
                    <a:lnTo>
                      <a:pt x="722" y="269"/>
                    </a:lnTo>
                    <a:lnTo>
                      <a:pt x="720" y="272"/>
                    </a:lnTo>
                    <a:lnTo>
                      <a:pt x="717" y="278"/>
                    </a:lnTo>
                    <a:lnTo>
                      <a:pt x="709" y="301"/>
                    </a:lnTo>
                    <a:lnTo>
                      <a:pt x="699" y="325"/>
                    </a:lnTo>
                    <a:lnTo>
                      <a:pt x="689" y="351"/>
                    </a:lnTo>
                    <a:lnTo>
                      <a:pt x="678" y="375"/>
                    </a:lnTo>
                    <a:lnTo>
                      <a:pt x="666" y="401"/>
                    </a:lnTo>
                    <a:lnTo>
                      <a:pt x="654" y="425"/>
                    </a:lnTo>
                    <a:lnTo>
                      <a:pt x="641" y="451"/>
                    </a:lnTo>
                    <a:lnTo>
                      <a:pt x="628" y="476"/>
                    </a:lnTo>
                    <a:lnTo>
                      <a:pt x="610" y="507"/>
                    </a:lnTo>
                    <a:lnTo>
                      <a:pt x="589" y="542"/>
                    </a:lnTo>
                    <a:lnTo>
                      <a:pt x="566" y="579"/>
                    </a:lnTo>
                    <a:lnTo>
                      <a:pt x="539" y="619"/>
                    </a:lnTo>
                    <a:lnTo>
                      <a:pt x="509" y="664"/>
                    </a:lnTo>
                    <a:lnTo>
                      <a:pt x="477" y="709"/>
                    </a:lnTo>
                    <a:lnTo>
                      <a:pt x="443" y="759"/>
                    </a:lnTo>
                    <a:lnTo>
                      <a:pt x="405" y="811"/>
                    </a:lnTo>
                    <a:lnTo>
                      <a:pt x="364" y="866"/>
                    </a:lnTo>
                    <a:lnTo>
                      <a:pt x="321" y="925"/>
                    </a:lnTo>
                    <a:lnTo>
                      <a:pt x="274" y="986"/>
                    </a:lnTo>
                    <a:lnTo>
                      <a:pt x="224" y="1051"/>
                    </a:lnTo>
                    <a:lnTo>
                      <a:pt x="173" y="1118"/>
                    </a:lnTo>
                    <a:lnTo>
                      <a:pt x="118" y="1189"/>
                    </a:lnTo>
                    <a:lnTo>
                      <a:pt x="60" y="1262"/>
                    </a:lnTo>
                    <a:lnTo>
                      <a:pt x="0" y="1339"/>
                    </a:lnTo>
                    <a:lnTo>
                      <a:pt x="60" y="1384"/>
                    </a:lnTo>
                    <a:lnTo>
                      <a:pt x="80" y="1361"/>
                    </a:lnTo>
                    <a:lnTo>
                      <a:pt x="100" y="1339"/>
                    </a:lnTo>
                    <a:lnTo>
                      <a:pt x="120" y="1320"/>
                    </a:lnTo>
                    <a:lnTo>
                      <a:pt x="141" y="1302"/>
                    </a:lnTo>
                    <a:lnTo>
                      <a:pt x="152" y="1296"/>
                    </a:lnTo>
                    <a:lnTo>
                      <a:pt x="163" y="1289"/>
                    </a:lnTo>
                    <a:lnTo>
                      <a:pt x="173" y="1282"/>
                    </a:lnTo>
                    <a:lnTo>
                      <a:pt x="184" y="1277"/>
                    </a:lnTo>
                    <a:lnTo>
                      <a:pt x="195" y="1271"/>
                    </a:lnTo>
                    <a:lnTo>
                      <a:pt x="208" y="1267"/>
                    </a:lnTo>
                    <a:lnTo>
                      <a:pt x="219" y="1263"/>
                    </a:lnTo>
                    <a:lnTo>
                      <a:pt x="230" y="1260"/>
                    </a:lnTo>
                    <a:lnTo>
                      <a:pt x="242" y="1257"/>
                    </a:lnTo>
                    <a:lnTo>
                      <a:pt x="253" y="1256"/>
                    </a:lnTo>
                    <a:lnTo>
                      <a:pt x="265" y="1253"/>
                    </a:lnTo>
                    <a:lnTo>
                      <a:pt x="278" y="1253"/>
                    </a:lnTo>
                    <a:lnTo>
                      <a:pt x="290" y="1253"/>
                    </a:lnTo>
                    <a:lnTo>
                      <a:pt x="302" y="1253"/>
                    </a:lnTo>
                    <a:lnTo>
                      <a:pt x="314" y="1255"/>
                    </a:lnTo>
                    <a:lnTo>
                      <a:pt x="326" y="1257"/>
                    </a:lnTo>
                    <a:lnTo>
                      <a:pt x="339" y="1259"/>
                    </a:lnTo>
                    <a:lnTo>
                      <a:pt x="352" y="1261"/>
                    </a:lnTo>
                    <a:lnTo>
                      <a:pt x="364" y="1266"/>
                    </a:lnTo>
                    <a:lnTo>
                      <a:pt x="377" y="1269"/>
                    </a:lnTo>
                    <a:lnTo>
                      <a:pt x="403" y="1280"/>
                    </a:lnTo>
                    <a:lnTo>
                      <a:pt x="429" y="1292"/>
                    </a:lnTo>
                    <a:lnTo>
                      <a:pt x="435" y="1294"/>
                    </a:lnTo>
                    <a:lnTo>
                      <a:pt x="444" y="1296"/>
                    </a:lnTo>
                    <a:lnTo>
                      <a:pt x="445" y="1299"/>
                    </a:lnTo>
                    <a:lnTo>
                      <a:pt x="447" y="1299"/>
                    </a:lnTo>
                    <a:lnTo>
                      <a:pt x="452" y="1303"/>
                    </a:lnTo>
                    <a:lnTo>
                      <a:pt x="454" y="1307"/>
                    </a:lnTo>
                    <a:lnTo>
                      <a:pt x="484" y="1323"/>
                    </a:lnTo>
                    <a:lnTo>
                      <a:pt x="515" y="1343"/>
                    </a:lnTo>
                    <a:lnTo>
                      <a:pt x="530" y="1354"/>
                    </a:lnTo>
                    <a:lnTo>
                      <a:pt x="545" y="1367"/>
                    </a:lnTo>
                    <a:lnTo>
                      <a:pt x="560" y="1379"/>
                    </a:lnTo>
                    <a:lnTo>
                      <a:pt x="575" y="1392"/>
                    </a:lnTo>
                    <a:lnTo>
                      <a:pt x="888" y="1591"/>
                    </a:lnTo>
                    <a:lnTo>
                      <a:pt x="904" y="1551"/>
                    </a:lnTo>
                    <a:lnTo>
                      <a:pt x="920" y="1508"/>
                    </a:lnTo>
                    <a:lnTo>
                      <a:pt x="935" y="1464"/>
                    </a:lnTo>
                    <a:lnTo>
                      <a:pt x="950" y="1418"/>
                    </a:lnTo>
                    <a:lnTo>
                      <a:pt x="963" y="1369"/>
                    </a:lnTo>
                    <a:lnTo>
                      <a:pt x="978" y="1317"/>
                    </a:lnTo>
                    <a:lnTo>
                      <a:pt x="991" y="1263"/>
                    </a:lnTo>
                    <a:lnTo>
                      <a:pt x="1003" y="1207"/>
                    </a:lnTo>
                    <a:lnTo>
                      <a:pt x="1015" y="1149"/>
                    </a:lnTo>
                    <a:lnTo>
                      <a:pt x="1026" y="1088"/>
                    </a:lnTo>
                    <a:lnTo>
                      <a:pt x="1037" y="1025"/>
                    </a:lnTo>
                    <a:lnTo>
                      <a:pt x="1049" y="960"/>
                    </a:lnTo>
                    <a:lnTo>
                      <a:pt x="1059" y="892"/>
                    </a:lnTo>
                    <a:lnTo>
                      <a:pt x="1068" y="822"/>
                    </a:lnTo>
                    <a:lnTo>
                      <a:pt x="1077" y="749"/>
                    </a:lnTo>
                    <a:lnTo>
                      <a:pt x="1086" y="675"/>
                    </a:lnTo>
                    <a:lnTo>
                      <a:pt x="1095" y="636"/>
                    </a:lnTo>
                    <a:lnTo>
                      <a:pt x="1102" y="599"/>
                    </a:lnTo>
                    <a:lnTo>
                      <a:pt x="1107" y="563"/>
                    </a:lnTo>
                    <a:lnTo>
                      <a:pt x="1110" y="528"/>
                    </a:lnTo>
                    <a:lnTo>
                      <a:pt x="1111" y="495"/>
                    </a:lnTo>
                    <a:lnTo>
                      <a:pt x="1110" y="463"/>
                    </a:lnTo>
                    <a:lnTo>
                      <a:pt x="1106" y="433"/>
                    </a:lnTo>
                    <a:lnTo>
                      <a:pt x="1101" y="404"/>
                    </a:lnTo>
                    <a:lnTo>
                      <a:pt x="1097" y="390"/>
                    </a:lnTo>
                    <a:lnTo>
                      <a:pt x="1093" y="376"/>
                    </a:lnTo>
                    <a:lnTo>
                      <a:pt x="1088" y="362"/>
                    </a:lnTo>
                    <a:lnTo>
                      <a:pt x="1084" y="350"/>
                    </a:lnTo>
                    <a:lnTo>
                      <a:pt x="1078" y="336"/>
                    </a:lnTo>
                    <a:lnTo>
                      <a:pt x="1073" y="324"/>
                    </a:lnTo>
                    <a:lnTo>
                      <a:pt x="1066" y="312"/>
                    </a:lnTo>
                    <a:lnTo>
                      <a:pt x="1060" y="301"/>
                    </a:lnTo>
                    <a:lnTo>
                      <a:pt x="1052" y="290"/>
                    </a:lnTo>
                    <a:lnTo>
                      <a:pt x="1044" y="279"/>
                    </a:lnTo>
                    <a:lnTo>
                      <a:pt x="1036" y="268"/>
                    </a:lnTo>
                    <a:lnTo>
                      <a:pt x="1027" y="258"/>
                    </a:lnTo>
                    <a:lnTo>
                      <a:pt x="1017" y="248"/>
                    </a:lnTo>
                    <a:lnTo>
                      <a:pt x="1007" y="239"/>
                    </a:lnTo>
                    <a:lnTo>
                      <a:pt x="997" y="229"/>
                    </a:lnTo>
                    <a:lnTo>
                      <a:pt x="986" y="220"/>
                    </a:lnTo>
                    <a:lnTo>
                      <a:pt x="944" y="1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258"/>
              <p:cNvSpPr/>
              <p:nvPr/>
            </p:nvSpPr>
            <p:spPr>
              <a:xfrm>
                <a:off x="5926680" y="4707720"/>
                <a:ext cx="170280" cy="192600"/>
              </a:xfrm>
              <a:custGeom>
                <a:avLst/>
                <a:gdLst/>
                <a:ahLst/>
                <a:rect l="l" t="t" r="r" b="b"/>
                <a:pathLst>
                  <a:path w="1638" h="2322">
                    <a:moveTo>
                      <a:pt x="1638" y="726"/>
                    </a:moveTo>
                    <a:lnTo>
                      <a:pt x="1620" y="718"/>
                    </a:lnTo>
                    <a:lnTo>
                      <a:pt x="1607" y="701"/>
                    </a:lnTo>
                    <a:lnTo>
                      <a:pt x="1595" y="685"/>
                    </a:lnTo>
                    <a:lnTo>
                      <a:pt x="1582" y="666"/>
                    </a:lnTo>
                    <a:lnTo>
                      <a:pt x="1570" y="647"/>
                    </a:lnTo>
                    <a:lnTo>
                      <a:pt x="1558" y="627"/>
                    </a:lnTo>
                    <a:lnTo>
                      <a:pt x="1547" y="606"/>
                    </a:lnTo>
                    <a:lnTo>
                      <a:pt x="1536" y="584"/>
                    </a:lnTo>
                    <a:lnTo>
                      <a:pt x="1525" y="560"/>
                    </a:lnTo>
                    <a:lnTo>
                      <a:pt x="1515" y="537"/>
                    </a:lnTo>
                    <a:lnTo>
                      <a:pt x="1505" y="513"/>
                    </a:lnTo>
                    <a:lnTo>
                      <a:pt x="1495" y="487"/>
                    </a:lnTo>
                    <a:lnTo>
                      <a:pt x="1486" y="461"/>
                    </a:lnTo>
                    <a:lnTo>
                      <a:pt x="1477" y="433"/>
                    </a:lnTo>
                    <a:lnTo>
                      <a:pt x="1469" y="405"/>
                    </a:lnTo>
                    <a:lnTo>
                      <a:pt x="1461" y="375"/>
                    </a:lnTo>
                    <a:lnTo>
                      <a:pt x="1454" y="345"/>
                    </a:lnTo>
                    <a:lnTo>
                      <a:pt x="1440" y="382"/>
                    </a:lnTo>
                    <a:lnTo>
                      <a:pt x="1426" y="417"/>
                    </a:lnTo>
                    <a:lnTo>
                      <a:pt x="1412" y="453"/>
                    </a:lnTo>
                    <a:lnTo>
                      <a:pt x="1397" y="487"/>
                    </a:lnTo>
                    <a:lnTo>
                      <a:pt x="1385" y="515"/>
                    </a:lnTo>
                    <a:lnTo>
                      <a:pt x="1372" y="542"/>
                    </a:lnTo>
                    <a:lnTo>
                      <a:pt x="1359" y="568"/>
                    </a:lnTo>
                    <a:lnTo>
                      <a:pt x="1346" y="595"/>
                    </a:lnTo>
                    <a:lnTo>
                      <a:pt x="1333" y="620"/>
                    </a:lnTo>
                    <a:lnTo>
                      <a:pt x="1318" y="646"/>
                    </a:lnTo>
                    <a:lnTo>
                      <a:pt x="1305" y="671"/>
                    </a:lnTo>
                    <a:lnTo>
                      <a:pt x="1291" y="697"/>
                    </a:lnTo>
                    <a:lnTo>
                      <a:pt x="1271" y="728"/>
                    </a:lnTo>
                    <a:lnTo>
                      <a:pt x="1248" y="759"/>
                    </a:lnTo>
                    <a:lnTo>
                      <a:pt x="1226" y="790"/>
                    </a:lnTo>
                    <a:lnTo>
                      <a:pt x="1205" y="821"/>
                    </a:lnTo>
                    <a:lnTo>
                      <a:pt x="1173" y="861"/>
                    </a:lnTo>
                    <a:lnTo>
                      <a:pt x="1140" y="900"/>
                    </a:lnTo>
                    <a:lnTo>
                      <a:pt x="1123" y="919"/>
                    </a:lnTo>
                    <a:lnTo>
                      <a:pt x="1106" y="937"/>
                    </a:lnTo>
                    <a:lnTo>
                      <a:pt x="1089" y="956"/>
                    </a:lnTo>
                    <a:lnTo>
                      <a:pt x="1070" y="974"/>
                    </a:lnTo>
                    <a:lnTo>
                      <a:pt x="1066" y="976"/>
                    </a:lnTo>
                    <a:lnTo>
                      <a:pt x="1066" y="977"/>
                    </a:lnTo>
                    <a:lnTo>
                      <a:pt x="1045" y="998"/>
                    </a:lnTo>
                    <a:lnTo>
                      <a:pt x="1024" y="1018"/>
                    </a:lnTo>
                    <a:lnTo>
                      <a:pt x="1002" y="1038"/>
                    </a:lnTo>
                    <a:lnTo>
                      <a:pt x="980" y="1057"/>
                    </a:lnTo>
                    <a:lnTo>
                      <a:pt x="958" y="1076"/>
                    </a:lnTo>
                    <a:lnTo>
                      <a:pt x="934" y="1095"/>
                    </a:lnTo>
                    <a:lnTo>
                      <a:pt x="911" y="1113"/>
                    </a:lnTo>
                    <a:lnTo>
                      <a:pt x="889" y="1129"/>
                    </a:lnTo>
                    <a:lnTo>
                      <a:pt x="887" y="1129"/>
                    </a:lnTo>
                    <a:lnTo>
                      <a:pt x="886" y="1130"/>
                    </a:lnTo>
                    <a:lnTo>
                      <a:pt x="886" y="1131"/>
                    </a:lnTo>
                    <a:lnTo>
                      <a:pt x="886" y="1134"/>
                    </a:lnTo>
                    <a:lnTo>
                      <a:pt x="883" y="1134"/>
                    </a:lnTo>
                    <a:lnTo>
                      <a:pt x="881" y="1134"/>
                    </a:lnTo>
                    <a:lnTo>
                      <a:pt x="880" y="1135"/>
                    </a:lnTo>
                    <a:lnTo>
                      <a:pt x="878" y="1137"/>
                    </a:lnTo>
                    <a:lnTo>
                      <a:pt x="855" y="1154"/>
                    </a:lnTo>
                    <a:lnTo>
                      <a:pt x="831" y="1170"/>
                    </a:lnTo>
                    <a:lnTo>
                      <a:pt x="806" y="1187"/>
                    </a:lnTo>
                    <a:lnTo>
                      <a:pt x="781" y="1204"/>
                    </a:lnTo>
                    <a:lnTo>
                      <a:pt x="755" y="1219"/>
                    </a:lnTo>
                    <a:lnTo>
                      <a:pt x="729" y="1235"/>
                    </a:lnTo>
                    <a:lnTo>
                      <a:pt x="703" y="1250"/>
                    </a:lnTo>
                    <a:lnTo>
                      <a:pt x="676" y="1265"/>
                    </a:lnTo>
                    <a:lnTo>
                      <a:pt x="647" y="1215"/>
                    </a:lnTo>
                    <a:lnTo>
                      <a:pt x="674" y="1200"/>
                    </a:lnTo>
                    <a:lnTo>
                      <a:pt x="700" y="1185"/>
                    </a:lnTo>
                    <a:lnTo>
                      <a:pt x="726" y="1168"/>
                    </a:lnTo>
                    <a:lnTo>
                      <a:pt x="751" y="1153"/>
                    </a:lnTo>
                    <a:lnTo>
                      <a:pt x="776" y="1136"/>
                    </a:lnTo>
                    <a:lnTo>
                      <a:pt x="801" y="1119"/>
                    </a:lnTo>
                    <a:lnTo>
                      <a:pt x="826" y="1104"/>
                    </a:lnTo>
                    <a:lnTo>
                      <a:pt x="850" y="1087"/>
                    </a:lnTo>
                    <a:lnTo>
                      <a:pt x="873" y="1068"/>
                    </a:lnTo>
                    <a:lnTo>
                      <a:pt x="897" y="1049"/>
                    </a:lnTo>
                    <a:lnTo>
                      <a:pt x="919" y="1031"/>
                    </a:lnTo>
                    <a:lnTo>
                      <a:pt x="941" y="1012"/>
                    </a:lnTo>
                    <a:lnTo>
                      <a:pt x="963" y="992"/>
                    </a:lnTo>
                    <a:lnTo>
                      <a:pt x="984" y="972"/>
                    </a:lnTo>
                    <a:lnTo>
                      <a:pt x="1005" y="952"/>
                    </a:lnTo>
                    <a:lnTo>
                      <a:pt x="1028" y="931"/>
                    </a:lnTo>
                    <a:lnTo>
                      <a:pt x="1059" y="896"/>
                    </a:lnTo>
                    <a:lnTo>
                      <a:pt x="1091" y="861"/>
                    </a:lnTo>
                    <a:lnTo>
                      <a:pt x="1123" y="824"/>
                    </a:lnTo>
                    <a:lnTo>
                      <a:pt x="1155" y="786"/>
                    </a:lnTo>
                    <a:lnTo>
                      <a:pt x="1174" y="756"/>
                    </a:lnTo>
                    <a:lnTo>
                      <a:pt x="1194" y="726"/>
                    </a:lnTo>
                    <a:lnTo>
                      <a:pt x="1214" y="695"/>
                    </a:lnTo>
                    <a:lnTo>
                      <a:pt x="1233" y="665"/>
                    </a:lnTo>
                    <a:lnTo>
                      <a:pt x="1248" y="641"/>
                    </a:lnTo>
                    <a:lnTo>
                      <a:pt x="1263" y="617"/>
                    </a:lnTo>
                    <a:lnTo>
                      <a:pt x="1277" y="593"/>
                    </a:lnTo>
                    <a:lnTo>
                      <a:pt x="1291" y="568"/>
                    </a:lnTo>
                    <a:lnTo>
                      <a:pt x="1303" y="544"/>
                    </a:lnTo>
                    <a:lnTo>
                      <a:pt x="1316" y="518"/>
                    </a:lnTo>
                    <a:lnTo>
                      <a:pt x="1328" y="493"/>
                    </a:lnTo>
                    <a:lnTo>
                      <a:pt x="1339" y="466"/>
                    </a:lnTo>
                    <a:lnTo>
                      <a:pt x="1350" y="440"/>
                    </a:lnTo>
                    <a:lnTo>
                      <a:pt x="1360" y="413"/>
                    </a:lnTo>
                    <a:lnTo>
                      <a:pt x="1370" y="386"/>
                    </a:lnTo>
                    <a:lnTo>
                      <a:pt x="1379" y="359"/>
                    </a:lnTo>
                    <a:lnTo>
                      <a:pt x="1389" y="331"/>
                    </a:lnTo>
                    <a:lnTo>
                      <a:pt x="1398" y="303"/>
                    </a:lnTo>
                    <a:lnTo>
                      <a:pt x="1406" y="275"/>
                    </a:lnTo>
                    <a:lnTo>
                      <a:pt x="1415" y="246"/>
                    </a:lnTo>
                    <a:lnTo>
                      <a:pt x="1397" y="76"/>
                    </a:lnTo>
                    <a:lnTo>
                      <a:pt x="1392" y="76"/>
                    </a:lnTo>
                    <a:lnTo>
                      <a:pt x="1386" y="76"/>
                    </a:lnTo>
                    <a:lnTo>
                      <a:pt x="1377" y="76"/>
                    </a:lnTo>
                    <a:lnTo>
                      <a:pt x="1368" y="75"/>
                    </a:lnTo>
                    <a:lnTo>
                      <a:pt x="1365" y="74"/>
                    </a:lnTo>
                    <a:lnTo>
                      <a:pt x="1360" y="73"/>
                    </a:lnTo>
                    <a:lnTo>
                      <a:pt x="1357" y="70"/>
                    </a:lnTo>
                    <a:lnTo>
                      <a:pt x="1354" y="68"/>
                    </a:lnTo>
                    <a:lnTo>
                      <a:pt x="1331" y="53"/>
                    </a:lnTo>
                    <a:lnTo>
                      <a:pt x="1308" y="36"/>
                    </a:lnTo>
                    <a:lnTo>
                      <a:pt x="1288" y="19"/>
                    </a:lnTo>
                    <a:lnTo>
                      <a:pt x="1268" y="0"/>
                    </a:lnTo>
                    <a:lnTo>
                      <a:pt x="1264" y="35"/>
                    </a:lnTo>
                    <a:lnTo>
                      <a:pt x="1257" y="67"/>
                    </a:lnTo>
                    <a:lnTo>
                      <a:pt x="1251" y="100"/>
                    </a:lnTo>
                    <a:lnTo>
                      <a:pt x="1244" y="132"/>
                    </a:lnTo>
                    <a:lnTo>
                      <a:pt x="1236" y="165"/>
                    </a:lnTo>
                    <a:lnTo>
                      <a:pt x="1227" y="196"/>
                    </a:lnTo>
                    <a:lnTo>
                      <a:pt x="1218" y="227"/>
                    </a:lnTo>
                    <a:lnTo>
                      <a:pt x="1208" y="258"/>
                    </a:lnTo>
                    <a:lnTo>
                      <a:pt x="1197" y="289"/>
                    </a:lnTo>
                    <a:lnTo>
                      <a:pt x="1186" y="319"/>
                    </a:lnTo>
                    <a:lnTo>
                      <a:pt x="1175" y="348"/>
                    </a:lnTo>
                    <a:lnTo>
                      <a:pt x="1162" y="377"/>
                    </a:lnTo>
                    <a:lnTo>
                      <a:pt x="1150" y="406"/>
                    </a:lnTo>
                    <a:lnTo>
                      <a:pt x="1135" y="434"/>
                    </a:lnTo>
                    <a:lnTo>
                      <a:pt x="1121" y="463"/>
                    </a:lnTo>
                    <a:lnTo>
                      <a:pt x="1106" y="489"/>
                    </a:lnTo>
                    <a:lnTo>
                      <a:pt x="1091" y="517"/>
                    </a:lnTo>
                    <a:lnTo>
                      <a:pt x="1074" y="544"/>
                    </a:lnTo>
                    <a:lnTo>
                      <a:pt x="1058" y="570"/>
                    </a:lnTo>
                    <a:lnTo>
                      <a:pt x="1040" y="597"/>
                    </a:lnTo>
                    <a:lnTo>
                      <a:pt x="1022" y="623"/>
                    </a:lnTo>
                    <a:lnTo>
                      <a:pt x="1003" y="648"/>
                    </a:lnTo>
                    <a:lnTo>
                      <a:pt x="983" y="672"/>
                    </a:lnTo>
                    <a:lnTo>
                      <a:pt x="963" y="697"/>
                    </a:lnTo>
                    <a:lnTo>
                      <a:pt x="942" y="721"/>
                    </a:lnTo>
                    <a:lnTo>
                      <a:pt x="921" y="744"/>
                    </a:lnTo>
                    <a:lnTo>
                      <a:pt x="899" y="768"/>
                    </a:lnTo>
                    <a:lnTo>
                      <a:pt x="876" y="791"/>
                    </a:lnTo>
                    <a:lnTo>
                      <a:pt x="852" y="813"/>
                    </a:lnTo>
                    <a:lnTo>
                      <a:pt x="829" y="835"/>
                    </a:lnTo>
                    <a:lnTo>
                      <a:pt x="804" y="856"/>
                    </a:lnTo>
                    <a:lnTo>
                      <a:pt x="779" y="878"/>
                    </a:lnTo>
                    <a:lnTo>
                      <a:pt x="728" y="920"/>
                    </a:lnTo>
                    <a:lnTo>
                      <a:pt x="677" y="960"/>
                    </a:lnTo>
                    <a:lnTo>
                      <a:pt x="627" y="997"/>
                    </a:lnTo>
                    <a:lnTo>
                      <a:pt x="578" y="1034"/>
                    </a:lnTo>
                    <a:lnTo>
                      <a:pt x="530" y="1068"/>
                    </a:lnTo>
                    <a:lnTo>
                      <a:pt x="482" y="1100"/>
                    </a:lnTo>
                    <a:lnTo>
                      <a:pt x="435" y="1131"/>
                    </a:lnTo>
                    <a:lnTo>
                      <a:pt x="389" y="1160"/>
                    </a:lnTo>
                    <a:lnTo>
                      <a:pt x="343" y="1187"/>
                    </a:lnTo>
                    <a:lnTo>
                      <a:pt x="298" y="1212"/>
                    </a:lnTo>
                    <a:lnTo>
                      <a:pt x="253" y="1236"/>
                    </a:lnTo>
                    <a:lnTo>
                      <a:pt x="210" y="1257"/>
                    </a:lnTo>
                    <a:lnTo>
                      <a:pt x="167" y="1277"/>
                    </a:lnTo>
                    <a:lnTo>
                      <a:pt x="126" y="1294"/>
                    </a:lnTo>
                    <a:lnTo>
                      <a:pt x="84" y="1311"/>
                    </a:lnTo>
                    <a:lnTo>
                      <a:pt x="44" y="1324"/>
                    </a:lnTo>
                    <a:lnTo>
                      <a:pt x="36" y="1339"/>
                    </a:lnTo>
                    <a:lnTo>
                      <a:pt x="28" y="1353"/>
                    </a:lnTo>
                    <a:lnTo>
                      <a:pt x="21" y="1369"/>
                    </a:lnTo>
                    <a:lnTo>
                      <a:pt x="16" y="1384"/>
                    </a:lnTo>
                    <a:lnTo>
                      <a:pt x="11" y="1400"/>
                    </a:lnTo>
                    <a:lnTo>
                      <a:pt x="7" y="1416"/>
                    </a:lnTo>
                    <a:lnTo>
                      <a:pt x="4" y="1433"/>
                    </a:lnTo>
                    <a:lnTo>
                      <a:pt x="1" y="1450"/>
                    </a:lnTo>
                    <a:lnTo>
                      <a:pt x="0" y="1467"/>
                    </a:lnTo>
                    <a:lnTo>
                      <a:pt x="0" y="1485"/>
                    </a:lnTo>
                    <a:lnTo>
                      <a:pt x="0" y="1504"/>
                    </a:lnTo>
                    <a:lnTo>
                      <a:pt x="1" y="1523"/>
                    </a:lnTo>
                    <a:lnTo>
                      <a:pt x="4" y="1542"/>
                    </a:lnTo>
                    <a:lnTo>
                      <a:pt x="7" y="1562"/>
                    </a:lnTo>
                    <a:lnTo>
                      <a:pt x="10" y="1582"/>
                    </a:lnTo>
                    <a:lnTo>
                      <a:pt x="15" y="1603"/>
                    </a:lnTo>
                    <a:lnTo>
                      <a:pt x="20" y="1623"/>
                    </a:lnTo>
                    <a:lnTo>
                      <a:pt x="27" y="1645"/>
                    </a:lnTo>
                    <a:lnTo>
                      <a:pt x="35" y="1666"/>
                    </a:lnTo>
                    <a:lnTo>
                      <a:pt x="43" y="1688"/>
                    </a:lnTo>
                    <a:lnTo>
                      <a:pt x="53" y="1711"/>
                    </a:lnTo>
                    <a:lnTo>
                      <a:pt x="63" y="1735"/>
                    </a:lnTo>
                    <a:lnTo>
                      <a:pt x="72" y="1758"/>
                    </a:lnTo>
                    <a:lnTo>
                      <a:pt x="85" y="1781"/>
                    </a:lnTo>
                    <a:lnTo>
                      <a:pt x="97" y="1806"/>
                    </a:lnTo>
                    <a:lnTo>
                      <a:pt x="110" y="1831"/>
                    </a:lnTo>
                    <a:lnTo>
                      <a:pt x="125" y="1856"/>
                    </a:lnTo>
                    <a:lnTo>
                      <a:pt x="140" y="1882"/>
                    </a:lnTo>
                    <a:lnTo>
                      <a:pt x="173" y="1934"/>
                    </a:lnTo>
                    <a:lnTo>
                      <a:pt x="210" y="1989"/>
                    </a:lnTo>
                    <a:lnTo>
                      <a:pt x="232" y="2021"/>
                    </a:lnTo>
                    <a:lnTo>
                      <a:pt x="256" y="2055"/>
                    </a:lnTo>
                    <a:lnTo>
                      <a:pt x="280" y="2090"/>
                    </a:lnTo>
                    <a:lnTo>
                      <a:pt x="307" y="2124"/>
                    </a:lnTo>
                    <a:lnTo>
                      <a:pt x="317" y="2153"/>
                    </a:lnTo>
                    <a:lnTo>
                      <a:pt x="327" y="2179"/>
                    </a:lnTo>
                    <a:lnTo>
                      <a:pt x="335" y="2206"/>
                    </a:lnTo>
                    <a:lnTo>
                      <a:pt x="345" y="2230"/>
                    </a:lnTo>
                    <a:lnTo>
                      <a:pt x="356" y="2263"/>
                    </a:lnTo>
                    <a:lnTo>
                      <a:pt x="361" y="2276"/>
                    </a:lnTo>
                    <a:lnTo>
                      <a:pt x="366" y="2291"/>
                    </a:lnTo>
                    <a:lnTo>
                      <a:pt x="371" y="2307"/>
                    </a:lnTo>
                    <a:lnTo>
                      <a:pt x="374" y="2322"/>
                    </a:lnTo>
                    <a:lnTo>
                      <a:pt x="382" y="2304"/>
                    </a:lnTo>
                    <a:lnTo>
                      <a:pt x="391" y="2285"/>
                    </a:lnTo>
                    <a:lnTo>
                      <a:pt x="400" y="2266"/>
                    </a:lnTo>
                    <a:lnTo>
                      <a:pt x="410" y="2247"/>
                    </a:lnTo>
                    <a:lnTo>
                      <a:pt x="421" y="2228"/>
                    </a:lnTo>
                    <a:lnTo>
                      <a:pt x="432" y="2210"/>
                    </a:lnTo>
                    <a:lnTo>
                      <a:pt x="443" y="2192"/>
                    </a:lnTo>
                    <a:lnTo>
                      <a:pt x="455" y="2174"/>
                    </a:lnTo>
                    <a:lnTo>
                      <a:pt x="481" y="2138"/>
                    </a:lnTo>
                    <a:lnTo>
                      <a:pt x="508" y="2104"/>
                    </a:lnTo>
                    <a:lnTo>
                      <a:pt x="540" y="2071"/>
                    </a:lnTo>
                    <a:lnTo>
                      <a:pt x="572" y="2037"/>
                    </a:lnTo>
                    <a:lnTo>
                      <a:pt x="606" y="2005"/>
                    </a:lnTo>
                    <a:lnTo>
                      <a:pt x="643" y="1974"/>
                    </a:lnTo>
                    <a:lnTo>
                      <a:pt x="682" y="1943"/>
                    </a:lnTo>
                    <a:lnTo>
                      <a:pt x="723" y="1913"/>
                    </a:lnTo>
                    <a:lnTo>
                      <a:pt x="766" y="1884"/>
                    </a:lnTo>
                    <a:lnTo>
                      <a:pt x="812" y="1856"/>
                    </a:lnTo>
                    <a:lnTo>
                      <a:pt x="860" y="1828"/>
                    </a:lnTo>
                    <a:lnTo>
                      <a:pt x="910" y="1800"/>
                    </a:lnTo>
                    <a:lnTo>
                      <a:pt x="912" y="1798"/>
                    </a:lnTo>
                    <a:lnTo>
                      <a:pt x="913" y="1793"/>
                    </a:lnTo>
                    <a:lnTo>
                      <a:pt x="917" y="1790"/>
                    </a:lnTo>
                    <a:lnTo>
                      <a:pt x="921" y="1787"/>
                    </a:lnTo>
                    <a:lnTo>
                      <a:pt x="981" y="1710"/>
                    </a:lnTo>
                    <a:lnTo>
                      <a:pt x="1039" y="1637"/>
                    </a:lnTo>
                    <a:lnTo>
                      <a:pt x="1094" y="1566"/>
                    </a:lnTo>
                    <a:lnTo>
                      <a:pt x="1145" y="1499"/>
                    </a:lnTo>
                    <a:lnTo>
                      <a:pt x="1195" y="1434"/>
                    </a:lnTo>
                    <a:lnTo>
                      <a:pt x="1242" y="1373"/>
                    </a:lnTo>
                    <a:lnTo>
                      <a:pt x="1285" y="1314"/>
                    </a:lnTo>
                    <a:lnTo>
                      <a:pt x="1326" y="1259"/>
                    </a:lnTo>
                    <a:lnTo>
                      <a:pt x="1364" y="1207"/>
                    </a:lnTo>
                    <a:lnTo>
                      <a:pt x="1398" y="1157"/>
                    </a:lnTo>
                    <a:lnTo>
                      <a:pt x="1430" y="1112"/>
                    </a:lnTo>
                    <a:lnTo>
                      <a:pt x="1460" y="1067"/>
                    </a:lnTo>
                    <a:lnTo>
                      <a:pt x="1487" y="1027"/>
                    </a:lnTo>
                    <a:lnTo>
                      <a:pt x="1510" y="990"/>
                    </a:lnTo>
                    <a:lnTo>
                      <a:pt x="1531" y="955"/>
                    </a:lnTo>
                    <a:lnTo>
                      <a:pt x="1549" y="924"/>
                    </a:lnTo>
                    <a:lnTo>
                      <a:pt x="1562" y="899"/>
                    </a:lnTo>
                    <a:lnTo>
                      <a:pt x="1575" y="873"/>
                    </a:lnTo>
                    <a:lnTo>
                      <a:pt x="1587" y="849"/>
                    </a:lnTo>
                    <a:lnTo>
                      <a:pt x="1599" y="823"/>
                    </a:lnTo>
                    <a:lnTo>
                      <a:pt x="1610" y="799"/>
                    </a:lnTo>
                    <a:lnTo>
                      <a:pt x="1620" y="773"/>
                    </a:lnTo>
                    <a:lnTo>
                      <a:pt x="1630" y="749"/>
                    </a:lnTo>
                    <a:lnTo>
                      <a:pt x="1638" y="726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259"/>
              <p:cNvSpPr/>
              <p:nvPr/>
            </p:nvSpPr>
            <p:spPr>
              <a:xfrm>
                <a:off x="5966640" y="4756680"/>
                <a:ext cx="219240" cy="172080"/>
              </a:xfrm>
              <a:custGeom>
                <a:avLst/>
                <a:gdLst/>
                <a:ahLst/>
                <a:rect l="l" t="t" r="r" b="b"/>
                <a:pathLst>
                  <a:path w="2116" h="2080">
                    <a:moveTo>
                      <a:pt x="1491" y="7"/>
                    </a:moveTo>
                    <a:lnTo>
                      <a:pt x="1533" y="85"/>
                    </a:lnTo>
                    <a:lnTo>
                      <a:pt x="1544" y="94"/>
                    </a:lnTo>
                    <a:lnTo>
                      <a:pt x="1554" y="104"/>
                    </a:lnTo>
                    <a:lnTo>
                      <a:pt x="1564" y="113"/>
                    </a:lnTo>
                    <a:lnTo>
                      <a:pt x="1574" y="123"/>
                    </a:lnTo>
                    <a:lnTo>
                      <a:pt x="1583" y="133"/>
                    </a:lnTo>
                    <a:lnTo>
                      <a:pt x="1591" y="144"/>
                    </a:lnTo>
                    <a:lnTo>
                      <a:pt x="1599" y="155"/>
                    </a:lnTo>
                    <a:lnTo>
                      <a:pt x="1607" y="166"/>
                    </a:lnTo>
                    <a:lnTo>
                      <a:pt x="1613" y="177"/>
                    </a:lnTo>
                    <a:lnTo>
                      <a:pt x="1620" y="189"/>
                    </a:lnTo>
                    <a:lnTo>
                      <a:pt x="1625" y="201"/>
                    </a:lnTo>
                    <a:lnTo>
                      <a:pt x="1631" y="215"/>
                    </a:lnTo>
                    <a:lnTo>
                      <a:pt x="1635" y="227"/>
                    </a:lnTo>
                    <a:lnTo>
                      <a:pt x="1640" y="241"/>
                    </a:lnTo>
                    <a:lnTo>
                      <a:pt x="1644" y="255"/>
                    </a:lnTo>
                    <a:lnTo>
                      <a:pt x="1648" y="269"/>
                    </a:lnTo>
                    <a:lnTo>
                      <a:pt x="1653" y="298"/>
                    </a:lnTo>
                    <a:lnTo>
                      <a:pt x="1657" y="328"/>
                    </a:lnTo>
                    <a:lnTo>
                      <a:pt x="1658" y="360"/>
                    </a:lnTo>
                    <a:lnTo>
                      <a:pt x="1657" y="393"/>
                    </a:lnTo>
                    <a:lnTo>
                      <a:pt x="1654" y="428"/>
                    </a:lnTo>
                    <a:lnTo>
                      <a:pt x="1649" y="464"/>
                    </a:lnTo>
                    <a:lnTo>
                      <a:pt x="1642" y="501"/>
                    </a:lnTo>
                    <a:lnTo>
                      <a:pt x="1633" y="540"/>
                    </a:lnTo>
                    <a:lnTo>
                      <a:pt x="1624" y="614"/>
                    </a:lnTo>
                    <a:lnTo>
                      <a:pt x="1615" y="687"/>
                    </a:lnTo>
                    <a:lnTo>
                      <a:pt x="1606" y="757"/>
                    </a:lnTo>
                    <a:lnTo>
                      <a:pt x="1596" y="825"/>
                    </a:lnTo>
                    <a:lnTo>
                      <a:pt x="1584" y="890"/>
                    </a:lnTo>
                    <a:lnTo>
                      <a:pt x="1573" y="953"/>
                    </a:lnTo>
                    <a:lnTo>
                      <a:pt x="1562" y="1014"/>
                    </a:lnTo>
                    <a:lnTo>
                      <a:pt x="1550" y="1072"/>
                    </a:lnTo>
                    <a:lnTo>
                      <a:pt x="1538" y="1128"/>
                    </a:lnTo>
                    <a:lnTo>
                      <a:pt x="1525" y="1182"/>
                    </a:lnTo>
                    <a:lnTo>
                      <a:pt x="1510" y="1234"/>
                    </a:lnTo>
                    <a:lnTo>
                      <a:pt x="1497" y="1283"/>
                    </a:lnTo>
                    <a:lnTo>
                      <a:pt x="1482" y="1329"/>
                    </a:lnTo>
                    <a:lnTo>
                      <a:pt x="1467" y="1373"/>
                    </a:lnTo>
                    <a:lnTo>
                      <a:pt x="1451" y="1416"/>
                    </a:lnTo>
                    <a:lnTo>
                      <a:pt x="1435" y="1456"/>
                    </a:lnTo>
                    <a:lnTo>
                      <a:pt x="1122" y="1257"/>
                    </a:lnTo>
                    <a:lnTo>
                      <a:pt x="1107" y="1244"/>
                    </a:lnTo>
                    <a:lnTo>
                      <a:pt x="1092" y="1232"/>
                    </a:lnTo>
                    <a:lnTo>
                      <a:pt x="1077" y="1219"/>
                    </a:lnTo>
                    <a:lnTo>
                      <a:pt x="1062" y="1208"/>
                    </a:lnTo>
                    <a:lnTo>
                      <a:pt x="1031" y="1188"/>
                    </a:lnTo>
                    <a:lnTo>
                      <a:pt x="1001" y="1172"/>
                    </a:lnTo>
                    <a:lnTo>
                      <a:pt x="999" y="1168"/>
                    </a:lnTo>
                    <a:lnTo>
                      <a:pt x="994" y="1164"/>
                    </a:lnTo>
                    <a:lnTo>
                      <a:pt x="992" y="1164"/>
                    </a:lnTo>
                    <a:lnTo>
                      <a:pt x="991" y="1161"/>
                    </a:lnTo>
                    <a:lnTo>
                      <a:pt x="982" y="1159"/>
                    </a:lnTo>
                    <a:lnTo>
                      <a:pt x="976" y="1157"/>
                    </a:lnTo>
                    <a:lnTo>
                      <a:pt x="950" y="1145"/>
                    </a:lnTo>
                    <a:lnTo>
                      <a:pt x="924" y="1134"/>
                    </a:lnTo>
                    <a:lnTo>
                      <a:pt x="911" y="1131"/>
                    </a:lnTo>
                    <a:lnTo>
                      <a:pt x="899" y="1126"/>
                    </a:lnTo>
                    <a:lnTo>
                      <a:pt x="886" y="1124"/>
                    </a:lnTo>
                    <a:lnTo>
                      <a:pt x="873" y="1122"/>
                    </a:lnTo>
                    <a:lnTo>
                      <a:pt x="861" y="1120"/>
                    </a:lnTo>
                    <a:lnTo>
                      <a:pt x="849" y="1118"/>
                    </a:lnTo>
                    <a:lnTo>
                      <a:pt x="837" y="1118"/>
                    </a:lnTo>
                    <a:lnTo>
                      <a:pt x="825" y="1118"/>
                    </a:lnTo>
                    <a:lnTo>
                      <a:pt x="812" y="1118"/>
                    </a:lnTo>
                    <a:lnTo>
                      <a:pt x="800" y="1121"/>
                    </a:lnTo>
                    <a:lnTo>
                      <a:pt x="789" y="1122"/>
                    </a:lnTo>
                    <a:lnTo>
                      <a:pt x="777" y="1125"/>
                    </a:lnTo>
                    <a:lnTo>
                      <a:pt x="766" y="1128"/>
                    </a:lnTo>
                    <a:lnTo>
                      <a:pt x="755" y="1132"/>
                    </a:lnTo>
                    <a:lnTo>
                      <a:pt x="742" y="1136"/>
                    </a:lnTo>
                    <a:lnTo>
                      <a:pt x="731" y="1142"/>
                    </a:lnTo>
                    <a:lnTo>
                      <a:pt x="720" y="1147"/>
                    </a:lnTo>
                    <a:lnTo>
                      <a:pt x="710" y="1154"/>
                    </a:lnTo>
                    <a:lnTo>
                      <a:pt x="699" y="1161"/>
                    </a:lnTo>
                    <a:lnTo>
                      <a:pt x="688" y="1167"/>
                    </a:lnTo>
                    <a:lnTo>
                      <a:pt x="667" y="1185"/>
                    </a:lnTo>
                    <a:lnTo>
                      <a:pt x="647" y="1204"/>
                    </a:lnTo>
                    <a:lnTo>
                      <a:pt x="627" y="1226"/>
                    </a:lnTo>
                    <a:lnTo>
                      <a:pt x="607" y="1249"/>
                    </a:lnTo>
                    <a:lnTo>
                      <a:pt x="547" y="1204"/>
                    </a:lnTo>
                    <a:lnTo>
                      <a:pt x="536" y="1217"/>
                    </a:lnTo>
                    <a:lnTo>
                      <a:pt x="486" y="1245"/>
                    </a:lnTo>
                    <a:lnTo>
                      <a:pt x="438" y="1273"/>
                    </a:lnTo>
                    <a:lnTo>
                      <a:pt x="392" y="1301"/>
                    </a:lnTo>
                    <a:lnTo>
                      <a:pt x="349" y="1330"/>
                    </a:lnTo>
                    <a:lnTo>
                      <a:pt x="308" y="1360"/>
                    </a:lnTo>
                    <a:lnTo>
                      <a:pt x="269" y="1391"/>
                    </a:lnTo>
                    <a:lnTo>
                      <a:pt x="232" y="1422"/>
                    </a:lnTo>
                    <a:lnTo>
                      <a:pt x="198" y="1454"/>
                    </a:lnTo>
                    <a:lnTo>
                      <a:pt x="166" y="1488"/>
                    </a:lnTo>
                    <a:lnTo>
                      <a:pt x="134" y="1521"/>
                    </a:lnTo>
                    <a:lnTo>
                      <a:pt x="107" y="1555"/>
                    </a:lnTo>
                    <a:lnTo>
                      <a:pt x="81" y="1591"/>
                    </a:lnTo>
                    <a:lnTo>
                      <a:pt x="69" y="1609"/>
                    </a:lnTo>
                    <a:lnTo>
                      <a:pt x="58" y="1627"/>
                    </a:lnTo>
                    <a:lnTo>
                      <a:pt x="47" y="1645"/>
                    </a:lnTo>
                    <a:lnTo>
                      <a:pt x="36" y="1664"/>
                    </a:lnTo>
                    <a:lnTo>
                      <a:pt x="26" y="1683"/>
                    </a:lnTo>
                    <a:lnTo>
                      <a:pt x="17" y="1702"/>
                    </a:lnTo>
                    <a:lnTo>
                      <a:pt x="8" y="1721"/>
                    </a:lnTo>
                    <a:lnTo>
                      <a:pt x="0" y="1739"/>
                    </a:lnTo>
                    <a:lnTo>
                      <a:pt x="15" y="1786"/>
                    </a:lnTo>
                    <a:lnTo>
                      <a:pt x="29" y="1830"/>
                    </a:lnTo>
                    <a:lnTo>
                      <a:pt x="41" y="1875"/>
                    </a:lnTo>
                    <a:lnTo>
                      <a:pt x="52" y="1918"/>
                    </a:lnTo>
                    <a:lnTo>
                      <a:pt x="62" y="1960"/>
                    </a:lnTo>
                    <a:lnTo>
                      <a:pt x="70" y="2001"/>
                    </a:lnTo>
                    <a:lnTo>
                      <a:pt x="77" y="2041"/>
                    </a:lnTo>
                    <a:lnTo>
                      <a:pt x="81" y="2080"/>
                    </a:lnTo>
                    <a:lnTo>
                      <a:pt x="118" y="2017"/>
                    </a:lnTo>
                    <a:lnTo>
                      <a:pt x="153" y="1956"/>
                    </a:lnTo>
                    <a:lnTo>
                      <a:pt x="189" y="1898"/>
                    </a:lnTo>
                    <a:lnTo>
                      <a:pt x="224" y="1841"/>
                    </a:lnTo>
                    <a:lnTo>
                      <a:pt x="260" y="1788"/>
                    </a:lnTo>
                    <a:lnTo>
                      <a:pt x="294" y="1738"/>
                    </a:lnTo>
                    <a:lnTo>
                      <a:pt x="330" y="1689"/>
                    </a:lnTo>
                    <a:lnTo>
                      <a:pt x="364" y="1644"/>
                    </a:lnTo>
                    <a:lnTo>
                      <a:pt x="399" y="1601"/>
                    </a:lnTo>
                    <a:lnTo>
                      <a:pt x="434" y="1560"/>
                    </a:lnTo>
                    <a:lnTo>
                      <a:pt x="468" y="1522"/>
                    </a:lnTo>
                    <a:lnTo>
                      <a:pt x="503" y="1487"/>
                    </a:lnTo>
                    <a:lnTo>
                      <a:pt x="537" y="1453"/>
                    </a:lnTo>
                    <a:lnTo>
                      <a:pt x="570" y="1423"/>
                    </a:lnTo>
                    <a:lnTo>
                      <a:pt x="605" y="1396"/>
                    </a:lnTo>
                    <a:lnTo>
                      <a:pt x="639" y="1370"/>
                    </a:lnTo>
                    <a:lnTo>
                      <a:pt x="655" y="1359"/>
                    </a:lnTo>
                    <a:lnTo>
                      <a:pt x="671" y="1349"/>
                    </a:lnTo>
                    <a:lnTo>
                      <a:pt x="687" y="1338"/>
                    </a:lnTo>
                    <a:lnTo>
                      <a:pt x="704" y="1328"/>
                    </a:lnTo>
                    <a:lnTo>
                      <a:pt x="708" y="1326"/>
                    </a:lnTo>
                    <a:lnTo>
                      <a:pt x="714" y="1324"/>
                    </a:lnTo>
                    <a:lnTo>
                      <a:pt x="721" y="1320"/>
                    </a:lnTo>
                    <a:lnTo>
                      <a:pt x="750" y="1305"/>
                    </a:lnTo>
                    <a:lnTo>
                      <a:pt x="778" y="1291"/>
                    </a:lnTo>
                    <a:lnTo>
                      <a:pt x="806" y="1280"/>
                    </a:lnTo>
                    <a:lnTo>
                      <a:pt x="833" y="1273"/>
                    </a:lnTo>
                    <a:lnTo>
                      <a:pt x="847" y="1269"/>
                    </a:lnTo>
                    <a:lnTo>
                      <a:pt x="860" y="1266"/>
                    </a:lnTo>
                    <a:lnTo>
                      <a:pt x="873" y="1265"/>
                    </a:lnTo>
                    <a:lnTo>
                      <a:pt x="886" y="1264"/>
                    </a:lnTo>
                    <a:lnTo>
                      <a:pt x="899" y="1263"/>
                    </a:lnTo>
                    <a:lnTo>
                      <a:pt x="912" y="1263"/>
                    </a:lnTo>
                    <a:lnTo>
                      <a:pt x="924" y="1263"/>
                    </a:lnTo>
                    <a:lnTo>
                      <a:pt x="938" y="1264"/>
                    </a:lnTo>
                    <a:lnTo>
                      <a:pt x="1228" y="1488"/>
                    </a:lnTo>
                    <a:lnTo>
                      <a:pt x="1242" y="1508"/>
                    </a:lnTo>
                    <a:lnTo>
                      <a:pt x="1255" y="1528"/>
                    </a:lnTo>
                    <a:lnTo>
                      <a:pt x="1268" y="1546"/>
                    </a:lnTo>
                    <a:lnTo>
                      <a:pt x="1282" y="1565"/>
                    </a:lnTo>
                    <a:lnTo>
                      <a:pt x="1283" y="1568"/>
                    </a:lnTo>
                    <a:lnTo>
                      <a:pt x="1285" y="1569"/>
                    </a:lnTo>
                    <a:lnTo>
                      <a:pt x="1307" y="1599"/>
                    </a:lnTo>
                    <a:lnTo>
                      <a:pt x="1328" y="1627"/>
                    </a:lnTo>
                    <a:lnTo>
                      <a:pt x="1349" y="1654"/>
                    </a:lnTo>
                    <a:lnTo>
                      <a:pt x="1371" y="1681"/>
                    </a:lnTo>
                    <a:lnTo>
                      <a:pt x="1394" y="1706"/>
                    </a:lnTo>
                    <a:lnTo>
                      <a:pt x="1415" y="1732"/>
                    </a:lnTo>
                    <a:lnTo>
                      <a:pt x="1437" y="1755"/>
                    </a:lnTo>
                    <a:lnTo>
                      <a:pt x="1459" y="1777"/>
                    </a:lnTo>
                    <a:lnTo>
                      <a:pt x="1481" y="1799"/>
                    </a:lnTo>
                    <a:lnTo>
                      <a:pt x="1503" y="1819"/>
                    </a:lnTo>
                    <a:lnTo>
                      <a:pt x="1527" y="1839"/>
                    </a:lnTo>
                    <a:lnTo>
                      <a:pt x="1549" y="1858"/>
                    </a:lnTo>
                    <a:lnTo>
                      <a:pt x="1571" y="1876"/>
                    </a:lnTo>
                    <a:lnTo>
                      <a:pt x="1594" y="1892"/>
                    </a:lnTo>
                    <a:lnTo>
                      <a:pt x="1618" y="1908"/>
                    </a:lnTo>
                    <a:lnTo>
                      <a:pt x="1641" y="1923"/>
                    </a:lnTo>
                    <a:lnTo>
                      <a:pt x="1663" y="1937"/>
                    </a:lnTo>
                    <a:lnTo>
                      <a:pt x="1686" y="1950"/>
                    </a:lnTo>
                    <a:lnTo>
                      <a:pt x="1711" y="1961"/>
                    </a:lnTo>
                    <a:lnTo>
                      <a:pt x="1734" y="1972"/>
                    </a:lnTo>
                    <a:lnTo>
                      <a:pt x="1757" y="1982"/>
                    </a:lnTo>
                    <a:lnTo>
                      <a:pt x="1782" y="1991"/>
                    </a:lnTo>
                    <a:lnTo>
                      <a:pt x="1805" y="1999"/>
                    </a:lnTo>
                    <a:lnTo>
                      <a:pt x="1830" y="2007"/>
                    </a:lnTo>
                    <a:lnTo>
                      <a:pt x="1854" y="2012"/>
                    </a:lnTo>
                    <a:lnTo>
                      <a:pt x="1878" y="2018"/>
                    </a:lnTo>
                    <a:lnTo>
                      <a:pt x="1903" y="2021"/>
                    </a:lnTo>
                    <a:lnTo>
                      <a:pt x="1927" y="2024"/>
                    </a:lnTo>
                    <a:lnTo>
                      <a:pt x="1953" y="2027"/>
                    </a:lnTo>
                    <a:lnTo>
                      <a:pt x="1977" y="2028"/>
                    </a:lnTo>
                    <a:lnTo>
                      <a:pt x="2003" y="2028"/>
                    </a:lnTo>
                    <a:lnTo>
                      <a:pt x="2027" y="2027"/>
                    </a:lnTo>
                    <a:lnTo>
                      <a:pt x="2027" y="2023"/>
                    </a:lnTo>
                    <a:lnTo>
                      <a:pt x="2027" y="2020"/>
                    </a:lnTo>
                    <a:lnTo>
                      <a:pt x="2037" y="1987"/>
                    </a:lnTo>
                    <a:lnTo>
                      <a:pt x="2046" y="1952"/>
                    </a:lnTo>
                    <a:lnTo>
                      <a:pt x="2055" y="1918"/>
                    </a:lnTo>
                    <a:lnTo>
                      <a:pt x="2063" y="1884"/>
                    </a:lnTo>
                    <a:lnTo>
                      <a:pt x="2070" y="1848"/>
                    </a:lnTo>
                    <a:lnTo>
                      <a:pt x="2077" y="1811"/>
                    </a:lnTo>
                    <a:lnTo>
                      <a:pt x="2084" y="1775"/>
                    </a:lnTo>
                    <a:lnTo>
                      <a:pt x="2089" y="1738"/>
                    </a:lnTo>
                    <a:lnTo>
                      <a:pt x="2095" y="1701"/>
                    </a:lnTo>
                    <a:lnTo>
                      <a:pt x="2099" y="1662"/>
                    </a:lnTo>
                    <a:lnTo>
                      <a:pt x="2104" y="1623"/>
                    </a:lnTo>
                    <a:lnTo>
                      <a:pt x="2107" y="1584"/>
                    </a:lnTo>
                    <a:lnTo>
                      <a:pt x="2110" y="1544"/>
                    </a:lnTo>
                    <a:lnTo>
                      <a:pt x="2112" y="1503"/>
                    </a:lnTo>
                    <a:lnTo>
                      <a:pt x="2114" y="1462"/>
                    </a:lnTo>
                    <a:lnTo>
                      <a:pt x="2116" y="1421"/>
                    </a:lnTo>
                    <a:lnTo>
                      <a:pt x="2116" y="1336"/>
                    </a:lnTo>
                    <a:lnTo>
                      <a:pt x="2115" y="1248"/>
                    </a:lnTo>
                    <a:lnTo>
                      <a:pt x="2111" y="1159"/>
                    </a:lnTo>
                    <a:lnTo>
                      <a:pt x="2106" y="1067"/>
                    </a:lnTo>
                    <a:lnTo>
                      <a:pt x="2097" y="973"/>
                    </a:lnTo>
                    <a:lnTo>
                      <a:pt x="2087" y="877"/>
                    </a:lnTo>
                    <a:lnTo>
                      <a:pt x="2075" y="779"/>
                    </a:lnTo>
                    <a:lnTo>
                      <a:pt x="2059" y="678"/>
                    </a:lnTo>
                    <a:lnTo>
                      <a:pt x="2059" y="673"/>
                    </a:lnTo>
                    <a:lnTo>
                      <a:pt x="2059" y="670"/>
                    </a:lnTo>
                    <a:lnTo>
                      <a:pt x="2057" y="660"/>
                    </a:lnTo>
                    <a:lnTo>
                      <a:pt x="2055" y="650"/>
                    </a:lnTo>
                    <a:lnTo>
                      <a:pt x="2053" y="641"/>
                    </a:lnTo>
                    <a:lnTo>
                      <a:pt x="2053" y="628"/>
                    </a:lnTo>
                    <a:lnTo>
                      <a:pt x="2053" y="617"/>
                    </a:lnTo>
                    <a:lnTo>
                      <a:pt x="2051" y="605"/>
                    </a:lnTo>
                    <a:lnTo>
                      <a:pt x="2049" y="592"/>
                    </a:lnTo>
                    <a:lnTo>
                      <a:pt x="2046" y="577"/>
                    </a:lnTo>
                    <a:lnTo>
                      <a:pt x="2041" y="563"/>
                    </a:lnTo>
                    <a:lnTo>
                      <a:pt x="2036" y="547"/>
                    </a:lnTo>
                    <a:lnTo>
                      <a:pt x="2029" y="532"/>
                    </a:lnTo>
                    <a:lnTo>
                      <a:pt x="2023" y="515"/>
                    </a:lnTo>
                    <a:lnTo>
                      <a:pt x="2014" y="497"/>
                    </a:lnTo>
                    <a:lnTo>
                      <a:pt x="2004" y="481"/>
                    </a:lnTo>
                    <a:lnTo>
                      <a:pt x="1993" y="462"/>
                    </a:lnTo>
                    <a:lnTo>
                      <a:pt x="1982" y="443"/>
                    </a:lnTo>
                    <a:lnTo>
                      <a:pt x="1968" y="424"/>
                    </a:lnTo>
                    <a:lnTo>
                      <a:pt x="1954" y="404"/>
                    </a:lnTo>
                    <a:lnTo>
                      <a:pt x="1938" y="383"/>
                    </a:lnTo>
                    <a:lnTo>
                      <a:pt x="1922" y="362"/>
                    </a:lnTo>
                    <a:lnTo>
                      <a:pt x="1903" y="341"/>
                    </a:lnTo>
                    <a:lnTo>
                      <a:pt x="1902" y="338"/>
                    </a:lnTo>
                    <a:lnTo>
                      <a:pt x="1899" y="333"/>
                    </a:lnTo>
                    <a:lnTo>
                      <a:pt x="1875" y="306"/>
                    </a:lnTo>
                    <a:lnTo>
                      <a:pt x="1847" y="276"/>
                    </a:lnTo>
                    <a:lnTo>
                      <a:pt x="1819" y="246"/>
                    </a:lnTo>
                    <a:lnTo>
                      <a:pt x="1789" y="215"/>
                    </a:lnTo>
                    <a:lnTo>
                      <a:pt x="1755" y="184"/>
                    </a:lnTo>
                    <a:lnTo>
                      <a:pt x="1721" y="152"/>
                    </a:lnTo>
                    <a:lnTo>
                      <a:pt x="1685" y="118"/>
                    </a:lnTo>
                    <a:lnTo>
                      <a:pt x="1648" y="85"/>
                    </a:lnTo>
                    <a:lnTo>
                      <a:pt x="1637" y="72"/>
                    </a:lnTo>
                    <a:lnTo>
                      <a:pt x="1627" y="59"/>
                    </a:lnTo>
                    <a:lnTo>
                      <a:pt x="1615" y="48"/>
                    </a:lnTo>
                    <a:lnTo>
                      <a:pt x="1606" y="38"/>
                    </a:lnTo>
                    <a:lnTo>
                      <a:pt x="1596" y="30"/>
                    </a:lnTo>
                    <a:lnTo>
                      <a:pt x="1586" y="22"/>
                    </a:lnTo>
                    <a:lnTo>
                      <a:pt x="1576" y="16"/>
                    </a:lnTo>
                    <a:lnTo>
                      <a:pt x="1566" y="11"/>
                    </a:lnTo>
                    <a:lnTo>
                      <a:pt x="1556" y="6"/>
                    </a:lnTo>
                    <a:lnTo>
                      <a:pt x="1546" y="3"/>
                    </a:lnTo>
                    <a:lnTo>
                      <a:pt x="1537" y="1"/>
                    </a:lnTo>
                    <a:lnTo>
                      <a:pt x="1527" y="0"/>
                    </a:lnTo>
                    <a:lnTo>
                      <a:pt x="1518" y="1"/>
                    </a:lnTo>
                    <a:lnTo>
                      <a:pt x="1509" y="2"/>
                    </a:lnTo>
                    <a:lnTo>
                      <a:pt x="1500" y="4"/>
                    </a:lnTo>
                    <a:lnTo>
                      <a:pt x="1491" y="7"/>
                    </a:lnTo>
                    <a:close/>
                  </a:path>
                </a:pathLst>
              </a:custGeom>
              <a:solidFill>
                <a:srgbClr val="e4e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260"/>
              <p:cNvSpPr/>
              <p:nvPr/>
            </p:nvSpPr>
            <p:spPr>
              <a:xfrm>
                <a:off x="5994720" y="4700520"/>
                <a:ext cx="91440" cy="112320"/>
              </a:xfrm>
              <a:custGeom>
                <a:avLst/>
                <a:gdLst/>
                <a:ahLst/>
                <a:rect l="l" t="t" r="r" b="b"/>
                <a:pathLst>
                  <a:path w="878" h="1363">
                    <a:moveTo>
                      <a:pt x="878" y="0"/>
                    </a:moveTo>
                    <a:lnTo>
                      <a:pt x="870" y="1"/>
                    </a:lnTo>
                    <a:lnTo>
                      <a:pt x="860" y="4"/>
                    </a:lnTo>
                    <a:lnTo>
                      <a:pt x="847" y="10"/>
                    </a:lnTo>
                    <a:lnTo>
                      <a:pt x="831" y="18"/>
                    </a:lnTo>
                    <a:lnTo>
                      <a:pt x="826" y="54"/>
                    </a:lnTo>
                    <a:lnTo>
                      <a:pt x="821" y="90"/>
                    </a:lnTo>
                    <a:lnTo>
                      <a:pt x="816" y="125"/>
                    </a:lnTo>
                    <a:lnTo>
                      <a:pt x="810" y="159"/>
                    </a:lnTo>
                    <a:lnTo>
                      <a:pt x="806" y="183"/>
                    </a:lnTo>
                    <a:lnTo>
                      <a:pt x="801" y="207"/>
                    </a:lnTo>
                    <a:lnTo>
                      <a:pt x="796" y="230"/>
                    </a:lnTo>
                    <a:lnTo>
                      <a:pt x="790" y="253"/>
                    </a:lnTo>
                    <a:lnTo>
                      <a:pt x="784" y="276"/>
                    </a:lnTo>
                    <a:lnTo>
                      <a:pt x="779" y="299"/>
                    </a:lnTo>
                    <a:lnTo>
                      <a:pt x="772" y="321"/>
                    </a:lnTo>
                    <a:lnTo>
                      <a:pt x="768" y="344"/>
                    </a:lnTo>
                    <a:lnTo>
                      <a:pt x="759" y="373"/>
                    </a:lnTo>
                    <a:lnTo>
                      <a:pt x="751" y="401"/>
                    </a:lnTo>
                    <a:lnTo>
                      <a:pt x="742" y="429"/>
                    </a:lnTo>
                    <a:lnTo>
                      <a:pt x="732" y="457"/>
                    </a:lnTo>
                    <a:lnTo>
                      <a:pt x="723" y="484"/>
                    </a:lnTo>
                    <a:lnTo>
                      <a:pt x="713" y="511"/>
                    </a:lnTo>
                    <a:lnTo>
                      <a:pt x="703" y="538"/>
                    </a:lnTo>
                    <a:lnTo>
                      <a:pt x="692" y="564"/>
                    </a:lnTo>
                    <a:lnTo>
                      <a:pt x="681" y="591"/>
                    </a:lnTo>
                    <a:lnTo>
                      <a:pt x="669" y="616"/>
                    </a:lnTo>
                    <a:lnTo>
                      <a:pt x="656" y="642"/>
                    </a:lnTo>
                    <a:lnTo>
                      <a:pt x="644" y="666"/>
                    </a:lnTo>
                    <a:lnTo>
                      <a:pt x="630" y="691"/>
                    </a:lnTo>
                    <a:lnTo>
                      <a:pt x="616" y="715"/>
                    </a:lnTo>
                    <a:lnTo>
                      <a:pt x="601" y="739"/>
                    </a:lnTo>
                    <a:lnTo>
                      <a:pt x="586" y="763"/>
                    </a:lnTo>
                    <a:lnTo>
                      <a:pt x="567" y="793"/>
                    </a:lnTo>
                    <a:lnTo>
                      <a:pt x="547" y="824"/>
                    </a:lnTo>
                    <a:lnTo>
                      <a:pt x="527" y="854"/>
                    </a:lnTo>
                    <a:lnTo>
                      <a:pt x="508" y="884"/>
                    </a:lnTo>
                    <a:lnTo>
                      <a:pt x="476" y="922"/>
                    </a:lnTo>
                    <a:lnTo>
                      <a:pt x="444" y="959"/>
                    </a:lnTo>
                    <a:lnTo>
                      <a:pt x="412" y="994"/>
                    </a:lnTo>
                    <a:lnTo>
                      <a:pt x="381" y="1029"/>
                    </a:lnTo>
                    <a:lnTo>
                      <a:pt x="358" y="1050"/>
                    </a:lnTo>
                    <a:lnTo>
                      <a:pt x="337" y="1070"/>
                    </a:lnTo>
                    <a:lnTo>
                      <a:pt x="316" y="1090"/>
                    </a:lnTo>
                    <a:lnTo>
                      <a:pt x="294" y="1110"/>
                    </a:lnTo>
                    <a:lnTo>
                      <a:pt x="272" y="1129"/>
                    </a:lnTo>
                    <a:lnTo>
                      <a:pt x="250" y="1147"/>
                    </a:lnTo>
                    <a:lnTo>
                      <a:pt x="226" y="1166"/>
                    </a:lnTo>
                    <a:lnTo>
                      <a:pt x="203" y="1185"/>
                    </a:lnTo>
                    <a:lnTo>
                      <a:pt x="179" y="1202"/>
                    </a:lnTo>
                    <a:lnTo>
                      <a:pt x="154" y="1217"/>
                    </a:lnTo>
                    <a:lnTo>
                      <a:pt x="129" y="1234"/>
                    </a:lnTo>
                    <a:lnTo>
                      <a:pt x="104" y="1251"/>
                    </a:lnTo>
                    <a:lnTo>
                      <a:pt x="79" y="1266"/>
                    </a:lnTo>
                    <a:lnTo>
                      <a:pt x="53" y="1283"/>
                    </a:lnTo>
                    <a:lnTo>
                      <a:pt x="27" y="1298"/>
                    </a:lnTo>
                    <a:lnTo>
                      <a:pt x="0" y="1313"/>
                    </a:lnTo>
                    <a:lnTo>
                      <a:pt x="29" y="1363"/>
                    </a:lnTo>
                    <a:lnTo>
                      <a:pt x="56" y="1348"/>
                    </a:lnTo>
                    <a:lnTo>
                      <a:pt x="82" y="1333"/>
                    </a:lnTo>
                    <a:lnTo>
                      <a:pt x="108" y="1317"/>
                    </a:lnTo>
                    <a:lnTo>
                      <a:pt x="134" y="1302"/>
                    </a:lnTo>
                    <a:lnTo>
                      <a:pt x="159" y="1285"/>
                    </a:lnTo>
                    <a:lnTo>
                      <a:pt x="184" y="1268"/>
                    </a:lnTo>
                    <a:lnTo>
                      <a:pt x="208" y="1252"/>
                    </a:lnTo>
                    <a:lnTo>
                      <a:pt x="231" y="1235"/>
                    </a:lnTo>
                    <a:lnTo>
                      <a:pt x="233" y="1233"/>
                    </a:lnTo>
                    <a:lnTo>
                      <a:pt x="234" y="1232"/>
                    </a:lnTo>
                    <a:lnTo>
                      <a:pt x="236" y="1232"/>
                    </a:lnTo>
                    <a:lnTo>
                      <a:pt x="239" y="1232"/>
                    </a:lnTo>
                    <a:lnTo>
                      <a:pt x="239" y="1229"/>
                    </a:lnTo>
                    <a:lnTo>
                      <a:pt x="239" y="1228"/>
                    </a:lnTo>
                    <a:lnTo>
                      <a:pt x="240" y="1227"/>
                    </a:lnTo>
                    <a:lnTo>
                      <a:pt x="242" y="1227"/>
                    </a:lnTo>
                    <a:lnTo>
                      <a:pt x="264" y="1211"/>
                    </a:lnTo>
                    <a:lnTo>
                      <a:pt x="287" y="1193"/>
                    </a:lnTo>
                    <a:lnTo>
                      <a:pt x="311" y="1174"/>
                    </a:lnTo>
                    <a:lnTo>
                      <a:pt x="333" y="1155"/>
                    </a:lnTo>
                    <a:lnTo>
                      <a:pt x="355" y="1136"/>
                    </a:lnTo>
                    <a:lnTo>
                      <a:pt x="377" y="1116"/>
                    </a:lnTo>
                    <a:lnTo>
                      <a:pt x="398" y="1096"/>
                    </a:lnTo>
                    <a:lnTo>
                      <a:pt x="419" y="1075"/>
                    </a:lnTo>
                    <a:lnTo>
                      <a:pt x="419" y="1074"/>
                    </a:lnTo>
                    <a:lnTo>
                      <a:pt x="423" y="1072"/>
                    </a:lnTo>
                    <a:lnTo>
                      <a:pt x="442" y="1054"/>
                    </a:lnTo>
                    <a:lnTo>
                      <a:pt x="459" y="1035"/>
                    </a:lnTo>
                    <a:lnTo>
                      <a:pt x="476" y="1017"/>
                    </a:lnTo>
                    <a:lnTo>
                      <a:pt x="493" y="998"/>
                    </a:lnTo>
                    <a:lnTo>
                      <a:pt x="526" y="959"/>
                    </a:lnTo>
                    <a:lnTo>
                      <a:pt x="558" y="919"/>
                    </a:lnTo>
                    <a:lnTo>
                      <a:pt x="579" y="888"/>
                    </a:lnTo>
                    <a:lnTo>
                      <a:pt x="601" y="857"/>
                    </a:lnTo>
                    <a:lnTo>
                      <a:pt x="624" y="826"/>
                    </a:lnTo>
                    <a:lnTo>
                      <a:pt x="644" y="795"/>
                    </a:lnTo>
                    <a:lnTo>
                      <a:pt x="658" y="769"/>
                    </a:lnTo>
                    <a:lnTo>
                      <a:pt x="671" y="744"/>
                    </a:lnTo>
                    <a:lnTo>
                      <a:pt x="686" y="718"/>
                    </a:lnTo>
                    <a:lnTo>
                      <a:pt x="699" y="693"/>
                    </a:lnTo>
                    <a:lnTo>
                      <a:pt x="712" y="666"/>
                    </a:lnTo>
                    <a:lnTo>
                      <a:pt x="725" y="640"/>
                    </a:lnTo>
                    <a:lnTo>
                      <a:pt x="738" y="613"/>
                    </a:lnTo>
                    <a:lnTo>
                      <a:pt x="750" y="585"/>
                    </a:lnTo>
                    <a:lnTo>
                      <a:pt x="765" y="551"/>
                    </a:lnTo>
                    <a:lnTo>
                      <a:pt x="779" y="515"/>
                    </a:lnTo>
                    <a:lnTo>
                      <a:pt x="793" y="480"/>
                    </a:lnTo>
                    <a:lnTo>
                      <a:pt x="807" y="443"/>
                    </a:lnTo>
                    <a:lnTo>
                      <a:pt x="812" y="422"/>
                    </a:lnTo>
                    <a:lnTo>
                      <a:pt x="818" y="402"/>
                    </a:lnTo>
                    <a:lnTo>
                      <a:pt x="824" y="382"/>
                    </a:lnTo>
                    <a:lnTo>
                      <a:pt x="831" y="361"/>
                    </a:lnTo>
                    <a:lnTo>
                      <a:pt x="831" y="358"/>
                    </a:lnTo>
                    <a:lnTo>
                      <a:pt x="831" y="355"/>
                    </a:lnTo>
                    <a:lnTo>
                      <a:pt x="839" y="324"/>
                    </a:lnTo>
                    <a:lnTo>
                      <a:pt x="845" y="294"/>
                    </a:lnTo>
                    <a:lnTo>
                      <a:pt x="852" y="263"/>
                    </a:lnTo>
                    <a:lnTo>
                      <a:pt x="858" y="232"/>
                    </a:lnTo>
                    <a:lnTo>
                      <a:pt x="862" y="199"/>
                    </a:lnTo>
                    <a:lnTo>
                      <a:pt x="865" y="168"/>
                    </a:lnTo>
                    <a:lnTo>
                      <a:pt x="869" y="135"/>
                    </a:lnTo>
                    <a:lnTo>
                      <a:pt x="870" y="103"/>
                    </a:lnTo>
                    <a:lnTo>
                      <a:pt x="873" y="76"/>
                    </a:lnTo>
                    <a:lnTo>
                      <a:pt x="875" y="50"/>
                    </a:lnTo>
                    <a:lnTo>
                      <a:pt x="877" y="24"/>
                    </a:lnTo>
                    <a:lnTo>
                      <a:pt x="878" y="0"/>
                    </a:lnTo>
                    <a:close/>
                  </a:path>
                </a:pathLst>
              </a:custGeom>
              <a:solidFill>
                <a:srgbClr val="e5e7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261"/>
              <p:cNvSpPr/>
              <p:nvPr/>
            </p:nvSpPr>
            <p:spPr>
              <a:xfrm>
                <a:off x="6072480" y="4713840"/>
                <a:ext cx="6120" cy="14760"/>
              </a:xfrm>
              <a:custGeom>
                <a:avLst/>
                <a:gdLst/>
                <a:ahLst/>
                <a:rect l="l" t="t" r="r" b="b"/>
                <a:pathLst>
                  <a:path w="60" h="185">
                    <a:moveTo>
                      <a:pt x="60" y="0"/>
                    </a:moveTo>
                    <a:lnTo>
                      <a:pt x="57" y="5"/>
                    </a:lnTo>
                    <a:lnTo>
                      <a:pt x="52" y="9"/>
                    </a:lnTo>
                    <a:lnTo>
                      <a:pt x="48" y="12"/>
                    </a:lnTo>
                    <a:lnTo>
                      <a:pt x="42" y="15"/>
                    </a:lnTo>
                    <a:lnTo>
                      <a:pt x="31" y="15"/>
                    </a:lnTo>
                    <a:lnTo>
                      <a:pt x="21" y="15"/>
                    </a:lnTo>
                    <a:lnTo>
                      <a:pt x="10" y="15"/>
                    </a:lnTo>
                    <a:lnTo>
                      <a:pt x="0" y="15"/>
                    </a:lnTo>
                    <a:lnTo>
                      <a:pt x="18" y="185"/>
                    </a:lnTo>
                    <a:lnTo>
                      <a:pt x="22" y="162"/>
                    </a:lnTo>
                    <a:lnTo>
                      <a:pt x="29" y="140"/>
                    </a:lnTo>
                    <a:lnTo>
                      <a:pt x="34" y="117"/>
                    </a:lnTo>
                    <a:lnTo>
                      <a:pt x="40" y="94"/>
                    </a:lnTo>
                    <a:lnTo>
                      <a:pt x="46" y="71"/>
                    </a:lnTo>
                    <a:lnTo>
                      <a:pt x="51" y="48"/>
                    </a:lnTo>
                    <a:lnTo>
                      <a:pt x="56" y="24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6f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262"/>
              <p:cNvSpPr/>
              <p:nvPr/>
            </p:nvSpPr>
            <p:spPr>
              <a:xfrm>
                <a:off x="6085080" y="4693680"/>
                <a:ext cx="7920" cy="14760"/>
              </a:xfrm>
              <a:custGeom>
                <a:avLst/>
                <a:gdLst/>
                <a:ahLst/>
                <a:rect l="l" t="t" r="r" b="b"/>
                <a:pathLst>
                  <a:path w="82" h="178">
                    <a:moveTo>
                      <a:pt x="0" y="178"/>
                    </a:moveTo>
                    <a:lnTo>
                      <a:pt x="13" y="170"/>
                    </a:lnTo>
                    <a:lnTo>
                      <a:pt x="23" y="163"/>
                    </a:lnTo>
                    <a:lnTo>
                      <a:pt x="28" y="160"/>
                    </a:lnTo>
                    <a:lnTo>
                      <a:pt x="31" y="157"/>
                    </a:lnTo>
                    <a:lnTo>
                      <a:pt x="34" y="154"/>
                    </a:lnTo>
                    <a:lnTo>
                      <a:pt x="35" y="149"/>
                    </a:lnTo>
                    <a:lnTo>
                      <a:pt x="46" y="131"/>
                    </a:lnTo>
                    <a:lnTo>
                      <a:pt x="56" y="114"/>
                    </a:lnTo>
                    <a:lnTo>
                      <a:pt x="64" y="96"/>
                    </a:lnTo>
                    <a:lnTo>
                      <a:pt x="71" y="77"/>
                    </a:lnTo>
                    <a:lnTo>
                      <a:pt x="75" y="58"/>
                    </a:lnTo>
                    <a:lnTo>
                      <a:pt x="80" y="39"/>
                    </a:lnTo>
                    <a:lnTo>
                      <a:pt x="81" y="20"/>
                    </a:lnTo>
                    <a:lnTo>
                      <a:pt x="82" y="0"/>
                    </a:lnTo>
                    <a:lnTo>
                      <a:pt x="63" y="20"/>
                    </a:lnTo>
                    <a:lnTo>
                      <a:pt x="44" y="40"/>
                    </a:lnTo>
                    <a:lnTo>
                      <a:pt x="27" y="58"/>
                    </a:lnTo>
                    <a:lnTo>
                      <a:pt x="8" y="75"/>
                    </a:lnTo>
                    <a:lnTo>
                      <a:pt x="7" y="99"/>
                    </a:lnTo>
                    <a:lnTo>
                      <a:pt x="5" y="125"/>
                    </a:lnTo>
                    <a:lnTo>
                      <a:pt x="3" y="151"/>
                    </a:lnTo>
                    <a:lnTo>
                      <a:pt x="0" y="178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263"/>
              <p:cNvSpPr/>
              <p:nvPr/>
            </p:nvSpPr>
            <p:spPr>
              <a:xfrm>
                <a:off x="5824800" y="4810680"/>
                <a:ext cx="150480" cy="153720"/>
              </a:xfrm>
              <a:custGeom>
                <a:avLst/>
                <a:gdLst/>
                <a:ahLst/>
                <a:rect l="l" t="t" r="r" b="b"/>
                <a:pathLst>
                  <a:path w="1445" h="1868">
                    <a:moveTo>
                      <a:pt x="1141" y="789"/>
                    </a:moveTo>
                    <a:lnTo>
                      <a:pt x="1147" y="800"/>
                    </a:lnTo>
                    <a:lnTo>
                      <a:pt x="1155" y="813"/>
                    </a:lnTo>
                    <a:lnTo>
                      <a:pt x="1147" y="800"/>
                    </a:lnTo>
                    <a:lnTo>
                      <a:pt x="1141" y="789"/>
                    </a:lnTo>
                    <a:lnTo>
                      <a:pt x="1107" y="737"/>
                    </a:lnTo>
                    <a:lnTo>
                      <a:pt x="1074" y="689"/>
                    </a:lnTo>
                    <a:lnTo>
                      <a:pt x="1041" y="645"/>
                    </a:lnTo>
                    <a:lnTo>
                      <a:pt x="1009" y="605"/>
                    </a:lnTo>
                    <a:lnTo>
                      <a:pt x="993" y="587"/>
                    </a:lnTo>
                    <a:lnTo>
                      <a:pt x="977" y="569"/>
                    </a:lnTo>
                    <a:lnTo>
                      <a:pt x="962" y="553"/>
                    </a:lnTo>
                    <a:lnTo>
                      <a:pt x="946" y="537"/>
                    </a:lnTo>
                    <a:lnTo>
                      <a:pt x="930" y="523"/>
                    </a:lnTo>
                    <a:lnTo>
                      <a:pt x="915" y="509"/>
                    </a:lnTo>
                    <a:lnTo>
                      <a:pt x="901" y="497"/>
                    </a:lnTo>
                    <a:lnTo>
                      <a:pt x="885" y="486"/>
                    </a:lnTo>
                    <a:lnTo>
                      <a:pt x="871" y="475"/>
                    </a:lnTo>
                    <a:lnTo>
                      <a:pt x="855" y="466"/>
                    </a:lnTo>
                    <a:lnTo>
                      <a:pt x="841" y="457"/>
                    </a:lnTo>
                    <a:lnTo>
                      <a:pt x="826" y="451"/>
                    </a:lnTo>
                    <a:lnTo>
                      <a:pt x="812" y="444"/>
                    </a:lnTo>
                    <a:lnTo>
                      <a:pt x="797" y="438"/>
                    </a:lnTo>
                    <a:lnTo>
                      <a:pt x="783" y="434"/>
                    </a:lnTo>
                    <a:lnTo>
                      <a:pt x="770" y="431"/>
                    </a:lnTo>
                    <a:lnTo>
                      <a:pt x="755" y="428"/>
                    </a:lnTo>
                    <a:lnTo>
                      <a:pt x="742" y="427"/>
                    </a:lnTo>
                    <a:lnTo>
                      <a:pt x="727" y="427"/>
                    </a:lnTo>
                    <a:lnTo>
                      <a:pt x="714" y="427"/>
                    </a:lnTo>
                    <a:lnTo>
                      <a:pt x="701" y="430"/>
                    </a:lnTo>
                    <a:lnTo>
                      <a:pt x="688" y="432"/>
                    </a:lnTo>
                    <a:lnTo>
                      <a:pt x="674" y="436"/>
                    </a:lnTo>
                    <a:lnTo>
                      <a:pt x="662" y="441"/>
                    </a:lnTo>
                    <a:lnTo>
                      <a:pt x="654" y="437"/>
                    </a:lnTo>
                    <a:lnTo>
                      <a:pt x="625" y="453"/>
                    </a:lnTo>
                    <a:lnTo>
                      <a:pt x="599" y="466"/>
                    </a:lnTo>
                    <a:lnTo>
                      <a:pt x="574" y="479"/>
                    </a:lnTo>
                    <a:lnTo>
                      <a:pt x="551" y="491"/>
                    </a:lnTo>
                    <a:lnTo>
                      <a:pt x="530" y="499"/>
                    </a:lnTo>
                    <a:lnTo>
                      <a:pt x="511" y="507"/>
                    </a:lnTo>
                    <a:lnTo>
                      <a:pt x="494" y="514"/>
                    </a:lnTo>
                    <a:lnTo>
                      <a:pt x="480" y="519"/>
                    </a:lnTo>
                    <a:lnTo>
                      <a:pt x="470" y="523"/>
                    </a:lnTo>
                    <a:lnTo>
                      <a:pt x="462" y="526"/>
                    </a:lnTo>
                    <a:lnTo>
                      <a:pt x="455" y="527"/>
                    </a:lnTo>
                    <a:lnTo>
                      <a:pt x="447" y="527"/>
                    </a:lnTo>
                    <a:lnTo>
                      <a:pt x="441" y="526"/>
                    </a:lnTo>
                    <a:lnTo>
                      <a:pt x="438" y="524"/>
                    </a:lnTo>
                    <a:lnTo>
                      <a:pt x="435" y="520"/>
                    </a:lnTo>
                    <a:lnTo>
                      <a:pt x="433" y="516"/>
                    </a:lnTo>
                    <a:lnTo>
                      <a:pt x="433" y="510"/>
                    </a:lnTo>
                    <a:lnTo>
                      <a:pt x="435" y="505"/>
                    </a:lnTo>
                    <a:lnTo>
                      <a:pt x="413" y="508"/>
                    </a:lnTo>
                    <a:lnTo>
                      <a:pt x="435" y="505"/>
                    </a:lnTo>
                    <a:lnTo>
                      <a:pt x="761" y="36"/>
                    </a:lnTo>
                    <a:lnTo>
                      <a:pt x="761" y="0"/>
                    </a:lnTo>
                    <a:lnTo>
                      <a:pt x="755" y="0"/>
                    </a:lnTo>
                    <a:lnTo>
                      <a:pt x="751" y="0"/>
                    </a:lnTo>
                    <a:lnTo>
                      <a:pt x="750" y="1"/>
                    </a:lnTo>
                    <a:lnTo>
                      <a:pt x="746" y="4"/>
                    </a:lnTo>
                    <a:lnTo>
                      <a:pt x="741" y="6"/>
                    </a:lnTo>
                    <a:lnTo>
                      <a:pt x="734" y="8"/>
                    </a:lnTo>
                    <a:lnTo>
                      <a:pt x="727" y="13"/>
                    </a:lnTo>
                    <a:lnTo>
                      <a:pt x="720" y="16"/>
                    </a:lnTo>
                    <a:lnTo>
                      <a:pt x="705" y="27"/>
                    </a:lnTo>
                    <a:lnTo>
                      <a:pt x="689" y="41"/>
                    </a:lnTo>
                    <a:lnTo>
                      <a:pt x="670" y="60"/>
                    </a:lnTo>
                    <a:lnTo>
                      <a:pt x="651" y="81"/>
                    </a:lnTo>
                    <a:lnTo>
                      <a:pt x="630" y="107"/>
                    </a:lnTo>
                    <a:lnTo>
                      <a:pt x="609" y="136"/>
                    </a:lnTo>
                    <a:lnTo>
                      <a:pt x="603" y="138"/>
                    </a:lnTo>
                    <a:lnTo>
                      <a:pt x="600" y="141"/>
                    </a:lnTo>
                    <a:lnTo>
                      <a:pt x="599" y="145"/>
                    </a:lnTo>
                    <a:lnTo>
                      <a:pt x="598" y="150"/>
                    </a:lnTo>
                    <a:lnTo>
                      <a:pt x="580" y="172"/>
                    </a:lnTo>
                    <a:lnTo>
                      <a:pt x="562" y="197"/>
                    </a:lnTo>
                    <a:lnTo>
                      <a:pt x="544" y="222"/>
                    </a:lnTo>
                    <a:lnTo>
                      <a:pt x="527" y="249"/>
                    </a:lnTo>
                    <a:lnTo>
                      <a:pt x="146" y="657"/>
                    </a:lnTo>
                    <a:lnTo>
                      <a:pt x="125" y="679"/>
                    </a:lnTo>
                    <a:lnTo>
                      <a:pt x="106" y="699"/>
                    </a:lnTo>
                    <a:lnTo>
                      <a:pt x="88" y="719"/>
                    </a:lnTo>
                    <a:lnTo>
                      <a:pt x="72" y="738"/>
                    </a:lnTo>
                    <a:lnTo>
                      <a:pt x="57" y="756"/>
                    </a:lnTo>
                    <a:lnTo>
                      <a:pt x="44" y="772"/>
                    </a:lnTo>
                    <a:lnTo>
                      <a:pt x="33" y="789"/>
                    </a:lnTo>
                    <a:lnTo>
                      <a:pt x="24" y="803"/>
                    </a:lnTo>
                    <a:lnTo>
                      <a:pt x="15" y="818"/>
                    </a:lnTo>
                    <a:lnTo>
                      <a:pt x="10" y="830"/>
                    </a:lnTo>
                    <a:lnTo>
                      <a:pt x="4" y="842"/>
                    </a:lnTo>
                    <a:lnTo>
                      <a:pt x="1" y="853"/>
                    </a:lnTo>
                    <a:lnTo>
                      <a:pt x="0" y="863"/>
                    </a:lnTo>
                    <a:lnTo>
                      <a:pt x="0" y="873"/>
                    </a:lnTo>
                    <a:lnTo>
                      <a:pt x="1" y="881"/>
                    </a:lnTo>
                    <a:lnTo>
                      <a:pt x="4" y="887"/>
                    </a:lnTo>
                    <a:lnTo>
                      <a:pt x="4" y="889"/>
                    </a:lnTo>
                    <a:lnTo>
                      <a:pt x="4" y="892"/>
                    </a:lnTo>
                    <a:lnTo>
                      <a:pt x="26" y="884"/>
                    </a:lnTo>
                    <a:lnTo>
                      <a:pt x="47" y="876"/>
                    </a:lnTo>
                    <a:lnTo>
                      <a:pt x="68" y="868"/>
                    </a:lnTo>
                    <a:lnTo>
                      <a:pt x="90" y="856"/>
                    </a:lnTo>
                    <a:lnTo>
                      <a:pt x="111" y="845"/>
                    </a:lnTo>
                    <a:lnTo>
                      <a:pt x="133" y="832"/>
                    </a:lnTo>
                    <a:lnTo>
                      <a:pt x="154" y="819"/>
                    </a:lnTo>
                    <a:lnTo>
                      <a:pt x="175" y="803"/>
                    </a:lnTo>
                    <a:lnTo>
                      <a:pt x="191" y="787"/>
                    </a:lnTo>
                    <a:lnTo>
                      <a:pt x="205" y="771"/>
                    </a:lnTo>
                    <a:lnTo>
                      <a:pt x="220" y="754"/>
                    </a:lnTo>
                    <a:lnTo>
                      <a:pt x="235" y="739"/>
                    </a:lnTo>
                    <a:lnTo>
                      <a:pt x="249" y="726"/>
                    </a:lnTo>
                    <a:lnTo>
                      <a:pt x="264" y="712"/>
                    </a:lnTo>
                    <a:lnTo>
                      <a:pt x="278" y="700"/>
                    </a:lnTo>
                    <a:lnTo>
                      <a:pt x="293" y="688"/>
                    </a:lnTo>
                    <a:lnTo>
                      <a:pt x="307" y="678"/>
                    </a:lnTo>
                    <a:lnTo>
                      <a:pt x="323" y="667"/>
                    </a:lnTo>
                    <a:lnTo>
                      <a:pt x="337" y="658"/>
                    </a:lnTo>
                    <a:lnTo>
                      <a:pt x="352" y="648"/>
                    </a:lnTo>
                    <a:lnTo>
                      <a:pt x="367" y="640"/>
                    </a:lnTo>
                    <a:lnTo>
                      <a:pt x="382" y="632"/>
                    </a:lnTo>
                    <a:lnTo>
                      <a:pt x="398" y="626"/>
                    </a:lnTo>
                    <a:lnTo>
                      <a:pt x="413" y="619"/>
                    </a:lnTo>
                    <a:lnTo>
                      <a:pt x="429" y="614"/>
                    </a:lnTo>
                    <a:lnTo>
                      <a:pt x="445" y="608"/>
                    </a:lnTo>
                    <a:lnTo>
                      <a:pt x="461" y="605"/>
                    </a:lnTo>
                    <a:lnTo>
                      <a:pt x="477" y="600"/>
                    </a:lnTo>
                    <a:lnTo>
                      <a:pt x="481" y="598"/>
                    </a:lnTo>
                    <a:lnTo>
                      <a:pt x="486" y="597"/>
                    </a:lnTo>
                    <a:lnTo>
                      <a:pt x="490" y="597"/>
                    </a:lnTo>
                    <a:lnTo>
                      <a:pt x="494" y="597"/>
                    </a:lnTo>
                    <a:lnTo>
                      <a:pt x="506" y="595"/>
                    </a:lnTo>
                    <a:lnTo>
                      <a:pt x="518" y="593"/>
                    </a:lnTo>
                    <a:lnTo>
                      <a:pt x="530" y="590"/>
                    </a:lnTo>
                    <a:lnTo>
                      <a:pt x="541" y="590"/>
                    </a:lnTo>
                    <a:lnTo>
                      <a:pt x="553" y="588"/>
                    </a:lnTo>
                    <a:lnTo>
                      <a:pt x="565" y="587"/>
                    </a:lnTo>
                    <a:lnTo>
                      <a:pt x="578" y="588"/>
                    </a:lnTo>
                    <a:lnTo>
                      <a:pt x="591" y="590"/>
                    </a:lnTo>
                    <a:lnTo>
                      <a:pt x="601" y="576"/>
                    </a:lnTo>
                    <a:lnTo>
                      <a:pt x="612" y="561"/>
                    </a:lnTo>
                    <a:lnTo>
                      <a:pt x="601" y="576"/>
                    </a:lnTo>
                    <a:lnTo>
                      <a:pt x="591" y="590"/>
                    </a:lnTo>
                    <a:lnTo>
                      <a:pt x="580" y="600"/>
                    </a:lnTo>
                    <a:lnTo>
                      <a:pt x="569" y="611"/>
                    </a:lnTo>
                    <a:lnTo>
                      <a:pt x="559" y="626"/>
                    </a:lnTo>
                    <a:lnTo>
                      <a:pt x="548" y="639"/>
                    </a:lnTo>
                    <a:lnTo>
                      <a:pt x="547" y="641"/>
                    </a:lnTo>
                    <a:lnTo>
                      <a:pt x="544" y="647"/>
                    </a:lnTo>
                    <a:lnTo>
                      <a:pt x="530" y="666"/>
                    </a:lnTo>
                    <a:lnTo>
                      <a:pt x="517" y="685"/>
                    </a:lnTo>
                    <a:lnTo>
                      <a:pt x="504" y="703"/>
                    </a:lnTo>
                    <a:lnTo>
                      <a:pt x="493" y="721"/>
                    </a:lnTo>
                    <a:lnTo>
                      <a:pt x="483" y="739"/>
                    </a:lnTo>
                    <a:lnTo>
                      <a:pt x="475" y="757"/>
                    </a:lnTo>
                    <a:lnTo>
                      <a:pt x="468" y="773"/>
                    </a:lnTo>
                    <a:lnTo>
                      <a:pt x="461" y="789"/>
                    </a:lnTo>
                    <a:lnTo>
                      <a:pt x="457" y="805"/>
                    </a:lnTo>
                    <a:lnTo>
                      <a:pt x="453" y="820"/>
                    </a:lnTo>
                    <a:lnTo>
                      <a:pt x="451" y="835"/>
                    </a:lnTo>
                    <a:lnTo>
                      <a:pt x="450" y="850"/>
                    </a:lnTo>
                    <a:lnTo>
                      <a:pt x="450" y="863"/>
                    </a:lnTo>
                    <a:lnTo>
                      <a:pt x="452" y="876"/>
                    </a:lnTo>
                    <a:lnTo>
                      <a:pt x="455" y="890"/>
                    </a:lnTo>
                    <a:lnTo>
                      <a:pt x="459" y="902"/>
                    </a:lnTo>
                    <a:lnTo>
                      <a:pt x="463" y="914"/>
                    </a:lnTo>
                    <a:lnTo>
                      <a:pt x="470" y="926"/>
                    </a:lnTo>
                    <a:lnTo>
                      <a:pt x="478" y="937"/>
                    </a:lnTo>
                    <a:lnTo>
                      <a:pt x="487" y="947"/>
                    </a:lnTo>
                    <a:lnTo>
                      <a:pt x="497" y="958"/>
                    </a:lnTo>
                    <a:lnTo>
                      <a:pt x="508" y="968"/>
                    </a:lnTo>
                    <a:lnTo>
                      <a:pt x="521" y="977"/>
                    </a:lnTo>
                    <a:lnTo>
                      <a:pt x="534" y="986"/>
                    </a:lnTo>
                    <a:lnTo>
                      <a:pt x="550" y="995"/>
                    </a:lnTo>
                    <a:lnTo>
                      <a:pt x="567" y="1003"/>
                    </a:lnTo>
                    <a:lnTo>
                      <a:pt x="583" y="1011"/>
                    </a:lnTo>
                    <a:lnTo>
                      <a:pt x="602" y="1017"/>
                    </a:lnTo>
                    <a:lnTo>
                      <a:pt x="622" y="1024"/>
                    </a:lnTo>
                    <a:lnTo>
                      <a:pt x="644" y="1029"/>
                    </a:lnTo>
                    <a:lnTo>
                      <a:pt x="666" y="1035"/>
                    </a:lnTo>
                    <a:lnTo>
                      <a:pt x="690" y="1040"/>
                    </a:lnTo>
                    <a:lnTo>
                      <a:pt x="704" y="1052"/>
                    </a:lnTo>
                    <a:lnTo>
                      <a:pt x="741" y="1062"/>
                    </a:lnTo>
                    <a:lnTo>
                      <a:pt x="775" y="1072"/>
                    </a:lnTo>
                    <a:lnTo>
                      <a:pt x="811" y="1083"/>
                    </a:lnTo>
                    <a:lnTo>
                      <a:pt x="844" y="1095"/>
                    </a:lnTo>
                    <a:lnTo>
                      <a:pt x="877" y="1107"/>
                    </a:lnTo>
                    <a:lnTo>
                      <a:pt x="908" y="1120"/>
                    </a:lnTo>
                    <a:lnTo>
                      <a:pt x="940" y="1135"/>
                    </a:lnTo>
                    <a:lnTo>
                      <a:pt x="970" y="1149"/>
                    </a:lnTo>
                    <a:lnTo>
                      <a:pt x="1000" y="1165"/>
                    </a:lnTo>
                    <a:lnTo>
                      <a:pt x="1029" y="1180"/>
                    </a:lnTo>
                    <a:lnTo>
                      <a:pt x="1057" y="1197"/>
                    </a:lnTo>
                    <a:lnTo>
                      <a:pt x="1084" y="1215"/>
                    </a:lnTo>
                    <a:lnTo>
                      <a:pt x="1110" y="1232"/>
                    </a:lnTo>
                    <a:lnTo>
                      <a:pt x="1136" y="1250"/>
                    </a:lnTo>
                    <a:lnTo>
                      <a:pt x="1160" y="1269"/>
                    </a:lnTo>
                    <a:lnTo>
                      <a:pt x="1183" y="1289"/>
                    </a:lnTo>
                    <a:lnTo>
                      <a:pt x="1208" y="1312"/>
                    </a:lnTo>
                    <a:lnTo>
                      <a:pt x="1232" y="1335"/>
                    </a:lnTo>
                    <a:lnTo>
                      <a:pt x="1254" y="1360"/>
                    </a:lnTo>
                    <a:lnTo>
                      <a:pt x="1277" y="1385"/>
                    </a:lnTo>
                    <a:lnTo>
                      <a:pt x="1297" y="1411"/>
                    </a:lnTo>
                    <a:lnTo>
                      <a:pt x="1315" y="1436"/>
                    </a:lnTo>
                    <a:lnTo>
                      <a:pt x="1333" y="1464"/>
                    </a:lnTo>
                    <a:lnTo>
                      <a:pt x="1351" y="1492"/>
                    </a:lnTo>
                    <a:lnTo>
                      <a:pt x="1354" y="1492"/>
                    </a:lnTo>
                    <a:lnTo>
                      <a:pt x="1356" y="1500"/>
                    </a:lnTo>
                    <a:lnTo>
                      <a:pt x="1360" y="1518"/>
                    </a:lnTo>
                    <a:lnTo>
                      <a:pt x="1365" y="1549"/>
                    </a:lnTo>
                    <a:lnTo>
                      <a:pt x="1372" y="1590"/>
                    </a:lnTo>
                    <a:lnTo>
                      <a:pt x="1381" y="1643"/>
                    </a:lnTo>
                    <a:lnTo>
                      <a:pt x="1391" y="1707"/>
                    </a:lnTo>
                    <a:lnTo>
                      <a:pt x="1402" y="1781"/>
                    </a:lnTo>
                    <a:lnTo>
                      <a:pt x="1414" y="1868"/>
                    </a:lnTo>
                    <a:lnTo>
                      <a:pt x="1415" y="1862"/>
                    </a:lnTo>
                    <a:lnTo>
                      <a:pt x="1417" y="1853"/>
                    </a:lnTo>
                    <a:lnTo>
                      <a:pt x="1421" y="1801"/>
                    </a:lnTo>
                    <a:lnTo>
                      <a:pt x="1423" y="1760"/>
                    </a:lnTo>
                    <a:lnTo>
                      <a:pt x="1426" y="1731"/>
                    </a:lnTo>
                    <a:lnTo>
                      <a:pt x="1429" y="1715"/>
                    </a:lnTo>
                    <a:lnTo>
                      <a:pt x="1433" y="1692"/>
                    </a:lnTo>
                    <a:lnTo>
                      <a:pt x="1437" y="1668"/>
                    </a:lnTo>
                    <a:lnTo>
                      <a:pt x="1441" y="1644"/>
                    </a:lnTo>
                    <a:lnTo>
                      <a:pt x="1444" y="1619"/>
                    </a:lnTo>
                    <a:lnTo>
                      <a:pt x="1445" y="1594"/>
                    </a:lnTo>
                    <a:lnTo>
                      <a:pt x="1445" y="1567"/>
                    </a:lnTo>
                    <a:lnTo>
                      <a:pt x="1445" y="1541"/>
                    </a:lnTo>
                    <a:lnTo>
                      <a:pt x="1443" y="1513"/>
                    </a:lnTo>
                    <a:lnTo>
                      <a:pt x="1443" y="1510"/>
                    </a:lnTo>
                    <a:lnTo>
                      <a:pt x="1443" y="1505"/>
                    </a:lnTo>
                    <a:lnTo>
                      <a:pt x="1442" y="1487"/>
                    </a:lnTo>
                    <a:lnTo>
                      <a:pt x="1441" y="1469"/>
                    </a:lnTo>
                    <a:lnTo>
                      <a:pt x="1439" y="1450"/>
                    </a:lnTo>
                    <a:lnTo>
                      <a:pt x="1435" y="1431"/>
                    </a:lnTo>
                    <a:lnTo>
                      <a:pt x="1431" y="1392"/>
                    </a:lnTo>
                    <a:lnTo>
                      <a:pt x="1424" y="1352"/>
                    </a:lnTo>
                    <a:lnTo>
                      <a:pt x="1416" y="1311"/>
                    </a:lnTo>
                    <a:lnTo>
                      <a:pt x="1406" y="1269"/>
                    </a:lnTo>
                    <a:lnTo>
                      <a:pt x="1395" y="1226"/>
                    </a:lnTo>
                    <a:lnTo>
                      <a:pt x="1383" y="1181"/>
                    </a:lnTo>
                    <a:lnTo>
                      <a:pt x="1369" y="1137"/>
                    </a:lnTo>
                    <a:lnTo>
                      <a:pt x="1354" y="1090"/>
                    </a:lnTo>
                    <a:lnTo>
                      <a:pt x="1351" y="1075"/>
                    </a:lnTo>
                    <a:lnTo>
                      <a:pt x="1346" y="1059"/>
                    </a:lnTo>
                    <a:lnTo>
                      <a:pt x="1341" y="1044"/>
                    </a:lnTo>
                    <a:lnTo>
                      <a:pt x="1336" y="1031"/>
                    </a:lnTo>
                    <a:lnTo>
                      <a:pt x="1325" y="998"/>
                    </a:lnTo>
                    <a:lnTo>
                      <a:pt x="1315" y="974"/>
                    </a:lnTo>
                    <a:lnTo>
                      <a:pt x="1307" y="947"/>
                    </a:lnTo>
                    <a:lnTo>
                      <a:pt x="1297" y="921"/>
                    </a:lnTo>
                    <a:lnTo>
                      <a:pt x="1287" y="892"/>
                    </a:lnTo>
                    <a:lnTo>
                      <a:pt x="1260" y="858"/>
                    </a:lnTo>
                    <a:lnTo>
                      <a:pt x="1236" y="823"/>
                    </a:lnTo>
                    <a:lnTo>
                      <a:pt x="1212" y="789"/>
                    </a:lnTo>
                    <a:lnTo>
                      <a:pt x="1190" y="757"/>
                    </a:lnTo>
                    <a:lnTo>
                      <a:pt x="1141" y="789"/>
                    </a:lnTo>
                    <a:close/>
                  </a:path>
                </a:pathLst>
              </a:custGeom>
              <a:solidFill>
                <a:srgbClr val="e4e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264"/>
              <p:cNvSpPr/>
              <p:nvPr/>
            </p:nvSpPr>
            <p:spPr>
              <a:xfrm>
                <a:off x="5870520" y="4810680"/>
                <a:ext cx="77760" cy="64440"/>
              </a:xfrm>
              <a:custGeom>
                <a:avLst/>
                <a:gdLst/>
                <a:ahLst/>
                <a:rect l="l" t="t" r="r" b="b"/>
                <a:pathLst>
                  <a:path w="757" h="789">
                    <a:moveTo>
                      <a:pt x="708" y="789"/>
                    </a:moveTo>
                    <a:lnTo>
                      <a:pt x="757" y="757"/>
                    </a:lnTo>
                    <a:lnTo>
                      <a:pt x="720" y="702"/>
                    </a:lnTo>
                    <a:lnTo>
                      <a:pt x="687" y="650"/>
                    </a:lnTo>
                    <a:lnTo>
                      <a:pt x="672" y="624"/>
                    </a:lnTo>
                    <a:lnTo>
                      <a:pt x="657" y="599"/>
                    </a:lnTo>
                    <a:lnTo>
                      <a:pt x="644" y="574"/>
                    </a:lnTo>
                    <a:lnTo>
                      <a:pt x="632" y="549"/>
                    </a:lnTo>
                    <a:lnTo>
                      <a:pt x="619" y="526"/>
                    </a:lnTo>
                    <a:lnTo>
                      <a:pt x="610" y="503"/>
                    </a:lnTo>
                    <a:lnTo>
                      <a:pt x="600" y="479"/>
                    </a:lnTo>
                    <a:lnTo>
                      <a:pt x="590" y="456"/>
                    </a:lnTo>
                    <a:lnTo>
                      <a:pt x="582" y="434"/>
                    </a:lnTo>
                    <a:lnTo>
                      <a:pt x="574" y="413"/>
                    </a:lnTo>
                    <a:lnTo>
                      <a:pt x="567" y="391"/>
                    </a:lnTo>
                    <a:lnTo>
                      <a:pt x="562" y="371"/>
                    </a:lnTo>
                    <a:lnTo>
                      <a:pt x="557" y="350"/>
                    </a:lnTo>
                    <a:lnTo>
                      <a:pt x="554" y="330"/>
                    </a:lnTo>
                    <a:lnTo>
                      <a:pt x="551" y="310"/>
                    </a:lnTo>
                    <a:lnTo>
                      <a:pt x="548" y="291"/>
                    </a:lnTo>
                    <a:lnTo>
                      <a:pt x="547" y="272"/>
                    </a:lnTo>
                    <a:lnTo>
                      <a:pt x="547" y="253"/>
                    </a:lnTo>
                    <a:lnTo>
                      <a:pt x="547" y="235"/>
                    </a:lnTo>
                    <a:lnTo>
                      <a:pt x="548" y="218"/>
                    </a:lnTo>
                    <a:lnTo>
                      <a:pt x="551" y="201"/>
                    </a:lnTo>
                    <a:lnTo>
                      <a:pt x="554" y="184"/>
                    </a:lnTo>
                    <a:lnTo>
                      <a:pt x="558" y="168"/>
                    </a:lnTo>
                    <a:lnTo>
                      <a:pt x="563" y="152"/>
                    </a:lnTo>
                    <a:lnTo>
                      <a:pt x="568" y="137"/>
                    </a:lnTo>
                    <a:lnTo>
                      <a:pt x="575" y="121"/>
                    </a:lnTo>
                    <a:lnTo>
                      <a:pt x="583" y="107"/>
                    </a:lnTo>
                    <a:lnTo>
                      <a:pt x="591" y="92"/>
                    </a:lnTo>
                    <a:lnTo>
                      <a:pt x="574" y="96"/>
                    </a:lnTo>
                    <a:lnTo>
                      <a:pt x="558" y="98"/>
                    </a:lnTo>
                    <a:lnTo>
                      <a:pt x="542" y="99"/>
                    </a:lnTo>
                    <a:lnTo>
                      <a:pt x="526" y="100"/>
                    </a:lnTo>
                    <a:lnTo>
                      <a:pt x="512" y="99"/>
                    </a:lnTo>
                    <a:lnTo>
                      <a:pt x="497" y="98"/>
                    </a:lnTo>
                    <a:lnTo>
                      <a:pt x="483" y="96"/>
                    </a:lnTo>
                    <a:lnTo>
                      <a:pt x="469" y="94"/>
                    </a:lnTo>
                    <a:lnTo>
                      <a:pt x="455" y="90"/>
                    </a:lnTo>
                    <a:lnTo>
                      <a:pt x="442" y="86"/>
                    </a:lnTo>
                    <a:lnTo>
                      <a:pt x="429" y="80"/>
                    </a:lnTo>
                    <a:lnTo>
                      <a:pt x="416" y="75"/>
                    </a:lnTo>
                    <a:lnTo>
                      <a:pt x="404" y="68"/>
                    </a:lnTo>
                    <a:lnTo>
                      <a:pt x="393" y="60"/>
                    </a:lnTo>
                    <a:lnTo>
                      <a:pt x="381" y="53"/>
                    </a:lnTo>
                    <a:lnTo>
                      <a:pt x="371" y="44"/>
                    </a:lnTo>
                    <a:lnTo>
                      <a:pt x="357" y="29"/>
                    </a:lnTo>
                    <a:lnTo>
                      <a:pt x="342" y="18"/>
                    </a:lnTo>
                    <a:lnTo>
                      <a:pt x="335" y="9"/>
                    </a:lnTo>
                    <a:lnTo>
                      <a:pt x="328" y="0"/>
                    </a:lnTo>
                    <a:lnTo>
                      <a:pt x="328" y="36"/>
                    </a:lnTo>
                    <a:lnTo>
                      <a:pt x="2" y="505"/>
                    </a:lnTo>
                    <a:lnTo>
                      <a:pt x="0" y="510"/>
                    </a:lnTo>
                    <a:lnTo>
                      <a:pt x="0" y="516"/>
                    </a:lnTo>
                    <a:lnTo>
                      <a:pt x="2" y="520"/>
                    </a:lnTo>
                    <a:lnTo>
                      <a:pt x="5" y="524"/>
                    </a:lnTo>
                    <a:lnTo>
                      <a:pt x="8" y="526"/>
                    </a:lnTo>
                    <a:lnTo>
                      <a:pt x="14" y="527"/>
                    </a:lnTo>
                    <a:lnTo>
                      <a:pt x="22" y="527"/>
                    </a:lnTo>
                    <a:lnTo>
                      <a:pt x="29" y="526"/>
                    </a:lnTo>
                    <a:lnTo>
                      <a:pt x="37" y="523"/>
                    </a:lnTo>
                    <a:lnTo>
                      <a:pt x="47" y="519"/>
                    </a:lnTo>
                    <a:lnTo>
                      <a:pt x="61" y="514"/>
                    </a:lnTo>
                    <a:lnTo>
                      <a:pt x="78" y="507"/>
                    </a:lnTo>
                    <a:lnTo>
                      <a:pt x="97" y="499"/>
                    </a:lnTo>
                    <a:lnTo>
                      <a:pt x="118" y="491"/>
                    </a:lnTo>
                    <a:lnTo>
                      <a:pt x="141" y="479"/>
                    </a:lnTo>
                    <a:lnTo>
                      <a:pt x="166" y="466"/>
                    </a:lnTo>
                    <a:lnTo>
                      <a:pt x="192" y="453"/>
                    </a:lnTo>
                    <a:lnTo>
                      <a:pt x="221" y="437"/>
                    </a:lnTo>
                    <a:lnTo>
                      <a:pt x="229" y="441"/>
                    </a:lnTo>
                    <a:lnTo>
                      <a:pt x="241" y="436"/>
                    </a:lnTo>
                    <a:lnTo>
                      <a:pt x="255" y="432"/>
                    </a:lnTo>
                    <a:lnTo>
                      <a:pt x="268" y="430"/>
                    </a:lnTo>
                    <a:lnTo>
                      <a:pt x="281" y="427"/>
                    </a:lnTo>
                    <a:lnTo>
                      <a:pt x="294" y="427"/>
                    </a:lnTo>
                    <a:lnTo>
                      <a:pt x="309" y="427"/>
                    </a:lnTo>
                    <a:lnTo>
                      <a:pt x="322" y="428"/>
                    </a:lnTo>
                    <a:lnTo>
                      <a:pt x="337" y="431"/>
                    </a:lnTo>
                    <a:lnTo>
                      <a:pt x="350" y="434"/>
                    </a:lnTo>
                    <a:lnTo>
                      <a:pt x="364" y="438"/>
                    </a:lnTo>
                    <a:lnTo>
                      <a:pt x="379" y="444"/>
                    </a:lnTo>
                    <a:lnTo>
                      <a:pt x="393" y="451"/>
                    </a:lnTo>
                    <a:lnTo>
                      <a:pt x="408" y="457"/>
                    </a:lnTo>
                    <a:lnTo>
                      <a:pt x="422" y="466"/>
                    </a:lnTo>
                    <a:lnTo>
                      <a:pt x="438" y="475"/>
                    </a:lnTo>
                    <a:lnTo>
                      <a:pt x="452" y="486"/>
                    </a:lnTo>
                    <a:lnTo>
                      <a:pt x="468" y="497"/>
                    </a:lnTo>
                    <a:lnTo>
                      <a:pt x="482" y="509"/>
                    </a:lnTo>
                    <a:lnTo>
                      <a:pt x="497" y="523"/>
                    </a:lnTo>
                    <a:lnTo>
                      <a:pt x="513" y="537"/>
                    </a:lnTo>
                    <a:lnTo>
                      <a:pt x="529" y="553"/>
                    </a:lnTo>
                    <a:lnTo>
                      <a:pt x="544" y="569"/>
                    </a:lnTo>
                    <a:lnTo>
                      <a:pt x="560" y="587"/>
                    </a:lnTo>
                    <a:lnTo>
                      <a:pt x="576" y="605"/>
                    </a:lnTo>
                    <a:lnTo>
                      <a:pt x="608" y="645"/>
                    </a:lnTo>
                    <a:lnTo>
                      <a:pt x="641" y="689"/>
                    </a:lnTo>
                    <a:lnTo>
                      <a:pt x="674" y="737"/>
                    </a:lnTo>
                    <a:lnTo>
                      <a:pt x="708" y="7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265"/>
              <p:cNvSpPr/>
              <p:nvPr/>
            </p:nvSpPr>
            <p:spPr>
              <a:xfrm>
                <a:off x="5952960" y="4812840"/>
                <a:ext cx="401400" cy="463320"/>
              </a:xfrm>
              <a:custGeom>
                <a:avLst/>
                <a:gdLst/>
                <a:ahLst/>
                <a:rect l="l" t="t" r="r" b="b"/>
                <a:pathLst>
                  <a:path w="3857" h="5604">
                    <a:moveTo>
                      <a:pt x="829" y="650"/>
                    </a:moveTo>
                    <a:lnTo>
                      <a:pt x="764" y="692"/>
                    </a:lnTo>
                    <a:lnTo>
                      <a:pt x="730" y="718"/>
                    </a:lnTo>
                    <a:lnTo>
                      <a:pt x="695" y="745"/>
                    </a:lnTo>
                    <a:lnTo>
                      <a:pt x="662" y="775"/>
                    </a:lnTo>
                    <a:lnTo>
                      <a:pt x="628" y="809"/>
                    </a:lnTo>
                    <a:lnTo>
                      <a:pt x="593" y="844"/>
                    </a:lnTo>
                    <a:lnTo>
                      <a:pt x="559" y="882"/>
                    </a:lnTo>
                    <a:lnTo>
                      <a:pt x="524" y="923"/>
                    </a:lnTo>
                    <a:lnTo>
                      <a:pt x="489" y="966"/>
                    </a:lnTo>
                    <a:lnTo>
                      <a:pt x="455" y="1011"/>
                    </a:lnTo>
                    <a:lnTo>
                      <a:pt x="419" y="1060"/>
                    </a:lnTo>
                    <a:lnTo>
                      <a:pt x="385" y="1110"/>
                    </a:lnTo>
                    <a:lnTo>
                      <a:pt x="349" y="1163"/>
                    </a:lnTo>
                    <a:lnTo>
                      <a:pt x="314" y="1220"/>
                    </a:lnTo>
                    <a:lnTo>
                      <a:pt x="278" y="1278"/>
                    </a:lnTo>
                    <a:lnTo>
                      <a:pt x="243" y="1339"/>
                    </a:lnTo>
                    <a:lnTo>
                      <a:pt x="206" y="1402"/>
                    </a:lnTo>
                    <a:lnTo>
                      <a:pt x="210" y="1421"/>
                    </a:lnTo>
                    <a:lnTo>
                      <a:pt x="212" y="1440"/>
                    </a:lnTo>
                    <a:lnTo>
                      <a:pt x="213" y="1458"/>
                    </a:lnTo>
                    <a:lnTo>
                      <a:pt x="214" y="1476"/>
                    </a:lnTo>
                    <a:lnTo>
                      <a:pt x="214" y="1481"/>
                    </a:lnTo>
                    <a:lnTo>
                      <a:pt x="214" y="1484"/>
                    </a:lnTo>
                    <a:lnTo>
                      <a:pt x="216" y="1512"/>
                    </a:lnTo>
                    <a:lnTo>
                      <a:pt x="216" y="1538"/>
                    </a:lnTo>
                    <a:lnTo>
                      <a:pt x="216" y="1565"/>
                    </a:lnTo>
                    <a:lnTo>
                      <a:pt x="215" y="1590"/>
                    </a:lnTo>
                    <a:lnTo>
                      <a:pt x="212" y="1615"/>
                    </a:lnTo>
                    <a:lnTo>
                      <a:pt x="208" y="1639"/>
                    </a:lnTo>
                    <a:lnTo>
                      <a:pt x="204" y="1663"/>
                    </a:lnTo>
                    <a:lnTo>
                      <a:pt x="200" y="1686"/>
                    </a:lnTo>
                    <a:lnTo>
                      <a:pt x="188" y="1821"/>
                    </a:lnTo>
                    <a:lnTo>
                      <a:pt x="188" y="1839"/>
                    </a:lnTo>
                    <a:lnTo>
                      <a:pt x="185" y="1850"/>
                    </a:lnTo>
                    <a:lnTo>
                      <a:pt x="185" y="1844"/>
                    </a:lnTo>
                    <a:lnTo>
                      <a:pt x="185" y="1839"/>
                    </a:lnTo>
                    <a:lnTo>
                      <a:pt x="177" y="1887"/>
                    </a:lnTo>
                    <a:lnTo>
                      <a:pt x="169" y="1937"/>
                    </a:lnTo>
                    <a:lnTo>
                      <a:pt x="161" y="1986"/>
                    </a:lnTo>
                    <a:lnTo>
                      <a:pt x="152" y="2036"/>
                    </a:lnTo>
                    <a:lnTo>
                      <a:pt x="143" y="2085"/>
                    </a:lnTo>
                    <a:lnTo>
                      <a:pt x="134" y="2134"/>
                    </a:lnTo>
                    <a:lnTo>
                      <a:pt x="125" y="2184"/>
                    </a:lnTo>
                    <a:lnTo>
                      <a:pt x="116" y="2232"/>
                    </a:lnTo>
                    <a:lnTo>
                      <a:pt x="107" y="2281"/>
                    </a:lnTo>
                    <a:lnTo>
                      <a:pt x="98" y="2330"/>
                    </a:lnTo>
                    <a:lnTo>
                      <a:pt x="89" y="2380"/>
                    </a:lnTo>
                    <a:lnTo>
                      <a:pt x="79" y="2429"/>
                    </a:lnTo>
                    <a:lnTo>
                      <a:pt x="70" y="2477"/>
                    </a:lnTo>
                    <a:lnTo>
                      <a:pt x="60" y="2526"/>
                    </a:lnTo>
                    <a:lnTo>
                      <a:pt x="50" y="2575"/>
                    </a:lnTo>
                    <a:lnTo>
                      <a:pt x="40" y="2623"/>
                    </a:lnTo>
                    <a:lnTo>
                      <a:pt x="30" y="2676"/>
                    </a:lnTo>
                    <a:lnTo>
                      <a:pt x="21" y="2729"/>
                    </a:lnTo>
                    <a:lnTo>
                      <a:pt x="14" y="2782"/>
                    </a:lnTo>
                    <a:lnTo>
                      <a:pt x="9" y="2836"/>
                    </a:lnTo>
                    <a:lnTo>
                      <a:pt x="4" y="2889"/>
                    </a:lnTo>
                    <a:lnTo>
                      <a:pt x="1" y="2941"/>
                    </a:lnTo>
                    <a:lnTo>
                      <a:pt x="0" y="2994"/>
                    </a:lnTo>
                    <a:lnTo>
                      <a:pt x="0" y="3046"/>
                    </a:lnTo>
                    <a:lnTo>
                      <a:pt x="2" y="3099"/>
                    </a:lnTo>
                    <a:lnTo>
                      <a:pt x="4" y="3152"/>
                    </a:lnTo>
                    <a:lnTo>
                      <a:pt x="9" y="3204"/>
                    </a:lnTo>
                    <a:lnTo>
                      <a:pt x="15" y="3256"/>
                    </a:lnTo>
                    <a:lnTo>
                      <a:pt x="23" y="3308"/>
                    </a:lnTo>
                    <a:lnTo>
                      <a:pt x="32" y="3360"/>
                    </a:lnTo>
                    <a:lnTo>
                      <a:pt x="42" y="3412"/>
                    </a:lnTo>
                    <a:lnTo>
                      <a:pt x="54" y="3464"/>
                    </a:lnTo>
                    <a:lnTo>
                      <a:pt x="73" y="3546"/>
                    </a:lnTo>
                    <a:lnTo>
                      <a:pt x="93" y="3629"/>
                    </a:lnTo>
                    <a:lnTo>
                      <a:pt x="114" y="3712"/>
                    </a:lnTo>
                    <a:lnTo>
                      <a:pt x="136" y="3794"/>
                    </a:lnTo>
                    <a:lnTo>
                      <a:pt x="160" y="3876"/>
                    </a:lnTo>
                    <a:lnTo>
                      <a:pt x="184" y="3958"/>
                    </a:lnTo>
                    <a:lnTo>
                      <a:pt x="208" y="4040"/>
                    </a:lnTo>
                    <a:lnTo>
                      <a:pt x="235" y="4121"/>
                    </a:lnTo>
                    <a:lnTo>
                      <a:pt x="240" y="4140"/>
                    </a:lnTo>
                    <a:lnTo>
                      <a:pt x="244" y="4158"/>
                    </a:lnTo>
                    <a:lnTo>
                      <a:pt x="248" y="4177"/>
                    </a:lnTo>
                    <a:lnTo>
                      <a:pt x="251" y="4196"/>
                    </a:lnTo>
                    <a:lnTo>
                      <a:pt x="253" y="4216"/>
                    </a:lnTo>
                    <a:lnTo>
                      <a:pt x="255" y="4236"/>
                    </a:lnTo>
                    <a:lnTo>
                      <a:pt x="256" y="4256"/>
                    </a:lnTo>
                    <a:lnTo>
                      <a:pt x="256" y="4277"/>
                    </a:lnTo>
                    <a:lnTo>
                      <a:pt x="255" y="4315"/>
                    </a:lnTo>
                    <a:lnTo>
                      <a:pt x="254" y="4352"/>
                    </a:lnTo>
                    <a:lnTo>
                      <a:pt x="253" y="4390"/>
                    </a:lnTo>
                    <a:lnTo>
                      <a:pt x="253" y="4429"/>
                    </a:lnTo>
                    <a:lnTo>
                      <a:pt x="252" y="4467"/>
                    </a:lnTo>
                    <a:lnTo>
                      <a:pt x="249" y="4505"/>
                    </a:lnTo>
                    <a:lnTo>
                      <a:pt x="248" y="4544"/>
                    </a:lnTo>
                    <a:lnTo>
                      <a:pt x="246" y="4582"/>
                    </a:lnTo>
                    <a:lnTo>
                      <a:pt x="275" y="4581"/>
                    </a:lnTo>
                    <a:lnTo>
                      <a:pt x="303" y="4581"/>
                    </a:lnTo>
                    <a:lnTo>
                      <a:pt x="329" y="4582"/>
                    </a:lnTo>
                    <a:lnTo>
                      <a:pt x="353" y="4583"/>
                    </a:lnTo>
                    <a:lnTo>
                      <a:pt x="376" y="4585"/>
                    </a:lnTo>
                    <a:lnTo>
                      <a:pt x="396" y="4588"/>
                    </a:lnTo>
                    <a:lnTo>
                      <a:pt x="416" y="4592"/>
                    </a:lnTo>
                    <a:lnTo>
                      <a:pt x="434" y="4596"/>
                    </a:lnTo>
                    <a:lnTo>
                      <a:pt x="448" y="4586"/>
                    </a:lnTo>
                    <a:lnTo>
                      <a:pt x="462" y="4576"/>
                    </a:lnTo>
                    <a:lnTo>
                      <a:pt x="478" y="4569"/>
                    </a:lnTo>
                    <a:lnTo>
                      <a:pt x="495" y="4562"/>
                    </a:lnTo>
                    <a:lnTo>
                      <a:pt x="512" y="4558"/>
                    </a:lnTo>
                    <a:lnTo>
                      <a:pt x="531" y="4554"/>
                    </a:lnTo>
                    <a:lnTo>
                      <a:pt x="551" y="4551"/>
                    </a:lnTo>
                    <a:lnTo>
                      <a:pt x="572" y="4551"/>
                    </a:lnTo>
                    <a:lnTo>
                      <a:pt x="595" y="4551"/>
                    </a:lnTo>
                    <a:lnTo>
                      <a:pt x="617" y="4552"/>
                    </a:lnTo>
                    <a:lnTo>
                      <a:pt x="641" y="4555"/>
                    </a:lnTo>
                    <a:lnTo>
                      <a:pt x="666" y="4560"/>
                    </a:lnTo>
                    <a:lnTo>
                      <a:pt x="691" y="4565"/>
                    </a:lnTo>
                    <a:lnTo>
                      <a:pt x="718" y="4572"/>
                    </a:lnTo>
                    <a:lnTo>
                      <a:pt x="746" y="4580"/>
                    </a:lnTo>
                    <a:lnTo>
                      <a:pt x="774" y="4590"/>
                    </a:lnTo>
                    <a:lnTo>
                      <a:pt x="830" y="4607"/>
                    </a:lnTo>
                    <a:lnTo>
                      <a:pt x="884" y="4624"/>
                    </a:lnTo>
                    <a:lnTo>
                      <a:pt x="940" y="4641"/>
                    </a:lnTo>
                    <a:lnTo>
                      <a:pt x="995" y="4655"/>
                    </a:lnTo>
                    <a:lnTo>
                      <a:pt x="1050" y="4668"/>
                    </a:lnTo>
                    <a:lnTo>
                      <a:pt x="1105" y="4681"/>
                    </a:lnTo>
                    <a:lnTo>
                      <a:pt x="1160" y="4691"/>
                    </a:lnTo>
                    <a:lnTo>
                      <a:pt x="1215" y="4700"/>
                    </a:lnTo>
                    <a:lnTo>
                      <a:pt x="1237" y="4700"/>
                    </a:lnTo>
                    <a:lnTo>
                      <a:pt x="1258" y="4701"/>
                    </a:lnTo>
                    <a:lnTo>
                      <a:pt x="1278" y="4703"/>
                    </a:lnTo>
                    <a:lnTo>
                      <a:pt x="1298" y="4705"/>
                    </a:lnTo>
                    <a:lnTo>
                      <a:pt x="1318" y="4708"/>
                    </a:lnTo>
                    <a:lnTo>
                      <a:pt x="1337" y="4712"/>
                    </a:lnTo>
                    <a:lnTo>
                      <a:pt x="1354" y="4716"/>
                    </a:lnTo>
                    <a:lnTo>
                      <a:pt x="1372" y="4721"/>
                    </a:lnTo>
                    <a:lnTo>
                      <a:pt x="1389" y="4726"/>
                    </a:lnTo>
                    <a:lnTo>
                      <a:pt x="1405" y="4733"/>
                    </a:lnTo>
                    <a:lnTo>
                      <a:pt x="1421" y="4739"/>
                    </a:lnTo>
                    <a:lnTo>
                      <a:pt x="1437" y="4747"/>
                    </a:lnTo>
                    <a:lnTo>
                      <a:pt x="1451" y="4756"/>
                    </a:lnTo>
                    <a:lnTo>
                      <a:pt x="1465" y="4765"/>
                    </a:lnTo>
                    <a:lnTo>
                      <a:pt x="1479" y="4775"/>
                    </a:lnTo>
                    <a:lnTo>
                      <a:pt x="1492" y="4785"/>
                    </a:lnTo>
                    <a:lnTo>
                      <a:pt x="1519" y="4790"/>
                    </a:lnTo>
                    <a:lnTo>
                      <a:pt x="1545" y="4795"/>
                    </a:lnTo>
                    <a:lnTo>
                      <a:pt x="1572" y="4800"/>
                    </a:lnTo>
                    <a:lnTo>
                      <a:pt x="1598" y="4806"/>
                    </a:lnTo>
                    <a:lnTo>
                      <a:pt x="1598" y="4806"/>
                    </a:lnTo>
                    <a:lnTo>
                      <a:pt x="1602" y="4806"/>
                    </a:lnTo>
                    <a:lnTo>
                      <a:pt x="1684" y="4821"/>
                    </a:lnTo>
                    <a:lnTo>
                      <a:pt x="1760" y="4834"/>
                    </a:lnTo>
                    <a:lnTo>
                      <a:pt x="1831" y="4845"/>
                    </a:lnTo>
                    <a:lnTo>
                      <a:pt x="1896" y="4854"/>
                    </a:lnTo>
                    <a:lnTo>
                      <a:pt x="1955" y="4861"/>
                    </a:lnTo>
                    <a:lnTo>
                      <a:pt x="2007" y="4866"/>
                    </a:lnTo>
                    <a:lnTo>
                      <a:pt x="2054" y="4869"/>
                    </a:lnTo>
                    <a:lnTo>
                      <a:pt x="2095" y="4870"/>
                    </a:lnTo>
                    <a:lnTo>
                      <a:pt x="2107" y="4860"/>
                    </a:lnTo>
                    <a:lnTo>
                      <a:pt x="2117" y="4851"/>
                    </a:lnTo>
                    <a:lnTo>
                      <a:pt x="2128" y="4844"/>
                    </a:lnTo>
                    <a:lnTo>
                      <a:pt x="2139" y="4838"/>
                    </a:lnTo>
                    <a:lnTo>
                      <a:pt x="2144" y="4812"/>
                    </a:lnTo>
                    <a:lnTo>
                      <a:pt x="2152" y="4784"/>
                    </a:lnTo>
                    <a:lnTo>
                      <a:pt x="2161" y="4754"/>
                    </a:lnTo>
                    <a:lnTo>
                      <a:pt x="2170" y="4724"/>
                    </a:lnTo>
                    <a:lnTo>
                      <a:pt x="2192" y="4658"/>
                    </a:lnTo>
                    <a:lnTo>
                      <a:pt x="2219" y="4588"/>
                    </a:lnTo>
                    <a:lnTo>
                      <a:pt x="2249" y="4511"/>
                    </a:lnTo>
                    <a:lnTo>
                      <a:pt x="2284" y="4429"/>
                    </a:lnTo>
                    <a:lnTo>
                      <a:pt x="2323" y="4341"/>
                    </a:lnTo>
                    <a:lnTo>
                      <a:pt x="2365" y="4248"/>
                    </a:lnTo>
                    <a:lnTo>
                      <a:pt x="2387" y="4198"/>
                    </a:lnTo>
                    <a:lnTo>
                      <a:pt x="2408" y="4143"/>
                    </a:lnTo>
                    <a:lnTo>
                      <a:pt x="2431" y="4083"/>
                    </a:lnTo>
                    <a:lnTo>
                      <a:pt x="2452" y="4018"/>
                    </a:lnTo>
                    <a:lnTo>
                      <a:pt x="2474" y="3947"/>
                    </a:lnTo>
                    <a:lnTo>
                      <a:pt x="2496" y="3871"/>
                    </a:lnTo>
                    <a:lnTo>
                      <a:pt x="2518" y="3791"/>
                    </a:lnTo>
                    <a:lnTo>
                      <a:pt x="2540" y="3706"/>
                    </a:lnTo>
                    <a:lnTo>
                      <a:pt x="2563" y="3616"/>
                    </a:lnTo>
                    <a:lnTo>
                      <a:pt x="2585" y="3521"/>
                    </a:lnTo>
                    <a:lnTo>
                      <a:pt x="2608" y="3421"/>
                    </a:lnTo>
                    <a:lnTo>
                      <a:pt x="2630" y="3316"/>
                    </a:lnTo>
                    <a:lnTo>
                      <a:pt x="2652" y="3206"/>
                    </a:lnTo>
                    <a:lnTo>
                      <a:pt x="2676" y="3091"/>
                    </a:lnTo>
                    <a:lnTo>
                      <a:pt x="2698" y="2971"/>
                    </a:lnTo>
                    <a:lnTo>
                      <a:pt x="2721" y="2847"/>
                    </a:lnTo>
                    <a:lnTo>
                      <a:pt x="2722" y="2837"/>
                    </a:lnTo>
                    <a:lnTo>
                      <a:pt x="2725" y="2829"/>
                    </a:lnTo>
                    <a:lnTo>
                      <a:pt x="2725" y="2824"/>
                    </a:lnTo>
                    <a:lnTo>
                      <a:pt x="2725" y="2820"/>
                    </a:lnTo>
                    <a:lnTo>
                      <a:pt x="2726" y="2816"/>
                    </a:lnTo>
                    <a:lnTo>
                      <a:pt x="2728" y="2811"/>
                    </a:lnTo>
                    <a:lnTo>
                      <a:pt x="2713" y="2787"/>
                    </a:lnTo>
                    <a:lnTo>
                      <a:pt x="2699" y="2762"/>
                    </a:lnTo>
                    <a:lnTo>
                      <a:pt x="2686" y="2737"/>
                    </a:lnTo>
                    <a:lnTo>
                      <a:pt x="2673" y="2711"/>
                    </a:lnTo>
                    <a:lnTo>
                      <a:pt x="2662" y="2686"/>
                    </a:lnTo>
                    <a:lnTo>
                      <a:pt x="2651" y="2659"/>
                    </a:lnTo>
                    <a:lnTo>
                      <a:pt x="2641" y="2632"/>
                    </a:lnTo>
                    <a:lnTo>
                      <a:pt x="2632" y="2604"/>
                    </a:lnTo>
                    <a:lnTo>
                      <a:pt x="2624" y="2576"/>
                    </a:lnTo>
                    <a:lnTo>
                      <a:pt x="2616" y="2548"/>
                    </a:lnTo>
                    <a:lnTo>
                      <a:pt x="2608" y="2518"/>
                    </a:lnTo>
                    <a:lnTo>
                      <a:pt x="2602" y="2490"/>
                    </a:lnTo>
                    <a:lnTo>
                      <a:pt x="2597" y="2460"/>
                    </a:lnTo>
                    <a:lnTo>
                      <a:pt x="2591" y="2430"/>
                    </a:lnTo>
                    <a:lnTo>
                      <a:pt x="2588" y="2399"/>
                    </a:lnTo>
                    <a:lnTo>
                      <a:pt x="2585" y="2368"/>
                    </a:lnTo>
                    <a:lnTo>
                      <a:pt x="2581" y="2335"/>
                    </a:lnTo>
                    <a:lnTo>
                      <a:pt x="2580" y="2303"/>
                    </a:lnTo>
                    <a:lnTo>
                      <a:pt x="2579" y="2270"/>
                    </a:lnTo>
                    <a:lnTo>
                      <a:pt x="2579" y="2237"/>
                    </a:lnTo>
                    <a:lnTo>
                      <a:pt x="2579" y="2204"/>
                    </a:lnTo>
                    <a:lnTo>
                      <a:pt x="2580" y="2169"/>
                    </a:lnTo>
                    <a:lnTo>
                      <a:pt x="2583" y="2135"/>
                    </a:lnTo>
                    <a:lnTo>
                      <a:pt x="2586" y="2100"/>
                    </a:lnTo>
                    <a:lnTo>
                      <a:pt x="2589" y="2065"/>
                    </a:lnTo>
                    <a:lnTo>
                      <a:pt x="2594" y="2028"/>
                    </a:lnTo>
                    <a:lnTo>
                      <a:pt x="2598" y="1992"/>
                    </a:lnTo>
                    <a:lnTo>
                      <a:pt x="2605" y="1955"/>
                    </a:lnTo>
                    <a:lnTo>
                      <a:pt x="2611" y="1917"/>
                    </a:lnTo>
                    <a:lnTo>
                      <a:pt x="2618" y="1880"/>
                    </a:lnTo>
                    <a:lnTo>
                      <a:pt x="2627" y="1842"/>
                    </a:lnTo>
                    <a:lnTo>
                      <a:pt x="2636" y="1803"/>
                    </a:lnTo>
                    <a:lnTo>
                      <a:pt x="2627" y="1842"/>
                    </a:lnTo>
                    <a:lnTo>
                      <a:pt x="2618" y="1880"/>
                    </a:lnTo>
                    <a:lnTo>
                      <a:pt x="2611" y="1917"/>
                    </a:lnTo>
                    <a:lnTo>
                      <a:pt x="2605" y="1955"/>
                    </a:lnTo>
                    <a:lnTo>
                      <a:pt x="2598" y="1992"/>
                    </a:lnTo>
                    <a:lnTo>
                      <a:pt x="2594" y="2028"/>
                    </a:lnTo>
                    <a:lnTo>
                      <a:pt x="2589" y="2065"/>
                    </a:lnTo>
                    <a:lnTo>
                      <a:pt x="2586" y="2100"/>
                    </a:lnTo>
                    <a:lnTo>
                      <a:pt x="2583" y="2135"/>
                    </a:lnTo>
                    <a:lnTo>
                      <a:pt x="2580" y="2169"/>
                    </a:lnTo>
                    <a:lnTo>
                      <a:pt x="2579" y="2204"/>
                    </a:lnTo>
                    <a:lnTo>
                      <a:pt x="2579" y="2237"/>
                    </a:lnTo>
                    <a:lnTo>
                      <a:pt x="2579" y="2270"/>
                    </a:lnTo>
                    <a:lnTo>
                      <a:pt x="2580" y="2303"/>
                    </a:lnTo>
                    <a:lnTo>
                      <a:pt x="2581" y="2335"/>
                    </a:lnTo>
                    <a:lnTo>
                      <a:pt x="2585" y="2368"/>
                    </a:lnTo>
                    <a:lnTo>
                      <a:pt x="2588" y="2399"/>
                    </a:lnTo>
                    <a:lnTo>
                      <a:pt x="2591" y="2430"/>
                    </a:lnTo>
                    <a:lnTo>
                      <a:pt x="2597" y="2460"/>
                    </a:lnTo>
                    <a:lnTo>
                      <a:pt x="2602" y="2490"/>
                    </a:lnTo>
                    <a:lnTo>
                      <a:pt x="2608" y="2518"/>
                    </a:lnTo>
                    <a:lnTo>
                      <a:pt x="2616" y="2548"/>
                    </a:lnTo>
                    <a:lnTo>
                      <a:pt x="2624" y="2576"/>
                    </a:lnTo>
                    <a:lnTo>
                      <a:pt x="2632" y="2604"/>
                    </a:lnTo>
                    <a:lnTo>
                      <a:pt x="2641" y="2632"/>
                    </a:lnTo>
                    <a:lnTo>
                      <a:pt x="2651" y="2659"/>
                    </a:lnTo>
                    <a:lnTo>
                      <a:pt x="2662" y="2686"/>
                    </a:lnTo>
                    <a:lnTo>
                      <a:pt x="2673" y="2711"/>
                    </a:lnTo>
                    <a:lnTo>
                      <a:pt x="2686" y="2737"/>
                    </a:lnTo>
                    <a:lnTo>
                      <a:pt x="2699" y="2762"/>
                    </a:lnTo>
                    <a:lnTo>
                      <a:pt x="2713" y="2787"/>
                    </a:lnTo>
                    <a:lnTo>
                      <a:pt x="2728" y="2811"/>
                    </a:lnTo>
                    <a:lnTo>
                      <a:pt x="2726" y="2816"/>
                    </a:lnTo>
                    <a:lnTo>
                      <a:pt x="2725" y="2820"/>
                    </a:lnTo>
                    <a:lnTo>
                      <a:pt x="2725" y="2824"/>
                    </a:lnTo>
                    <a:lnTo>
                      <a:pt x="2725" y="2829"/>
                    </a:lnTo>
                    <a:lnTo>
                      <a:pt x="2727" y="2821"/>
                    </a:lnTo>
                    <a:lnTo>
                      <a:pt x="2728" y="2813"/>
                    </a:lnTo>
                    <a:lnTo>
                      <a:pt x="2728" y="2804"/>
                    </a:lnTo>
                    <a:lnTo>
                      <a:pt x="2728" y="2797"/>
                    </a:lnTo>
                    <a:lnTo>
                      <a:pt x="2727" y="2759"/>
                    </a:lnTo>
                    <a:lnTo>
                      <a:pt x="2727" y="2721"/>
                    </a:lnTo>
                    <a:lnTo>
                      <a:pt x="2728" y="2684"/>
                    </a:lnTo>
                    <a:lnTo>
                      <a:pt x="2729" y="2646"/>
                    </a:lnTo>
                    <a:lnTo>
                      <a:pt x="2731" y="2608"/>
                    </a:lnTo>
                    <a:lnTo>
                      <a:pt x="2734" y="2569"/>
                    </a:lnTo>
                    <a:lnTo>
                      <a:pt x="2739" y="2532"/>
                    </a:lnTo>
                    <a:lnTo>
                      <a:pt x="2743" y="2493"/>
                    </a:lnTo>
                    <a:lnTo>
                      <a:pt x="2749" y="2454"/>
                    </a:lnTo>
                    <a:lnTo>
                      <a:pt x="2756" y="2416"/>
                    </a:lnTo>
                    <a:lnTo>
                      <a:pt x="2763" y="2378"/>
                    </a:lnTo>
                    <a:lnTo>
                      <a:pt x="2771" y="2339"/>
                    </a:lnTo>
                    <a:lnTo>
                      <a:pt x="2780" y="2300"/>
                    </a:lnTo>
                    <a:lnTo>
                      <a:pt x="2790" y="2261"/>
                    </a:lnTo>
                    <a:lnTo>
                      <a:pt x="2801" y="2222"/>
                    </a:lnTo>
                    <a:lnTo>
                      <a:pt x="2812" y="2182"/>
                    </a:lnTo>
                    <a:lnTo>
                      <a:pt x="2824" y="2144"/>
                    </a:lnTo>
                    <a:lnTo>
                      <a:pt x="2838" y="2105"/>
                    </a:lnTo>
                    <a:lnTo>
                      <a:pt x="2852" y="2065"/>
                    </a:lnTo>
                    <a:lnTo>
                      <a:pt x="2867" y="2026"/>
                    </a:lnTo>
                    <a:lnTo>
                      <a:pt x="2882" y="1986"/>
                    </a:lnTo>
                    <a:lnTo>
                      <a:pt x="2899" y="1947"/>
                    </a:lnTo>
                    <a:lnTo>
                      <a:pt x="2916" y="1907"/>
                    </a:lnTo>
                    <a:lnTo>
                      <a:pt x="2934" y="1868"/>
                    </a:lnTo>
                    <a:lnTo>
                      <a:pt x="2953" y="1828"/>
                    </a:lnTo>
                    <a:lnTo>
                      <a:pt x="2973" y="1788"/>
                    </a:lnTo>
                    <a:lnTo>
                      <a:pt x="2993" y="1748"/>
                    </a:lnTo>
                    <a:lnTo>
                      <a:pt x="3014" y="1708"/>
                    </a:lnTo>
                    <a:lnTo>
                      <a:pt x="3036" y="1668"/>
                    </a:lnTo>
                    <a:lnTo>
                      <a:pt x="3060" y="1628"/>
                    </a:lnTo>
                    <a:lnTo>
                      <a:pt x="3083" y="1588"/>
                    </a:lnTo>
                    <a:lnTo>
                      <a:pt x="3107" y="1547"/>
                    </a:lnTo>
                    <a:lnTo>
                      <a:pt x="3112" y="1543"/>
                    </a:lnTo>
                    <a:lnTo>
                      <a:pt x="3115" y="1540"/>
                    </a:lnTo>
                    <a:lnTo>
                      <a:pt x="3151" y="1500"/>
                    </a:lnTo>
                    <a:lnTo>
                      <a:pt x="3184" y="1461"/>
                    </a:lnTo>
                    <a:lnTo>
                      <a:pt x="3215" y="1421"/>
                    </a:lnTo>
                    <a:lnTo>
                      <a:pt x="3244" y="1381"/>
                    </a:lnTo>
                    <a:lnTo>
                      <a:pt x="3270" y="1341"/>
                    </a:lnTo>
                    <a:lnTo>
                      <a:pt x="3296" y="1301"/>
                    </a:lnTo>
                    <a:lnTo>
                      <a:pt x="3318" y="1261"/>
                    </a:lnTo>
                    <a:lnTo>
                      <a:pt x="3338" y="1221"/>
                    </a:lnTo>
                    <a:lnTo>
                      <a:pt x="3356" y="1182"/>
                    </a:lnTo>
                    <a:lnTo>
                      <a:pt x="3372" y="1142"/>
                    </a:lnTo>
                    <a:lnTo>
                      <a:pt x="3386" y="1102"/>
                    </a:lnTo>
                    <a:lnTo>
                      <a:pt x="3397" y="1062"/>
                    </a:lnTo>
                    <a:lnTo>
                      <a:pt x="3406" y="1024"/>
                    </a:lnTo>
                    <a:lnTo>
                      <a:pt x="3413" y="984"/>
                    </a:lnTo>
                    <a:lnTo>
                      <a:pt x="3418" y="945"/>
                    </a:lnTo>
                    <a:lnTo>
                      <a:pt x="3420" y="905"/>
                    </a:lnTo>
                    <a:lnTo>
                      <a:pt x="3418" y="945"/>
                    </a:lnTo>
                    <a:lnTo>
                      <a:pt x="3413" y="984"/>
                    </a:lnTo>
                    <a:lnTo>
                      <a:pt x="3406" y="1024"/>
                    </a:lnTo>
                    <a:lnTo>
                      <a:pt x="3397" y="1062"/>
                    </a:lnTo>
                    <a:lnTo>
                      <a:pt x="3386" y="1102"/>
                    </a:lnTo>
                    <a:lnTo>
                      <a:pt x="3372" y="1142"/>
                    </a:lnTo>
                    <a:lnTo>
                      <a:pt x="3356" y="1182"/>
                    </a:lnTo>
                    <a:lnTo>
                      <a:pt x="3338" y="1221"/>
                    </a:lnTo>
                    <a:lnTo>
                      <a:pt x="3318" y="1261"/>
                    </a:lnTo>
                    <a:lnTo>
                      <a:pt x="3296" y="1301"/>
                    </a:lnTo>
                    <a:lnTo>
                      <a:pt x="3270" y="1341"/>
                    </a:lnTo>
                    <a:lnTo>
                      <a:pt x="3244" y="1381"/>
                    </a:lnTo>
                    <a:lnTo>
                      <a:pt x="3215" y="1421"/>
                    </a:lnTo>
                    <a:lnTo>
                      <a:pt x="3184" y="1461"/>
                    </a:lnTo>
                    <a:lnTo>
                      <a:pt x="3151" y="1500"/>
                    </a:lnTo>
                    <a:lnTo>
                      <a:pt x="3115" y="1540"/>
                    </a:lnTo>
                    <a:lnTo>
                      <a:pt x="3112" y="1543"/>
                    </a:lnTo>
                    <a:lnTo>
                      <a:pt x="3107" y="1547"/>
                    </a:lnTo>
                    <a:lnTo>
                      <a:pt x="3083" y="1588"/>
                    </a:lnTo>
                    <a:lnTo>
                      <a:pt x="3060" y="1628"/>
                    </a:lnTo>
                    <a:lnTo>
                      <a:pt x="3036" y="1668"/>
                    </a:lnTo>
                    <a:lnTo>
                      <a:pt x="3014" y="1708"/>
                    </a:lnTo>
                    <a:lnTo>
                      <a:pt x="2993" y="1748"/>
                    </a:lnTo>
                    <a:lnTo>
                      <a:pt x="2973" y="1788"/>
                    </a:lnTo>
                    <a:lnTo>
                      <a:pt x="2953" y="1828"/>
                    </a:lnTo>
                    <a:lnTo>
                      <a:pt x="2934" y="1868"/>
                    </a:lnTo>
                    <a:lnTo>
                      <a:pt x="2916" y="1907"/>
                    </a:lnTo>
                    <a:lnTo>
                      <a:pt x="2899" y="1947"/>
                    </a:lnTo>
                    <a:lnTo>
                      <a:pt x="2882" y="1986"/>
                    </a:lnTo>
                    <a:lnTo>
                      <a:pt x="2867" y="2026"/>
                    </a:lnTo>
                    <a:lnTo>
                      <a:pt x="2852" y="2065"/>
                    </a:lnTo>
                    <a:lnTo>
                      <a:pt x="2838" y="2105"/>
                    </a:lnTo>
                    <a:lnTo>
                      <a:pt x="2824" y="2144"/>
                    </a:lnTo>
                    <a:lnTo>
                      <a:pt x="2812" y="2182"/>
                    </a:lnTo>
                    <a:lnTo>
                      <a:pt x="2801" y="2222"/>
                    </a:lnTo>
                    <a:lnTo>
                      <a:pt x="2790" y="2261"/>
                    </a:lnTo>
                    <a:lnTo>
                      <a:pt x="2780" y="2300"/>
                    </a:lnTo>
                    <a:lnTo>
                      <a:pt x="2771" y="2339"/>
                    </a:lnTo>
                    <a:lnTo>
                      <a:pt x="2763" y="2378"/>
                    </a:lnTo>
                    <a:lnTo>
                      <a:pt x="2756" y="2416"/>
                    </a:lnTo>
                    <a:lnTo>
                      <a:pt x="2749" y="2454"/>
                    </a:lnTo>
                    <a:lnTo>
                      <a:pt x="2743" y="2493"/>
                    </a:lnTo>
                    <a:lnTo>
                      <a:pt x="2739" y="2532"/>
                    </a:lnTo>
                    <a:lnTo>
                      <a:pt x="2734" y="2569"/>
                    </a:lnTo>
                    <a:lnTo>
                      <a:pt x="2731" y="2608"/>
                    </a:lnTo>
                    <a:lnTo>
                      <a:pt x="2729" y="2646"/>
                    </a:lnTo>
                    <a:lnTo>
                      <a:pt x="2728" y="2684"/>
                    </a:lnTo>
                    <a:lnTo>
                      <a:pt x="2727" y="2721"/>
                    </a:lnTo>
                    <a:lnTo>
                      <a:pt x="2727" y="2759"/>
                    </a:lnTo>
                    <a:lnTo>
                      <a:pt x="2728" y="2797"/>
                    </a:lnTo>
                    <a:lnTo>
                      <a:pt x="2728" y="2804"/>
                    </a:lnTo>
                    <a:lnTo>
                      <a:pt x="2728" y="2813"/>
                    </a:lnTo>
                    <a:lnTo>
                      <a:pt x="2727" y="2821"/>
                    </a:lnTo>
                    <a:lnTo>
                      <a:pt x="2725" y="2829"/>
                    </a:lnTo>
                    <a:lnTo>
                      <a:pt x="2722" y="2837"/>
                    </a:lnTo>
                    <a:lnTo>
                      <a:pt x="2721" y="2847"/>
                    </a:lnTo>
                    <a:lnTo>
                      <a:pt x="2698" y="2971"/>
                    </a:lnTo>
                    <a:lnTo>
                      <a:pt x="2676" y="3091"/>
                    </a:lnTo>
                    <a:lnTo>
                      <a:pt x="2652" y="3206"/>
                    </a:lnTo>
                    <a:lnTo>
                      <a:pt x="2630" y="3316"/>
                    </a:lnTo>
                    <a:lnTo>
                      <a:pt x="2608" y="3421"/>
                    </a:lnTo>
                    <a:lnTo>
                      <a:pt x="2585" y="3521"/>
                    </a:lnTo>
                    <a:lnTo>
                      <a:pt x="2563" y="3616"/>
                    </a:lnTo>
                    <a:lnTo>
                      <a:pt x="2540" y="3706"/>
                    </a:lnTo>
                    <a:lnTo>
                      <a:pt x="2518" y="3791"/>
                    </a:lnTo>
                    <a:lnTo>
                      <a:pt x="2496" y="3871"/>
                    </a:lnTo>
                    <a:lnTo>
                      <a:pt x="2474" y="3947"/>
                    </a:lnTo>
                    <a:lnTo>
                      <a:pt x="2452" y="4018"/>
                    </a:lnTo>
                    <a:lnTo>
                      <a:pt x="2431" y="4083"/>
                    </a:lnTo>
                    <a:lnTo>
                      <a:pt x="2408" y="4143"/>
                    </a:lnTo>
                    <a:lnTo>
                      <a:pt x="2387" y="4198"/>
                    </a:lnTo>
                    <a:lnTo>
                      <a:pt x="2365" y="4248"/>
                    </a:lnTo>
                    <a:lnTo>
                      <a:pt x="2323" y="4341"/>
                    </a:lnTo>
                    <a:lnTo>
                      <a:pt x="2284" y="4429"/>
                    </a:lnTo>
                    <a:lnTo>
                      <a:pt x="2249" y="4511"/>
                    </a:lnTo>
                    <a:lnTo>
                      <a:pt x="2219" y="4588"/>
                    </a:lnTo>
                    <a:lnTo>
                      <a:pt x="2192" y="4658"/>
                    </a:lnTo>
                    <a:lnTo>
                      <a:pt x="2170" y="4724"/>
                    </a:lnTo>
                    <a:lnTo>
                      <a:pt x="2161" y="4754"/>
                    </a:lnTo>
                    <a:lnTo>
                      <a:pt x="2152" y="4784"/>
                    </a:lnTo>
                    <a:lnTo>
                      <a:pt x="2144" y="4812"/>
                    </a:lnTo>
                    <a:lnTo>
                      <a:pt x="2139" y="4838"/>
                    </a:lnTo>
                    <a:lnTo>
                      <a:pt x="2158" y="4825"/>
                    </a:lnTo>
                    <a:lnTo>
                      <a:pt x="2176" y="4813"/>
                    </a:lnTo>
                    <a:lnTo>
                      <a:pt x="2195" y="4800"/>
                    </a:lnTo>
                    <a:lnTo>
                      <a:pt x="2215" y="4789"/>
                    </a:lnTo>
                    <a:lnTo>
                      <a:pt x="2234" y="4779"/>
                    </a:lnTo>
                    <a:lnTo>
                      <a:pt x="2254" y="4769"/>
                    </a:lnTo>
                    <a:lnTo>
                      <a:pt x="2273" y="4761"/>
                    </a:lnTo>
                    <a:lnTo>
                      <a:pt x="2293" y="4752"/>
                    </a:lnTo>
                    <a:lnTo>
                      <a:pt x="2313" y="4744"/>
                    </a:lnTo>
                    <a:lnTo>
                      <a:pt x="2333" y="4737"/>
                    </a:lnTo>
                    <a:lnTo>
                      <a:pt x="2352" y="4731"/>
                    </a:lnTo>
                    <a:lnTo>
                      <a:pt x="2373" y="4724"/>
                    </a:lnTo>
                    <a:lnTo>
                      <a:pt x="2393" y="4718"/>
                    </a:lnTo>
                    <a:lnTo>
                      <a:pt x="2413" y="4714"/>
                    </a:lnTo>
                    <a:lnTo>
                      <a:pt x="2433" y="4710"/>
                    </a:lnTo>
                    <a:lnTo>
                      <a:pt x="2454" y="4706"/>
                    </a:lnTo>
                    <a:lnTo>
                      <a:pt x="2474" y="4703"/>
                    </a:lnTo>
                    <a:lnTo>
                      <a:pt x="2495" y="4701"/>
                    </a:lnTo>
                    <a:lnTo>
                      <a:pt x="2515" y="4700"/>
                    </a:lnTo>
                    <a:lnTo>
                      <a:pt x="2536" y="4698"/>
                    </a:lnTo>
                    <a:lnTo>
                      <a:pt x="2557" y="4697"/>
                    </a:lnTo>
                    <a:lnTo>
                      <a:pt x="2578" y="4697"/>
                    </a:lnTo>
                    <a:lnTo>
                      <a:pt x="2599" y="4698"/>
                    </a:lnTo>
                    <a:lnTo>
                      <a:pt x="2620" y="4700"/>
                    </a:lnTo>
                    <a:lnTo>
                      <a:pt x="2642" y="4702"/>
                    </a:lnTo>
                    <a:lnTo>
                      <a:pt x="2663" y="4704"/>
                    </a:lnTo>
                    <a:lnTo>
                      <a:pt x="2686" y="4707"/>
                    </a:lnTo>
                    <a:lnTo>
                      <a:pt x="2707" y="4711"/>
                    </a:lnTo>
                    <a:lnTo>
                      <a:pt x="2751" y="4719"/>
                    </a:lnTo>
                    <a:lnTo>
                      <a:pt x="2796" y="4732"/>
                    </a:lnTo>
                    <a:lnTo>
                      <a:pt x="2845" y="4761"/>
                    </a:lnTo>
                    <a:lnTo>
                      <a:pt x="2892" y="4788"/>
                    </a:lnTo>
                    <a:lnTo>
                      <a:pt x="2936" y="4815"/>
                    </a:lnTo>
                    <a:lnTo>
                      <a:pt x="2976" y="4840"/>
                    </a:lnTo>
                    <a:lnTo>
                      <a:pt x="3014" y="4866"/>
                    </a:lnTo>
                    <a:lnTo>
                      <a:pt x="3048" y="4889"/>
                    </a:lnTo>
                    <a:lnTo>
                      <a:pt x="3080" y="4912"/>
                    </a:lnTo>
                    <a:lnTo>
                      <a:pt x="3107" y="4933"/>
                    </a:lnTo>
                    <a:lnTo>
                      <a:pt x="3080" y="4912"/>
                    </a:lnTo>
                    <a:lnTo>
                      <a:pt x="3048" y="4889"/>
                    </a:lnTo>
                    <a:lnTo>
                      <a:pt x="3014" y="4866"/>
                    </a:lnTo>
                    <a:lnTo>
                      <a:pt x="2976" y="4840"/>
                    </a:lnTo>
                    <a:lnTo>
                      <a:pt x="2936" y="4815"/>
                    </a:lnTo>
                    <a:lnTo>
                      <a:pt x="2892" y="4788"/>
                    </a:lnTo>
                    <a:lnTo>
                      <a:pt x="2845" y="4761"/>
                    </a:lnTo>
                    <a:lnTo>
                      <a:pt x="2796" y="4732"/>
                    </a:lnTo>
                    <a:lnTo>
                      <a:pt x="2751" y="4719"/>
                    </a:lnTo>
                    <a:lnTo>
                      <a:pt x="2707" y="4711"/>
                    </a:lnTo>
                    <a:lnTo>
                      <a:pt x="2686" y="4707"/>
                    </a:lnTo>
                    <a:lnTo>
                      <a:pt x="2663" y="4704"/>
                    </a:lnTo>
                    <a:lnTo>
                      <a:pt x="2642" y="4702"/>
                    </a:lnTo>
                    <a:lnTo>
                      <a:pt x="2620" y="4700"/>
                    </a:lnTo>
                    <a:lnTo>
                      <a:pt x="2599" y="4698"/>
                    </a:lnTo>
                    <a:lnTo>
                      <a:pt x="2578" y="4697"/>
                    </a:lnTo>
                    <a:lnTo>
                      <a:pt x="2557" y="4697"/>
                    </a:lnTo>
                    <a:lnTo>
                      <a:pt x="2536" y="4698"/>
                    </a:lnTo>
                    <a:lnTo>
                      <a:pt x="2515" y="4700"/>
                    </a:lnTo>
                    <a:lnTo>
                      <a:pt x="2495" y="4701"/>
                    </a:lnTo>
                    <a:lnTo>
                      <a:pt x="2474" y="4703"/>
                    </a:lnTo>
                    <a:lnTo>
                      <a:pt x="2454" y="4706"/>
                    </a:lnTo>
                    <a:lnTo>
                      <a:pt x="2433" y="4710"/>
                    </a:lnTo>
                    <a:lnTo>
                      <a:pt x="2413" y="4714"/>
                    </a:lnTo>
                    <a:lnTo>
                      <a:pt x="2393" y="4718"/>
                    </a:lnTo>
                    <a:lnTo>
                      <a:pt x="2373" y="4724"/>
                    </a:lnTo>
                    <a:lnTo>
                      <a:pt x="2352" y="4731"/>
                    </a:lnTo>
                    <a:lnTo>
                      <a:pt x="2333" y="4737"/>
                    </a:lnTo>
                    <a:lnTo>
                      <a:pt x="2313" y="4744"/>
                    </a:lnTo>
                    <a:lnTo>
                      <a:pt x="2293" y="4752"/>
                    </a:lnTo>
                    <a:lnTo>
                      <a:pt x="2273" y="4761"/>
                    </a:lnTo>
                    <a:lnTo>
                      <a:pt x="2254" y="4769"/>
                    </a:lnTo>
                    <a:lnTo>
                      <a:pt x="2234" y="4779"/>
                    </a:lnTo>
                    <a:lnTo>
                      <a:pt x="2215" y="4789"/>
                    </a:lnTo>
                    <a:lnTo>
                      <a:pt x="2195" y="4800"/>
                    </a:lnTo>
                    <a:lnTo>
                      <a:pt x="2176" y="4813"/>
                    </a:lnTo>
                    <a:lnTo>
                      <a:pt x="2158" y="4825"/>
                    </a:lnTo>
                    <a:lnTo>
                      <a:pt x="2139" y="4838"/>
                    </a:lnTo>
                    <a:lnTo>
                      <a:pt x="2139" y="4866"/>
                    </a:lnTo>
                    <a:lnTo>
                      <a:pt x="2142" y="4870"/>
                    </a:lnTo>
                    <a:lnTo>
                      <a:pt x="2189" y="4869"/>
                    </a:lnTo>
                    <a:lnTo>
                      <a:pt x="2232" y="4869"/>
                    </a:lnTo>
                    <a:lnTo>
                      <a:pt x="2272" y="4868"/>
                    </a:lnTo>
                    <a:lnTo>
                      <a:pt x="2306" y="4868"/>
                    </a:lnTo>
                    <a:lnTo>
                      <a:pt x="2337" y="4867"/>
                    </a:lnTo>
                    <a:lnTo>
                      <a:pt x="2364" y="4866"/>
                    </a:lnTo>
                    <a:lnTo>
                      <a:pt x="2386" y="4864"/>
                    </a:lnTo>
                    <a:lnTo>
                      <a:pt x="2405" y="4863"/>
                    </a:lnTo>
                    <a:lnTo>
                      <a:pt x="2415" y="4863"/>
                    </a:lnTo>
                    <a:lnTo>
                      <a:pt x="2424" y="4863"/>
                    </a:lnTo>
                    <a:lnTo>
                      <a:pt x="2432" y="4861"/>
                    </a:lnTo>
                    <a:lnTo>
                      <a:pt x="2441" y="4859"/>
                    </a:lnTo>
                    <a:lnTo>
                      <a:pt x="2483" y="4856"/>
                    </a:lnTo>
                    <a:lnTo>
                      <a:pt x="2524" y="4855"/>
                    </a:lnTo>
                    <a:lnTo>
                      <a:pt x="2544" y="4855"/>
                    </a:lnTo>
                    <a:lnTo>
                      <a:pt x="2564" y="4856"/>
                    </a:lnTo>
                    <a:lnTo>
                      <a:pt x="2584" y="4857"/>
                    </a:lnTo>
                    <a:lnTo>
                      <a:pt x="2602" y="4858"/>
                    </a:lnTo>
                    <a:lnTo>
                      <a:pt x="2621" y="4861"/>
                    </a:lnTo>
                    <a:lnTo>
                      <a:pt x="2640" y="4864"/>
                    </a:lnTo>
                    <a:lnTo>
                      <a:pt x="2659" y="4868"/>
                    </a:lnTo>
                    <a:lnTo>
                      <a:pt x="2678" y="4871"/>
                    </a:lnTo>
                    <a:lnTo>
                      <a:pt x="2696" y="4877"/>
                    </a:lnTo>
                    <a:lnTo>
                      <a:pt x="2713" y="4881"/>
                    </a:lnTo>
                    <a:lnTo>
                      <a:pt x="2731" y="4888"/>
                    </a:lnTo>
                    <a:lnTo>
                      <a:pt x="2749" y="4894"/>
                    </a:lnTo>
                    <a:lnTo>
                      <a:pt x="2766" y="4901"/>
                    </a:lnTo>
                    <a:lnTo>
                      <a:pt x="2782" y="4908"/>
                    </a:lnTo>
                    <a:lnTo>
                      <a:pt x="2799" y="4917"/>
                    </a:lnTo>
                    <a:lnTo>
                      <a:pt x="2815" y="4925"/>
                    </a:lnTo>
                    <a:lnTo>
                      <a:pt x="2831" y="4935"/>
                    </a:lnTo>
                    <a:lnTo>
                      <a:pt x="2848" y="4943"/>
                    </a:lnTo>
                    <a:lnTo>
                      <a:pt x="2863" y="4955"/>
                    </a:lnTo>
                    <a:lnTo>
                      <a:pt x="2878" y="4965"/>
                    </a:lnTo>
                    <a:lnTo>
                      <a:pt x="2893" y="4977"/>
                    </a:lnTo>
                    <a:lnTo>
                      <a:pt x="2908" y="4989"/>
                    </a:lnTo>
                    <a:lnTo>
                      <a:pt x="2922" y="5001"/>
                    </a:lnTo>
                    <a:lnTo>
                      <a:pt x="2936" y="5014"/>
                    </a:lnTo>
                    <a:lnTo>
                      <a:pt x="2951" y="5028"/>
                    </a:lnTo>
                    <a:lnTo>
                      <a:pt x="2964" y="5042"/>
                    </a:lnTo>
                    <a:lnTo>
                      <a:pt x="2977" y="5057"/>
                    </a:lnTo>
                    <a:lnTo>
                      <a:pt x="2991" y="5072"/>
                    </a:lnTo>
                    <a:lnTo>
                      <a:pt x="2977" y="5057"/>
                    </a:lnTo>
                    <a:lnTo>
                      <a:pt x="2964" y="5042"/>
                    </a:lnTo>
                    <a:lnTo>
                      <a:pt x="2951" y="5028"/>
                    </a:lnTo>
                    <a:lnTo>
                      <a:pt x="2936" y="5014"/>
                    </a:lnTo>
                    <a:lnTo>
                      <a:pt x="2922" y="5001"/>
                    </a:lnTo>
                    <a:lnTo>
                      <a:pt x="2908" y="4989"/>
                    </a:lnTo>
                    <a:lnTo>
                      <a:pt x="2893" y="4977"/>
                    </a:lnTo>
                    <a:lnTo>
                      <a:pt x="2878" y="4965"/>
                    </a:lnTo>
                    <a:lnTo>
                      <a:pt x="2863" y="4955"/>
                    </a:lnTo>
                    <a:lnTo>
                      <a:pt x="2848" y="4943"/>
                    </a:lnTo>
                    <a:lnTo>
                      <a:pt x="2831" y="4935"/>
                    </a:lnTo>
                    <a:lnTo>
                      <a:pt x="2815" y="4925"/>
                    </a:lnTo>
                    <a:lnTo>
                      <a:pt x="2799" y="4917"/>
                    </a:lnTo>
                    <a:lnTo>
                      <a:pt x="2782" y="4908"/>
                    </a:lnTo>
                    <a:lnTo>
                      <a:pt x="2766" y="4901"/>
                    </a:lnTo>
                    <a:lnTo>
                      <a:pt x="2749" y="4894"/>
                    </a:lnTo>
                    <a:lnTo>
                      <a:pt x="2731" y="4888"/>
                    </a:lnTo>
                    <a:lnTo>
                      <a:pt x="2713" y="4881"/>
                    </a:lnTo>
                    <a:lnTo>
                      <a:pt x="2696" y="4877"/>
                    </a:lnTo>
                    <a:lnTo>
                      <a:pt x="2678" y="4871"/>
                    </a:lnTo>
                    <a:lnTo>
                      <a:pt x="2659" y="4868"/>
                    </a:lnTo>
                    <a:lnTo>
                      <a:pt x="2640" y="4864"/>
                    </a:lnTo>
                    <a:lnTo>
                      <a:pt x="2621" y="4861"/>
                    </a:lnTo>
                    <a:lnTo>
                      <a:pt x="2602" y="4858"/>
                    </a:lnTo>
                    <a:lnTo>
                      <a:pt x="2584" y="4857"/>
                    </a:lnTo>
                    <a:lnTo>
                      <a:pt x="2564" y="4856"/>
                    </a:lnTo>
                    <a:lnTo>
                      <a:pt x="2544" y="4855"/>
                    </a:lnTo>
                    <a:lnTo>
                      <a:pt x="2524" y="4855"/>
                    </a:lnTo>
                    <a:lnTo>
                      <a:pt x="2483" y="4856"/>
                    </a:lnTo>
                    <a:lnTo>
                      <a:pt x="2441" y="4859"/>
                    </a:lnTo>
                    <a:lnTo>
                      <a:pt x="2432" y="4861"/>
                    </a:lnTo>
                    <a:lnTo>
                      <a:pt x="2424" y="4863"/>
                    </a:lnTo>
                    <a:lnTo>
                      <a:pt x="2415" y="4863"/>
                    </a:lnTo>
                    <a:lnTo>
                      <a:pt x="2405" y="4863"/>
                    </a:lnTo>
                    <a:lnTo>
                      <a:pt x="2386" y="4864"/>
                    </a:lnTo>
                    <a:lnTo>
                      <a:pt x="2364" y="4866"/>
                    </a:lnTo>
                    <a:lnTo>
                      <a:pt x="2337" y="4867"/>
                    </a:lnTo>
                    <a:lnTo>
                      <a:pt x="2306" y="4868"/>
                    </a:lnTo>
                    <a:lnTo>
                      <a:pt x="2272" y="4868"/>
                    </a:lnTo>
                    <a:lnTo>
                      <a:pt x="2232" y="4869"/>
                    </a:lnTo>
                    <a:lnTo>
                      <a:pt x="2189" y="4869"/>
                    </a:lnTo>
                    <a:lnTo>
                      <a:pt x="2142" y="4870"/>
                    </a:lnTo>
                    <a:lnTo>
                      <a:pt x="2139" y="4870"/>
                    </a:lnTo>
                    <a:lnTo>
                      <a:pt x="2139" y="4870"/>
                    </a:lnTo>
                    <a:lnTo>
                      <a:pt x="2128" y="4870"/>
                    </a:lnTo>
                    <a:lnTo>
                      <a:pt x="2117" y="4870"/>
                    </a:lnTo>
                    <a:lnTo>
                      <a:pt x="2107" y="4870"/>
                    </a:lnTo>
                    <a:lnTo>
                      <a:pt x="2095" y="4870"/>
                    </a:lnTo>
                    <a:lnTo>
                      <a:pt x="2054" y="4869"/>
                    </a:lnTo>
                    <a:lnTo>
                      <a:pt x="2007" y="4866"/>
                    </a:lnTo>
                    <a:lnTo>
                      <a:pt x="1955" y="4861"/>
                    </a:lnTo>
                    <a:lnTo>
                      <a:pt x="1896" y="4854"/>
                    </a:lnTo>
                    <a:lnTo>
                      <a:pt x="1831" y="4845"/>
                    </a:lnTo>
                    <a:lnTo>
                      <a:pt x="1760" y="4834"/>
                    </a:lnTo>
                    <a:lnTo>
                      <a:pt x="1684" y="4821"/>
                    </a:lnTo>
                    <a:lnTo>
                      <a:pt x="1602" y="4806"/>
                    </a:lnTo>
                    <a:lnTo>
                      <a:pt x="1598" y="4806"/>
                    </a:lnTo>
                    <a:lnTo>
                      <a:pt x="1598" y="4806"/>
                    </a:lnTo>
                    <a:lnTo>
                      <a:pt x="1572" y="4800"/>
                    </a:lnTo>
                    <a:lnTo>
                      <a:pt x="1545" y="4795"/>
                    </a:lnTo>
                    <a:lnTo>
                      <a:pt x="1519" y="4790"/>
                    </a:lnTo>
                    <a:lnTo>
                      <a:pt x="1492" y="4785"/>
                    </a:lnTo>
                    <a:lnTo>
                      <a:pt x="1508" y="4798"/>
                    </a:lnTo>
                    <a:lnTo>
                      <a:pt x="1521" y="4812"/>
                    </a:lnTo>
                    <a:lnTo>
                      <a:pt x="1534" y="4826"/>
                    </a:lnTo>
                    <a:lnTo>
                      <a:pt x="1545" y="4841"/>
                    </a:lnTo>
                    <a:lnTo>
                      <a:pt x="1555" y="4853"/>
                    </a:lnTo>
                    <a:lnTo>
                      <a:pt x="1564" y="4866"/>
                    </a:lnTo>
                    <a:lnTo>
                      <a:pt x="1573" y="4879"/>
                    </a:lnTo>
                    <a:lnTo>
                      <a:pt x="1581" y="4895"/>
                    </a:lnTo>
                    <a:lnTo>
                      <a:pt x="1594" y="4920"/>
                    </a:lnTo>
                    <a:lnTo>
                      <a:pt x="1606" y="4946"/>
                    </a:lnTo>
                    <a:lnTo>
                      <a:pt x="1617" y="4972"/>
                    </a:lnTo>
                    <a:lnTo>
                      <a:pt x="1628" y="5000"/>
                    </a:lnTo>
                    <a:lnTo>
                      <a:pt x="1638" y="5028"/>
                    </a:lnTo>
                    <a:lnTo>
                      <a:pt x="1648" y="5058"/>
                    </a:lnTo>
                    <a:lnTo>
                      <a:pt x="1657" y="5088"/>
                    </a:lnTo>
                    <a:lnTo>
                      <a:pt x="1665" y="5118"/>
                    </a:lnTo>
                    <a:lnTo>
                      <a:pt x="1673" y="5150"/>
                    </a:lnTo>
                    <a:lnTo>
                      <a:pt x="1679" y="5182"/>
                    </a:lnTo>
                    <a:lnTo>
                      <a:pt x="1685" y="5215"/>
                    </a:lnTo>
                    <a:lnTo>
                      <a:pt x="1689" y="5248"/>
                    </a:lnTo>
                    <a:lnTo>
                      <a:pt x="1694" y="5283"/>
                    </a:lnTo>
                    <a:lnTo>
                      <a:pt x="1697" y="5318"/>
                    </a:lnTo>
                    <a:lnTo>
                      <a:pt x="1699" y="5355"/>
                    </a:lnTo>
                    <a:lnTo>
                      <a:pt x="1702" y="5391"/>
                    </a:lnTo>
                    <a:lnTo>
                      <a:pt x="3239" y="5604"/>
                    </a:lnTo>
                    <a:lnTo>
                      <a:pt x="3256" y="5587"/>
                    </a:lnTo>
                    <a:lnTo>
                      <a:pt x="3273" y="5567"/>
                    </a:lnTo>
                    <a:lnTo>
                      <a:pt x="3288" y="5546"/>
                    </a:lnTo>
                    <a:lnTo>
                      <a:pt x="3304" y="5523"/>
                    </a:lnTo>
                    <a:lnTo>
                      <a:pt x="3318" y="5500"/>
                    </a:lnTo>
                    <a:lnTo>
                      <a:pt x="3332" y="5476"/>
                    </a:lnTo>
                    <a:lnTo>
                      <a:pt x="3347" y="5450"/>
                    </a:lnTo>
                    <a:lnTo>
                      <a:pt x="3360" y="5424"/>
                    </a:lnTo>
                    <a:lnTo>
                      <a:pt x="3372" y="5396"/>
                    </a:lnTo>
                    <a:lnTo>
                      <a:pt x="3385" y="5367"/>
                    </a:lnTo>
                    <a:lnTo>
                      <a:pt x="3397" y="5337"/>
                    </a:lnTo>
                    <a:lnTo>
                      <a:pt x="3408" y="5306"/>
                    </a:lnTo>
                    <a:lnTo>
                      <a:pt x="3419" y="5275"/>
                    </a:lnTo>
                    <a:lnTo>
                      <a:pt x="3429" y="5242"/>
                    </a:lnTo>
                    <a:lnTo>
                      <a:pt x="3439" y="5207"/>
                    </a:lnTo>
                    <a:lnTo>
                      <a:pt x="3449" y="5172"/>
                    </a:lnTo>
                    <a:lnTo>
                      <a:pt x="3457" y="5134"/>
                    </a:lnTo>
                    <a:lnTo>
                      <a:pt x="3466" y="5096"/>
                    </a:lnTo>
                    <a:lnTo>
                      <a:pt x="3472" y="5057"/>
                    </a:lnTo>
                    <a:lnTo>
                      <a:pt x="3480" y="5017"/>
                    </a:lnTo>
                    <a:lnTo>
                      <a:pt x="3487" y="4975"/>
                    </a:lnTo>
                    <a:lnTo>
                      <a:pt x="3493" y="4932"/>
                    </a:lnTo>
                    <a:lnTo>
                      <a:pt x="3499" y="4888"/>
                    </a:lnTo>
                    <a:lnTo>
                      <a:pt x="3504" y="4844"/>
                    </a:lnTo>
                    <a:lnTo>
                      <a:pt x="3513" y="4751"/>
                    </a:lnTo>
                    <a:lnTo>
                      <a:pt x="3521" y="4653"/>
                    </a:lnTo>
                    <a:lnTo>
                      <a:pt x="3527" y="4551"/>
                    </a:lnTo>
                    <a:lnTo>
                      <a:pt x="3530" y="4443"/>
                    </a:lnTo>
                    <a:lnTo>
                      <a:pt x="3527" y="4419"/>
                    </a:lnTo>
                    <a:lnTo>
                      <a:pt x="3523" y="4391"/>
                    </a:lnTo>
                    <a:lnTo>
                      <a:pt x="3522" y="4360"/>
                    </a:lnTo>
                    <a:lnTo>
                      <a:pt x="3523" y="4327"/>
                    </a:lnTo>
                    <a:lnTo>
                      <a:pt x="3524" y="4290"/>
                    </a:lnTo>
                    <a:lnTo>
                      <a:pt x="3528" y="4250"/>
                    </a:lnTo>
                    <a:lnTo>
                      <a:pt x="3532" y="4208"/>
                    </a:lnTo>
                    <a:lnTo>
                      <a:pt x="3539" y="4163"/>
                    </a:lnTo>
                    <a:lnTo>
                      <a:pt x="3545" y="4115"/>
                    </a:lnTo>
                    <a:lnTo>
                      <a:pt x="3554" y="4064"/>
                    </a:lnTo>
                    <a:lnTo>
                      <a:pt x="3564" y="4010"/>
                    </a:lnTo>
                    <a:lnTo>
                      <a:pt x="3577" y="3953"/>
                    </a:lnTo>
                    <a:lnTo>
                      <a:pt x="3589" y="3893"/>
                    </a:lnTo>
                    <a:lnTo>
                      <a:pt x="3603" y="3831"/>
                    </a:lnTo>
                    <a:lnTo>
                      <a:pt x="3620" y="3766"/>
                    </a:lnTo>
                    <a:lnTo>
                      <a:pt x="3636" y="3698"/>
                    </a:lnTo>
                    <a:lnTo>
                      <a:pt x="3638" y="3692"/>
                    </a:lnTo>
                    <a:lnTo>
                      <a:pt x="3639" y="3685"/>
                    </a:lnTo>
                    <a:lnTo>
                      <a:pt x="3641" y="3679"/>
                    </a:lnTo>
                    <a:lnTo>
                      <a:pt x="3644" y="3674"/>
                    </a:lnTo>
                    <a:lnTo>
                      <a:pt x="3811" y="2861"/>
                    </a:lnTo>
                    <a:lnTo>
                      <a:pt x="3811" y="2853"/>
                    </a:lnTo>
                    <a:lnTo>
                      <a:pt x="3811" y="2847"/>
                    </a:lnTo>
                    <a:lnTo>
                      <a:pt x="3811" y="2842"/>
                    </a:lnTo>
                    <a:lnTo>
                      <a:pt x="3812" y="2838"/>
                    </a:lnTo>
                    <a:lnTo>
                      <a:pt x="3813" y="2833"/>
                    </a:lnTo>
                    <a:lnTo>
                      <a:pt x="3814" y="2829"/>
                    </a:lnTo>
                    <a:lnTo>
                      <a:pt x="3814" y="2827"/>
                    </a:lnTo>
                    <a:lnTo>
                      <a:pt x="3814" y="2822"/>
                    </a:lnTo>
                    <a:lnTo>
                      <a:pt x="3814" y="2817"/>
                    </a:lnTo>
                    <a:lnTo>
                      <a:pt x="3814" y="2814"/>
                    </a:lnTo>
                    <a:lnTo>
                      <a:pt x="3814" y="2810"/>
                    </a:lnTo>
                    <a:lnTo>
                      <a:pt x="3815" y="2806"/>
                    </a:lnTo>
                    <a:lnTo>
                      <a:pt x="3816" y="2802"/>
                    </a:lnTo>
                    <a:lnTo>
                      <a:pt x="3818" y="2797"/>
                    </a:lnTo>
                    <a:lnTo>
                      <a:pt x="3818" y="2792"/>
                    </a:lnTo>
                    <a:lnTo>
                      <a:pt x="3818" y="2790"/>
                    </a:lnTo>
                    <a:lnTo>
                      <a:pt x="3818" y="2785"/>
                    </a:lnTo>
                    <a:lnTo>
                      <a:pt x="3818" y="2779"/>
                    </a:lnTo>
                    <a:lnTo>
                      <a:pt x="3818" y="2775"/>
                    </a:lnTo>
                    <a:lnTo>
                      <a:pt x="3818" y="2772"/>
                    </a:lnTo>
                    <a:lnTo>
                      <a:pt x="3818" y="2769"/>
                    </a:lnTo>
                    <a:lnTo>
                      <a:pt x="3818" y="2767"/>
                    </a:lnTo>
                    <a:lnTo>
                      <a:pt x="3819" y="2765"/>
                    </a:lnTo>
                    <a:lnTo>
                      <a:pt x="3822" y="2761"/>
                    </a:lnTo>
                    <a:lnTo>
                      <a:pt x="3822" y="2757"/>
                    </a:lnTo>
                    <a:lnTo>
                      <a:pt x="3822" y="2755"/>
                    </a:lnTo>
                    <a:lnTo>
                      <a:pt x="3822" y="2749"/>
                    </a:lnTo>
                    <a:lnTo>
                      <a:pt x="3822" y="2744"/>
                    </a:lnTo>
                    <a:lnTo>
                      <a:pt x="3822" y="2739"/>
                    </a:lnTo>
                    <a:lnTo>
                      <a:pt x="3822" y="2737"/>
                    </a:lnTo>
                    <a:lnTo>
                      <a:pt x="3822" y="2734"/>
                    </a:lnTo>
                    <a:lnTo>
                      <a:pt x="3822" y="2731"/>
                    </a:lnTo>
                    <a:lnTo>
                      <a:pt x="3823" y="2729"/>
                    </a:lnTo>
                    <a:lnTo>
                      <a:pt x="3825" y="2726"/>
                    </a:lnTo>
                    <a:lnTo>
                      <a:pt x="3825" y="2720"/>
                    </a:lnTo>
                    <a:lnTo>
                      <a:pt x="3825" y="2716"/>
                    </a:lnTo>
                    <a:lnTo>
                      <a:pt x="3825" y="2710"/>
                    </a:lnTo>
                    <a:lnTo>
                      <a:pt x="3825" y="2708"/>
                    </a:lnTo>
                    <a:lnTo>
                      <a:pt x="3825" y="2702"/>
                    </a:lnTo>
                    <a:lnTo>
                      <a:pt x="3825" y="2698"/>
                    </a:lnTo>
                    <a:lnTo>
                      <a:pt x="3828" y="2689"/>
                    </a:lnTo>
                    <a:lnTo>
                      <a:pt x="3828" y="2684"/>
                    </a:lnTo>
                    <a:lnTo>
                      <a:pt x="3828" y="2669"/>
                    </a:lnTo>
                    <a:lnTo>
                      <a:pt x="3828" y="2667"/>
                    </a:lnTo>
                    <a:lnTo>
                      <a:pt x="3829" y="2664"/>
                    </a:lnTo>
                    <a:lnTo>
                      <a:pt x="3831" y="2661"/>
                    </a:lnTo>
                    <a:lnTo>
                      <a:pt x="3832" y="2658"/>
                    </a:lnTo>
                    <a:lnTo>
                      <a:pt x="3832" y="2650"/>
                    </a:lnTo>
                    <a:lnTo>
                      <a:pt x="3832" y="2645"/>
                    </a:lnTo>
                    <a:lnTo>
                      <a:pt x="3832" y="2634"/>
                    </a:lnTo>
                    <a:lnTo>
                      <a:pt x="3841" y="2556"/>
                    </a:lnTo>
                    <a:lnTo>
                      <a:pt x="3846" y="2478"/>
                    </a:lnTo>
                    <a:lnTo>
                      <a:pt x="3852" y="2399"/>
                    </a:lnTo>
                    <a:lnTo>
                      <a:pt x="3855" y="2319"/>
                    </a:lnTo>
                    <a:lnTo>
                      <a:pt x="3857" y="2237"/>
                    </a:lnTo>
                    <a:lnTo>
                      <a:pt x="3857" y="2154"/>
                    </a:lnTo>
                    <a:lnTo>
                      <a:pt x="3856" y="2069"/>
                    </a:lnTo>
                    <a:lnTo>
                      <a:pt x="3854" y="1984"/>
                    </a:lnTo>
                    <a:lnTo>
                      <a:pt x="3851" y="1897"/>
                    </a:lnTo>
                    <a:lnTo>
                      <a:pt x="3845" y="1810"/>
                    </a:lnTo>
                    <a:lnTo>
                      <a:pt x="3838" y="1721"/>
                    </a:lnTo>
                    <a:lnTo>
                      <a:pt x="3829" y="1631"/>
                    </a:lnTo>
                    <a:lnTo>
                      <a:pt x="3819" y="1540"/>
                    </a:lnTo>
                    <a:lnTo>
                      <a:pt x="3808" y="1448"/>
                    </a:lnTo>
                    <a:lnTo>
                      <a:pt x="3796" y="1355"/>
                    </a:lnTo>
                    <a:lnTo>
                      <a:pt x="3783" y="1260"/>
                    </a:lnTo>
                    <a:lnTo>
                      <a:pt x="3781" y="1251"/>
                    </a:lnTo>
                    <a:lnTo>
                      <a:pt x="3778" y="1242"/>
                    </a:lnTo>
                    <a:lnTo>
                      <a:pt x="3756" y="1177"/>
                    </a:lnTo>
                    <a:lnTo>
                      <a:pt x="3732" y="1114"/>
                    </a:lnTo>
                    <a:lnTo>
                      <a:pt x="3707" y="1054"/>
                    </a:lnTo>
                    <a:lnTo>
                      <a:pt x="3683" y="998"/>
                    </a:lnTo>
                    <a:lnTo>
                      <a:pt x="3657" y="945"/>
                    </a:lnTo>
                    <a:lnTo>
                      <a:pt x="3631" y="896"/>
                    </a:lnTo>
                    <a:lnTo>
                      <a:pt x="3618" y="873"/>
                    </a:lnTo>
                    <a:lnTo>
                      <a:pt x="3604" y="851"/>
                    </a:lnTo>
                    <a:lnTo>
                      <a:pt x="3590" y="830"/>
                    </a:lnTo>
                    <a:lnTo>
                      <a:pt x="3577" y="810"/>
                    </a:lnTo>
                    <a:lnTo>
                      <a:pt x="3553" y="779"/>
                    </a:lnTo>
                    <a:lnTo>
                      <a:pt x="3531" y="750"/>
                    </a:lnTo>
                    <a:lnTo>
                      <a:pt x="3507" y="722"/>
                    </a:lnTo>
                    <a:lnTo>
                      <a:pt x="3483" y="698"/>
                    </a:lnTo>
                    <a:lnTo>
                      <a:pt x="3459" y="674"/>
                    </a:lnTo>
                    <a:lnTo>
                      <a:pt x="3435" y="653"/>
                    </a:lnTo>
                    <a:lnTo>
                      <a:pt x="3410" y="634"/>
                    </a:lnTo>
                    <a:lnTo>
                      <a:pt x="3385" y="618"/>
                    </a:lnTo>
                    <a:lnTo>
                      <a:pt x="3377" y="615"/>
                    </a:lnTo>
                    <a:lnTo>
                      <a:pt x="3368" y="610"/>
                    </a:lnTo>
                    <a:lnTo>
                      <a:pt x="3359" y="606"/>
                    </a:lnTo>
                    <a:lnTo>
                      <a:pt x="3349" y="600"/>
                    </a:lnTo>
                    <a:lnTo>
                      <a:pt x="3321" y="587"/>
                    </a:lnTo>
                    <a:lnTo>
                      <a:pt x="3290" y="572"/>
                    </a:lnTo>
                    <a:lnTo>
                      <a:pt x="3255" y="555"/>
                    </a:lnTo>
                    <a:lnTo>
                      <a:pt x="3215" y="536"/>
                    </a:lnTo>
                    <a:lnTo>
                      <a:pt x="3170" y="515"/>
                    </a:lnTo>
                    <a:lnTo>
                      <a:pt x="3123" y="490"/>
                    </a:lnTo>
                    <a:lnTo>
                      <a:pt x="3070" y="465"/>
                    </a:lnTo>
                    <a:lnTo>
                      <a:pt x="3012" y="437"/>
                    </a:lnTo>
                    <a:lnTo>
                      <a:pt x="3007" y="437"/>
                    </a:lnTo>
                    <a:lnTo>
                      <a:pt x="3001" y="437"/>
                    </a:lnTo>
                    <a:lnTo>
                      <a:pt x="2993" y="436"/>
                    </a:lnTo>
                    <a:lnTo>
                      <a:pt x="2984" y="434"/>
                    </a:lnTo>
                    <a:lnTo>
                      <a:pt x="2961" y="427"/>
                    </a:lnTo>
                    <a:lnTo>
                      <a:pt x="2932" y="416"/>
                    </a:lnTo>
                    <a:lnTo>
                      <a:pt x="2896" y="401"/>
                    </a:lnTo>
                    <a:lnTo>
                      <a:pt x="2857" y="383"/>
                    </a:lnTo>
                    <a:lnTo>
                      <a:pt x="2809" y="359"/>
                    </a:lnTo>
                    <a:lnTo>
                      <a:pt x="2757" y="334"/>
                    </a:lnTo>
                    <a:lnTo>
                      <a:pt x="2681" y="295"/>
                    </a:lnTo>
                    <a:lnTo>
                      <a:pt x="2607" y="254"/>
                    </a:lnTo>
                    <a:lnTo>
                      <a:pt x="2533" y="214"/>
                    </a:lnTo>
                    <a:lnTo>
                      <a:pt x="2460" y="172"/>
                    </a:lnTo>
                    <a:lnTo>
                      <a:pt x="2389" y="130"/>
                    </a:lnTo>
                    <a:lnTo>
                      <a:pt x="2321" y="87"/>
                    </a:lnTo>
                    <a:lnTo>
                      <a:pt x="2252" y="43"/>
                    </a:lnTo>
                    <a:lnTo>
                      <a:pt x="2184" y="0"/>
                    </a:lnTo>
                    <a:lnTo>
                      <a:pt x="2200" y="101"/>
                    </a:lnTo>
                    <a:lnTo>
                      <a:pt x="2212" y="199"/>
                    </a:lnTo>
                    <a:lnTo>
                      <a:pt x="2222" y="295"/>
                    </a:lnTo>
                    <a:lnTo>
                      <a:pt x="2231" y="389"/>
                    </a:lnTo>
                    <a:lnTo>
                      <a:pt x="2236" y="481"/>
                    </a:lnTo>
                    <a:lnTo>
                      <a:pt x="2240" y="570"/>
                    </a:lnTo>
                    <a:lnTo>
                      <a:pt x="2241" y="658"/>
                    </a:lnTo>
                    <a:lnTo>
                      <a:pt x="2241" y="743"/>
                    </a:lnTo>
                    <a:lnTo>
                      <a:pt x="2239" y="784"/>
                    </a:lnTo>
                    <a:lnTo>
                      <a:pt x="2237" y="825"/>
                    </a:lnTo>
                    <a:lnTo>
                      <a:pt x="2235" y="866"/>
                    </a:lnTo>
                    <a:lnTo>
                      <a:pt x="2232" y="906"/>
                    </a:lnTo>
                    <a:lnTo>
                      <a:pt x="2229" y="945"/>
                    </a:lnTo>
                    <a:lnTo>
                      <a:pt x="2224" y="984"/>
                    </a:lnTo>
                    <a:lnTo>
                      <a:pt x="2220" y="1023"/>
                    </a:lnTo>
                    <a:lnTo>
                      <a:pt x="2214" y="1060"/>
                    </a:lnTo>
                    <a:lnTo>
                      <a:pt x="2209" y="1097"/>
                    </a:lnTo>
                    <a:lnTo>
                      <a:pt x="2202" y="1133"/>
                    </a:lnTo>
                    <a:lnTo>
                      <a:pt x="2195" y="1170"/>
                    </a:lnTo>
                    <a:lnTo>
                      <a:pt x="2188" y="1206"/>
                    </a:lnTo>
                    <a:lnTo>
                      <a:pt x="2180" y="1240"/>
                    </a:lnTo>
                    <a:lnTo>
                      <a:pt x="2171" y="1274"/>
                    </a:lnTo>
                    <a:lnTo>
                      <a:pt x="2162" y="1309"/>
                    </a:lnTo>
                    <a:lnTo>
                      <a:pt x="2152" y="1342"/>
                    </a:lnTo>
                    <a:lnTo>
                      <a:pt x="2152" y="1345"/>
                    </a:lnTo>
                    <a:lnTo>
                      <a:pt x="2152" y="1349"/>
                    </a:lnTo>
                    <a:lnTo>
                      <a:pt x="2128" y="1350"/>
                    </a:lnTo>
                    <a:lnTo>
                      <a:pt x="2102" y="1350"/>
                    </a:lnTo>
                    <a:lnTo>
                      <a:pt x="2078" y="1349"/>
                    </a:lnTo>
                    <a:lnTo>
                      <a:pt x="2052" y="1346"/>
                    </a:lnTo>
                    <a:lnTo>
                      <a:pt x="2028" y="1343"/>
                    </a:lnTo>
                    <a:lnTo>
                      <a:pt x="2003" y="1340"/>
                    </a:lnTo>
                    <a:lnTo>
                      <a:pt x="1979" y="1334"/>
                    </a:lnTo>
                    <a:lnTo>
                      <a:pt x="1955" y="1329"/>
                    </a:lnTo>
                    <a:lnTo>
                      <a:pt x="1930" y="1321"/>
                    </a:lnTo>
                    <a:lnTo>
                      <a:pt x="1907" y="1313"/>
                    </a:lnTo>
                    <a:lnTo>
                      <a:pt x="1882" y="1304"/>
                    </a:lnTo>
                    <a:lnTo>
                      <a:pt x="1859" y="1294"/>
                    </a:lnTo>
                    <a:lnTo>
                      <a:pt x="1836" y="1283"/>
                    </a:lnTo>
                    <a:lnTo>
                      <a:pt x="1811" y="1272"/>
                    </a:lnTo>
                    <a:lnTo>
                      <a:pt x="1788" y="1259"/>
                    </a:lnTo>
                    <a:lnTo>
                      <a:pt x="1766" y="1245"/>
                    </a:lnTo>
                    <a:lnTo>
                      <a:pt x="1743" y="1230"/>
                    </a:lnTo>
                    <a:lnTo>
                      <a:pt x="1719" y="1214"/>
                    </a:lnTo>
                    <a:lnTo>
                      <a:pt x="1696" y="1198"/>
                    </a:lnTo>
                    <a:lnTo>
                      <a:pt x="1674" y="1180"/>
                    </a:lnTo>
                    <a:lnTo>
                      <a:pt x="1652" y="1161"/>
                    </a:lnTo>
                    <a:lnTo>
                      <a:pt x="1628" y="1141"/>
                    </a:lnTo>
                    <a:lnTo>
                      <a:pt x="1606" y="1121"/>
                    </a:lnTo>
                    <a:lnTo>
                      <a:pt x="1584" y="1099"/>
                    </a:lnTo>
                    <a:lnTo>
                      <a:pt x="1562" y="1077"/>
                    </a:lnTo>
                    <a:lnTo>
                      <a:pt x="1540" y="1054"/>
                    </a:lnTo>
                    <a:lnTo>
                      <a:pt x="1519" y="1028"/>
                    </a:lnTo>
                    <a:lnTo>
                      <a:pt x="1496" y="1003"/>
                    </a:lnTo>
                    <a:lnTo>
                      <a:pt x="1474" y="976"/>
                    </a:lnTo>
                    <a:lnTo>
                      <a:pt x="1453" y="949"/>
                    </a:lnTo>
                    <a:lnTo>
                      <a:pt x="1432" y="921"/>
                    </a:lnTo>
                    <a:lnTo>
                      <a:pt x="1410" y="891"/>
                    </a:lnTo>
                    <a:lnTo>
                      <a:pt x="1408" y="890"/>
                    </a:lnTo>
                    <a:lnTo>
                      <a:pt x="1407" y="887"/>
                    </a:lnTo>
                    <a:lnTo>
                      <a:pt x="1393" y="868"/>
                    </a:lnTo>
                    <a:lnTo>
                      <a:pt x="1380" y="850"/>
                    </a:lnTo>
                    <a:lnTo>
                      <a:pt x="1367" y="830"/>
                    </a:lnTo>
                    <a:lnTo>
                      <a:pt x="1353" y="810"/>
                    </a:lnTo>
                    <a:lnTo>
                      <a:pt x="1063" y="586"/>
                    </a:lnTo>
                    <a:lnTo>
                      <a:pt x="1049" y="585"/>
                    </a:lnTo>
                    <a:lnTo>
                      <a:pt x="1035" y="585"/>
                    </a:lnTo>
                    <a:lnTo>
                      <a:pt x="1022" y="585"/>
                    </a:lnTo>
                    <a:lnTo>
                      <a:pt x="1008" y="586"/>
                    </a:lnTo>
                    <a:lnTo>
                      <a:pt x="994" y="588"/>
                    </a:lnTo>
                    <a:lnTo>
                      <a:pt x="979" y="591"/>
                    </a:lnTo>
                    <a:lnTo>
                      <a:pt x="965" y="593"/>
                    </a:lnTo>
                    <a:lnTo>
                      <a:pt x="951" y="598"/>
                    </a:lnTo>
                    <a:lnTo>
                      <a:pt x="921" y="607"/>
                    </a:lnTo>
                    <a:lnTo>
                      <a:pt x="891" y="619"/>
                    </a:lnTo>
                    <a:lnTo>
                      <a:pt x="860" y="633"/>
                    </a:lnTo>
                    <a:lnTo>
                      <a:pt x="829" y="650"/>
                    </a:lnTo>
                    <a:close/>
                    <a:moveTo>
                      <a:pt x="885" y="3993"/>
                    </a:moveTo>
                    <a:lnTo>
                      <a:pt x="907" y="4003"/>
                    </a:lnTo>
                    <a:lnTo>
                      <a:pt x="931" y="4012"/>
                    </a:lnTo>
                    <a:lnTo>
                      <a:pt x="954" y="4019"/>
                    </a:lnTo>
                    <a:lnTo>
                      <a:pt x="978" y="4024"/>
                    </a:lnTo>
                    <a:lnTo>
                      <a:pt x="1003" y="4028"/>
                    </a:lnTo>
                    <a:lnTo>
                      <a:pt x="1028" y="4030"/>
                    </a:lnTo>
                    <a:lnTo>
                      <a:pt x="1054" y="4031"/>
                    </a:lnTo>
                    <a:lnTo>
                      <a:pt x="1080" y="4029"/>
                    </a:lnTo>
                    <a:lnTo>
                      <a:pt x="1054" y="4031"/>
                    </a:lnTo>
                    <a:lnTo>
                      <a:pt x="1028" y="4030"/>
                    </a:lnTo>
                    <a:lnTo>
                      <a:pt x="1003" y="4028"/>
                    </a:lnTo>
                    <a:lnTo>
                      <a:pt x="978" y="4024"/>
                    </a:lnTo>
                    <a:lnTo>
                      <a:pt x="954" y="4019"/>
                    </a:lnTo>
                    <a:lnTo>
                      <a:pt x="931" y="4012"/>
                    </a:lnTo>
                    <a:lnTo>
                      <a:pt x="907" y="4003"/>
                    </a:lnTo>
                    <a:lnTo>
                      <a:pt x="885" y="3993"/>
                    </a:lnTo>
                    <a:lnTo>
                      <a:pt x="803" y="3955"/>
                    </a:lnTo>
                    <a:lnTo>
                      <a:pt x="721" y="3916"/>
                    </a:lnTo>
                    <a:lnTo>
                      <a:pt x="640" y="3873"/>
                    </a:lnTo>
                    <a:lnTo>
                      <a:pt x="560" y="3830"/>
                    </a:lnTo>
                    <a:lnTo>
                      <a:pt x="480" y="3785"/>
                    </a:lnTo>
                    <a:lnTo>
                      <a:pt x="401" y="3738"/>
                    </a:lnTo>
                    <a:lnTo>
                      <a:pt x="323" y="3689"/>
                    </a:lnTo>
                    <a:lnTo>
                      <a:pt x="246" y="3638"/>
                    </a:lnTo>
                    <a:lnTo>
                      <a:pt x="323" y="3689"/>
                    </a:lnTo>
                    <a:lnTo>
                      <a:pt x="401" y="3738"/>
                    </a:lnTo>
                    <a:lnTo>
                      <a:pt x="480" y="3785"/>
                    </a:lnTo>
                    <a:lnTo>
                      <a:pt x="560" y="3830"/>
                    </a:lnTo>
                    <a:lnTo>
                      <a:pt x="640" y="3873"/>
                    </a:lnTo>
                    <a:lnTo>
                      <a:pt x="721" y="3916"/>
                    </a:lnTo>
                    <a:lnTo>
                      <a:pt x="803" y="3955"/>
                    </a:lnTo>
                    <a:lnTo>
                      <a:pt x="885" y="3993"/>
                    </a:lnTo>
                    <a:close/>
                    <a:moveTo>
                      <a:pt x="1620" y="3975"/>
                    </a:moveTo>
                    <a:lnTo>
                      <a:pt x="1656" y="3964"/>
                    </a:lnTo>
                    <a:lnTo>
                      <a:pt x="1691" y="3952"/>
                    </a:lnTo>
                    <a:lnTo>
                      <a:pt x="1725" y="3940"/>
                    </a:lnTo>
                    <a:lnTo>
                      <a:pt x="1757" y="3927"/>
                    </a:lnTo>
                    <a:lnTo>
                      <a:pt x="1789" y="3912"/>
                    </a:lnTo>
                    <a:lnTo>
                      <a:pt x="1821" y="3898"/>
                    </a:lnTo>
                    <a:lnTo>
                      <a:pt x="1851" y="3881"/>
                    </a:lnTo>
                    <a:lnTo>
                      <a:pt x="1880" y="3865"/>
                    </a:lnTo>
                    <a:lnTo>
                      <a:pt x="1909" y="3848"/>
                    </a:lnTo>
                    <a:lnTo>
                      <a:pt x="1937" y="3829"/>
                    </a:lnTo>
                    <a:lnTo>
                      <a:pt x="1963" y="3810"/>
                    </a:lnTo>
                    <a:lnTo>
                      <a:pt x="1989" y="3790"/>
                    </a:lnTo>
                    <a:lnTo>
                      <a:pt x="2013" y="3770"/>
                    </a:lnTo>
                    <a:lnTo>
                      <a:pt x="2038" y="3749"/>
                    </a:lnTo>
                    <a:lnTo>
                      <a:pt x="2060" y="3727"/>
                    </a:lnTo>
                    <a:lnTo>
                      <a:pt x="2082" y="3704"/>
                    </a:lnTo>
                    <a:lnTo>
                      <a:pt x="2103" y="3680"/>
                    </a:lnTo>
                    <a:lnTo>
                      <a:pt x="2123" y="3656"/>
                    </a:lnTo>
                    <a:lnTo>
                      <a:pt x="2142" y="3631"/>
                    </a:lnTo>
                    <a:lnTo>
                      <a:pt x="2161" y="3604"/>
                    </a:lnTo>
                    <a:lnTo>
                      <a:pt x="2178" y="3577"/>
                    </a:lnTo>
                    <a:lnTo>
                      <a:pt x="2194" y="3550"/>
                    </a:lnTo>
                    <a:lnTo>
                      <a:pt x="2210" y="3522"/>
                    </a:lnTo>
                    <a:lnTo>
                      <a:pt x="2224" y="3492"/>
                    </a:lnTo>
                    <a:lnTo>
                      <a:pt x="2237" y="3462"/>
                    </a:lnTo>
                    <a:lnTo>
                      <a:pt x="2250" y="3431"/>
                    </a:lnTo>
                    <a:lnTo>
                      <a:pt x="2262" y="3400"/>
                    </a:lnTo>
                    <a:lnTo>
                      <a:pt x="2272" y="3368"/>
                    </a:lnTo>
                    <a:lnTo>
                      <a:pt x="2282" y="3335"/>
                    </a:lnTo>
                    <a:lnTo>
                      <a:pt x="2291" y="3300"/>
                    </a:lnTo>
                    <a:lnTo>
                      <a:pt x="2299" y="3266"/>
                    </a:lnTo>
                    <a:lnTo>
                      <a:pt x="2305" y="3230"/>
                    </a:lnTo>
                    <a:lnTo>
                      <a:pt x="2306" y="3220"/>
                    </a:lnTo>
                    <a:lnTo>
                      <a:pt x="2306" y="3206"/>
                    </a:lnTo>
                    <a:lnTo>
                      <a:pt x="2305" y="3188"/>
                    </a:lnTo>
                    <a:lnTo>
                      <a:pt x="2303" y="3167"/>
                    </a:lnTo>
                    <a:lnTo>
                      <a:pt x="2301" y="3142"/>
                    </a:lnTo>
                    <a:lnTo>
                      <a:pt x="2299" y="3113"/>
                    </a:lnTo>
                    <a:lnTo>
                      <a:pt x="2295" y="3081"/>
                    </a:lnTo>
                    <a:lnTo>
                      <a:pt x="2291" y="3045"/>
                    </a:lnTo>
                    <a:lnTo>
                      <a:pt x="2295" y="3081"/>
                    </a:lnTo>
                    <a:lnTo>
                      <a:pt x="2299" y="3113"/>
                    </a:lnTo>
                    <a:lnTo>
                      <a:pt x="2301" y="3142"/>
                    </a:lnTo>
                    <a:lnTo>
                      <a:pt x="2303" y="3167"/>
                    </a:lnTo>
                    <a:lnTo>
                      <a:pt x="2305" y="3188"/>
                    </a:lnTo>
                    <a:lnTo>
                      <a:pt x="2306" y="3206"/>
                    </a:lnTo>
                    <a:lnTo>
                      <a:pt x="2306" y="3220"/>
                    </a:lnTo>
                    <a:lnTo>
                      <a:pt x="2305" y="3230"/>
                    </a:lnTo>
                    <a:lnTo>
                      <a:pt x="2299" y="3266"/>
                    </a:lnTo>
                    <a:lnTo>
                      <a:pt x="2291" y="3300"/>
                    </a:lnTo>
                    <a:lnTo>
                      <a:pt x="2282" y="3335"/>
                    </a:lnTo>
                    <a:lnTo>
                      <a:pt x="2272" y="3368"/>
                    </a:lnTo>
                    <a:lnTo>
                      <a:pt x="2262" y="3400"/>
                    </a:lnTo>
                    <a:lnTo>
                      <a:pt x="2250" y="3431"/>
                    </a:lnTo>
                    <a:lnTo>
                      <a:pt x="2237" y="3462"/>
                    </a:lnTo>
                    <a:lnTo>
                      <a:pt x="2224" y="3492"/>
                    </a:lnTo>
                    <a:lnTo>
                      <a:pt x="2210" y="3522"/>
                    </a:lnTo>
                    <a:lnTo>
                      <a:pt x="2194" y="3550"/>
                    </a:lnTo>
                    <a:lnTo>
                      <a:pt x="2178" y="3577"/>
                    </a:lnTo>
                    <a:lnTo>
                      <a:pt x="2161" y="3604"/>
                    </a:lnTo>
                    <a:lnTo>
                      <a:pt x="2142" y="3631"/>
                    </a:lnTo>
                    <a:lnTo>
                      <a:pt x="2123" y="3656"/>
                    </a:lnTo>
                    <a:lnTo>
                      <a:pt x="2103" y="3680"/>
                    </a:lnTo>
                    <a:lnTo>
                      <a:pt x="2082" y="3704"/>
                    </a:lnTo>
                    <a:lnTo>
                      <a:pt x="2060" y="3727"/>
                    </a:lnTo>
                    <a:lnTo>
                      <a:pt x="2038" y="3749"/>
                    </a:lnTo>
                    <a:lnTo>
                      <a:pt x="2013" y="3770"/>
                    </a:lnTo>
                    <a:lnTo>
                      <a:pt x="1989" y="3790"/>
                    </a:lnTo>
                    <a:lnTo>
                      <a:pt x="1963" y="3810"/>
                    </a:lnTo>
                    <a:lnTo>
                      <a:pt x="1937" y="3829"/>
                    </a:lnTo>
                    <a:lnTo>
                      <a:pt x="1909" y="3848"/>
                    </a:lnTo>
                    <a:lnTo>
                      <a:pt x="1880" y="3865"/>
                    </a:lnTo>
                    <a:lnTo>
                      <a:pt x="1851" y="3881"/>
                    </a:lnTo>
                    <a:lnTo>
                      <a:pt x="1821" y="3898"/>
                    </a:lnTo>
                    <a:lnTo>
                      <a:pt x="1789" y="3912"/>
                    </a:lnTo>
                    <a:lnTo>
                      <a:pt x="1757" y="3927"/>
                    </a:lnTo>
                    <a:lnTo>
                      <a:pt x="1725" y="3940"/>
                    </a:lnTo>
                    <a:lnTo>
                      <a:pt x="1691" y="3952"/>
                    </a:lnTo>
                    <a:lnTo>
                      <a:pt x="1656" y="3964"/>
                    </a:lnTo>
                    <a:lnTo>
                      <a:pt x="1620" y="3975"/>
                    </a:lnTo>
                    <a:close/>
                  </a:path>
                </a:pathLst>
              </a:custGeom>
              <a:solidFill>
                <a:srgbClr val="bbb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266"/>
              <p:cNvSpPr/>
              <p:nvPr/>
            </p:nvSpPr>
            <p:spPr>
              <a:xfrm>
                <a:off x="6239880" y="4840200"/>
                <a:ext cx="226800" cy="26280"/>
              </a:xfrm>
              <a:custGeom>
                <a:avLst/>
                <a:gdLst/>
                <a:ahLst/>
                <a:rect l="l" t="t" r="r" b="b"/>
                <a:pathLst>
                  <a:path w="2180" h="323">
                    <a:moveTo>
                      <a:pt x="656" y="89"/>
                    </a:moveTo>
                    <a:lnTo>
                      <a:pt x="653" y="89"/>
                    </a:lnTo>
                    <a:lnTo>
                      <a:pt x="0" y="0"/>
                    </a:lnTo>
                    <a:lnTo>
                      <a:pt x="52" y="25"/>
                    </a:lnTo>
                    <a:lnTo>
                      <a:pt x="100" y="49"/>
                    </a:lnTo>
                    <a:lnTo>
                      <a:pt x="139" y="67"/>
                    </a:lnTo>
                    <a:lnTo>
                      <a:pt x="175" y="82"/>
                    </a:lnTo>
                    <a:lnTo>
                      <a:pt x="204" y="93"/>
                    </a:lnTo>
                    <a:lnTo>
                      <a:pt x="227" y="100"/>
                    </a:lnTo>
                    <a:lnTo>
                      <a:pt x="236" y="102"/>
                    </a:lnTo>
                    <a:lnTo>
                      <a:pt x="244" y="103"/>
                    </a:lnTo>
                    <a:lnTo>
                      <a:pt x="250" y="103"/>
                    </a:lnTo>
                    <a:lnTo>
                      <a:pt x="255" y="103"/>
                    </a:lnTo>
                    <a:lnTo>
                      <a:pt x="645" y="156"/>
                    </a:lnTo>
                    <a:lnTo>
                      <a:pt x="1835" y="319"/>
                    </a:lnTo>
                    <a:lnTo>
                      <a:pt x="1835" y="323"/>
                    </a:lnTo>
                    <a:lnTo>
                      <a:pt x="2169" y="319"/>
                    </a:lnTo>
                    <a:lnTo>
                      <a:pt x="2180" y="298"/>
                    </a:lnTo>
                    <a:lnTo>
                      <a:pt x="656" y="89"/>
                    </a:lnTo>
                    <a:close/>
                  </a:path>
                </a:pathLst>
              </a:custGeom>
              <a:solidFill>
                <a:srgbClr val="dae3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267"/>
              <p:cNvSpPr/>
              <p:nvPr/>
            </p:nvSpPr>
            <p:spPr>
              <a:xfrm>
                <a:off x="6266160" y="4848480"/>
                <a:ext cx="164160" cy="431640"/>
              </a:xfrm>
              <a:custGeom>
                <a:avLst/>
                <a:gdLst/>
                <a:ahLst/>
                <a:rect l="l" t="t" r="r" b="b"/>
                <a:pathLst>
                  <a:path w="1580" h="5217">
                    <a:moveTo>
                      <a:pt x="337" y="163"/>
                    </a:moveTo>
                    <a:lnTo>
                      <a:pt x="347" y="169"/>
                    </a:lnTo>
                    <a:lnTo>
                      <a:pt x="356" y="173"/>
                    </a:lnTo>
                    <a:lnTo>
                      <a:pt x="365" y="178"/>
                    </a:lnTo>
                    <a:lnTo>
                      <a:pt x="373" y="181"/>
                    </a:lnTo>
                    <a:lnTo>
                      <a:pt x="398" y="197"/>
                    </a:lnTo>
                    <a:lnTo>
                      <a:pt x="423" y="216"/>
                    </a:lnTo>
                    <a:lnTo>
                      <a:pt x="447" y="237"/>
                    </a:lnTo>
                    <a:lnTo>
                      <a:pt x="471" y="261"/>
                    </a:lnTo>
                    <a:lnTo>
                      <a:pt x="495" y="285"/>
                    </a:lnTo>
                    <a:lnTo>
                      <a:pt x="519" y="313"/>
                    </a:lnTo>
                    <a:lnTo>
                      <a:pt x="541" y="342"/>
                    </a:lnTo>
                    <a:lnTo>
                      <a:pt x="565" y="373"/>
                    </a:lnTo>
                    <a:lnTo>
                      <a:pt x="578" y="393"/>
                    </a:lnTo>
                    <a:lnTo>
                      <a:pt x="592" y="414"/>
                    </a:lnTo>
                    <a:lnTo>
                      <a:pt x="606" y="436"/>
                    </a:lnTo>
                    <a:lnTo>
                      <a:pt x="619" y="459"/>
                    </a:lnTo>
                    <a:lnTo>
                      <a:pt x="645" y="508"/>
                    </a:lnTo>
                    <a:lnTo>
                      <a:pt x="671" y="561"/>
                    </a:lnTo>
                    <a:lnTo>
                      <a:pt x="695" y="617"/>
                    </a:lnTo>
                    <a:lnTo>
                      <a:pt x="720" y="677"/>
                    </a:lnTo>
                    <a:lnTo>
                      <a:pt x="744" y="740"/>
                    </a:lnTo>
                    <a:lnTo>
                      <a:pt x="766" y="805"/>
                    </a:lnTo>
                    <a:lnTo>
                      <a:pt x="769" y="814"/>
                    </a:lnTo>
                    <a:lnTo>
                      <a:pt x="771" y="823"/>
                    </a:lnTo>
                    <a:lnTo>
                      <a:pt x="784" y="918"/>
                    </a:lnTo>
                    <a:lnTo>
                      <a:pt x="796" y="1011"/>
                    </a:lnTo>
                    <a:lnTo>
                      <a:pt x="807" y="1103"/>
                    </a:lnTo>
                    <a:lnTo>
                      <a:pt x="817" y="1194"/>
                    </a:lnTo>
                    <a:lnTo>
                      <a:pt x="826" y="1284"/>
                    </a:lnTo>
                    <a:lnTo>
                      <a:pt x="833" y="1373"/>
                    </a:lnTo>
                    <a:lnTo>
                      <a:pt x="839" y="1460"/>
                    </a:lnTo>
                    <a:lnTo>
                      <a:pt x="842" y="1547"/>
                    </a:lnTo>
                    <a:lnTo>
                      <a:pt x="844" y="1632"/>
                    </a:lnTo>
                    <a:lnTo>
                      <a:pt x="845" y="1717"/>
                    </a:lnTo>
                    <a:lnTo>
                      <a:pt x="845" y="1800"/>
                    </a:lnTo>
                    <a:lnTo>
                      <a:pt x="843" y="1882"/>
                    </a:lnTo>
                    <a:lnTo>
                      <a:pt x="840" y="1962"/>
                    </a:lnTo>
                    <a:lnTo>
                      <a:pt x="834" y="2041"/>
                    </a:lnTo>
                    <a:lnTo>
                      <a:pt x="829" y="2119"/>
                    </a:lnTo>
                    <a:lnTo>
                      <a:pt x="820" y="2197"/>
                    </a:lnTo>
                    <a:lnTo>
                      <a:pt x="820" y="2208"/>
                    </a:lnTo>
                    <a:lnTo>
                      <a:pt x="816" y="2232"/>
                    </a:lnTo>
                    <a:lnTo>
                      <a:pt x="816" y="2247"/>
                    </a:lnTo>
                    <a:lnTo>
                      <a:pt x="816" y="2252"/>
                    </a:lnTo>
                    <a:lnTo>
                      <a:pt x="813" y="2261"/>
                    </a:lnTo>
                    <a:lnTo>
                      <a:pt x="813" y="2265"/>
                    </a:lnTo>
                    <a:lnTo>
                      <a:pt x="813" y="2271"/>
                    </a:lnTo>
                    <a:lnTo>
                      <a:pt x="813" y="2273"/>
                    </a:lnTo>
                    <a:lnTo>
                      <a:pt x="813" y="2279"/>
                    </a:lnTo>
                    <a:lnTo>
                      <a:pt x="813" y="2283"/>
                    </a:lnTo>
                    <a:lnTo>
                      <a:pt x="813" y="2289"/>
                    </a:lnTo>
                    <a:lnTo>
                      <a:pt x="811" y="2292"/>
                    </a:lnTo>
                    <a:lnTo>
                      <a:pt x="810" y="2294"/>
                    </a:lnTo>
                    <a:lnTo>
                      <a:pt x="810" y="2297"/>
                    </a:lnTo>
                    <a:lnTo>
                      <a:pt x="810" y="2300"/>
                    </a:lnTo>
                    <a:lnTo>
                      <a:pt x="810" y="2302"/>
                    </a:lnTo>
                    <a:lnTo>
                      <a:pt x="810" y="2307"/>
                    </a:lnTo>
                    <a:lnTo>
                      <a:pt x="810" y="2312"/>
                    </a:lnTo>
                    <a:lnTo>
                      <a:pt x="810" y="2318"/>
                    </a:lnTo>
                    <a:lnTo>
                      <a:pt x="810" y="2320"/>
                    </a:lnTo>
                    <a:lnTo>
                      <a:pt x="810" y="2324"/>
                    </a:lnTo>
                    <a:lnTo>
                      <a:pt x="807" y="2328"/>
                    </a:lnTo>
                    <a:lnTo>
                      <a:pt x="806" y="2330"/>
                    </a:lnTo>
                    <a:lnTo>
                      <a:pt x="806" y="2332"/>
                    </a:lnTo>
                    <a:lnTo>
                      <a:pt x="806" y="2335"/>
                    </a:lnTo>
                    <a:lnTo>
                      <a:pt x="806" y="2338"/>
                    </a:lnTo>
                    <a:lnTo>
                      <a:pt x="806" y="2342"/>
                    </a:lnTo>
                    <a:lnTo>
                      <a:pt x="806" y="2348"/>
                    </a:lnTo>
                    <a:lnTo>
                      <a:pt x="806" y="2353"/>
                    </a:lnTo>
                    <a:lnTo>
                      <a:pt x="806" y="2355"/>
                    </a:lnTo>
                    <a:lnTo>
                      <a:pt x="806" y="2360"/>
                    </a:lnTo>
                    <a:lnTo>
                      <a:pt x="804" y="2365"/>
                    </a:lnTo>
                    <a:lnTo>
                      <a:pt x="803" y="2369"/>
                    </a:lnTo>
                    <a:lnTo>
                      <a:pt x="802" y="2373"/>
                    </a:lnTo>
                    <a:lnTo>
                      <a:pt x="802" y="2377"/>
                    </a:lnTo>
                    <a:lnTo>
                      <a:pt x="802" y="2380"/>
                    </a:lnTo>
                    <a:lnTo>
                      <a:pt x="802" y="2385"/>
                    </a:lnTo>
                    <a:lnTo>
                      <a:pt x="802" y="2390"/>
                    </a:lnTo>
                    <a:lnTo>
                      <a:pt x="802" y="2392"/>
                    </a:lnTo>
                    <a:lnTo>
                      <a:pt x="801" y="2396"/>
                    </a:lnTo>
                    <a:lnTo>
                      <a:pt x="800" y="2401"/>
                    </a:lnTo>
                    <a:lnTo>
                      <a:pt x="799" y="2405"/>
                    </a:lnTo>
                    <a:lnTo>
                      <a:pt x="799" y="2410"/>
                    </a:lnTo>
                    <a:lnTo>
                      <a:pt x="799" y="2416"/>
                    </a:lnTo>
                    <a:lnTo>
                      <a:pt x="799" y="2424"/>
                    </a:lnTo>
                    <a:lnTo>
                      <a:pt x="632" y="3237"/>
                    </a:lnTo>
                    <a:lnTo>
                      <a:pt x="629" y="3242"/>
                    </a:lnTo>
                    <a:lnTo>
                      <a:pt x="627" y="3248"/>
                    </a:lnTo>
                    <a:lnTo>
                      <a:pt x="626" y="3255"/>
                    </a:lnTo>
                    <a:lnTo>
                      <a:pt x="624" y="3261"/>
                    </a:lnTo>
                    <a:lnTo>
                      <a:pt x="608" y="3329"/>
                    </a:lnTo>
                    <a:lnTo>
                      <a:pt x="591" y="3394"/>
                    </a:lnTo>
                    <a:lnTo>
                      <a:pt x="577" y="3456"/>
                    </a:lnTo>
                    <a:lnTo>
                      <a:pt x="565" y="3516"/>
                    </a:lnTo>
                    <a:lnTo>
                      <a:pt x="552" y="3573"/>
                    </a:lnTo>
                    <a:lnTo>
                      <a:pt x="542" y="3627"/>
                    </a:lnTo>
                    <a:lnTo>
                      <a:pt x="533" y="3678"/>
                    </a:lnTo>
                    <a:lnTo>
                      <a:pt x="527" y="3726"/>
                    </a:lnTo>
                    <a:lnTo>
                      <a:pt x="520" y="3771"/>
                    </a:lnTo>
                    <a:lnTo>
                      <a:pt x="516" y="3813"/>
                    </a:lnTo>
                    <a:lnTo>
                      <a:pt x="512" y="3853"/>
                    </a:lnTo>
                    <a:lnTo>
                      <a:pt x="511" y="3890"/>
                    </a:lnTo>
                    <a:lnTo>
                      <a:pt x="510" y="3923"/>
                    </a:lnTo>
                    <a:lnTo>
                      <a:pt x="511" y="3954"/>
                    </a:lnTo>
                    <a:lnTo>
                      <a:pt x="515" y="3982"/>
                    </a:lnTo>
                    <a:lnTo>
                      <a:pt x="518" y="4006"/>
                    </a:lnTo>
                    <a:lnTo>
                      <a:pt x="515" y="4114"/>
                    </a:lnTo>
                    <a:lnTo>
                      <a:pt x="509" y="4216"/>
                    </a:lnTo>
                    <a:lnTo>
                      <a:pt x="501" y="4314"/>
                    </a:lnTo>
                    <a:lnTo>
                      <a:pt x="492" y="4407"/>
                    </a:lnTo>
                    <a:lnTo>
                      <a:pt x="487" y="4451"/>
                    </a:lnTo>
                    <a:lnTo>
                      <a:pt x="481" y="4495"/>
                    </a:lnTo>
                    <a:lnTo>
                      <a:pt x="475" y="4538"/>
                    </a:lnTo>
                    <a:lnTo>
                      <a:pt x="468" y="4580"/>
                    </a:lnTo>
                    <a:lnTo>
                      <a:pt x="460" y="4620"/>
                    </a:lnTo>
                    <a:lnTo>
                      <a:pt x="454" y="4659"/>
                    </a:lnTo>
                    <a:lnTo>
                      <a:pt x="445" y="4697"/>
                    </a:lnTo>
                    <a:lnTo>
                      <a:pt x="437" y="4735"/>
                    </a:lnTo>
                    <a:lnTo>
                      <a:pt x="427" y="4770"/>
                    </a:lnTo>
                    <a:lnTo>
                      <a:pt x="417" y="4805"/>
                    </a:lnTo>
                    <a:lnTo>
                      <a:pt x="407" y="4838"/>
                    </a:lnTo>
                    <a:lnTo>
                      <a:pt x="396" y="4869"/>
                    </a:lnTo>
                    <a:lnTo>
                      <a:pt x="385" y="4900"/>
                    </a:lnTo>
                    <a:lnTo>
                      <a:pt x="373" y="4930"/>
                    </a:lnTo>
                    <a:lnTo>
                      <a:pt x="360" y="4959"/>
                    </a:lnTo>
                    <a:lnTo>
                      <a:pt x="348" y="4987"/>
                    </a:lnTo>
                    <a:lnTo>
                      <a:pt x="335" y="5013"/>
                    </a:lnTo>
                    <a:lnTo>
                      <a:pt x="320" y="5039"/>
                    </a:lnTo>
                    <a:lnTo>
                      <a:pt x="306" y="5063"/>
                    </a:lnTo>
                    <a:lnTo>
                      <a:pt x="292" y="5086"/>
                    </a:lnTo>
                    <a:lnTo>
                      <a:pt x="276" y="5109"/>
                    </a:lnTo>
                    <a:lnTo>
                      <a:pt x="261" y="5130"/>
                    </a:lnTo>
                    <a:lnTo>
                      <a:pt x="244" y="5150"/>
                    </a:lnTo>
                    <a:lnTo>
                      <a:pt x="227" y="5167"/>
                    </a:lnTo>
                    <a:lnTo>
                      <a:pt x="568" y="5217"/>
                    </a:lnTo>
                    <a:lnTo>
                      <a:pt x="568" y="5214"/>
                    </a:lnTo>
                    <a:lnTo>
                      <a:pt x="571" y="5185"/>
                    </a:lnTo>
                    <a:lnTo>
                      <a:pt x="584" y="5136"/>
                    </a:lnTo>
                    <a:lnTo>
                      <a:pt x="598" y="5088"/>
                    </a:lnTo>
                    <a:lnTo>
                      <a:pt x="610" y="5039"/>
                    </a:lnTo>
                    <a:lnTo>
                      <a:pt x="623" y="4990"/>
                    </a:lnTo>
                    <a:lnTo>
                      <a:pt x="636" y="4941"/>
                    </a:lnTo>
                    <a:lnTo>
                      <a:pt x="649" y="4892"/>
                    </a:lnTo>
                    <a:lnTo>
                      <a:pt x="661" y="4844"/>
                    </a:lnTo>
                    <a:lnTo>
                      <a:pt x="674" y="4795"/>
                    </a:lnTo>
                    <a:lnTo>
                      <a:pt x="746" y="4508"/>
                    </a:lnTo>
                    <a:lnTo>
                      <a:pt x="816" y="4220"/>
                    </a:lnTo>
                    <a:lnTo>
                      <a:pt x="885" y="3933"/>
                    </a:lnTo>
                    <a:lnTo>
                      <a:pt x="951" y="3646"/>
                    </a:lnTo>
                    <a:lnTo>
                      <a:pt x="1015" y="3360"/>
                    </a:lnTo>
                    <a:lnTo>
                      <a:pt x="1076" y="3073"/>
                    </a:lnTo>
                    <a:lnTo>
                      <a:pt x="1136" y="2787"/>
                    </a:lnTo>
                    <a:lnTo>
                      <a:pt x="1194" y="2501"/>
                    </a:lnTo>
                    <a:lnTo>
                      <a:pt x="1249" y="2214"/>
                    </a:lnTo>
                    <a:lnTo>
                      <a:pt x="1303" y="1930"/>
                    </a:lnTo>
                    <a:lnTo>
                      <a:pt x="1354" y="1643"/>
                    </a:lnTo>
                    <a:lnTo>
                      <a:pt x="1403" y="1358"/>
                    </a:lnTo>
                    <a:lnTo>
                      <a:pt x="1451" y="1073"/>
                    </a:lnTo>
                    <a:lnTo>
                      <a:pt x="1496" y="788"/>
                    </a:lnTo>
                    <a:lnTo>
                      <a:pt x="1539" y="504"/>
                    </a:lnTo>
                    <a:lnTo>
                      <a:pt x="1580" y="220"/>
                    </a:lnTo>
                    <a:lnTo>
                      <a:pt x="1580" y="216"/>
                    </a:lnTo>
                    <a:lnTo>
                      <a:pt x="390" y="53"/>
                    </a:lnTo>
                    <a:lnTo>
                      <a:pt x="0" y="0"/>
                    </a:lnTo>
                    <a:lnTo>
                      <a:pt x="58" y="28"/>
                    </a:lnTo>
                    <a:lnTo>
                      <a:pt x="111" y="53"/>
                    </a:lnTo>
                    <a:lnTo>
                      <a:pt x="158" y="78"/>
                    </a:lnTo>
                    <a:lnTo>
                      <a:pt x="203" y="99"/>
                    </a:lnTo>
                    <a:lnTo>
                      <a:pt x="243" y="118"/>
                    </a:lnTo>
                    <a:lnTo>
                      <a:pt x="278" y="135"/>
                    </a:lnTo>
                    <a:lnTo>
                      <a:pt x="309" y="150"/>
                    </a:lnTo>
                    <a:lnTo>
                      <a:pt x="337" y="163"/>
                    </a:lnTo>
                    <a:close/>
                  </a:path>
                </a:pathLst>
              </a:custGeom>
              <a:solidFill>
                <a:srgbClr val="dae3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68"/>
              <p:cNvSpPr/>
              <p:nvPr/>
            </p:nvSpPr>
            <p:spPr>
              <a:xfrm>
                <a:off x="6325560" y="4866840"/>
                <a:ext cx="140400" cy="416160"/>
              </a:xfrm>
              <a:custGeom>
                <a:avLst/>
                <a:gdLst/>
                <a:ahLst/>
                <a:rect l="l" t="t" r="r" b="b"/>
                <a:pathLst>
                  <a:path w="1346" h="5033">
                    <a:moveTo>
                      <a:pt x="1346" y="0"/>
                    </a:moveTo>
                    <a:lnTo>
                      <a:pt x="1012" y="4"/>
                    </a:lnTo>
                    <a:lnTo>
                      <a:pt x="971" y="288"/>
                    </a:lnTo>
                    <a:lnTo>
                      <a:pt x="928" y="572"/>
                    </a:lnTo>
                    <a:lnTo>
                      <a:pt x="883" y="857"/>
                    </a:lnTo>
                    <a:lnTo>
                      <a:pt x="835" y="1142"/>
                    </a:lnTo>
                    <a:lnTo>
                      <a:pt x="786" y="1427"/>
                    </a:lnTo>
                    <a:lnTo>
                      <a:pt x="735" y="1714"/>
                    </a:lnTo>
                    <a:lnTo>
                      <a:pt x="681" y="1998"/>
                    </a:lnTo>
                    <a:lnTo>
                      <a:pt x="626" y="2285"/>
                    </a:lnTo>
                    <a:lnTo>
                      <a:pt x="568" y="2571"/>
                    </a:lnTo>
                    <a:lnTo>
                      <a:pt x="508" y="2857"/>
                    </a:lnTo>
                    <a:lnTo>
                      <a:pt x="447" y="3144"/>
                    </a:lnTo>
                    <a:lnTo>
                      <a:pt x="383" y="3430"/>
                    </a:lnTo>
                    <a:lnTo>
                      <a:pt x="317" y="3717"/>
                    </a:lnTo>
                    <a:lnTo>
                      <a:pt x="248" y="4004"/>
                    </a:lnTo>
                    <a:lnTo>
                      <a:pt x="178" y="4292"/>
                    </a:lnTo>
                    <a:lnTo>
                      <a:pt x="106" y="4579"/>
                    </a:lnTo>
                    <a:lnTo>
                      <a:pt x="93" y="4628"/>
                    </a:lnTo>
                    <a:lnTo>
                      <a:pt x="81" y="4676"/>
                    </a:lnTo>
                    <a:lnTo>
                      <a:pt x="68" y="4725"/>
                    </a:lnTo>
                    <a:lnTo>
                      <a:pt x="55" y="4774"/>
                    </a:lnTo>
                    <a:lnTo>
                      <a:pt x="42" y="4823"/>
                    </a:lnTo>
                    <a:lnTo>
                      <a:pt x="30" y="4872"/>
                    </a:lnTo>
                    <a:lnTo>
                      <a:pt x="16" y="4920"/>
                    </a:lnTo>
                    <a:lnTo>
                      <a:pt x="3" y="4969"/>
                    </a:lnTo>
                    <a:lnTo>
                      <a:pt x="0" y="4998"/>
                    </a:lnTo>
                    <a:lnTo>
                      <a:pt x="0" y="5001"/>
                    </a:lnTo>
                    <a:lnTo>
                      <a:pt x="231" y="5033"/>
                    </a:lnTo>
                    <a:lnTo>
                      <a:pt x="231" y="5031"/>
                    </a:lnTo>
                    <a:lnTo>
                      <a:pt x="232" y="5030"/>
                    </a:lnTo>
                    <a:lnTo>
                      <a:pt x="233" y="5030"/>
                    </a:lnTo>
                    <a:lnTo>
                      <a:pt x="234" y="5030"/>
                    </a:lnTo>
                    <a:lnTo>
                      <a:pt x="247" y="4980"/>
                    </a:lnTo>
                    <a:lnTo>
                      <a:pt x="261" y="4931"/>
                    </a:lnTo>
                    <a:lnTo>
                      <a:pt x="274" y="4883"/>
                    </a:lnTo>
                    <a:lnTo>
                      <a:pt x="287" y="4835"/>
                    </a:lnTo>
                    <a:lnTo>
                      <a:pt x="300" y="4786"/>
                    </a:lnTo>
                    <a:lnTo>
                      <a:pt x="314" y="4737"/>
                    </a:lnTo>
                    <a:lnTo>
                      <a:pt x="327" y="4689"/>
                    </a:lnTo>
                    <a:lnTo>
                      <a:pt x="340" y="4640"/>
                    </a:lnTo>
                    <a:lnTo>
                      <a:pt x="421" y="4346"/>
                    </a:lnTo>
                    <a:lnTo>
                      <a:pt x="499" y="4054"/>
                    </a:lnTo>
                    <a:lnTo>
                      <a:pt x="574" y="3763"/>
                    </a:lnTo>
                    <a:lnTo>
                      <a:pt x="648" y="3472"/>
                    </a:lnTo>
                    <a:lnTo>
                      <a:pt x="718" y="3183"/>
                    </a:lnTo>
                    <a:lnTo>
                      <a:pt x="786" y="2894"/>
                    </a:lnTo>
                    <a:lnTo>
                      <a:pt x="853" y="2607"/>
                    </a:lnTo>
                    <a:lnTo>
                      <a:pt x="916" y="2320"/>
                    </a:lnTo>
                    <a:lnTo>
                      <a:pt x="978" y="2035"/>
                    </a:lnTo>
                    <a:lnTo>
                      <a:pt x="1037" y="1750"/>
                    </a:lnTo>
                    <a:lnTo>
                      <a:pt x="1095" y="1466"/>
                    </a:lnTo>
                    <a:lnTo>
                      <a:pt x="1149" y="1183"/>
                    </a:lnTo>
                    <a:lnTo>
                      <a:pt x="1202" y="901"/>
                    </a:lnTo>
                    <a:lnTo>
                      <a:pt x="1252" y="620"/>
                    </a:lnTo>
                    <a:lnTo>
                      <a:pt x="1300" y="340"/>
                    </a:lnTo>
                    <a:lnTo>
                      <a:pt x="1346" y="60"/>
                    </a:lnTo>
                    <a:lnTo>
                      <a:pt x="1346" y="0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269"/>
              <p:cNvSpPr/>
              <p:nvPr/>
            </p:nvSpPr>
            <p:spPr>
              <a:xfrm>
                <a:off x="6465960" y="4865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21"/>
                    </a:moveTo>
                    <a:lnTo>
                      <a:pt x="7" y="21"/>
                    </a:lnTo>
                    <a:lnTo>
                      <a:pt x="1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dae3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270"/>
              <p:cNvSpPr/>
              <p:nvPr/>
            </p:nvSpPr>
            <p:spPr>
              <a:xfrm>
                <a:off x="5640480" y="4822920"/>
                <a:ext cx="339120" cy="402840"/>
              </a:xfrm>
              <a:custGeom>
                <a:avLst/>
                <a:gdLst/>
                <a:ahLst/>
                <a:rect l="l" t="t" r="r" b="b"/>
                <a:pathLst>
                  <a:path w="3259" h="4873">
                    <a:moveTo>
                      <a:pt x="3128" y="1342"/>
                    </a:moveTo>
                    <a:lnTo>
                      <a:pt x="3125" y="1342"/>
                    </a:lnTo>
                    <a:lnTo>
                      <a:pt x="3107" y="1314"/>
                    </a:lnTo>
                    <a:lnTo>
                      <a:pt x="3089" y="1286"/>
                    </a:lnTo>
                    <a:lnTo>
                      <a:pt x="3071" y="1261"/>
                    </a:lnTo>
                    <a:lnTo>
                      <a:pt x="3051" y="1235"/>
                    </a:lnTo>
                    <a:lnTo>
                      <a:pt x="3028" y="1210"/>
                    </a:lnTo>
                    <a:lnTo>
                      <a:pt x="3006" y="1185"/>
                    </a:lnTo>
                    <a:lnTo>
                      <a:pt x="2982" y="1162"/>
                    </a:lnTo>
                    <a:lnTo>
                      <a:pt x="2957" y="1139"/>
                    </a:lnTo>
                    <a:lnTo>
                      <a:pt x="2934" y="1119"/>
                    </a:lnTo>
                    <a:lnTo>
                      <a:pt x="2910" y="1100"/>
                    </a:lnTo>
                    <a:lnTo>
                      <a:pt x="2884" y="1082"/>
                    </a:lnTo>
                    <a:lnTo>
                      <a:pt x="2858" y="1065"/>
                    </a:lnTo>
                    <a:lnTo>
                      <a:pt x="2831" y="1047"/>
                    </a:lnTo>
                    <a:lnTo>
                      <a:pt x="2803" y="1030"/>
                    </a:lnTo>
                    <a:lnTo>
                      <a:pt x="2774" y="1015"/>
                    </a:lnTo>
                    <a:lnTo>
                      <a:pt x="2744" y="999"/>
                    </a:lnTo>
                    <a:lnTo>
                      <a:pt x="2714" y="985"/>
                    </a:lnTo>
                    <a:lnTo>
                      <a:pt x="2682" y="970"/>
                    </a:lnTo>
                    <a:lnTo>
                      <a:pt x="2651" y="957"/>
                    </a:lnTo>
                    <a:lnTo>
                      <a:pt x="2618" y="945"/>
                    </a:lnTo>
                    <a:lnTo>
                      <a:pt x="2585" y="933"/>
                    </a:lnTo>
                    <a:lnTo>
                      <a:pt x="2549" y="922"/>
                    </a:lnTo>
                    <a:lnTo>
                      <a:pt x="2515" y="912"/>
                    </a:lnTo>
                    <a:lnTo>
                      <a:pt x="2478" y="902"/>
                    </a:lnTo>
                    <a:lnTo>
                      <a:pt x="2464" y="890"/>
                    </a:lnTo>
                    <a:lnTo>
                      <a:pt x="2440" y="885"/>
                    </a:lnTo>
                    <a:lnTo>
                      <a:pt x="2418" y="879"/>
                    </a:lnTo>
                    <a:lnTo>
                      <a:pt x="2396" y="874"/>
                    </a:lnTo>
                    <a:lnTo>
                      <a:pt x="2376" y="867"/>
                    </a:lnTo>
                    <a:lnTo>
                      <a:pt x="2357" y="861"/>
                    </a:lnTo>
                    <a:lnTo>
                      <a:pt x="2341" y="853"/>
                    </a:lnTo>
                    <a:lnTo>
                      <a:pt x="2324" y="845"/>
                    </a:lnTo>
                    <a:lnTo>
                      <a:pt x="2308" y="836"/>
                    </a:lnTo>
                    <a:lnTo>
                      <a:pt x="2295" y="827"/>
                    </a:lnTo>
                    <a:lnTo>
                      <a:pt x="2282" y="818"/>
                    </a:lnTo>
                    <a:lnTo>
                      <a:pt x="2271" y="808"/>
                    </a:lnTo>
                    <a:lnTo>
                      <a:pt x="2261" y="797"/>
                    </a:lnTo>
                    <a:lnTo>
                      <a:pt x="2252" y="787"/>
                    </a:lnTo>
                    <a:lnTo>
                      <a:pt x="2244" y="776"/>
                    </a:lnTo>
                    <a:lnTo>
                      <a:pt x="2237" y="764"/>
                    </a:lnTo>
                    <a:lnTo>
                      <a:pt x="2233" y="752"/>
                    </a:lnTo>
                    <a:lnTo>
                      <a:pt x="2229" y="740"/>
                    </a:lnTo>
                    <a:lnTo>
                      <a:pt x="2226" y="726"/>
                    </a:lnTo>
                    <a:lnTo>
                      <a:pt x="2224" y="713"/>
                    </a:lnTo>
                    <a:lnTo>
                      <a:pt x="2224" y="700"/>
                    </a:lnTo>
                    <a:lnTo>
                      <a:pt x="2225" y="685"/>
                    </a:lnTo>
                    <a:lnTo>
                      <a:pt x="2227" y="670"/>
                    </a:lnTo>
                    <a:lnTo>
                      <a:pt x="2231" y="655"/>
                    </a:lnTo>
                    <a:lnTo>
                      <a:pt x="2235" y="639"/>
                    </a:lnTo>
                    <a:lnTo>
                      <a:pt x="2242" y="623"/>
                    </a:lnTo>
                    <a:lnTo>
                      <a:pt x="2249" y="607"/>
                    </a:lnTo>
                    <a:lnTo>
                      <a:pt x="2257" y="589"/>
                    </a:lnTo>
                    <a:lnTo>
                      <a:pt x="2267" y="571"/>
                    </a:lnTo>
                    <a:lnTo>
                      <a:pt x="2278" y="553"/>
                    </a:lnTo>
                    <a:lnTo>
                      <a:pt x="2291" y="535"/>
                    </a:lnTo>
                    <a:lnTo>
                      <a:pt x="2304" y="516"/>
                    </a:lnTo>
                    <a:lnTo>
                      <a:pt x="2318" y="497"/>
                    </a:lnTo>
                    <a:lnTo>
                      <a:pt x="2321" y="491"/>
                    </a:lnTo>
                    <a:lnTo>
                      <a:pt x="2322" y="489"/>
                    </a:lnTo>
                    <a:lnTo>
                      <a:pt x="2333" y="476"/>
                    </a:lnTo>
                    <a:lnTo>
                      <a:pt x="2343" y="461"/>
                    </a:lnTo>
                    <a:lnTo>
                      <a:pt x="2354" y="450"/>
                    </a:lnTo>
                    <a:lnTo>
                      <a:pt x="2365" y="440"/>
                    </a:lnTo>
                    <a:lnTo>
                      <a:pt x="2352" y="438"/>
                    </a:lnTo>
                    <a:lnTo>
                      <a:pt x="2339" y="437"/>
                    </a:lnTo>
                    <a:lnTo>
                      <a:pt x="2327" y="438"/>
                    </a:lnTo>
                    <a:lnTo>
                      <a:pt x="2315" y="440"/>
                    </a:lnTo>
                    <a:lnTo>
                      <a:pt x="2304" y="440"/>
                    </a:lnTo>
                    <a:lnTo>
                      <a:pt x="2292" y="443"/>
                    </a:lnTo>
                    <a:lnTo>
                      <a:pt x="2280" y="445"/>
                    </a:lnTo>
                    <a:lnTo>
                      <a:pt x="2268" y="447"/>
                    </a:lnTo>
                    <a:lnTo>
                      <a:pt x="2264" y="447"/>
                    </a:lnTo>
                    <a:lnTo>
                      <a:pt x="2260" y="447"/>
                    </a:lnTo>
                    <a:lnTo>
                      <a:pt x="2255" y="448"/>
                    </a:lnTo>
                    <a:lnTo>
                      <a:pt x="2251" y="450"/>
                    </a:lnTo>
                    <a:lnTo>
                      <a:pt x="2235" y="455"/>
                    </a:lnTo>
                    <a:lnTo>
                      <a:pt x="2219" y="458"/>
                    </a:lnTo>
                    <a:lnTo>
                      <a:pt x="2203" y="464"/>
                    </a:lnTo>
                    <a:lnTo>
                      <a:pt x="2187" y="469"/>
                    </a:lnTo>
                    <a:lnTo>
                      <a:pt x="2172" y="476"/>
                    </a:lnTo>
                    <a:lnTo>
                      <a:pt x="2156" y="482"/>
                    </a:lnTo>
                    <a:lnTo>
                      <a:pt x="2141" y="490"/>
                    </a:lnTo>
                    <a:lnTo>
                      <a:pt x="2126" y="498"/>
                    </a:lnTo>
                    <a:lnTo>
                      <a:pt x="2111" y="508"/>
                    </a:lnTo>
                    <a:lnTo>
                      <a:pt x="2097" y="517"/>
                    </a:lnTo>
                    <a:lnTo>
                      <a:pt x="2081" y="528"/>
                    </a:lnTo>
                    <a:lnTo>
                      <a:pt x="2067" y="538"/>
                    </a:lnTo>
                    <a:lnTo>
                      <a:pt x="2052" y="550"/>
                    </a:lnTo>
                    <a:lnTo>
                      <a:pt x="2038" y="562"/>
                    </a:lnTo>
                    <a:lnTo>
                      <a:pt x="2023" y="576"/>
                    </a:lnTo>
                    <a:lnTo>
                      <a:pt x="2009" y="589"/>
                    </a:lnTo>
                    <a:lnTo>
                      <a:pt x="1994" y="604"/>
                    </a:lnTo>
                    <a:lnTo>
                      <a:pt x="1979" y="621"/>
                    </a:lnTo>
                    <a:lnTo>
                      <a:pt x="1965" y="637"/>
                    </a:lnTo>
                    <a:lnTo>
                      <a:pt x="1949" y="653"/>
                    </a:lnTo>
                    <a:lnTo>
                      <a:pt x="1928" y="669"/>
                    </a:lnTo>
                    <a:lnTo>
                      <a:pt x="1907" y="682"/>
                    </a:lnTo>
                    <a:lnTo>
                      <a:pt x="1885" y="695"/>
                    </a:lnTo>
                    <a:lnTo>
                      <a:pt x="1864" y="706"/>
                    </a:lnTo>
                    <a:lnTo>
                      <a:pt x="1842" y="718"/>
                    </a:lnTo>
                    <a:lnTo>
                      <a:pt x="1821" y="726"/>
                    </a:lnTo>
                    <a:lnTo>
                      <a:pt x="1800" y="734"/>
                    </a:lnTo>
                    <a:lnTo>
                      <a:pt x="1778" y="742"/>
                    </a:lnTo>
                    <a:lnTo>
                      <a:pt x="1778" y="739"/>
                    </a:lnTo>
                    <a:lnTo>
                      <a:pt x="1778" y="737"/>
                    </a:lnTo>
                    <a:lnTo>
                      <a:pt x="1775" y="731"/>
                    </a:lnTo>
                    <a:lnTo>
                      <a:pt x="1774" y="723"/>
                    </a:lnTo>
                    <a:lnTo>
                      <a:pt x="1774" y="713"/>
                    </a:lnTo>
                    <a:lnTo>
                      <a:pt x="1775" y="703"/>
                    </a:lnTo>
                    <a:lnTo>
                      <a:pt x="1778" y="692"/>
                    </a:lnTo>
                    <a:lnTo>
                      <a:pt x="1784" y="680"/>
                    </a:lnTo>
                    <a:lnTo>
                      <a:pt x="1789" y="668"/>
                    </a:lnTo>
                    <a:lnTo>
                      <a:pt x="1798" y="653"/>
                    </a:lnTo>
                    <a:lnTo>
                      <a:pt x="1807" y="639"/>
                    </a:lnTo>
                    <a:lnTo>
                      <a:pt x="1818" y="622"/>
                    </a:lnTo>
                    <a:lnTo>
                      <a:pt x="1831" y="606"/>
                    </a:lnTo>
                    <a:lnTo>
                      <a:pt x="1846" y="588"/>
                    </a:lnTo>
                    <a:lnTo>
                      <a:pt x="1862" y="569"/>
                    </a:lnTo>
                    <a:lnTo>
                      <a:pt x="1880" y="549"/>
                    </a:lnTo>
                    <a:lnTo>
                      <a:pt x="1899" y="529"/>
                    </a:lnTo>
                    <a:lnTo>
                      <a:pt x="1920" y="507"/>
                    </a:lnTo>
                    <a:lnTo>
                      <a:pt x="2301" y="99"/>
                    </a:lnTo>
                    <a:lnTo>
                      <a:pt x="2318" y="72"/>
                    </a:lnTo>
                    <a:lnTo>
                      <a:pt x="2336" y="47"/>
                    </a:lnTo>
                    <a:lnTo>
                      <a:pt x="2354" y="22"/>
                    </a:lnTo>
                    <a:lnTo>
                      <a:pt x="2372" y="0"/>
                    </a:lnTo>
                    <a:lnTo>
                      <a:pt x="2307" y="22"/>
                    </a:lnTo>
                    <a:lnTo>
                      <a:pt x="2244" y="46"/>
                    </a:lnTo>
                    <a:lnTo>
                      <a:pt x="2181" y="69"/>
                    </a:lnTo>
                    <a:lnTo>
                      <a:pt x="2118" y="93"/>
                    </a:lnTo>
                    <a:lnTo>
                      <a:pt x="2054" y="117"/>
                    </a:lnTo>
                    <a:lnTo>
                      <a:pt x="1991" y="141"/>
                    </a:lnTo>
                    <a:lnTo>
                      <a:pt x="1928" y="166"/>
                    </a:lnTo>
                    <a:lnTo>
                      <a:pt x="1865" y="191"/>
                    </a:lnTo>
                    <a:lnTo>
                      <a:pt x="1803" y="216"/>
                    </a:lnTo>
                    <a:lnTo>
                      <a:pt x="1739" y="242"/>
                    </a:lnTo>
                    <a:lnTo>
                      <a:pt x="1677" y="267"/>
                    </a:lnTo>
                    <a:lnTo>
                      <a:pt x="1615" y="294"/>
                    </a:lnTo>
                    <a:lnTo>
                      <a:pt x="1553" y="321"/>
                    </a:lnTo>
                    <a:lnTo>
                      <a:pt x="1491" y="347"/>
                    </a:lnTo>
                    <a:lnTo>
                      <a:pt x="1429" y="374"/>
                    </a:lnTo>
                    <a:lnTo>
                      <a:pt x="1367" y="400"/>
                    </a:lnTo>
                    <a:lnTo>
                      <a:pt x="1354" y="406"/>
                    </a:lnTo>
                    <a:lnTo>
                      <a:pt x="1342" y="411"/>
                    </a:lnTo>
                    <a:lnTo>
                      <a:pt x="1329" y="420"/>
                    </a:lnTo>
                    <a:lnTo>
                      <a:pt x="1317" y="430"/>
                    </a:lnTo>
                    <a:lnTo>
                      <a:pt x="1303" y="441"/>
                    </a:lnTo>
                    <a:lnTo>
                      <a:pt x="1290" y="456"/>
                    </a:lnTo>
                    <a:lnTo>
                      <a:pt x="1278" y="471"/>
                    </a:lnTo>
                    <a:lnTo>
                      <a:pt x="1264" y="488"/>
                    </a:lnTo>
                    <a:lnTo>
                      <a:pt x="1251" y="507"/>
                    </a:lnTo>
                    <a:lnTo>
                      <a:pt x="1237" y="528"/>
                    </a:lnTo>
                    <a:lnTo>
                      <a:pt x="1223" y="551"/>
                    </a:lnTo>
                    <a:lnTo>
                      <a:pt x="1210" y="576"/>
                    </a:lnTo>
                    <a:lnTo>
                      <a:pt x="1196" y="601"/>
                    </a:lnTo>
                    <a:lnTo>
                      <a:pt x="1182" y="630"/>
                    </a:lnTo>
                    <a:lnTo>
                      <a:pt x="1168" y="660"/>
                    </a:lnTo>
                    <a:lnTo>
                      <a:pt x="1154" y="692"/>
                    </a:lnTo>
                    <a:lnTo>
                      <a:pt x="1139" y="725"/>
                    </a:lnTo>
                    <a:lnTo>
                      <a:pt x="1125" y="761"/>
                    </a:lnTo>
                    <a:lnTo>
                      <a:pt x="1110" y="797"/>
                    </a:lnTo>
                    <a:lnTo>
                      <a:pt x="1096" y="837"/>
                    </a:lnTo>
                    <a:lnTo>
                      <a:pt x="1066" y="920"/>
                    </a:lnTo>
                    <a:lnTo>
                      <a:pt x="1035" y="1011"/>
                    </a:lnTo>
                    <a:lnTo>
                      <a:pt x="1004" y="1110"/>
                    </a:lnTo>
                    <a:lnTo>
                      <a:pt x="973" y="1215"/>
                    </a:lnTo>
                    <a:lnTo>
                      <a:pt x="941" y="1327"/>
                    </a:lnTo>
                    <a:lnTo>
                      <a:pt x="908" y="1448"/>
                    </a:lnTo>
                    <a:lnTo>
                      <a:pt x="908" y="1450"/>
                    </a:lnTo>
                    <a:lnTo>
                      <a:pt x="908" y="1455"/>
                    </a:lnTo>
                    <a:lnTo>
                      <a:pt x="908" y="1458"/>
                    </a:lnTo>
                    <a:lnTo>
                      <a:pt x="908" y="1463"/>
                    </a:lnTo>
                    <a:lnTo>
                      <a:pt x="913" y="1499"/>
                    </a:lnTo>
                    <a:lnTo>
                      <a:pt x="919" y="1537"/>
                    </a:lnTo>
                    <a:lnTo>
                      <a:pt x="927" y="1574"/>
                    </a:lnTo>
                    <a:lnTo>
                      <a:pt x="936" y="1611"/>
                    </a:lnTo>
                    <a:lnTo>
                      <a:pt x="946" y="1648"/>
                    </a:lnTo>
                    <a:lnTo>
                      <a:pt x="958" y="1684"/>
                    </a:lnTo>
                    <a:lnTo>
                      <a:pt x="972" y="1721"/>
                    </a:lnTo>
                    <a:lnTo>
                      <a:pt x="987" y="1757"/>
                    </a:lnTo>
                    <a:lnTo>
                      <a:pt x="972" y="1721"/>
                    </a:lnTo>
                    <a:lnTo>
                      <a:pt x="958" y="1684"/>
                    </a:lnTo>
                    <a:lnTo>
                      <a:pt x="946" y="1648"/>
                    </a:lnTo>
                    <a:lnTo>
                      <a:pt x="936" y="1611"/>
                    </a:lnTo>
                    <a:lnTo>
                      <a:pt x="927" y="1574"/>
                    </a:lnTo>
                    <a:lnTo>
                      <a:pt x="919" y="1537"/>
                    </a:lnTo>
                    <a:lnTo>
                      <a:pt x="913" y="1499"/>
                    </a:lnTo>
                    <a:lnTo>
                      <a:pt x="908" y="1463"/>
                    </a:lnTo>
                    <a:lnTo>
                      <a:pt x="908" y="1458"/>
                    </a:lnTo>
                    <a:lnTo>
                      <a:pt x="908" y="1455"/>
                    </a:lnTo>
                    <a:lnTo>
                      <a:pt x="908" y="1450"/>
                    </a:lnTo>
                    <a:lnTo>
                      <a:pt x="908" y="1448"/>
                    </a:lnTo>
                    <a:lnTo>
                      <a:pt x="906" y="1448"/>
                    </a:lnTo>
                    <a:lnTo>
                      <a:pt x="904" y="1450"/>
                    </a:lnTo>
                    <a:lnTo>
                      <a:pt x="902" y="1453"/>
                    </a:lnTo>
                    <a:lnTo>
                      <a:pt x="902" y="1455"/>
                    </a:lnTo>
                    <a:lnTo>
                      <a:pt x="878" y="1483"/>
                    </a:lnTo>
                    <a:lnTo>
                      <a:pt x="857" y="1510"/>
                    </a:lnTo>
                    <a:lnTo>
                      <a:pt x="837" y="1540"/>
                    </a:lnTo>
                    <a:lnTo>
                      <a:pt x="819" y="1571"/>
                    </a:lnTo>
                    <a:lnTo>
                      <a:pt x="802" y="1603"/>
                    </a:lnTo>
                    <a:lnTo>
                      <a:pt x="785" y="1638"/>
                    </a:lnTo>
                    <a:lnTo>
                      <a:pt x="771" y="1672"/>
                    </a:lnTo>
                    <a:lnTo>
                      <a:pt x="758" y="1709"/>
                    </a:lnTo>
                    <a:lnTo>
                      <a:pt x="745" y="1747"/>
                    </a:lnTo>
                    <a:lnTo>
                      <a:pt x="734" y="1785"/>
                    </a:lnTo>
                    <a:lnTo>
                      <a:pt x="724" y="1825"/>
                    </a:lnTo>
                    <a:lnTo>
                      <a:pt x="716" y="1867"/>
                    </a:lnTo>
                    <a:lnTo>
                      <a:pt x="709" y="1911"/>
                    </a:lnTo>
                    <a:lnTo>
                      <a:pt x="703" y="1955"/>
                    </a:lnTo>
                    <a:lnTo>
                      <a:pt x="699" y="2000"/>
                    </a:lnTo>
                    <a:lnTo>
                      <a:pt x="695" y="2048"/>
                    </a:lnTo>
                    <a:lnTo>
                      <a:pt x="694" y="2077"/>
                    </a:lnTo>
                    <a:lnTo>
                      <a:pt x="693" y="2107"/>
                    </a:lnTo>
                    <a:lnTo>
                      <a:pt x="693" y="2137"/>
                    </a:lnTo>
                    <a:lnTo>
                      <a:pt x="693" y="2168"/>
                    </a:lnTo>
                    <a:lnTo>
                      <a:pt x="693" y="2199"/>
                    </a:lnTo>
                    <a:lnTo>
                      <a:pt x="693" y="2231"/>
                    </a:lnTo>
                    <a:lnTo>
                      <a:pt x="694" y="2263"/>
                    </a:lnTo>
                    <a:lnTo>
                      <a:pt x="695" y="2297"/>
                    </a:lnTo>
                    <a:lnTo>
                      <a:pt x="694" y="2263"/>
                    </a:lnTo>
                    <a:lnTo>
                      <a:pt x="693" y="2231"/>
                    </a:lnTo>
                    <a:lnTo>
                      <a:pt x="693" y="2199"/>
                    </a:lnTo>
                    <a:lnTo>
                      <a:pt x="693" y="2168"/>
                    </a:lnTo>
                    <a:lnTo>
                      <a:pt x="693" y="2137"/>
                    </a:lnTo>
                    <a:lnTo>
                      <a:pt x="693" y="2107"/>
                    </a:lnTo>
                    <a:lnTo>
                      <a:pt x="694" y="2077"/>
                    </a:lnTo>
                    <a:lnTo>
                      <a:pt x="695" y="2048"/>
                    </a:lnTo>
                    <a:lnTo>
                      <a:pt x="674" y="2048"/>
                    </a:lnTo>
                    <a:lnTo>
                      <a:pt x="668" y="2053"/>
                    </a:lnTo>
                    <a:lnTo>
                      <a:pt x="661" y="2058"/>
                    </a:lnTo>
                    <a:lnTo>
                      <a:pt x="655" y="2064"/>
                    </a:lnTo>
                    <a:lnTo>
                      <a:pt x="650" y="2071"/>
                    </a:lnTo>
                    <a:lnTo>
                      <a:pt x="639" y="2088"/>
                    </a:lnTo>
                    <a:lnTo>
                      <a:pt x="628" y="2108"/>
                    </a:lnTo>
                    <a:lnTo>
                      <a:pt x="619" y="2125"/>
                    </a:lnTo>
                    <a:lnTo>
                      <a:pt x="609" y="2142"/>
                    </a:lnTo>
                    <a:lnTo>
                      <a:pt x="600" y="2161"/>
                    </a:lnTo>
                    <a:lnTo>
                      <a:pt x="590" y="2182"/>
                    </a:lnTo>
                    <a:lnTo>
                      <a:pt x="571" y="2230"/>
                    </a:lnTo>
                    <a:lnTo>
                      <a:pt x="551" y="2283"/>
                    </a:lnTo>
                    <a:lnTo>
                      <a:pt x="531" y="2343"/>
                    </a:lnTo>
                    <a:lnTo>
                      <a:pt x="510" y="2410"/>
                    </a:lnTo>
                    <a:lnTo>
                      <a:pt x="489" y="2483"/>
                    </a:lnTo>
                    <a:lnTo>
                      <a:pt x="468" y="2563"/>
                    </a:lnTo>
                    <a:lnTo>
                      <a:pt x="148" y="3166"/>
                    </a:lnTo>
                    <a:lnTo>
                      <a:pt x="134" y="3198"/>
                    </a:lnTo>
                    <a:lnTo>
                      <a:pt x="124" y="3225"/>
                    </a:lnTo>
                    <a:lnTo>
                      <a:pt x="115" y="3247"/>
                    </a:lnTo>
                    <a:lnTo>
                      <a:pt x="110" y="3266"/>
                    </a:lnTo>
                    <a:lnTo>
                      <a:pt x="96" y="3314"/>
                    </a:lnTo>
                    <a:lnTo>
                      <a:pt x="85" y="3363"/>
                    </a:lnTo>
                    <a:lnTo>
                      <a:pt x="74" y="3410"/>
                    </a:lnTo>
                    <a:lnTo>
                      <a:pt x="65" y="3454"/>
                    </a:lnTo>
                    <a:lnTo>
                      <a:pt x="56" y="3499"/>
                    </a:lnTo>
                    <a:lnTo>
                      <a:pt x="49" y="3541"/>
                    </a:lnTo>
                    <a:lnTo>
                      <a:pt x="43" y="3581"/>
                    </a:lnTo>
                    <a:lnTo>
                      <a:pt x="39" y="3620"/>
                    </a:lnTo>
                    <a:lnTo>
                      <a:pt x="35" y="3658"/>
                    </a:lnTo>
                    <a:lnTo>
                      <a:pt x="33" y="3695"/>
                    </a:lnTo>
                    <a:lnTo>
                      <a:pt x="33" y="3731"/>
                    </a:lnTo>
                    <a:lnTo>
                      <a:pt x="34" y="3766"/>
                    </a:lnTo>
                    <a:lnTo>
                      <a:pt x="36" y="3799"/>
                    </a:lnTo>
                    <a:lnTo>
                      <a:pt x="40" y="3831"/>
                    </a:lnTo>
                    <a:lnTo>
                      <a:pt x="45" y="3861"/>
                    </a:lnTo>
                    <a:lnTo>
                      <a:pt x="53" y="3890"/>
                    </a:lnTo>
                    <a:lnTo>
                      <a:pt x="60" y="3879"/>
                    </a:lnTo>
                    <a:lnTo>
                      <a:pt x="67" y="3868"/>
                    </a:lnTo>
                    <a:lnTo>
                      <a:pt x="75" y="3857"/>
                    </a:lnTo>
                    <a:lnTo>
                      <a:pt x="85" y="3846"/>
                    </a:lnTo>
                    <a:lnTo>
                      <a:pt x="96" y="3836"/>
                    </a:lnTo>
                    <a:lnTo>
                      <a:pt x="109" y="3826"/>
                    </a:lnTo>
                    <a:lnTo>
                      <a:pt x="121" y="3816"/>
                    </a:lnTo>
                    <a:lnTo>
                      <a:pt x="135" y="3806"/>
                    </a:lnTo>
                    <a:lnTo>
                      <a:pt x="151" y="3796"/>
                    </a:lnTo>
                    <a:lnTo>
                      <a:pt x="167" y="3787"/>
                    </a:lnTo>
                    <a:lnTo>
                      <a:pt x="184" y="3778"/>
                    </a:lnTo>
                    <a:lnTo>
                      <a:pt x="203" y="3769"/>
                    </a:lnTo>
                    <a:lnTo>
                      <a:pt x="222" y="3760"/>
                    </a:lnTo>
                    <a:lnTo>
                      <a:pt x="243" y="3752"/>
                    </a:lnTo>
                    <a:lnTo>
                      <a:pt x="264" y="3745"/>
                    </a:lnTo>
                    <a:lnTo>
                      <a:pt x="287" y="3737"/>
                    </a:lnTo>
                    <a:lnTo>
                      <a:pt x="284" y="3734"/>
                    </a:lnTo>
                    <a:lnTo>
                      <a:pt x="292" y="3729"/>
                    </a:lnTo>
                    <a:lnTo>
                      <a:pt x="298" y="3727"/>
                    </a:lnTo>
                    <a:lnTo>
                      <a:pt x="302" y="3730"/>
                    </a:lnTo>
                    <a:lnTo>
                      <a:pt x="324" y="3722"/>
                    </a:lnTo>
                    <a:lnTo>
                      <a:pt x="349" y="3714"/>
                    </a:lnTo>
                    <a:lnTo>
                      <a:pt x="377" y="3705"/>
                    </a:lnTo>
                    <a:lnTo>
                      <a:pt x="408" y="3695"/>
                    </a:lnTo>
                    <a:lnTo>
                      <a:pt x="432" y="3680"/>
                    </a:lnTo>
                    <a:lnTo>
                      <a:pt x="454" y="3666"/>
                    </a:lnTo>
                    <a:lnTo>
                      <a:pt x="471" y="3653"/>
                    </a:lnTo>
                    <a:lnTo>
                      <a:pt x="486" y="3639"/>
                    </a:lnTo>
                    <a:lnTo>
                      <a:pt x="491" y="3633"/>
                    </a:lnTo>
                    <a:lnTo>
                      <a:pt x="496" y="3626"/>
                    </a:lnTo>
                    <a:lnTo>
                      <a:pt x="500" y="3619"/>
                    </a:lnTo>
                    <a:lnTo>
                      <a:pt x="503" y="3613"/>
                    </a:lnTo>
                    <a:lnTo>
                      <a:pt x="506" y="3606"/>
                    </a:lnTo>
                    <a:lnTo>
                      <a:pt x="507" y="3601"/>
                    </a:lnTo>
                    <a:lnTo>
                      <a:pt x="508" y="3594"/>
                    </a:lnTo>
                    <a:lnTo>
                      <a:pt x="507" y="3588"/>
                    </a:lnTo>
                    <a:lnTo>
                      <a:pt x="508" y="3594"/>
                    </a:lnTo>
                    <a:lnTo>
                      <a:pt x="507" y="3601"/>
                    </a:lnTo>
                    <a:lnTo>
                      <a:pt x="506" y="3606"/>
                    </a:lnTo>
                    <a:lnTo>
                      <a:pt x="503" y="3613"/>
                    </a:lnTo>
                    <a:lnTo>
                      <a:pt x="500" y="3619"/>
                    </a:lnTo>
                    <a:lnTo>
                      <a:pt x="496" y="3626"/>
                    </a:lnTo>
                    <a:lnTo>
                      <a:pt x="491" y="3633"/>
                    </a:lnTo>
                    <a:lnTo>
                      <a:pt x="486" y="3639"/>
                    </a:lnTo>
                    <a:lnTo>
                      <a:pt x="471" y="3653"/>
                    </a:lnTo>
                    <a:lnTo>
                      <a:pt x="454" y="3666"/>
                    </a:lnTo>
                    <a:lnTo>
                      <a:pt x="432" y="3680"/>
                    </a:lnTo>
                    <a:lnTo>
                      <a:pt x="408" y="3695"/>
                    </a:lnTo>
                    <a:lnTo>
                      <a:pt x="377" y="3705"/>
                    </a:lnTo>
                    <a:lnTo>
                      <a:pt x="349" y="3714"/>
                    </a:lnTo>
                    <a:lnTo>
                      <a:pt x="324" y="3722"/>
                    </a:lnTo>
                    <a:lnTo>
                      <a:pt x="302" y="3730"/>
                    </a:lnTo>
                    <a:lnTo>
                      <a:pt x="347" y="3808"/>
                    </a:lnTo>
                    <a:lnTo>
                      <a:pt x="287" y="3737"/>
                    </a:lnTo>
                    <a:lnTo>
                      <a:pt x="264" y="3745"/>
                    </a:lnTo>
                    <a:lnTo>
                      <a:pt x="243" y="3752"/>
                    </a:lnTo>
                    <a:lnTo>
                      <a:pt x="222" y="3760"/>
                    </a:lnTo>
                    <a:lnTo>
                      <a:pt x="203" y="3769"/>
                    </a:lnTo>
                    <a:lnTo>
                      <a:pt x="184" y="3778"/>
                    </a:lnTo>
                    <a:lnTo>
                      <a:pt x="167" y="3787"/>
                    </a:lnTo>
                    <a:lnTo>
                      <a:pt x="151" y="3796"/>
                    </a:lnTo>
                    <a:lnTo>
                      <a:pt x="135" y="3806"/>
                    </a:lnTo>
                    <a:lnTo>
                      <a:pt x="121" y="3816"/>
                    </a:lnTo>
                    <a:lnTo>
                      <a:pt x="109" y="3826"/>
                    </a:lnTo>
                    <a:lnTo>
                      <a:pt x="96" y="3836"/>
                    </a:lnTo>
                    <a:lnTo>
                      <a:pt x="85" y="3846"/>
                    </a:lnTo>
                    <a:lnTo>
                      <a:pt x="75" y="3857"/>
                    </a:lnTo>
                    <a:lnTo>
                      <a:pt x="67" y="3868"/>
                    </a:lnTo>
                    <a:lnTo>
                      <a:pt x="60" y="3879"/>
                    </a:lnTo>
                    <a:lnTo>
                      <a:pt x="53" y="3890"/>
                    </a:lnTo>
                    <a:lnTo>
                      <a:pt x="41" y="3913"/>
                    </a:lnTo>
                    <a:lnTo>
                      <a:pt x="30" y="3935"/>
                    </a:lnTo>
                    <a:lnTo>
                      <a:pt x="20" y="3958"/>
                    </a:lnTo>
                    <a:lnTo>
                      <a:pt x="13" y="3978"/>
                    </a:lnTo>
                    <a:lnTo>
                      <a:pt x="6" y="3997"/>
                    </a:lnTo>
                    <a:lnTo>
                      <a:pt x="3" y="4015"/>
                    </a:lnTo>
                    <a:lnTo>
                      <a:pt x="1" y="4033"/>
                    </a:lnTo>
                    <a:lnTo>
                      <a:pt x="0" y="4050"/>
                    </a:lnTo>
                    <a:lnTo>
                      <a:pt x="0" y="4056"/>
                    </a:lnTo>
                    <a:lnTo>
                      <a:pt x="0" y="4064"/>
                    </a:lnTo>
                    <a:lnTo>
                      <a:pt x="3" y="4061"/>
                    </a:lnTo>
                    <a:lnTo>
                      <a:pt x="3" y="4061"/>
                    </a:lnTo>
                    <a:lnTo>
                      <a:pt x="32" y="4052"/>
                    </a:lnTo>
                    <a:lnTo>
                      <a:pt x="63" y="4045"/>
                    </a:lnTo>
                    <a:lnTo>
                      <a:pt x="96" y="4041"/>
                    </a:lnTo>
                    <a:lnTo>
                      <a:pt x="132" y="4037"/>
                    </a:lnTo>
                    <a:lnTo>
                      <a:pt x="168" y="4036"/>
                    </a:lnTo>
                    <a:lnTo>
                      <a:pt x="208" y="4037"/>
                    </a:lnTo>
                    <a:lnTo>
                      <a:pt x="251" y="4041"/>
                    </a:lnTo>
                    <a:lnTo>
                      <a:pt x="294" y="4046"/>
                    </a:lnTo>
                    <a:lnTo>
                      <a:pt x="314" y="4035"/>
                    </a:lnTo>
                    <a:lnTo>
                      <a:pt x="332" y="4025"/>
                    </a:lnTo>
                    <a:lnTo>
                      <a:pt x="350" y="4016"/>
                    </a:lnTo>
                    <a:lnTo>
                      <a:pt x="367" y="4009"/>
                    </a:lnTo>
                    <a:lnTo>
                      <a:pt x="385" y="4002"/>
                    </a:lnTo>
                    <a:lnTo>
                      <a:pt x="401" y="3996"/>
                    </a:lnTo>
                    <a:lnTo>
                      <a:pt x="417" y="3991"/>
                    </a:lnTo>
                    <a:lnTo>
                      <a:pt x="432" y="3988"/>
                    </a:lnTo>
                    <a:lnTo>
                      <a:pt x="448" y="3984"/>
                    </a:lnTo>
                    <a:lnTo>
                      <a:pt x="462" y="3983"/>
                    </a:lnTo>
                    <a:lnTo>
                      <a:pt x="477" y="3982"/>
                    </a:lnTo>
                    <a:lnTo>
                      <a:pt x="490" y="3982"/>
                    </a:lnTo>
                    <a:lnTo>
                      <a:pt x="503" y="3983"/>
                    </a:lnTo>
                    <a:lnTo>
                      <a:pt x="516" y="3985"/>
                    </a:lnTo>
                    <a:lnTo>
                      <a:pt x="528" y="3989"/>
                    </a:lnTo>
                    <a:lnTo>
                      <a:pt x="539" y="3993"/>
                    </a:lnTo>
                    <a:lnTo>
                      <a:pt x="552" y="4002"/>
                    </a:lnTo>
                    <a:lnTo>
                      <a:pt x="566" y="4013"/>
                    </a:lnTo>
                    <a:lnTo>
                      <a:pt x="579" y="4026"/>
                    </a:lnTo>
                    <a:lnTo>
                      <a:pt x="592" y="4039"/>
                    </a:lnTo>
                    <a:lnTo>
                      <a:pt x="881" y="4404"/>
                    </a:lnTo>
                    <a:lnTo>
                      <a:pt x="891" y="4416"/>
                    </a:lnTo>
                    <a:lnTo>
                      <a:pt x="900" y="4426"/>
                    </a:lnTo>
                    <a:lnTo>
                      <a:pt x="909" y="4435"/>
                    </a:lnTo>
                    <a:lnTo>
                      <a:pt x="919" y="4443"/>
                    </a:lnTo>
                    <a:lnTo>
                      <a:pt x="919" y="4445"/>
                    </a:lnTo>
                    <a:lnTo>
                      <a:pt x="919" y="4448"/>
                    </a:lnTo>
                    <a:lnTo>
                      <a:pt x="921" y="4449"/>
                    </a:lnTo>
                    <a:lnTo>
                      <a:pt x="923" y="4451"/>
                    </a:lnTo>
                    <a:lnTo>
                      <a:pt x="941" y="4471"/>
                    </a:lnTo>
                    <a:lnTo>
                      <a:pt x="957" y="4491"/>
                    </a:lnTo>
                    <a:lnTo>
                      <a:pt x="972" y="4510"/>
                    </a:lnTo>
                    <a:lnTo>
                      <a:pt x="984" y="4530"/>
                    </a:lnTo>
                    <a:lnTo>
                      <a:pt x="994" y="4550"/>
                    </a:lnTo>
                    <a:lnTo>
                      <a:pt x="1003" y="4569"/>
                    </a:lnTo>
                    <a:lnTo>
                      <a:pt x="1009" y="4589"/>
                    </a:lnTo>
                    <a:lnTo>
                      <a:pt x="1014" y="4607"/>
                    </a:lnTo>
                    <a:lnTo>
                      <a:pt x="1016" y="4627"/>
                    </a:lnTo>
                    <a:lnTo>
                      <a:pt x="1016" y="4646"/>
                    </a:lnTo>
                    <a:lnTo>
                      <a:pt x="1014" y="4665"/>
                    </a:lnTo>
                    <a:lnTo>
                      <a:pt x="1010" y="4684"/>
                    </a:lnTo>
                    <a:lnTo>
                      <a:pt x="1005" y="4704"/>
                    </a:lnTo>
                    <a:lnTo>
                      <a:pt x="997" y="4722"/>
                    </a:lnTo>
                    <a:lnTo>
                      <a:pt x="987" y="4740"/>
                    </a:lnTo>
                    <a:lnTo>
                      <a:pt x="976" y="4759"/>
                    </a:lnTo>
                    <a:lnTo>
                      <a:pt x="884" y="4791"/>
                    </a:lnTo>
                    <a:lnTo>
                      <a:pt x="883" y="4796"/>
                    </a:lnTo>
                    <a:lnTo>
                      <a:pt x="881" y="4799"/>
                    </a:lnTo>
                    <a:lnTo>
                      <a:pt x="877" y="4801"/>
                    </a:lnTo>
                    <a:lnTo>
                      <a:pt x="873" y="4803"/>
                    </a:lnTo>
                    <a:lnTo>
                      <a:pt x="863" y="4809"/>
                    </a:lnTo>
                    <a:lnTo>
                      <a:pt x="854" y="4816"/>
                    </a:lnTo>
                    <a:lnTo>
                      <a:pt x="844" y="4821"/>
                    </a:lnTo>
                    <a:lnTo>
                      <a:pt x="834" y="4827"/>
                    </a:lnTo>
                    <a:lnTo>
                      <a:pt x="937" y="4841"/>
                    </a:lnTo>
                    <a:lnTo>
                      <a:pt x="947" y="4841"/>
                    </a:lnTo>
                    <a:lnTo>
                      <a:pt x="937" y="4845"/>
                    </a:lnTo>
                    <a:lnTo>
                      <a:pt x="941" y="4873"/>
                    </a:lnTo>
                    <a:lnTo>
                      <a:pt x="947" y="4869"/>
                    </a:lnTo>
                    <a:lnTo>
                      <a:pt x="1008" y="4848"/>
                    </a:lnTo>
                    <a:lnTo>
                      <a:pt x="1012" y="4848"/>
                    </a:lnTo>
                    <a:lnTo>
                      <a:pt x="1061" y="4856"/>
                    </a:lnTo>
                    <a:lnTo>
                      <a:pt x="1093" y="4837"/>
                    </a:lnTo>
                    <a:lnTo>
                      <a:pt x="1116" y="4822"/>
                    </a:lnTo>
                    <a:lnTo>
                      <a:pt x="1132" y="4814"/>
                    </a:lnTo>
                    <a:lnTo>
                      <a:pt x="1139" y="4809"/>
                    </a:lnTo>
                    <a:lnTo>
                      <a:pt x="1157" y="4798"/>
                    </a:lnTo>
                    <a:lnTo>
                      <a:pt x="1172" y="4788"/>
                    </a:lnTo>
                    <a:lnTo>
                      <a:pt x="1188" y="4777"/>
                    </a:lnTo>
                    <a:lnTo>
                      <a:pt x="1203" y="4767"/>
                    </a:lnTo>
                    <a:lnTo>
                      <a:pt x="1210" y="4760"/>
                    </a:lnTo>
                    <a:lnTo>
                      <a:pt x="1217" y="4753"/>
                    </a:lnTo>
                    <a:lnTo>
                      <a:pt x="1225" y="4743"/>
                    </a:lnTo>
                    <a:lnTo>
                      <a:pt x="1232" y="4732"/>
                    </a:lnTo>
                    <a:lnTo>
                      <a:pt x="1249" y="4705"/>
                    </a:lnTo>
                    <a:lnTo>
                      <a:pt x="1267" y="4671"/>
                    </a:lnTo>
                    <a:lnTo>
                      <a:pt x="1272" y="4665"/>
                    </a:lnTo>
                    <a:lnTo>
                      <a:pt x="1286" y="4653"/>
                    </a:lnTo>
                    <a:lnTo>
                      <a:pt x="1308" y="4634"/>
                    </a:lnTo>
                    <a:lnTo>
                      <a:pt x="1338" y="4611"/>
                    </a:lnTo>
                    <a:lnTo>
                      <a:pt x="1348" y="4603"/>
                    </a:lnTo>
                    <a:lnTo>
                      <a:pt x="1355" y="4594"/>
                    </a:lnTo>
                    <a:lnTo>
                      <a:pt x="1363" y="4584"/>
                    </a:lnTo>
                    <a:lnTo>
                      <a:pt x="1371" y="4573"/>
                    </a:lnTo>
                    <a:lnTo>
                      <a:pt x="1378" y="4561"/>
                    </a:lnTo>
                    <a:lnTo>
                      <a:pt x="1383" y="4549"/>
                    </a:lnTo>
                    <a:lnTo>
                      <a:pt x="1389" y="4534"/>
                    </a:lnTo>
                    <a:lnTo>
                      <a:pt x="1394" y="4520"/>
                    </a:lnTo>
                    <a:lnTo>
                      <a:pt x="1399" y="4503"/>
                    </a:lnTo>
                    <a:lnTo>
                      <a:pt x="1402" y="4486"/>
                    </a:lnTo>
                    <a:lnTo>
                      <a:pt x="1405" y="4469"/>
                    </a:lnTo>
                    <a:lnTo>
                      <a:pt x="1409" y="4449"/>
                    </a:lnTo>
                    <a:lnTo>
                      <a:pt x="1410" y="4429"/>
                    </a:lnTo>
                    <a:lnTo>
                      <a:pt x="1412" y="4408"/>
                    </a:lnTo>
                    <a:lnTo>
                      <a:pt x="1412" y="4386"/>
                    </a:lnTo>
                    <a:lnTo>
                      <a:pt x="1413" y="4362"/>
                    </a:lnTo>
                    <a:lnTo>
                      <a:pt x="1414" y="4316"/>
                    </a:lnTo>
                    <a:lnTo>
                      <a:pt x="1415" y="4271"/>
                    </a:lnTo>
                    <a:lnTo>
                      <a:pt x="1416" y="4230"/>
                    </a:lnTo>
                    <a:lnTo>
                      <a:pt x="1419" y="4192"/>
                    </a:lnTo>
                    <a:lnTo>
                      <a:pt x="1420" y="4156"/>
                    </a:lnTo>
                    <a:lnTo>
                      <a:pt x="1422" y="4123"/>
                    </a:lnTo>
                    <a:lnTo>
                      <a:pt x="1424" y="4092"/>
                    </a:lnTo>
                    <a:lnTo>
                      <a:pt x="1428" y="4064"/>
                    </a:lnTo>
                    <a:lnTo>
                      <a:pt x="1438" y="4044"/>
                    </a:lnTo>
                    <a:lnTo>
                      <a:pt x="1452" y="4017"/>
                    </a:lnTo>
                    <a:lnTo>
                      <a:pt x="1470" y="3983"/>
                    </a:lnTo>
                    <a:lnTo>
                      <a:pt x="1491" y="3942"/>
                    </a:lnTo>
                    <a:lnTo>
                      <a:pt x="1514" y="3894"/>
                    </a:lnTo>
                    <a:lnTo>
                      <a:pt x="1542" y="3839"/>
                    </a:lnTo>
                    <a:lnTo>
                      <a:pt x="1572" y="3778"/>
                    </a:lnTo>
                    <a:lnTo>
                      <a:pt x="1605" y="3709"/>
                    </a:lnTo>
                    <a:lnTo>
                      <a:pt x="1605" y="3706"/>
                    </a:lnTo>
                    <a:lnTo>
                      <a:pt x="1616" y="3717"/>
                    </a:lnTo>
                    <a:lnTo>
                      <a:pt x="1628" y="3728"/>
                    </a:lnTo>
                    <a:lnTo>
                      <a:pt x="1641" y="3740"/>
                    </a:lnTo>
                    <a:lnTo>
                      <a:pt x="1654" y="3751"/>
                    </a:lnTo>
                    <a:lnTo>
                      <a:pt x="1641" y="3739"/>
                    </a:lnTo>
                    <a:lnTo>
                      <a:pt x="1628" y="3727"/>
                    </a:lnTo>
                    <a:lnTo>
                      <a:pt x="1617" y="3716"/>
                    </a:lnTo>
                    <a:lnTo>
                      <a:pt x="1608" y="3706"/>
                    </a:lnTo>
                    <a:lnTo>
                      <a:pt x="1583" y="3684"/>
                    </a:lnTo>
                    <a:lnTo>
                      <a:pt x="1570" y="3670"/>
                    </a:lnTo>
                    <a:lnTo>
                      <a:pt x="1562" y="3663"/>
                    </a:lnTo>
                    <a:lnTo>
                      <a:pt x="1548" y="3650"/>
                    </a:lnTo>
                    <a:lnTo>
                      <a:pt x="1541" y="3642"/>
                    </a:lnTo>
                    <a:lnTo>
                      <a:pt x="1555" y="3655"/>
                    </a:lnTo>
                    <a:lnTo>
                      <a:pt x="1577" y="3675"/>
                    </a:lnTo>
                    <a:lnTo>
                      <a:pt x="1607" y="3700"/>
                    </a:lnTo>
                    <a:lnTo>
                      <a:pt x="1644" y="3734"/>
                    </a:lnTo>
                    <a:lnTo>
                      <a:pt x="1651" y="3741"/>
                    </a:lnTo>
                    <a:lnTo>
                      <a:pt x="1621" y="3705"/>
                    </a:lnTo>
                    <a:lnTo>
                      <a:pt x="1591" y="3669"/>
                    </a:lnTo>
                    <a:lnTo>
                      <a:pt x="1563" y="3634"/>
                    </a:lnTo>
                    <a:lnTo>
                      <a:pt x="1537" y="3599"/>
                    </a:lnTo>
                    <a:lnTo>
                      <a:pt x="1512" y="3564"/>
                    </a:lnTo>
                    <a:lnTo>
                      <a:pt x="1489" y="3528"/>
                    </a:lnTo>
                    <a:lnTo>
                      <a:pt x="1466" y="3493"/>
                    </a:lnTo>
                    <a:lnTo>
                      <a:pt x="1445" y="3457"/>
                    </a:lnTo>
                    <a:lnTo>
                      <a:pt x="1426" y="3423"/>
                    </a:lnTo>
                    <a:lnTo>
                      <a:pt x="1409" y="3388"/>
                    </a:lnTo>
                    <a:lnTo>
                      <a:pt x="1392" y="3353"/>
                    </a:lnTo>
                    <a:lnTo>
                      <a:pt x="1378" y="3318"/>
                    </a:lnTo>
                    <a:lnTo>
                      <a:pt x="1364" y="3283"/>
                    </a:lnTo>
                    <a:lnTo>
                      <a:pt x="1352" y="3248"/>
                    </a:lnTo>
                    <a:lnTo>
                      <a:pt x="1341" y="3214"/>
                    </a:lnTo>
                    <a:lnTo>
                      <a:pt x="1332" y="3179"/>
                    </a:lnTo>
                    <a:lnTo>
                      <a:pt x="1324" y="3144"/>
                    </a:lnTo>
                    <a:lnTo>
                      <a:pt x="1318" y="3109"/>
                    </a:lnTo>
                    <a:lnTo>
                      <a:pt x="1313" y="3075"/>
                    </a:lnTo>
                    <a:lnTo>
                      <a:pt x="1310" y="3041"/>
                    </a:lnTo>
                    <a:lnTo>
                      <a:pt x="1308" y="3006"/>
                    </a:lnTo>
                    <a:lnTo>
                      <a:pt x="1307" y="2972"/>
                    </a:lnTo>
                    <a:lnTo>
                      <a:pt x="1308" y="2937"/>
                    </a:lnTo>
                    <a:lnTo>
                      <a:pt x="1310" y="2903"/>
                    </a:lnTo>
                    <a:lnTo>
                      <a:pt x="1314" y="2869"/>
                    </a:lnTo>
                    <a:lnTo>
                      <a:pt x="1319" y="2834"/>
                    </a:lnTo>
                    <a:lnTo>
                      <a:pt x="1326" y="2800"/>
                    </a:lnTo>
                    <a:lnTo>
                      <a:pt x="1334" y="2766"/>
                    </a:lnTo>
                    <a:lnTo>
                      <a:pt x="1343" y="2732"/>
                    </a:lnTo>
                    <a:lnTo>
                      <a:pt x="1354" y="2698"/>
                    </a:lnTo>
                    <a:lnTo>
                      <a:pt x="1367" y="2664"/>
                    </a:lnTo>
                    <a:lnTo>
                      <a:pt x="1381" y="2630"/>
                    </a:lnTo>
                    <a:lnTo>
                      <a:pt x="1409" y="2563"/>
                    </a:lnTo>
                    <a:lnTo>
                      <a:pt x="1434" y="2501"/>
                    </a:lnTo>
                    <a:lnTo>
                      <a:pt x="1458" y="2441"/>
                    </a:lnTo>
                    <a:lnTo>
                      <a:pt x="1479" y="2385"/>
                    </a:lnTo>
                    <a:lnTo>
                      <a:pt x="1497" y="2333"/>
                    </a:lnTo>
                    <a:lnTo>
                      <a:pt x="1515" y="2284"/>
                    </a:lnTo>
                    <a:lnTo>
                      <a:pt x="1531" y="2240"/>
                    </a:lnTo>
                    <a:lnTo>
                      <a:pt x="1543" y="2198"/>
                    </a:lnTo>
                    <a:lnTo>
                      <a:pt x="1554" y="2160"/>
                    </a:lnTo>
                    <a:lnTo>
                      <a:pt x="1563" y="2127"/>
                    </a:lnTo>
                    <a:lnTo>
                      <a:pt x="1570" y="2096"/>
                    </a:lnTo>
                    <a:lnTo>
                      <a:pt x="1575" y="2069"/>
                    </a:lnTo>
                    <a:lnTo>
                      <a:pt x="1577" y="2046"/>
                    </a:lnTo>
                    <a:lnTo>
                      <a:pt x="1577" y="2027"/>
                    </a:lnTo>
                    <a:lnTo>
                      <a:pt x="1577" y="2018"/>
                    </a:lnTo>
                    <a:lnTo>
                      <a:pt x="1576" y="2010"/>
                    </a:lnTo>
                    <a:lnTo>
                      <a:pt x="1575" y="2004"/>
                    </a:lnTo>
                    <a:lnTo>
                      <a:pt x="1573" y="1998"/>
                    </a:lnTo>
                    <a:lnTo>
                      <a:pt x="1567" y="1988"/>
                    </a:lnTo>
                    <a:lnTo>
                      <a:pt x="1564" y="1977"/>
                    </a:lnTo>
                    <a:lnTo>
                      <a:pt x="1561" y="1962"/>
                    </a:lnTo>
                    <a:lnTo>
                      <a:pt x="1558" y="1945"/>
                    </a:lnTo>
                    <a:lnTo>
                      <a:pt x="1557" y="1934"/>
                    </a:lnTo>
                    <a:lnTo>
                      <a:pt x="1555" y="1920"/>
                    </a:lnTo>
                    <a:lnTo>
                      <a:pt x="1551" y="1900"/>
                    </a:lnTo>
                    <a:lnTo>
                      <a:pt x="1546" y="1874"/>
                    </a:lnTo>
                    <a:lnTo>
                      <a:pt x="1540" y="1845"/>
                    </a:lnTo>
                    <a:lnTo>
                      <a:pt x="1532" y="1812"/>
                    </a:lnTo>
                    <a:lnTo>
                      <a:pt x="1522" y="1774"/>
                    </a:lnTo>
                    <a:lnTo>
                      <a:pt x="1512" y="1732"/>
                    </a:lnTo>
                    <a:lnTo>
                      <a:pt x="1502" y="1682"/>
                    </a:lnTo>
                    <a:lnTo>
                      <a:pt x="1492" y="1622"/>
                    </a:lnTo>
                    <a:lnTo>
                      <a:pt x="1482" y="1552"/>
                    </a:lnTo>
                    <a:lnTo>
                      <a:pt x="1472" y="1474"/>
                    </a:lnTo>
                    <a:lnTo>
                      <a:pt x="1461" y="1384"/>
                    </a:lnTo>
                    <a:lnTo>
                      <a:pt x="1451" y="1285"/>
                    </a:lnTo>
                    <a:lnTo>
                      <a:pt x="1441" y="1177"/>
                    </a:lnTo>
                    <a:lnTo>
                      <a:pt x="1431" y="1058"/>
                    </a:lnTo>
                    <a:lnTo>
                      <a:pt x="1441" y="1177"/>
                    </a:lnTo>
                    <a:lnTo>
                      <a:pt x="1451" y="1285"/>
                    </a:lnTo>
                    <a:lnTo>
                      <a:pt x="1461" y="1384"/>
                    </a:lnTo>
                    <a:lnTo>
                      <a:pt x="1472" y="1474"/>
                    </a:lnTo>
                    <a:lnTo>
                      <a:pt x="1482" y="1552"/>
                    </a:lnTo>
                    <a:lnTo>
                      <a:pt x="1492" y="1622"/>
                    </a:lnTo>
                    <a:lnTo>
                      <a:pt x="1502" y="1682"/>
                    </a:lnTo>
                    <a:lnTo>
                      <a:pt x="1512" y="1732"/>
                    </a:lnTo>
                    <a:lnTo>
                      <a:pt x="1522" y="1774"/>
                    </a:lnTo>
                    <a:lnTo>
                      <a:pt x="1532" y="1812"/>
                    </a:lnTo>
                    <a:lnTo>
                      <a:pt x="1540" y="1845"/>
                    </a:lnTo>
                    <a:lnTo>
                      <a:pt x="1546" y="1874"/>
                    </a:lnTo>
                    <a:lnTo>
                      <a:pt x="1551" y="1900"/>
                    </a:lnTo>
                    <a:lnTo>
                      <a:pt x="1555" y="1920"/>
                    </a:lnTo>
                    <a:lnTo>
                      <a:pt x="1557" y="1934"/>
                    </a:lnTo>
                    <a:lnTo>
                      <a:pt x="1558" y="1945"/>
                    </a:lnTo>
                    <a:lnTo>
                      <a:pt x="1561" y="1962"/>
                    </a:lnTo>
                    <a:lnTo>
                      <a:pt x="1564" y="1977"/>
                    </a:lnTo>
                    <a:lnTo>
                      <a:pt x="1567" y="1988"/>
                    </a:lnTo>
                    <a:lnTo>
                      <a:pt x="1573" y="1998"/>
                    </a:lnTo>
                    <a:lnTo>
                      <a:pt x="1575" y="2004"/>
                    </a:lnTo>
                    <a:lnTo>
                      <a:pt x="1576" y="2010"/>
                    </a:lnTo>
                    <a:lnTo>
                      <a:pt x="1577" y="2018"/>
                    </a:lnTo>
                    <a:lnTo>
                      <a:pt x="1577" y="2027"/>
                    </a:lnTo>
                    <a:lnTo>
                      <a:pt x="1577" y="2046"/>
                    </a:lnTo>
                    <a:lnTo>
                      <a:pt x="1575" y="2069"/>
                    </a:lnTo>
                    <a:lnTo>
                      <a:pt x="1570" y="2096"/>
                    </a:lnTo>
                    <a:lnTo>
                      <a:pt x="1563" y="2127"/>
                    </a:lnTo>
                    <a:lnTo>
                      <a:pt x="1554" y="2160"/>
                    </a:lnTo>
                    <a:lnTo>
                      <a:pt x="1543" y="2198"/>
                    </a:lnTo>
                    <a:lnTo>
                      <a:pt x="1531" y="2240"/>
                    </a:lnTo>
                    <a:lnTo>
                      <a:pt x="1515" y="2284"/>
                    </a:lnTo>
                    <a:lnTo>
                      <a:pt x="1497" y="2333"/>
                    </a:lnTo>
                    <a:lnTo>
                      <a:pt x="1479" y="2385"/>
                    </a:lnTo>
                    <a:lnTo>
                      <a:pt x="1458" y="2441"/>
                    </a:lnTo>
                    <a:lnTo>
                      <a:pt x="1434" y="2501"/>
                    </a:lnTo>
                    <a:lnTo>
                      <a:pt x="1409" y="2563"/>
                    </a:lnTo>
                    <a:lnTo>
                      <a:pt x="1381" y="2630"/>
                    </a:lnTo>
                    <a:lnTo>
                      <a:pt x="1367" y="2664"/>
                    </a:lnTo>
                    <a:lnTo>
                      <a:pt x="1354" y="2698"/>
                    </a:lnTo>
                    <a:lnTo>
                      <a:pt x="1343" y="2732"/>
                    </a:lnTo>
                    <a:lnTo>
                      <a:pt x="1334" y="2766"/>
                    </a:lnTo>
                    <a:lnTo>
                      <a:pt x="1326" y="2800"/>
                    </a:lnTo>
                    <a:lnTo>
                      <a:pt x="1319" y="2834"/>
                    </a:lnTo>
                    <a:lnTo>
                      <a:pt x="1314" y="2869"/>
                    </a:lnTo>
                    <a:lnTo>
                      <a:pt x="1310" y="2903"/>
                    </a:lnTo>
                    <a:lnTo>
                      <a:pt x="1308" y="2937"/>
                    </a:lnTo>
                    <a:lnTo>
                      <a:pt x="1307" y="2972"/>
                    </a:lnTo>
                    <a:lnTo>
                      <a:pt x="1308" y="3006"/>
                    </a:lnTo>
                    <a:lnTo>
                      <a:pt x="1310" y="3041"/>
                    </a:lnTo>
                    <a:lnTo>
                      <a:pt x="1313" y="3075"/>
                    </a:lnTo>
                    <a:lnTo>
                      <a:pt x="1318" y="3109"/>
                    </a:lnTo>
                    <a:lnTo>
                      <a:pt x="1324" y="3144"/>
                    </a:lnTo>
                    <a:lnTo>
                      <a:pt x="1332" y="3179"/>
                    </a:lnTo>
                    <a:lnTo>
                      <a:pt x="1341" y="3214"/>
                    </a:lnTo>
                    <a:lnTo>
                      <a:pt x="1352" y="3248"/>
                    </a:lnTo>
                    <a:lnTo>
                      <a:pt x="1364" y="3283"/>
                    </a:lnTo>
                    <a:lnTo>
                      <a:pt x="1378" y="3318"/>
                    </a:lnTo>
                    <a:lnTo>
                      <a:pt x="1392" y="3353"/>
                    </a:lnTo>
                    <a:lnTo>
                      <a:pt x="1409" y="3388"/>
                    </a:lnTo>
                    <a:lnTo>
                      <a:pt x="1426" y="3423"/>
                    </a:lnTo>
                    <a:lnTo>
                      <a:pt x="1445" y="3457"/>
                    </a:lnTo>
                    <a:lnTo>
                      <a:pt x="1466" y="3493"/>
                    </a:lnTo>
                    <a:lnTo>
                      <a:pt x="1489" y="3528"/>
                    </a:lnTo>
                    <a:lnTo>
                      <a:pt x="1512" y="3564"/>
                    </a:lnTo>
                    <a:lnTo>
                      <a:pt x="1537" y="3599"/>
                    </a:lnTo>
                    <a:lnTo>
                      <a:pt x="1563" y="3634"/>
                    </a:lnTo>
                    <a:lnTo>
                      <a:pt x="1591" y="3669"/>
                    </a:lnTo>
                    <a:lnTo>
                      <a:pt x="1621" y="3705"/>
                    </a:lnTo>
                    <a:lnTo>
                      <a:pt x="1651" y="3741"/>
                    </a:lnTo>
                    <a:lnTo>
                      <a:pt x="1676" y="3762"/>
                    </a:lnTo>
                    <a:lnTo>
                      <a:pt x="1672" y="3769"/>
                    </a:lnTo>
                    <a:lnTo>
                      <a:pt x="1668" y="3772"/>
                    </a:lnTo>
                    <a:lnTo>
                      <a:pt x="1683" y="3781"/>
                    </a:lnTo>
                    <a:lnTo>
                      <a:pt x="1696" y="3791"/>
                    </a:lnTo>
                    <a:lnTo>
                      <a:pt x="1709" y="3801"/>
                    </a:lnTo>
                    <a:lnTo>
                      <a:pt x="1722" y="3812"/>
                    </a:lnTo>
                    <a:lnTo>
                      <a:pt x="1735" y="3825"/>
                    </a:lnTo>
                    <a:lnTo>
                      <a:pt x="1747" y="3837"/>
                    </a:lnTo>
                    <a:lnTo>
                      <a:pt x="1759" y="3850"/>
                    </a:lnTo>
                    <a:lnTo>
                      <a:pt x="1771" y="3864"/>
                    </a:lnTo>
                    <a:lnTo>
                      <a:pt x="1783" y="3879"/>
                    </a:lnTo>
                    <a:lnTo>
                      <a:pt x="1794" y="3894"/>
                    </a:lnTo>
                    <a:lnTo>
                      <a:pt x="1805" y="3911"/>
                    </a:lnTo>
                    <a:lnTo>
                      <a:pt x="1816" y="3929"/>
                    </a:lnTo>
                    <a:lnTo>
                      <a:pt x="1826" y="3946"/>
                    </a:lnTo>
                    <a:lnTo>
                      <a:pt x="1836" y="3965"/>
                    </a:lnTo>
                    <a:lnTo>
                      <a:pt x="1846" y="3985"/>
                    </a:lnTo>
                    <a:lnTo>
                      <a:pt x="1856" y="4005"/>
                    </a:lnTo>
                    <a:lnTo>
                      <a:pt x="1875" y="4048"/>
                    </a:lnTo>
                    <a:lnTo>
                      <a:pt x="1891" y="4095"/>
                    </a:lnTo>
                    <a:lnTo>
                      <a:pt x="1908" y="4144"/>
                    </a:lnTo>
                    <a:lnTo>
                      <a:pt x="1923" y="4197"/>
                    </a:lnTo>
                    <a:lnTo>
                      <a:pt x="1937" y="4253"/>
                    </a:lnTo>
                    <a:lnTo>
                      <a:pt x="1950" y="4312"/>
                    </a:lnTo>
                    <a:lnTo>
                      <a:pt x="1962" y="4374"/>
                    </a:lnTo>
                    <a:lnTo>
                      <a:pt x="1973" y="4440"/>
                    </a:lnTo>
                    <a:lnTo>
                      <a:pt x="1981" y="4494"/>
                    </a:lnTo>
                    <a:lnTo>
                      <a:pt x="1986" y="4546"/>
                    </a:lnTo>
                    <a:lnTo>
                      <a:pt x="1989" y="4594"/>
                    </a:lnTo>
                    <a:lnTo>
                      <a:pt x="1990" y="4640"/>
                    </a:lnTo>
                    <a:lnTo>
                      <a:pt x="1989" y="4682"/>
                    </a:lnTo>
                    <a:lnTo>
                      <a:pt x="1986" y="4720"/>
                    </a:lnTo>
                    <a:lnTo>
                      <a:pt x="1983" y="4738"/>
                    </a:lnTo>
                    <a:lnTo>
                      <a:pt x="1981" y="4756"/>
                    </a:lnTo>
                    <a:lnTo>
                      <a:pt x="1978" y="4773"/>
                    </a:lnTo>
                    <a:lnTo>
                      <a:pt x="1973" y="4788"/>
                    </a:lnTo>
                    <a:lnTo>
                      <a:pt x="2070" y="4653"/>
                    </a:lnTo>
                    <a:lnTo>
                      <a:pt x="2091" y="4634"/>
                    </a:lnTo>
                    <a:lnTo>
                      <a:pt x="2112" y="4616"/>
                    </a:lnTo>
                    <a:lnTo>
                      <a:pt x="2132" y="4602"/>
                    </a:lnTo>
                    <a:lnTo>
                      <a:pt x="2151" y="4590"/>
                    </a:lnTo>
                    <a:lnTo>
                      <a:pt x="2170" y="4581"/>
                    </a:lnTo>
                    <a:lnTo>
                      <a:pt x="2186" y="4573"/>
                    </a:lnTo>
                    <a:lnTo>
                      <a:pt x="2203" y="4569"/>
                    </a:lnTo>
                    <a:lnTo>
                      <a:pt x="2220" y="4566"/>
                    </a:lnTo>
                    <a:lnTo>
                      <a:pt x="2227" y="4566"/>
                    </a:lnTo>
                    <a:lnTo>
                      <a:pt x="2234" y="4566"/>
                    </a:lnTo>
                    <a:lnTo>
                      <a:pt x="2242" y="4567"/>
                    </a:lnTo>
                    <a:lnTo>
                      <a:pt x="2249" y="4569"/>
                    </a:lnTo>
                    <a:lnTo>
                      <a:pt x="2255" y="4572"/>
                    </a:lnTo>
                    <a:lnTo>
                      <a:pt x="2262" y="4574"/>
                    </a:lnTo>
                    <a:lnTo>
                      <a:pt x="2268" y="4579"/>
                    </a:lnTo>
                    <a:lnTo>
                      <a:pt x="2275" y="4582"/>
                    </a:lnTo>
                    <a:lnTo>
                      <a:pt x="2281" y="4587"/>
                    </a:lnTo>
                    <a:lnTo>
                      <a:pt x="2287" y="4593"/>
                    </a:lnTo>
                    <a:lnTo>
                      <a:pt x="2293" y="4598"/>
                    </a:lnTo>
                    <a:lnTo>
                      <a:pt x="2298" y="4605"/>
                    </a:lnTo>
                    <a:lnTo>
                      <a:pt x="2308" y="4621"/>
                    </a:lnTo>
                    <a:lnTo>
                      <a:pt x="2318" y="4638"/>
                    </a:lnTo>
                    <a:lnTo>
                      <a:pt x="2341" y="4606"/>
                    </a:lnTo>
                    <a:lnTo>
                      <a:pt x="2363" y="4577"/>
                    </a:lnTo>
                    <a:lnTo>
                      <a:pt x="2384" y="4550"/>
                    </a:lnTo>
                    <a:lnTo>
                      <a:pt x="2405" y="4525"/>
                    </a:lnTo>
                    <a:lnTo>
                      <a:pt x="2426" y="4502"/>
                    </a:lnTo>
                    <a:lnTo>
                      <a:pt x="2445" y="4483"/>
                    </a:lnTo>
                    <a:lnTo>
                      <a:pt x="2464" y="4465"/>
                    </a:lnTo>
                    <a:lnTo>
                      <a:pt x="2481" y="4451"/>
                    </a:lnTo>
                    <a:lnTo>
                      <a:pt x="2497" y="4437"/>
                    </a:lnTo>
                    <a:lnTo>
                      <a:pt x="2514" y="4424"/>
                    </a:lnTo>
                    <a:lnTo>
                      <a:pt x="2528" y="4414"/>
                    </a:lnTo>
                    <a:lnTo>
                      <a:pt x="2542" y="4408"/>
                    </a:lnTo>
                    <a:lnTo>
                      <a:pt x="2554" y="4406"/>
                    </a:lnTo>
                    <a:lnTo>
                      <a:pt x="2564" y="4404"/>
                    </a:lnTo>
                    <a:lnTo>
                      <a:pt x="2575" y="4403"/>
                    </a:lnTo>
                    <a:lnTo>
                      <a:pt x="2585" y="4403"/>
                    </a:lnTo>
                    <a:lnTo>
                      <a:pt x="2595" y="4403"/>
                    </a:lnTo>
                    <a:lnTo>
                      <a:pt x="2604" y="4404"/>
                    </a:lnTo>
                    <a:lnTo>
                      <a:pt x="2613" y="4407"/>
                    </a:lnTo>
                    <a:lnTo>
                      <a:pt x="2622" y="4410"/>
                    </a:lnTo>
                    <a:lnTo>
                      <a:pt x="2630" y="4413"/>
                    </a:lnTo>
                    <a:lnTo>
                      <a:pt x="2639" y="4418"/>
                    </a:lnTo>
                    <a:lnTo>
                      <a:pt x="2647" y="4423"/>
                    </a:lnTo>
                    <a:lnTo>
                      <a:pt x="2653" y="4430"/>
                    </a:lnTo>
                    <a:lnTo>
                      <a:pt x="2661" y="4438"/>
                    </a:lnTo>
                    <a:lnTo>
                      <a:pt x="2668" y="4445"/>
                    </a:lnTo>
                    <a:lnTo>
                      <a:pt x="2675" y="4454"/>
                    </a:lnTo>
                    <a:lnTo>
                      <a:pt x="2680" y="4465"/>
                    </a:lnTo>
                    <a:lnTo>
                      <a:pt x="2686" y="4477"/>
                    </a:lnTo>
                    <a:lnTo>
                      <a:pt x="2689" y="4489"/>
                    </a:lnTo>
                    <a:lnTo>
                      <a:pt x="2693" y="4501"/>
                    </a:lnTo>
                    <a:lnTo>
                      <a:pt x="2698" y="4514"/>
                    </a:lnTo>
                    <a:lnTo>
                      <a:pt x="2702" y="4523"/>
                    </a:lnTo>
                    <a:lnTo>
                      <a:pt x="2706" y="4532"/>
                    </a:lnTo>
                    <a:lnTo>
                      <a:pt x="2717" y="4522"/>
                    </a:lnTo>
                    <a:lnTo>
                      <a:pt x="2729" y="4512"/>
                    </a:lnTo>
                    <a:lnTo>
                      <a:pt x="2742" y="4503"/>
                    </a:lnTo>
                    <a:lnTo>
                      <a:pt x="2755" y="4496"/>
                    </a:lnTo>
                    <a:lnTo>
                      <a:pt x="2764" y="4491"/>
                    </a:lnTo>
                    <a:lnTo>
                      <a:pt x="2773" y="4485"/>
                    </a:lnTo>
                    <a:lnTo>
                      <a:pt x="2783" y="4480"/>
                    </a:lnTo>
                    <a:lnTo>
                      <a:pt x="2792" y="4477"/>
                    </a:lnTo>
                    <a:lnTo>
                      <a:pt x="2801" y="4473"/>
                    </a:lnTo>
                    <a:lnTo>
                      <a:pt x="2810" y="4470"/>
                    </a:lnTo>
                    <a:lnTo>
                      <a:pt x="2818" y="4469"/>
                    </a:lnTo>
                    <a:lnTo>
                      <a:pt x="2826" y="4469"/>
                    </a:lnTo>
                    <a:lnTo>
                      <a:pt x="2831" y="4469"/>
                    </a:lnTo>
                    <a:lnTo>
                      <a:pt x="2833" y="4469"/>
                    </a:lnTo>
                    <a:lnTo>
                      <a:pt x="2843" y="4471"/>
                    </a:lnTo>
                    <a:lnTo>
                      <a:pt x="2852" y="4473"/>
                    </a:lnTo>
                    <a:lnTo>
                      <a:pt x="2861" y="4475"/>
                    </a:lnTo>
                    <a:lnTo>
                      <a:pt x="2869" y="4475"/>
                    </a:lnTo>
                    <a:lnTo>
                      <a:pt x="2888" y="4482"/>
                    </a:lnTo>
                    <a:lnTo>
                      <a:pt x="2905" y="4489"/>
                    </a:lnTo>
                    <a:lnTo>
                      <a:pt x="2922" y="4498"/>
                    </a:lnTo>
                    <a:lnTo>
                      <a:pt x="2936" y="4508"/>
                    </a:lnTo>
                    <a:lnTo>
                      <a:pt x="2982" y="4499"/>
                    </a:lnTo>
                    <a:lnTo>
                      <a:pt x="3025" y="4491"/>
                    </a:lnTo>
                    <a:lnTo>
                      <a:pt x="3067" y="4484"/>
                    </a:lnTo>
                    <a:lnTo>
                      <a:pt x="3107" y="4478"/>
                    </a:lnTo>
                    <a:lnTo>
                      <a:pt x="3145" y="4472"/>
                    </a:lnTo>
                    <a:lnTo>
                      <a:pt x="3181" y="4468"/>
                    </a:lnTo>
                    <a:lnTo>
                      <a:pt x="3216" y="4464"/>
                    </a:lnTo>
                    <a:lnTo>
                      <a:pt x="3249" y="4461"/>
                    </a:lnTo>
                    <a:lnTo>
                      <a:pt x="3251" y="4423"/>
                    </a:lnTo>
                    <a:lnTo>
                      <a:pt x="3252" y="4384"/>
                    </a:lnTo>
                    <a:lnTo>
                      <a:pt x="3255" y="4346"/>
                    </a:lnTo>
                    <a:lnTo>
                      <a:pt x="3256" y="4308"/>
                    </a:lnTo>
                    <a:lnTo>
                      <a:pt x="3256" y="4269"/>
                    </a:lnTo>
                    <a:lnTo>
                      <a:pt x="3257" y="4231"/>
                    </a:lnTo>
                    <a:lnTo>
                      <a:pt x="3258" y="4194"/>
                    </a:lnTo>
                    <a:lnTo>
                      <a:pt x="3259" y="4156"/>
                    </a:lnTo>
                    <a:lnTo>
                      <a:pt x="3259" y="4135"/>
                    </a:lnTo>
                    <a:lnTo>
                      <a:pt x="3258" y="4115"/>
                    </a:lnTo>
                    <a:lnTo>
                      <a:pt x="3256" y="4095"/>
                    </a:lnTo>
                    <a:lnTo>
                      <a:pt x="3254" y="4075"/>
                    </a:lnTo>
                    <a:lnTo>
                      <a:pt x="3251" y="4056"/>
                    </a:lnTo>
                    <a:lnTo>
                      <a:pt x="3247" y="4037"/>
                    </a:lnTo>
                    <a:lnTo>
                      <a:pt x="3243" y="4019"/>
                    </a:lnTo>
                    <a:lnTo>
                      <a:pt x="3238" y="4000"/>
                    </a:lnTo>
                    <a:lnTo>
                      <a:pt x="3211" y="3919"/>
                    </a:lnTo>
                    <a:lnTo>
                      <a:pt x="3187" y="3837"/>
                    </a:lnTo>
                    <a:lnTo>
                      <a:pt x="3163" y="3755"/>
                    </a:lnTo>
                    <a:lnTo>
                      <a:pt x="3139" y="3673"/>
                    </a:lnTo>
                    <a:lnTo>
                      <a:pt x="3117" y="3591"/>
                    </a:lnTo>
                    <a:lnTo>
                      <a:pt x="3096" y="3508"/>
                    </a:lnTo>
                    <a:lnTo>
                      <a:pt x="3076" y="3425"/>
                    </a:lnTo>
                    <a:lnTo>
                      <a:pt x="3057" y="3343"/>
                    </a:lnTo>
                    <a:lnTo>
                      <a:pt x="3045" y="3291"/>
                    </a:lnTo>
                    <a:lnTo>
                      <a:pt x="3035" y="3239"/>
                    </a:lnTo>
                    <a:lnTo>
                      <a:pt x="3026" y="3187"/>
                    </a:lnTo>
                    <a:lnTo>
                      <a:pt x="3018" y="3135"/>
                    </a:lnTo>
                    <a:lnTo>
                      <a:pt x="3012" y="3083"/>
                    </a:lnTo>
                    <a:lnTo>
                      <a:pt x="3007" y="3031"/>
                    </a:lnTo>
                    <a:lnTo>
                      <a:pt x="3005" y="2978"/>
                    </a:lnTo>
                    <a:lnTo>
                      <a:pt x="3003" y="2925"/>
                    </a:lnTo>
                    <a:lnTo>
                      <a:pt x="3003" y="2873"/>
                    </a:lnTo>
                    <a:lnTo>
                      <a:pt x="3004" y="2820"/>
                    </a:lnTo>
                    <a:lnTo>
                      <a:pt x="3007" y="2768"/>
                    </a:lnTo>
                    <a:lnTo>
                      <a:pt x="3012" y="2715"/>
                    </a:lnTo>
                    <a:lnTo>
                      <a:pt x="3017" y="2661"/>
                    </a:lnTo>
                    <a:lnTo>
                      <a:pt x="3024" y="2608"/>
                    </a:lnTo>
                    <a:lnTo>
                      <a:pt x="3033" y="2555"/>
                    </a:lnTo>
                    <a:lnTo>
                      <a:pt x="3043" y="2502"/>
                    </a:lnTo>
                    <a:lnTo>
                      <a:pt x="3053" y="2454"/>
                    </a:lnTo>
                    <a:lnTo>
                      <a:pt x="3063" y="2405"/>
                    </a:lnTo>
                    <a:lnTo>
                      <a:pt x="3073" y="2356"/>
                    </a:lnTo>
                    <a:lnTo>
                      <a:pt x="3082" y="2308"/>
                    </a:lnTo>
                    <a:lnTo>
                      <a:pt x="3092" y="2259"/>
                    </a:lnTo>
                    <a:lnTo>
                      <a:pt x="3101" y="2209"/>
                    </a:lnTo>
                    <a:lnTo>
                      <a:pt x="3110" y="2160"/>
                    </a:lnTo>
                    <a:lnTo>
                      <a:pt x="3119" y="2111"/>
                    </a:lnTo>
                    <a:lnTo>
                      <a:pt x="3128" y="2063"/>
                    </a:lnTo>
                    <a:lnTo>
                      <a:pt x="3137" y="2013"/>
                    </a:lnTo>
                    <a:lnTo>
                      <a:pt x="3146" y="1964"/>
                    </a:lnTo>
                    <a:lnTo>
                      <a:pt x="3155" y="1915"/>
                    </a:lnTo>
                    <a:lnTo>
                      <a:pt x="3164" y="1865"/>
                    </a:lnTo>
                    <a:lnTo>
                      <a:pt x="3172" y="1816"/>
                    </a:lnTo>
                    <a:lnTo>
                      <a:pt x="3180" y="1766"/>
                    </a:lnTo>
                    <a:lnTo>
                      <a:pt x="3188" y="1718"/>
                    </a:lnTo>
                    <a:lnTo>
                      <a:pt x="3176" y="1631"/>
                    </a:lnTo>
                    <a:lnTo>
                      <a:pt x="3165" y="1557"/>
                    </a:lnTo>
                    <a:lnTo>
                      <a:pt x="3155" y="1493"/>
                    </a:lnTo>
                    <a:lnTo>
                      <a:pt x="3146" y="1440"/>
                    </a:lnTo>
                    <a:lnTo>
                      <a:pt x="3139" y="1399"/>
                    </a:lnTo>
                    <a:lnTo>
                      <a:pt x="3134" y="1368"/>
                    </a:lnTo>
                    <a:lnTo>
                      <a:pt x="3130" y="1350"/>
                    </a:lnTo>
                    <a:lnTo>
                      <a:pt x="3128" y="1342"/>
                    </a:lnTo>
                    <a:close/>
                    <a:moveTo>
                      <a:pt x="692" y="3826"/>
                    </a:moveTo>
                    <a:lnTo>
                      <a:pt x="694" y="3826"/>
                    </a:lnTo>
                    <a:lnTo>
                      <a:pt x="698" y="3827"/>
                    </a:lnTo>
                    <a:lnTo>
                      <a:pt x="700" y="3828"/>
                    </a:lnTo>
                    <a:lnTo>
                      <a:pt x="703" y="3830"/>
                    </a:lnTo>
                    <a:lnTo>
                      <a:pt x="732" y="3841"/>
                    </a:lnTo>
                    <a:lnTo>
                      <a:pt x="762" y="3853"/>
                    </a:lnTo>
                    <a:lnTo>
                      <a:pt x="792" y="3867"/>
                    </a:lnTo>
                    <a:lnTo>
                      <a:pt x="822" y="3882"/>
                    </a:lnTo>
                    <a:lnTo>
                      <a:pt x="851" y="3899"/>
                    </a:lnTo>
                    <a:lnTo>
                      <a:pt x="881" y="3915"/>
                    </a:lnTo>
                    <a:lnTo>
                      <a:pt x="909" y="3934"/>
                    </a:lnTo>
                    <a:lnTo>
                      <a:pt x="938" y="3954"/>
                    </a:lnTo>
                    <a:lnTo>
                      <a:pt x="967" y="3976"/>
                    </a:lnTo>
                    <a:lnTo>
                      <a:pt x="996" y="3999"/>
                    </a:lnTo>
                    <a:lnTo>
                      <a:pt x="1025" y="4022"/>
                    </a:lnTo>
                    <a:lnTo>
                      <a:pt x="1054" y="4047"/>
                    </a:lnTo>
                    <a:lnTo>
                      <a:pt x="1081" y="4074"/>
                    </a:lnTo>
                    <a:lnTo>
                      <a:pt x="1109" y="4101"/>
                    </a:lnTo>
                    <a:lnTo>
                      <a:pt x="1137" y="4129"/>
                    </a:lnTo>
                    <a:lnTo>
                      <a:pt x="1165" y="4159"/>
                    </a:lnTo>
                    <a:lnTo>
                      <a:pt x="1137" y="4129"/>
                    </a:lnTo>
                    <a:lnTo>
                      <a:pt x="1109" y="4101"/>
                    </a:lnTo>
                    <a:lnTo>
                      <a:pt x="1081" y="4074"/>
                    </a:lnTo>
                    <a:lnTo>
                      <a:pt x="1054" y="4047"/>
                    </a:lnTo>
                    <a:lnTo>
                      <a:pt x="1025" y="4022"/>
                    </a:lnTo>
                    <a:lnTo>
                      <a:pt x="996" y="3999"/>
                    </a:lnTo>
                    <a:lnTo>
                      <a:pt x="967" y="3976"/>
                    </a:lnTo>
                    <a:lnTo>
                      <a:pt x="938" y="3954"/>
                    </a:lnTo>
                    <a:lnTo>
                      <a:pt x="909" y="3934"/>
                    </a:lnTo>
                    <a:lnTo>
                      <a:pt x="881" y="3915"/>
                    </a:lnTo>
                    <a:lnTo>
                      <a:pt x="851" y="3899"/>
                    </a:lnTo>
                    <a:lnTo>
                      <a:pt x="822" y="3882"/>
                    </a:lnTo>
                    <a:lnTo>
                      <a:pt x="792" y="3867"/>
                    </a:lnTo>
                    <a:lnTo>
                      <a:pt x="762" y="3853"/>
                    </a:lnTo>
                    <a:lnTo>
                      <a:pt x="732" y="3841"/>
                    </a:lnTo>
                    <a:lnTo>
                      <a:pt x="703" y="3830"/>
                    </a:lnTo>
                    <a:lnTo>
                      <a:pt x="700" y="3828"/>
                    </a:lnTo>
                    <a:lnTo>
                      <a:pt x="698" y="3827"/>
                    </a:lnTo>
                    <a:lnTo>
                      <a:pt x="694" y="3826"/>
                    </a:lnTo>
                    <a:lnTo>
                      <a:pt x="692" y="3826"/>
                    </a:lnTo>
                    <a:lnTo>
                      <a:pt x="663" y="3816"/>
                    </a:lnTo>
                    <a:lnTo>
                      <a:pt x="633" y="3807"/>
                    </a:lnTo>
                    <a:lnTo>
                      <a:pt x="604" y="3800"/>
                    </a:lnTo>
                    <a:lnTo>
                      <a:pt x="574" y="3793"/>
                    </a:lnTo>
                    <a:lnTo>
                      <a:pt x="546" y="3788"/>
                    </a:lnTo>
                    <a:lnTo>
                      <a:pt x="516" y="3783"/>
                    </a:lnTo>
                    <a:lnTo>
                      <a:pt x="487" y="3779"/>
                    </a:lnTo>
                    <a:lnTo>
                      <a:pt x="458" y="3777"/>
                    </a:lnTo>
                    <a:lnTo>
                      <a:pt x="487" y="3779"/>
                    </a:lnTo>
                    <a:lnTo>
                      <a:pt x="516" y="3783"/>
                    </a:lnTo>
                    <a:lnTo>
                      <a:pt x="546" y="3788"/>
                    </a:lnTo>
                    <a:lnTo>
                      <a:pt x="574" y="3793"/>
                    </a:lnTo>
                    <a:lnTo>
                      <a:pt x="604" y="3800"/>
                    </a:lnTo>
                    <a:lnTo>
                      <a:pt x="633" y="3807"/>
                    </a:lnTo>
                    <a:lnTo>
                      <a:pt x="663" y="3816"/>
                    </a:lnTo>
                    <a:lnTo>
                      <a:pt x="692" y="3826"/>
                    </a:lnTo>
                    <a:close/>
                    <a:moveTo>
                      <a:pt x="503" y="3435"/>
                    </a:moveTo>
                    <a:lnTo>
                      <a:pt x="523" y="3434"/>
                    </a:lnTo>
                    <a:lnTo>
                      <a:pt x="542" y="3433"/>
                    </a:lnTo>
                    <a:lnTo>
                      <a:pt x="561" y="3434"/>
                    </a:lnTo>
                    <a:lnTo>
                      <a:pt x="580" y="3435"/>
                    </a:lnTo>
                    <a:lnTo>
                      <a:pt x="598" y="3439"/>
                    </a:lnTo>
                    <a:lnTo>
                      <a:pt x="617" y="3442"/>
                    </a:lnTo>
                    <a:lnTo>
                      <a:pt x="634" y="3446"/>
                    </a:lnTo>
                    <a:lnTo>
                      <a:pt x="653" y="3452"/>
                    </a:lnTo>
                    <a:lnTo>
                      <a:pt x="671" y="3459"/>
                    </a:lnTo>
                    <a:lnTo>
                      <a:pt x="689" y="3466"/>
                    </a:lnTo>
                    <a:lnTo>
                      <a:pt x="706" y="3475"/>
                    </a:lnTo>
                    <a:lnTo>
                      <a:pt x="723" y="3485"/>
                    </a:lnTo>
                    <a:lnTo>
                      <a:pt x="741" y="3496"/>
                    </a:lnTo>
                    <a:lnTo>
                      <a:pt x="758" y="3507"/>
                    </a:lnTo>
                    <a:lnTo>
                      <a:pt x="774" y="3521"/>
                    </a:lnTo>
                    <a:lnTo>
                      <a:pt x="792" y="3535"/>
                    </a:lnTo>
                    <a:lnTo>
                      <a:pt x="774" y="3521"/>
                    </a:lnTo>
                    <a:lnTo>
                      <a:pt x="758" y="3507"/>
                    </a:lnTo>
                    <a:lnTo>
                      <a:pt x="741" y="3496"/>
                    </a:lnTo>
                    <a:lnTo>
                      <a:pt x="723" y="3485"/>
                    </a:lnTo>
                    <a:lnTo>
                      <a:pt x="706" y="3475"/>
                    </a:lnTo>
                    <a:lnTo>
                      <a:pt x="689" y="3466"/>
                    </a:lnTo>
                    <a:lnTo>
                      <a:pt x="671" y="3459"/>
                    </a:lnTo>
                    <a:lnTo>
                      <a:pt x="653" y="3452"/>
                    </a:lnTo>
                    <a:lnTo>
                      <a:pt x="634" y="3446"/>
                    </a:lnTo>
                    <a:lnTo>
                      <a:pt x="617" y="3442"/>
                    </a:lnTo>
                    <a:lnTo>
                      <a:pt x="598" y="3439"/>
                    </a:lnTo>
                    <a:lnTo>
                      <a:pt x="580" y="3435"/>
                    </a:lnTo>
                    <a:lnTo>
                      <a:pt x="561" y="3434"/>
                    </a:lnTo>
                    <a:lnTo>
                      <a:pt x="542" y="3433"/>
                    </a:lnTo>
                    <a:lnTo>
                      <a:pt x="523" y="3434"/>
                    </a:lnTo>
                    <a:lnTo>
                      <a:pt x="503" y="3435"/>
                    </a:lnTo>
                    <a:close/>
                    <a:moveTo>
                      <a:pt x="2609" y="3624"/>
                    </a:moveTo>
                    <a:lnTo>
                      <a:pt x="2581" y="3633"/>
                    </a:lnTo>
                    <a:lnTo>
                      <a:pt x="2551" y="3642"/>
                    </a:lnTo>
                    <a:lnTo>
                      <a:pt x="2521" y="3650"/>
                    </a:lnTo>
                    <a:lnTo>
                      <a:pt x="2489" y="3658"/>
                    </a:lnTo>
                    <a:lnTo>
                      <a:pt x="2457" y="3665"/>
                    </a:lnTo>
                    <a:lnTo>
                      <a:pt x="2424" y="3673"/>
                    </a:lnTo>
                    <a:lnTo>
                      <a:pt x="2389" y="3678"/>
                    </a:lnTo>
                    <a:lnTo>
                      <a:pt x="2354" y="3684"/>
                    </a:lnTo>
                    <a:lnTo>
                      <a:pt x="2389" y="3678"/>
                    </a:lnTo>
                    <a:lnTo>
                      <a:pt x="2424" y="3673"/>
                    </a:lnTo>
                    <a:lnTo>
                      <a:pt x="2457" y="3665"/>
                    </a:lnTo>
                    <a:lnTo>
                      <a:pt x="2489" y="3658"/>
                    </a:lnTo>
                    <a:lnTo>
                      <a:pt x="2521" y="3650"/>
                    </a:lnTo>
                    <a:lnTo>
                      <a:pt x="2551" y="3642"/>
                    </a:lnTo>
                    <a:lnTo>
                      <a:pt x="2581" y="3633"/>
                    </a:lnTo>
                    <a:lnTo>
                      <a:pt x="2609" y="3624"/>
                    </a:lnTo>
                    <a:lnTo>
                      <a:pt x="2625" y="3620"/>
                    </a:lnTo>
                    <a:lnTo>
                      <a:pt x="2640" y="3617"/>
                    </a:lnTo>
                    <a:lnTo>
                      <a:pt x="2655" y="3613"/>
                    </a:lnTo>
                    <a:lnTo>
                      <a:pt x="2670" y="3609"/>
                    </a:lnTo>
                    <a:lnTo>
                      <a:pt x="2700" y="3601"/>
                    </a:lnTo>
                    <a:lnTo>
                      <a:pt x="2729" y="3591"/>
                    </a:lnTo>
                    <a:lnTo>
                      <a:pt x="2758" y="3578"/>
                    </a:lnTo>
                    <a:lnTo>
                      <a:pt x="2784" y="3564"/>
                    </a:lnTo>
                    <a:lnTo>
                      <a:pt x="2811" y="3548"/>
                    </a:lnTo>
                    <a:lnTo>
                      <a:pt x="2838" y="3532"/>
                    </a:lnTo>
                    <a:lnTo>
                      <a:pt x="2862" y="3513"/>
                    </a:lnTo>
                    <a:lnTo>
                      <a:pt x="2886" y="3492"/>
                    </a:lnTo>
                    <a:lnTo>
                      <a:pt x="2862" y="3513"/>
                    </a:lnTo>
                    <a:lnTo>
                      <a:pt x="2838" y="3532"/>
                    </a:lnTo>
                    <a:lnTo>
                      <a:pt x="2811" y="3548"/>
                    </a:lnTo>
                    <a:lnTo>
                      <a:pt x="2784" y="3564"/>
                    </a:lnTo>
                    <a:lnTo>
                      <a:pt x="2758" y="3578"/>
                    </a:lnTo>
                    <a:lnTo>
                      <a:pt x="2729" y="3591"/>
                    </a:lnTo>
                    <a:lnTo>
                      <a:pt x="2700" y="3601"/>
                    </a:lnTo>
                    <a:lnTo>
                      <a:pt x="2670" y="3609"/>
                    </a:lnTo>
                    <a:lnTo>
                      <a:pt x="2655" y="3613"/>
                    </a:lnTo>
                    <a:lnTo>
                      <a:pt x="2640" y="3617"/>
                    </a:lnTo>
                    <a:lnTo>
                      <a:pt x="2625" y="3620"/>
                    </a:lnTo>
                    <a:lnTo>
                      <a:pt x="2609" y="3624"/>
                    </a:lnTo>
                    <a:close/>
                  </a:path>
                </a:pathLst>
              </a:custGeom>
              <a:solidFill>
                <a:srgbClr val="bbb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271"/>
              <p:cNvSpPr/>
              <p:nvPr/>
            </p:nvSpPr>
            <p:spPr>
              <a:xfrm>
                <a:off x="5972760" y="49636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3"/>
                    </a:moveTo>
                    <a:lnTo>
                      <a:pt x="1" y="8"/>
                    </a:lnTo>
                    <a:lnTo>
                      <a:pt x="0" y="12"/>
                    </a:lnTo>
                    <a:lnTo>
                      <a:pt x="1" y="15"/>
                    </a:lnTo>
                    <a:lnTo>
                      <a:pt x="2" y="18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4e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272"/>
              <p:cNvSpPr/>
              <p:nvPr/>
            </p:nvSpPr>
            <p:spPr>
              <a:xfrm>
                <a:off x="5972760" y="496368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3" y="15"/>
                    </a:moveTo>
                    <a:lnTo>
                      <a:pt x="2" y="12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1" y="9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e4e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273"/>
              <p:cNvSpPr/>
              <p:nvPr/>
            </p:nvSpPr>
            <p:spPr>
              <a:xfrm>
                <a:off x="5972760" y="4952160"/>
                <a:ext cx="720" cy="11520"/>
              </a:xfrm>
              <a:custGeom>
                <a:avLst/>
                <a:gdLst/>
                <a:ahLst/>
                <a:rect l="l" t="t" r="r" b="b"/>
                <a:pathLst>
                  <a:path w="12" h="138">
                    <a:moveTo>
                      <a:pt x="0" y="138"/>
                    </a:moveTo>
                    <a:lnTo>
                      <a:pt x="0" y="137"/>
                    </a:lnTo>
                    <a:lnTo>
                      <a:pt x="0" y="135"/>
                    </a:lnTo>
                    <a:lnTo>
                      <a:pt x="12" y="0"/>
                    </a:lnTo>
                    <a:lnTo>
                      <a:pt x="9" y="16"/>
                    </a:lnTo>
                    <a:lnTo>
                      <a:pt x="6" y="45"/>
                    </a:lnTo>
                    <a:lnTo>
                      <a:pt x="4" y="86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e4e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274"/>
              <p:cNvSpPr/>
              <p:nvPr/>
            </p:nvSpPr>
            <p:spPr>
              <a:xfrm>
                <a:off x="5878080" y="5191920"/>
                <a:ext cx="164160" cy="58680"/>
              </a:xfrm>
              <a:custGeom>
                <a:avLst/>
                <a:gdLst/>
                <a:ahLst/>
                <a:rect l="l" t="t" r="r" b="b"/>
                <a:pathLst>
                  <a:path w="1577" h="712">
                    <a:moveTo>
                      <a:pt x="1219" y="48"/>
                    </a:moveTo>
                    <a:lnTo>
                      <a:pt x="1205" y="38"/>
                    </a:lnTo>
                    <a:lnTo>
                      <a:pt x="1189" y="29"/>
                    </a:lnTo>
                    <a:lnTo>
                      <a:pt x="1172" y="22"/>
                    </a:lnTo>
                    <a:lnTo>
                      <a:pt x="1152" y="15"/>
                    </a:lnTo>
                    <a:lnTo>
                      <a:pt x="1134" y="11"/>
                    </a:lnTo>
                    <a:lnTo>
                      <a:pt x="1114" y="7"/>
                    </a:lnTo>
                    <a:lnTo>
                      <a:pt x="1094" y="4"/>
                    </a:lnTo>
                    <a:lnTo>
                      <a:pt x="1071" y="2"/>
                    </a:lnTo>
                    <a:lnTo>
                      <a:pt x="1047" y="1"/>
                    </a:lnTo>
                    <a:lnTo>
                      <a:pt x="1021" y="0"/>
                    </a:lnTo>
                    <a:lnTo>
                      <a:pt x="993" y="0"/>
                    </a:lnTo>
                    <a:lnTo>
                      <a:pt x="964" y="1"/>
                    </a:lnTo>
                    <a:lnTo>
                      <a:pt x="931" y="4"/>
                    </a:lnTo>
                    <a:lnTo>
                      <a:pt x="896" y="8"/>
                    </a:lnTo>
                    <a:lnTo>
                      <a:pt x="860" y="12"/>
                    </a:lnTo>
                    <a:lnTo>
                      <a:pt x="822" y="18"/>
                    </a:lnTo>
                    <a:lnTo>
                      <a:pt x="782" y="24"/>
                    </a:lnTo>
                    <a:lnTo>
                      <a:pt x="740" y="31"/>
                    </a:lnTo>
                    <a:lnTo>
                      <a:pt x="697" y="39"/>
                    </a:lnTo>
                    <a:lnTo>
                      <a:pt x="651" y="48"/>
                    </a:lnTo>
                    <a:lnTo>
                      <a:pt x="657" y="54"/>
                    </a:lnTo>
                    <a:lnTo>
                      <a:pt x="662" y="62"/>
                    </a:lnTo>
                    <a:lnTo>
                      <a:pt x="667" y="70"/>
                    </a:lnTo>
                    <a:lnTo>
                      <a:pt x="671" y="79"/>
                    </a:lnTo>
                    <a:lnTo>
                      <a:pt x="675" y="87"/>
                    </a:lnTo>
                    <a:lnTo>
                      <a:pt x="678" y="97"/>
                    </a:lnTo>
                    <a:lnTo>
                      <a:pt x="681" y="107"/>
                    </a:lnTo>
                    <a:lnTo>
                      <a:pt x="683" y="119"/>
                    </a:lnTo>
                    <a:lnTo>
                      <a:pt x="688" y="142"/>
                    </a:lnTo>
                    <a:lnTo>
                      <a:pt x="690" y="166"/>
                    </a:lnTo>
                    <a:lnTo>
                      <a:pt x="691" y="193"/>
                    </a:lnTo>
                    <a:lnTo>
                      <a:pt x="690" y="222"/>
                    </a:lnTo>
                    <a:lnTo>
                      <a:pt x="691" y="193"/>
                    </a:lnTo>
                    <a:lnTo>
                      <a:pt x="690" y="166"/>
                    </a:lnTo>
                    <a:lnTo>
                      <a:pt x="688" y="142"/>
                    </a:lnTo>
                    <a:lnTo>
                      <a:pt x="683" y="119"/>
                    </a:lnTo>
                    <a:lnTo>
                      <a:pt x="681" y="107"/>
                    </a:lnTo>
                    <a:lnTo>
                      <a:pt x="678" y="97"/>
                    </a:lnTo>
                    <a:lnTo>
                      <a:pt x="675" y="87"/>
                    </a:lnTo>
                    <a:lnTo>
                      <a:pt x="671" y="79"/>
                    </a:lnTo>
                    <a:lnTo>
                      <a:pt x="667" y="70"/>
                    </a:lnTo>
                    <a:lnTo>
                      <a:pt x="662" y="62"/>
                    </a:lnTo>
                    <a:lnTo>
                      <a:pt x="657" y="54"/>
                    </a:lnTo>
                    <a:lnTo>
                      <a:pt x="651" y="48"/>
                    </a:lnTo>
                    <a:lnTo>
                      <a:pt x="637" y="38"/>
                    </a:lnTo>
                    <a:lnTo>
                      <a:pt x="620" y="29"/>
                    </a:lnTo>
                    <a:lnTo>
                      <a:pt x="603" y="22"/>
                    </a:lnTo>
                    <a:lnTo>
                      <a:pt x="584" y="15"/>
                    </a:lnTo>
                    <a:lnTo>
                      <a:pt x="576" y="15"/>
                    </a:lnTo>
                    <a:lnTo>
                      <a:pt x="567" y="13"/>
                    </a:lnTo>
                    <a:lnTo>
                      <a:pt x="558" y="11"/>
                    </a:lnTo>
                    <a:lnTo>
                      <a:pt x="548" y="9"/>
                    </a:lnTo>
                    <a:lnTo>
                      <a:pt x="546" y="9"/>
                    </a:lnTo>
                    <a:lnTo>
                      <a:pt x="541" y="9"/>
                    </a:lnTo>
                    <a:lnTo>
                      <a:pt x="533" y="9"/>
                    </a:lnTo>
                    <a:lnTo>
                      <a:pt x="525" y="10"/>
                    </a:lnTo>
                    <a:lnTo>
                      <a:pt x="516" y="13"/>
                    </a:lnTo>
                    <a:lnTo>
                      <a:pt x="507" y="17"/>
                    </a:lnTo>
                    <a:lnTo>
                      <a:pt x="498" y="20"/>
                    </a:lnTo>
                    <a:lnTo>
                      <a:pt x="488" y="25"/>
                    </a:lnTo>
                    <a:lnTo>
                      <a:pt x="479" y="31"/>
                    </a:lnTo>
                    <a:lnTo>
                      <a:pt x="470" y="36"/>
                    </a:lnTo>
                    <a:lnTo>
                      <a:pt x="457" y="43"/>
                    </a:lnTo>
                    <a:lnTo>
                      <a:pt x="444" y="52"/>
                    </a:lnTo>
                    <a:lnTo>
                      <a:pt x="432" y="62"/>
                    </a:lnTo>
                    <a:lnTo>
                      <a:pt x="421" y="72"/>
                    </a:lnTo>
                    <a:lnTo>
                      <a:pt x="394" y="95"/>
                    </a:lnTo>
                    <a:lnTo>
                      <a:pt x="367" y="121"/>
                    </a:lnTo>
                    <a:lnTo>
                      <a:pt x="342" y="146"/>
                    </a:lnTo>
                    <a:lnTo>
                      <a:pt x="317" y="174"/>
                    </a:lnTo>
                    <a:lnTo>
                      <a:pt x="292" y="202"/>
                    </a:lnTo>
                    <a:lnTo>
                      <a:pt x="269" y="232"/>
                    </a:lnTo>
                    <a:lnTo>
                      <a:pt x="244" y="264"/>
                    </a:lnTo>
                    <a:lnTo>
                      <a:pt x="222" y="296"/>
                    </a:lnTo>
                    <a:lnTo>
                      <a:pt x="193" y="337"/>
                    </a:lnTo>
                    <a:lnTo>
                      <a:pt x="167" y="374"/>
                    </a:lnTo>
                    <a:lnTo>
                      <a:pt x="141" y="406"/>
                    </a:lnTo>
                    <a:lnTo>
                      <a:pt x="119" y="435"/>
                    </a:lnTo>
                    <a:lnTo>
                      <a:pt x="127" y="433"/>
                    </a:lnTo>
                    <a:lnTo>
                      <a:pt x="134" y="433"/>
                    </a:lnTo>
                    <a:lnTo>
                      <a:pt x="142" y="433"/>
                    </a:lnTo>
                    <a:lnTo>
                      <a:pt x="151" y="435"/>
                    </a:lnTo>
                    <a:lnTo>
                      <a:pt x="169" y="439"/>
                    </a:lnTo>
                    <a:lnTo>
                      <a:pt x="184" y="445"/>
                    </a:lnTo>
                    <a:lnTo>
                      <a:pt x="190" y="449"/>
                    </a:lnTo>
                    <a:lnTo>
                      <a:pt x="195" y="452"/>
                    </a:lnTo>
                    <a:lnTo>
                      <a:pt x="201" y="457"/>
                    </a:lnTo>
                    <a:lnTo>
                      <a:pt x="204" y="461"/>
                    </a:lnTo>
                    <a:lnTo>
                      <a:pt x="208" y="466"/>
                    </a:lnTo>
                    <a:lnTo>
                      <a:pt x="211" y="471"/>
                    </a:lnTo>
                    <a:lnTo>
                      <a:pt x="212" y="477"/>
                    </a:lnTo>
                    <a:lnTo>
                      <a:pt x="213" y="482"/>
                    </a:lnTo>
                    <a:lnTo>
                      <a:pt x="214" y="489"/>
                    </a:lnTo>
                    <a:lnTo>
                      <a:pt x="213" y="494"/>
                    </a:lnTo>
                    <a:lnTo>
                      <a:pt x="212" y="502"/>
                    </a:lnTo>
                    <a:lnTo>
                      <a:pt x="211" y="509"/>
                    </a:lnTo>
                    <a:lnTo>
                      <a:pt x="208" y="520"/>
                    </a:lnTo>
                    <a:lnTo>
                      <a:pt x="202" y="531"/>
                    </a:lnTo>
                    <a:lnTo>
                      <a:pt x="195" y="542"/>
                    </a:lnTo>
                    <a:lnTo>
                      <a:pt x="186" y="555"/>
                    </a:lnTo>
                    <a:lnTo>
                      <a:pt x="175" y="564"/>
                    </a:lnTo>
                    <a:lnTo>
                      <a:pt x="164" y="573"/>
                    </a:lnTo>
                    <a:lnTo>
                      <a:pt x="154" y="575"/>
                    </a:lnTo>
                    <a:lnTo>
                      <a:pt x="147" y="575"/>
                    </a:lnTo>
                    <a:lnTo>
                      <a:pt x="139" y="575"/>
                    </a:lnTo>
                    <a:lnTo>
                      <a:pt x="133" y="573"/>
                    </a:lnTo>
                    <a:lnTo>
                      <a:pt x="124" y="569"/>
                    </a:lnTo>
                    <a:lnTo>
                      <a:pt x="119" y="565"/>
                    </a:lnTo>
                    <a:lnTo>
                      <a:pt x="103" y="560"/>
                    </a:lnTo>
                    <a:lnTo>
                      <a:pt x="89" y="554"/>
                    </a:lnTo>
                    <a:lnTo>
                      <a:pt x="76" y="551"/>
                    </a:lnTo>
                    <a:lnTo>
                      <a:pt x="63" y="549"/>
                    </a:lnTo>
                    <a:lnTo>
                      <a:pt x="52" y="548"/>
                    </a:lnTo>
                    <a:lnTo>
                      <a:pt x="42" y="549"/>
                    </a:lnTo>
                    <a:lnTo>
                      <a:pt x="38" y="549"/>
                    </a:lnTo>
                    <a:lnTo>
                      <a:pt x="33" y="551"/>
                    </a:lnTo>
                    <a:lnTo>
                      <a:pt x="30" y="553"/>
                    </a:lnTo>
                    <a:lnTo>
                      <a:pt x="27" y="555"/>
                    </a:lnTo>
                    <a:lnTo>
                      <a:pt x="19" y="568"/>
                    </a:lnTo>
                    <a:lnTo>
                      <a:pt x="12" y="579"/>
                    </a:lnTo>
                    <a:lnTo>
                      <a:pt x="8" y="591"/>
                    </a:lnTo>
                    <a:lnTo>
                      <a:pt x="5" y="602"/>
                    </a:lnTo>
                    <a:lnTo>
                      <a:pt x="2" y="613"/>
                    </a:lnTo>
                    <a:lnTo>
                      <a:pt x="1" y="624"/>
                    </a:lnTo>
                    <a:lnTo>
                      <a:pt x="0" y="634"/>
                    </a:lnTo>
                    <a:lnTo>
                      <a:pt x="1" y="644"/>
                    </a:lnTo>
                    <a:lnTo>
                      <a:pt x="3" y="651"/>
                    </a:lnTo>
                    <a:lnTo>
                      <a:pt x="6" y="657"/>
                    </a:lnTo>
                    <a:lnTo>
                      <a:pt x="8" y="663"/>
                    </a:lnTo>
                    <a:lnTo>
                      <a:pt x="12" y="669"/>
                    </a:lnTo>
                    <a:lnTo>
                      <a:pt x="16" y="674"/>
                    </a:lnTo>
                    <a:lnTo>
                      <a:pt x="20" y="678"/>
                    </a:lnTo>
                    <a:lnTo>
                      <a:pt x="25" y="683"/>
                    </a:lnTo>
                    <a:lnTo>
                      <a:pt x="30" y="686"/>
                    </a:lnTo>
                    <a:lnTo>
                      <a:pt x="31" y="690"/>
                    </a:lnTo>
                    <a:lnTo>
                      <a:pt x="33" y="690"/>
                    </a:lnTo>
                    <a:lnTo>
                      <a:pt x="48" y="697"/>
                    </a:lnTo>
                    <a:lnTo>
                      <a:pt x="62" y="703"/>
                    </a:lnTo>
                    <a:lnTo>
                      <a:pt x="79" y="708"/>
                    </a:lnTo>
                    <a:lnTo>
                      <a:pt x="98" y="712"/>
                    </a:lnTo>
                    <a:lnTo>
                      <a:pt x="111" y="712"/>
                    </a:lnTo>
                    <a:lnTo>
                      <a:pt x="125" y="712"/>
                    </a:lnTo>
                    <a:lnTo>
                      <a:pt x="138" y="711"/>
                    </a:lnTo>
                    <a:lnTo>
                      <a:pt x="151" y="708"/>
                    </a:lnTo>
                    <a:lnTo>
                      <a:pt x="164" y="705"/>
                    </a:lnTo>
                    <a:lnTo>
                      <a:pt x="178" y="702"/>
                    </a:lnTo>
                    <a:lnTo>
                      <a:pt x="191" y="696"/>
                    </a:lnTo>
                    <a:lnTo>
                      <a:pt x="205" y="691"/>
                    </a:lnTo>
                    <a:lnTo>
                      <a:pt x="219" y="683"/>
                    </a:lnTo>
                    <a:lnTo>
                      <a:pt x="232" y="676"/>
                    </a:lnTo>
                    <a:lnTo>
                      <a:pt x="256" y="659"/>
                    </a:lnTo>
                    <a:lnTo>
                      <a:pt x="281" y="639"/>
                    </a:lnTo>
                    <a:lnTo>
                      <a:pt x="305" y="618"/>
                    </a:lnTo>
                    <a:lnTo>
                      <a:pt x="332" y="594"/>
                    </a:lnTo>
                    <a:lnTo>
                      <a:pt x="345" y="579"/>
                    </a:lnTo>
                    <a:lnTo>
                      <a:pt x="358" y="562"/>
                    </a:lnTo>
                    <a:lnTo>
                      <a:pt x="373" y="547"/>
                    </a:lnTo>
                    <a:lnTo>
                      <a:pt x="388" y="530"/>
                    </a:lnTo>
                    <a:lnTo>
                      <a:pt x="413" y="497"/>
                    </a:lnTo>
                    <a:lnTo>
                      <a:pt x="439" y="461"/>
                    </a:lnTo>
                    <a:lnTo>
                      <a:pt x="466" y="422"/>
                    </a:lnTo>
                    <a:lnTo>
                      <a:pt x="495" y="381"/>
                    </a:lnTo>
                    <a:lnTo>
                      <a:pt x="500" y="374"/>
                    </a:lnTo>
                    <a:lnTo>
                      <a:pt x="505" y="367"/>
                    </a:lnTo>
                    <a:lnTo>
                      <a:pt x="509" y="360"/>
                    </a:lnTo>
                    <a:lnTo>
                      <a:pt x="513" y="352"/>
                    </a:lnTo>
                    <a:lnTo>
                      <a:pt x="509" y="360"/>
                    </a:lnTo>
                    <a:lnTo>
                      <a:pt x="505" y="367"/>
                    </a:lnTo>
                    <a:lnTo>
                      <a:pt x="500" y="374"/>
                    </a:lnTo>
                    <a:lnTo>
                      <a:pt x="495" y="381"/>
                    </a:lnTo>
                    <a:lnTo>
                      <a:pt x="503" y="385"/>
                    </a:lnTo>
                    <a:lnTo>
                      <a:pt x="512" y="388"/>
                    </a:lnTo>
                    <a:lnTo>
                      <a:pt x="519" y="390"/>
                    </a:lnTo>
                    <a:lnTo>
                      <a:pt x="527" y="391"/>
                    </a:lnTo>
                    <a:lnTo>
                      <a:pt x="536" y="392"/>
                    </a:lnTo>
                    <a:lnTo>
                      <a:pt x="545" y="394"/>
                    </a:lnTo>
                    <a:lnTo>
                      <a:pt x="554" y="392"/>
                    </a:lnTo>
                    <a:lnTo>
                      <a:pt x="561" y="391"/>
                    </a:lnTo>
                    <a:lnTo>
                      <a:pt x="570" y="389"/>
                    </a:lnTo>
                    <a:lnTo>
                      <a:pt x="580" y="387"/>
                    </a:lnTo>
                    <a:lnTo>
                      <a:pt x="589" y="384"/>
                    </a:lnTo>
                    <a:lnTo>
                      <a:pt x="598" y="380"/>
                    </a:lnTo>
                    <a:lnTo>
                      <a:pt x="608" y="375"/>
                    </a:lnTo>
                    <a:lnTo>
                      <a:pt x="617" y="369"/>
                    </a:lnTo>
                    <a:lnTo>
                      <a:pt x="627" y="364"/>
                    </a:lnTo>
                    <a:lnTo>
                      <a:pt x="637" y="356"/>
                    </a:lnTo>
                    <a:lnTo>
                      <a:pt x="627" y="364"/>
                    </a:lnTo>
                    <a:lnTo>
                      <a:pt x="617" y="369"/>
                    </a:lnTo>
                    <a:lnTo>
                      <a:pt x="608" y="375"/>
                    </a:lnTo>
                    <a:lnTo>
                      <a:pt x="598" y="380"/>
                    </a:lnTo>
                    <a:lnTo>
                      <a:pt x="589" y="384"/>
                    </a:lnTo>
                    <a:lnTo>
                      <a:pt x="580" y="387"/>
                    </a:lnTo>
                    <a:lnTo>
                      <a:pt x="570" y="389"/>
                    </a:lnTo>
                    <a:lnTo>
                      <a:pt x="561" y="391"/>
                    </a:lnTo>
                    <a:lnTo>
                      <a:pt x="554" y="392"/>
                    </a:lnTo>
                    <a:lnTo>
                      <a:pt x="545" y="394"/>
                    </a:lnTo>
                    <a:lnTo>
                      <a:pt x="536" y="392"/>
                    </a:lnTo>
                    <a:lnTo>
                      <a:pt x="527" y="391"/>
                    </a:lnTo>
                    <a:lnTo>
                      <a:pt x="519" y="390"/>
                    </a:lnTo>
                    <a:lnTo>
                      <a:pt x="512" y="388"/>
                    </a:lnTo>
                    <a:lnTo>
                      <a:pt x="503" y="385"/>
                    </a:lnTo>
                    <a:lnTo>
                      <a:pt x="495" y="381"/>
                    </a:lnTo>
                    <a:lnTo>
                      <a:pt x="466" y="422"/>
                    </a:lnTo>
                    <a:lnTo>
                      <a:pt x="439" y="461"/>
                    </a:lnTo>
                    <a:lnTo>
                      <a:pt x="413" y="497"/>
                    </a:lnTo>
                    <a:lnTo>
                      <a:pt x="388" y="530"/>
                    </a:lnTo>
                    <a:lnTo>
                      <a:pt x="401" y="535"/>
                    </a:lnTo>
                    <a:lnTo>
                      <a:pt x="413" y="541"/>
                    </a:lnTo>
                    <a:lnTo>
                      <a:pt x="426" y="545"/>
                    </a:lnTo>
                    <a:lnTo>
                      <a:pt x="439" y="550"/>
                    </a:lnTo>
                    <a:lnTo>
                      <a:pt x="453" y="552"/>
                    </a:lnTo>
                    <a:lnTo>
                      <a:pt x="467" y="555"/>
                    </a:lnTo>
                    <a:lnTo>
                      <a:pt x="480" y="557"/>
                    </a:lnTo>
                    <a:lnTo>
                      <a:pt x="496" y="558"/>
                    </a:lnTo>
                    <a:lnTo>
                      <a:pt x="510" y="559"/>
                    </a:lnTo>
                    <a:lnTo>
                      <a:pt x="527" y="559"/>
                    </a:lnTo>
                    <a:lnTo>
                      <a:pt x="543" y="558"/>
                    </a:lnTo>
                    <a:lnTo>
                      <a:pt x="559" y="555"/>
                    </a:lnTo>
                    <a:lnTo>
                      <a:pt x="576" y="553"/>
                    </a:lnTo>
                    <a:lnTo>
                      <a:pt x="594" y="550"/>
                    </a:lnTo>
                    <a:lnTo>
                      <a:pt x="611" y="545"/>
                    </a:lnTo>
                    <a:lnTo>
                      <a:pt x="630" y="541"/>
                    </a:lnTo>
                    <a:lnTo>
                      <a:pt x="630" y="539"/>
                    </a:lnTo>
                    <a:lnTo>
                      <a:pt x="634" y="538"/>
                    </a:lnTo>
                    <a:lnTo>
                      <a:pt x="649" y="520"/>
                    </a:lnTo>
                    <a:lnTo>
                      <a:pt x="665" y="503"/>
                    </a:lnTo>
                    <a:lnTo>
                      <a:pt x="680" y="487"/>
                    </a:lnTo>
                    <a:lnTo>
                      <a:pt x="696" y="471"/>
                    </a:lnTo>
                    <a:lnTo>
                      <a:pt x="711" y="457"/>
                    </a:lnTo>
                    <a:lnTo>
                      <a:pt x="727" y="443"/>
                    </a:lnTo>
                    <a:lnTo>
                      <a:pt x="743" y="430"/>
                    </a:lnTo>
                    <a:lnTo>
                      <a:pt x="759" y="418"/>
                    </a:lnTo>
                    <a:lnTo>
                      <a:pt x="776" y="407"/>
                    </a:lnTo>
                    <a:lnTo>
                      <a:pt x="791" y="396"/>
                    </a:lnTo>
                    <a:lnTo>
                      <a:pt x="808" y="386"/>
                    </a:lnTo>
                    <a:lnTo>
                      <a:pt x="824" y="377"/>
                    </a:lnTo>
                    <a:lnTo>
                      <a:pt x="841" y="369"/>
                    </a:lnTo>
                    <a:lnTo>
                      <a:pt x="859" y="361"/>
                    </a:lnTo>
                    <a:lnTo>
                      <a:pt x="875" y="355"/>
                    </a:lnTo>
                    <a:lnTo>
                      <a:pt x="893" y="349"/>
                    </a:lnTo>
                    <a:lnTo>
                      <a:pt x="916" y="348"/>
                    </a:lnTo>
                    <a:lnTo>
                      <a:pt x="938" y="349"/>
                    </a:lnTo>
                    <a:lnTo>
                      <a:pt x="956" y="351"/>
                    </a:lnTo>
                    <a:lnTo>
                      <a:pt x="973" y="356"/>
                    </a:lnTo>
                    <a:lnTo>
                      <a:pt x="980" y="358"/>
                    </a:lnTo>
                    <a:lnTo>
                      <a:pt x="986" y="361"/>
                    </a:lnTo>
                    <a:lnTo>
                      <a:pt x="993" y="365"/>
                    </a:lnTo>
                    <a:lnTo>
                      <a:pt x="997" y="369"/>
                    </a:lnTo>
                    <a:lnTo>
                      <a:pt x="1002" y="374"/>
                    </a:lnTo>
                    <a:lnTo>
                      <a:pt x="1006" y="378"/>
                    </a:lnTo>
                    <a:lnTo>
                      <a:pt x="1010" y="384"/>
                    </a:lnTo>
                    <a:lnTo>
                      <a:pt x="1012" y="389"/>
                    </a:lnTo>
                    <a:lnTo>
                      <a:pt x="1014" y="396"/>
                    </a:lnTo>
                    <a:lnTo>
                      <a:pt x="1015" y="402"/>
                    </a:lnTo>
                    <a:lnTo>
                      <a:pt x="1016" y="410"/>
                    </a:lnTo>
                    <a:lnTo>
                      <a:pt x="1016" y="418"/>
                    </a:lnTo>
                    <a:lnTo>
                      <a:pt x="1015" y="426"/>
                    </a:lnTo>
                    <a:lnTo>
                      <a:pt x="1014" y="435"/>
                    </a:lnTo>
                    <a:lnTo>
                      <a:pt x="1012" y="443"/>
                    </a:lnTo>
                    <a:lnTo>
                      <a:pt x="1009" y="452"/>
                    </a:lnTo>
                    <a:lnTo>
                      <a:pt x="1002" y="473"/>
                    </a:lnTo>
                    <a:lnTo>
                      <a:pt x="992" y="494"/>
                    </a:lnTo>
                    <a:lnTo>
                      <a:pt x="979" y="519"/>
                    </a:lnTo>
                    <a:lnTo>
                      <a:pt x="964" y="544"/>
                    </a:lnTo>
                    <a:lnTo>
                      <a:pt x="951" y="555"/>
                    </a:lnTo>
                    <a:lnTo>
                      <a:pt x="939" y="568"/>
                    </a:lnTo>
                    <a:lnTo>
                      <a:pt x="926" y="580"/>
                    </a:lnTo>
                    <a:lnTo>
                      <a:pt x="914" y="591"/>
                    </a:lnTo>
                    <a:lnTo>
                      <a:pt x="929" y="598"/>
                    </a:lnTo>
                    <a:lnTo>
                      <a:pt x="942" y="602"/>
                    </a:lnTo>
                    <a:lnTo>
                      <a:pt x="953" y="605"/>
                    </a:lnTo>
                    <a:lnTo>
                      <a:pt x="964" y="609"/>
                    </a:lnTo>
                    <a:lnTo>
                      <a:pt x="1002" y="618"/>
                    </a:lnTo>
                    <a:lnTo>
                      <a:pt x="1038" y="625"/>
                    </a:lnTo>
                    <a:lnTo>
                      <a:pt x="1075" y="633"/>
                    </a:lnTo>
                    <a:lnTo>
                      <a:pt x="1109" y="640"/>
                    </a:lnTo>
                    <a:lnTo>
                      <a:pt x="1144" y="645"/>
                    </a:lnTo>
                    <a:lnTo>
                      <a:pt x="1176" y="651"/>
                    </a:lnTo>
                    <a:lnTo>
                      <a:pt x="1207" y="655"/>
                    </a:lnTo>
                    <a:lnTo>
                      <a:pt x="1237" y="659"/>
                    </a:lnTo>
                    <a:lnTo>
                      <a:pt x="1245" y="659"/>
                    </a:lnTo>
                    <a:lnTo>
                      <a:pt x="1254" y="659"/>
                    </a:lnTo>
                    <a:lnTo>
                      <a:pt x="1263" y="660"/>
                    </a:lnTo>
                    <a:lnTo>
                      <a:pt x="1273" y="662"/>
                    </a:lnTo>
                    <a:lnTo>
                      <a:pt x="1303" y="662"/>
                    </a:lnTo>
                    <a:lnTo>
                      <a:pt x="1332" y="661"/>
                    </a:lnTo>
                    <a:lnTo>
                      <a:pt x="1362" y="660"/>
                    </a:lnTo>
                    <a:lnTo>
                      <a:pt x="1390" y="659"/>
                    </a:lnTo>
                    <a:lnTo>
                      <a:pt x="1410" y="656"/>
                    </a:lnTo>
                    <a:lnTo>
                      <a:pt x="1430" y="653"/>
                    </a:lnTo>
                    <a:lnTo>
                      <a:pt x="1448" y="650"/>
                    </a:lnTo>
                    <a:lnTo>
                      <a:pt x="1464" y="645"/>
                    </a:lnTo>
                    <a:lnTo>
                      <a:pt x="1480" y="639"/>
                    </a:lnTo>
                    <a:lnTo>
                      <a:pt x="1493" y="632"/>
                    </a:lnTo>
                    <a:lnTo>
                      <a:pt x="1507" y="624"/>
                    </a:lnTo>
                    <a:lnTo>
                      <a:pt x="1518" y="615"/>
                    </a:lnTo>
                    <a:lnTo>
                      <a:pt x="1528" y="608"/>
                    </a:lnTo>
                    <a:lnTo>
                      <a:pt x="1537" y="600"/>
                    </a:lnTo>
                    <a:lnTo>
                      <a:pt x="1545" y="591"/>
                    </a:lnTo>
                    <a:lnTo>
                      <a:pt x="1552" y="582"/>
                    </a:lnTo>
                    <a:lnTo>
                      <a:pt x="1559" y="572"/>
                    </a:lnTo>
                    <a:lnTo>
                      <a:pt x="1564" y="561"/>
                    </a:lnTo>
                    <a:lnTo>
                      <a:pt x="1569" y="550"/>
                    </a:lnTo>
                    <a:lnTo>
                      <a:pt x="1572" y="538"/>
                    </a:lnTo>
                    <a:lnTo>
                      <a:pt x="1574" y="525"/>
                    </a:lnTo>
                    <a:lnTo>
                      <a:pt x="1575" y="513"/>
                    </a:lnTo>
                    <a:lnTo>
                      <a:pt x="1577" y="500"/>
                    </a:lnTo>
                    <a:lnTo>
                      <a:pt x="1577" y="486"/>
                    </a:lnTo>
                    <a:lnTo>
                      <a:pt x="1575" y="471"/>
                    </a:lnTo>
                    <a:lnTo>
                      <a:pt x="1573" y="456"/>
                    </a:lnTo>
                    <a:lnTo>
                      <a:pt x="1571" y="440"/>
                    </a:lnTo>
                    <a:lnTo>
                      <a:pt x="1568" y="423"/>
                    </a:lnTo>
                    <a:lnTo>
                      <a:pt x="1555" y="397"/>
                    </a:lnTo>
                    <a:lnTo>
                      <a:pt x="1542" y="371"/>
                    </a:lnTo>
                    <a:lnTo>
                      <a:pt x="1528" y="346"/>
                    </a:lnTo>
                    <a:lnTo>
                      <a:pt x="1512" y="320"/>
                    </a:lnTo>
                    <a:lnTo>
                      <a:pt x="1494" y="295"/>
                    </a:lnTo>
                    <a:lnTo>
                      <a:pt x="1477" y="270"/>
                    </a:lnTo>
                    <a:lnTo>
                      <a:pt x="1457" y="246"/>
                    </a:lnTo>
                    <a:lnTo>
                      <a:pt x="1436" y="223"/>
                    </a:lnTo>
                    <a:lnTo>
                      <a:pt x="1413" y="199"/>
                    </a:lnTo>
                    <a:lnTo>
                      <a:pt x="1390" y="176"/>
                    </a:lnTo>
                    <a:lnTo>
                      <a:pt x="1365" y="153"/>
                    </a:lnTo>
                    <a:lnTo>
                      <a:pt x="1339" y="131"/>
                    </a:lnTo>
                    <a:lnTo>
                      <a:pt x="1310" y="110"/>
                    </a:lnTo>
                    <a:lnTo>
                      <a:pt x="1281" y="89"/>
                    </a:lnTo>
                    <a:lnTo>
                      <a:pt x="1251" y="68"/>
                    </a:lnTo>
                    <a:lnTo>
                      <a:pt x="1219" y="48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275"/>
              <p:cNvSpPr/>
              <p:nvPr/>
            </p:nvSpPr>
            <p:spPr>
              <a:xfrm>
                <a:off x="5998680" y="5189760"/>
                <a:ext cx="131040" cy="69120"/>
              </a:xfrm>
              <a:custGeom>
                <a:avLst/>
                <a:gdLst/>
                <a:ahLst/>
                <a:rect l="l" t="t" r="r" b="b"/>
                <a:pathLst>
                  <a:path w="1268" h="840">
                    <a:moveTo>
                      <a:pt x="0" y="45"/>
                    </a:moveTo>
                    <a:lnTo>
                      <a:pt x="20" y="52"/>
                    </a:lnTo>
                    <a:lnTo>
                      <a:pt x="37" y="59"/>
                    </a:lnTo>
                    <a:lnTo>
                      <a:pt x="53" y="68"/>
                    </a:lnTo>
                    <a:lnTo>
                      <a:pt x="67" y="78"/>
                    </a:lnTo>
                    <a:lnTo>
                      <a:pt x="99" y="98"/>
                    </a:lnTo>
                    <a:lnTo>
                      <a:pt x="129" y="119"/>
                    </a:lnTo>
                    <a:lnTo>
                      <a:pt x="158" y="140"/>
                    </a:lnTo>
                    <a:lnTo>
                      <a:pt x="187" y="161"/>
                    </a:lnTo>
                    <a:lnTo>
                      <a:pt x="213" y="183"/>
                    </a:lnTo>
                    <a:lnTo>
                      <a:pt x="238" y="206"/>
                    </a:lnTo>
                    <a:lnTo>
                      <a:pt x="261" y="229"/>
                    </a:lnTo>
                    <a:lnTo>
                      <a:pt x="284" y="253"/>
                    </a:lnTo>
                    <a:lnTo>
                      <a:pt x="305" y="276"/>
                    </a:lnTo>
                    <a:lnTo>
                      <a:pt x="325" y="300"/>
                    </a:lnTo>
                    <a:lnTo>
                      <a:pt x="342" y="325"/>
                    </a:lnTo>
                    <a:lnTo>
                      <a:pt x="360" y="350"/>
                    </a:lnTo>
                    <a:lnTo>
                      <a:pt x="376" y="376"/>
                    </a:lnTo>
                    <a:lnTo>
                      <a:pt x="390" y="401"/>
                    </a:lnTo>
                    <a:lnTo>
                      <a:pt x="403" y="427"/>
                    </a:lnTo>
                    <a:lnTo>
                      <a:pt x="416" y="453"/>
                    </a:lnTo>
                    <a:lnTo>
                      <a:pt x="419" y="470"/>
                    </a:lnTo>
                    <a:lnTo>
                      <a:pt x="421" y="486"/>
                    </a:lnTo>
                    <a:lnTo>
                      <a:pt x="423" y="501"/>
                    </a:lnTo>
                    <a:lnTo>
                      <a:pt x="425" y="516"/>
                    </a:lnTo>
                    <a:lnTo>
                      <a:pt x="425" y="530"/>
                    </a:lnTo>
                    <a:lnTo>
                      <a:pt x="423" y="543"/>
                    </a:lnTo>
                    <a:lnTo>
                      <a:pt x="422" y="555"/>
                    </a:lnTo>
                    <a:lnTo>
                      <a:pt x="420" y="568"/>
                    </a:lnTo>
                    <a:lnTo>
                      <a:pt x="417" y="580"/>
                    </a:lnTo>
                    <a:lnTo>
                      <a:pt x="412" y="591"/>
                    </a:lnTo>
                    <a:lnTo>
                      <a:pt x="407" y="602"/>
                    </a:lnTo>
                    <a:lnTo>
                      <a:pt x="400" y="612"/>
                    </a:lnTo>
                    <a:lnTo>
                      <a:pt x="393" y="621"/>
                    </a:lnTo>
                    <a:lnTo>
                      <a:pt x="385" y="630"/>
                    </a:lnTo>
                    <a:lnTo>
                      <a:pt x="376" y="638"/>
                    </a:lnTo>
                    <a:lnTo>
                      <a:pt x="366" y="645"/>
                    </a:lnTo>
                    <a:lnTo>
                      <a:pt x="355" y="654"/>
                    </a:lnTo>
                    <a:lnTo>
                      <a:pt x="341" y="662"/>
                    </a:lnTo>
                    <a:lnTo>
                      <a:pt x="328" y="669"/>
                    </a:lnTo>
                    <a:lnTo>
                      <a:pt x="312" y="675"/>
                    </a:lnTo>
                    <a:lnTo>
                      <a:pt x="296" y="680"/>
                    </a:lnTo>
                    <a:lnTo>
                      <a:pt x="278" y="683"/>
                    </a:lnTo>
                    <a:lnTo>
                      <a:pt x="258" y="686"/>
                    </a:lnTo>
                    <a:lnTo>
                      <a:pt x="238" y="689"/>
                    </a:lnTo>
                    <a:lnTo>
                      <a:pt x="554" y="745"/>
                    </a:lnTo>
                    <a:lnTo>
                      <a:pt x="558" y="745"/>
                    </a:lnTo>
                    <a:lnTo>
                      <a:pt x="1268" y="840"/>
                    </a:lnTo>
                    <a:lnTo>
                      <a:pt x="1265" y="804"/>
                    </a:lnTo>
                    <a:lnTo>
                      <a:pt x="1263" y="767"/>
                    </a:lnTo>
                    <a:lnTo>
                      <a:pt x="1260" y="732"/>
                    </a:lnTo>
                    <a:lnTo>
                      <a:pt x="1255" y="697"/>
                    </a:lnTo>
                    <a:lnTo>
                      <a:pt x="1251" y="664"/>
                    </a:lnTo>
                    <a:lnTo>
                      <a:pt x="1245" y="631"/>
                    </a:lnTo>
                    <a:lnTo>
                      <a:pt x="1239" y="599"/>
                    </a:lnTo>
                    <a:lnTo>
                      <a:pt x="1231" y="567"/>
                    </a:lnTo>
                    <a:lnTo>
                      <a:pt x="1223" y="537"/>
                    </a:lnTo>
                    <a:lnTo>
                      <a:pt x="1214" y="507"/>
                    </a:lnTo>
                    <a:lnTo>
                      <a:pt x="1204" y="477"/>
                    </a:lnTo>
                    <a:lnTo>
                      <a:pt x="1194" y="449"/>
                    </a:lnTo>
                    <a:lnTo>
                      <a:pt x="1183" y="421"/>
                    </a:lnTo>
                    <a:lnTo>
                      <a:pt x="1172" y="395"/>
                    </a:lnTo>
                    <a:lnTo>
                      <a:pt x="1160" y="369"/>
                    </a:lnTo>
                    <a:lnTo>
                      <a:pt x="1147" y="344"/>
                    </a:lnTo>
                    <a:lnTo>
                      <a:pt x="1139" y="328"/>
                    </a:lnTo>
                    <a:lnTo>
                      <a:pt x="1130" y="315"/>
                    </a:lnTo>
                    <a:lnTo>
                      <a:pt x="1121" y="302"/>
                    </a:lnTo>
                    <a:lnTo>
                      <a:pt x="1111" y="290"/>
                    </a:lnTo>
                    <a:lnTo>
                      <a:pt x="1100" y="275"/>
                    </a:lnTo>
                    <a:lnTo>
                      <a:pt x="1087" y="261"/>
                    </a:lnTo>
                    <a:lnTo>
                      <a:pt x="1074" y="247"/>
                    </a:lnTo>
                    <a:lnTo>
                      <a:pt x="1058" y="234"/>
                    </a:lnTo>
                    <a:lnTo>
                      <a:pt x="1045" y="224"/>
                    </a:lnTo>
                    <a:lnTo>
                      <a:pt x="1031" y="214"/>
                    </a:lnTo>
                    <a:lnTo>
                      <a:pt x="1017" y="205"/>
                    </a:lnTo>
                    <a:lnTo>
                      <a:pt x="1003" y="196"/>
                    </a:lnTo>
                    <a:lnTo>
                      <a:pt x="987" y="188"/>
                    </a:lnTo>
                    <a:lnTo>
                      <a:pt x="971" y="182"/>
                    </a:lnTo>
                    <a:lnTo>
                      <a:pt x="955" y="175"/>
                    </a:lnTo>
                    <a:lnTo>
                      <a:pt x="938" y="170"/>
                    </a:lnTo>
                    <a:lnTo>
                      <a:pt x="920" y="165"/>
                    </a:lnTo>
                    <a:lnTo>
                      <a:pt x="903" y="161"/>
                    </a:lnTo>
                    <a:lnTo>
                      <a:pt x="884" y="157"/>
                    </a:lnTo>
                    <a:lnTo>
                      <a:pt x="864" y="154"/>
                    </a:lnTo>
                    <a:lnTo>
                      <a:pt x="844" y="152"/>
                    </a:lnTo>
                    <a:lnTo>
                      <a:pt x="824" y="150"/>
                    </a:lnTo>
                    <a:lnTo>
                      <a:pt x="803" y="149"/>
                    </a:lnTo>
                    <a:lnTo>
                      <a:pt x="781" y="149"/>
                    </a:lnTo>
                    <a:lnTo>
                      <a:pt x="726" y="140"/>
                    </a:lnTo>
                    <a:lnTo>
                      <a:pt x="671" y="130"/>
                    </a:lnTo>
                    <a:lnTo>
                      <a:pt x="616" y="117"/>
                    </a:lnTo>
                    <a:lnTo>
                      <a:pt x="561" y="104"/>
                    </a:lnTo>
                    <a:lnTo>
                      <a:pt x="506" y="90"/>
                    </a:lnTo>
                    <a:lnTo>
                      <a:pt x="450" y="73"/>
                    </a:lnTo>
                    <a:lnTo>
                      <a:pt x="396" y="56"/>
                    </a:lnTo>
                    <a:lnTo>
                      <a:pt x="340" y="39"/>
                    </a:lnTo>
                    <a:lnTo>
                      <a:pt x="312" y="29"/>
                    </a:lnTo>
                    <a:lnTo>
                      <a:pt x="284" y="21"/>
                    </a:lnTo>
                    <a:lnTo>
                      <a:pt x="257" y="14"/>
                    </a:lnTo>
                    <a:lnTo>
                      <a:pt x="232" y="9"/>
                    </a:lnTo>
                    <a:lnTo>
                      <a:pt x="207" y="4"/>
                    </a:lnTo>
                    <a:lnTo>
                      <a:pt x="183" y="1"/>
                    </a:lnTo>
                    <a:lnTo>
                      <a:pt x="161" y="0"/>
                    </a:lnTo>
                    <a:lnTo>
                      <a:pt x="138" y="0"/>
                    </a:lnTo>
                    <a:lnTo>
                      <a:pt x="117" y="0"/>
                    </a:lnTo>
                    <a:lnTo>
                      <a:pt x="97" y="3"/>
                    </a:lnTo>
                    <a:lnTo>
                      <a:pt x="78" y="7"/>
                    </a:lnTo>
                    <a:lnTo>
                      <a:pt x="61" y="11"/>
                    </a:lnTo>
                    <a:lnTo>
                      <a:pt x="44" y="18"/>
                    </a:lnTo>
                    <a:lnTo>
                      <a:pt x="28" y="25"/>
                    </a:lnTo>
                    <a:lnTo>
                      <a:pt x="14" y="3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276"/>
              <p:cNvSpPr/>
              <p:nvPr/>
            </p:nvSpPr>
            <p:spPr>
              <a:xfrm>
                <a:off x="5926680" y="5266440"/>
                <a:ext cx="126720" cy="76680"/>
              </a:xfrm>
              <a:custGeom>
                <a:avLst/>
                <a:gdLst/>
                <a:ahLst/>
                <a:rect l="l" t="t" r="r" b="b"/>
                <a:pathLst>
                  <a:path w="1221" h="927">
                    <a:moveTo>
                      <a:pt x="1221" y="132"/>
                    </a:moveTo>
                    <a:lnTo>
                      <a:pt x="1211" y="0"/>
                    </a:lnTo>
                    <a:lnTo>
                      <a:pt x="0" y="555"/>
                    </a:lnTo>
                    <a:lnTo>
                      <a:pt x="0" y="562"/>
                    </a:lnTo>
                    <a:lnTo>
                      <a:pt x="7" y="927"/>
                    </a:lnTo>
                    <a:lnTo>
                      <a:pt x="1221" y="132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277"/>
              <p:cNvSpPr/>
              <p:nvPr/>
            </p:nvSpPr>
            <p:spPr>
              <a:xfrm>
                <a:off x="5951880" y="5245560"/>
                <a:ext cx="24840" cy="7200"/>
              </a:xfrm>
              <a:custGeom>
                <a:avLst/>
                <a:gdLst/>
                <a:ahLst/>
                <a:rect l="l" t="t" r="r" b="b"/>
                <a:pathLst>
                  <a:path w="249" h="89">
                    <a:moveTo>
                      <a:pt x="60" y="43"/>
                    </a:moveTo>
                    <a:lnTo>
                      <a:pt x="60" y="46"/>
                    </a:lnTo>
                    <a:lnTo>
                      <a:pt x="58" y="47"/>
                    </a:lnTo>
                    <a:lnTo>
                      <a:pt x="56" y="47"/>
                    </a:lnTo>
                    <a:lnTo>
                      <a:pt x="53" y="47"/>
                    </a:lnTo>
                    <a:lnTo>
                      <a:pt x="0" y="85"/>
                    </a:lnTo>
                    <a:lnTo>
                      <a:pt x="28" y="89"/>
                    </a:lnTo>
                    <a:lnTo>
                      <a:pt x="39" y="85"/>
                    </a:lnTo>
                    <a:lnTo>
                      <a:pt x="249" y="15"/>
                    </a:lnTo>
                    <a:lnTo>
                      <a:pt x="134" y="0"/>
                    </a:lnTo>
                    <a:lnTo>
                      <a:pt x="117" y="13"/>
                    </a:lnTo>
                    <a:lnTo>
                      <a:pt x="98" y="24"/>
                    </a:lnTo>
                    <a:lnTo>
                      <a:pt x="79" y="34"/>
                    </a:lnTo>
                    <a:lnTo>
                      <a:pt x="60" y="43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278"/>
              <p:cNvSpPr/>
              <p:nvPr/>
            </p:nvSpPr>
            <p:spPr>
              <a:xfrm>
                <a:off x="5936400" y="5220360"/>
                <a:ext cx="47520" cy="35280"/>
              </a:xfrm>
              <a:custGeom>
                <a:avLst/>
                <a:gdLst/>
                <a:ahLst/>
                <a:rect l="l" t="t" r="r" b="b"/>
                <a:pathLst>
                  <a:path w="457" h="424">
                    <a:moveTo>
                      <a:pt x="202" y="299"/>
                    </a:moveTo>
                    <a:lnTo>
                      <a:pt x="204" y="305"/>
                    </a:lnTo>
                    <a:lnTo>
                      <a:pt x="207" y="311"/>
                    </a:lnTo>
                    <a:lnTo>
                      <a:pt x="208" y="317"/>
                    </a:lnTo>
                    <a:lnTo>
                      <a:pt x="208" y="323"/>
                    </a:lnTo>
                    <a:lnTo>
                      <a:pt x="208" y="329"/>
                    </a:lnTo>
                    <a:lnTo>
                      <a:pt x="207" y="336"/>
                    </a:lnTo>
                    <a:lnTo>
                      <a:pt x="204" y="343"/>
                    </a:lnTo>
                    <a:lnTo>
                      <a:pt x="202" y="349"/>
                    </a:lnTo>
                    <a:lnTo>
                      <a:pt x="221" y="340"/>
                    </a:lnTo>
                    <a:lnTo>
                      <a:pt x="240" y="330"/>
                    </a:lnTo>
                    <a:lnTo>
                      <a:pt x="259" y="319"/>
                    </a:lnTo>
                    <a:lnTo>
                      <a:pt x="276" y="306"/>
                    </a:lnTo>
                    <a:lnTo>
                      <a:pt x="295" y="293"/>
                    </a:lnTo>
                    <a:lnTo>
                      <a:pt x="314" y="279"/>
                    </a:lnTo>
                    <a:lnTo>
                      <a:pt x="334" y="264"/>
                    </a:lnTo>
                    <a:lnTo>
                      <a:pt x="355" y="246"/>
                    </a:lnTo>
                    <a:lnTo>
                      <a:pt x="355" y="246"/>
                    </a:lnTo>
                    <a:lnTo>
                      <a:pt x="355" y="243"/>
                    </a:lnTo>
                    <a:lnTo>
                      <a:pt x="367" y="232"/>
                    </a:lnTo>
                    <a:lnTo>
                      <a:pt x="380" y="220"/>
                    </a:lnTo>
                    <a:lnTo>
                      <a:pt x="392" y="207"/>
                    </a:lnTo>
                    <a:lnTo>
                      <a:pt x="405" y="196"/>
                    </a:lnTo>
                    <a:lnTo>
                      <a:pt x="420" y="171"/>
                    </a:lnTo>
                    <a:lnTo>
                      <a:pt x="433" y="146"/>
                    </a:lnTo>
                    <a:lnTo>
                      <a:pt x="443" y="125"/>
                    </a:lnTo>
                    <a:lnTo>
                      <a:pt x="450" y="104"/>
                    </a:lnTo>
                    <a:lnTo>
                      <a:pt x="453" y="95"/>
                    </a:lnTo>
                    <a:lnTo>
                      <a:pt x="455" y="87"/>
                    </a:lnTo>
                    <a:lnTo>
                      <a:pt x="456" y="78"/>
                    </a:lnTo>
                    <a:lnTo>
                      <a:pt x="457" y="70"/>
                    </a:lnTo>
                    <a:lnTo>
                      <a:pt x="457" y="62"/>
                    </a:lnTo>
                    <a:lnTo>
                      <a:pt x="456" y="54"/>
                    </a:lnTo>
                    <a:lnTo>
                      <a:pt x="455" y="48"/>
                    </a:lnTo>
                    <a:lnTo>
                      <a:pt x="453" y="41"/>
                    </a:lnTo>
                    <a:lnTo>
                      <a:pt x="451" y="36"/>
                    </a:lnTo>
                    <a:lnTo>
                      <a:pt x="447" y="30"/>
                    </a:lnTo>
                    <a:lnTo>
                      <a:pt x="443" y="26"/>
                    </a:lnTo>
                    <a:lnTo>
                      <a:pt x="438" y="21"/>
                    </a:lnTo>
                    <a:lnTo>
                      <a:pt x="434" y="17"/>
                    </a:lnTo>
                    <a:lnTo>
                      <a:pt x="427" y="13"/>
                    </a:lnTo>
                    <a:lnTo>
                      <a:pt x="421" y="10"/>
                    </a:lnTo>
                    <a:lnTo>
                      <a:pt x="414" y="8"/>
                    </a:lnTo>
                    <a:lnTo>
                      <a:pt x="397" y="3"/>
                    </a:lnTo>
                    <a:lnTo>
                      <a:pt x="379" y="1"/>
                    </a:lnTo>
                    <a:lnTo>
                      <a:pt x="357" y="0"/>
                    </a:lnTo>
                    <a:lnTo>
                      <a:pt x="334" y="1"/>
                    </a:lnTo>
                    <a:lnTo>
                      <a:pt x="316" y="7"/>
                    </a:lnTo>
                    <a:lnTo>
                      <a:pt x="300" y="13"/>
                    </a:lnTo>
                    <a:lnTo>
                      <a:pt x="282" y="21"/>
                    </a:lnTo>
                    <a:lnTo>
                      <a:pt x="265" y="29"/>
                    </a:lnTo>
                    <a:lnTo>
                      <a:pt x="249" y="38"/>
                    </a:lnTo>
                    <a:lnTo>
                      <a:pt x="232" y="48"/>
                    </a:lnTo>
                    <a:lnTo>
                      <a:pt x="217" y="59"/>
                    </a:lnTo>
                    <a:lnTo>
                      <a:pt x="200" y="70"/>
                    </a:lnTo>
                    <a:lnTo>
                      <a:pt x="184" y="82"/>
                    </a:lnTo>
                    <a:lnTo>
                      <a:pt x="168" y="95"/>
                    </a:lnTo>
                    <a:lnTo>
                      <a:pt x="152" y="109"/>
                    </a:lnTo>
                    <a:lnTo>
                      <a:pt x="137" y="123"/>
                    </a:lnTo>
                    <a:lnTo>
                      <a:pt x="121" y="139"/>
                    </a:lnTo>
                    <a:lnTo>
                      <a:pt x="106" y="155"/>
                    </a:lnTo>
                    <a:lnTo>
                      <a:pt x="90" y="172"/>
                    </a:lnTo>
                    <a:lnTo>
                      <a:pt x="75" y="190"/>
                    </a:lnTo>
                    <a:lnTo>
                      <a:pt x="71" y="191"/>
                    </a:lnTo>
                    <a:lnTo>
                      <a:pt x="71" y="193"/>
                    </a:lnTo>
                    <a:lnTo>
                      <a:pt x="66" y="199"/>
                    </a:lnTo>
                    <a:lnTo>
                      <a:pt x="60" y="206"/>
                    </a:lnTo>
                    <a:lnTo>
                      <a:pt x="55" y="215"/>
                    </a:lnTo>
                    <a:lnTo>
                      <a:pt x="49" y="225"/>
                    </a:lnTo>
                    <a:lnTo>
                      <a:pt x="37" y="248"/>
                    </a:lnTo>
                    <a:lnTo>
                      <a:pt x="25" y="278"/>
                    </a:lnTo>
                    <a:lnTo>
                      <a:pt x="19" y="293"/>
                    </a:lnTo>
                    <a:lnTo>
                      <a:pt x="10" y="311"/>
                    </a:lnTo>
                    <a:lnTo>
                      <a:pt x="7" y="319"/>
                    </a:lnTo>
                    <a:lnTo>
                      <a:pt x="4" y="328"/>
                    </a:lnTo>
                    <a:lnTo>
                      <a:pt x="1" y="339"/>
                    </a:lnTo>
                    <a:lnTo>
                      <a:pt x="0" y="350"/>
                    </a:lnTo>
                    <a:lnTo>
                      <a:pt x="1" y="363"/>
                    </a:lnTo>
                    <a:lnTo>
                      <a:pt x="4" y="374"/>
                    </a:lnTo>
                    <a:lnTo>
                      <a:pt x="6" y="381"/>
                    </a:lnTo>
                    <a:lnTo>
                      <a:pt x="9" y="389"/>
                    </a:lnTo>
                    <a:lnTo>
                      <a:pt x="15" y="396"/>
                    </a:lnTo>
                    <a:lnTo>
                      <a:pt x="22" y="403"/>
                    </a:lnTo>
                    <a:lnTo>
                      <a:pt x="31" y="409"/>
                    </a:lnTo>
                    <a:lnTo>
                      <a:pt x="41" y="415"/>
                    </a:lnTo>
                    <a:lnTo>
                      <a:pt x="53" y="419"/>
                    </a:lnTo>
                    <a:lnTo>
                      <a:pt x="67" y="424"/>
                    </a:lnTo>
                    <a:lnTo>
                      <a:pt x="107" y="417"/>
                    </a:lnTo>
                    <a:lnTo>
                      <a:pt x="131" y="399"/>
                    </a:lnTo>
                    <a:lnTo>
                      <a:pt x="129" y="396"/>
                    </a:lnTo>
                    <a:lnTo>
                      <a:pt x="128" y="394"/>
                    </a:lnTo>
                    <a:lnTo>
                      <a:pt x="128" y="390"/>
                    </a:lnTo>
                    <a:lnTo>
                      <a:pt x="128" y="388"/>
                    </a:lnTo>
                    <a:lnTo>
                      <a:pt x="124" y="380"/>
                    </a:lnTo>
                    <a:lnTo>
                      <a:pt x="119" y="374"/>
                    </a:lnTo>
                    <a:lnTo>
                      <a:pt x="112" y="367"/>
                    </a:lnTo>
                    <a:lnTo>
                      <a:pt x="105" y="362"/>
                    </a:lnTo>
                    <a:lnTo>
                      <a:pt x="96" y="356"/>
                    </a:lnTo>
                    <a:lnTo>
                      <a:pt x="85" y="353"/>
                    </a:lnTo>
                    <a:lnTo>
                      <a:pt x="73" y="348"/>
                    </a:lnTo>
                    <a:lnTo>
                      <a:pt x="60" y="346"/>
                    </a:lnTo>
                    <a:lnTo>
                      <a:pt x="60" y="335"/>
                    </a:lnTo>
                    <a:lnTo>
                      <a:pt x="62" y="326"/>
                    </a:lnTo>
                    <a:lnTo>
                      <a:pt x="65" y="317"/>
                    </a:lnTo>
                    <a:lnTo>
                      <a:pt x="67" y="308"/>
                    </a:lnTo>
                    <a:lnTo>
                      <a:pt x="71" y="302"/>
                    </a:lnTo>
                    <a:lnTo>
                      <a:pt x="76" y="295"/>
                    </a:lnTo>
                    <a:lnTo>
                      <a:pt x="80" y="289"/>
                    </a:lnTo>
                    <a:lnTo>
                      <a:pt x="85" y="285"/>
                    </a:lnTo>
                    <a:lnTo>
                      <a:pt x="88" y="281"/>
                    </a:lnTo>
                    <a:lnTo>
                      <a:pt x="90" y="277"/>
                    </a:lnTo>
                    <a:lnTo>
                      <a:pt x="93" y="275"/>
                    </a:lnTo>
                    <a:lnTo>
                      <a:pt x="96" y="274"/>
                    </a:lnTo>
                    <a:lnTo>
                      <a:pt x="103" y="270"/>
                    </a:lnTo>
                    <a:lnTo>
                      <a:pt x="112" y="266"/>
                    </a:lnTo>
                    <a:lnTo>
                      <a:pt x="120" y="263"/>
                    </a:lnTo>
                    <a:lnTo>
                      <a:pt x="128" y="261"/>
                    </a:lnTo>
                    <a:lnTo>
                      <a:pt x="137" y="260"/>
                    </a:lnTo>
                    <a:lnTo>
                      <a:pt x="146" y="260"/>
                    </a:lnTo>
                    <a:lnTo>
                      <a:pt x="154" y="260"/>
                    </a:lnTo>
                    <a:lnTo>
                      <a:pt x="163" y="261"/>
                    </a:lnTo>
                    <a:lnTo>
                      <a:pt x="171" y="263"/>
                    </a:lnTo>
                    <a:lnTo>
                      <a:pt x="178" y="266"/>
                    </a:lnTo>
                    <a:lnTo>
                      <a:pt x="184" y="270"/>
                    </a:lnTo>
                    <a:lnTo>
                      <a:pt x="189" y="274"/>
                    </a:lnTo>
                    <a:lnTo>
                      <a:pt x="194" y="278"/>
                    </a:lnTo>
                    <a:lnTo>
                      <a:pt x="198" y="284"/>
                    </a:lnTo>
                    <a:lnTo>
                      <a:pt x="200" y="289"/>
                    </a:lnTo>
                    <a:lnTo>
                      <a:pt x="202" y="296"/>
                    </a:lnTo>
                    <a:lnTo>
                      <a:pt x="202" y="296"/>
                    </a:lnTo>
                    <a:lnTo>
                      <a:pt x="202" y="299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279"/>
              <p:cNvSpPr/>
              <p:nvPr/>
            </p:nvSpPr>
            <p:spPr>
              <a:xfrm>
                <a:off x="5954760" y="5246640"/>
                <a:ext cx="23760" cy="24480"/>
              </a:xfrm>
              <a:custGeom>
                <a:avLst/>
                <a:gdLst/>
                <a:ahLst/>
                <a:rect l="l" t="t" r="r" b="b"/>
                <a:pathLst>
                  <a:path w="227" h="298">
                    <a:moveTo>
                      <a:pt x="219" y="0"/>
                    </a:moveTo>
                    <a:lnTo>
                      <a:pt x="213" y="4"/>
                    </a:lnTo>
                    <a:lnTo>
                      <a:pt x="3" y="74"/>
                    </a:lnTo>
                    <a:lnTo>
                      <a:pt x="0" y="298"/>
                    </a:lnTo>
                    <a:lnTo>
                      <a:pt x="227" y="206"/>
                    </a:lnTo>
                    <a:lnTo>
                      <a:pt x="223" y="153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280"/>
              <p:cNvSpPr/>
              <p:nvPr/>
            </p:nvSpPr>
            <p:spPr>
              <a:xfrm>
                <a:off x="5458680" y="5229360"/>
                <a:ext cx="551160" cy="67680"/>
              </a:xfrm>
              <a:custGeom>
                <a:avLst/>
                <a:gdLst/>
                <a:ahLst/>
                <a:rect l="l" t="t" r="r" b="b"/>
                <a:pathLst>
                  <a:path w="5305" h="819">
                    <a:moveTo>
                      <a:pt x="4996" y="362"/>
                    </a:moveTo>
                    <a:lnTo>
                      <a:pt x="5000" y="415"/>
                    </a:lnTo>
                    <a:lnTo>
                      <a:pt x="4773" y="507"/>
                    </a:lnTo>
                    <a:lnTo>
                      <a:pt x="4620" y="490"/>
                    </a:lnTo>
                    <a:lnTo>
                      <a:pt x="4620" y="571"/>
                    </a:lnTo>
                    <a:lnTo>
                      <a:pt x="4350" y="685"/>
                    </a:lnTo>
                    <a:lnTo>
                      <a:pt x="4350" y="688"/>
                    </a:lnTo>
                    <a:lnTo>
                      <a:pt x="4347" y="688"/>
                    </a:lnTo>
                    <a:lnTo>
                      <a:pt x="4087" y="646"/>
                    </a:lnTo>
                    <a:lnTo>
                      <a:pt x="4084" y="646"/>
                    </a:lnTo>
                    <a:lnTo>
                      <a:pt x="4084" y="593"/>
                    </a:lnTo>
                    <a:lnTo>
                      <a:pt x="4005" y="628"/>
                    </a:lnTo>
                    <a:lnTo>
                      <a:pt x="4005" y="635"/>
                    </a:lnTo>
                    <a:lnTo>
                      <a:pt x="3995" y="632"/>
                    </a:lnTo>
                    <a:lnTo>
                      <a:pt x="3735" y="588"/>
                    </a:lnTo>
                    <a:lnTo>
                      <a:pt x="3735" y="525"/>
                    </a:lnTo>
                    <a:lnTo>
                      <a:pt x="3650" y="575"/>
                    </a:lnTo>
                    <a:lnTo>
                      <a:pt x="3395" y="535"/>
                    </a:lnTo>
                    <a:lnTo>
                      <a:pt x="3395" y="500"/>
                    </a:lnTo>
                    <a:lnTo>
                      <a:pt x="3338" y="525"/>
                    </a:lnTo>
                    <a:lnTo>
                      <a:pt x="3093" y="486"/>
                    </a:lnTo>
                    <a:lnTo>
                      <a:pt x="3093" y="458"/>
                    </a:lnTo>
                    <a:lnTo>
                      <a:pt x="3035" y="479"/>
                    </a:lnTo>
                    <a:lnTo>
                      <a:pt x="2784" y="436"/>
                    </a:lnTo>
                    <a:lnTo>
                      <a:pt x="2784" y="401"/>
                    </a:lnTo>
                    <a:lnTo>
                      <a:pt x="2727" y="425"/>
                    </a:lnTo>
                    <a:lnTo>
                      <a:pt x="2727" y="429"/>
                    </a:lnTo>
                    <a:lnTo>
                      <a:pt x="2461" y="387"/>
                    </a:lnTo>
                    <a:lnTo>
                      <a:pt x="2461" y="354"/>
                    </a:lnTo>
                    <a:lnTo>
                      <a:pt x="2414" y="380"/>
                    </a:lnTo>
                    <a:lnTo>
                      <a:pt x="2187" y="340"/>
                    </a:lnTo>
                    <a:lnTo>
                      <a:pt x="2187" y="305"/>
                    </a:lnTo>
                    <a:lnTo>
                      <a:pt x="2141" y="333"/>
                    </a:lnTo>
                    <a:lnTo>
                      <a:pt x="2138" y="333"/>
                    </a:lnTo>
                    <a:lnTo>
                      <a:pt x="1896" y="295"/>
                    </a:lnTo>
                    <a:lnTo>
                      <a:pt x="1896" y="269"/>
                    </a:lnTo>
                    <a:lnTo>
                      <a:pt x="1850" y="287"/>
                    </a:lnTo>
                    <a:lnTo>
                      <a:pt x="1605" y="248"/>
                    </a:lnTo>
                    <a:lnTo>
                      <a:pt x="1605" y="227"/>
                    </a:lnTo>
                    <a:lnTo>
                      <a:pt x="1566" y="241"/>
                    </a:lnTo>
                    <a:lnTo>
                      <a:pt x="1349" y="206"/>
                    </a:lnTo>
                    <a:lnTo>
                      <a:pt x="1349" y="174"/>
                    </a:lnTo>
                    <a:lnTo>
                      <a:pt x="1307" y="195"/>
                    </a:lnTo>
                    <a:lnTo>
                      <a:pt x="1307" y="198"/>
                    </a:lnTo>
                    <a:lnTo>
                      <a:pt x="1090" y="166"/>
                    </a:lnTo>
                    <a:lnTo>
                      <a:pt x="1090" y="142"/>
                    </a:lnTo>
                    <a:lnTo>
                      <a:pt x="1047" y="159"/>
                    </a:lnTo>
                    <a:lnTo>
                      <a:pt x="849" y="127"/>
                    </a:lnTo>
                    <a:lnTo>
                      <a:pt x="849" y="113"/>
                    </a:lnTo>
                    <a:lnTo>
                      <a:pt x="813" y="120"/>
                    </a:lnTo>
                    <a:lnTo>
                      <a:pt x="639" y="92"/>
                    </a:lnTo>
                    <a:lnTo>
                      <a:pt x="639" y="74"/>
                    </a:lnTo>
                    <a:lnTo>
                      <a:pt x="610" y="85"/>
                    </a:lnTo>
                    <a:lnTo>
                      <a:pt x="610" y="88"/>
                    </a:lnTo>
                    <a:lnTo>
                      <a:pt x="423" y="56"/>
                    </a:lnTo>
                    <a:lnTo>
                      <a:pt x="426" y="0"/>
                    </a:lnTo>
                    <a:lnTo>
                      <a:pt x="0" y="120"/>
                    </a:lnTo>
                    <a:lnTo>
                      <a:pt x="731" y="241"/>
                    </a:lnTo>
                    <a:lnTo>
                      <a:pt x="735" y="241"/>
                    </a:lnTo>
                    <a:lnTo>
                      <a:pt x="4300" y="819"/>
                    </a:lnTo>
                    <a:lnTo>
                      <a:pt x="5305" y="393"/>
                    </a:lnTo>
                    <a:lnTo>
                      <a:pt x="4996" y="362"/>
                    </a:lnTo>
                    <a:close/>
                  </a:path>
                </a:pathLst>
              </a:custGeom>
              <a:solidFill>
                <a:srgbClr val="dae3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281"/>
              <p:cNvSpPr/>
              <p:nvPr/>
            </p:nvSpPr>
            <p:spPr>
              <a:xfrm>
                <a:off x="5398200" y="5221080"/>
                <a:ext cx="654480" cy="91800"/>
              </a:xfrm>
              <a:custGeom>
                <a:avLst/>
                <a:gdLst/>
                <a:ahLst/>
                <a:rect l="l" t="t" r="r" b="b"/>
                <a:pathLst>
                  <a:path w="6286" h="1115">
                    <a:moveTo>
                      <a:pt x="5881" y="500"/>
                    </a:moveTo>
                    <a:lnTo>
                      <a:pt x="4876" y="926"/>
                    </a:lnTo>
                    <a:lnTo>
                      <a:pt x="1311" y="348"/>
                    </a:lnTo>
                    <a:lnTo>
                      <a:pt x="1307" y="348"/>
                    </a:lnTo>
                    <a:lnTo>
                      <a:pt x="576" y="227"/>
                    </a:lnTo>
                    <a:lnTo>
                      <a:pt x="555" y="224"/>
                    </a:lnTo>
                    <a:lnTo>
                      <a:pt x="576" y="227"/>
                    </a:lnTo>
                    <a:lnTo>
                      <a:pt x="1002" y="107"/>
                    </a:lnTo>
                    <a:lnTo>
                      <a:pt x="1009" y="0"/>
                    </a:lnTo>
                    <a:lnTo>
                      <a:pt x="0" y="231"/>
                    </a:lnTo>
                    <a:lnTo>
                      <a:pt x="558" y="327"/>
                    </a:lnTo>
                    <a:lnTo>
                      <a:pt x="562" y="331"/>
                    </a:lnTo>
                    <a:lnTo>
                      <a:pt x="1290" y="455"/>
                    </a:lnTo>
                    <a:lnTo>
                      <a:pt x="1293" y="455"/>
                    </a:lnTo>
                    <a:lnTo>
                      <a:pt x="5050" y="1115"/>
                    </a:lnTo>
                    <a:lnTo>
                      <a:pt x="5075" y="1115"/>
                    </a:lnTo>
                    <a:lnTo>
                      <a:pt x="5075" y="1108"/>
                    </a:lnTo>
                    <a:lnTo>
                      <a:pt x="6286" y="553"/>
                    </a:lnTo>
                    <a:lnTo>
                      <a:pt x="5881" y="500"/>
                    </a:lnTo>
                    <a:close/>
                  </a:path>
                </a:pathLst>
              </a:custGeom>
              <a:solidFill>
                <a:srgbClr val="dae3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282"/>
              <p:cNvSpPr/>
              <p:nvPr/>
            </p:nvSpPr>
            <p:spPr>
              <a:xfrm>
                <a:off x="5053680" y="4795560"/>
                <a:ext cx="534600" cy="412560"/>
              </a:xfrm>
              <a:custGeom>
                <a:avLst/>
                <a:gdLst/>
                <a:ahLst/>
                <a:rect l="l" t="t" r="r" b="b"/>
                <a:pathLst>
                  <a:path w="5139" h="4985">
                    <a:moveTo>
                      <a:pt x="5125" y="445"/>
                    </a:moveTo>
                    <a:lnTo>
                      <a:pt x="5124" y="418"/>
                    </a:lnTo>
                    <a:lnTo>
                      <a:pt x="5123" y="392"/>
                    </a:lnTo>
                    <a:lnTo>
                      <a:pt x="5122" y="365"/>
                    </a:lnTo>
                    <a:lnTo>
                      <a:pt x="5122" y="339"/>
                    </a:lnTo>
                    <a:lnTo>
                      <a:pt x="5121" y="312"/>
                    </a:lnTo>
                    <a:lnTo>
                      <a:pt x="5120" y="284"/>
                    </a:lnTo>
                    <a:lnTo>
                      <a:pt x="5119" y="259"/>
                    </a:lnTo>
                    <a:lnTo>
                      <a:pt x="5118" y="231"/>
                    </a:lnTo>
                    <a:lnTo>
                      <a:pt x="122" y="0"/>
                    </a:lnTo>
                    <a:lnTo>
                      <a:pt x="104" y="8"/>
                    </a:lnTo>
                    <a:lnTo>
                      <a:pt x="99" y="34"/>
                    </a:lnTo>
                    <a:lnTo>
                      <a:pt x="94" y="58"/>
                    </a:lnTo>
                    <a:lnTo>
                      <a:pt x="90" y="83"/>
                    </a:lnTo>
                    <a:lnTo>
                      <a:pt x="85" y="109"/>
                    </a:lnTo>
                    <a:lnTo>
                      <a:pt x="82" y="133"/>
                    </a:lnTo>
                    <a:lnTo>
                      <a:pt x="80" y="158"/>
                    </a:lnTo>
                    <a:lnTo>
                      <a:pt x="78" y="182"/>
                    </a:lnTo>
                    <a:lnTo>
                      <a:pt x="76" y="207"/>
                    </a:lnTo>
                    <a:lnTo>
                      <a:pt x="76" y="215"/>
                    </a:lnTo>
                    <a:lnTo>
                      <a:pt x="76" y="221"/>
                    </a:lnTo>
                    <a:lnTo>
                      <a:pt x="72" y="270"/>
                    </a:lnTo>
                    <a:lnTo>
                      <a:pt x="69" y="319"/>
                    </a:lnTo>
                    <a:lnTo>
                      <a:pt x="66" y="367"/>
                    </a:lnTo>
                    <a:lnTo>
                      <a:pt x="62" y="416"/>
                    </a:lnTo>
                    <a:lnTo>
                      <a:pt x="59" y="464"/>
                    </a:lnTo>
                    <a:lnTo>
                      <a:pt x="57" y="511"/>
                    </a:lnTo>
                    <a:lnTo>
                      <a:pt x="53" y="560"/>
                    </a:lnTo>
                    <a:lnTo>
                      <a:pt x="51" y="608"/>
                    </a:lnTo>
                    <a:lnTo>
                      <a:pt x="49" y="645"/>
                    </a:lnTo>
                    <a:lnTo>
                      <a:pt x="46" y="682"/>
                    </a:lnTo>
                    <a:lnTo>
                      <a:pt x="44" y="720"/>
                    </a:lnTo>
                    <a:lnTo>
                      <a:pt x="42" y="758"/>
                    </a:lnTo>
                    <a:lnTo>
                      <a:pt x="40" y="795"/>
                    </a:lnTo>
                    <a:lnTo>
                      <a:pt x="38" y="833"/>
                    </a:lnTo>
                    <a:lnTo>
                      <a:pt x="36" y="871"/>
                    </a:lnTo>
                    <a:lnTo>
                      <a:pt x="33" y="910"/>
                    </a:lnTo>
                    <a:lnTo>
                      <a:pt x="31" y="963"/>
                    </a:lnTo>
                    <a:lnTo>
                      <a:pt x="29" y="1016"/>
                    </a:lnTo>
                    <a:lnTo>
                      <a:pt x="27" y="1069"/>
                    </a:lnTo>
                    <a:lnTo>
                      <a:pt x="26" y="1121"/>
                    </a:lnTo>
                    <a:lnTo>
                      <a:pt x="23" y="1175"/>
                    </a:lnTo>
                    <a:lnTo>
                      <a:pt x="21" y="1228"/>
                    </a:lnTo>
                    <a:lnTo>
                      <a:pt x="19" y="1280"/>
                    </a:lnTo>
                    <a:lnTo>
                      <a:pt x="18" y="1333"/>
                    </a:lnTo>
                    <a:lnTo>
                      <a:pt x="16" y="1385"/>
                    </a:lnTo>
                    <a:lnTo>
                      <a:pt x="14" y="1437"/>
                    </a:lnTo>
                    <a:lnTo>
                      <a:pt x="12" y="1491"/>
                    </a:lnTo>
                    <a:lnTo>
                      <a:pt x="11" y="1543"/>
                    </a:lnTo>
                    <a:lnTo>
                      <a:pt x="9" y="1595"/>
                    </a:lnTo>
                    <a:lnTo>
                      <a:pt x="8" y="1647"/>
                    </a:lnTo>
                    <a:lnTo>
                      <a:pt x="6" y="1699"/>
                    </a:lnTo>
                    <a:lnTo>
                      <a:pt x="5" y="1750"/>
                    </a:lnTo>
                    <a:lnTo>
                      <a:pt x="5" y="1800"/>
                    </a:lnTo>
                    <a:lnTo>
                      <a:pt x="5" y="1849"/>
                    </a:lnTo>
                    <a:lnTo>
                      <a:pt x="3" y="1899"/>
                    </a:lnTo>
                    <a:lnTo>
                      <a:pt x="3" y="1947"/>
                    </a:lnTo>
                    <a:lnTo>
                      <a:pt x="2" y="1997"/>
                    </a:lnTo>
                    <a:lnTo>
                      <a:pt x="1" y="2046"/>
                    </a:lnTo>
                    <a:lnTo>
                      <a:pt x="1" y="2095"/>
                    </a:lnTo>
                    <a:lnTo>
                      <a:pt x="1" y="2145"/>
                    </a:lnTo>
                    <a:lnTo>
                      <a:pt x="0" y="2216"/>
                    </a:lnTo>
                    <a:lnTo>
                      <a:pt x="0" y="2287"/>
                    </a:lnTo>
                    <a:lnTo>
                      <a:pt x="0" y="2357"/>
                    </a:lnTo>
                    <a:lnTo>
                      <a:pt x="0" y="2426"/>
                    </a:lnTo>
                    <a:lnTo>
                      <a:pt x="1" y="2496"/>
                    </a:lnTo>
                    <a:lnTo>
                      <a:pt x="1" y="2566"/>
                    </a:lnTo>
                    <a:lnTo>
                      <a:pt x="2" y="2635"/>
                    </a:lnTo>
                    <a:lnTo>
                      <a:pt x="3" y="2704"/>
                    </a:lnTo>
                    <a:lnTo>
                      <a:pt x="5" y="2772"/>
                    </a:lnTo>
                    <a:lnTo>
                      <a:pt x="6" y="2841"/>
                    </a:lnTo>
                    <a:lnTo>
                      <a:pt x="8" y="2909"/>
                    </a:lnTo>
                    <a:lnTo>
                      <a:pt x="10" y="2976"/>
                    </a:lnTo>
                    <a:lnTo>
                      <a:pt x="11" y="3044"/>
                    </a:lnTo>
                    <a:lnTo>
                      <a:pt x="13" y="3112"/>
                    </a:lnTo>
                    <a:lnTo>
                      <a:pt x="17" y="3178"/>
                    </a:lnTo>
                    <a:lnTo>
                      <a:pt x="19" y="3245"/>
                    </a:lnTo>
                    <a:lnTo>
                      <a:pt x="20" y="3289"/>
                    </a:lnTo>
                    <a:lnTo>
                      <a:pt x="21" y="3332"/>
                    </a:lnTo>
                    <a:lnTo>
                      <a:pt x="23" y="3377"/>
                    </a:lnTo>
                    <a:lnTo>
                      <a:pt x="24" y="3421"/>
                    </a:lnTo>
                    <a:lnTo>
                      <a:pt x="27" y="3464"/>
                    </a:lnTo>
                    <a:lnTo>
                      <a:pt x="29" y="3509"/>
                    </a:lnTo>
                    <a:lnTo>
                      <a:pt x="31" y="3552"/>
                    </a:lnTo>
                    <a:lnTo>
                      <a:pt x="33" y="3596"/>
                    </a:lnTo>
                    <a:lnTo>
                      <a:pt x="36" y="3647"/>
                    </a:lnTo>
                    <a:lnTo>
                      <a:pt x="39" y="3697"/>
                    </a:lnTo>
                    <a:lnTo>
                      <a:pt x="41" y="3748"/>
                    </a:lnTo>
                    <a:lnTo>
                      <a:pt x="44" y="3798"/>
                    </a:lnTo>
                    <a:lnTo>
                      <a:pt x="48" y="3848"/>
                    </a:lnTo>
                    <a:lnTo>
                      <a:pt x="51" y="3898"/>
                    </a:lnTo>
                    <a:lnTo>
                      <a:pt x="54" y="3948"/>
                    </a:lnTo>
                    <a:lnTo>
                      <a:pt x="58" y="3998"/>
                    </a:lnTo>
                    <a:lnTo>
                      <a:pt x="274" y="3958"/>
                    </a:lnTo>
                    <a:lnTo>
                      <a:pt x="285" y="4025"/>
                    </a:lnTo>
                    <a:lnTo>
                      <a:pt x="289" y="4024"/>
                    </a:lnTo>
                    <a:lnTo>
                      <a:pt x="291" y="4024"/>
                    </a:lnTo>
                    <a:lnTo>
                      <a:pt x="295" y="4025"/>
                    </a:lnTo>
                    <a:lnTo>
                      <a:pt x="300" y="4025"/>
                    </a:lnTo>
                    <a:lnTo>
                      <a:pt x="308" y="4027"/>
                    </a:lnTo>
                    <a:lnTo>
                      <a:pt x="317" y="4031"/>
                    </a:lnTo>
                    <a:lnTo>
                      <a:pt x="326" y="4037"/>
                    </a:lnTo>
                    <a:lnTo>
                      <a:pt x="335" y="4043"/>
                    </a:lnTo>
                    <a:lnTo>
                      <a:pt x="340" y="4050"/>
                    </a:lnTo>
                    <a:lnTo>
                      <a:pt x="344" y="4056"/>
                    </a:lnTo>
                    <a:lnTo>
                      <a:pt x="348" y="4063"/>
                    </a:lnTo>
                    <a:lnTo>
                      <a:pt x="351" y="4070"/>
                    </a:lnTo>
                    <a:lnTo>
                      <a:pt x="353" y="4076"/>
                    </a:lnTo>
                    <a:lnTo>
                      <a:pt x="355" y="4083"/>
                    </a:lnTo>
                    <a:lnTo>
                      <a:pt x="356" y="4090"/>
                    </a:lnTo>
                    <a:lnTo>
                      <a:pt x="356" y="4096"/>
                    </a:lnTo>
                    <a:lnTo>
                      <a:pt x="356" y="4103"/>
                    </a:lnTo>
                    <a:lnTo>
                      <a:pt x="355" y="4110"/>
                    </a:lnTo>
                    <a:lnTo>
                      <a:pt x="353" y="4116"/>
                    </a:lnTo>
                    <a:lnTo>
                      <a:pt x="351" y="4123"/>
                    </a:lnTo>
                    <a:lnTo>
                      <a:pt x="348" y="4130"/>
                    </a:lnTo>
                    <a:lnTo>
                      <a:pt x="344" y="4135"/>
                    </a:lnTo>
                    <a:lnTo>
                      <a:pt x="340" y="4141"/>
                    </a:lnTo>
                    <a:lnTo>
                      <a:pt x="335" y="4146"/>
                    </a:lnTo>
                    <a:lnTo>
                      <a:pt x="330" y="4152"/>
                    </a:lnTo>
                    <a:lnTo>
                      <a:pt x="324" y="4156"/>
                    </a:lnTo>
                    <a:lnTo>
                      <a:pt x="317" y="4160"/>
                    </a:lnTo>
                    <a:lnTo>
                      <a:pt x="312" y="4163"/>
                    </a:lnTo>
                    <a:lnTo>
                      <a:pt x="305" y="4165"/>
                    </a:lnTo>
                    <a:lnTo>
                      <a:pt x="298" y="4166"/>
                    </a:lnTo>
                    <a:lnTo>
                      <a:pt x="292" y="4167"/>
                    </a:lnTo>
                    <a:lnTo>
                      <a:pt x="285" y="4167"/>
                    </a:lnTo>
                    <a:lnTo>
                      <a:pt x="267" y="4292"/>
                    </a:lnTo>
                    <a:lnTo>
                      <a:pt x="1411" y="4459"/>
                    </a:lnTo>
                    <a:lnTo>
                      <a:pt x="2480" y="4611"/>
                    </a:lnTo>
                    <a:lnTo>
                      <a:pt x="2483" y="4611"/>
                    </a:lnTo>
                    <a:lnTo>
                      <a:pt x="2689" y="4643"/>
                    </a:lnTo>
                    <a:lnTo>
                      <a:pt x="4912" y="4959"/>
                    </a:lnTo>
                    <a:lnTo>
                      <a:pt x="5064" y="4985"/>
                    </a:lnTo>
                    <a:lnTo>
                      <a:pt x="5069" y="4980"/>
                    </a:lnTo>
                    <a:lnTo>
                      <a:pt x="5080" y="4691"/>
                    </a:lnTo>
                    <a:lnTo>
                      <a:pt x="5091" y="4402"/>
                    </a:lnTo>
                    <a:lnTo>
                      <a:pt x="5101" y="4114"/>
                    </a:lnTo>
                    <a:lnTo>
                      <a:pt x="5110" y="3827"/>
                    </a:lnTo>
                    <a:lnTo>
                      <a:pt x="5118" y="3540"/>
                    </a:lnTo>
                    <a:lnTo>
                      <a:pt x="5123" y="3255"/>
                    </a:lnTo>
                    <a:lnTo>
                      <a:pt x="5129" y="2970"/>
                    </a:lnTo>
                    <a:lnTo>
                      <a:pt x="5133" y="2686"/>
                    </a:lnTo>
                    <a:lnTo>
                      <a:pt x="5135" y="2403"/>
                    </a:lnTo>
                    <a:lnTo>
                      <a:pt x="5138" y="2120"/>
                    </a:lnTo>
                    <a:lnTo>
                      <a:pt x="5139" y="1839"/>
                    </a:lnTo>
                    <a:lnTo>
                      <a:pt x="5138" y="1558"/>
                    </a:lnTo>
                    <a:lnTo>
                      <a:pt x="5136" y="1279"/>
                    </a:lnTo>
                    <a:lnTo>
                      <a:pt x="5133" y="999"/>
                    </a:lnTo>
                    <a:lnTo>
                      <a:pt x="5130" y="722"/>
                    </a:lnTo>
                    <a:lnTo>
                      <a:pt x="5125" y="445"/>
                    </a:lnTo>
                    <a:close/>
                    <a:moveTo>
                      <a:pt x="4980" y="387"/>
                    </a:moveTo>
                    <a:lnTo>
                      <a:pt x="4986" y="393"/>
                    </a:lnTo>
                    <a:lnTo>
                      <a:pt x="4991" y="399"/>
                    </a:lnTo>
                    <a:lnTo>
                      <a:pt x="4996" y="406"/>
                    </a:lnTo>
                    <a:lnTo>
                      <a:pt x="4999" y="414"/>
                    </a:lnTo>
                    <a:lnTo>
                      <a:pt x="5001" y="421"/>
                    </a:lnTo>
                    <a:lnTo>
                      <a:pt x="5003" y="428"/>
                    </a:lnTo>
                    <a:lnTo>
                      <a:pt x="5004" y="436"/>
                    </a:lnTo>
                    <a:lnTo>
                      <a:pt x="5004" y="445"/>
                    </a:lnTo>
                    <a:lnTo>
                      <a:pt x="5004" y="454"/>
                    </a:lnTo>
                    <a:lnTo>
                      <a:pt x="5003" y="462"/>
                    </a:lnTo>
                    <a:lnTo>
                      <a:pt x="5001" y="469"/>
                    </a:lnTo>
                    <a:lnTo>
                      <a:pt x="4999" y="477"/>
                    </a:lnTo>
                    <a:lnTo>
                      <a:pt x="4996" y="484"/>
                    </a:lnTo>
                    <a:lnTo>
                      <a:pt x="4991" y="490"/>
                    </a:lnTo>
                    <a:lnTo>
                      <a:pt x="4986" y="496"/>
                    </a:lnTo>
                    <a:lnTo>
                      <a:pt x="4980" y="502"/>
                    </a:lnTo>
                    <a:lnTo>
                      <a:pt x="4975" y="507"/>
                    </a:lnTo>
                    <a:lnTo>
                      <a:pt x="4968" y="513"/>
                    </a:lnTo>
                    <a:lnTo>
                      <a:pt x="4962" y="517"/>
                    </a:lnTo>
                    <a:lnTo>
                      <a:pt x="4956" y="520"/>
                    </a:lnTo>
                    <a:lnTo>
                      <a:pt x="4948" y="523"/>
                    </a:lnTo>
                    <a:lnTo>
                      <a:pt x="4940" y="525"/>
                    </a:lnTo>
                    <a:lnTo>
                      <a:pt x="4931" y="526"/>
                    </a:lnTo>
                    <a:lnTo>
                      <a:pt x="4922" y="526"/>
                    </a:lnTo>
                    <a:lnTo>
                      <a:pt x="4915" y="526"/>
                    </a:lnTo>
                    <a:lnTo>
                      <a:pt x="4907" y="525"/>
                    </a:lnTo>
                    <a:lnTo>
                      <a:pt x="4899" y="523"/>
                    </a:lnTo>
                    <a:lnTo>
                      <a:pt x="4891" y="520"/>
                    </a:lnTo>
                    <a:lnTo>
                      <a:pt x="4885" y="517"/>
                    </a:lnTo>
                    <a:lnTo>
                      <a:pt x="4878" y="513"/>
                    </a:lnTo>
                    <a:lnTo>
                      <a:pt x="4871" y="507"/>
                    </a:lnTo>
                    <a:lnTo>
                      <a:pt x="4866" y="502"/>
                    </a:lnTo>
                    <a:lnTo>
                      <a:pt x="4860" y="496"/>
                    </a:lnTo>
                    <a:lnTo>
                      <a:pt x="4855" y="490"/>
                    </a:lnTo>
                    <a:lnTo>
                      <a:pt x="4850" y="484"/>
                    </a:lnTo>
                    <a:lnTo>
                      <a:pt x="4847" y="477"/>
                    </a:lnTo>
                    <a:lnTo>
                      <a:pt x="4845" y="469"/>
                    </a:lnTo>
                    <a:lnTo>
                      <a:pt x="4842" y="462"/>
                    </a:lnTo>
                    <a:lnTo>
                      <a:pt x="4841" y="454"/>
                    </a:lnTo>
                    <a:lnTo>
                      <a:pt x="4841" y="445"/>
                    </a:lnTo>
                    <a:lnTo>
                      <a:pt x="4841" y="436"/>
                    </a:lnTo>
                    <a:lnTo>
                      <a:pt x="4842" y="428"/>
                    </a:lnTo>
                    <a:lnTo>
                      <a:pt x="4845" y="421"/>
                    </a:lnTo>
                    <a:lnTo>
                      <a:pt x="4847" y="414"/>
                    </a:lnTo>
                    <a:lnTo>
                      <a:pt x="4850" y="406"/>
                    </a:lnTo>
                    <a:lnTo>
                      <a:pt x="4855" y="399"/>
                    </a:lnTo>
                    <a:lnTo>
                      <a:pt x="4860" y="393"/>
                    </a:lnTo>
                    <a:lnTo>
                      <a:pt x="4866" y="387"/>
                    </a:lnTo>
                    <a:lnTo>
                      <a:pt x="4871" y="382"/>
                    </a:lnTo>
                    <a:lnTo>
                      <a:pt x="4878" y="376"/>
                    </a:lnTo>
                    <a:lnTo>
                      <a:pt x="4885" y="372"/>
                    </a:lnTo>
                    <a:lnTo>
                      <a:pt x="4891" y="368"/>
                    </a:lnTo>
                    <a:lnTo>
                      <a:pt x="4899" y="366"/>
                    </a:lnTo>
                    <a:lnTo>
                      <a:pt x="4907" y="364"/>
                    </a:lnTo>
                    <a:lnTo>
                      <a:pt x="4915" y="363"/>
                    </a:lnTo>
                    <a:lnTo>
                      <a:pt x="4922" y="363"/>
                    </a:lnTo>
                    <a:lnTo>
                      <a:pt x="4931" y="363"/>
                    </a:lnTo>
                    <a:lnTo>
                      <a:pt x="4940" y="364"/>
                    </a:lnTo>
                    <a:lnTo>
                      <a:pt x="4948" y="366"/>
                    </a:lnTo>
                    <a:lnTo>
                      <a:pt x="4956" y="368"/>
                    </a:lnTo>
                    <a:lnTo>
                      <a:pt x="4962" y="372"/>
                    </a:lnTo>
                    <a:lnTo>
                      <a:pt x="4968" y="376"/>
                    </a:lnTo>
                    <a:lnTo>
                      <a:pt x="4975" y="382"/>
                    </a:lnTo>
                    <a:lnTo>
                      <a:pt x="4980" y="387"/>
                    </a:lnTo>
                    <a:close/>
                    <a:moveTo>
                      <a:pt x="4446" y="760"/>
                    </a:moveTo>
                    <a:lnTo>
                      <a:pt x="4446" y="764"/>
                    </a:lnTo>
                    <a:lnTo>
                      <a:pt x="4435" y="999"/>
                    </a:lnTo>
                    <a:lnTo>
                      <a:pt x="4424" y="1236"/>
                    </a:lnTo>
                    <a:lnTo>
                      <a:pt x="4414" y="1471"/>
                    </a:lnTo>
                    <a:lnTo>
                      <a:pt x="4405" y="1707"/>
                    </a:lnTo>
                    <a:lnTo>
                      <a:pt x="4398" y="1942"/>
                    </a:lnTo>
                    <a:lnTo>
                      <a:pt x="4390" y="2178"/>
                    </a:lnTo>
                    <a:lnTo>
                      <a:pt x="4383" y="2413"/>
                    </a:lnTo>
                    <a:lnTo>
                      <a:pt x="4378" y="2649"/>
                    </a:lnTo>
                    <a:lnTo>
                      <a:pt x="4373" y="2884"/>
                    </a:lnTo>
                    <a:lnTo>
                      <a:pt x="4369" y="3121"/>
                    </a:lnTo>
                    <a:lnTo>
                      <a:pt x="4365" y="3357"/>
                    </a:lnTo>
                    <a:lnTo>
                      <a:pt x="4363" y="3593"/>
                    </a:lnTo>
                    <a:lnTo>
                      <a:pt x="4361" y="3828"/>
                    </a:lnTo>
                    <a:lnTo>
                      <a:pt x="4361" y="4064"/>
                    </a:lnTo>
                    <a:lnTo>
                      <a:pt x="4361" y="4300"/>
                    </a:lnTo>
                    <a:lnTo>
                      <a:pt x="4362" y="4537"/>
                    </a:lnTo>
                    <a:lnTo>
                      <a:pt x="4358" y="4537"/>
                    </a:lnTo>
                    <a:lnTo>
                      <a:pt x="4348" y="4533"/>
                    </a:lnTo>
                    <a:lnTo>
                      <a:pt x="2526" y="4296"/>
                    </a:lnTo>
                    <a:lnTo>
                      <a:pt x="2523" y="4296"/>
                    </a:lnTo>
                    <a:lnTo>
                      <a:pt x="790" y="4069"/>
                    </a:lnTo>
                    <a:lnTo>
                      <a:pt x="345" y="3954"/>
                    </a:lnTo>
                    <a:lnTo>
                      <a:pt x="327" y="3948"/>
                    </a:lnTo>
                    <a:lnTo>
                      <a:pt x="325" y="3901"/>
                    </a:lnTo>
                    <a:lnTo>
                      <a:pt x="322" y="3855"/>
                    </a:lnTo>
                    <a:lnTo>
                      <a:pt x="318" y="3809"/>
                    </a:lnTo>
                    <a:lnTo>
                      <a:pt x="315" y="3764"/>
                    </a:lnTo>
                    <a:lnTo>
                      <a:pt x="312" y="3718"/>
                    </a:lnTo>
                    <a:lnTo>
                      <a:pt x="308" y="3673"/>
                    </a:lnTo>
                    <a:lnTo>
                      <a:pt x="306" y="3627"/>
                    </a:lnTo>
                    <a:lnTo>
                      <a:pt x="303" y="3582"/>
                    </a:lnTo>
                    <a:lnTo>
                      <a:pt x="274" y="3579"/>
                    </a:lnTo>
                    <a:lnTo>
                      <a:pt x="303" y="3582"/>
                    </a:lnTo>
                    <a:lnTo>
                      <a:pt x="300" y="3539"/>
                    </a:lnTo>
                    <a:lnTo>
                      <a:pt x="296" y="3495"/>
                    </a:lnTo>
                    <a:lnTo>
                      <a:pt x="294" y="3452"/>
                    </a:lnTo>
                    <a:lnTo>
                      <a:pt x="292" y="3409"/>
                    </a:lnTo>
                    <a:lnTo>
                      <a:pt x="290" y="3366"/>
                    </a:lnTo>
                    <a:lnTo>
                      <a:pt x="289" y="3324"/>
                    </a:lnTo>
                    <a:lnTo>
                      <a:pt x="286" y="3280"/>
                    </a:lnTo>
                    <a:lnTo>
                      <a:pt x="285" y="3238"/>
                    </a:lnTo>
                    <a:lnTo>
                      <a:pt x="256" y="3234"/>
                    </a:lnTo>
                    <a:lnTo>
                      <a:pt x="285" y="3238"/>
                    </a:lnTo>
                    <a:lnTo>
                      <a:pt x="283" y="3197"/>
                    </a:lnTo>
                    <a:lnTo>
                      <a:pt x="281" y="3155"/>
                    </a:lnTo>
                    <a:lnTo>
                      <a:pt x="279" y="3114"/>
                    </a:lnTo>
                    <a:lnTo>
                      <a:pt x="276" y="3073"/>
                    </a:lnTo>
                    <a:lnTo>
                      <a:pt x="275" y="3032"/>
                    </a:lnTo>
                    <a:lnTo>
                      <a:pt x="274" y="2990"/>
                    </a:lnTo>
                    <a:lnTo>
                      <a:pt x="272" y="2949"/>
                    </a:lnTo>
                    <a:lnTo>
                      <a:pt x="271" y="2908"/>
                    </a:lnTo>
                    <a:lnTo>
                      <a:pt x="271" y="2904"/>
                    </a:lnTo>
                    <a:lnTo>
                      <a:pt x="270" y="2858"/>
                    </a:lnTo>
                    <a:lnTo>
                      <a:pt x="269" y="2810"/>
                    </a:lnTo>
                    <a:lnTo>
                      <a:pt x="269" y="2764"/>
                    </a:lnTo>
                    <a:lnTo>
                      <a:pt x="267" y="2716"/>
                    </a:lnTo>
                    <a:lnTo>
                      <a:pt x="266" y="2668"/>
                    </a:lnTo>
                    <a:lnTo>
                      <a:pt x="266" y="2621"/>
                    </a:lnTo>
                    <a:lnTo>
                      <a:pt x="265" y="2573"/>
                    </a:lnTo>
                    <a:lnTo>
                      <a:pt x="264" y="2524"/>
                    </a:lnTo>
                    <a:lnTo>
                      <a:pt x="264" y="2477"/>
                    </a:lnTo>
                    <a:lnTo>
                      <a:pt x="264" y="2431"/>
                    </a:lnTo>
                    <a:lnTo>
                      <a:pt x="264" y="2383"/>
                    </a:lnTo>
                    <a:lnTo>
                      <a:pt x="264" y="2336"/>
                    </a:lnTo>
                    <a:lnTo>
                      <a:pt x="264" y="2288"/>
                    </a:lnTo>
                    <a:lnTo>
                      <a:pt x="264" y="2240"/>
                    </a:lnTo>
                    <a:lnTo>
                      <a:pt x="264" y="2192"/>
                    </a:lnTo>
                    <a:lnTo>
                      <a:pt x="264" y="2145"/>
                    </a:lnTo>
                    <a:lnTo>
                      <a:pt x="265" y="2095"/>
                    </a:lnTo>
                    <a:lnTo>
                      <a:pt x="266" y="2046"/>
                    </a:lnTo>
                    <a:lnTo>
                      <a:pt x="266" y="1997"/>
                    </a:lnTo>
                    <a:lnTo>
                      <a:pt x="267" y="1947"/>
                    </a:lnTo>
                    <a:lnTo>
                      <a:pt x="269" y="1899"/>
                    </a:lnTo>
                    <a:lnTo>
                      <a:pt x="269" y="1849"/>
                    </a:lnTo>
                    <a:lnTo>
                      <a:pt x="270" y="1800"/>
                    </a:lnTo>
                    <a:lnTo>
                      <a:pt x="271" y="1750"/>
                    </a:lnTo>
                    <a:lnTo>
                      <a:pt x="271" y="1748"/>
                    </a:lnTo>
                    <a:lnTo>
                      <a:pt x="271" y="1747"/>
                    </a:lnTo>
                    <a:lnTo>
                      <a:pt x="273" y="1695"/>
                    </a:lnTo>
                    <a:lnTo>
                      <a:pt x="274" y="1644"/>
                    </a:lnTo>
                    <a:lnTo>
                      <a:pt x="276" y="1591"/>
                    </a:lnTo>
                    <a:lnTo>
                      <a:pt x="279" y="1539"/>
                    </a:lnTo>
                    <a:lnTo>
                      <a:pt x="281" y="1487"/>
                    </a:lnTo>
                    <a:lnTo>
                      <a:pt x="283" y="1435"/>
                    </a:lnTo>
                    <a:lnTo>
                      <a:pt x="286" y="1384"/>
                    </a:lnTo>
                    <a:lnTo>
                      <a:pt x="289" y="1332"/>
                    </a:lnTo>
                    <a:lnTo>
                      <a:pt x="291" y="1281"/>
                    </a:lnTo>
                    <a:lnTo>
                      <a:pt x="293" y="1230"/>
                    </a:lnTo>
                    <a:lnTo>
                      <a:pt x="295" y="1179"/>
                    </a:lnTo>
                    <a:lnTo>
                      <a:pt x="298" y="1127"/>
                    </a:lnTo>
                    <a:lnTo>
                      <a:pt x="301" y="1076"/>
                    </a:lnTo>
                    <a:lnTo>
                      <a:pt x="304" y="1024"/>
                    </a:lnTo>
                    <a:lnTo>
                      <a:pt x="307" y="972"/>
                    </a:lnTo>
                    <a:lnTo>
                      <a:pt x="310" y="920"/>
                    </a:lnTo>
                    <a:lnTo>
                      <a:pt x="313" y="884"/>
                    </a:lnTo>
                    <a:lnTo>
                      <a:pt x="315" y="849"/>
                    </a:lnTo>
                    <a:lnTo>
                      <a:pt x="317" y="812"/>
                    </a:lnTo>
                    <a:lnTo>
                      <a:pt x="321" y="775"/>
                    </a:lnTo>
                    <a:lnTo>
                      <a:pt x="323" y="740"/>
                    </a:lnTo>
                    <a:lnTo>
                      <a:pt x="325" y="703"/>
                    </a:lnTo>
                    <a:lnTo>
                      <a:pt x="326" y="666"/>
                    </a:lnTo>
                    <a:lnTo>
                      <a:pt x="327" y="629"/>
                    </a:lnTo>
                    <a:lnTo>
                      <a:pt x="345" y="611"/>
                    </a:lnTo>
                    <a:lnTo>
                      <a:pt x="719" y="409"/>
                    </a:lnTo>
                    <a:lnTo>
                      <a:pt x="4436" y="658"/>
                    </a:lnTo>
                    <a:lnTo>
                      <a:pt x="4443" y="742"/>
                    </a:lnTo>
                    <a:lnTo>
                      <a:pt x="4446" y="760"/>
                    </a:lnTo>
                    <a:close/>
                    <a:moveTo>
                      <a:pt x="353" y="178"/>
                    </a:moveTo>
                    <a:lnTo>
                      <a:pt x="357" y="183"/>
                    </a:lnTo>
                    <a:lnTo>
                      <a:pt x="362" y="190"/>
                    </a:lnTo>
                    <a:lnTo>
                      <a:pt x="366" y="195"/>
                    </a:lnTo>
                    <a:lnTo>
                      <a:pt x="368" y="202"/>
                    </a:lnTo>
                    <a:lnTo>
                      <a:pt x="371" y="209"/>
                    </a:lnTo>
                    <a:lnTo>
                      <a:pt x="373" y="217"/>
                    </a:lnTo>
                    <a:lnTo>
                      <a:pt x="374" y="223"/>
                    </a:lnTo>
                    <a:lnTo>
                      <a:pt x="374" y="231"/>
                    </a:lnTo>
                    <a:lnTo>
                      <a:pt x="374" y="238"/>
                    </a:lnTo>
                    <a:lnTo>
                      <a:pt x="374" y="244"/>
                    </a:lnTo>
                    <a:lnTo>
                      <a:pt x="373" y="251"/>
                    </a:lnTo>
                    <a:lnTo>
                      <a:pt x="371" y="256"/>
                    </a:lnTo>
                    <a:lnTo>
                      <a:pt x="362" y="270"/>
                    </a:lnTo>
                    <a:lnTo>
                      <a:pt x="353" y="281"/>
                    </a:lnTo>
                    <a:lnTo>
                      <a:pt x="347" y="286"/>
                    </a:lnTo>
                    <a:lnTo>
                      <a:pt x="342" y="291"/>
                    </a:lnTo>
                    <a:lnTo>
                      <a:pt x="335" y="294"/>
                    </a:lnTo>
                    <a:lnTo>
                      <a:pt x="330" y="297"/>
                    </a:lnTo>
                    <a:lnTo>
                      <a:pt x="323" y="300"/>
                    </a:lnTo>
                    <a:lnTo>
                      <a:pt x="316" y="301"/>
                    </a:lnTo>
                    <a:lnTo>
                      <a:pt x="310" y="302"/>
                    </a:lnTo>
                    <a:lnTo>
                      <a:pt x="303" y="302"/>
                    </a:lnTo>
                    <a:lnTo>
                      <a:pt x="295" y="302"/>
                    </a:lnTo>
                    <a:lnTo>
                      <a:pt x="287" y="301"/>
                    </a:lnTo>
                    <a:lnTo>
                      <a:pt x="281" y="300"/>
                    </a:lnTo>
                    <a:lnTo>
                      <a:pt x="274" y="297"/>
                    </a:lnTo>
                    <a:lnTo>
                      <a:pt x="267" y="294"/>
                    </a:lnTo>
                    <a:lnTo>
                      <a:pt x="261" y="291"/>
                    </a:lnTo>
                    <a:lnTo>
                      <a:pt x="255" y="286"/>
                    </a:lnTo>
                    <a:lnTo>
                      <a:pt x="250" y="281"/>
                    </a:lnTo>
                    <a:lnTo>
                      <a:pt x="242" y="273"/>
                    </a:lnTo>
                    <a:lnTo>
                      <a:pt x="236" y="264"/>
                    </a:lnTo>
                    <a:lnTo>
                      <a:pt x="235" y="261"/>
                    </a:lnTo>
                    <a:lnTo>
                      <a:pt x="233" y="255"/>
                    </a:lnTo>
                    <a:lnTo>
                      <a:pt x="232" y="251"/>
                    </a:lnTo>
                    <a:lnTo>
                      <a:pt x="232" y="245"/>
                    </a:lnTo>
                    <a:lnTo>
                      <a:pt x="230" y="242"/>
                    </a:lnTo>
                    <a:lnTo>
                      <a:pt x="229" y="239"/>
                    </a:lnTo>
                    <a:lnTo>
                      <a:pt x="229" y="234"/>
                    </a:lnTo>
                    <a:lnTo>
                      <a:pt x="229" y="231"/>
                    </a:lnTo>
                    <a:lnTo>
                      <a:pt x="229" y="223"/>
                    </a:lnTo>
                    <a:lnTo>
                      <a:pt x="230" y="217"/>
                    </a:lnTo>
                    <a:lnTo>
                      <a:pt x="232" y="209"/>
                    </a:lnTo>
                    <a:lnTo>
                      <a:pt x="234" y="202"/>
                    </a:lnTo>
                    <a:lnTo>
                      <a:pt x="236" y="195"/>
                    </a:lnTo>
                    <a:lnTo>
                      <a:pt x="241" y="190"/>
                    </a:lnTo>
                    <a:lnTo>
                      <a:pt x="245" y="183"/>
                    </a:lnTo>
                    <a:lnTo>
                      <a:pt x="250" y="178"/>
                    </a:lnTo>
                    <a:lnTo>
                      <a:pt x="255" y="173"/>
                    </a:lnTo>
                    <a:lnTo>
                      <a:pt x="261" y="169"/>
                    </a:lnTo>
                    <a:lnTo>
                      <a:pt x="267" y="166"/>
                    </a:lnTo>
                    <a:lnTo>
                      <a:pt x="274" y="162"/>
                    </a:lnTo>
                    <a:lnTo>
                      <a:pt x="281" y="160"/>
                    </a:lnTo>
                    <a:lnTo>
                      <a:pt x="287" y="158"/>
                    </a:lnTo>
                    <a:lnTo>
                      <a:pt x="295" y="158"/>
                    </a:lnTo>
                    <a:lnTo>
                      <a:pt x="303" y="157"/>
                    </a:lnTo>
                    <a:lnTo>
                      <a:pt x="310" y="158"/>
                    </a:lnTo>
                    <a:lnTo>
                      <a:pt x="316" y="158"/>
                    </a:lnTo>
                    <a:lnTo>
                      <a:pt x="323" y="160"/>
                    </a:lnTo>
                    <a:lnTo>
                      <a:pt x="330" y="162"/>
                    </a:lnTo>
                    <a:lnTo>
                      <a:pt x="335" y="166"/>
                    </a:lnTo>
                    <a:lnTo>
                      <a:pt x="342" y="169"/>
                    </a:lnTo>
                    <a:lnTo>
                      <a:pt x="347" y="173"/>
                    </a:lnTo>
                    <a:lnTo>
                      <a:pt x="353" y="178"/>
                    </a:lnTo>
                    <a:close/>
                    <a:moveTo>
                      <a:pt x="4742" y="4707"/>
                    </a:moveTo>
                    <a:lnTo>
                      <a:pt x="4742" y="4698"/>
                    </a:lnTo>
                    <a:lnTo>
                      <a:pt x="4743" y="4690"/>
                    </a:lnTo>
                    <a:lnTo>
                      <a:pt x="4745" y="4682"/>
                    </a:lnTo>
                    <a:lnTo>
                      <a:pt x="4747" y="4674"/>
                    </a:lnTo>
                    <a:lnTo>
                      <a:pt x="4750" y="4667"/>
                    </a:lnTo>
                    <a:lnTo>
                      <a:pt x="4755" y="4661"/>
                    </a:lnTo>
                    <a:lnTo>
                      <a:pt x="4760" y="4654"/>
                    </a:lnTo>
                    <a:lnTo>
                      <a:pt x="4767" y="4646"/>
                    </a:lnTo>
                    <a:lnTo>
                      <a:pt x="4773" y="4642"/>
                    </a:lnTo>
                    <a:lnTo>
                      <a:pt x="4778" y="4638"/>
                    </a:lnTo>
                    <a:lnTo>
                      <a:pt x="4785" y="4634"/>
                    </a:lnTo>
                    <a:lnTo>
                      <a:pt x="4793" y="4631"/>
                    </a:lnTo>
                    <a:lnTo>
                      <a:pt x="4799" y="4629"/>
                    </a:lnTo>
                    <a:lnTo>
                      <a:pt x="4807" y="4626"/>
                    </a:lnTo>
                    <a:lnTo>
                      <a:pt x="4816" y="4626"/>
                    </a:lnTo>
                    <a:lnTo>
                      <a:pt x="4824" y="4625"/>
                    </a:lnTo>
                    <a:lnTo>
                      <a:pt x="4833" y="4626"/>
                    </a:lnTo>
                    <a:lnTo>
                      <a:pt x="4840" y="4626"/>
                    </a:lnTo>
                    <a:lnTo>
                      <a:pt x="4848" y="4629"/>
                    </a:lnTo>
                    <a:lnTo>
                      <a:pt x="4856" y="4631"/>
                    </a:lnTo>
                    <a:lnTo>
                      <a:pt x="4862" y="4634"/>
                    </a:lnTo>
                    <a:lnTo>
                      <a:pt x="4869" y="4638"/>
                    </a:lnTo>
                    <a:lnTo>
                      <a:pt x="4875" y="4642"/>
                    </a:lnTo>
                    <a:lnTo>
                      <a:pt x="4880" y="4646"/>
                    </a:lnTo>
                    <a:lnTo>
                      <a:pt x="4887" y="4654"/>
                    </a:lnTo>
                    <a:lnTo>
                      <a:pt x="4891" y="4661"/>
                    </a:lnTo>
                    <a:lnTo>
                      <a:pt x="4896" y="4667"/>
                    </a:lnTo>
                    <a:lnTo>
                      <a:pt x="4899" y="4674"/>
                    </a:lnTo>
                    <a:lnTo>
                      <a:pt x="4901" y="4682"/>
                    </a:lnTo>
                    <a:lnTo>
                      <a:pt x="4904" y="4690"/>
                    </a:lnTo>
                    <a:lnTo>
                      <a:pt x="4905" y="4698"/>
                    </a:lnTo>
                    <a:lnTo>
                      <a:pt x="4905" y="4707"/>
                    </a:lnTo>
                    <a:lnTo>
                      <a:pt x="4905" y="4715"/>
                    </a:lnTo>
                    <a:lnTo>
                      <a:pt x="4904" y="4723"/>
                    </a:lnTo>
                    <a:lnTo>
                      <a:pt x="4901" y="4730"/>
                    </a:lnTo>
                    <a:lnTo>
                      <a:pt x="4899" y="4737"/>
                    </a:lnTo>
                    <a:lnTo>
                      <a:pt x="4896" y="4744"/>
                    </a:lnTo>
                    <a:lnTo>
                      <a:pt x="4891" y="4751"/>
                    </a:lnTo>
                    <a:lnTo>
                      <a:pt x="4887" y="4757"/>
                    </a:lnTo>
                    <a:lnTo>
                      <a:pt x="4880" y="4764"/>
                    </a:lnTo>
                    <a:lnTo>
                      <a:pt x="4875" y="4769"/>
                    </a:lnTo>
                    <a:lnTo>
                      <a:pt x="4869" y="4774"/>
                    </a:lnTo>
                    <a:lnTo>
                      <a:pt x="4862" y="4778"/>
                    </a:lnTo>
                    <a:lnTo>
                      <a:pt x="4856" y="4782"/>
                    </a:lnTo>
                    <a:lnTo>
                      <a:pt x="4848" y="4785"/>
                    </a:lnTo>
                    <a:lnTo>
                      <a:pt x="4840" y="4787"/>
                    </a:lnTo>
                    <a:lnTo>
                      <a:pt x="4833" y="4788"/>
                    </a:lnTo>
                    <a:lnTo>
                      <a:pt x="4824" y="4789"/>
                    </a:lnTo>
                    <a:lnTo>
                      <a:pt x="4816" y="4788"/>
                    </a:lnTo>
                    <a:lnTo>
                      <a:pt x="4807" y="4787"/>
                    </a:lnTo>
                    <a:lnTo>
                      <a:pt x="4799" y="4785"/>
                    </a:lnTo>
                    <a:lnTo>
                      <a:pt x="4793" y="4782"/>
                    </a:lnTo>
                    <a:lnTo>
                      <a:pt x="4785" y="4778"/>
                    </a:lnTo>
                    <a:lnTo>
                      <a:pt x="4778" y="4774"/>
                    </a:lnTo>
                    <a:lnTo>
                      <a:pt x="4773" y="4769"/>
                    </a:lnTo>
                    <a:lnTo>
                      <a:pt x="4767" y="4764"/>
                    </a:lnTo>
                    <a:lnTo>
                      <a:pt x="4760" y="4757"/>
                    </a:lnTo>
                    <a:lnTo>
                      <a:pt x="4755" y="4751"/>
                    </a:lnTo>
                    <a:lnTo>
                      <a:pt x="4750" y="4744"/>
                    </a:lnTo>
                    <a:lnTo>
                      <a:pt x="4747" y="4737"/>
                    </a:lnTo>
                    <a:lnTo>
                      <a:pt x="4745" y="4730"/>
                    </a:lnTo>
                    <a:lnTo>
                      <a:pt x="4743" y="4723"/>
                    </a:lnTo>
                    <a:lnTo>
                      <a:pt x="4742" y="4715"/>
                    </a:lnTo>
                    <a:lnTo>
                      <a:pt x="4742" y="4707"/>
                    </a:lnTo>
                    <a:close/>
                  </a:path>
                </a:pathLst>
              </a:custGeom>
              <a:solidFill>
                <a:srgbClr val="e8e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283"/>
              <p:cNvSpPr/>
              <p:nvPr/>
            </p:nvSpPr>
            <p:spPr>
              <a:xfrm>
                <a:off x="5557320" y="482544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63" h="163">
                    <a:moveTo>
                      <a:pt x="163" y="82"/>
                    </a:moveTo>
                    <a:lnTo>
                      <a:pt x="163" y="73"/>
                    </a:lnTo>
                    <a:lnTo>
                      <a:pt x="162" y="65"/>
                    </a:lnTo>
                    <a:lnTo>
                      <a:pt x="160" y="58"/>
                    </a:lnTo>
                    <a:lnTo>
                      <a:pt x="158" y="51"/>
                    </a:lnTo>
                    <a:lnTo>
                      <a:pt x="155" y="43"/>
                    </a:lnTo>
                    <a:lnTo>
                      <a:pt x="150" y="36"/>
                    </a:lnTo>
                    <a:lnTo>
                      <a:pt x="145" y="30"/>
                    </a:lnTo>
                    <a:lnTo>
                      <a:pt x="139" y="24"/>
                    </a:lnTo>
                    <a:lnTo>
                      <a:pt x="134" y="19"/>
                    </a:lnTo>
                    <a:lnTo>
                      <a:pt x="127" y="13"/>
                    </a:lnTo>
                    <a:lnTo>
                      <a:pt x="121" y="9"/>
                    </a:lnTo>
                    <a:lnTo>
                      <a:pt x="115" y="5"/>
                    </a:lnTo>
                    <a:lnTo>
                      <a:pt x="107" y="3"/>
                    </a:lnTo>
                    <a:lnTo>
                      <a:pt x="99" y="1"/>
                    </a:lnTo>
                    <a:lnTo>
                      <a:pt x="90" y="0"/>
                    </a:lnTo>
                    <a:lnTo>
                      <a:pt x="81" y="0"/>
                    </a:lnTo>
                    <a:lnTo>
                      <a:pt x="74" y="0"/>
                    </a:lnTo>
                    <a:lnTo>
                      <a:pt x="66" y="1"/>
                    </a:lnTo>
                    <a:lnTo>
                      <a:pt x="58" y="3"/>
                    </a:lnTo>
                    <a:lnTo>
                      <a:pt x="50" y="5"/>
                    </a:lnTo>
                    <a:lnTo>
                      <a:pt x="44" y="9"/>
                    </a:lnTo>
                    <a:lnTo>
                      <a:pt x="37" y="13"/>
                    </a:lnTo>
                    <a:lnTo>
                      <a:pt x="30" y="19"/>
                    </a:lnTo>
                    <a:lnTo>
                      <a:pt x="25" y="24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9" y="43"/>
                    </a:lnTo>
                    <a:lnTo>
                      <a:pt x="6" y="51"/>
                    </a:lnTo>
                    <a:lnTo>
                      <a:pt x="4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1" y="99"/>
                    </a:lnTo>
                    <a:lnTo>
                      <a:pt x="4" y="106"/>
                    </a:lnTo>
                    <a:lnTo>
                      <a:pt x="6" y="114"/>
                    </a:lnTo>
                    <a:lnTo>
                      <a:pt x="9" y="121"/>
                    </a:lnTo>
                    <a:lnTo>
                      <a:pt x="14" y="127"/>
                    </a:lnTo>
                    <a:lnTo>
                      <a:pt x="19" y="133"/>
                    </a:lnTo>
                    <a:lnTo>
                      <a:pt x="25" y="139"/>
                    </a:lnTo>
                    <a:lnTo>
                      <a:pt x="30" y="144"/>
                    </a:lnTo>
                    <a:lnTo>
                      <a:pt x="37" y="150"/>
                    </a:lnTo>
                    <a:lnTo>
                      <a:pt x="44" y="154"/>
                    </a:lnTo>
                    <a:lnTo>
                      <a:pt x="50" y="157"/>
                    </a:lnTo>
                    <a:lnTo>
                      <a:pt x="58" y="160"/>
                    </a:lnTo>
                    <a:lnTo>
                      <a:pt x="66" y="162"/>
                    </a:lnTo>
                    <a:lnTo>
                      <a:pt x="74" y="163"/>
                    </a:lnTo>
                    <a:lnTo>
                      <a:pt x="81" y="163"/>
                    </a:lnTo>
                    <a:lnTo>
                      <a:pt x="90" y="163"/>
                    </a:lnTo>
                    <a:lnTo>
                      <a:pt x="99" y="162"/>
                    </a:lnTo>
                    <a:lnTo>
                      <a:pt x="107" y="160"/>
                    </a:lnTo>
                    <a:lnTo>
                      <a:pt x="115" y="157"/>
                    </a:lnTo>
                    <a:lnTo>
                      <a:pt x="121" y="154"/>
                    </a:lnTo>
                    <a:lnTo>
                      <a:pt x="127" y="150"/>
                    </a:lnTo>
                    <a:lnTo>
                      <a:pt x="134" y="144"/>
                    </a:lnTo>
                    <a:lnTo>
                      <a:pt x="139" y="139"/>
                    </a:lnTo>
                    <a:lnTo>
                      <a:pt x="145" y="133"/>
                    </a:lnTo>
                    <a:lnTo>
                      <a:pt x="150" y="127"/>
                    </a:lnTo>
                    <a:lnTo>
                      <a:pt x="155" y="121"/>
                    </a:lnTo>
                    <a:lnTo>
                      <a:pt x="158" y="114"/>
                    </a:lnTo>
                    <a:lnTo>
                      <a:pt x="160" y="106"/>
                    </a:lnTo>
                    <a:lnTo>
                      <a:pt x="162" y="99"/>
                    </a:lnTo>
                    <a:lnTo>
                      <a:pt x="163" y="91"/>
                    </a:lnTo>
                    <a:lnTo>
                      <a:pt x="163" y="82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284"/>
              <p:cNvSpPr/>
              <p:nvPr/>
            </p:nvSpPr>
            <p:spPr>
              <a:xfrm>
                <a:off x="5090400" y="4829400"/>
                <a:ext cx="425160" cy="41400"/>
              </a:xfrm>
              <a:custGeom>
                <a:avLst/>
                <a:gdLst/>
                <a:ahLst/>
                <a:rect l="l" t="t" r="r" b="b"/>
                <a:pathLst>
                  <a:path w="4091" h="504">
                    <a:moveTo>
                      <a:pt x="3675" y="504"/>
                    </a:moveTo>
                    <a:lnTo>
                      <a:pt x="3683" y="501"/>
                    </a:lnTo>
                    <a:lnTo>
                      <a:pt x="3683" y="497"/>
                    </a:lnTo>
                    <a:lnTo>
                      <a:pt x="4091" y="249"/>
                    </a:lnTo>
                    <a:lnTo>
                      <a:pt x="374" y="0"/>
                    </a:lnTo>
                    <a:lnTo>
                      <a:pt x="0" y="202"/>
                    </a:lnTo>
                    <a:lnTo>
                      <a:pt x="3675" y="504"/>
                    </a:lnTo>
                    <a:close/>
                  </a:path>
                </a:pathLst>
              </a:custGeom>
              <a:solidFill>
                <a:srgbClr val="dae3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285"/>
              <p:cNvSpPr/>
              <p:nvPr/>
            </p:nvSpPr>
            <p:spPr>
              <a:xfrm>
                <a:off x="5465880" y="4850280"/>
                <a:ext cx="51120" cy="320760"/>
              </a:xfrm>
              <a:custGeom>
                <a:avLst/>
                <a:gdLst/>
                <a:ahLst/>
                <a:rect l="l" t="t" r="r" b="b"/>
                <a:pathLst>
                  <a:path w="492" h="3879">
                    <a:moveTo>
                      <a:pt x="74" y="248"/>
                    </a:moveTo>
                    <a:lnTo>
                      <a:pt x="74" y="253"/>
                    </a:lnTo>
                    <a:lnTo>
                      <a:pt x="74" y="255"/>
                    </a:lnTo>
                    <a:lnTo>
                      <a:pt x="71" y="293"/>
                    </a:lnTo>
                    <a:lnTo>
                      <a:pt x="69" y="329"/>
                    </a:lnTo>
                    <a:lnTo>
                      <a:pt x="66" y="367"/>
                    </a:lnTo>
                    <a:lnTo>
                      <a:pt x="64" y="405"/>
                    </a:lnTo>
                    <a:lnTo>
                      <a:pt x="62" y="441"/>
                    </a:lnTo>
                    <a:lnTo>
                      <a:pt x="60" y="479"/>
                    </a:lnTo>
                    <a:lnTo>
                      <a:pt x="58" y="515"/>
                    </a:lnTo>
                    <a:lnTo>
                      <a:pt x="56" y="553"/>
                    </a:lnTo>
                    <a:lnTo>
                      <a:pt x="52" y="606"/>
                    </a:lnTo>
                    <a:lnTo>
                      <a:pt x="49" y="661"/>
                    </a:lnTo>
                    <a:lnTo>
                      <a:pt x="45" y="714"/>
                    </a:lnTo>
                    <a:lnTo>
                      <a:pt x="42" y="768"/>
                    </a:lnTo>
                    <a:lnTo>
                      <a:pt x="40" y="823"/>
                    </a:lnTo>
                    <a:lnTo>
                      <a:pt x="36" y="877"/>
                    </a:lnTo>
                    <a:lnTo>
                      <a:pt x="34" y="931"/>
                    </a:lnTo>
                    <a:lnTo>
                      <a:pt x="31" y="986"/>
                    </a:lnTo>
                    <a:lnTo>
                      <a:pt x="28" y="1040"/>
                    </a:lnTo>
                    <a:lnTo>
                      <a:pt x="24" y="1093"/>
                    </a:lnTo>
                    <a:lnTo>
                      <a:pt x="22" y="1148"/>
                    </a:lnTo>
                    <a:lnTo>
                      <a:pt x="20" y="1201"/>
                    </a:lnTo>
                    <a:lnTo>
                      <a:pt x="18" y="1255"/>
                    </a:lnTo>
                    <a:lnTo>
                      <a:pt x="17" y="1308"/>
                    </a:lnTo>
                    <a:lnTo>
                      <a:pt x="15" y="1363"/>
                    </a:lnTo>
                    <a:lnTo>
                      <a:pt x="13" y="1416"/>
                    </a:lnTo>
                    <a:lnTo>
                      <a:pt x="11" y="1470"/>
                    </a:lnTo>
                    <a:lnTo>
                      <a:pt x="9" y="1525"/>
                    </a:lnTo>
                    <a:lnTo>
                      <a:pt x="7" y="1579"/>
                    </a:lnTo>
                    <a:lnTo>
                      <a:pt x="5" y="1633"/>
                    </a:lnTo>
                    <a:lnTo>
                      <a:pt x="4" y="1688"/>
                    </a:lnTo>
                    <a:lnTo>
                      <a:pt x="3" y="1742"/>
                    </a:lnTo>
                    <a:lnTo>
                      <a:pt x="3" y="1795"/>
                    </a:lnTo>
                    <a:lnTo>
                      <a:pt x="3" y="1848"/>
                    </a:lnTo>
                    <a:lnTo>
                      <a:pt x="2" y="1899"/>
                    </a:lnTo>
                    <a:lnTo>
                      <a:pt x="1" y="1949"/>
                    </a:lnTo>
                    <a:lnTo>
                      <a:pt x="0" y="1999"/>
                    </a:lnTo>
                    <a:lnTo>
                      <a:pt x="0" y="2049"/>
                    </a:lnTo>
                    <a:lnTo>
                      <a:pt x="0" y="2098"/>
                    </a:lnTo>
                    <a:lnTo>
                      <a:pt x="0" y="2148"/>
                    </a:lnTo>
                    <a:lnTo>
                      <a:pt x="0" y="2196"/>
                    </a:lnTo>
                    <a:lnTo>
                      <a:pt x="0" y="2246"/>
                    </a:lnTo>
                    <a:lnTo>
                      <a:pt x="0" y="2294"/>
                    </a:lnTo>
                    <a:lnTo>
                      <a:pt x="0" y="2342"/>
                    </a:lnTo>
                    <a:lnTo>
                      <a:pt x="0" y="2389"/>
                    </a:lnTo>
                    <a:lnTo>
                      <a:pt x="0" y="2437"/>
                    </a:lnTo>
                    <a:lnTo>
                      <a:pt x="0" y="2485"/>
                    </a:lnTo>
                    <a:lnTo>
                      <a:pt x="1" y="2532"/>
                    </a:lnTo>
                    <a:lnTo>
                      <a:pt x="2" y="2579"/>
                    </a:lnTo>
                    <a:lnTo>
                      <a:pt x="3" y="2626"/>
                    </a:lnTo>
                    <a:lnTo>
                      <a:pt x="3" y="2670"/>
                    </a:lnTo>
                    <a:lnTo>
                      <a:pt x="3" y="2713"/>
                    </a:lnTo>
                    <a:lnTo>
                      <a:pt x="3" y="2756"/>
                    </a:lnTo>
                    <a:lnTo>
                      <a:pt x="4" y="2800"/>
                    </a:lnTo>
                    <a:lnTo>
                      <a:pt x="4" y="2843"/>
                    </a:lnTo>
                    <a:lnTo>
                      <a:pt x="5" y="2886"/>
                    </a:lnTo>
                    <a:lnTo>
                      <a:pt x="8" y="2931"/>
                    </a:lnTo>
                    <a:lnTo>
                      <a:pt x="10" y="2974"/>
                    </a:lnTo>
                    <a:lnTo>
                      <a:pt x="10" y="3020"/>
                    </a:lnTo>
                    <a:lnTo>
                      <a:pt x="11" y="3068"/>
                    </a:lnTo>
                    <a:lnTo>
                      <a:pt x="12" y="3115"/>
                    </a:lnTo>
                    <a:lnTo>
                      <a:pt x="14" y="3162"/>
                    </a:lnTo>
                    <a:lnTo>
                      <a:pt x="15" y="3210"/>
                    </a:lnTo>
                    <a:lnTo>
                      <a:pt x="18" y="3258"/>
                    </a:lnTo>
                    <a:lnTo>
                      <a:pt x="19" y="3305"/>
                    </a:lnTo>
                    <a:lnTo>
                      <a:pt x="21" y="3354"/>
                    </a:lnTo>
                    <a:lnTo>
                      <a:pt x="23" y="3408"/>
                    </a:lnTo>
                    <a:lnTo>
                      <a:pt x="27" y="3463"/>
                    </a:lnTo>
                    <a:lnTo>
                      <a:pt x="29" y="3517"/>
                    </a:lnTo>
                    <a:lnTo>
                      <a:pt x="31" y="3571"/>
                    </a:lnTo>
                    <a:lnTo>
                      <a:pt x="34" y="3627"/>
                    </a:lnTo>
                    <a:lnTo>
                      <a:pt x="36" y="3681"/>
                    </a:lnTo>
                    <a:lnTo>
                      <a:pt x="40" y="3736"/>
                    </a:lnTo>
                    <a:lnTo>
                      <a:pt x="42" y="3790"/>
                    </a:lnTo>
                    <a:lnTo>
                      <a:pt x="45" y="3790"/>
                    </a:lnTo>
                    <a:lnTo>
                      <a:pt x="394" y="3875"/>
                    </a:lnTo>
                    <a:lnTo>
                      <a:pt x="404" y="3879"/>
                    </a:lnTo>
                    <a:lnTo>
                      <a:pt x="408" y="3879"/>
                    </a:lnTo>
                    <a:lnTo>
                      <a:pt x="407" y="3642"/>
                    </a:lnTo>
                    <a:lnTo>
                      <a:pt x="407" y="3406"/>
                    </a:lnTo>
                    <a:lnTo>
                      <a:pt x="407" y="3170"/>
                    </a:lnTo>
                    <a:lnTo>
                      <a:pt x="409" y="2935"/>
                    </a:lnTo>
                    <a:lnTo>
                      <a:pt x="411" y="2699"/>
                    </a:lnTo>
                    <a:lnTo>
                      <a:pt x="415" y="2463"/>
                    </a:lnTo>
                    <a:lnTo>
                      <a:pt x="419" y="2226"/>
                    </a:lnTo>
                    <a:lnTo>
                      <a:pt x="424" y="1991"/>
                    </a:lnTo>
                    <a:lnTo>
                      <a:pt x="429" y="1755"/>
                    </a:lnTo>
                    <a:lnTo>
                      <a:pt x="436" y="1520"/>
                    </a:lnTo>
                    <a:lnTo>
                      <a:pt x="444" y="1284"/>
                    </a:lnTo>
                    <a:lnTo>
                      <a:pt x="451" y="1049"/>
                    </a:lnTo>
                    <a:lnTo>
                      <a:pt x="460" y="813"/>
                    </a:lnTo>
                    <a:lnTo>
                      <a:pt x="470" y="578"/>
                    </a:lnTo>
                    <a:lnTo>
                      <a:pt x="481" y="341"/>
                    </a:lnTo>
                    <a:lnTo>
                      <a:pt x="492" y="106"/>
                    </a:lnTo>
                    <a:lnTo>
                      <a:pt x="489" y="84"/>
                    </a:lnTo>
                    <a:lnTo>
                      <a:pt x="482" y="0"/>
                    </a:lnTo>
                    <a:lnTo>
                      <a:pt x="74" y="248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286"/>
              <p:cNvSpPr/>
              <p:nvPr/>
            </p:nvSpPr>
            <p:spPr>
              <a:xfrm>
                <a:off x="5086080" y="4846320"/>
                <a:ext cx="386640" cy="49320"/>
              </a:xfrm>
              <a:custGeom>
                <a:avLst/>
                <a:gdLst/>
                <a:ahLst/>
                <a:rect l="l" t="t" r="r" b="b"/>
                <a:pathLst>
                  <a:path w="3718" h="600">
                    <a:moveTo>
                      <a:pt x="3700" y="600"/>
                    </a:moveTo>
                    <a:lnTo>
                      <a:pt x="3702" y="562"/>
                    </a:lnTo>
                    <a:lnTo>
                      <a:pt x="3704" y="526"/>
                    </a:lnTo>
                    <a:lnTo>
                      <a:pt x="3706" y="488"/>
                    </a:lnTo>
                    <a:lnTo>
                      <a:pt x="3708" y="452"/>
                    </a:lnTo>
                    <a:lnTo>
                      <a:pt x="3710" y="414"/>
                    </a:lnTo>
                    <a:lnTo>
                      <a:pt x="3713" y="376"/>
                    </a:lnTo>
                    <a:lnTo>
                      <a:pt x="3715" y="340"/>
                    </a:lnTo>
                    <a:lnTo>
                      <a:pt x="3718" y="302"/>
                    </a:lnTo>
                    <a:lnTo>
                      <a:pt x="3710" y="302"/>
                    </a:lnTo>
                    <a:lnTo>
                      <a:pt x="35" y="0"/>
                    </a:lnTo>
                    <a:lnTo>
                      <a:pt x="17" y="18"/>
                    </a:lnTo>
                    <a:lnTo>
                      <a:pt x="16" y="55"/>
                    </a:lnTo>
                    <a:lnTo>
                      <a:pt x="15" y="92"/>
                    </a:lnTo>
                    <a:lnTo>
                      <a:pt x="13" y="129"/>
                    </a:lnTo>
                    <a:lnTo>
                      <a:pt x="11" y="164"/>
                    </a:lnTo>
                    <a:lnTo>
                      <a:pt x="7" y="201"/>
                    </a:lnTo>
                    <a:lnTo>
                      <a:pt x="5" y="238"/>
                    </a:lnTo>
                    <a:lnTo>
                      <a:pt x="3" y="273"/>
                    </a:lnTo>
                    <a:lnTo>
                      <a:pt x="0" y="309"/>
                    </a:lnTo>
                    <a:lnTo>
                      <a:pt x="3700" y="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287"/>
              <p:cNvSpPr/>
              <p:nvPr/>
            </p:nvSpPr>
            <p:spPr>
              <a:xfrm>
                <a:off x="5083920" y="4871880"/>
                <a:ext cx="386640" cy="60120"/>
              </a:xfrm>
              <a:custGeom>
                <a:avLst/>
                <a:gdLst/>
                <a:ahLst/>
                <a:rect l="l" t="t" r="r" b="b"/>
                <a:pathLst>
                  <a:path w="3721" h="724">
                    <a:moveTo>
                      <a:pt x="21" y="0"/>
                    </a:moveTo>
                    <a:lnTo>
                      <a:pt x="18" y="52"/>
                    </a:lnTo>
                    <a:lnTo>
                      <a:pt x="15" y="104"/>
                    </a:lnTo>
                    <a:lnTo>
                      <a:pt x="12" y="156"/>
                    </a:lnTo>
                    <a:lnTo>
                      <a:pt x="9" y="207"/>
                    </a:lnTo>
                    <a:lnTo>
                      <a:pt x="6" y="259"/>
                    </a:lnTo>
                    <a:lnTo>
                      <a:pt x="4" y="310"/>
                    </a:lnTo>
                    <a:lnTo>
                      <a:pt x="2" y="361"/>
                    </a:lnTo>
                    <a:lnTo>
                      <a:pt x="0" y="412"/>
                    </a:lnTo>
                    <a:lnTo>
                      <a:pt x="3696" y="724"/>
                    </a:lnTo>
                    <a:lnTo>
                      <a:pt x="3699" y="669"/>
                    </a:lnTo>
                    <a:lnTo>
                      <a:pt x="3701" y="615"/>
                    </a:lnTo>
                    <a:lnTo>
                      <a:pt x="3705" y="561"/>
                    </a:lnTo>
                    <a:lnTo>
                      <a:pt x="3707" y="506"/>
                    </a:lnTo>
                    <a:lnTo>
                      <a:pt x="3710" y="452"/>
                    </a:lnTo>
                    <a:lnTo>
                      <a:pt x="3714" y="399"/>
                    </a:lnTo>
                    <a:lnTo>
                      <a:pt x="3717" y="344"/>
                    </a:lnTo>
                    <a:lnTo>
                      <a:pt x="3721" y="29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288"/>
              <p:cNvSpPr/>
              <p:nvPr/>
            </p:nvSpPr>
            <p:spPr>
              <a:xfrm>
                <a:off x="5081760" y="4940280"/>
                <a:ext cx="384840" cy="62640"/>
              </a:xfrm>
              <a:custGeom>
                <a:avLst/>
                <a:gdLst/>
                <a:ahLst/>
                <a:rect l="l" t="t" r="r" b="b"/>
                <a:pathLst>
                  <a:path w="3703" h="759">
                    <a:moveTo>
                      <a:pt x="7" y="3"/>
                    </a:moveTo>
                    <a:lnTo>
                      <a:pt x="6" y="53"/>
                    </a:lnTo>
                    <a:lnTo>
                      <a:pt x="5" y="102"/>
                    </a:lnTo>
                    <a:lnTo>
                      <a:pt x="5" y="152"/>
                    </a:lnTo>
                    <a:lnTo>
                      <a:pt x="3" y="200"/>
                    </a:lnTo>
                    <a:lnTo>
                      <a:pt x="2" y="250"/>
                    </a:lnTo>
                    <a:lnTo>
                      <a:pt x="2" y="299"/>
                    </a:lnTo>
                    <a:lnTo>
                      <a:pt x="1" y="348"/>
                    </a:lnTo>
                    <a:lnTo>
                      <a:pt x="0" y="398"/>
                    </a:lnTo>
                    <a:lnTo>
                      <a:pt x="3693" y="759"/>
                    </a:lnTo>
                    <a:lnTo>
                      <a:pt x="3693" y="706"/>
                    </a:lnTo>
                    <a:lnTo>
                      <a:pt x="3693" y="653"/>
                    </a:lnTo>
                    <a:lnTo>
                      <a:pt x="3694" y="599"/>
                    </a:lnTo>
                    <a:lnTo>
                      <a:pt x="3695" y="544"/>
                    </a:lnTo>
                    <a:lnTo>
                      <a:pt x="3697" y="490"/>
                    </a:lnTo>
                    <a:lnTo>
                      <a:pt x="3699" y="436"/>
                    </a:lnTo>
                    <a:lnTo>
                      <a:pt x="3701" y="381"/>
                    </a:lnTo>
                    <a:lnTo>
                      <a:pt x="3703" y="327"/>
                    </a:lnTo>
                    <a:lnTo>
                      <a:pt x="28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289"/>
              <p:cNvSpPr/>
              <p:nvPr/>
            </p:nvSpPr>
            <p:spPr>
              <a:xfrm>
                <a:off x="5081760" y="4905720"/>
                <a:ext cx="387000" cy="61920"/>
              </a:xfrm>
              <a:custGeom>
                <a:avLst/>
                <a:gdLst/>
                <a:ahLst/>
                <a:rect l="l" t="t" r="r" b="b"/>
                <a:pathLst>
                  <a:path w="3714" h="742">
                    <a:moveTo>
                      <a:pt x="0" y="415"/>
                    </a:moveTo>
                    <a:lnTo>
                      <a:pt x="21" y="415"/>
                    </a:lnTo>
                    <a:lnTo>
                      <a:pt x="3696" y="742"/>
                    </a:lnTo>
                    <a:lnTo>
                      <a:pt x="3698" y="689"/>
                    </a:lnTo>
                    <a:lnTo>
                      <a:pt x="3700" y="634"/>
                    </a:lnTo>
                    <a:lnTo>
                      <a:pt x="3701" y="581"/>
                    </a:lnTo>
                    <a:lnTo>
                      <a:pt x="3703" y="527"/>
                    </a:lnTo>
                    <a:lnTo>
                      <a:pt x="3705" y="474"/>
                    </a:lnTo>
                    <a:lnTo>
                      <a:pt x="3707" y="419"/>
                    </a:lnTo>
                    <a:lnTo>
                      <a:pt x="3711" y="366"/>
                    </a:lnTo>
                    <a:lnTo>
                      <a:pt x="3714" y="312"/>
                    </a:lnTo>
                    <a:lnTo>
                      <a:pt x="18" y="0"/>
                    </a:lnTo>
                    <a:lnTo>
                      <a:pt x="15" y="52"/>
                    </a:lnTo>
                    <a:lnTo>
                      <a:pt x="12" y="103"/>
                    </a:lnTo>
                    <a:lnTo>
                      <a:pt x="10" y="155"/>
                    </a:lnTo>
                    <a:lnTo>
                      <a:pt x="8" y="207"/>
                    </a:lnTo>
                    <a:lnTo>
                      <a:pt x="5" y="259"/>
                    </a:lnTo>
                    <a:lnTo>
                      <a:pt x="3" y="312"/>
                    </a:lnTo>
                    <a:lnTo>
                      <a:pt x="2" y="363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290"/>
              <p:cNvSpPr/>
              <p:nvPr/>
            </p:nvSpPr>
            <p:spPr>
              <a:xfrm>
                <a:off x="5081760" y="5036400"/>
                <a:ext cx="384840" cy="59400"/>
              </a:xfrm>
              <a:custGeom>
                <a:avLst/>
                <a:gdLst/>
                <a:ahLst/>
                <a:rect l="l" t="t" r="r" b="b"/>
                <a:pathLst>
                  <a:path w="3693" h="724">
                    <a:moveTo>
                      <a:pt x="0" y="0"/>
                    </a:moveTo>
                    <a:lnTo>
                      <a:pt x="1" y="41"/>
                    </a:lnTo>
                    <a:lnTo>
                      <a:pt x="3" y="82"/>
                    </a:lnTo>
                    <a:lnTo>
                      <a:pt x="4" y="124"/>
                    </a:lnTo>
                    <a:lnTo>
                      <a:pt x="5" y="165"/>
                    </a:lnTo>
                    <a:lnTo>
                      <a:pt x="8" y="206"/>
                    </a:lnTo>
                    <a:lnTo>
                      <a:pt x="10" y="247"/>
                    </a:lnTo>
                    <a:lnTo>
                      <a:pt x="12" y="289"/>
                    </a:lnTo>
                    <a:lnTo>
                      <a:pt x="14" y="330"/>
                    </a:lnTo>
                    <a:lnTo>
                      <a:pt x="3693" y="724"/>
                    </a:lnTo>
                    <a:lnTo>
                      <a:pt x="3691" y="681"/>
                    </a:lnTo>
                    <a:lnTo>
                      <a:pt x="3688" y="636"/>
                    </a:lnTo>
                    <a:lnTo>
                      <a:pt x="3687" y="593"/>
                    </a:lnTo>
                    <a:lnTo>
                      <a:pt x="3687" y="550"/>
                    </a:lnTo>
                    <a:lnTo>
                      <a:pt x="3686" y="506"/>
                    </a:lnTo>
                    <a:lnTo>
                      <a:pt x="3686" y="463"/>
                    </a:lnTo>
                    <a:lnTo>
                      <a:pt x="3686" y="420"/>
                    </a:lnTo>
                    <a:lnTo>
                      <a:pt x="3686" y="3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291"/>
              <p:cNvSpPr/>
              <p:nvPr/>
            </p:nvSpPr>
            <p:spPr>
              <a:xfrm>
                <a:off x="5081760" y="5005080"/>
                <a:ext cx="383760" cy="62640"/>
              </a:xfrm>
              <a:custGeom>
                <a:avLst/>
                <a:gdLst/>
                <a:ahLst/>
                <a:rect l="l" t="t" r="r" b="b"/>
                <a:pathLst>
                  <a:path w="3693" h="760">
                    <a:moveTo>
                      <a:pt x="7" y="380"/>
                    </a:moveTo>
                    <a:lnTo>
                      <a:pt x="7" y="384"/>
                    </a:lnTo>
                    <a:lnTo>
                      <a:pt x="3693" y="760"/>
                    </a:lnTo>
                    <a:lnTo>
                      <a:pt x="3692" y="713"/>
                    </a:lnTo>
                    <a:lnTo>
                      <a:pt x="3691" y="666"/>
                    </a:lnTo>
                    <a:lnTo>
                      <a:pt x="3690" y="619"/>
                    </a:lnTo>
                    <a:lnTo>
                      <a:pt x="3690" y="571"/>
                    </a:lnTo>
                    <a:lnTo>
                      <a:pt x="3690" y="523"/>
                    </a:lnTo>
                    <a:lnTo>
                      <a:pt x="3690" y="476"/>
                    </a:lnTo>
                    <a:lnTo>
                      <a:pt x="3690" y="428"/>
                    </a:lnTo>
                    <a:lnTo>
                      <a:pt x="3690" y="380"/>
                    </a:lnTo>
                    <a:lnTo>
                      <a:pt x="0" y="0"/>
                    </a:lnTo>
                    <a:lnTo>
                      <a:pt x="1" y="49"/>
                    </a:lnTo>
                    <a:lnTo>
                      <a:pt x="2" y="97"/>
                    </a:lnTo>
                    <a:lnTo>
                      <a:pt x="2" y="144"/>
                    </a:lnTo>
                    <a:lnTo>
                      <a:pt x="3" y="192"/>
                    </a:lnTo>
                    <a:lnTo>
                      <a:pt x="5" y="240"/>
                    </a:lnTo>
                    <a:lnTo>
                      <a:pt x="5" y="286"/>
                    </a:lnTo>
                    <a:lnTo>
                      <a:pt x="6" y="334"/>
                    </a:lnTo>
                    <a:lnTo>
                      <a:pt x="7" y="380"/>
                    </a:lnTo>
                    <a:close/>
                  </a:path>
                </a:pathLst>
              </a:custGeom>
              <a:solidFill>
                <a:srgbClr val="eff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292"/>
              <p:cNvSpPr/>
              <p:nvPr/>
            </p:nvSpPr>
            <p:spPr>
              <a:xfrm>
                <a:off x="5081760" y="4973760"/>
                <a:ext cx="383760" cy="62640"/>
              </a:xfrm>
              <a:custGeom>
                <a:avLst/>
                <a:gdLst/>
                <a:ahLst/>
                <a:rect l="l" t="t" r="r" b="b"/>
                <a:pathLst>
                  <a:path w="3693" h="759">
                    <a:moveTo>
                      <a:pt x="0" y="0"/>
                    </a:moveTo>
                    <a:lnTo>
                      <a:pt x="0" y="47"/>
                    </a:lnTo>
                    <a:lnTo>
                      <a:pt x="0" y="95"/>
                    </a:lnTo>
                    <a:lnTo>
                      <a:pt x="0" y="143"/>
                    </a:lnTo>
                    <a:lnTo>
                      <a:pt x="0" y="191"/>
                    </a:lnTo>
                    <a:lnTo>
                      <a:pt x="0" y="238"/>
                    </a:lnTo>
                    <a:lnTo>
                      <a:pt x="0" y="286"/>
                    </a:lnTo>
                    <a:lnTo>
                      <a:pt x="0" y="332"/>
                    </a:lnTo>
                    <a:lnTo>
                      <a:pt x="0" y="379"/>
                    </a:lnTo>
                    <a:lnTo>
                      <a:pt x="3690" y="759"/>
                    </a:lnTo>
                    <a:lnTo>
                      <a:pt x="3690" y="709"/>
                    </a:lnTo>
                    <a:lnTo>
                      <a:pt x="3690" y="661"/>
                    </a:lnTo>
                    <a:lnTo>
                      <a:pt x="3690" y="611"/>
                    </a:lnTo>
                    <a:lnTo>
                      <a:pt x="3690" y="562"/>
                    </a:lnTo>
                    <a:lnTo>
                      <a:pt x="3690" y="512"/>
                    </a:lnTo>
                    <a:lnTo>
                      <a:pt x="3691" y="462"/>
                    </a:lnTo>
                    <a:lnTo>
                      <a:pt x="3692" y="412"/>
                    </a:lnTo>
                    <a:lnTo>
                      <a:pt x="3693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293"/>
              <p:cNvSpPr/>
              <p:nvPr/>
            </p:nvSpPr>
            <p:spPr>
              <a:xfrm>
                <a:off x="5085000" y="5091840"/>
                <a:ext cx="384840" cy="72000"/>
              </a:xfrm>
              <a:custGeom>
                <a:avLst/>
                <a:gdLst/>
                <a:ahLst/>
                <a:rect l="l" t="t" r="r" b="b"/>
                <a:pathLst>
                  <a:path w="3693" h="866">
                    <a:moveTo>
                      <a:pt x="24" y="366"/>
                    </a:moveTo>
                    <a:lnTo>
                      <a:pt x="42" y="372"/>
                    </a:lnTo>
                    <a:lnTo>
                      <a:pt x="2226" y="667"/>
                    </a:lnTo>
                    <a:lnTo>
                      <a:pt x="3693" y="866"/>
                    </a:lnTo>
                    <a:lnTo>
                      <a:pt x="3691" y="812"/>
                    </a:lnTo>
                    <a:lnTo>
                      <a:pt x="3687" y="757"/>
                    </a:lnTo>
                    <a:lnTo>
                      <a:pt x="3685" y="703"/>
                    </a:lnTo>
                    <a:lnTo>
                      <a:pt x="3682" y="647"/>
                    </a:lnTo>
                    <a:lnTo>
                      <a:pt x="3680" y="593"/>
                    </a:lnTo>
                    <a:lnTo>
                      <a:pt x="3678" y="539"/>
                    </a:lnTo>
                    <a:lnTo>
                      <a:pt x="3674" y="484"/>
                    </a:lnTo>
                    <a:lnTo>
                      <a:pt x="3672" y="430"/>
                    </a:lnTo>
                    <a:lnTo>
                      <a:pt x="0" y="0"/>
                    </a:lnTo>
                    <a:lnTo>
                      <a:pt x="3" y="45"/>
                    </a:lnTo>
                    <a:lnTo>
                      <a:pt x="5" y="91"/>
                    </a:lnTo>
                    <a:lnTo>
                      <a:pt x="9" y="136"/>
                    </a:lnTo>
                    <a:lnTo>
                      <a:pt x="12" y="182"/>
                    </a:lnTo>
                    <a:lnTo>
                      <a:pt x="15" y="227"/>
                    </a:lnTo>
                    <a:lnTo>
                      <a:pt x="19" y="273"/>
                    </a:lnTo>
                    <a:lnTo>
                      <a:pt x="22" y="319"/>
                    </a:lnTo>
                    <a:lnTo>
                      <a:pt x="24" y="366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294"/>
              <p:cNvSpPr/>
              <p:nvPr/>
            </p:nvSpPr>
            <p:spPr>
              <a:xfrm>
                <a:off x="5090400" y="5123520"/>
                <a:ext cx="226440" cy="28080"/>
              </a:xfrm>
              <a:custGeom>
                <a:avLst/>
                <a:gdLst/>
                <a:ahLst/>
                <a:rect l="l" t="t" r="r" b="b"/>
                <a:pathLst>
                  <a:path w="2184" h="342">
                    <a:moveTo>
                      <a:pt x="0" y="0"/>
                    </a:moveTo>
                    <a:lnTo>
                      <a:pt x="445" y="115"/>
                    </a:lnTo>
                    <a:lnTo>
                      <a:pt x="2178" y="342"/>
                    </a:lnTo>
                    <a:lnTo>
                      <a:pt x="2181" y="342"/>
                    </a:lnTo>
                    <a:lnTo>
                      <a:pt x="2184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295"/>
              <p:cNvSpPr/>
              <p:nvPr/>
            </p:nvSpPr>
            <p:spPr>
              <a:xfrm>
                <a:off x="5083920" y="5063760"/>
                <a:ext cx="383760" cy="63720"/>
              </a:xfrm>
              <a:custGeom>
                <a:avLst/>
                <a:gdLst/>
                <a:ahLst/>
                <a:rect l="l" t="t" r="r" b="b"/>
                <a:pathLst>
                  <a:path w="3690" h="774">
                    <a:moveTo>
                      <a:pt x="0" y="0"/>
                    </a:moveTo>
                    <a:lnTo>
                      <a:pt x="1" y="42"/>
                    </a:lnTo>
                    <a:lnTo>
                      <a:pt x="4" y="86"/>
                    </a:lnTo>
                    <a:lnTo>
                      <a:pt x="5" y="128"/>
                    </a:lnTo>
                    <a:lnTo>
                      <a:pt x="7" y="171"/>
                    </a:lnTo>
                    <a:lnTo>
                      <a:pt x="9" y="214"/>
                    </a:lnTo>
                    <a:lnTo>
                      <a:pt x="11" y="257"/>
                    </a:lnTo>
                    <a:lnTo>
                      <a:pt x="15" y="301"/>
                    </a:lnTo>
                    <a:lnTo>
                      <a:pt x="18" y="344"/>
                    </a:lnTo>
                    <a:lnTo>
                      <a:pt x="3690" y="774"/>
                    </a:lnTo>
                    <a:lnTo>
                      <a:pt x="3688" y="725"/>
                    </a:lnTo>
                    <a:lnTo>
                      <a:pt x="3687" y="678"/>
                    </a:lnTo>
                    <a:lnTo>
                      <a:pt x="3684" y="630"/>
                    </a:lnTo>
                    <a:lnTo>
                      <a:pt x="3683" y="582"/>
                    </a:lnTo>
                    <a:lnTo>
                      <a:pt x="3681" y="535"/>
                    </a:lnTo>
                    <a:lnTo>
                      <a:pt x="3680" y="488"/>
                    </a:lnTo>
                    <a:lnTo>
                      <a:pt x="3679" y="440"/>
                    </a:lnTo>
                    <a:lnTo>
                      <a:pt x="3679" y="3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96"/>
              <p:cNvSpPr/>
              <p:nvPr/>
            </p:nvSpPr>
            <p:spPr>
              <a:xfrm>
                <a:off x="5077800" y="4808880"/>
                <a:ext cx="15480" cy="11520"/>
              </a:xfrm>
              <a:custGeom>
                <a:avLst/>
                <a:gdLst/>
                <a:ahLst/>
                <a:rect l="l" t="t" r="r" b="b"/>
                <a:pathLst>
                  <a:path w="145" h="145">
                    <a:moveTo>
                      <a:pt x="145" y="74"/>
                    </a:moveTo>
                    <a:lnTo>
                      <a:pt x="145" y="66"/>
                    </a:lnTo>
                    <a:lnTo>
                      <a:pt x="144" y="60"/>
                    </a:lnTo>
                    <a:lnTo>
                      <a:pt x="142" y="52"/>
                    </a:lnTo>
                    <a:lnTo>
                      <a:pt x="139" y="45"/>
                    </a:lnTo>
                    <a:lnTo>
                      <a:pt x="137" y="38"/>
                    </a:lnTo>
                    <a:lnTo>
                      <a:pt x="133" y="33"/>
                    </a:lnTo>
                    <a:lnTo>
                      <a:pt x="128" y="26"/>
                    </a:lnTo>
                    <a:lnTo>
                      <a:pt x="124" y="21"/>
                    </a:lnTo>
                    <a:lnTo>
                      <a:pt x="118" y="16"/>
                    </a:lnTo>
                    <a:lnTo>
                      <a:pt x="113" y="12"/>
                    </a:lnTo>
                    <a:lnTo>
                      <a:pt x="106" y="9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4" y="0"/>
                    </a:lnTo>
                    <a:lnTo>
                      <a:pt x="66" y="1"/>
                    </a:lnTo>
                    <a:lnTo>
                      <a:pt x="58" y="1"/>
                    </a:lnTo>
                    <a:lnTo>
                      <a:pt x="52" y="3"/>
                    </a:lnTo>
                    <a:lnTo>
                      <a:pt x="45" y="5"/>
                    </a:lnTo>
                    <a:lnTo>
                      <a:pt x="38" y="9"/>
                    </a:lnTo>
                    <a:lnTo>
                      <a:pt x="32" y="12"/>
                    </a:lnTo>
                    <a:lnTo>
                      <a:pt x="26" y="16"/>
                    </a:lnTo>
                    <a:lnTo>
                      <a:pt x="21" y="21"/>
                    </a:lnTo>
                    <a:lnTo>
                      <a:pt x="16" y="26"/>
                    </a:lnTo>
                    <a:lnTo>
                      <a:pt x="12" y="33"/>
                    </a:lnTo>
                    <a:lnTo>
                      <a:pt x="7" y="38"/>
                    </a:lnTo>
                    <a:lnTo>
                      <a:pt x="5" y="45"/>
                    </a:lnTo>
                    <a:lnTo>
                      <a:pt x="3" y="52"/>
                    </a:lnTo>
                    <a:lnTo>
                      <a:pt x="1" y="60"/>
                    </a:lnTo>
                    <a:lnTo>
                      <a:pt x="0" y="66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3" y="94"/>
                    </a:lnTo>
                    <a:lnTo>
                      <a:pt x="4" y="98"/>
                    </a:lnTo>
                    <a:lnTo>
                      <a:pt x="6" y="104"/>
                    </a:lnTo>
                    <a:lnTo>
                      <a:pt x="7" y="107"/>
                    </a:lnTo>
                    <a:lnTo>
                      <a:pt x="13" y="116"/>
                    </a:lnTo>
                    <a:lnTo>
                      <a:pt x="21" y="124"/>
                    </a:lnTo>
                    <a:lnTo>
                      <a:pt x="26" y="129"/>
                    </a:lnTo>
                    <a:lnTo>
                      <a:pt x="32" y="134"/>
                    </a:lnTo>
                    <a:lnTo>
                      <a:pt x="38" y="137"/>
                    </a:lnTo>
                    <a:lnTo>
                      <a:pt x="45" y="140"/>
                    </a:lnTo>
                    <a:lnTo>
                      <a:pt x="52" y="143"/>
                    </a:lnTo>
                    <a:lnTo>
                      <a:pt x="58" y="144"/>
                    </a:lnTo>
                    <a:lnTo>
                      <a:pt x="66" y="145"/>
                    </a:lnTo>
                    <a:lnTo>
                      <a:pt x="74" y="145"/>
                    </a:lnTo>
                    <a:lnTo>
                      <a:pt x="81" y="145"/>
                    </a:lnTo>
                    <a:lnTo>
                      <a:pt x="87" y="144"/>
                    </a:lnTo>
                    <a:lnTo>
                      <a:pt x="94" y="143"/>
                    </a:lnTo>
                    <a:lnTo>
                      <a:pt x="101" y="140"/>
                    </a:lnTo>
                    <a:lnTo>
                      <a:pt x="106" y="137"/>
                    </a:lnTo>
                    <a:lnTo>
                      <a:pt x="113" y="134"/>
                    </a:lnTo>
                    <a:lnTo>
                      <a:pt x="118" y="129"/>
                    </a:lnTo>
                    <a:lnTo>
                      <a:pt x="124" y="124"/>
                    </a:lnTo>
                    <a:lnTo>
                      <a:pt x="133" y="113"/>
                    </a:lnTo>
                    <a:lnTo>
                      <a:pt x="142" y="99"/>
                    </a:lnTo>
                    <a:lnTo>
                      <a:pt x="144" y="94"/>
                    </a:lnTo>
                    <a:lnTo>
                      <a:pt x="145" y="87"/>
                    </a:lnTo>
                    <a:lnTo>
                      <a:pt x="145" y="81"/>
                    </a:lnTo>
                    <a:lnTo>
                      <a:pt x="145" y="74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297"/>
              <p:cNvSpPr/>
              <p:nvPr/>
            </p:nvSpPr>
            <p:spPr>
              <a:xfrm>
                <a:off x="5546880" y="5178600"/>
                <a:ext cx="17640" cy="13320"/>
              </a:xfrm>
              <a:custGeom>
                <a:avLst/>
                <a:gdLst/>
                <a:ahLst/>
                <a:rect l="l" t="t" r="r" b="b"/>
                <a:pathLst>
                  <a:path w="163" h="164">
                    <a:moveTo>
                      <a:pt x="25" y="21"/>
                    </a:moveTo>
                    <a:lnTo>
                      <a:pt x="18" y="29"/>
                    </a:lnTo>
                    <a:lnTo>
                      <a:pt x="13" y="36"/>
                    </a:lnTo>
                    <a:lnTo>
                      <a:pt x="8" y="42"/>
                    </a:lnTo>
                    <a:lnTo>
                      <a:pt x="5" y="49"/>
                    </a:lnTo>
                    <a:lnTo>
                      <a:pt x="3" y="57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1" y="98"/>
                    </a:lnTo>
                    <a:lnTo>
                      <a:pt x="3" y="105"/>
                    </a:lnTo>
                    <a:lnTo>
                      <a:pt x="5" y="112"/>
                    </a:lnTo>
                    <a:lnTo>
                      <a:pt x="8" y="119"/>
                    </a:lnTo>
                    <a:lnTo>
                      <a:pt x="13" y="126"/>
                    </a:lnTo>
                    <a:lnTo>
                      <a:pt x="18" y="132"/>
                    </a:lnTo>
                    <a:lnTo>
                      <a:pt x="25" y="139"/>
                    </a:lnTo>
                    <a:lnTo>
                      <a:pt x="31" y="144"/>
                    </a:lnTo>
                    <a:lnTo>
                      <a:pt x="36" y="149"/>
                    </a:lnTo>
                    <a:lnTo>
                      <a:pt x="43" y="153"/>
                    </a:lnTo>
                    <a:lnTo>
                      <a:pt x="51" y="157"/>
                    </a:lnTo>
                    <a:lnTo>
                      <a:pt x="57" y="160"/>
                    </a:lnTo>
                    <a:lnTo>
                      <a:pt x="65" y="162"/>
                    </a:lnTo>
                    <a:lnTo>
                      <a:pt x="74" y="163"/>
                    </a:lnTo>
                    <a:lnTo>
                      <a:pt x="82" y="164"/>
                    </a:lnTo>
                    <a:lnTo>
                      <a:pt x="91" y="163"/>
                    </a:lnTo>
                    <a:lnTo>
                      <a:pt x="98" y="162"/>
                    </a:lnTo>
                    <a:lnTo>
                      <a:pt x="106" y="160"/>
                    </a:lnTo>
                    <a:lnTo>
                      <a:pt x="114" y="157"/>
                    </a:lnTo>
                    <a:lnTo>
                      <a:pt x="120" y="153"/>
                    </a:lnTo>
                    <a:lnTo>
                      <a:pt x="127" y="149"/>
                    </a:lnTo>
                    <a:lnTo>
                      <a:pt x="133" y="144"/>
                    </a:lnTo>
                    <a:lnTo>
                      <a:pt x="138" y="139"/>
                    </a:lnTo>
                    <a:lnTo>
                      <a:pt x="145" y="132"/>
                    </a:lnTo>
                    <a:lnTo>
                      <a:pt x="149" y="126"/>
                    </a:lnTo>
                    <a:lnTo>
                      <a:pt x="154" y="119"/>
                    </a:lnTo>
                    <a:lnTo>
                      <a:pt x="157" y="112"/>
                    </a:lnTo>
                    <a:lnTo>
                      <a:pt x="159" y="105"/>
                    </a:lnTo>
                    <a:lnTo>
                      <a:pt x="162" y="98"/>
                    </a:lnTo>
                    <a:lnTo>
                      <a:pt x="163" y="90"/>
                    </a:lnTo>
                    <a:lnTo>
                      <a:pt x="163" y="82"/>
                    </a:lnTo>
                    <a:lnTo>
                      <a:pt x="163" y="73"/>
                    </a:lnTo>
                    <a:lnTo>
                      <a:pt x="162" y="65"/>
                    </a:lnTo>
                    <a:lnTo>
                      <a:pt x="159" y="57"/>
                    </a:lnTo>
                    <a:lnTo>
                      <a:pt x="157" y="49"/>
                    </a:lnTo>
                    <a:lnTo>
                      <a:pt x="154" y="42"/>
                    </a:lnTo>
                    <a:lnTo>
                      <a:pt x="149" y="36"/>
                    </a:lnTo>
                    <a:lnTo>
                      <a:pt x="145" y="29"/>
                    </a:lnTo>
                    <a:lnTo>
                      <a:pt x="138" y="21"/>
                    </a:lnTo>
                    <a:lnTo>
                      <a:pt x="133" y="17"/>
                    </a:lnTo>
                    <a:lnTo>
                      <a:pt x="127" y="13"/>
                    </a:lnTo>
                    <a:lnTo>
                      <a:pt x="120" y="9"/>
                    </a:lnTo>
                    <a:lnTo>
                      <a:pt x="114" y="6"/>
                    </a:lnTo>
                    <a:lnTo>
                      <a:pt x="106" y="4"/>
                    </a:lnTo>
                    <a:lnTo>
                      <a:pt x="98" y="1"/>
                    </a:lnTo>
                    <a:lnTo>
                      <a:pt x="91" y="1"/>
                    </a:lnTo>
                    <a:lnTo>
                      <a:pt x="82" y="0"/>
                    </a:lnTo>
                    <a:lnTo>
                      <a:pt x="74" y="1"/>
                    </a:lnTo>
                    <a:lnTo>
                      <a:pt x="65" y="1"/>
                    </a:lnTo>
                    <a:lnTo>
                      <a:pt x="57" y="4"/>
                    </a:lnTo>
                    <a:lnTo>
                      <a:pt x="51" y="6"/>
                    </a:lnTo>
                    <a:lnTo>
                      <a:pt x="43" y="9"/>
                    </a:lnTo>
                    <a:lnTo>
                      <a:pt x="36" y="13"/>
                    </a:lnTo>
                    <a:lnTo>
                      <a:pt x="31" y="17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98"/>
              <p:cNvSpPr/>
              <p:nvPr/>
            </p:nvSpPr>
            <p:spPr>
              <a:xfrm>
                <a:off x="5581440" y="4800600"/>
                <a:ext cx="50760" cy="407160"/>
              </a:xfrm>
              <a:custGeom>
                <a:avLst/>
                <a:gdLst/>
                <a:ahLst/>
                <a:rect l="l" t="t" r="r" b="b"/>
                <a:pathLst>
                  <a:path w="487" h="4922">
                    <a:moveTo>
                      <a:pt x="49" y="173"/>
                    </a:moveTo>
                    <a:lnTo>
                      <a:pt x="50" y="201"/>
                    </a:lnTo>
                    <a:lnTo>
                      <a:pt x="51" y="226"/>
                    </a:lnTo>
                    <a:lnTo>
                      <a:pt x="52" y="254"/>
                    </a:lnTo>
                    <a:lnTo>
                      <a:pt x="53" y="281"/>
                    </a:lnTo>
                    <a:lnTo>
                      <a:pt x="53" y="307"/>
                    </a:lnTo>
                    <a:lnTo>
                      <a:pt x="54" y="334"/>
                    </a:lnTo>
                    <a:lnTo>
                      <a:pt x="55" y="360"/>
                    </a:lnTo>
                    <a:lnTo>
                      <a:pt x="56" y="387"/>
                    </a:lnTo>
                    <a:lnTo>
                      <a:pt x="61" y="664"/>
                    </a:lnTo>
                    <a:lnTo>
                      <a:pt x="64" y="941"/>
                    </a:lnTo>
                    <a:lnTo>
                      <a:pt x="67" y="1221"/>
                    </a:lnTo>
                    <a:lnTo>
                      <a:pt x="69" y="1500"/>
                    </a:lnTo>
                    <a:lnTo>
                      <a:pt x="70" y="1781"/>
                    </a:lnTo>
                    <a:lnTo>
                      <a:pt x="69" y="2062"/>
                    </a:lnTo>
                    <a:lnTo>
                      <a:pt x="66" y="2345"/>
                    </a:lnTo>
                    <a:lnTo>
                      <a:pt x="64" y="2628"/>
                    </a:lnTo>
                    <a:lnTo>
                      <a:pt x="60" y="2912"/>
                    </a:lnTo>
                    <a:lnTo>
                      <a:pt x="54" y="3197"/>
                    </a:lnTo>
                    <a:lnTo>
                      <a:pt x="49" y="3482"/>
                    </a:lnTo>
                    <a:lnTo>
                      <a:pt x="41" y="3769"/>
                    </a:lnTo>
                    <a:lnTo>
                      <a:pt x="32" y="4056"/>
                    </a:lnTo>
                    <a:lnTo>
                      <a:pt x="22" y="4344"/>
                    </a:lnTo>
                    <a:lnTo>
                      <a:pt x="11" y="4633"/>
                    </a:lnTo>
                    <a:lnTo>
                      <a:pt x="0" y="4922"/>
                    </a:lnTo>
                    <a:lnTo>
                      <a:pt x="13" y="4922"/>
                    </a:lnTo>
                    <a:lnTo>
                      <a:pt x="213" y="4785"/>
                    </a:lnTo>
                    <a:lnTo>
                      <a:pt x="298" y="4724"/>
                    </a:lnTo>
                    <a:lnTo>
                      <a:pt x="373" y="4670"/>
                    </a:lnTo>
                    <a:lnTo>
                      <a:pt x="373" y="4669"/>
                    </a:lnTo>
                    <a:lnTo>
                      <a:pt x="373" y="4667"/>
                    </a:lnTo>
                    <a:lnTo>
                      <a:pt x="375" y="4633"/>
                    </a:lnTo>
                    <a:lnTo>
                      <a:pt x="377" y="4599"/>
                    </a:lnTo>
                    <a:lnTo>
                      <a:pt x="379" y="4566"/>
                    </a:lnTo>
                    <a:lnTo>
                      <a:pt x="380" y="4534"/>
                    </a:lnTo>
                    <a:lnTo>
                      <a:pt x="381" y="4502"/>
                    </a:lnTo>
                    <a:lnTo>
                      <a:pt x="383" y="4471"/>
                    </a:lnTo>
                    <a:lnTo>
                      <a:pt x="383" y="4441"/>
                    </a:lnTo>
                    <a:lnTo>
                      <a:pt x="383" y="4411"/>
                    </a:lnTo>
                    <a:lnTo>
                      <a:pt x="385" y="4393"/>
                    </a:lnTo>
                    <a:lnTo>
                      <a:pt x="386" y="4377"/>
                    </a:lnTo>
                    <a:lnTo>
                      <a:pt x="386" y="4360"/>
                    </a:lnTo>
                    <a:lnTo>
                      <a:pt x="387" y="4344"/>
                    </a:lnTo>
                    <a:lnTo>
                      <a:pt x="390" y="4290"/>
                    </a:lnTo>
                    <a:lnTo>
                      <a:pt x="394" y="4236"/>
                    </a:lnTo>
                    <a:lnTo>
                      <a:pt x="397" y="4181"/>
                    </a:lnTo>
                    <a:lnTo>
                      <a:pt x="400" y="4128"/>
                    </a:lnTo>
                    <a:lnTo>
                      <a:pt x="404" y="4075"/>
                    </a:lnTo>
                    <a:lnTo>
                      <a:pt x="406" y="4021"/>
                    </a:lnTo>
                    <a:lnTo>
                      <a:pt x="408" y="3967"/>
                    </a:lnTo>
                    <a:lnTo>
                      <a:pt x="411" y="3914"/>
                    </a:lnTo>
                    <a:lnTo>
                      <a:pt x="411" y="3904"/>
                    </a:lnTo>
                    <a:lnTo>
                      <a:pt x="411" y="3895"/>
                    </a:lnTo>
                    <a:lnTo>
                      <a:pt x="411" y="3888"/>
                    </a:lnTo>
                    <a:lnTo>
                      <a:pt x="411" y="3879"/>
                    </a:lnTo>
                    <a:lnTo>
                      <a:pt x="422" y="3629"/>
                    </a:lnTo>
                    <a:lnTo>
                      <a:pt x="434" y="3381"/>
                    </a:lnTo>
                    <a:lnTo>
                      <a:pt x="442" y="3132"/>
                    </a:lnTo>
                    <a:lnTo>
                      <a:pt x="451" y="2886"/>
                    </a:lnTo>
                    <a:lnTo>
                      <a:pt x="459" y="2640"/>
                    </a:lnTo>
                    <a:lnTo>
                      <a:pt x="466" y="2395"/>
                    </a:lnTo>
                    <a:lnTo>
                      <a:pt x="471" y="2151"/>
                    </a:lnTo>
                    <a:lnTo>
                      <a:pt x="476" y="1908"/>
                    </a:lnTo>
                    <a:lnTo>
                      <a:pt x="480" y="1667"/>
                    </a:lnTo>
                    <a:lnTo>
                      <a:pt x="482" y="1426"/>
                    </a:lnTo>
                    <a:lnTo>
                      <a:pt x="485" y="1185"/>
                    </a:lnTo>
                    <a:lnTo>
                      <a:pt x="486" y="947"/>
                    </a:lnTo>
                    <a:lnTo>
                      <a:pt x="487" y="709"/>
                    </a:lnTo>
                    <a:lnTo>
                      <a:pt x="486" y="471"/>
                    </a:lnTo>
                    <a:lnTo>
                      <a:pt x="485" y="235"/>
                    </a:lnTo>
                    <a:lnTo>
                      <a:pt x="482" y="0"/>
                    </a:lnTo>
                    <a:lnTo>
                      <a:pt x="432" y="0"/>
                    </a:lnTo>
                    <a:lnTo>
                      <a:pt x="53" y="173"/>
                    </a:lnTo>
                    <a:lnTo>
                      <a:pt x="49" y="173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99"/>
              <p:cNvSpPr/>
              <p:nvPr/>
            </p:nvSpPr>
            <p:spPr>
              <a:xfrm>
                <a:off x="5066280" y="4779000"/>
                <a:ext cx="559800" cy="35640"/>
              </a:xfrm>
              <a:custGeom>
                <a:avLst/>
                <a:gdLst/>
                <a:ahLst/>
                <a:rect l="l" t="t" r="r" b="b"/>
                <a:pathLst>
                  <a:path w="5379" h="433">
                    <a:moveTo>
                      <a:pt x="5000" y="433"/>
                    </a:moveTo>
                    <a:lnTo>
                      <a:pt x="5379" y="260"/>
                    </a:lnTo>
                    <a:lnTo>
                      <a:pt x="589" y="0"/>
                    </a:lnTo>
                    <a:lnTo>
                      <a:pt x="0" y="202"/>
                    </a:lnTo>
                    <a:lnTo>
                      <a:pt x="4996" y="433"/>
                    </a:lnTo>
                    <a:lnTo>
                      <a:pt x="5000" y="433"/>
                    </a:lnTo>
                    <a:close/>
                  </a:path>
                </a:pathLst>
              </a:custGeom>
              <a:solidFill>
                <a:srgbClr val="dae3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300"/>
              <p:cNvSpPr/>
              <p:nvPr/>
            </p:nvSpPr>
            <p:spPr>
              <a:xfrm>
                <a:off x="5837400" y="4649760"/>
                <a:ext cx="40320" cy="18000"/>
              </a:xfrm>
              <a:custGeom>
                <a:avLst/>
                <a:gdLst/>
                <a:ahLst/>
                <a:rect l="l" t="t" r="r" b="b"/>
                <a:pathLst>
                  <a:path w="385" h="224">
                    <a:moveTo>
                      <a:pt x="324" y="223"/>
                    </a:moveTo>
                    <a:lnTo>
                      <a:pt x="334" y="224"/>
                    </a:lnTo>
                    <a:lnTo>
                      <a:pt x="344" y="223"/>
                    </a:lnTo>
                    <a:lnTo>
                      <a:pt x="352" y="222"/>
                    </a:lnTo>
                    <a:lnTo>
                      <a:pt x="360" y="218"/>
                    </a:lnTo>
                    <a:lnTo>
                      <a:pt x="366" y="214"/>
                    </a:lnTo>
                    <a:lnTo>
                      <a:pt x="373" y="208"/>
                    </a:lnTo>
                    <a:lnTo>
                      <a:pt x="380" y="201"/>
                    </a:lnTo>
                    <a:lnTo>
                      <a:pt x="385" y="191"/>
                    </a:lnTo>
                    <a:lnTo>
                      <a:pt x="358" y="180"/>
                    </a:lnTo>
                    <a:lnTo>
                      <a:pt x="333" y="168"/>
                    </a:lnTo>
                    <a:lnTo>
                      <a:pt x="310" y="156"/>
                    </a:lnTo>
                    <a:lnTo>
                      <a:pt x="289" y="143"/>
                    </a:lnTo>
                    <a:lnTo>
                      <a:pt x="269" y="130"/>
                    </a:lnTo>
                    <a:lnTo>
                      <a:pt x="251" y="115"/>
                    </a:lnTo>
                    <a:lnTo>
                      <a:pt x="235" y="100"/>
                    </a:lnTo>
                    <a:lnTo>
                      <a:pt x="221" y="84"/>
                    </a:lnTo>
                    <a:lnTo>
                      <a:pt x="207" y="66"/>
                    </a:lnTo>
                    <a:lnTo>
                      <a:pt x="191" y="51"/>
                    </a:lnTo>
                    <a:lnTo>
                      <a:pt x="176" y="38"/>
                    </a:lnTo>
                    <a:lnTo>
                      <a:pt x="160" y="27"/>
                    </a:lnTo>
                    <a:lnTo>
                      <a:pt x="145" y="17"/>
                    </a:lnTo>
                    <a:lnTo>
                      <a:pt x="129" y="10"/>
                    </a:lnTo>
                    <a:lnTo>
                      <a:pt x="113" y="5"/>
                    </a:lnTo>
                    <a:lnTo>
                      <a:pt x="97" y="3"/>
                    </a:lnTo>
                    <a:lnTo>
                      <a:pt x="87" y="1"/>
                    </a:lnTo>
                    <a:lnTo>
                      <a:pt x="76" y="0"/>
                    </a:lnTo>
                    <a:lnTo>
                      <a:pt x="65" y="1"/>
                    </a:lnTo>
                    <a:lnTo>
                      <a:pt x="55" y="3"/>
                    </a:lnTo>
                    <a:lnTo>
                      <a:pt x="40" y="11"/>
                    </a:lnTo>
                    <a:lnTo>
                      <a:pt x="28" y="19"/>
                    </a:lnTo>
                    <a:lnTo>
                      <a:pt x="18" y="27"/>
                    </a:lnTo>
                    <a:lnTo>
                      <a:pt x="11" y="34"/>
                    </a:lnTo>
                    <a:lnTo>
                      <a:pt x="9" y="36"/>
                    </a:lnTo>
                    <a:lnTo>
                      <a:pt x="8" y="39"/>
                    </a:lnTo>
                    <a:lnTo>
                      <a:pt x="5" y="43"/>
                    </a:lnTo>
                    <a:lnTo>
                      <a:pt x="3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3" y="70"/>
                    </a:lnTo>
                    <a:lnTo>
                      <a:pt x="5" y="75"/>
                    </a:lnTo>
                    <a:lnTo>
                      <a:pt x="8" y="81"/>
                    </a:lnTo>
                    <a:lnTo>
                      <a:pt x="11" y="79"/>
                    </a:lnTo>
                    <a:lnTo>
                      <a:pt x="16" y="78"/>
                    </a:lnTo>
                    <a:lnTo>
                      <a:pt x="26" y="71"/>
                    </a:lnTo>
                    <a:lnTo>
                      <a:pt x="36" y="65"/>
                    </a:lnTo>
                    <a:lnTo>
                      <a:pt x="47" y="62"/>
                    </a:lnTo>
                    <a:lnTo>
                      <a:pt x="59" y="61"/>
                    </a:lnTo>
                    <a:lnTo>
                      <a:pt x="70" y="61"/>
                    </a:lnTo>
                    <a:lnTo>
                      <a:pt x="82" y="62"/>
                    </a:lnTo>
                    <a:lnTo>
                      <a:pt x="95" y="64"/>
                    </a:lnTo>
                    <a:lnTo>
                      <a:pt x="108" y="70"/>
                    </a:lnTo>
                    <a:lnTo>
                      <a:pt x="121" y="75"/>
                    </a:lnTo>
                    <a:lnTo>
                      <a:pt x="135" y="83"/>
                    </a:lnTo>
                    <a:lnTo>
                      <a:pt x="148" y="92"/>
                    </a:lnTo>
                    <a:lnTo>
                      <a:pt x="162" y="103"/>
                    </a:lnTo>
                    <a:lnTo>
                      <a:pt x="177" y="115"/>
                    </a:lnTo>
                    <a:lnTo>
                      <a:pt x="191" y="130"/>
                    </a:lnTo>
                    <a:lnTo>
                      <a:pt x="207" y="145"/>
                    </a:lnTo>
                    <a:lnTo>
                      <a:pt x="221" y="163"/>
                    </a:lnTo>
                    <a:lnTo>
                      <a:pt x="237" y="175"/>
                    </a:lnTo>
                    <a:lnTo>
                      <a:pt x="252" y="186"/>
                    </a:lnTo>
                    <a:lnTo>
                      <a:pt x="267" y="195"/>
                    </a:lnTo>
                    <a:lnTo>
                      <a:pt x="280" y="203"/>
                    </a:lnTo>
                    <a:lnTo>
                      <a:pt x="292" y="209"/>
                    </a:lnTo>
                    <a:lnTo>
                      <a:pt x="304" y="215"/>
                    </a:lnTo>
                    <a:lnTo>
                      <a:pt x="314" y="219"/>
                    </a:lnTo>
                    <a:lnTo>
                      <a:pt x="324" y="223"/>
                    </a:lnTo>
                    <a:close/>
                  </a:path>
                </a:pathLst>
              </a:custGeom>
              <a:solidFill>
                <a:srgbClr val="6f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301"/>
              <p:cNvSpPr/>
              <p:nvPr/>
            </p:nvSpPr>
            <p:spPr>
              <a:xfrm>
                <a:off x="5853960" y="4671360"/>
                <a:ext cx="29880" cy="14040"/>
              </a:xfrm>
              <a:custGeom>
                <a:avLst/>
                <a:gdLst/>
                <a:ahLst/>
                <a:rect l="l" t="t" r="r" b="b"/>
                <a:pathLst>
                  <a:path w="290" h="163">
                    <a:moveTo>
                      <a:pt x="290" y="161"/>
                    </a:moveTo>
                    <a:lnTo>
                      <a:pt x="290" y="155"/>
                    </a:lnTo>
                    <a:lnTo>
                      <a:pt x="288" y="150"/>
                    </a:lnTo>
                    <a:lnTo>
                      <a:pt x="285" y="143"/>
                    </a:lnTo>
                    <a:lnTo>
                      <a:pt x="280" y="134"/>
                    </a:lnTo>
                    <a:lnTo>
                      <a:pt x="269" y="114"/>
                    </a:lnTo>
                    <a:lnTo>
                      <a:pt x="255" y="90"/>
                    </a:lnTo>
                    <a:lnTo>
                      <a:pt x="241" y="80"/>
                    </a:lnTo>
                    <a:lnTo>
                      <a:pt x="228" y="71"/>
                    </a:lnTo>
                    <a:lnTo>
                      <a:pt x="217" y="66"/>
                    </a:lnTo>
                    <a:lnTo>
                      <a:pt x="209" y="61"/>
                    </a:lnTo>
                    <a:lnTo>
                      <a:pt x="206" y="72"/>
                    </a:lnTo>
                    <a:lnTo>
                      <a:pt x="204" y="83"/>
                    </a:lnTo>
                    <a:lnTo>
                      <a:pt x="201" y="93"/>
                    </a:lnTo>
                    <a:lnTo>
                      <a:pt x="196" y="102"/>
                    </a:lnTo>
                    <a:lnTo>
                      <a:pt x="192" y="110"/>
                    </a:lnTo>
                    <a:lnTo>
                      <a:pt x="186" y="117"/>
                    </a:lnTo>
                    <a:lnTo>
                      <a:pt x="181" y="122"/>
                    </a:lnTo>
                    <a:lnTo>
                      <a:pt x="174" y="128"/>
                    </a:lnTo>
                    <a:lnTo>
                      <a:pt x="166" y="131"/>
                    </a:lnTo>
                    <a:lnTo>
                      <a:pt x="158" y="134"/>
                    </a:lnTo>
                    <a:lnTo>
                      <a:pt x="151" y="137"/>
                    </a:lnTo>
                    <a:lnTo>
                      <a:pt x="142" y="138"/>
                    </a:lnTo>
                    <a:lnTo>
                      <a:pt x="132" y="138"/>
                    </a:lnTo>
                    <a:lnTo>
                      <a:pt x="122" y="137"/>
                    </a:lnTo>
                    <a:lnTo>
                      <a:pt x="111" y="136"/>
                    </a:lnTo>
                    <a:lnTo>
                      <a:pt x="99" y="132"/>
                    </a:lnTo>
                    <a:lnTo>
                      <a:pt x="89" y="124"/>
                    </a:lnTo>
                    <a:lnTo>
                      <a:pt x="79" y="118"/>
                    </a:lnTo>
                    <a:lnTo>
                      <a:pt x="70" y="110"/>
                    </a:lnTo>
                    <a:lnTo>
                      <a:pt x="63" y="102"/>
                    </a:lnTo>
                    <a:lnTo>
                      <a:pt x="56" y="93"/>
                    </a:lnTo>
                    <a:lnTo>
                      <a:pt x="52" y="86"/>
                    </a:lnTo>
                    <a:lnTo>
                      <a:pt x="48" y="78"/>
                    </a:lnTo>
                    <a:lnTo>
                      <a:pt x="45" y="69"/>
                    </a:lnTo>
                    <a:lnTo>
                      <a:pt x="43" y="61"/>
                    </a:lnTo>
                    <a:lnTo>
                      <a:pt x="43" y="52"/>
                    </a:lnTo>
                    <a:lnTo>
                      <a:pt x="44" y="43"/>
                    </a:lnTo>
                    <a:lnTo>
                      <a:pt x="45" y="36"/>
                    </a:lnTo>
                    <a:lnTo>
                      <a:pt x="49" y="27"/>
                    </a:lnTo>
                    <a:lnTo>
                      <a:pt x="52" y="18"/>
                    </a:lnTo>
                    <a:lnTo>
                      <a:pt x="58" y="9"/>
                    </a:lnTo>
                    <a:lnTo>
                      <a:pt x="63" y="1"/>
                    </a:lnTo>
                    <a:lnTo>
                      <a:pt x="53" y="0"/>
                    </a:lnTo>
                    <a:lnTo>
                      <a:pt x="44" y="1"/>
                    </a:lnTo>
                    <a:lnTo>
                      <a:pt x="35" y="2"/>
                    </a:lnTo>
                    <a:lnTo>
                      <a:pt x="29" y="6"/>
                    </a:lnTo>
                    <a:lnTo>
                      <a:pt x="23" y="10"/>
                    </a:lnTo>
                    <a:lnTo>
                      <a:pt x="18" y="16"/>
                    </a:lnTo>
                    <a:lnTo>
                      <a:pt x="13" y="21"/>
                    </a:lnTo>
                    <a:lnTo>
                      <a:pt x="10" y="29"/>
                    </a:lnTo>
                    <a:lnTo>
                      <a:pt x="0" y="29"/>
                    </a:lnTo>
                    <a:lnTo>
                      <a:pt x="0" y="42"/>
                    </a:lnTo>
                    <a:lnTo>
                      <a:pt x="2" y="56"/>
                    </a:lnTo>
                    <a:lnTo>
                      <a:pt x="5" y="68"/>
                    </a:lnTo>
                    <a:lnTo>
                      <a:pt x="10" y="79"/>
                    </a:lnTo>
                    <a:lnTo>
                      <a:pt x="16" y="89"/>
                    </a:lnTo>
                    <a:lnTo>
                      <a:pt x="23" y="99"/>
                    </a:lnTo>
                    <a:lnTo>
                      <a:pt x="32" y="107"/>
                    </a:lnTo>
                    <a:lnTo>
                      <a:pt x="42" y="114"/>
                    </a:lnTo>
                    <a:lnTo>
                      <a:pt x="53" y="122"/>
                    </a:lnTo>
                    <a:lnTo>
                      <a:pt x="66" y="129"/>
                    </a:lnTo>
                    <a:lnTo>
                      <a:pt x="80" y="137"/>
                    </a:lnTo>
                    <a:lnTo>
                      <a:pt x="95" y="143"/>
                    </a:lnTo>
                    <a:lnTo>
                      <a:pt x="109" y="148"/>
                    </a:lnTo>
                    <a:lnTo>
                      <a:pt x="122" y="153"/>
                    </a:lnTo>
                    <a:lnTo>
                      <a:pt x="136" y="158"/>
                    </a:lnTo>
                    <a:lnTo>
                      <a:pt x="152" y="161"/>
                    </a:lnTo>
                    <a:lnTo>
                      <a:pt x="188" y="162"/>
                    </a:lnTo>
                    <a:lnTo>
                      <a:pt x="224" y="163"/>
                    </a:lnTo>
                    <a:lnTo>
                      <a:pt x="258" y="162"/>
                    </a:lnTo>
                    <a:lnTo>
                      <a:pt x="290" y="1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302"/>
              <p:cNvSpPr/>
              <p:nvPr/>
            </p:nvSpPr>
            <p:spPr>
              <a:xfrm>
                <a:off x="5852880" y="4669200"/>
                <a:ext cx="26640" cy="9720"/>
              </a:xfrm>
              <a:custGeom>
                <a:avLst/>
                <a:gdLst/>
                <a:ahLst/>
                <a:rect l="l" t="t" r="r" b="b"/>
                <a:pathLst>
                  <a:path w="263" h="123">
                    <a:moveTo>
                      <a:pt x="217" y="94"/>
                    </a:moveTo>
                    <a:lnTo>
                      <a:pt x="225" y="99"/>
                    </a:lnTo>
                    <a:lnTo>
                      <a:pt x="236" y="104"/>
                    </a:lnTo>
                    <a:lnTo>
                      <a:pt x="249" y="113"/>
                    </a:lnTo>
                    <a:lnTo>
                      <a:pt x="263" y="123"/>
                    </a:lnTo>
                    <a:lnTo>
                      <a:pt x="261" y="118"/>
                    </a:lnTo>
                    <a:lnTo>
                      <a:pt x="259" y="111"/>
                    </a:lnTo>
                    <a:lnTo>
                      <a:pt x="254" y="104"/>
                    </a:lnTo>
                    <a:lnTo>
                      <a:pt x="250" y="96"/>
                    </a:lnTo>
                    <a:lnTo>
                      <a:pt x="237" y="79"/>
                    </a:lnTo>
                    <a:lnTo>
                      <a:pt x="221" y="59"/>
                    </a:lnTo>
                    <a:lnTo>
                      <a:pt x="194" y="45"/>
                    </a:lnTo>
                    <a:lnTo>
                      <a:pt x="171" y="33"/>
                    </a:lnTo>
                    <a:lnTo>
                      <a:pt x="148" y="23"/>
                    </a:lnTo>
                    <a:lnTo>
                      <a:pt x="127" y="14"/>
                    </a:lnTo>
                    <a:lnTo>
                      <a:pt x="108" y="9"/>
                    </a:lnTo>
                    <a:lnTo>
                      <a:pt x="89" y="4"/>
                    </a:lnTo>
                    <a:lnTo>
                      <a:pt x="73" y="1"/>
                    </a:lnTo>
                    <a:lnTo>
                      <a:pt x="59" y="0"/>
                    </a:lnTo>
                    <a:lnTo>
                      <a:pt x="46" y="1"/>
                    </a:lnTo>
                    <a:lnTo>
                      <a:pt x="34" y="4"/>
                    </a:lnTo>
                    <a:lnTo>
                      <a:pt x="29" y="6"/>
                    </a:lnTo>
                    <a:lnTo>
                      <a:pt x="24" y="9"/>
                    </a:lnTo>
                    <a:lnTo>
                      <a:pt x="20" y="11"/>
                    </a:lnTo>
                    <a:lnTo>
                      <a:pt x="17" y="14"/>
                    </a:lnTo>
                    <a:lnTo>
                      <a:pt x="12" y="19"/>
                    </a:lnTo>
                    <a:lnTo>
                      <a:pt x="10" y="23"/>
                    </a:lnTo>
                    <a:lnTo>
                      <a:pt x="7" y="28"/>
                    </a:lnTo>
                    <a:lnTo>
                      <a:pt x="4" y="33"/>
                    </a:lnTo>
                    <a:lnTo>
                      <a:pt x="2" y="45"/>
                    </a:lnTo>
                    <a:lnTo>
                      <a:pt x="0" y="59"/>
                    </a:lnTo>
                    <a:lnTo>
                      <a:pt x="8" y="62"/>
                    </a:lnTo>
                    <a:lnTo>
                      <a:pt x="18" y="62"/>
                    </a:lnTo>
                    <a:lnTo>
                      <a:pt x="21" y="54"/>
                    </a:lnTo>
                    <a:lnTo>
                      <a:pt x="26" y="49"/>
                    </a:lnTo>
                    <a:lnTo>
                      <a:pt x="31" y="43"/>
                    </a:lnTo>
                    <a:lnTo>
                      <a:pt x="37" y="39"/>
                    </a:lnTo>
                    <a:lnTo>
                      <a:pt x="43" y="35"/>
                    </a:lnTo>
                    <a:lnTo>
                      <a:pt x="52" y="34"/>
                    </a:lnTo>
                    <a:lnTo>
                      <a:pt x="61" y="33"/>
                    </a:lnTo>
                    <a:lnTo>
                      <a:pt x="71" y="34"/>
                    </a:lnTo>
                    <a:lnTo>
                      <a:pt x="71" y="30"/>
                    </a:lnTo>
                    <a:lnTo>
                      <a:pt x="73" y="31"/>
                    </a:lnTo>
                    <a:lnTo>
                      <a:pt x="79" y="34"/>
                    </a:lnTo>
                    <a:lnTo>
                      <a:pt x="81" y="34"/>
                    </a:lnTo>
                    <a:lnTo>
                      <a:pt x="85" y="34"/>
                    </a:lnTo>
                    <a:lnTo>
                      <a:pt x="98" y="38"/>
                    </a:lnTo>
                    <a:lnTo>
                      <a:pt x="112" y="42"/>
                    </a:lnTo>
                    <a:lnTo>
                      <a:pt x="128" y="48"/>
                    </a:lnTo>
                    <a:lnTo>
                      <a:pt x="143" y="54"/>
                    </a:lnTo>
                    <a:lnTo>
                      <a:pt x="179" y="72"/>
                    </a:lnTo>
                    <a:lnTo>
                      <a:pt x="217" y="94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303"/>
              <p:cNvSpPr/>
              <p:nvPr/>
            </p:nvSpPr>
            <p:spPr>
              <a:xfrm>
                <a:off x="5839560" y="4654800"/>
                <a:ext cx="36000" cy="18720"/>
              </a:xfrm>
              <a:custGeom>
                <a:avLst/>
                <a:gdLst/>
                <a:ahLst/>
                <a:rect l="l" t="t" r="r" b="b"/>
                <a:pathLst>
                  <a:path w="355" h="236">
                    <a:moveTo>
                      <a:pt x="355" y="233"/>
                    </a:moveTo>
                    <a:lnTo>
                      <a:pt x="344" y="218"/>
                    </a:lnTo>
                    <a:lnTo>
                      <a:pt x="333" y="202"/>
                    </a:lnTo>
                    <a:lnTo>
                      <a:pt x="322" y="183"/>
                    </a:lnTo>
                    <a:lnTo>
                      <a:pt x="308" y="162"/>
                    </a:lnTo>
                    <a:lnTo>
                      <a:pt x="298" y="158"/>
                    </a:lnTo>
                    <a:lnTo>
                      <a:pt x="288" y="154"/>
                    </a:lnTo>
                    <a:lnTo>
                      <a:pt x="276" y="148"/>
                    </a:lnTo>
                    <a:lnTo>
                      <a:pt x="264" y="142"/>
                    </a:lnTo>
                    <a:lnTo>
                      <a:pt x="251" y="134"/>
                    </a:lnTo>
                    <a:lnTo>
                      <a:pt x="236" y="125"/>
                    </a:lnTo>
                    <a:lnTo>
                      <a:pt x="221" y="114"/>
                    </a:lnTo>
                    <a:lnTo>
                      <a:pt x="205" y="102"/>
                    </a:lnTo>
                    <a:lnTo>
                      <a:pt x="191" y="84"/>
                    </a:lnTo>
                    <a:lnTo>
                      <a:pt x="175" y="69"/>
                    </a:lnTo>
                    <a:lnTo>
                      <a:pt x="161" y="54"/>
                    </a:lnTo>
                    <a:lnTo>
                      <a:pt x="146" y="42"/>
                    </a:lnTo>
                    <a:lnTo>
                      <a:pt x="132" y="31"/>
                    </a:lnTo>
                    <a:lnTo>
                      <a:pt x="119" y="22"/>
                    </a:lnTo>
                    <a:lnTo>
                      <a:pt x="105" y="14"/>
                    </a:lnTo>
                    <a:lnTo>
                      <a:pt x="92" y="9"/>
                    </a:lnTo>
                    <a:lnTo>
                      <a:pt x="79" y="3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0"/>
                    </a:lnTo>
                    <a:lnTo>
                      <a:pt x="31" y="1"/>
                    </a:lnTo>
                    <a:lnTo>
                      <a:pt x="20" y="4"/>
                    </a:lnTo>
                    <a:lnTo>
                      <a:pt x="10" y="10"/>
                    </a:lnTo>
                    <a:lnTo>
                      <a:pt x="0" y="17"/>
                    </a:lnTo>
                    <a:lnTo>
                      <a:pt x="8" y="40"/>
                    </a:lnTo>
                    <a:lnTo>
                      <a:pt x="16" y="63"/>
                    </a:lnTo>
                    <a:lnTo>
                      <a:pt x="29" y="89"/>
                    </a:lnTo>
                    <a:lnTo>
                      <a:pt x="42" y="115"/>
                    </a:lnTo>
                    <a:lnTo>
                      <a:pt x="58" y="142"/>
                    </a:lnTo>
                    <a:lnTo>
                      <a:pt x="75" y="170"/>
                    </a:lnTo>
                    <a:lnTo>
                      <a:pt x="95" y="199"/>
                    </a:lnTo>
                    <a:lnTo>
                      <a:pt x="116" y="229"/>
                    </a:lnTo>
                    <a:lnTo>
                      <a:pt x="116" y="233"/>
                    </a:lnTo>
                    <a:lnTo>
                      <a:pt x="120" y="233"/>
                    </a:lnTo>
                    <a:lnTo>
                      <a:pt x="134" y="236"/>
                    </a:lnTo>
                    <a:lnTo>
                      <a:pt x="134" y="233"/>
                    </a:lnTo>
                    <a:lnTo>
                      <a:pt x="134" y="233"/>
                    </a:lnTo>
                    <a:lnTo>
                      <a:pt x="136" y="219"/>
                    </a:lnTo>
                    <a:lnTo>
                      <a:pt x="138" y="207"/>
                    </a:lnTo>
                    <a:lnTo>
                      <a:pt x="141" y="202"/>
                    </a:lnTo>
                    <a:lnTo>
                      <a:pt x="144" y="197"/>
                    </a:lnTo>
                    <a:lnTo>
                      <a:pt x="146" y="193"/>
                    </a:lnTo>
                    <a:lnTo>
                      <a:pt x="151" y="188"/>
                    </a:lnTo>
                    <a:lnTo>
                      <a:pt x="154" y="185"/>
                    </a:lnTo>
                    <a:lnTo>
                      <a:pt x="158" y="183"/>
                    </a:lnTo>
                    <a:lnTo>
                      <a:pt x="163" y="180"/>
                    </a:lnTo>
                    <a:lnTo>
                      <a:pt x="168" y="178"/>
                    </a:lnTo>
                    <a:lnTo>
                      <a:pt x="180" y="175"/>
                    </a:lnTo>
                    <a:lnTo>
                      <a:pt x="193" y="174"/>
                    </a:lnTo>
                    <a:lnTo>
                      <a:pt x="207" y="175"/>
                    </a:lnTo>
                    <a:lnTo>
                      <a:pt x="223" y="178"/>
                    </a:lnTo>
                    <a:lnTo>
                      <a:pt x="242" y="183"/>
                    </a:lnTo>
                    <a:lnTo>
                      <a:pt x="261" y="188"/>
                    </a:lnTo>
                    <a:lnTo>
                      <a:pt x="282" y="197"/>
                    </a:lnTo>
                    <a:lnTo>
                      <a:pt x="305" y="207"/>
                    </a:lnTo>
                    <a:lnTo>
                      <a:pt x="328" y="219"/>
                    </a:lnTo>
                    <a:lnTo>
                      <a:pt x="355" y="233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304"/>
              <p:cNvSpPr/>
              <p:nvPr/>
            </p:nvSpPr>
            <p:spPr>
              <a:xfrm>
                <a:off x="5858280" y="4671360"/>
                <a:ext cx="17640" cy="11520"/>
              </a:xfrm>
              <a:custGeom>
                <a:avLst/>
                <a:gdLst/>
                <a:ahLst/>
                <a:rect l="l" t="t" r="r" b="b"/>
                <a:pathLst>
                  <a:path w="166" h="141">
                    <a:moveTo>
                      <a:pt x="34" y="4"/>
                    </a:moveTo>
                    <a:lnTo>
                      <a:pt x="30" y="4"/>
                    </a:lnTo>
                    <a:lnTo>
                      <a:pt x="28" y="4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20" y="4"/>
                    </a:lnTo>
                    <a:lnTo>
                      <a:pt x="15" y="12"/>
                    </a:lnTo>
                    <a:lnTo>
                      <a:pt x="9" y="21"/>
                    </a:lnTo>
                    <a:lnTo>
                      <a:pt x="6" y="30"/>
                    </a:lnTo>
                    <a:lnTo>
                      <a:pt x="2" y="39"/>
                    </a:lnTo>
                    <a:lnTo>
                      <a:pt x="1" y="46"/>
                    </a:lnTo>
                    <a:lnTo>
                      <a:pt x="0" y="55"/>
                    </a:lnTo>
                    <a:lnTo>
                      <a:pt x="0" y="64"/>
                    </a:lnTo>
                    <a:lnTo>
                      <a:pt x="2" y="72"/>
                    </a:lnTo>
                    <a:lnTo>
                      <a:pt x="5" y="81"/>
                    </a:lnTo>
                    <a:lnTo>
                      <a:pt x="9" y="89"/>
                    </a:lnTo>
                    <a:lnTo>
                      <a:pt x="13" y="96"/>
                    </a:lnTo>
                    <a:lnTo>
                      <a:pt x="20" y="105"/>
                    </a:lnTo>
                    <a:lnTo>
                      <a:pt x="27" y="113"/>
                    </a:lnTo>
                    <a:lnTo>
                      <a:pt x="36" y="121"/>
                    </a:lnTo>
                    <a:lnTo>
                      <a:pt x="46" y="127"/>
                    </a:lnTo>
                    <a:lnTo>
                      <a:pt x="56" y="135"/>
                    </a:lnTo>
                    <a:lnTo>
                      <a:pt x="68" y="139"/>
                    </a:lnTo>
                    <a:lnTo>
                      <a:pt x="79" y="140"/>
                    </a:lnTo>
                    <a:lnTo>
                      <a:pt x="89" y="141"/>
                    </a:lnTo>
                    <a:lnTo>
                      <a:pt x="99" y="141"/>
                    </a:lnTo>
                    <a:lnTo>
                      <a:pt x="108" y="140"/>
                    </a:lnTo>
                    <a:lnTo>
                      <a:pt x="115" y="137"/>
                    </a:lnTo>
                    <a:lnTo>
                      <a:pt x="123" y="134"/>
                    </a:lnTo>
                    <a:lnTo>
                      <a:pt x="131" y="131"/>
                    </a:lnTo>
                    <a:lnTo>
                      <a:pt x="138" y="125"/>
                    </a:lnTo>
                    <a:lnTo>
                      <a:pt x="143" y="120"/>
                    </a:lnTo>
                    <a:lnTo>
                      <a:pt x="149" y="113"/>
                    </a:lnTo>
                    <a:lnTo>
                      <a:pt x="153" y="105"/>
                    </a:lnTo>
                    <a:lnTo>
                      <a:pt x="158" y="96"/>
                    </a:lnTo>
                    <a:lnTo>
                      <a:pt x="161" y="86"/>
                    </a:lnTo>
                    <a:lnTo>
                      <a:pt x="163" y="75"/>
                    </a:lnTo>
                    <a:lnTo>
                      <a:pt x="166" y="64"/>
                    </a:lnTo>
                    <a:lnTo>
                      <a:pt x="128" y="42"/>
                    </a:lnTo>
                    <a:lnTo>
                      <a:pt x="92" y="24"/>
                    </a:lnTo>
                    <a:lnTo>
                      <a:pt x="77" y="18"/>
                    </a:lnTo>
                    <a:lnTo>
                      <a:pt x="61" y="12"/>
                    </a:lnTo>
                    <a:lnTo>
                      <a:pt x="47" y="8"/>
                    </a:lnTo>
                    <a:lnTo>
                      <a:pt x="34" y="4"/>
                    </a:lnTo>
                    <a:close/>
                    <a:moveTo>
                      <a:pt x="91" y="43"/>
                    </a:moveTo>
                    <a:lnTo>
                      <a:pt x="91" y="44"/>
                    </a:lnTo>
                    <a:lnTo>
                      <a:pt x="91" y="46"/>
                    </a:lnTo>
                    <a:lnTo>
                      <a:pt x="93" y="50"/>
                    </a:lnTo>
                    <a:lnTo>
                      <a:pt x="99" y="53"/>
                    </a:lnTo>
                    <a:lnTo>
                      <a:pt x="103" y="56"/>
                    </a:lnTo>
                    <a:lnTo>
                      <a:pt x="107" y="62"/>
                    </a:lnTo>
                    <a:lnTo>
                      <a:pt x="109" y="68"/>
                    </a:lnTo>
                    <a:lnTo>
                      <a:pt x="109" y="75"/>
                    </a:lnTo>
                    <a:lnTo>
                      <a:pt x="109" y="81"/>
                    </a:lnTo>
                    <a:lnTo>
                      <a:pt x="107" y="86"/>
                    </a:lnTo>
                    <a:lnTo>
                      <a:pt x="103" y="92"/>
                    </a:lnTo>
                    <a:lnTo>
                      <a:pt x="99" y="96"/>
                    </a:lnTo>
                    <a:lnTo>
                      <a:pt x="93" y="99"/>
                    </a:lnTo>
                    <a:lnTo>
                      <a:pt x="88" y="101"/>
                    </a:lnTo>
                    <a:lnTo>
                      <a:pt x="82" y="103"/>
                    </a:lnTo>
                    <a:lnTo>
                      <a:pt x="77" y="103"/>
                    </a:lnTo>
                    <a:lnTo>
                      <a:pt x="70" y="103"/>
                    </a:lnTo>
                    <a:lnTo>
                      <a:pt x="63" y="101"/>
                    </a:lnTo>
                    <a:lnTo>
                      <a:pt x="58" y="99"/>
                    </a:lnTo>
                    <a:lnTo>
                      <a:pt x="52" y="96"/>
                    </a:lnTo>
                    <a:lnTo>
                      <a:pt x="50" y="92"/>
                    </a:lnTo>
                    <a:lnTo>
                      <a:pt x="48" y="86"/>
                    </a:lnTo>
                    <a:lnTo>
                      <a:pt x="46" y="81"/>
                    </a:lnTo>
                    <a:lnTo>
                      <a:pt x="46" y="75"/>
                    </a:lnTo>
                    <a:lnTo>
                      <a:pt x="46" y="70"/>
                    </a:lnTo>
                    <a:lnTo>
                      <a:pt x="46" y="64"/>
                    </a:lnTo>
                    <a:lnTo>
                      <a:pt x="40" y="62"/>
                    </a:lnTo>
                    <a:lnTo>
                      <a:pt x="34" y="61"/>
                    </a:lnTo>
                    <a:lnTo>
                      <a:pt x="32" y="58"/>
                    </a:lnTo>
                    <a:lnTo>
                      <a:pt x="30" y="53"/>
                    </a:lnTo>
                    <a:lnTo>
                      <a:pt x="28" y="49"/>
                    </a:lnTo>
                    <a:lnTo>
                      <a:pt x="28" y="43"/>
                    </a:lnTo>
                    <a:lnTo>
                      <a:pt x="28" y="38"/>
                    </a:lnTo>
                    <a:lnTo>
                      <a:pt x="30" y="33"/>
                    </a:lnTo>
                    <a:lnTo>
                      <a:pt x="32" y="29"/>
                    </a:lnTo>
                    <a:lnTo>
                      <a:pt x="34" y="25"/>
                    </a:lnTo>
                    <a:lnTo>
                      <a:pt x="40" y="22"/>
                    </a:lnTo>
                    <a:lnTo>
                      <a:pt x="46" y="20"/>
                    </a:lnTo>
                    <a:lnTo>
                      <a:pt x="52" y="19"/>
                    </a:lnTo>
                    <a:lnTo>
                      <a:pt x="59" y="18"/>
                    </a:lnTo>
                    <a:lnTo>
                      <a:pt x="64" y="19"/>
                    </a:lnTo>
                    <a:lnTo>
                      <a:pt x="70" y="20"/>
                    </a:lnTo>
                    <a:lnTo>
                      <a:pt x="76" y="22"/>
                    </a:lnTo>
                    <a:lnTo>
                      <a:pt x="81" y="25"/>
                    </a:lnTo>
                    <a:lnTo>
                      <a:pt x="86" y="29"/>
                    </a:lnTo>
                    <a:lnTo>
                      <a:pt x="89" y="33"/>
                    </a:lnTo>
                    <a:lnTo>
                      <a:pt x="91" y="3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6f53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305"/>
              <p:cNvSpPr/>
              <p:nvPr/>
            </p:nvSpPr>
            <p:spPr>
              <a:xfrm>
                <a:off x="5861160" y="467316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63" y="28"/>
                    </a:moveTo>
                    <a:lnTo>
                      <a:pt x="63" y="26"/>
                    </a:lnTo>
                    <a:lnTo>
                      <a:pt x="63" y="25"/>
                    </a:lnTo>
                    <a:lnTo>
                      <a:pt x="63" y="20"/>
                    </a:lnTo>
                    <a:lnTo>
                      <a:pt x="61" y="15"/>
                    </a:lnTo>
                    <a:lnTo>
                      <a:pt x="58" y="11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2" y="2"/>
                    </a:lnTo>
                    <a:lnTo>
                      <a:pt x="36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8" y="2"/>
                    </a:lnTo>
                    <a:lnTo>
                      <a:pt x="12" y="4"/>
                    </a:lnTo>
                    <a:lnTo>
                      <a:pt x="6" y="7"/>
                    </a:lnTo>
                    <a:lnTo>
                      <a:pt x="4" y="11"/>
                    </a:lnTo>
                    <a:lnTo>
                      <a:pt x="2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2" y="35"/>
                    </a:lnTo>
                    <a:lnTo>
                      <a:pt x="4" y="40"/>
                    </a:lnTo>
                    <a:lnTo>
                      <a:pt x="6" y="43"/>
                    </a:lnTo>
                    <a:lnTo>
                      <a:pt x="12" y="44"/>
                    </a:lnTo>
                    <a:lnTo>
                      <a:pt x="18" y="46"/>
                    </a:lnTo>
                    <a:lnTo>
                      <a:pt x="20" y="48"/>
                    </a:lnTo>
                    <a:lnTo>
                      <a:pt x="23" y="50"/>
                    </a:lnTo>
                    <a:lnTo>
                      <a:pt x="26" y="50"/>
                    </a:lnTo>
                    <a:lnTo>
                      <a:pt x="31" y="50"/>
                    </a:lnTo>
                    <a:lnTo>
                      <a:pt x="36" y="50"/>
                    </a:lnTo>
                    <a:lnTo>
                      <a:pt x="42" y="47"/>
                    </a:lnTo>
                    <a:lnTo>
                      <a:pt x="48" y="45"/>
                    </a:lnTo>
                    <a:lnTo>
                      <a:pt x="53" y="43"/>
                    </a:lnTo>
                    <a:lnTo>
                      <a:pt x="58" y="37"/>
                    </a:lnTo>
                    <a:lnTo>
                      <a:pt x="63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306"/>
              <p:cNvSpPr/>
              <p:nvPr/>
            </p:nvSpPr>
            <p:spPr>
              <a:xfrm>
                <a:off x="5863320" y="46756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3" h="57">
                    <a:moveTo>
                      <a:pt x="63" y="29"/>
                    </a:moveTo>
                    <a:lnTo>
                      <a:pt x="63" y="22"/>
                    </a:lnTo>
                    <a:lnTo>
                      <a:pt x="61" y="16"/>
                    </a:lnTo>
                    <a:lnTo>
                      <a:pt x="57" y="10"/>
                    </a:lnTo>
                    <a:lnTo>
                      <a:pt x="53" y="7"/>
                    </a:lnTo>
                    <a:lnTo>
                      <a:pt x="47" y="4"/>
                    </a:lnTo>
                    <a:lnTo>
                      <a:pt x="45" y="0"/>
                    </a:lnTo>
                    <a:lnTo>
                      <a:pt x="40" y="9"/>
                    </a:lnTo>
                    <a:lnTo>
                      <a:pt x="35" y="15"/>
                    </a:lnTo>
                    <a:lnTo>
                      <a:pt x="30" y="17"/>
                    </a:lnTo>
                    <a:lnTo>
                      <a:pt x="24" y="19"/>
                    </a:lnTo>
                    <a:lnTo>
                      <a:pt x="18" y="22"/>
                    </a:lnTo>
                    <a:lnTo>
                      <a:pt x="13" y="22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2" y="20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2" y="40"/>
                    </a:lnTo>
                    <a:lnTo>
                      <a:pt x="4" y="46"/>
                    </a:lnTo>
                    <a:lnTo>
                      <a:pt x="6" y="50"/>
                    </a:lnTo>
                    <a:lnTo>
                      <a:pt x="12" y="53"/>
                    </a:lnTo>
                    <a:lnTo>
                      <a:pt x="17" y="55"/>
                    </a:lnTo>
                    <a:lnTo>
                      <a:pt x="24" y="57"/>
                    </a:lnTo>
                    <a:lnTo>
                      <a:pt x="31" y="57"/>
                    </a:lnTo>
                    <a:lnTo>
                      <a:pt x="36" y="57"/>
                    </a:lnTo>
                    <a:lnTo>
                      <a:pt x="42" y="55"/>
                    </a:lnTo>
                    <a:lnTo>
                      <a:pt x="47" y="53"/>
                    </a:lnTo>
                    <a:lnTo>
                      <a:pt x="53" y="50"/>
                    </a:lnTo>
                    <a:lnTo>
                      <a:pt x="57" y="46"/>
                    </a:lnTo>
                    <a:lnTo>
                      <a:pt x="61" y="40"/>
                    </a:lnTo>
                    <a:lnTo>
                      <a:pt x="63" y="35"/>
                    </a:lnTo>
                    <a:lnTo>
                      <a:pt x="63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307"/>
              <p:cNvSpPr/>
              <p:nvPr/>
            </p:nvSpPr>
            <p:spPr>
              <a:xfrm>
                <a:off x="5075640" y="512928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21" y="19"/>
                    </a:moveTo>
                    <a:lnTo>
                      <a:pt x="18" y="22"/>
                    </a:lnTo>
                    <a:lnTo>
                      <a:pt x="14" y="27"/>
                    </a:lnTo>
                    <a:lnTo>
                      <a:pt x="11" y="32"/>
                    </a:lnTo>
                    <a:lnTo>
                      <a:pt x="10" y="37"/>
                    </a:lnTo>
                    <a:lnTo>
                      <a:pt x="5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2"/>
                    </a:lnTo>
                    <a:lnTo>
                      <a:pt x="5" y="99"/>
                    </a:lnTo>
                    <a:lnTo>
                      <a:pt x="8" y="106"/>
                    </a:lnTo>
                    <a:lnTo>
                      <a:pt x="12" y="111"/>
                    </a:lnTo>
                    <a:lnTo>
                      <a:pt x="16" y="117"/>
                    </a:lnTo>
                    <a:lnTo>
                      <a:pt x="21" y="122"/>
                    </a:lnTo>
                    <a:lnTo>
                      <a:pt x="26" y="128"/>
                    </a:lnTo>
                    <a:lnTo>
                      <a:pt x="32" y="132"/>
                    </a:lnTo>
                    <a:lnTo>
                      <a:pt x="39" y="136"/>
                    </a:lnTo>
                    <a:lnTo>
                      <a:pt x="45" y="139"/>
                    </a:lnTo>
                    <a:lnTo>
                      <a:pt x="52" y="141"/>
                    </a:lnTo>
                    <a:lnTo>
                      <a:pt x="59" y="142"/>
                    </a:lnTo>
                    <a:lnTo>
                      <a:pt x="66" y="143"/>
                    </a:lnTo>
                    <a:lnTo>
                      <a:pt x="74" y="143"/>
                    </a:lnTo>
                    <a:lnTo>
                      <a:pt x="81" y="143"/>
                    </a:lnTo>
                    <a:lnTo>
                      <a:pt x="87" y="142"/>
                    </a:lnTo>
                    <a:lnTo>
                      <a:pt x="94" y="141"/>
                    </a:lnTo>
                    <a:lnTo>
                      <a:pt x="101" y="139"/>
                    </a:lnTo>
                    <a:lnTo>
                      <a:pt x="106" y="136"/>
                    </a:lnTo>
                    <a:lnTo>
                      <a:pt x="113" y="132"/>
                    </a:lnTo>
                    <a:lnTo>
                      <a:pt x="119" y="128"/>
                    </a:lnTo>
                    <a:lnTo>
                      <a:pt x="124" y="122"/>
                    </a:lnTo>
                    <a:lnTo>
                      <a:pt x="129" y="117"/>
                    </a:lnTo>
                    <a:lnTo>
                      <a:pt x="133" y="111"/>
                    </a:lnTo>
                    <a:lnTo>
                      <a:pt x="137" y="106"/>
                    </a:lnTo>
                    <a:lnTo>
                      <a:pt x="140" y="99"/>
                    </a:lnTo>
                    <a:lnTo>
                      <a:pt x="142" y="92"/>
                    </a:lnTo>
                    <a:lnTo>
                      <a:pt x="144" y="86"/>
                    </a:lnTo>
                    <a:lnTo>
                      <a:pt x="145" y="79"/>
                    </a:lnTo>
                    <a:lnTo>
                      <a:pt x="145" y="72"/>
                    </a:lnTo>
                    <a:lnTo>
                      <a:pt x="145" y="66"/>
                    </a:lnTo>
                    <a:lnTo>
                      <a:pt x="144" y="59"/>
                    </a:lnTo>
                    <a:lnTo>
                      <a:pt x="142" y="52"/>
                    </a:lnTo>
                    <a:lnTo>
                      <a:pt x="140" y="46"/>
                    </a:lnTo>
                    <a:lnTo>
                      <a:pt x="137" y="39"/>
                    </a:lnTo>
                    <a:lnTo>
                      <a:pt x="133" y="32"/>
                    </a:lnTo>
                    <a:lnTo>
                      <a:pt x="129" y="26"/>
                    </a:lnTo>
                    <a:lnTo>
                      <a:pt x="124" y="19"/>
                    </a:lnTo>
                    <a:lnTo>
                      <a:pt x="115" y="13"/>
                    </a:lnTo>
                    <a:lnTo>
                      <a:pt x="106" y="7"/>
                    </a:lnTo>
                    <a:lnTo>
                      <a:pt x="97" y="3"/>
                    </a:lnTo>
                    <a:lnTo>
                      <a:pt x="89" y="1"/>
                    </a:lnTo>
                    <a:lnTo>
                      <a:pt x="84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4" y="1"/>
                    </a:lnTo>
                    <a:lnTo>
                      <a:pt x="66" y="1"/>
                    </a:lnTo>
                    <a:lnTo>
                      <a:pt x="59" y="1"/>
                    </a:lnTo>
                    <a:lnTo>
                      <a:pt x="52" y="3"/>
                    </a:lnTo>
                    <a:lnTo>
                      <a:pt x="45" y="4"/>
                    </a:lnTo>
                    <a:lnTo>
                      <a:pt x="39" y="7"/>
                    </a:lnTo>
                    <a:lnTo>
                      <a:pt x="32" y="10"/>
                    </a:lnTo>
                    <a:lnTo>
                      <a:pt x="26" y="15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308"/>
              <p:cNvSpPr/>
              <p:nvPr/>
            </p:nvSpPr>
            <p:spPr>
              <a:xfrm>
                <a:off x="4977000" y="5126400"/>
                <a:ext cx="83160" cy="30600"/>
              </a:xfrm>
              <a:custGeom>
                <a:avLst/>
                <a:gdLst/>
                <a:ahLst/>
                <a:rect l="l" t="t" r="r" b="b"/>
                <a:pathLst>
                  <a:path w="796" h="376">
                    <a:moveTo>
                      <a:pt x="796" y="96"/>
                    </a:moveTo>
                    <a:lnTo>
                      <a:pt x="796" y="4"/>
                    </a:lnTo>
                    <a:lnTo>
                      <a:pt x="765" y="1"/>
                    </a:lnTo>
                    <a:lnTo>
                      <a:pt x="733" y="0"/>
                    </a:lnTo>
                    <a:lnTo>
                      <a:pt x="703" y="0"/>
                    </a:lnTo>
                    <a:lnTo>
                      <a:pt x="672" y="0"/>
                    </a:lnTo>
                    <a:lnTo>
                      <a:pt x="642" y="1"/>
                    </a:lnTo>
                    <a:lnTo>
                      <a:pt x="612" y="4"/>
                    </a:lnTo>
                    <a:lnTo>
                      <a:pt x="583" y="7"/>
                    </a:lnTo>
                    <a:lnTo>
                      <a:pt x="554" y="10"/>
                    </a:lnTo>
                    <a:lnTo>
                      <a:pt x="526" y="15"/>
                    </a:lnTo>
                    <a:lnTo>
                      <a:pt x="498" y="20"/>
                    </a:lnTo>
                    <a:lnTo>
                      <a:pt x="471" y="26"/>
                    </a:lnTo>
                    <a:lnTo>
                      <a:pt x="444" y="33"/>
                    </a:lnTo>
                    <a:lnTo>
                      <a:pt x="417" y="40"/>
                    </a:lnTo>
                    <a:lnTo>
                      <a:pt x="392" y="49"/>
                    </a:lnTo>
                    <a:lnTo>
                      <a:pt x="366" y="58"/>
                    </a:lnTo>
                    <a:lnTo>
                      <a:pt x="341" y="68"/>
                    </a:lnTo>
                    <a:lnTo>
                      <a:pt x="317" y="79"/>
                    </a:lnTo>
                    <a:lnTo>
                      <a:pt x="292" y="91"/>
                    </a:lnTo>
                    <a:lnTo>
                      <a:pt x="269" y="103"/>
                    </a:lnTo>
                    <a:lnTo>
                      <a:pt x="246" y="117"/>
                    </a:lnTo>
                    <a:lnTo>
                      <a:pt x="222" y="131"/>
                    </a:lnTo>
                    <a:lnTo>
                      <a:pt x="200" y="146"/>
                    </a:lnTo>
                    <a:lnTo>
                      <a:pt x="178" y="161"/>
                    </a:lnTo>
                    <a:lnTo>
                      <a:pt x="157" y="178"/>
                    </a:lnTo>
                    <a:lnTo>
                      <a:pt x="136" y="196"/>
                    </a:lnTo>
                    <a:lnTo>
                      <a:pt x="115" y="213"/>
                    </a:lnTo>
                    <a:lnTo>
                      <a:pt x="95" y="233"/>
                    </a:lnTo>
                    <a:lnTo>
                      <a:pt x="75" y="253"/>
                    </a:lnTo>
                    <a:lnTo>
                      <a:pt x="56" y="273"/>
                    </a:lnTo>
                    <a:lnTo>
                      <a:pt x="37" y="295"/>
                    </a:lnTo>
                    <a:lnTo>
                      <a:pt x="18" y="318"/>
                    </a:lnTo>
                    <a:lnTo>
                      <a:pt x="0" y="341"/>
                    </a:lnTo>
                    <a:lnTo>
                      <a:pt x="44" y="376"/>
                    </a:lnTo>
                    <a:lnTo>
                      <a:pt x="57" y="357"/>
                    </a:lnTo>
                    <a:lnTo>
                      <a:pt x="72" y="340"/>
                    </a:lnTo>
                    <a:lnTo>
                      <a:pt x="88" y="322"/>
                    </a:lnTo>
                    <a:lnTo>
                      <a:pt x="104" y="305"/>
                    </a:lnTo>
                    <a:lnTo>
                      <a:pt x="120" y="289"/>
                    </a:lnTo>
                    <a:lnTo>
                      <a:pt x="138" y="273"/>
                    </a:lnTo>
                    <a:lnTo>
                      <a:pt x="156" y="259"/>
                    </a:lnTo>
                    <a:lnTo>
                      <a:pt x="175" y="244"/>
                    </a:lnTo>
                    <a:lnTo>
                      <a:pt x="193" y="231"/>
                    </a:lnTo>
                    <a:lnTo>
                      <a:pt x="213" y="218"/>
                    </a:lnTo>
                    <a:lnTo>
                      <a:pt x="233" y="206"/>
                    </a:lnTo>
                    <a:lnTo>
                      <a:pt x="254" y="193"/>
                    </a:lnTo>
                    <a:lnTo>
                      <a:pt x="275" y="182"/>
                    </a:lnTo>
                    <a:lnTo>
                      <a:pt x="298" y="172"/>
                    </a:lnTo>
                    <a:lnTo>
                      <a:pt x="321" y="162"/>
                    </a:lnTo>
                    <a:lnTo>
                      <a:pt x="343" y="153"/>
                    </a:lnTo>
                    <a:lnTo>
                      <a:pt x="368" y="145"/>
                    </a:lnTo>
                    <a:lnTo>
                      <a:pt x="392" y="137"/>
                    </a:lnTo>
                    <a:lnTo>
                      <a:pt x="417" y="130"/>
                    </a:lnTo>
                    <a:lnTo>
                      <a:pt x="443" y="123"/>
                    </a:lnTo>
                    <a:lnTo>
                      <a:pt x="468" y="118"/>
                    </a:lnTo>
                    <a:lnTo>
                      <a:pt x="495" y="112"/>
                    </a:lnTo>
                    <a:lnTo>
                      <a:pt x="523" y="108"/>
                    </a:lnTo>
                    <a:lnTo>
                      <a:pt x="551" y="103"/>
                    </a:lnTo>
                    <a:lnTo>
                      <a:pt x="579" y="100"/>
                    </a:lnTo>
                    <a:lnTo>
                      <a:pt x="608" y="98"/>
                    </a:lnTo>
                    <a:lnTo>
                      <a:pt x="638" y="96"/>
                    </a:lnTo>
                    <a:lnTo>
                      <a:pt x="669" y="95"/>
                    </a:lnTo>
                    <a:lnTo>
                      <a:pt x="699" y="94"/>
                    </a:lnTo>
                    <a:lnTo>
                      <a:pt x="731" y="94"/>
                    </a:lnTo>
                    <a:lnTo>
                      <a:pt x="764" y="95"/>
                    </a:lnTo>
                    <a:lnTo>
                      <a:pt x="796" y="96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309"/>
              <p:cNvSpPr/>
              <p:nvPr/>
            </p:nvSpPr>
            <p:spPr>
              <a:xfrm>
                <a:off x="5245200" y="5177160"/>
                <a:ext cx="94320" cy="153000"/>
              </a:xfrm>
              <a:custGeom>
                <a:avLst/>
                <a:gdLst/>
                <a:ahLst/>
                <a:rect l="l" t="t" r="r" b="b"/>
                <a:pathLst>
                  <a:path w="915" h="1843">
                    <a:moveTo>
                      <a:pt x="855" y="32"/>
                    </a:moveTo>
                    <a:lnTo>
                      <a:pt x="649" y="0"/>
                    </a:lnTo>
                    <a:lnTo>
                      <a:pt x="631" y="1040"/>
                    </a:lnTo>
                    <a:lnTo>
                      <a:pt x="631" y="1058"/>
                    </a:lnTo>
                    <a:lnTo>
                      <a:pt x="42" y="1484"/>
                    </a:lnTo>
                    <a:lnTo>
                      <a:pt x="0" y="1843"/>
                    </a:lnTo>
                    <a:lnTo>
                      <a:pt x="525" y="1637"/>
                    </a:lnTo>
                    <a:lnTo>
                      <a:pt x="525" y="1630"/>
                    </a:lnTo>
                    <a:lnTo>
                      <a:pt x="529" y="1382"/>
                    </a:lnTo>
                    <a:lnTo>
                      <a:pt x="526" y="1382"/>
                    </a:lnTo>
                    <a:lnTo>
                      <a:pt x="523" y="1380"/>
                    </a:lnTo>
                    <a:lnTo>
                      <a:pt x="520" y="1379"/>
                    </a:lnTo>
                    <a:lnTo>
                      <a:pt x="518" y="1377"/>
                    </a:lnTo>
                    <a:lnTo>
                      <a:pt x="915" y="1111"/>
                    </a:lnTo>
                    <a:lnTo>
                      <a:pt x="905" y="912"/>
                    </a:lnTo>
                    <a:lnTo>
                      <a:pt x="855" y="32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310"/>
              <p:cNvSpPr/>
              <p:nvPr/>
            </p:nvSpPr>
            <p:spPr>
              <a:xfrm>
                <a:off x="5115240" y="5164560"/>
                <a:ext cx="196560" cy="165240"/>
              </a:xfrm>
              <a:custGeom>
                <a:avLst/>
                <a:gdLst/>
                <a:ahLst/>
                <a:rect l="l" t="t" r="r" b="b"/>
                <a:pathLst>
                  <a:path w="1891" h="1995">
                    <a:moveTo>
                      <a:pt x="1891" y="152"/>
                    </a:moveTo>
                    <a:lnTo>
                      <a:pt x="1888" y="152"/>
                    </a:lnTo>
                    <a:lnTo>
                      <a:pt x="819" y="0"/>
                    </a:lnTo>
                    <a:lnTo>
                      <a:pt x="798" y="639"/>
                    </a:lnTo>
                    <a:lnTo>
                      <a:pt x="817" y="620"/>
                    </a:lnTo>
                    <a:lnTo>
                      <a:pt x="838" y="601"/>
                    </a:lnTo>
                    <a:lnTo>
                      <a:pt x="859" y="583"/>
                    </a:lnTo>
                    <a:lnTo>
                      <a:pt x="882" y="564"/>
                    </a:lnTo>
                    <a:lnTo>
                      <a:pt x="1629" y="674"/>
                    </a:lnTo>
                    <a:lnTo>
                      <a:pt x="1628" y="674"/>
                    </a:lnTo>
                    <a:lnTo>
                      <a:pt x="1625" y="677"/>
                    </a:lnTo>
                    <a:lnTo>
                      <a:pt x="1621" y="1150"/>
                    </a:lnTo>
                    <a:lnTo>
                      <a:pt x="1397" y="1334"/>
                    </a:lnTo>
                    <a:lnTo>
                      <a:pt x="1397" y="1336"/>
                    </a:lnTo>
                    <a:lnTo>
                      <a:pt x="1397" y="1342"/>
                    </a:lnTo>
                    <a:lnTo>
                      <a:pt x="624" y="1171"/>
                    </a:lnTo>
                    <a:lnTo>
                      <a:pt x="623" y="1134"/>
                    </a:lnTo>
                    <a:lnTo>
                      <a:pt x="624" y="1099"/>
                    </a:lnTo>
                    <a:lnTo>
                      <a:pt x="625" y="1063"/>
                    </a:lnTo>
                    <a:lnTo>
                      <a:pt x="628" y="1030"/>
                    </a:lnTo>
                    <a:lnTo>
                      <a:pt x="633" y="997"/>
                    </a:lnTo>
                    <a:lnTo>
                      <a:pt x="638" y="964"/>
                    </a:lnTo>
                    <a:lnTo>
                      <a:pt x="645" y="933"/>
                    </a:lnTo>
                    <a:lnTo>
                      <a:pt x="652" y="901"/>
                    </a:lnTo>
                    <a:lnTo>
                      <a:pt x="247" y="1253"/>
                    </a:lnTo>
                    <a:lnTo>
                      <a:pt x="74" y="1409"/>
                    </a:lnTo>
                    <a:lnTo>
                      <a:pt x="42" y="1434"/>
                    </a:lnTo>
                    <a:lnTo>
                      <a:pt x="29" y="1465"/>
                    </a:lnTo>
                    <a:lnTo>
                      <a:pt x="18" y="1495"/>
                    </a:lnTo>
                    <a:lnTo>
                      <a:pt x="15" y="1510"/>
                    </a:lnTo>
                    <a:lnTo>
                      <a:pt x="10" y="1526"/>
                    </a:lnTo>
                    <a:lnTo>
                      <a:pt x="7" y="1541"/>
                    </a:lnTo>
                    <a:lnTo>
                      <a:pt x="5" y="1556"/>
                    </a:lnTo>
                    <a:lnTo>
                      <a:pt x="3" y="1571"/>
                    </a:lnTo>
                    <a:lnTo>
                      <a:pt x="2" y="1587"/>
                    </a:lnTo>
                    <a:lnTo>
                      <a:pt x="0" y="1602"/>
                    </a:lnTo>
                    <a:lnTo>
                      <a:pt x="0" y="1618"/>
                    </a:lnTo>
                    <a:lnTo>
                      <a:pt x="0" y="1633"/>
                    </a:lnTo>
                    <a:lnTo>
                      <a:pt x="2" y="1648"/>
                    </a:lnTo>
                    <a:lnTo>
                      <a:pt x="4" y="1663"/>
                    </a:lnTo>
                    <a:lnTo>
                      <a:pt x="6" y="1679"/>
                    </a:lnTo>
                    <a:lnTo>
                      <a:pt x="158" y="1725"/>
                    </a:lnTo>
                    <a:lnTo>
                      <a:pt x="165" y="1724"/>
                    </a:lnTo>
                    <a:lnTo>
                      <a:pt x="172" y="1721"/>
                    </a:lnTo>
                    <a:lnTo>
                      <a:pt x="195" y="1718"/>
                    </a:lnTo>
                    <a:lnTo>
                      <a:pt x="218" y="1713"/>
                    </a:lnTo>
                    <a:lnTo>
                      <a:pt x="241" y="1708"/>
                    </a:lnTo>
                    <a:lnTo>
                      <a:pt x="265" y="1700"/>
                    </a:lnTo>
                    <a:lnTo>
                      <a:pt x="313" y="1689"/>
                    </a:lnTo>
                    <a:lnTo>
                      <a:pt x="361" y="1677"/>
                    </a:lnTo>
                    <a:lnTo>
                      <a:pt x="410" y="1662"/>
                    </a:lnTo>
                    <a:lnTo>
                      <a:pt x="460" y="1648"/>
                    </a:lnTo>
                    <a:lnTo>
                      <a:pt x="509" y="1632"/>
                    </a:lnTo>
                    <a:lnTo>
                      <a:pt x="558" y="1617"/>
                    </a:lnTo>
                    <a:lnTo>
                      <a:pt x="608" y="1600"/>
                    </a:lnTo>
                    <a:lnTo>
                      <a:pt x="659" y="1582"/>
                    </a:lnTo>
                    <a:lnTo>
                      <a:pt x="687" y="1618"/>
                    </a:lnTo>
                    <a:lnTo>
                      <a:pt x="642" y="1640"/>
                    </a:lnTo>
                    <a:lnTo>
                      <a:pt x="594" y="1661"/>
                    </a:lnTo>
                    <a:lnTo>
                      <a:pt x="545" y="1680"/>
                    </a:lnTo>
                    <a:lnTo>
                      <a:pt x="495" y="1698"/>
                    </a:lnTo>
                    <a:lnTo>
                      <a:pt x="443" y="1713"/>
                    </a:lnTo>
                    <a:lnTo>
                      <a:pt x="390" y="1728"/>
                    </a:lnTo>
                    <a:lnTo>
                      <a:pt x="363" y="1733"/>
                    </a:lnTo>
                    <a:lnTo>
                      <a:pt x="336" y="1740"/>
                    </a:lnTo>
                    <a:lnTo>
                      <a:pt x="308" y="1745"/>
                    </a:lnTo>
                    <a:lnTo>
                      <a:pt x="279" y="1750"/>
                    </a:lnTo>
                    <a:lnTo>
                      <a:pt x="1242" y="1995"/>
                    </a:lnTo>
                    <a:lnTo>
                      <a:pt x="1284" y="1636"/>
                    </a:lnTo>
                    <a:lnTo>
                      <a:pt x="1873" y="1210"/>
                    </a:lnTo>
                    <a:lnTo>
                      <a:pt x="1873" y="1192"/>
                    </a:lnTo>
                    <a:lnTo>
                      <a:pt x="1891" y="152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311"/>
              <p:cNvSpPr/>
              <p:nvPr/>
            </p:nvSpPr>
            <p:spPr>
              <a:xfrm>
                <a:off x="5298120" y="5253120"/>
                <a:ext cx="230760" cy="44640"/>
              </a:xfrm>
              <a:custGeom>
                <a:avLst/>
                <a:gdLst/>
                <a:ahLst/>
                <a:rect l="l" t="t" r="r" b="b"/>
                <a:pathLst>
                  <a:path w="2212" h="544">
                    <a:moveTo>
                      <a:pt x="387" y="0"/>
                    </a:moveTo>
                    <a:lnTo>
                      <a:pt x="397" y="199"/>
                    </a:lnTo>
                    <a:lnTo>
                      <a:pt x="0" y="465"/>
                    </a:lnTo>
                    <a:lnTo>
                      <a:pt x="139" y="399"/>
                    </a:lnTo>
                    <a:lnTo>
                      <a:pt x="0" y="465"/>
                    </a:lnTo>
                    <a:lnTo>
                      <a:pt x="2" y="467"/>
                    </a:lnTo>
                    <a:lnTo>
                      <a:pt x="5" y="468"/>
                    </a:lnTo>
                    <a:lnTo>
                      <a:pt x="8" y="470"/>
                    </a:lnTo>
                    <a:lnTo>
                      <a:pt x="11" y="470"/>
                    </a:lnTo>
                    <a:lnTo>
                      <a:pt x="75" y="478"/>
                    </a:lnTo>
                    <a:lnTo>
                      <a:pt x="140" y="488"/>
                    </a:lnTo>
                    <a:lnTo>
                      <a:pt x="203" y="496"/>
                    </a:lnTo>
                    <a:lnTo>
                      <a:pt x="266" y="504"/>
                    </a:lnTo>
                    <a:lnTo>
                      <a:pt x="328" y="511"/>
                    </a:lnTo>
                    <a:lnTo>
                      <a:pt x="390" y="517"/>
                    </a:lnTo>
                    <a:lnTo>
                      <a:pt x="451" y="523"/>
                    </a:lnTo>
                    <a:lnTo>
                      <a:pt x="511" y="527"/>
                    </a:lnTo>
                    <a:lnTo>
                      <a:pt x="571" y="532"/>
                    </a:lnTo>
                    <a:lnTo>
                      <a:pt x="631" y="536"/>
                    </a:lnTo>
                    <a:lnTo>
                      <a:pt x="689" y="538"/>
                    </a:lnTo>
                    <a:lnTo>
                      <a:pt x="747" y="540"/>
                    </a:lnTo>
                    <a:lnTo>
                      <a:pt x="804" y="543"/>
                    </a:lnTo>
                    <a:lnTo>
                      <a:pt x="861" y="543"/>
                    </a:lnTo>
                    <a:lnTo>
                      <a:pt x="916" y="544"/>
                    </a:lnTo>
                    <a:lnTo>
                      <a:pt x="972" y="543"/>
                    </a:lnTo>
                    <a:lnTo>
                      <a:pt x="1026" y="542"/>
                    </a:lnTo>
                    <a:lnTo>
                      <a:pt x="1080" y="539"/>
                    </a:lnTo>
                    <a:lnTo>
                      <a:pt x="1134" y="537"/>
                    </a:lnTo>
                    <a:lnTo>
                      <a:pt x="1187" y="534"/>
                    </a:lnTo>
                    <a:lnTo>
                      <a:pt x="1238" y="531"/>
                    </a:lnTo>
                    <a:lnTo>
                      <a:pt x="1290" y="525"/>
                    </a:lnTo>
                    <a:lnTo>
                      <a:pt x="1341" y="521"/>
                    </a:lnTo>
                    <a:lnTo>
                      <a:pt x="1391" y="514"/>
                    </a:lnTo>
                    <a:lnTo>
                      <a:pt x="1440" y="507"/>
                    </a:lnTo>
                    <a:lnTo>
                      <a:pt x="1489" y="499"/>
                    </a:lnTo>
                    <a:lnTo>
                      <a:pt x="1538" y="492"/>
                    </a:lnTo>
                    <a:lnTo>
                      <a:pt x="1584" y="483"/>
                    </a:lnTo>
                    <a:lnTo>
                      <a:pt x="1632" y="474"/>
                    </a:lnTo>
                    <a:lnTo>
                      <a:pt x="1677" y="463"/>
                    </a:lnTo>
                    <a:lnTo>
                      <a:pt x="1723" y="453"/>
                    </a:lnTo>
                    <a:lnTo>
                      <a:pt x="1768" y="441"/>
                    </a:lnTo>
                    <a:lnTo>
                      <a:pt x="1823" y="426"/>
                    </a:lnTo>
                    <a:lnTo>
                      <a:pt x="1875" y="412"/>
                    </a:lnTo>
                    <a:lnTo>
                      <a:pt x="1927" y="395"/>
                    </a:lnTo>
                    <a:lnTo>
                      <a:pt x="1977" y="377"/>
                    </a:lnTo>
                    <a:lnTo>
                      <a:pt x="2027" y="359"/>
                    </a:lnTo>
                    <a:lnTo>
                      <a:pt x="2077" y="339"/>
                    </a:lnTo>
                    <a:lnTo>
                      <a:pt x="2124" y="318"/>
                    </a:lnTo>
                    <a:lnTo>
                      <a:pt x="2173" y="295"/>
                    </a:lnTo>
                    <a:lnTo>
                      <a:pt x="2182" y="292"/>
                    </a:lnTo>
                    <a:lnTo>
                      <a:pt x="2191" y="288"/>
                    </a:lnTo>
                    <a:lnTo>
                      <a:pt x="2202" y="283"/>
                    </a:lnTo>
                    <a:lnTo>
                      <a:pt x="2212" y="278"/>
                    </a:lnTo>
                    <a:lnTo>
                      <a:pt x="2212" y="267"/>
                    </a:lnTo>
                    <a:lnTo>
                      <a:pt x="958" y="83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ae3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312"/>
              <p:cNvSpPr/>
              <p:nvPr/>
            </p:nvSpPr>
            <p:spPr>
              <a:xfrm>
                <a:off x="5259600" y="5221080"/>
                <a:ext cx="24840" cy="53640"/>
              </a:xfrm>
              <a:custGeom>
                <a:avLst/>
                <a:gdLst/>
                <a:ahLst/>
                <a:rect l="l" t="t" r="r" b="b"/>
                <a:pathLst>
                  <a:path w="239" h="657">
                    <a:moveTo>
                      <a:pt x="235" y="473"/>
                    </a:moveTo>
                    <a:lnTo>
                      <a:pt x="239" y="0"/>
                    </a:lnTo>
                    <a:lnTo>
                      <a:pt x="221" y="16"/>
                    </a:lnTo>
                    <a:lnTo>
                      <a:pt x="204" y="32"/>
                    </a:lnTo>
                    <a:lnTo>
                      <a:pt x="188" y="47"/>
                    </a:lnTo>
                    <a:lnTo>
                      <a:pt x="171" y="64"/>
                    </a:lnTo>
                    <a:lnTo>
                      <a:pt x="157" y="80"/>
                    </a:lnTo>
                    <a:lnTo>
                      <a:pt x="142" y="97"/>
                    </a:lnTo>
                    <a:lnTo>
                      <a:pt x="128" y="115"/>
                    </a:lnTo>
                    <a:lnTo>
                      <a:pt x="115" y="131"/>
                    </a:lnTo>
                    <a:lnTo>
                      <a:pt x="103" y="150"/>
                    </a:lnTo>
                    <a:lnTo>
                      <a:pt x="91" y="168"/>
                    </a:lnTo>
                    <a:lnTo>
                      <a:pt x="80" y="187"/>
                    </a:lnTo>
                    <a:lnTo>
                      <a:pt x="70" y="206"/>
                    </a:lnTo>
                    <a:lnTo>
                      <a:pt x="60" y="226"/>
                    </a:lnTo>
                    <a:lnTo>
                      <a:pt x="51" y="244"/>
                    </a:lnTo>
                    <a:lnTo>
                      <a:pt x="43" y="264"/>
                    </a:lnTo>
                    <a:lnTo>
                      <a:pt x="36" y="285"/>
                    </a:lnTo>
                    <a:lnTo>
                      <a:pt x="29" y="305"/>
                    </a:lnTo>
                    <a:lnTo>
                      <a:pt x="23" y="326"/>
                    </a:lnTo>
                    <a:lnTo>
                      <a:pt x="18" y="349"/>
                    </a:lnTo>
                    <a:lnTo>
                      <a:pt x="13" y="370"/>
                    </a:lnTo>
                    <a:lnTo>
                      <a:pt x="9" y="392"/>
                    </a:lnTo>
                    <a:lnTo>
                      <a:pt x="6" y="414"/>
                    </a:lnTo>
                    <a:lnTo>
                      <a:pt x="3" y="437"/>
                    </a:lnTo>
                    <a:lnTo>
                      <a:pt x="2" y="461"/>
                    </a:lnTo>
                    <a:lnTo>
                      <a:pt x="0" y="484"/>
                    </a:lnTo>
                    <a:lnTo>
                      <a:pt x="0" y="507"/>
                    </a:lnTo>
                    <a:lnTo>
                      <a:pt x="0" y="532"/>
                    </a:lnTo>
                    <a:lnTo>
                      <a:pt x="1" y="556"/>
                    </a:lnTo>
                    <a:lnTo>
                      <a:pt x="2" y="582"/>
                    </a:lnTo>
                    <a:lnTo>
                      <a:pt x="6" y="606"/>
                    </a:lnTo>
                    <a:lnTo>
                      <a:pt x="8" y="631"/>
                    </a:lnTo>
                    <a:lnTo>
                      <a:pt x="11" y="657"/>
                    </a:lnTo>
                    <a:lnTo>
                      <a:pt x="235" y="473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313"/>
              <p:cNvSpPr/>
              <p:nvPr/>
            </p:nvSpPr>
            <p:spPr>
              <a:xfrm>
                <a:off x="5180760" y="5212080"/>
                <a:ext cx="104040" cy="63360"/>
              </a:xfrm>
              <a:custGeom>
                <a:avLst/>
                <a:gdLst/>
                <a:ahLst/>
                <a:rect l="l" t="t" r="r" b="b"/>
                <a:pathLst>
                  <a:path w="1006" h="778">
                    <a:moveTo>
                      <a:pt x="1002" y="113"/>
                    </a:moveTo>
                    <a:lnTo>
                      <a:pt x="1005" y="110"/>
                    </a:lnTo>
                    <a:lnTo>
                      <a:pt x="1006" y="110"/>
                    </a:lnTo>
                    <a:lnTo>
                      <a:pt x="259" y="0"/>
                    </a:lnTo>
                    <a:lnTo>
                      <a:pt x="236" y="19"/>
                    </a:lnTo>
                    <a:lnTo>
                      <a:pt x="215" y="37"/>
                    </a:lnTo>
                    <a:lnTo>
                      <a:pt x="194" y="56"/>
                    </a:lnTo>
                    <a:lnTo>
                      <a:pt x="175" y="75"/>
                    </a:lnTo>
                    <a:lnTo>
                      <a:pt x="157" y="94"/>
                    </a:lnTo>
                    <a:lnTo>
                      <a:pt x="142" y="113"/>
                    </a:lnTo>
                    <a:lnTo>
                      <a:pt x="126" y="135"/>
                    </a:lnTo>
                    <a:lnTo>
                      <a:pt x="111" y="157"/>
                    </a:lnTo>
                    <a:lnTo>
                      <a:pt x="97" y="179"/>
                    </a:lnTo>
                    <a:lnTo>
                      <a:pt x="84" y="201"/>
                    </a:lnTo>
                    <a:lnTo>
                      <a:pt x="72" y="224"/>
                    </a:lnTo>
                    <a:lnTo>
                      <a:pt x="61" y="249"/>
                    </a:lnTo>
                    <a:lnTo>
                      <a:pt x="53" y="262"/>
                    </a:lnTo>
                    <a:lnTo>
                      <a:pt x="48" y="275"/>
                    </a:lnTo>
                    <a:lnTo>
                      <a:pt x="43" y="289"/>
                    </a:lnTo>
                    <a:lnTo>
                      <a:pt x="40" y="302"/>
                    </a:lnTo>
                    <a:lnTo>
                      <a:pt x="36" y="312"/>
                    </a:lnTo>
                    <a:lnTo>
                      <a:pt x="34" y="321"/>
                    </a:lnTo>
                    <a:lnTo>
                      <a:pt x="32" y="330"/>
                    </a:lnTo>
                    <a:lnTo>
                      <a:pt x="29" y="337"/>
                    </a:lnTo>
                    <a:lnTo>
                      <a:pt x="22" y="369"/>
                    </a:lnTo>
                    <a:lnTo>
                      <a:pt x="15" y="400"/>
                    </a:lnTo>
                    <a:lnTo>
                      <a:pt x="10" y="433"/>
                    </a:lnTo>
                    <a:lnTo>
                      <a:pt x="5" y="466"/>
                    </a:lnTo>
                    <a:lnTo>
                      <a:pt x="2" y="499"/>
                    </a:lnTo>
                    <a:lnTo>
                      <a:pt x="1" y="535"/>
                    </a:lnTo>
                    <a:lnTo>
                      <a:pt x="0" y="570"/>
                    </a:lnTo>
                    <a:lnTo>
                      <a:pt x="1" y="607"/>
                    </a:lnTo>
                    <a:lnTo>
                      <a:pt x="774" y="778"/>
                    </a:lnTo>
                    <a:lnTo>
                      <a:pt x="774" y="772"/>
                    </a:lnTo>
                    <a:lnTo>
                      <a:pt x="774" y="770"/>
                    </a:lnTo>
                    <a:lnTo>
                      <a:pt x="771" y="744"/>
                    </a:lnTo>
                    <a:lnTo>
                      <a:pt x="769" y="719"/>
                    </a:lnTo>
                    <a:lnTo>
                      <a:pt x="765" y="695"/>
                    </a:lnTo>
                    <a:lnTo>
                      <a:pt x="764" y="669"/>
                    </a:lnTo>
                    <a:lnTo>
                      <a:pt x="763" y="645"/>
                    </a:lnTo>
                    <a:lnTo>
                      <a:pt x="763" y="620"/>
                    </a:lnTo>
                    <a:lnTo>
                      <a:pt x="763" y="597"/>
                    </a:lnTo>
                    <a:lnTo>
                      <a:pt x="765" y="574"/>
                    </a:lnTo>
                    <a:lnTo>
                      <a:pt x="766" y="550"/>
                    </a:lnTo>
                    <a:lnTo>
                      <a:pt x="769" y="527"/>
                    </a:lnTo>
                    <a:lnTo>
                      <a:pt x="772" y="505"/>
                    </a:lnTo>
                    <a:lnTo>
                      <a:pt x="776" y="483"/>
                    </a:lnTo>
                    <a:lnTo>
                      <a:pt x="781" y="462"/>
                    </a:lnTo>
                    <a:lnTo>
                      <a:pt x="786" y="439"/>
                    </a:lnTo>
                    <a:lnTo>
                      <a:pt x="792" y="418"/>
                    </a:lnTo>
                    <a:lnTo>
                      <a:pt x="799" y="398"/>
                    </a:lnTo>
                    <a:lnTo>
                      <a:pt x="806" y="377"/>
                    </a:lnTo>
                    <a:lnTo>
                      <a:pt x="814" y="357"/>
                    </a:lnTo>
                    <a:lnTo>
                      <a:pt x="823" y="339"/>
                    </a:lnTo>
                    <a:lnTo>
                      <a:pt x="833" y="319"/>
                    </a:lnTo>
                    <a:lnTo>
                      <a:pt x="843" y="300"/>
                    </a:lnTo>
                    <a:lnTo>
                      <a:pt x="854" y="281"/>
                    </a:lnTo>
                    <a:lnTo>
                      <a:pt x="866" y="263"/>
                    </a:lnTo>
                    <a:lnTo>
                      <a:pt x="878" y="244"/>
                    </a:lnTo>
                    <a:lnTo>
                      <a:pt x="891" y="228"/>
                    </a:lnTo>
                    <a:lnTo>
                      <a:pt x="905" y="210"/>
                    </a:lnTo>
                    <a:lnTo>
                      <a:pt x="920" y="193"/>
                    </a:lnTo>
                    <a:lnTo>
                      <a:pt x="934" y="177"/>
                    </a:lnTo>
                    <a:lnTo>
                      <a:pt x="951" y="160"/>
                    </a:lnTo>
                    <a:lnTo>
                      <a:pt x="967" y="145"/>
                    </a:lnTo>
                    <a:lnTo>
                      <a:pt x="984" y="129"/>
                    </a:lnTo>
                    <a:lnTo>
                      <a:pt x="1002" y="1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314"/>
              <p:cNvSpPr/>
              <p:nvPr/>
            </p:nvSpPr>
            <p:spPr>
              <a:xfrm>
                <a:off x="5299560" y="5275440"/>
                <a:ext cx="229680" cy="41400"/>
              </a:xfrm>
              <a:custGeom>
                <a:avLst/>
                <a:gdLst/>
                <a:ahLst/>
                <a:rect l="l" t="t" r="r" b="b"/>
                <a:pathLst>
                  <a:path w="2205" h="501">
                    <a:moveTo>
                      <a:pt x="0" y="440"/>
                    </a:moveTo>
                    <a:lnTo>
                      <a:pt x="4" y="440"/>
                    </a:lnTo>
                    <a:lnTo>
                      <a:pt x="54" y="450"/>
                    </a:lnTo>
                    <a:lnTo>
                      <a:pt x="105" y="459"/>
                    </a:lnTo>
                    <a:lnTo>
                      <a:pt x="156" y="467"/>
                    </a:lnTo>
                    <a:lnTo>
                      <a:pt x="207" y="474"/>
                    </a:lnTo>
                    <a:lnTo>
                      <a:pt x="259" y="480"/>
                    </a:lnTo>
                    <a:lnTo>
                      <a:pt x="312" y="485"/>
                    </a:lnTo>
                    <a:lnTo>
                      <a:pt x="365" y="491"/>
                    </a:lnTo>
                    <a:lnTo>
                      <a:pt x="418" y="494"/>
                    </a:lnTo>
                    <a:lnTo>
                      <a:pt x="471" y="498"/>
                    </a:lnTo>
                    <a:lnTo>
                      <a:pt x="525" y="499"/>
                    </a:lnTo>
                    <a:lnTo>
                      <a:pt x="579" y="500"/>
                    </a:lnTo>
                    <a:lnTo>
                      <a:pt x="634" y="501"/>
                    </a:lnTo>
                    <a:lnTo>
                      <a:pt x="689" y="500"/>
                    </a:lnTo>
                    <a:lnTo>
                      <a:pt x="744" y="499"/>
                    </a:lnTo>
                    <a:lnTo>
                      <a:pt x="799" y="496"/>
                    </a:lnTo>
                    <a:lnTo>
                      <a:pt x="856" y="493"/>
                    </a:lnTo>
                    <a:lnTo>
                      <a:pt x="913" y="489"/>
                    </a:lnTo>
                    <a:lnTo>
                      <a:pt x="969" y="484"/>
                    </a:lnTo>
                    <a:lnTo>
                      <a:pt x="1026" y="478"/>
                    </a:lnTo>
                    <a:lnTo>
                      <a:pt x="1083" y="471"/>
                    </a:lnTo>
                    <a:lnTo>
                      <a:pt x="1142" y="463"/>
                    </a:lnTo>
                    <a:lnTo>
                      <a:pt x="1200" y="455"/>
                    </a:lnTo>
                    <a:lnTo>
                      <a:pt x="1259" y="445"/>
                    </a:lnTo>
                    <a:lnTo>
                      <a:pt x="1318" y="435"/>
                    </a:lnTo>
                    <a:lnTo>
                      <a:pt x="1377" y="424"/>
                    </a:lnTo>
                    <a:lnTo>
                      <a:pt x="1437" y="412"/>
                    </a:lnTo>
                    <a:lnTo>
                      <a:pt x="1497" y="400"/>
                    </a:lnTo>
                    <a:lnTo>
                      <a:pt x="1558" y="386"/>
                    </a:lnTo>
                    <a:lnTo>
                      <a:pt x="1619" y="371"/>
                    </a:lnTo>
                    <a:lnTo>
                      <a:pt x="1680" y="356"/>
                    </a:lnTo>
                    <a:lnTo>
                      <a:pt x="1741" y="340"/>
                    </a:lnTo>
                    <a:lnTo>
                      <a:pt x="1803" y="322"/>
                    </a:lnTo>
                    <a:lnTo>
                      <a:pt x="1851" y="309"/>
                    </a:lnTo>
                    <a:lnTo>
                      <a:pt x="1899" y="295"/>
                    </a:lnTo>
                    <a:lnTo>
                      <a:pt x="1947" y="280"/>
                    </a:lnTo>
                    <a:lnTo>
                      <a:pt x="1995" y="265"/>
                    </a:lnTo>
                    <a:lnTo>
                      <a:pt x="2045" y="248"/>
                    </a:lnTo>
                    <a:lnTo>
                      <a:pt x="2095" y="233"/>
                    </a:lnTo>
                    <a:lnTo>
                      <a:pt x="2146" y="216"/>
                    </a:lnTo>
                    <a:lnTo>
                      <a:pt x="2198" y="198"/>
                    </a:lnTo>
                    <a:lnTo>
                      <a:pt x="2202" y="106"/>
                    </a:lnTo>
                    <a:lnTo>
                      <a:pt x="2205" y="0"/>
                    </a:lnTo>
                    <a:lnTo>
                      <a:pt x="2195" y="5"/>
                    </a:lnTo>
                    <a:lnTo>
                      <a:pt x="2184" y="10"/>
                    </a:lnTo>
                    <a:lnTo>
                      <a:pt x="2175" y="14"/>
                    </a:lnTo>
                    <a:lnTo>
                      <a:pt x="2166" y="17"/>
                    </a:lnTo>
                    <a:lnTo>
                      <a:pt x="2117" y="40"/>
                    </a:lnTo>
                    <a:lnTo>
                      <a:pt x="2070" y="61"/>
                    </a:lnTo>
                    <a:lnTo>
                      <a:pt x="2020" y="81"/>
                    </a:lnTo>
                    <a:lnTo>
                      <a:pt x="1970" y="99"/>
                    </a:lnTo>
                    <a:lnTo>
                      <a:pt x="1920" y="117"/>
                    </a:lnTo>
                    <a:lnTo>
                      <a:pt x="1868" y="134"/>
                    </a:lnTo>
                    <a:lnTo>
                      <a:pt x="1816" y="148"/>
                    </a:lnTo>
                    <a:lnTo>
                      <a:pt x="1761" y="163"/>
                    </a:lnTo>
                    <a:lnTo>
                      <a:pt x="1716" y="175"/>
                    </a:lnTo>
                    <a:lnTo>
                      <a:pt x="1670" y="185"/>
                    </a:lnTo>
                    <a:lnTo>
                      <a:pt x="1625" y="196"/>
                    </a:lnTo>
                    <a:lnTo>
                      <a:pt x="1577" y="205"/>
                    </a:lnTo>
                    <a:lnTo>
                      <a:pt x="1531" y="214"/>
                    </a:lnTo>
                    <a:lnTo>
                      <a:pt x="1482" y="221"/>
                    </a:lnTo>
                    <a:lnTo>
                      <a:pt x="1433" y="229"/>
                    </a:lnTo>
                    <a:lnTo>
                      <a:pt x="1384" y="236"/>
                    </a:lnTo>
                    <a:lnTo>
                      <a:pt x="1334" y="243"/>
                    </a:lnTo>
                    <a:lnTo>
                      <a:pt x="1283" y="247"/>
                    </a:lnTo>
                    <a:lnTo>
                      <a:pt x="1231" y="253"/>
                    </a:lnTo>
                    <a:lnTo>
                      <a:pt x="1180" y="256"/>
                    </a:lnTo>
                    <a:lnTo>
                      <a:pt x="1127" y="259"/>
                    </a:lnTo>
                    <a:lnTo>
                      <a:pt x="1073" y="261"/>
                    </a:lnTo>
                    <a:lnTo>
                      <a:pt x="1019" y="264"/>
                    </a:lnTo>
                    <a:lnTo>
                      <a:pt x="965" y="265"/>
                    </a:lnTo>
                    <a:lnTo>
                      <a:pt x="909" y="266"/>
                    </a:lnTo>
                    <a:lnTo>
                      <a:pt x="854" y="265"/>
                    </a:lnTo>
                    <a:lnTo>
                      <a:pt x="797" y="265"/>
                    </a:lnTo>
                    <a:lnTo>
                      <a:pt x="740" y="262"/>
                    </a:lnTo>
                    <a:lnTo>
                      <a:pt x="682" y="260"/>
                    </a:lnTo>
                    <a:lnTo>
                      <a:pt x="624" y="258"/>
                    </a:lnTo>
                    <a:lnTo>
                      <a:pt x="564" y="254"/>
                    </a:lnTo>
                    <a:lnTo>
                      <a:pt x="504" y="249"/>
                    </a:lnTo>
                    <a:lnTo>
                      <a:pt x="444" y="245"/>
                    </a:lnTo>
                    <a:lnTo>
                      <a:pt x="383" y="239"/>
                    </a:lnTo>
                    <a:lnTo>
                      <a:pt x="321" y="233"/>
                    </a:lnTo>
                    <a:lnTo>
                      <a:pt x="259" y="226"/>
                    </a:lnTo>
                    <a:lnTo>
                      <a:pt x="196" y="218"/>
                    </a:lnTo>
                    <a:lnTo>
                      <a:pt x="133" y="210"/>
                    </a:lnTo>
                    <a:lnTo>
                      <a:pt x="68" y="200"/>
                    </a:lnTo>
                    <a:lnTo>
                      <a:pt x="4" y="192"/>
                    </a:lnTo>
                    <a:lnTo>
                      <a:pt x="0" y="440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315"/>
              <p:cNvSpPr/>
              <p:nvPr/>
            </p:nvSpPr>
            <p:spPr>
              <a:xfrm>
                <a:off x="5096520" y="5224320"/>
                <a:ext cx="88200" cy="43560"/>
              </a:xfrm>
              <a:custGeom>
                <a:avLst/>
                <a:gdLst/>
                <a:ahLst/>
                <a:rect l="l" t="t" r="r" b="b"/>
                <a:pathLst>
                  <a:path w="843" h="537">
                    <a:moveTo>
                      <a:pt x="427" y="537"/>
                    </a:moveTo>
                    <a:lnTo>
                      <a:pt x="832" y="185"/>
                    </a:lnTo>
                    <a:lnTo>
                      <a:pt x="835" y="178"/>
                    </a:lnTo>
                    <a:lnTo>
                      <a:pt x="837" y="169"/>
                    </a:lnTo>
                    <a:lnTo>
                      <a:pt x="839" y="160"/>
                    </a:lnTo>
                    <a:lnTo>
                      <a:pt x="843" y="150"/>
                    </a:lnTo>
                    <a:lnTo>
                      <a:pt x="23" y="0"/>
                    </a:lnTo>
                    <a:lnTo>
                      <a:pt x="20" y="11"/>
                    </a:lnTo>
                    <a:lnTo>
                      <a:pt x="17" y="20"/>
                    </a:lnTo>
                    <a:lnTo>
                      <a:pt x="14" y="30"/>
                    </a:lnTo>
                    <a:lnTo>
                      <a:pt x="12" y="40"/>
                    </a:lnTo>
                    <a:lnTo>
                      <a:pt x="9" y="47"/>
                    </a:lnTo>
                    <a:lnTo>
                      <a:pt x="4" y="66"/>
                    </a:lnTo>
                    <a:lnTo>
                      <a:pt x="2" y="83"/>
                    </a:lnTo>
                    <a:lnTo>
                      <a:pt x="0" y="102"/>
                    </a:lnTo>
                    <a:lnTo>
                      <a:pt x="0" y="120"/>
                    </a:lnTo>
                    <a:lnTo>
                      <a:pt x="0" y="138"/>
                    </a:lnTo>
                    <a:lnTo>
                      <a:pt x="2" y="156"/>
                    </a:lnTo>
                    <a:lnTo>
                      <a:pt x="4" y="172"/>
                    </a:lnTo>
                    <a:lnTo>
                      <a:pt x="9" y="190"/>
                    </a:lnTo>
                    <a:lnTo>
                      <a:pt x="13" y="207"/>
                    </a:lnTo>
                    <a:lnTo>
                      <a:pt x="19" y="223"/>
                    </a:lnTo>
                    <a:lnTo>
                      <a:pt x="26" y="240"/>
                    </a:lnTo>
                    <a:lnTo>
                      <a:pt x="34" y="255"/>
                    </a:lnTo>
                    <a:lnTo>
                      <a:pt x="44" y="272"/>
                    </a:lnTo>
                    <a:lnTo>
                      <a:pt x="54" y="287"/>
                    </a:lnTo>
                    <a:lnTo>
                      <a:pt x="65" y="303"/>
                    </a:lnTo>
                    <a:lnTo>
                      <a:pt x="77" y="319"/>
                    </a:lnTo>
                    <a:lnTo>
                      <a:pt x="92" y="334"/>
                    </a:lnTo>
                    <a:lnTo>
                      <a:pt x="106" y="348"/>
                    </a:lnTo>
                    <a:lnTo>
                      <a:pt x="122" y="364"/>
                    </a:lnTo>
                    <a:lnTo>
                      <a:pt x="138" y="378"/>
                    </a:lnTo>
                    <a:lnTo>
                      <a:pt x="157" y="393"/>
                    </a:lnTo>
                    <a:lnTo>
                      <a:pt x="176" y="406"/>
                    </a:lnTo>
                    <a:lnTo>
                      <a:pt x="196" y="421"/>
                    </a:lnTo>
                    <a:lnTo>
                      <a:pt x="217" y="434"/>
                    </a:lnTo>
                    <a:lnTo>
                      <a:pt x="239" y="448"/>
                    </a:lnTo>
                    <a:lnTo>
                      <a:pt x="264" y="462"/>
                    </a:lnTo>
                    <a:lnTo>
                      <a:pt x="288" y="474"/>
                    </a:lnTo>
                    <a:lnTo>
                      <a:pt x="314" y="487"/>
                    </a:lnTo>
                    <a:lnTo>
                      <a:pt x="340" y="500"/>
                    </a:lnTo>
                    <a:lnTo>
                      <a:pt x="368" y="513"/>
                    </a:lnTo>
                    <a:lnTo>
                      <a:pt x="397" y="525"/>
                    </a:lnTo>
                    <a:lnTo>
                      <a:pt x="427" y="537"/>
                    </a:lnTo>
                    <a:close/>
                  </a:path>
                </a:pathLst>
              </a:custGeom>
              <a:solidFill>
                <a:srgbClr val="dae3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316"/>
              <p:cNvSpPr/>
              <p:nvPr/>
            </p:nvSpPr>
            <p:spPr>
              <a:xfrm>
                <a:off x="5090400" y="5227560"/>
                <a:ext cx="50760" cy="53640"/>
              </a:xfrm>
              <a:custGeom>
                <a:avLst/>
                <a:gdLst/>
                <a:ahLst/>
                <a:rect l="l" t="t" r="r" b="b"/>
                <a:pathLst>
                  <a:path w="494" h="646">
                    <a:moveTo>
                      <a:pt x="321" y="646"/>
                    </a:moveTo>
                    <a:lnTo>
                      <a:pt x="494" y="490"/>
                    </a:lnTo>
                    <a:lnTo>
                      <a:pt x="464" y="478"/>
                    </a:lnTo>
                    <a:lnTo>
                      <a:pt x="435" y="466"/>
                    </a:lnTo>
                    <a:lnTo>
                      <a:pt x="407" y="453"/>
                    </a:lnTo>
                    <a:lnTo>
                      <a:pt x="381" y="440"/>
                    </a:lnTo>
                    <a:lnTo>
                      <a:pt x="355" y="427"/>
                    </a:lnTo>
                    <a:lnTo>
                      <a:pt x="331" y="415"/>
                    </a:lnTo>
                    <a:lnTo>
                      <a:pt x="306" y="401"/>
                    </a:lnTo>
                    <a:lnTo>
                      <a:pt x="284" y="387"/>
                    </a:lnTo>
                    <a:lnTo>
                      <a:pt x="263" y="374"/>
                    </a:lnTo>
                    <a:lnTo>
                      <a:pt x="243" y="359"/>
                    </a:lnTo>
                    <a:lnTo>
                      <a:pt x="224" y="346"/>
                    </a:lnTo>
                    <a:lnTo>
                      <a:pt x="205" y="331"/>
                    </a:lnTo>
                    <a:lnTo>
                      <a:pt x="189" y="317"/>
                    </a:lnTo>
                    <a:lnTo>
                      <a:pt x="173" y="301"/>
                    </a:lnTo>
                    <a:lnTo>
                      <a:pt x="159" y="287"/>
                    </a:lnTo>
                    <a:lnTo>
                      <a:pt x="144" y="272"/>
                    </a:lnTo>
                    <a:lnTo>
                      <a:pt x="132" y="256"/>
                    </a:lnTo>
                    <a:lnTo>
                      <a:pt x="121" y="240"/>
                    </a:lnTo>
                    <a:lnTo>
                      <a:pt x="111" y="225"/>
                    </a:lnTo>
                    <a:lnTo>
                      <a:pt x="101" y="208"/>
                    </a:lnTo>
                    <a:lnTo>
                      <a:pt x="93" y="193"/>
                    </a:lnTo>
                    <a:lnTo>
                      <a:pt x="86" y="176"/>
                    </a:lnTo>
                    <a:lnTo>
                      <a:pt x="80" y="160"/>
                    </a:lnTo>
                    <a:lnTo>
                      <a:pt x="76" y="143"/>
                    </a:lnTo>
                    <a:lnTo>
                      <a:pt x="71" y="125"/>
                    </a:lnTo>
                    <a:lnTo>
                      <a:pt x="69" y="109"/>
                    </a:lnTo>
                    <a:lnTo>
                      <a:pt x="67" y="91"/>
                    </a:lnTo>
                    <a:lnTo>
                      <a:pt x="67" y="73"/>
                    </a:lnTo>
                    <a:lnTo>
                      <a:pt x="67" y="55"/>
                    </a:lnTo>
                    <a:lnTo>
                      <a:pt x="69" y="36"/>
                    </a:lnTo>
                    <a:lnTo>
                      <a:pt x="71" y="19"/>
                    </a:lnTo>
                    <a:lnTo>
                      <a:pt x="76" y="0"/>
                    </a:lnTo>
                    <a:lnTo>
                      <a:pt x="0" y="274"/>
                    </a:lnTo>
                    <a:lnTo>
                      <a:pt x="1" y="287"/>
                    </a:lnTo>
                    <a:lnTo>
                      <a:pt x="2" y="301"/>
                    </a:lnTo>
                    <a:lnTo>
                      <a:pt x="3" y="316"/>
                    </a:lnTo>
                    <a:lnTo>
                      <a:pt x="6" y="329"/>
                    </a:lnTo>
                    <a:lnTo>
                      <a:pt x="8" y="343"/>
                    </a:lnTo>
                    <a:lnTo>
                      <a:pt x="12" y="356"/>
                    </a:lnTo>
                    <a:lnTo>
                      <a:pt x="16" y="369"/>
                    </a:lnTo>
                    <a:lnTo>
                      <a:pt x="20" y="382"/>
                    </a:lnTo>
                    <a:lnTo>
                      <a:pt x="26" y="396"/>
                    </a:lnTo>
                    <a:lnTo>
                      <a:pt x="32" y="408"/>
                    </a:lnTo>
                    <a:lnTo>
                      <a:pt x="38" y="420"/>
                    </a:lnTo>
                    <a:lnTo>
                      <a:pt x="46" y="433"/>
                    </a:lnTo>
                    <a:lnTo>
                      <a:pt x="53" y="446"/>
                    </a:lnTo>
                    <a:lnTo>
                      <a:pt x="62" y="458"/>
                    </a:lnTo>
                    <a:lnTo>
                      <a:pt x="71" y="469"/>
                    </a:lnTo>
                    <a:lnTo>
                      <a:pt x="80" y="481"/>
                    </a:lnTo>
                    <a:lnTo>
                      <a:pt x="91" y="492"/>
                    </a:lnTo>
                    <a:lnTo>
                      <a:pt x="102" y="504"/>
                    </a:lnTo>
                    <a:lnTo>
                      <a:pt x="113" y="515"/>
                    </a:lnTo>
                    <a:lnTo>
                      <a:pt x="125" y="527"/>
                    </a:lnTo>
                    <a:lnTo>
                      <a:pt x="152" y="548"/>
                    </a:lnTo>
                    <a:lnTo>
                      <a:pt x="181" y="569"/>
                    </a:lnTo>
                    <a:lnTo>
                      <a:pt x="212" y="589"/>
                    </a:lnTo>
                    <a:lnTo>
                      <a:pt x="245" y="609"/>
                    </a:lnTo>
                    <a:lnTo>
                      <a:pt x="282" y="627"/>
                    </a:lnTo>
                    <a:lnTo>
                      <a:pt x="321" y="646"/>
                    </a:lnTo>
                    <a:close/>
                  </a:path>
                </a:pathLst>
              </a:custGeom>
              <a:solidFill>
                <a:srgbClr val="f4f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17"/>
              <p:cNvSpPr/>
              <p:nvPr/>
            </p:nvSpPr>
            <p:spPr>
              <a:xfrm>
                <a:off x="5648040" y="5152320"/>
                <a:ext cx="97920" cy="74160"/>
              </a:xfrm>
              <a:custGeom>
                <a:avLst/>
                <a:gdLst/>
                <a:ahLst/>
                <a:rect l="l" t="t" r="r" b="b"/>
                <a:pathLst>
                  <a:path w="942" h="900">
                    <a:moveTo>
                      <a:pt x="518" y="57"/>
                    </a:moveTo>
                    <a:lnTo>
                      <a:pt x="505" y="44"/>
                    </a:lnTo>
                    <a:lnTo>
                      <a:pt x="492" y="31"/>
                    </a:lnTo>
                    <a:lnTo>
                      <a:pt x="478" y="20"/>
                    </a:lnTo>
                    <a:lnTo>
                      <a:pt x="465" y="11"/>
                    </a:lnTo>
                    <a:lnTo>
                      <a:pt x="454" y="7"/>
                    </a:lnTo>
                    <a:lnTo>
                      <a:pt x="442" y="3"/>
                    </a:lnTo>
                    <a:lnTo>
                      <a:pt x="429" y="1"/>
                    </a:lnTo>
                    <a:lnTo>
                      <a:pt x="416" y="0"/>
                    </a:lnTo>
                    <a:lnTo>
                      <a:pt x="403" y="0"/>
                    </a:lnTo>
                    <a:lnTo>
                      <a:pt x="388" y="1"/>
                    </a:lnTo>
                    <a:lnTo>
                      <a:pt x="374" y="2"/>
                    </a:lnTo>
                    <a:lnTo>
                      <a:pt x="358" y="6"/>
                    </a:lnTo>
                    <a:lnTo>
                      <a:pt x="343" y="9"/>
                    </a:lnTo>
                    <a:lnTo>
                      <a:pt x="327" y="14"/>
                    </a:lnTo>
                    <a:lnTo>
                      <a:pt x="311" y="20"/>
                    </a:lnTo>
                    <a:lnTo>
                      <a:pt x="293" y="27"/>
                    </a:lnTo>
                    <a:lnTo>
                      <a:pt x="276" y="34"/>
                    </a:lnTo>
                    <a:lnTo>
                      <a:pt x="258" y="43"/>
                    </a:lnTo>
                    <a:lnTo>
                      <a:pt x="240" y="53"/>
                    </a:lnTo>
                    <a:lnTo>
                      <a:pt x="220" y="64"/>
                    </a:lnTo>
                    <a:lnTo>
                      <a:pt x="209" y="72"/>
                    </a:lnTo>
                    <a:lnTo>
                      <a:pt x="198" y="79"/>
                    </a:lnTo>
                    <a:lnTo>
                      <a:pt x="185" y="86"/>
                    </a:lnTo>
                    <a:lnTo>
                      <a:pt x="174" y="96"/>
                    </a:lnTo>
                    <a:lnTo>
                      <a:pt x="148" y="114"/>
                    </a:lnTo>
                    <a:lnTo>
                      <a:pt x="122" y="132"/>
                    </a:lnTo>
                    <a:lnTo>
                      <a:pt x="100" y="151"/>
                    </a:lnTo>
                    <a:lnTo>
                      <a:pt x="80" y="170"/>
                    </a:lnTo>
                    <a:lnTo>
                      <a:pt x="62" y="187"/>
                    </a:lnTo>
                    <a:lnTo>
                      <a:pt x="47" y="206"/>
                    </a:lnTo>
                    <a:lnTo>
                      <a:pt x="33" y="226"/>
                    </a:lnTo>
                    <a:lnTo>
                      <a:pt x="22" y="245"/>
                    </a:lnTo>
                    <a:lnTo>
                      <a:pt x="13" y="264"/>
                    </a:lnTo>
                    <a:lnTo>
                      <a:pt x="7" y="283"/>
                    </a:lnTo>
                    <a:lnTo>
                      <a:pt x="5" y="293"/>
                    </a:lnTo>
                    <a:lnTo>
                      <a:pt x="2" y="303"/>
                    </a:lnTo>
                    <a:lnTo>
                      <a:pt x="1" y="313"/>
                    </a:lnTo>
                    <a:lnTo>
                      <a:pt x="0" y="323"/>
                    </a:lnTo>
                    <a:lnTo>
                      <a:pt x="0" y="332"/>
                    </a:lnTo>
                    <a:lnTo>
                      <a:pt x="0" y="341"/>
                    </a:lnTo>
                    <a:lnTo>
                      <a:pt x="1" y="351"/>
                    </a:lnTo>
                    <a:lnTo>
                      <a:pt x="2" y="361"/>
                    </a:lnTo>
                    <a:lnTo>
                      <a:pt x="8" y="381"/>
                    </a:lnTo>
                    <a:lnTo>
                      <a:pt x="15" y="401"/>
                    </a:lnTo>
                    <a:lnTo>
                      <a:pt x="25" y="420"/>
                    </a:lnTo>
                    <a:lnTo>
                      <a:pt x="33" y="439"/>
                    </a:lnTo>
                    <a:lnTo>
                      <a:pt x="43" y="457"/>
                    </a:lnTo>
                    <a:lnTo>
                      <a:pt x="53" y="476"/>
                    </a:lnTo>
                    <a:lnTo>
                      <a:pt x="70" y="501"/>
                    </a:lnTo>
                    <a:lnTo>
                      <a:pt x="88" y="527"/>
                    </a:lnTo>
                    <a:lnTo>
                      <a:pt x="106" y="551"/>
                    </a:lnTo>
                    <a:lnTo>
                      <a:pt x="124" y="575"/>
                    </a:lnTo>
                    <a:lnTo>
                      <a:pt x="144" y="600"/>
                    </a:lnTo>
                    <a:lnTo>
                      <a:pt x="165" y="623"/>
                    </a:lnTo>
                    <a:lnTo>
                      <a:pt x="188" y="645"/>
                    </a:lnTo>
                    <a:lnTo>
                      <a:pt x="210" y="667"/>
                    </a:lnTo>
                    <a:lnTo>
                      <a:pt x="215" y="673"/>
                    </a:lnTo>
                    <a:lnTo>
                      <a:pt x="220" y="679"/>
                    </a:lnTo>
                    <a:lnTo>
                      <a:pt x="233" y="700"/>
                    </a:lnTo>
                    <a:lnTo>
                      <a:pt x="244" y="723"/>
                    </a:lnTo>
                    <a:lnTo>
                      <a:pt x="254" y="745"/>
                    </a:lnTo>
                    <a:lnTo>
                      <a:pt x="263" y="767"/>
                    </a:lnTo>
                    <a:lnTo>
                      <a:pt x="280" y="751"/>
                    </a:lnTo>
                    <a:lnTo>
                      <a:pt x="296" y="737"/>
                    </a:lnTo>
                    <a:lnTo>
                      <a:pt x="313" y="726"/>
                    </a:lnTo>
                    <a:lnTo>
                      <a:pt x="330" y="718"/>
                    </a:lnTo>
                    <a:lnTo>
                      <a:pt x="346" y="712"/>
                    </a:lnTo>
                    <a:lnTo>
                      <a:pt x="362" y="709"/>
                    </a:lnTo>
                    <a:lnTo>
                      <a:pt x="378" y="706"/>
                    </a:lnTo>
                    <a:lnTo>
                      <a:pt x="394" y="706"/>
                    </a:lnTo>
                    <a:lnTo>
                      <a:pt x="426" y="809"/>
                    </a:lnTo>
                    <a:lnTo>
                      <a:pt x="414" y="813"/>
                    </a:lnTo>
                    <a:lnTo>
                      <a:pt x="402" y="817"/>
                    </a:lnTo>
                    <a:lnTo>
                      <a:pt x="391" y="822"/>
                    </a:lnTo>
                    <a:lnTo>
                      <a:pt x="378" y="828"/>
                    </a:lnTo>
                    <a:lnTo>
                      <a:pt x="366" y="835"/>
                    </a:lnTo>
                    <a:lnTo>
                      <a:pt x="354" y="844"/>
                    </a:lnTo>
                    <a:lnTo>
                      <a:pt x="342" y="853"/>
                    </a:lnTo>
                    <a:lnTo>
                      <a:pt x="331" y="863"/>
                    </a:lnTo>
                    <a:lnTo>
                      <a:pt x="322" y="869"/>
                    </a:lnTo>
                    <a:lnTo>
                      <a:pt x="313" y="877"/>
                    </a:lnTo>
                    <a:lnTo>
                      <a:pt x="317" y="881"/>
                    </a:lnTo>
                    <a:lnTo>
                      <a:pt x="323" y="885"/>
                    </a:lnTo>
                    <a:lnTo>
                      <a:pt x="329" y="888"/>
                    </a:lnTo>
                    <a:lnTo>
                      <a:pt x="334" y="891"/>
                    </a:lnTo>
                    <a:lnTo>
                      <a:pt x="342" y="895"/>
                    </a:lnTo>
                    <a:lnTo>
                      <a:pt x="350" y="897"/>
                    </a:lnTo>
                    <a:lnTo>
                      <a:pt x="358" y="899"/>
                    </a:lnTo>
                    <a:lnTo>
                      <a:pt x="366" y="900"/>
                    </a:lnTo>
                    <a:lnTo>
                      <a:pt x="383" y="900"/>
                    </a:lnTo>
                    <a:lnTo>
                      <a:pt x="402" y="898"/>
                    </a:lnTo>
                    <a:lnTo>
                      <a:pt x="404" y="896"/>
                    </a:lnTo>
                    <a:lnTo>
                      <a:pt x="407" y="895"/>
                    </a:lnTo>
                    <a:lnTo>
                      <a:pt x="411" y="895"/>
                    </a:lnTo>
                    <a:lnTo>
                      <a:pt x="415" y="895"/>
                    </a:lnTo>
                    <a:lnTo>
                      <a:pt x="424" y="891"/>
                    </a:lnTo>
                    <a:lnTo>
                      <a:pt x="433" y="887"/>
                    </a:lnTo>
                    <a:lnTo>
                      <a:pt x="443" y="884"/>
                    </a:lnTo>
                    <a:lnTo>
                      <a:pt x="451" y="880"/>
                    </a:lnTo>
                    <a:lnTo>
                      <a:pt x="454" y="878"/>
                    </a:lnTo>
                    <a:lnTo>
                      <a:pt x="456" y="877"/>
                    </a:lnTo>
                    <a:lnTo>
                      <a:pt x="459" y="877"/>
                    </a:lnTo>
                    <a:lnTo>
                      <a:pt x="462" y="877"/>
                    </a:lnTo>
                    <a:lnTo>
                      <a:pt x="469" y="869"/>
                    </a:lnTo>
                    <a:lnTo>
                      <a:pt x="475" y="863"/>
                    </a:lnTo>
                    <a:lnTo>
                      <a:pt x="480" y="856"/>
                    </a:lnTo>
                    <a:lnTo>
                      <a:pt x="486" y="849"/>
                    </a:lnTo>
                    <a:lnTo>
                      <a:pt x="490" y="843"/>
                    </a:lnTo>
                    <a:lnTo>
                      <a:pt x="494" y="836"/>
                    </a:lnTo>
                    <a:lnTo>
                      <a:pt x="497" y="828"/>
                    </a:lnTo>
                    <a:lnTo>
                      <a:pt x="499" y="821"/>
                    </a:lnTo>
                    <a:lnTo>
                      <a:pt x="500" y="813"/>
                    </a:lnTo>
                    <a:lnTo>
                      <a:pt x="504" y="805"/>
                    </a:lnTo>
                    <a:lnTo>
                      <a:pt x="506" y="797"/>
                    </a:lnTo>
                    <a:lnTo>
                      <a:pt x="507" y="789"/>
                    </a:lnTo>
                    <a:lnTo>
                      <a:pt x="508" y="781"/>
                    </a:lnTo>
                    <a:lnTo>
                      <a:pt x="510" y="771"/>
                    </a:lnTo>
                    <a:lnTo>
                      <a:pt x="510" y="762"/>
                    </a:lnTo>
                    <a:lnTo>
                      <a:pt x="510" y="752"/>
                    </a:lnTo>
                    <a:lnTo>
                      <a:pt x="508" y="742"/>
                    </a:lnTo>
                    <a:lnTo>
                      <a:pt x="508" y="724"/>
                    </a:lnTo>
                    <a:lnTo>
                      <a:pt x="507" y="706"/>
                    </a:lnTo>
                    <a:lnTo>
                      <a:pt x="505" y="687"/>
                    </a:lnTo>
                    <a:lnTo>
                      <a:pt x="502" y="669"/>
                    </a:lnTo>
                    <a:lnTo>
                      <a:pt x="498" y="649"/>
                    </a:lnTo>
                    <a:lnTo>
                      <a:pt x="493" y="629"/>
                    </a:lnTo>
                    <a:lnTo>
                      <a:pt x="486" y="608"/>
                    </a:lnTo>
                    <a:lnTo>
                      <a:pt x="479" y="587"/>
                    </a:lnTo>
                    <a:lnTo>
                      <a:pt x="471" y="564"/>
                    </a:lnTo>
                    <a:lnTo>
                      <a:pt x="462" y="542"/>
                    </a:lnTo>
                    <a:lnTo>
                      <a:pt x="451" y="520"/>
                    </a:lnTo>
                    <a:lnTo>
                      <a:pt x="439" y="497"/>
                    </a:lnTo>
                    <a:lnTo>
                      <a:pt x="427" y="473"/>
                    </a:lnTo>
                    <a:lnTo>
                      <a:pt x="414" y="450"/>
                    </a:lnTo>
                    <a:lnTo>
                      <a:pt x="400" y="426"/>
                    </a:lnTo>
                    <a:lnTo>
                      <a:pt x="384" y="401"/>
                    </a:lnTo>
                    <a:lnTo>
                      <a:pt x="382" y="396"/>
                    </a:lnTo>
                    <a:lnTo>
                      <a:pt x="381" y="389"/>
                    </a:lnTo>
                    <a:lnTo>
                      <a:pt x="381" y="383"/>
                    </a:lnTo>
                    <a:lnTo>
                      <a:pt x="380" y="376"/>
                    </a:lnTo>
                    <a:lnTo>
                      <a:pt x="378" y="366"/>
                    </a:lnTo>
                    <a:lnTo>
                      <a:pt x="380" y="356"/>
                    </a:lnTo>
                    <a:lnTo>
                      <a:pt x="381" y="346"/>
                    </a:lnTo>
                    <a:lnTo>
                      <a:pt x="384" y="337"/>
                    </a:lnTo>
                    <a:lnTo>
                      <a:pt x="390" y="328"/>
                    </a:lnTo>
                    <a:lnTo>
                      <a:pt x="397" y="320"/>
                    </a:lnTo>
                    <a:lnTo>
                      <a:pt x="405" y="313"/>
                    </a:lnTo>
                    <a:lnTo>
                      <a:pt x="415" y="306"/>
                    </a:lnTo>
                    <a:lnTo>
                      <a:pt x="427" y="300"/>
                    </a:lnTo>
                    <a:lnTo>
                      <a:pt x="439" y="295"/>
                    </a:lnTo>
                    <a:lnTo>
                      <a:pt x="454" y="290"/>
                    </a:lnTo>
                    <a:lnTo>
                      <a:pt x="469" y="287"/>
                    </a:lnTo>
                    <a:lnTo>
                      <a:pt x="454" y="290"/>
                    </a:lnTo>
                    <a:lnTo>
                      <a:pt x="439" y="295"/>
                    </a:lnTo>
                    <a:lnTo>
                      <a:pt x="427" y="300"/>
                    </a:lnTo>
                    <a:lnTo>
                      <a:pt x="415" y="306"/>
                    </a:lnTo>
                    <a:lnTo>
                      <a:pt x="405" y="313"/>
                    </a:lnTo>
                    <a:lnTo>
                      <a:pt x="397" y="320"/>
                    </a:lnTo>
                    <a:lnTo>
                      <a:pt x="390" y="328"/>
                    </a:lnTo>
                    <a:lnTo>
                      <a:pt x="384" y="337"/>
                    </a:lnTo>
                    <a:lnTo>
                      <a:pt x="390" y="343"/>
                    </a:lnTo>
                    <a:lnTo>
                      <a:pt x="395" y="348"/>
                    </a:lnTo>
                    <a:lnTo>
                      <a:pt x="403" y="353"/>
                    </a:lnTo>
                    <a:lnTo>
                      <a:pt x="411" y="357"/>
                    </a:lnTo>
                    <a:lnTo>
                      <a:pt x="418" y="359"/>
                    </a:lnTo>
                    <a:lnTo>
                      <a:pt x="427" y="363"/>
                    </a:lnTo>
                    <a:lnTo>
                      <a:pt x="437" y="364"/>
                    </a:lnTo>
                    <a:lnTo>
                      <a:pt x="447" y="366"/>
                    </a:lnTo>
                    <a:lnTo>
                      <a:pt x="458" y="366"/>
                    </a:lnTo>
                    <a:lnTo>
                      <a:pt x="471" y="366"/>
                    </a:lnTo>
                    <a:lnTo>
                      <a:pt x="483" y="365"/>
                    </a:lnTo>
                    <a:lnTo>
                      <a:pt x="496" y="363"/>
                    </a:lnTo>
                    <a:lnTo>
                      <a:pt x="509" y="360"/>
                    </a:lnTo>
                    <a:lnTo>
                      <a:pt x="524" y="357"/>
                    </a:lnTo>
                    <a:lnTo>
                      <a:pt x="538" y="353"/>
                    </a:lnTo>
                    <a:lnTo>
                      <a:pt x="554" y="348"/>
                    </a:lnTo>
                    <a:lnTo>
                      <a:pt x="538" y="353"/>
                    </a:lnTo>
                    <a:lnTo>
                      <a:pt x="524" y="357"/>
                    </a:lnTo>
                    <a:lnTo>
                      <a:pt x="509" y="360"/>
                    </a:lnTo>
                    <a:lnTo>
                      <a:pt x="496" y="363"/>
                    </a:lnTo>
                    <a:lnTo>
                      <a:pt x="483" y="365"/>
                    </a:lnTo>
                    <a:lnTo>
                      <a:pt x="471" y="366"/>
                    </a:lnTo>
                    <a:lnTo>
                      <a:pt x="458" y="366"/>
                    </a:lnTo>
                    <a:lnTo>
                      <a:pt x="447" y="366"/>
                    </a:lnTo>
                    <a:lnTo>
                      <a:pt x="437" y="364"/>
                    </a:lnTo>
                    <a:lnTo>
                      <a:pt x="427" y="363"/>
                    </a:lnTo>
                    <a:lnTo>
                      <a:pt x="418" y="359"/>
                    </a:lnTo>
                    <a:lnTo>
                      <a:pt x="411" y="357"/>
                    </a:lnTo>
                    <a:lnTo>
                      <a:pt x="403" y="353"/>
                    </a:lnTo>
                    <a:lnTo>
                      <a:pt x="395" y="348"/>
                    </a:lnTo>
                    <a:lnTo>
                      <a:pt x="390" y="343"/>
                    </a:lnTo>
                    <a:lnTo>
                      <a:pt x="384" y="337"/>
                    </a:lnTo>
                    <a:lnTo>
                      <a:pt x="381" y="346"/>
                    </a:lnTo>
                    <a:lnTo>
                      <a:pt x="380" y="356"/>
                    </a:lnTo>
                    <a:lnTo>
                      <a:pt x="378" y="366"/>
                    </a:lnTo>
                    <a:lnTo>
                      <a:pt x="380" y="376"/>
                    </a:lnTo>
                    <a:lnTo>
                      <a:pt x="381" y="383"/>
                    </a:lnTo>
                    <a:lnTo>
                      <a:pt x="381" y="389"/>
                    </a:lnTo>
                    <a:lnTo>
                      <a:pt x="382" y="396"/>
                    </a:lnTo>
                    <a:lnTo>
                      <a:pt x="384" y="401"/>
                    </a:lnTo>
                    <a:lnTo>
                      <a:pt x="400" y="426"/>
                    </a:lnTo>
                    <a:lnTo>
                      <a:pt x="414" y="450"/>
                    </a:lnTo>
                    <a:lnTo>
                      <a:pt x="427" y="473"/>
                    </a:lnTo>
                    <a:lnTo>
                      <a:pt x="439" y="497"/>
                    </a:lnTo>
                    <a:lnTo>
                      <a:pt x="451" y="520"/>
                    </a:lnTo>
                    <a:lnTo>
                      <a:pt x="462" y="542"/>
                    </a:lnTo>
                    <a:lnTo>
                      <a:pt x="471" y="564"/>
                    </a:lnTo>
                    <a:lnTo>
                      <a:pt x="479" y="587"/>
                    </a:lnTo>
                    <a:lnTo>
                      <a:pt x="486" y="608"/>
                    </a:lnTo>
                    <a:lnTo>
                      <a:pt x="493" y="629"/>
                    </a:lnTo>
                    <a:lnTo>
                      <a:pt x="498" y="649"/>
                    </a:lnTo>
                    <a:lnTo>
                      <a:pt x="502" y="669"/>
                    </a:lnTo>
                    <a:lnTo>
                      <a:pt x="505" y="687"/>
                    </a:lnTo>
                    <a:lnTo>
                      <a:pt x="507" y="706"/>
                    </a:lnTo>
                    <a:lnTo>
                      <a:pt x="508" y="724"/>
                    </a:lnTo>
                    <a:lnTo>
                      <a:pt x="508" y="742"/>
                    </a:lnTo>
                    <a:lnTo>
                      <a:pt x="510" y="752"/>
                    </a:lnTo>
                    <a:lnTo>
                      <a:pt x="510" y="762"/>
                    </a:lnTo>
                    <a:lnTo>
                      <a:pt x="510" y="771"/>
                    </a:lnTo>
                    <a:lnTo>
                      <a:pt x="508" y="781"/>
                    </a:lnTo>
                    <a:lnTo>
                      <a:pt x="507" y="789"/>
                    </a:lnTo>
                    <a:lnTo>
                      <a:pt x="506" y="797"/>
                    </a:lnTo>
                    <a:lnTo>
                      <a:pt x="504" y="805"/>
                    </a:lnTo>
                    <a:lnTo>
                      <a:pt x="500" y="813"/>
                    </a:lnTo>
                    <a:lnTo>
                      <a:pt x="536" y="816"/>
                    </a:lnTo>
                    <a:lnTo>
                      <a:pt x="532" y="808"/>
                    </a:lnTo>
                    <a:lnTo>
                      <a:pt x="528" y="798"/>
                    </a:lnTo>
                    <a:lnTo>
                      <a:pt x="526" y="789"/>
                    </a:lnTo>
                    <a:lnTo>
                      <a:pt x="526" y="781"/>
                    </a:lnTo>
                    <a:lnTo>
                      <a:pt x="524" y="771"/>
                    </a:lnTo>
                    <a:lnTo>
                      <a:pt x="523" y="762"/>
                    </a:lnTo>
                    <a:lnTo>
                      <a:pt x="524" y="754"/>
                    </a:lnTo>
                    <a:lnTo>
                      <a:pt x="526" y="745"/>
                    </a:lnTo>
                    <a:lnTo>
                      <a:pt x="526" y="741"/>
                    </a:lnTo>
                    <a:lnTo>
                      <a:pt x="526" y="738"/>
                    </a:lnTo>
                    <a:lnTo>
                      <a:pt x="528" y="721"/>
                    </a:lnTo>
                    <a:lnTo>
                      <a:pt x="533" y="704"/>
                    </a:lnTo>
                    <a:lnTo>
                      <a:pt x="537" y="690"/>
                    </a:lnTo>
                    <a:lnTo>
                      <a:pt x="543" y="674"/>
                    </a:lnTo>
                    <a:lnTo>
                      <a:pt x="548" y="661"/>
                    </a:lnTo>
                    <a:lnTo>
                      <a:pt x="555" y="649"/>
                    </a:lnTo>
                    <a:lnTo>
                      <a:pt x="563" y="638"/>
                    </a:lnTo>
                    <a:lnTo>
                      <a:pt x="571" y="628"/>
                    </a:lnTo>
                    <a:lnTo>
                      <a:pt x="580" y="618"/>
                    </a:lnTo>
                    <a:lnTo>
                      <a:pt x="590" y="610"/>
                    </a:lnTo>
                    <a:lnTo>
                      <a:pt x="601" y="602"/>
                    </a:lnTo>
                    <a:lnTo>
                      <a:pt x="613" y="597"/>
                    </a:lnTo>
                    <a:lnTo>
                      <a:pt x="626" y="591"/>
                    </a:lnTo>
                    <a:lnTo>
                      <a:pt x="639" y="588"/>
                    </a:lnTo>
                    <a:lnTo>
                      <a:pt x="652" y="584"/>
                    </a:lnTo>
                    <a:lnTo>
                      <a:pt x="668" y="582"/>
                    </a:lnTo>
                    <a:lnTo>
                      <a:pt x="668" y="575"/>
                    </a:lnTo>
                    <a:lnTo>
                      <a:pt x="670" y="569"/>
                    </a:lnTo>
                    <a:lnTo>
                      <a:pt x="672" y="562"/>
                    </a:lnTo>
                    <a:lnTo>
                      <a:pt x="676" y="557"/>
                    </a:lnTo>
                    <a:lnTo>
                      <a:pt x="680" y="551"/>
                    </a:lnTo>
                    <a:lnTo>
                      <a:pt x="686" y="546"/>
                    </a:lnTo>
                    <a:lnTo>
                      <a:pt x="692" y="541"/>
                    </a:lnTo>
                    <a:lnTo>
                      <a:pt x="700" y="537"/>
                    </a:lnTo>
                    <a:lnTo>
                      <a:pt x="708" y="532"/>
                    </a:lnTo>
                    <a:lnTo>
                      <a:pt x="718" y="528"/>
                    </a:lnTo>
                    <a:lnTo>
                      <a:pt x="728" y="524"/>
                    </a:lnTo>
                    <a:lnTo>
                      <a:pt x="740" y="521"/>
                    </a:lnTo>
                    <a:lnTo>
                      <a:pt x="766" y="516"/>
                    </a:lnTo>
                    <a:lnTo>
                      <a:pt x="796" y="511"/>
                    </a:lnTo>
                    <a:lnTo>
                      <a:pt x="766" y="516"/>
                    </a:lnTo>
                    <a:lnTo>
                      <a:pt x="740" y="521"/>
                    </a:lnTo>
                    <a:lnTo>
                      <a:pt x="728" y="524"/>
                    </a:lnTo>
                    <a:lnTo>
                      <a:pt x="718" y="528"/>
                    </a:lnTo>
                    <a:lnTo>
                      <a:pt x="708" y="532"/>
                    </a:lnTo>
                    <a:lnTo>
                      <a:pt x="700" y="537"/>
                    </a:lnTo>
                    <a:lnTo>
                      <a:pt x="692" y="541"/>
                    </a:lnTo>
                    <a:lnTo>
                      <a:pt x="686" y="546"/>
                    </a:lnTo>
                    <a:lnTo>
                      <a:pt x="680" y="551"/>
                    </a:lnTo>
                    <a:lnTo>
                      <a:pt x="676" y="557"/>
                    </a:lnTo>
                    <a:lnTo>
                      <a:pt x="672" y="562"/>
                    </a:lnTo>
                    <a:lnTo>
                      <a:pt x="670" y="569"/>
                    </a:lnTo>
                    <a:lnTo>
                      <a:pt x="668" y="575"/>
                    </a:lnTo>
                    <a:lnTo>
                      <a:pt x="668" y="582"/>
                    </a:lnTo>
                    <a:lnTo>
                      <a:pt x="678" y="581"/>
                    </a:lnTo>
                    <a:lnTo>
                      <a:pt x="689" y="581"/>
                    </a:lnTo>
                    <a:lnTo>
                      <a:pt x="701" y="581"/>
                    </a:lnTo>
                    <a:lnTo>
                      <a:pt x="712" y="582"/>
                    </a:lnTo>
                    <a:lnTo>
                      <a:pt x="736" y="584"/>
                    </a:lnTo>
                    <a:lnTo>
                      <a:pt x="760" y="590"/>
                    </a:lnTo>
                    <a:lnTo>
                      <a:pt x="736" y="584"/>
                    </a:lnTo>
                    <a:lnTo>
                      <a:pt x="712" y="582"/>
                    </a:lnTo>
                    <a:lnTo>
                      <a:pt x="701" y="581"/>
                    </a:lnTo>
                    <a:lnTo>
                      <a:pt x="689" y="581"/>
                    </a:lnTo>
                    <a:lnTo>
                      <a:pt x="678" y="581"/>
                    </a:lnTo>
                    <a:lnTo>
                      <a:pt x="668" y="582"/>
                    </a:lnTo>
                    <a:lnTo>
                      <a:pt x="652" y="584"/>
                    </a:lnTo>
                    <a:lnTo>
                      <a:pt x="639" y="588"/>
                    </a:lnTo>
                    <a:lnTo>
                      <a:pt x="626" y="591"/>
                    </a:lnTo>
                    <a:lnTo>
                      <a:pt x="613" y="597"/>
                    </a:lnTo>
                    <a:lnTo>
                      <a:pt x="601" y="602"/>
                    </a:lnTo>
                    <a:lnTo>
                      <a:pt x="590" y="610"/>
                    </a:lnTo>
                    <a:lnTo>
                      <a:pt x="580" y="618"/>
                    </a:lnTo>
                    <a:lnTo>
                      <a:pt x="571" y="628"/>
                    </a:lnTo>
                    <a:lnTo>
                      <a:pt x="563" y="638"/>
                    </a:lnTo>
                    <a:lnTo>
                      <a:pt x="555" y="649"/>
                    </a:lnTo>
                    <a:lnTo>
                      <a:pt x="548" y="661"/>
                    </a:lnTo>
                    <a:lnTo>
                      <a:pt x="543" y="674"/>
                    </a:lnTo>
                    <a:lnTo>
                      <a:pt x="537" y="690"/>
                    </a:lnTo>
                    <a:lnTo>
                      <a:pt x="533" y="704"/>
                    </a:lnTo>
                    <a:lnTo>
                      <a:pt x="528" y="721"/>
                    </a:lnTo>
                    <a:lnTo>
                      <a:pt x="526" y="738"/>
                    </a:lnTo>
                    <a:lnTo>
                      <a:pt x="526" y="741"/>
                    </a:lnTo>
                    <a:lnTo>
                      <a:pt x="526" y="745"/>
                    </a:lnTo>
                    <a:lnTo>
                      <a:pt x="524" y="754"/>
                    </a:lnTo>
                    <a:lnTo>
                      <a:pt x="523" y="762"/>
                    </a:lnTo>
                    <a:lnTo>
                      <a:pt x="524" y="771"/>
                    </a:lnTo>
                    <a:lnTo>
                      <a:pt x="526" y="781"/>
                    </a:lnTo>
                    <a:lnTo>
                      <a:pt x="526" y="789"/>
                    </a:lnTo>
                    <a:lnTo>
                      <a:pt x="528" y="798"/>
                    </a:lnTo>
                    <a:lnTo>
                      <a:pt x="532" y="808"/>
                    </a:lnTo>
                    <a:lnTo>
                      <a:pt x="536" y="816"/>
                    </a:lnTo>
                    <a:lnTo>
                      <a:pt x="539" y="824"/>
                    </a:lnTo>
                    <a:lnTo>
                      <a:pt x="544" y="830"/>
                    </a:lnTo>
                    <a:lnTo>
                      <a:pt x="549" y="836"/>
                    </a:lnTo>
                    <a:lnTo>
                      <a:pt x="554" y="842"/>
                    </a:lnTo>
                    <a:lnTo>
                      <a:pt x="564" y="848"/>
                    </a:lnTo>
                    <a:lnTo>
                      <a:pt x="576" y="855"/>
                    </a:lnTo>
                    <a:lnTo>
                      <a:pt x="589" y="859"/>
                    </a:lnTo>
                    <a:lnTo>
                      <a:pt x="605" y="863"/>
                    </a:lnTo>
                    <a:lnTo>
                      <a:pt x="620" y="866"/>
                    </a:lnTo>
                    <a:lnTo>
                      <a:pt x="638" y="867"/>
                    </a:lnTo>
                    <a:lnTo>
                      <a:pt x="658" y="867"/>
                    </a:lnTo>
                    <a:lnTo>
                      <a:pt x="678" y="866"/>
                    </a:lnTo>
                    <a:lnTo>
                      <a:pt x="692" y="852"/>
                    </a:lnTo>
                    <a:lnTo>
                      <a:pt x="707" y="838"/>
                    </a:lnTo>
                    <a:lnTo>
                      <a:pt x="713" y="829"/>
                    </a:lnTo>
                    <a:lnTo>
                      <a:pt x="718" y="822"/>
                    </a:lnTo>
                    <a:lnTo>
                      <a:pt x="723" y="813"/>
                    </a:lnTo>
                    <a:lnTo>
                      <a:pt x="727" y="805"/>
                    </a:lnTo>
                    <a:lnTo>
                      <a:pt x="730" y="796"/>
                    </a:lnTo>
                    <a:lnTo>
                      <a:pt x="731" y="787"/>
                    </a:lnTo>
                    <a:lnTo>
                      <a:pt x="733" y="778"/>
                    </a:lnTo>
                    <a:lnTo>
                      <a:pt x="733" y="768"/>
                    </a:lnTo>
                    <a:lnTo>
                      <a:pt x="733" y="760"/>
                    </a:lnTo>
                    <a:lnTo>
                      <a:pt x="731" y="750"/>
                    </a:lnTo>
                    <a:lnTo>
                      <a:pt x="730" y="740"/>
                    </a:lnTo>
                    <a:lnTo>
                      <a:pt x="727" y="730"/>
                    </a:lnTo>
                    <a:lnTo>
                      <a:pt x="723" y="720"/>
                    </a:lnTo>
                    <a:lnTo>
                      <a:pt x="718" y="710"/>
                    </a:lnTo>
                    <a:lnTo>
                      <a:pt x="713" y="700"/>
                    </a:lnTo>
                    <a:lnTo>
                      <a:pt x="707" y="689"/>
                    </a:lnTo>
                    <a:lnTo>
                      <a:pt x="718" y="686"/>
                    </a:lnTo>
                    <a:lnTo>
                      <a:pt x="728" y="685"/>
                    </a:lnTo>
                    <a:lnTo>
                      <a:pt x="738" y="684"/>
                    </a:lnTo>
                    <a:lnTo>
                      <a:pt x="748" y="683"/>
                    </a:lnTo>
                    <a:lnTo>
                      <a:pt x="756" y="684"/>
                    </a:lnTo>
                    <a:lnTo>
                      <a:pt x="764" y="685"/>
                    </a:lnTo>
                    <a:lnTo>
                      <a:pt x="771" y="686"/>
                    </a:lnTo>
                    <a:lnTo>
                      <a:pt x="779" y="689"/>
                    </a:lnTo>
                    <a:lnTo>
                      <a:pt x="784" y="692"/>
                    </a:lnTo>
                    <a:lnTo>
                      <a:pt x="791" y="695"/>
                    </a:lnTo>
                    <a:lnTo>
                      <a:pt x="796" y="700"/>
                    </a:lnTo>
                    <a:lnTo>
                      <a:pt x="801" y="705"/>
                    </a:lnTo>
                    <a:lnTo>
                      <a:pt x="804" y="711"/>
                    </a:lnTo>
                    <a:lnTo>
                      <a:pt x="808" y="716"/>
                    </a:lnTo>
                    <a:lnTo>
                      <a:pt x="811" y="724"/>
                    </a:lnTo>
                    <a:lnTo>
                      <a:pt x="813" y="732"/>
                    </a:lnTo>
                    <a:lnTo>
                      <a:pt x="816" y="758"/>
                    </a:lnTo>
                    <a:lnTo>
                      <a:pt x="816" y="781"/>
                    </a:lnTo>
                    <a:lnTo>
                      <a:pt x="814" y="791"/>
                    </a:lnTo>
                    <a:lnTo>
                      <a:pt x="813" y="798"/>
                    </a:lnTo>
                    <a:lnTo>
                      <a:pt x="812" y="805"/>
                    </a:lnTo>
                    <a:lnTo>
                      <a:pt x="810" y="809"/>
                    </a:lnTo>
                    <a:lnTo>
                      <a:pt x="902" y="777"/>
                    </a:lnTo>
                    <a:lnTo>
                      <a:pt x="913" y="758"/>
                    </a:lnTo>
                    <a:lnTo>
                      <a:pt x="923" y="740"/>
                    </a:lnTo>
                    <a:lnTo>
                      <a:pt x="931" y="722"/>
                    </a:lnTo>
                    <a:lnTo>
                      <a:pt x="936" y="702"/>
                    </a:lnTo>
                    <a:lnTo>
                      <a:pt x="940" y="683"/>
                    </a:lnTo>
                    <a:lnTo>
                      <a:pt x="942" y="664"/>
                    </a:lnTo>
                    <a:lnTo>
                      <a:pt x="942" y="645"/>
                    </a:lnTo>
                    <a:lnTo>
                      <a:pt x="940" y="625"/>
                    </a:lnTo>
                    <a:lnTo>
                      <a:pt x="935" y="607"/>
                    </a:lnTo>
                    <a:lnTo>
                      <a:pt x="929" y="587"/>
                    </a:lnTo>
                    <a:lnTo>
                      <a:pt x="920" y="568"/>
                    </a:lnTo>
                    <a:lnTo>
                      <a:pt x="910" y="548"/>
                    </a:lnTo>
                    <a:lnTo>
                      <a:pt x="898" y="528"/>
                    </a:lnTo>
                    <a:lnTo>
                      <a:pt x="883" y="509"/>
                    </a:lnTo>
                    <a:lnTo>
                      <a:pt x="867" y="489"/>
                    </a:lnTo>
                    <a:lnTo>
                      <a:pt x="849" y="469"/>
                    </a:lnTo>
                    <a:lnTo>
                      <a:pt x="847" y="467"/>
                    </a:lnTo>
                    <a:lnTo>
                      <a:pt x="845" y="466"/>
                    </a:lnTo>
                    <a:lnTo>
                      <a:pt x="845" y="463"/>
                    </a:lnTo>
                    <a:lnTo>
                      <a:pt x="845" y="461"/>
                    </a:lnTo>
                    <a:lnTo>
                      <a:pt x="835" y="453"/>
                    </a:lnTo>
                    <a:lnTo>
                      <a:pt x="826" y="444"/>
                    </a:lnTo>
                    <a:lnTo>
                      <a:pt x="817" y="434"/>
                    </a:lnTo>
                    <a:lnTo>
                      <a:pt x="807" y="422"/>
                    </a:lnTo>
                    <a:lnTo>
                      <a:pt x="518" y="57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8"/>
              <p:cNvSpPr/>
              <p:nvPr/>
            </p:nvSpPr>
            <p:spPr>
              <a:xfrm>
                <a:off x="5623920" y="5156280"/>
                <a:ext cx="47880" cy="70920"/>
              </a:xfrm>
              <a:custGeom>
                <a:avLst/>
                <a:gdLst/>
                <a:ahLst/>
                <a:rect l="l" t="t" r="r" b="b"/>
                <a:pathLst>
                  <a:path w="467" h="856">
                    <a:moveTo>
                      <a:pt x="410" y="42"/>
                    </a:moveTo>
                    <a:lnTo>
                      <a:pt x="421" y="32"/>
                    </a:lnTo>
                    <a:lnTo>
                      <a:pt x="434" y="25"/>
                    </a:lnTo>
                    <a:lnTo>
                      <a:pt x="445" y="18"/>
                    </a:lnTo>
                    <a:lnTo>
                      <a:pt x="456" y="10"/>
                    </a:lnTo>
                    <a:lnTo>
                      <a:pt x="413" y="5"/>
                    </a:lnTo>
                    <a:lnTo>
                      <a:pt x="370" y="1"/>
                    </a:lnTo>
                    <a:lnTo>
                      <a:pt x="330" y="0"/>
                    </a:lnTo>
                    <a:lnTo>
                      <a:pt x="294" y="1"/>
                    </a:lnTo>
                    <a:lnTo>
                      <a:pt x="258" y="5"/>
                    </a:lnTo>
                    <a:lnTo>
                      <a:pt x="225" y="9"/>
                    </a:lnTo>
                    <a:lnTo>
                      <a:pt x="194" y="16"/>
                    </a:lnTo>
                    <a:lnTo>
                      <a:pt x="165" y="25"/>
                    </a:lnTo>
                    <a:lnTo>
                      <a:pt x="165" y="25"/>
                    </a:lnTo>
                    <a:lnTo>
                      <a:pt x="162" y="28"/>
                    </a:lnTo>
                    <a:lnTo>
                      <a:pt x="143" y="36"/>
                    </a:lnTo>
                    <a:lnTo>
                      <a:pt x="125" y="45"/>
                    </a:lnTo>
                    <a:lnTo>
                      <a:pt x="107" y="54"/>
                    </a:lnTo>
                    <a:lnTo>
                      <a:pt x="91" y="63"/>
                    </a:lnTo>
                    <a:lnTo>
                      <a:pt x="85" y="67"/>
                    </a:lnTo>
                    <a:lnTo>
                      <a:pt x="82" y="70"/>
                    </a:lnTo>
                    <a:lnTo>
                      <a:pt x="77" y="72"/>
                    </a:lnTo>
                    <a:lnTo>
                      <a:pt x="73" y="73"/>
                    </a:lnTo>
                    <a:lnTo>
                      <a:pt x="71" y="78"/>
                    </a:lnTo>
                    <a:lnTo>
                      <a:pt x="65" y="81"/>
                    </a:lnTo>
                    <a:lnTo>
                      <a:pt x="56" y="89"/>
                    </a:lnTo>
                    <a:lnTo>
                      <a:pt x="48" y="97"/>
                    </a:lnTo>
                    <a:lnTo>
                      <a:pt x="40" y="106"/>
                    </a:lnTo>
                    <a:lnTo>
                      <a:pt x="33" y="115"/>
                    </a:lnTo>
                    <a:lnTo>
                      <a:pt x="26" y="124"/>
                    </a:lnTo>
                    <a:lnTo>
                      <a:pt x="21" y="133"/>
                    </a:lnTo>
                    <a:lnTo>
                      <a:pt x="15" y="144"/>
                    </a:lnTo>
                    <a:lnTo>
                      <a:pt x="11" y="154"/>
                    </a:lnTo>
                    <a:lnTo>
                      <a:pt x="8" y="166"/>
                    </a:lnTo>
                    <a:lnTo>
                      <a:pt x="4" y="177"/>
                    </a:lnTo>
                    <a:lnTo>
                      <a:pt x="2" y="188"/>
                    </a:lnTo>
                    <a:lnTo>
                      <a:pt x="1" y="200"/>
                    </a:lnTo>
                    <a:lnTo>
                      <a:pt x="0" y="213"/>
                    </a:lnTo>
                    <a:lnTo>
                      <a:pt x="0" y="225"/>
                    </a:lnTo>
                    <a:lnTo>
                      <a:pt x="1" y="239"/>
                    </a:lnTo>
                    <a:lnTo>
                      <a:pt x="2" y="252"/>
                    </a:lnTo>
                    <a:lnTo>
                      <a:pt x="4" y="266"/>
                    </a:lnTo>
                    <a:lnTo>
                      <a:pt x="8" y="281"/>
                    </a:lnTo>
                    <a:lnTo>
                      <a:pt x="11" y="295"/>
                    </a:lnTo>
                    <a:lnTo>
                      <a:pt x="15" y="311"/>
                    </a:lnTo>
                    <a:lnTo>
                      <a:pt x="25" y="343"/>
                    </a:lnTo>
                    <a:lnTo>
                      <a:pt x="39" y="375"/>
                    </a:lnTo>
                    <a:lnTo>
                      <a:pt x="55" y="411"/>
                    </a:lnTo>
                    <a:lnTo>
                      <a:pt x="75" y="447"/>
                    </a:lnTo>
                    <a:lnTo>
                      <a:pt x="97" y="485"/>
                    </a:lnTo>
                    <a:lnTo>
                      <a:pt x="123" y="525"/>
                    </a:lnTo>
                    <a:lnTo>
                      <a:pt x="123" y="527"/>
                    </a:lnTo>
                    <a:lnTo>
                      <a:pt x="125" y="530"/>
                    </a:lnTo>
                    <a:lnTo>
                      <a:pt x="127" y="533"/>
                    </a:lnTo>
                    <a:lnTo>
                      <a:pt x="130" y="536"/>
                    </a:lnTo>
                    <a:lnTo>
                      <a:pt x="215" y="667"/>
                    </a:lnTo>
                    <a:lnTo>
                      <a:pt x="233" y="713"/>
                    </a:lnTo>
                    <a:lnTo>
                      <a:pt x="243" y="741"/>
                    </a:lnTo>
                    <a:lnTo>
                      <a:pt x="251" y="729"/>
                    </a:lnTo>
                    <a:lnTo>
                      <a:pt x="257" y="718"/>
                    </a:lnTo>
                    <a:lnTo>
                      <a:pt x="264" y="709"/>
                    </a:lnTo>
                    <a:lnTo>
                      <a:pt x="272" y="702"/>
                    </a:lnTo>
                    <a:lnTo>
                      <a:pt x="279" y="694"/>
                    </a:lnTo>
                    <a:lnTo>
                      <a:pt x="289" y="688"/>
                    </a:lnTo>
                    <a:lnTo>
                      <a:pt x="298" y="682"/>
                    </a:lnTo>
                    <a:lnTo>
                      <a:pt x="308" y="678"/>
                    </a:lnTo>
                    <a:lnTo>
                      <a:pt x="319" y="673"/>
                    </a:lnTo>
                    <a:lnTo>
                      <a:pt x="330" y="669"/>
                    </a:lnTo>
                    <a:lnTo>
                      <a:pt x="342" y="666"/>
                    </a:lnTo>
                    <a:lnTo>
                      <a:pt x="354" y="663"/>
                    </a:lnTo>
                    <a:lnTo>
                      <a:pt x="393" y="762"/>
                    </a:lnTo>
                    <a:lnTo>
                      <a:pt x="378" y="763"/>
                    </a:lnTo>
                    <a:lnTo>
                      <a:pt x="365" y="767"/>
                    </a:lnTo>
                    <a:lnTo>
                      <a:pt x="357" y="769"/>
                    </a:lnTo>
                    <a:lnTo>
                      <a:pt x="350" y="772"/>
                    </a:lnTo>
                    <a:lnTo>
                      <a:pt x="345" y="775"/>
                    </a:lnTo>
                    <a:lnTo>
                      <a:pt x="339" y="780"/>
                    </a:lnTo>
                    <a:lnTo>
                      <a:pt x="332" y="784"/>
                    </a:lnTo>
                    <a:lnTo>
                      <a:pt x="324" y="790"/>
                    </a:lnTo>
                    <a:lnTo>
                      <a:pt x="316" y="795"/>
                    </a:lnTo>
                    <a:lnTo>
                      <a:pt x="309" y="802"/>
                    </a:lnTo>
                    <a:lnTo>
                      <a:pt x="303" y="810"/>
                    </a:lnTo>
                    <a:lnTo>
                      <a:pt x="296" y="818"/>
                    </a:lnTo>
                    <a:lnTo>
                      <a:pt x="289" y="826"/>
                    </a:lnTo>
                    <a:lnTo>
                      <a:pt x="283" y="837"/>
                    </a:lnTo>
                    <a:lnTo>
                      <a:pt x="295" y="843"/>
                    </a:lnTo>
                    <a:lnTo>
                      <a:pt x="308" y="849"/>
                    </a:lnTo>
                    <a:lnTo>
                      <a:pt x="320" y="852"/>
                    </a:lnTo>
                    <a:lnTo>
                      <a:pt x="333" y="854"/>
                    </a:lnTo>
                    <a:lnTo>
                      <a:pt x="345" y="856"/>
                    </a:lnTo>
                    <a:lnTo>
                      <a:pt x="356" y="856"/>
                    </a:lnTo>
                    <a:lnTo>
                      <a:pt x="367" y="855"/>
                    </a:lnTo>
                    <a:lnTo>
                      <a:pt x="378" y="853"/>
                    </a:lnTo>
                    <a:lnTo>
                      <a:pt x="388" y="850"/>
                    </a:lnTo>
                    <a:lnTo>
                      <a:pt x="399" y="845"/>
                    </a:lnTo>
                    <a:lnTo>
                      <a:pt x="408" y="840"/>
                    </a:lnTo>
                    <a:lnTo>
                      <a:pt x="418" y="833"/>
                    </a:lnTo>
                    <a:lnTo>
                      <a:pt x="427" y="825"/>
                    </a:lnTo>
                    <a:lnTo>
                      <a:pt x="436" y="816"/>
                    </a:lnTo>
                    <a:lnTo>
                      <a:pt x="445" y="806"/>
                    </a:lnTo>
                    <a:lnTo>
                      <a:pt x="452" y="794"/>
                    </a:lnTo>
                    <a:lnTo>
                      <a:pt x="456" y="792"/>
                    </a:lnTo>
                    <a:lnTo>
                      <a:pt x="458" y="789"/>
                    </a:lnTo>
                    <a:lnTo>
                      <a:pt x="459" y="785"/>
                    </a:lnTo>
                    <a:lnTo>
                      <a:pt x="460" y="780"/>
                    </a:lnTo>
                    <a:lnTo>
                      <a:pt x="462" y="768"/>
                    </a:lnTo>
                    <a:lnTo>
                      <a:pt x="465" y="755"/>
                    </a:lnTo>
                    <a:lnTo>
                      <a:pt x="466" y="743"/>
                    </a:lnTo>
                    <a:lnTo>
                      <a:pt x="467" y="731"/>
                    </a:lnTo>
                    <a:lnTo>
                      <a:pt x="464" y="703"/>
                    </a:lnTo>
                    <a:lnTo>
                      <a:pt x="460" y="674"/>
                    </a:lnTo>
                    <a:lnTo>
                      <a:pt x="458" y="660"/>
                    </a:lnTo>
                    <a:lnTo>
                      <a:pt x="455" y="645"/>
                    </a:lnTo>
                    <a:lnTo>
                      <a:pt x="450" y="629"/>
                    </a:lnTo>
                    <a:lnTo>
                      <a:pt x="446" y="613"/>
                    </a:lnTo>
                    <a:lnTo>
                      <a:pt x="424" y="591"/>
                    </a:lnTo>
                    <a:lnTo>
                      <a:pt x="401" y="569"/>
                    </a:lnTo>
                    <a:lnTo>
                      <a:pt x="380" y="546"/>
                    </a:lnTo>
                    <a:lnTo>
                      <a:pt x="360" y="521"/>
                    </a:lnTo>
                    <a:lnTo>
                      <a:pt x="342" y="497"/>
                    </a:lnTo>
                    <a:lnTo>
                      <a:pt x="324" y="473"/>
                    </a:lnTo>
                    <a:lnTo>
                      <a:pt x="306" y="447"/>
                    </a:lnTo>
                    <a:lnTo>
                      <a:pt x="289" y="422"/>
                    </a:lnTo>
                    <a:lnTo>
                      <a:pt x="279" y="403"/>
                    </a:lnTo>
                    <a:lnTo>
                      <a:pt x="269" y="385"/>
                    </a:lnTo>
                    <a:lnTo>
                      <a:pt x="261" y="366"/>
                    </a:lnTo>
                    <a:lnTo>
                      <a:pt x="251" y="347"/>
                    </a:lnTo>
                    <a:lnTo>
                      <a:pt x="244" y="327"/>
                    </a:lnTo>
                    <a:lnTo>
                      <a:pt x="238" y="307"/>
                    </a:lnTo>
                    <a:lnTo>
                      <a:pt x="237" y="297"/>
                    </a:lnTo>
                    <a:lnTo>
                      <a:pt x="236" y="287"/>
                    </a:lnTo>
                    <a:lnTo>
                      <a:pt x="236" y="278"/>
                    </a:lnTo>
                    <a:lnTo>
                      <a:pt x="236" y="269"/>
                    </a:lnTo>
                    <a:lnTo>
                      <a:pt x="237" y="259"/>
                    </a:lnTo>
                    <a:lnTo>
                      <a:pt x="238" y="249"/>
                    </a:lnTo>
                    <a:lnTo>
                      <a:pt x="241" y="239"/>
                    </a:lnTo>
                    <a:lnTo>
                      <a:pt x="243" y="229"/>
                    </a:lnTo>
                    <a:lnTo>
                      <a:pt x="249" y="210"/>
                    </a:lnTo>
                    <a:lnTo>
                      <a:pt x="258" y="191"/>
                    </a:lnTo>
                    <a:lnTo>
                      <a:pt x="269" y="172"/>
                    </a:lnTo>
                    <a:lnTo>
                      <a:pt x="283" y="152"/>
                    </a:lnTo>
                    <a:lnTo>
                      <a:pt x="298" y="133"/>
                    </a:lnTo>
                    <a:lnTo>
                      <a:pt x="316" y="116"/>
                    </a:lnTo>
                    <a:lnTo>
                      <a:pt x="336" y="97"/>
                    </a:lnTo>
                    <a:lnTo>
                      <a:pt x="358" y="78"/>
                    </a:lnTo>
                    <a:lnTo>
                      <a:pt x="384" y="60"/>
                    </a:lnTo>
                    <a:lnTo>
                      <a:pt x="410" y="42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19"/>
              <p:cNvSpPr/>
              <p:nvPr/>
            </p:nvSpPr>
            <p:spPr>
              <a:xfrm>
                <a:off x="5851800" y="51868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676" h="750">
                    <a:moveTo>
                      <a:pt x="451" y="48"/>
                    </a:moveTo>
                    <a:lnTo>
                      <a:pt x="434" y="62"/>
                    </a:lnTo>
                    <a:lnTo>
                      <a:pt x="415" y="80"/>
                    </a:lnTo>
                    <a:lnTo>
                      <a:pt x="396" y="99"/>
                    </a:lnTo>
                    <a:lnTo>
                      <a:pt x="375" y="122"/>
                    </a:lnTo>
                    <a:lnTo>
                      <a:pt x="354" y="147"/>
                    </a:lnTo>
                    <a:lnTo>
                      <a:pt x="333" y="174"/>
                    </a:lnTo>
                    <a:lnTo>
                      <a:pt x="311" y="203"/>
                    </a:lnTo>
                    <a:lnTo>
                      <a:pt x="288" y="235"/>
                    </a:lnTo>
                    <a:lnTo>
                      <a:pt x="274" y="255"/>
                    </a:lnTo>
                    <a:lnTo>
                      <a:pt x="258" y="275"/>
                    </a:lnTo>
                    <a:lnTo>
                      <a:pt x="244" y="296"/>
                    </a:lnTo>
                    <a:lnTo>
                      <a:pt x="230" y="317"/>
                    </a:lnTo>
                    <a:lnTo>
                      <a:pt x="214" y="341"/>
                    </a:lnTo>
                    <a:lnTo>
                      <a:pt x="199" y="364"/>
                    </a:lnTo>
                    <a:lnTo>
                      <a:pt x="183" y="388"/>
                    </a:lnTo>
                    <a:lnTo>
                      <a:pt x="167" y="413"/>
                    </a:lnTo>
                    <a:lnTo>
                      <a:pt x="149" y="434"/>
                    </a:lnTo>
                    <a:lnTo>
                      <a:pt x="131" y="454"/>
                    </a:lnTo>
                    <a:lnTo>
                      <a:pt x="114" y="473"/>
                    </a:lnTo>
                    <a:lnTo>
                      <a:pt x="100" y="492"/>
                    </a:lnTo>
                    <a:lnTo>
                      <a:pt x="112" y="487"/>
                    </a:lnTo>
                    <a:lnTo>
                      <a:pt x="124" y="484"/>
                    </a:lnTo>
                    <a:lnTo>
                      <a:pt x="136" y="482"/>
                    </a:lnTo>
                    <a:lnTo>
                      <a:pt x="150" y="480"/>
                    </a:lnTo>
                    <a:lnTo>
                      <a:pt x="162" y="482"/>
                    </a:lnTo>
                    <a:lnTo>
                      <a:pt x="173" y="484"/>
                    </a:lnTo>
                    <a:lnTo>
                      <a:pt x="185" y="487"/>
                    </a:lnTo>
                    <a:lnTo>
                      <a:pt x="196" y="492"/>
                    </a:lnTo>
                    <a:lnTo>
                      <a:pt x="203" y="495"/>
                    </a:lnTo>
                    <a:lnTo>
                      <a:pt x="211" y="499"/>
                    </a:lnTo>
                    <a:lnTo>
                      <a:pt x="219" y="505"/>
                    </a:lnTo>
                    <a:lnTo>
                      <a:pt x="228" y="513"/>
                    </a:lnTo>
                    <a:lnTo>
                      <a:pt x="231" y="516"/>
                    </a:lnTo>
                    <a:lnTo>
                      <a:pt x="233" y="521"/>
                    </a:lnTo>
                    <a:lnTo>
                      <a:pt x="234" y="528"/>
                    </a:lnTo>
                    <a:lnTo>
                      <a:pt x="234" y="536"/>
                    </a:lnTo>
                    <a:lnTo>
                      <a:pt x="232" y="545"/>
                    </a:lnTo>
                    <a:lnTo>
                      <a:pt x="230" y="556"/>
                    </a:lnTo>
                    <a:lnTo>
                      <a:pt x="225" y="567"/>
                    </a:lnTo>
                    <a:lnTo>
                      <a:pt x="221" y="580"/>
                    </a:lnTo>
                    <a:lnTo>
                      <a:pt x="219" y="587"/>
                    </a:lnTo>
                    <a:lnTo>
                      <a:pt x="215" y="594"/>
                    </a:lnTo>
                    <a:lnTo>
                      <a:pt x="212" y="598"/>
                    </a:lnTo>
                    <a:lnTo>
                      <a:pt x="206" y="601"/>
                    </a:lnTo>
                    <a:lnTo>
                      <a:pt x="200" y="608"/>
                    </a:lnTo>
                    <a:lnTo>
                      <a:pt x="192" y="614"/>
                    </a:lnTo>
                    <a:lnTo>
                      <a:pt x="182" y="617"/>
                    </a:lnTo>
                    <a:lnTo>
                      <a:pt x="172" y="618"/>
                    </a:lnTo>
                    <a:lnTo>
                      <a:pt x="162" y="618"/>
                    </a:lnTo>
                    <a:lnTo>
                      <a:pt x="150" y="617"/>
                    </a:lnTo>
                    <a:lnTo>
                      <a:pt x="138" y="614"/>
                    </a:lnTo>
                    <a:lnTo>
                      <a:pt x="125" y="608"/>
                    </a:lnTo>
                    <a:lnTo>
                      <a:pt x="108" y="601"/>
                    </a:lnTo>
                    <a:lnTo>
                      <a:pt x="91" y="596"/>
                    </a:lnTo>
                    <a:lnTo>
                      <a:pt x="77" y="590"/>
                    </a:lnTo>
                    <a:lnTo>
                      <a:pt x="63" y="588"/>
                    </a:lnTo>
                    <a:lnTo>
                      <a:pt x="52" y="586"/>
                    </a:lnTo>
                    <a:lnTo>
                      <a:pt x="42" y="586"/>
                    </a:lnTo>
                    <a:lnTo>
                      <a:pt x="33" y="588"/>
                    </a:lnTo>
                    <a:lnTo>
                      <a:pt x="25" y="590"/>
                    </a:lnTo>
                    <a:lnTo>
                      <a:pt x="19" y="601"/>
                    </a:lnTo>
                    <a:lnTo>
                      <a:pt x="13" y="611"/>
                    </a:lnTo>
                    <a:lnTo>
                      <a:pt x="9" y="621"/>
                    </a:lnTo>
                    <a:lnTo>
                      <a:pt x="6" y="630"/>
                    </a:lnTo>
                    <a:lnTo>
                      <a:pt x="2" y="640"/>
                    </a:lnTo>
                    <a:lnTo>
                      <a:pt x="1" y="649"/>
                    </a:lnTo>
                    <a:lnTo>
                      <a:pt x="0" y="657"/>
                    </a:lnTo>
                    <a:lnTo>
                      <a:pt x="1" y="666"/>
                    </a:lnTo>
                    <a:lnTo>
                      <a:pt x="1" y="668"/>
                    </a:lnTo>
                    <a:lnTo>
                      <a:pt x="1" y="672"/>
                    </a:lnTo>
                    <a:lnTo>
                      <a:pt x="2" y="681"/>
                    </a:lnTo>
                    <a:lnTo>
                      <a:pt x="4" y="689"/>
                    </a:lnTo>
                    <a:lnTo>
                      <a:pt x="7" y="696"/>
                    </a:lnTo>
                    <a:lnTo>
                      <a:pt x="9" y="702"/>
                    </a:lnTo>
                    <a:lnTo>
                      <a:pt x="11" y="707"/>
                    </a:lnTo>
                    <a:lnTo>
                      <a:pt x="14" y="710"/>
                    </a:lnTo>
                    <a:lnTo>
                      <a:pt x="18" y="713"/>
                    </a:lnTo>
                    <a:lnTo>
                      <a:pt x="22" y="716"/>
                    </a:lnTo>
                    <a:lnTo>
                      <a:pt x="30" y="723"/>
                    </a:lnTo>
                    <a:lnTo>
                      <a:pt x="40" y="731"/>
                    </a:lnTo>
                    <a:lnTo>
                      <a:pt x="50" y="738"/>
                    </a:lnTo>
                    <a:lnTo>
                      <a:pt x="61" y="742"/>
                    </a:lnTo>
                    <a:lnTo>
                      <a:pt x="72" y="745"/>
                    </a:lnTo>
                    <a:lnTo>
                      <a:pt x="85" y="749"/>
                    </a:lnTo>
                    <a:lnTo>
                      <a:pt x="99" y="750"/>
                    </a:lnTo>
                    <a:lnTo>
                      <a:pt x="112" y="749"/>
                    </a:lnTo>
                    <a:lnTo>
                      <a:pt x="128" y="748"/>
                    </a:lnTo>
                    <a:lnTo>
                      <a:pt x="143" y="745"/>
                    </a:lnTo>
                    <a:lnTo>
                      <a:pt x="160" y="741"/>
                    </a:lnTo>
                    <a:lnTo>
                      <a:pt x="177" y="735"/>
                    </a:lnTo>
                    <a:lnTo>
                      <a:pt x="196" y="729"/>
                    </a:lnTo>
                    <a:lnTo>
                      <a:pt x="215" y="721"/>
                    </a:lnTo>
                    <a:lnTo>
                      <a:pt x="235" y="711"/>
                    </a:lnTo>
                    <a:lnTo>
                      <a:pt x="256" y="701"/>
                    </a:lnTo>
                    <a:lnTo>
                      <a:pt x="255" y="691"/>
                    </a:lnTo>
                    <a:lnTo>
                      <a:pt x="256" y="681"/>
                    </a:lnTo>
                    <a:lnTo>
                      <a:pt x="257" y="670"/>
                    </a:lnTo>
                    <a:lnTo>
                      <a:pt x="260" y="659"/>
                    </a:lnTo>
                    <a:lnTo>
                      <a:pt x="263" y="648"/>
                    </a:lnTo>
                    <a:lnTo>
                      <a:pt x="267" y="636"/>
                    </a:lnTo>
                    <a:lnTo>
                      <a:pt x="274" y="625"/>
                    </a:lnTo>
                    <a:lnTo>
                      <a:pt x="282" y="612"/>
                    </a:lnTo>
                    <a:lnTo>
                      <a:pt x="291" y="594"/>
                    </a:lnTo>
                    <a:lnTo>
                      <a:pt x="303" y="575"/>
                    </a:lnTo>
                    <a:lnTo>
                      <a:pt x="317" y="555"/>
                    </a:lnTo>
                    <a:lnTo>
                      <a:pt x="335" y="534"/>
                    </a:lnTo>
                    <a:lnTo>
                      <a:pt x="343" y="525"/>
                    </a:lnTo>
                    <a:lnTo>
                      <a:pt x="353" y="515"/>
                    </a:lnTo>
                    <a:lnTo>
                      <a:pt x="363" y="504"/>
                    </a:lnTo>
                    <a:lnTo>
                      <a:pt x="374" y="492"/>
                    </a:lnTo>
                    <a:lnTo>
                      <a:pt x="396" y="463"/>
                    </a:lnTo>
                    <a:lnTo>
                      <a:pt x="422" y="431"/>
                    </a:lnTo>
                    <a:lnTo>
                      <a:pt x="448" y="394"/>
                    </a:lnTo>
                    <a:lnTo>
                      <a:pt x="477" y="353"/>
                    </a:lnTo>
                    <a:lnTo>
                      <a:pt x="499" y="321"/>
                    </a:lnTo>
                    <a:lnTo>
                      <a:pt x="524" y="289"/>
                    </a:lnTo>
                    <a:lnTo>
                      <a:pt x="547" y="259"/>
                    </a:lnTo>
                    <a:lnTo>
                      <a:pt x="572" y="231"/>
                    </a:lnTo>
                    <a:lnTo>
                      <a:pt x="597" y="203"/>
                    </a:lnTo>
                    <a:lnTo>
                      <a:pt x="622" y="178"/>
                    </a:lnTo>
                    <a:lnTo>
                      <a:pt x="649" y="152"/>
                    </a:lnTo>
                    <a:lnTo>
                      <a:pt x="676" y="129"/>
                    </a:lnTo>
                    <a:lnTo>
                      <a:pt x="672" y="120"/>
                    </a:lnTo>
                    <a:lnTo>
                      <a:pt x="668" y="111"/>
                    </a:lnTo>
                    <a:lnTo>
                      <a:pt x="663" y="98"/>
                    </a:lnTo>
                    <a:lnTo>
                      <a:pt x="659" y="86"/>
                    </a:lnTo>
                    <a:lnTo>
                      <a:pt x="656" y="74"/>
                    </a:lnTo>
                    <a:lnTo>
                      <a:pt x="650" y="62"/>
                    </a:lnTo>
                    <a:lnTo>
                      <a:pt x="645" y="51"/>
                    </a:lnTo>
                    <a:lnTo>
                      <a:pt x="638" y="42"/>
                    </a:lnTo>
                    <a:lnTo>
                      <a:pt x="631" y="35"/>
                    </a:lnTo>
                    <a:lnTo>
                      <a:pt x="623" y="27"/>
                    </a:lnTo>
                    <a:lnTo>
                      <a:pt x="617" y="20"/>
                    </a:lnTo>
                    <a:lnTo>
                      <a:pt x="609" y="15"/>
                    </a:lnTo>
                    <a:lnTo>
                      <a:pt x="600" y="10"/>
                    </a:lnTo>
                    <a:lnTo>
                      <a:pt x="592" y="7"/>
                    </a:lnTo>
                    <a:lnTo>
                      <a:pt x="583" y="4"/>
                    </a:lnTo>
                    <a:lnTo>
                      <a:pt x="574" y="1"/>
                    </a:lnTo>
                    <a:lnTo>
                      <a:pt x="565" y="0"/>
                    </a:lnTo>
                    <a:lnTo>
                      <a:pt x="555" y="0"/>
                    </a:lnTo>
                    <a:lnTo>
                      <a:pt x="545" y="0"/>
                    </a:lnTo>
                    <a:lnTo>
                      <a:pt x="534" y="1"/>
                    </a:lnTo>
                    <a:lnTo>
                      <a:pt x="524" y="3"/>
                    </a:lnTo>
                    <a:lnTo>
                      <a:pt x="512" y="5"/>
                    </a:lnTo>
                    <a:lnTo>
                      <a:pt x="498" y="11"/>
                    </a:lnTo>
                    <a:lnTo>
                      <a:pt x="484" y="21"/>
                    </a:lnTo>
                    <a:lnTo>
                      <a:pt x="467" y="34"/>
                    </a:lnTo>
                    <a:lnTo>
                      <a:pt x="451" y="48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20"/>
              <p:cNvSpPr/>
              <p:nvPr/>
            </p:nvSpPr>
            <p:spPr>
              <a:xfrm>
                <a:off x="5816520" y="5200200"/>
                <a:ext cx="65160" cy="56160"/>
              </a:xfrm>
              <a:custGeom>
                <a:avLst/>
                <a:gdLst/>
                <a:ahLst/>
                <a:rect l="l" t="t" r="r" b="b"/>
                <a:pathLst>
                  <a:path w="632" h="678">
                    <a:moveTo>
                      <a:pt x="632" y="72"/>
                    </a:moveTo>
                    <a:lnTo>
                      <a:pt x="622" y="55"/>
                    </a:lnTo>
                    <a:lnTo>
                      <a:pt x="612" y="39"/>
                    </a:lnTo>
                    <a:lnTo>
                      <a:pt x="607" y="32"/>
                    </a:lnTo>
                    <a:lnTo>
                      <a:pt x="601" y="27"/>
                    </a:lnTo>
                    <a:lnTo>
                      <a:pt x="595" y="21"/>
                    </a:lnTo>
                    <a:lnTo>
                      <a:pt x="589" y="16"/>
                    </a:lnTo>
                    <a:lnTo>
                      <a:pt x="582" y="13"/>
                    </a:lnTo>
                    <a:lnTo>
                      <a:pt x="576" y="8"/>
                    </a:lnTo>
                    <a:lnTo>
                      <a:pt x="569" y="6"/>
                    </a:lnTo>
                    <a:lnTo>
                      <a:pt x="563" y="3"/>
                    </a:lnTo>
                    <a:lnTo>
                      <a:pt x="556" y="1"/>
                    </a:lnTo>
                    <a:lnTo>
                      <a:pt x="548" y="0"/>
                    </a:lnTo>
                    <a:lnTo>
                      <a:pt x="541" y="0"/>
                    </a:lnTo>
                    <a:lnTo>
                      <a:pt x="534" y="0"/>
                    </a:lnTo>
                    <a:lnTo>
                      <a:pt x="517" y="3"/>
                    </a:lnTo>
                    <a:lnTo>
                      <a:pt x="500" y="7"/>
                    </a:lnTo>
                    <a:lnTo>
                      <a:pt x="484" y="15"/>
                    </a:lnTo>
                    <a:lnTo>
                      <a:pt x="465" y="24"/>
                    </a:lnTo>
                    <a:lnTo>
                      <a:pt x="446" y="36"/>
                    </a:lnTo>
                    <a:lnTo>
                      <a:pt x="426" y="50"/>
                    </a:lnTo>
                    <a:lnTo>
                      <a:pt x="405" y="68"/>
                    </a:lnTo>
                    <a:lnTo>
                      <a:pt x="384" y="87"/>
                    </a:lnTo>
                    <a:lnTo>
                      <a:pt x="287" y="222"/>
                    </a:lnTo>
                    <a:lnTo>
                      <a:pt x="283" y="235"/>
                    </a:lnTo>
                    <a:lnTo>
                      <a:pt x="277" y="249"/>
                    </a:lnTo>
                    <a:lnTo>
                      <a:pt x="272" y="261"/>
                    </a:lnTo>
                    <a:lnTo>
                      <a:pt x="266" y="272"/>
                    </a:lnTo>
                    <a:lnTo>
                      <a:pt x="260" y="283"/>
                    </a:lnTo>
                    <a:lnTo>
                      <a:pt x="253" y="294"/>
                    </a:lnTo>
                    <a:lnTo>
                      <a:pt x="246" y="303"/>
                    </a:lnTo>
                    <a:lnTo>
                      <a:pt x="239" y="312"/>
                    </a:lnTo>
                    <a:lnTo>
                      <a:pt x="231" y="321"/>
                    </a:lnTo>
                    <a:lnTo>
                      <a:pt x="222" y="329"/>
                    </a:lnTo>
                    <a:lnTo>
                      <a:pt x="213" y="335"/>
                    </a:lnTo>
                    <a:lnTo>
                      <a:pt x="203" y="342"/>
                    </a:lnTo>
                    <a:lnTo>
                      <a:pt x="193" y="347"/>
                    </a:lnTo>
                    <a:lnTo>
                      <a:pt x="183" y="352"/>
                    </a:lnTo>
                    <a:lnTo>
                      <a:pt x="172" y="356"/>
                    </a:lnTo>
                    <a:lnTo>
                      <a:pt x="160" y="361"/>
                    </a:lnTo>
                    <a:lnTo>
                      <a:pt x="150" y="373"/>
                    </a:lnTo>
                    <a:lnTo>
                      <a:pt x="139" y="385"/>
                    </a:lnTo>
                    <a:lnTo>
                      <a:pt x="129" y="396"/>
                    </a:lnTo>
                    <a:lnTo>
                      <a:pt x="120" y="407"/>
                    </a:lnTo>
                    <a:lnTo>
                      <a:pt x="111" y="418"/>
                    </a:lnTo>
                    <a:lnTo>
                      <a:pt x="103" y="432"/>
                    </a:lnTo>
                    <a:lnTo>
                      <a:pt x="103" y="434"/>
                    </a:lnTo>
                    <a:lnTo>
                      <a:pt x="100" y="438"/>
                    </a:lnTo>
                    <a:lnTo>
                      <a:pt x="111" y="435"/>
                    </a:lnTo>
                    <a:lnTo>
                      <a:pt x="121" y="433"/>
                    </a:lnTo>
                    <a:lnTo>
                      <a:pt x="131" y="432"/>
                    </a:lnTo>
                    <a:lnTo>
                      <a:pt x="140" y="431"/>
                    </a:lnTo>
                    <a:lnTo>
                      <a:pt x="148" y="431"/>
                    </a:lnTo>
                    <a:lnTo>
                      <a:pt x="155" y="432"/>
                    </a:lnTo>
                    <a:lnTo>
                      <a:pt x="163" y="433"/>
                    </a:lnTo>
                    <a:lnTo>
                      <a:pt x="170" y="434"/>
                    </a:lnTo>
                    <a:lnTo>
                      <a:pt x="175" y="437"/>
                    </a:lnTo>
                    <a:lnTo>
                      <a:pt x="181" y="441"/>
                    </a:lnTo>
                    <a:lnTo>
                      <a:pt x="185" y="444"/>
                    </a:lnTo>
                    <a:lnTo>
                      <a:pt x="189" y="448"/>
                    </a:lnTo>
                    <a:lnTo>
                      <a:pt x="192" y="453"/>
                    </a:lnTo>
                    <a:lnTo>
                      <a:pt x="195" y="458"/>
                    </a:lnTo>
                    <a:lnTo>
                      <a:pt x="198" y="464"/>
                    </a:lnTo>
                    <a:lnTo>
                      <a:pt x="199" y="470"/>
                    </a:lnTo>
                    <a:lnTo>
                      <a:pt x="201" y="473"/>
                    </a:lnTo>
                    <a:lnTo>
                      <a:pt x="202" y="476"/>
                    </a:lnTo>
                    <a:lnTo>
                      <a:pt x="203" y="478"/>
                    </a:lnTo>
                    <a:lnTo>
                      <a:pt x="203" y="480"/>
                    </a:lnTo>
                    <a:lnTo>
                      <a:pt x="202" y="490"/>
                    </a:lnTo>
                    <a:lnTo>
                      <a:pt x="200" y="499"/>
                    </a:lnTo>
                    <a:lnTo>
                      <a:pt x="196" y="509"/>
                    </a:lnTo>
                    <a:lnTo>
                      <a:pt x="192" y="518"/>
                    </a:lnTo>
                    <a:lnTo>
                      <a:pt x="186" y="528"/>
                    </a:lnTo>
                    <a:lnTo>
                      <a:pt x="179" y="537"/>
                    </a:lnTo>
                    <a:lnTo>
                      <a:pt x="170" y="546"/>
                    </a:lnTo>
                    <a:lnTo>
                      <a:pt x="160" y="556"/>
                    </a:lnTo>
                    <a:lnTo>
                      <a:pt x="152" y="561"/>
                    </a:lnTo>
                    <a:lnTo>
                      <a:pt x="143" y="567"/>
                    </a:lnTo>
                    <a:lnTo>
                      <a:pt x="134" y="572"/>
                    </a:lnTo>
                    <a:lnTo>
                      <a:pt x="124" y="580"/>
                    </a:lnTo>
                    <a:lnTo>
                      <a:pt x="113" y="570"/>
                    </a:lnTo>
                    <a:lnTo>
                      <a:pt x="102" y="563"/>
                    </a:lnTo>
                    <a:lnTo>
                      <a:pt x="89" y="557"/>
                    </a:lnTo>
                    <a:lnTo>
                      <a:pt x="75" y="553"/>
                    </a:lnTo>
                    <a:lnTo>
                      <a:pt x="61" y="550"/>
                    </a:lnTo>
                    <a:lnTo>
                      <a:pt x="46" y="549"/>
                    </a:lnTo>
                    <a:lnTo>
                      <a:pt x="29" y="550"/>
                    </a:lnTo>
                    <a:lnTo>
                      <a:pt x="11" y="553"/>
                    </a:lnTo>
                    <a:lnTo>
                      <a:pt x="10" y="553"/>
                    </a:lnTo>
                    <a:lnTo>
                      <a:pt x="8" y="555"/>
                    </a:lnTo>
                    <a:lnTo>
                      <a:pt x="7" y="558"/>
                    </a:lnTo>
                    <a:lnTo>
                      <a:pt x="6" y="563"/>
                    </a:lnTo>
                    <a:lnTo>
                      <a:pt x="3" y="576"/>
                    </a:lnTo>
                    <a:lnTo>
                      <a:pt x="0" y="595"/>
                    </a:lnTo>
                    <a:lnTo>
                      <a:pt x="0" y="597"/>
                    </a:lnTo>
                    <a:lnTo>
                      <a:pt x="0" y="601"/>
                    </a:lnTo>
                    <a:lnTo>
                      <a:pt x="0" y="607"/>
                    </a:lnTo>
                    <a:lnTo>
                      <a:pt x="1" y="612"/>
                    </a:lnTo>
                    <a:lnTo>
                      <a:pt x="2" y="618"/>
                    </a:lnTo>
                    <a:lnTo>
                      <a:pt x="3" y="623"/>
                    </a:lnTo>
                    <a:lnTo>
                      <a:pt x="4" y="627"/>
                    </a:lnTo>
                    <a:lnTo>
                      <a:pt x="4" y="631"/>
                    </a:lnTo>
                    <a:lnTo>
                      <a:pt x="7" y="635"/>
                    </a:lnTo>
                    <a:lnTo>
                      <a:pt x="9" y="639"/>
                    </a:lnTo>
                    <a:lnTo>
                      <a:pt x="14" y="646"/>
                    </a:lnTo>
                    <a:lnTo>
                      <a:pt x="21" y="651"/>
                    </a:lnTo>
                    <a:lnTo>
                      <a:pt x="32" y="659"/>
                    </a:lnTo>
                    <a:lnTo>
                      <a:pt x="44" y="666"/>
                    </a:lnTo>
                    <a:lnTo>
                      <a:pt x="58" y="671"/>
                    </a:lnTo>
                    <a:lnTo>
                      <a:pt x="74" y="677"/>
                    </a:lnTo>
                    <a:lnTo>
                      <a:pt x="93" y="678"/>
                    </a:lnTo>
                    <a:lnTo>
                      <a:pt x="112" y="677"/>
                    </a:lnTo>
                    <a:lnTo>
                      <a:pt x="132" y="676"/>
                    </a:lnTo>
                    <a:lnTo>
                      <a:pt x="153" y="672"/>
                    </a:lnTo>
                    <a:lnTo>
                      <a:pt x="174" y="667"/>
                    </a:lnTo>
                    <a:lnTo>
                      <a:pt x="195" y="659"/>
                    </a:lnTo>
                    <a:lnTo>
                      <a:pt x="217" y="649"/>
                    </a:lnTo>
                    <a:lnTo>
                      <a:pt x="240" y="638"/>
                    </a:lnTo>
                    <a:lnTo>
                      <a:pt x="262" y="626"/>
                    </a:lnTo>
                    <a:lnTo>
                      <a:pt x="285" y="611"/>
                    </a:lnTo>
                    <a:lnTo>
                      <a:pt x="310" y="595"/>
                    </a:lnTo>
                    <a:lnTo>
                      <a:pt x="334" y="577"/>
                    </a:lnTo>
                    <a:lnTo>
                      <a:pt x="350" y="566"/>
                    </a:lnTo>
                    <a:lnTo>
                      <a:pt x="366" y="553"/>
                    </a:lnTo>
                    <a:lnTo>
                      <a:pt x="362" y="550"/>
                    </a:lnTo>
                    <a:lnTo>
                      <a:pt x="358" y="547"/>
                    </a:lnTo>
                    <a:lnTo>
                      <a:pt x="355" y="544"/>
                    </a:lnTo>
                    <a:lnTo>
                      <a:pt x="353" y="539"/>
                    </a:lnTo>
                    <a:lnTo>
                      <a:pt x="351" y="533"/>
                    </a:lnTo>
                    <a:lnTo>
                      <a:pt x="348" y="526"/>
                    </a:lnTo>
                    <a:lnTo>
                      <a:pt x="346" y="518"/>
                    </a:lnTo>
                    <a:lnTo>
                      <a:pt x="345" y="509"/>
                    </a:lnTo>
                    <a:lnTo>
                      <a:pt x="345" y="505"/>
                    </a:lnTo>
                    <a:lnTo>
                      <a:pt x="345" y="503"/>
                    </a:lnTo>
                    <a:lnTo>
                      <a:pt x="344" y="494"/>
                    </a:lnTo>
                    <a:lnTo>
                      <a:pt x="345" y="486"/>
                    </a:lnTo>
                    <a:lnTo>
                      <a:pt x="346" y="477"/>
                    </a:lnTo>
                    <a:lnTo>
                      <a:pt x="350" y="467"/>
                    </a:lnTo>
                    <a:lnTo>
                      <a:pt x="353" y="458"/>
                    </a:lnTo>
                    <a:lnTo>
                      <a:pt x="357" y="448"/>
                    </a:lnTo>
                    <a:lnTo>
                      <a:pt x="363" y="438"/>
                    </a:lnTo>
                    <a:lnTo>
                      <a:pt x="369" y="427"/>
                    </a:lnTo>
                    <a:lnTo>
                      <a:pt x="371" y="425"/>
                    </a:lnTo>
                    <a:lnTo>
                      <a:pt x="372" y="423"/>
                    </a:lnTo>
                    <a:lnTo>
                      <a:pt x="374" y="419"/>
                    </a:lnTo>
                    <a:lnTo>
                      <a:pt x="376" y="417"/>
                    </a:lnTo>
                    <a:lnTo>
                      <a:pt x="388" y="397"/>
                    </a:lnTo>
                    <a:lnTo>
                      <a:pt x="403" y="377"/>
                    </a:lnTo>
                    <a:lnTo>
                      <a:pt x="421" y="355"/>
                    </a:lnTo>
                    <a:lnTo>
                      <a:pt x="440" y="332"/>
                    </a:lnTo>
                    <a:lnTo>
                      <a:pt x="440" y="330"/>
                    </a:lnTo>
                    <a:lnTo>
                      <a:pt x="444" y="329"/>
                    </a:lnTo>
                    <a:lnTo>
                      <a:pt x="458" y="310"/>
                    </a:lnTo>
                    <a:lnTo>
                      <a:pt x="475" y="291"/>
                    </a:lnTo>
                    <a:lnTo>
                      <a:pt x="493" y="271"/>
                    </a:lnTo>
                    <a:lnTo>
                      <a:pt x="511" y="250"/>
                    </a:lnTo>
                    <a:lnTo>
                      <a:pt x="527" y="225"/>
                    </a:lnTo>
                    <a:lnTo>
                      <a:pt x="543" y="201"/>
                    </a:lnTo>
                    <a:lnTo>
                      <a:pt x="558" y="178"/>
                    </a:lnTo>
                    <a:lnTo>
                      <a:pt x="574" y="154"/>
                    </a:lnTo>
                    <a:lnTo>
                      <a:pt x="588" y="133"/>
                    </a:lnTo>
                    <a:lnTo>
                      <a:pt x="602" y="112"/>
                    </a:lnTo>
                    <a:lnTo>
                      <a:pt x="618" y="92"/>
                    </a:lnTo>
                    <a:lnTo>
                      <a:pt x="632" y="72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21"/>
              <p:cNvSpPr/>
              <p:nvPr/>
            </p:nvSpPr>
            <p:spPr>
              <a:xfrm>
                <a:off x="5549040" y="5205960"/>
                <a:ext cx="36360" cy="5760"/>
              </a:xfrm>
              <a:custGeom>
                <a:avLst/>
                <a:gdLst/>
                <a:ahLst/>
                <a:rect l="l" t="t" r="r" b="b"/>
                <a:pathLst>
                  <a:path w="352" h="68">
                    <a:moveTo>
                      <a:pt x="0" y="39"/>
                    </a:moveTo>
                    <a:lnTo>
                      <a:pt x="4" y="39"/>
                    </a:lnTo>
                    <a:lnTo>
                      <a:pt x="189" y="68"/>
                    </a:lnTo>
                    <a:lnTo>
                      <a:pt x="192" y="68"/>
                    </a:lnTo>
                    <a:lnTo>
                      <a:pt x="349" y="29"/>
                    </a:lnTo>
                    <a:lnTo>
                      <a:pt x="352" y="29"/>
                    </a:lnTo>
                    <a:lnTo>
                      <a:pt x="320" y="26"/>
                    </a:lnTo>
                    <a:lnTo>
                      <a:pt x="310" y="29"/>
                    </a:lnTo>
                    <a:lnTo>
                      <a:pt x="310" y="27"/>
                    </a:lnTo>
                    <a:lnTo>
                      <a:pt x="310" y="26"/>
                    </a:lnTo>
                    <a:lnTo>
                      <a:pt x="305" y="26"/>
                    </a:lnTo>
                    <a:lnTo>
                      <a:pt x="153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22"/>
              <p:cNvSpPr/>
              <p:nvPr/>
            </p:nvSpPr>
            <p:spPr>
              <a:xfrm>
                <a:off x="5612400" y="5163120"/>
                <a:ext cx="35280" cy="52560"/>
              </a:xfrm>
              <a:custGeom>
                <a:avLst/>
                <a:gdLst/>
                <a:ahLst/>
                <a:rect l="l" t="t" r="r" b="b"/>
                <a:pathLst>
                  <a:path w="341" h="639">
                    <a:moveTo>
                      <a:pt x="173" y="0"/>
                    </a:moveTo>
                    <a:lnTo>
                      <a:pt x="85" y="28"/>
                    </a:lnTo>
                    <a:lnTo>
                      <a:pt x="85" y="58"/>
                    </a:lnTo>
                    <a:lnTo>
                      <a:pt x="85" y="88"/>
                    </a:lnTo>
                    <a:lnTo>
                      <a:pt x="83" y="119"/>
                    </a:lnTo>
                    <a:lnTo>
                      <a:pt x="82" y="151"/>
                    </a:lnTo>
                    <a:lnTo>
                      <a:pt x="81" y="183"/>
                    </a:lnTo>
                    <a:lnTo>
                      <a:pt x="79" y="216"/>
                    </a:lnTo>
                    <a:lnTo>
                      <a:pt x="77" y="250"/>
                    </a:lnTo>
                    <a:lnTo>
                      <a:pt x="75" y="284"/>
                    </a:lnTo>
                    <a:lnTo>
                      <a:pt x="75" y="286"/>
                    </a:lnTo>
                    <a:lnTo>
                      <a:pt x="75" y="287"/>
                    </a:lnTo>
                    <a:lnTo>
                      <a:pt x="0" y="341"/>
                    </a:lnTo>
                    <a:lnTo>
                      <a:pt x="5" y="357"/>
                    </a:lnTo>
                    <a:lnTo>
                      <a:pt x="10" y="374"/>
                    </a:lnTo>
                    <a:lnTo>
                      <a:pt x="18" y="391"/>
                    </a:lnTo>
                    <a:lnTo>
                      <a:pt x="25" y="407"/>
                    </a:lnTo>
                    <a:lnTo>
                      <a:pt x="34" y="424"/>
                    </a:lnTo>
                    <a:lnTo>
                      <a:pt x="43" y="440"/>
                    </a:lnTo>
                    <a:lnTo>
                      <a:pt x="53" y="457"/>
                    </a:lnTo>
                    <a:lnTo>
                      <a:pt x="65" y="473"/>
                    </a:lnTo>
                    <a:lnTo>
                      <a:pt x="77" y="489"/>
                    </a:lnTo>
                    <a:lnTo>
                      <a:pt x="90" y="506"/>
                    </a:lnTo>
                    <a:lnTo>
                      <a:pt x="105" y="521"/>
                    </a:lnTo>
                    <a:lnTo>
                      <a:pt x="120" y="537"/>
                    </a:lnTo>
                    <a:lnTo>
                      <a:pt x="137" y="554"/>
                    </a:lnTo>
                    <a:lnTo>
                      <a:pt x="153" y="569"/>
                    </a:lnTo>
                    <a:lnTo>
                      <a:pt x="172" y="585"/>
                    </a:lnTo>
                    <a:lnTo>
                      <a:pt x="191" y="600"/>
                    </a:lnTo>
                    <a:lnTo>
                      <a:pt x="320" y="615"/>
                    </a:lnTo>
                    <a:lnTo>
                      <a:pt x="323" y="639"/>
                    </a:lnTo>
                    <a:lnTo>
                      <a:pt x="341" y="632"/>
                    </a:lnTo>
                    <a:lnTo>
                      <a:pt x="323" y="586"/>
                    </a:lnTo>
                    <a:lnTo>
                      <a:pt x="238" y="455"/>
                    </a:lnTo>
                    <a:lnTo>
                      <a:pt x="235" y="452"/>
                    </a:lnTo>
                    <a:lnTo>
                      <a:pt x="233" y="449"/>
                    </a:lnTo>
                    <a:lnTo>
                      <a:pt x="231" y="446"/>
                    </a:lnTo>
                    <a:lnTo>
                      <a:pt x="231" y="444"/>
                    </a:lnTo>
                    <a:lnTo>
                      <a:pt x="205" y="404"/>
                    </a:lnTo>
                    <a:lnTo>
                      <a:pt x="183" y="366"/>
                    </a:lnTo>
                    <a:lnTo>
                      <a:pt x="163" y="330"/>
                    </a:lnTo>
                    <a:lnTo>
                      <a:pt x="147" y="294"/>
                    </a:lnTo>
                    <a:lnTo>
                      <a:pt x="133" y="262"/>
                    </a:lnTo>
                    <a:lnTo>
                      <a:pt x="123" y="230"/>
                    </a:lnTo>
                    <a:lnTo>
                      <a:pt x="119" y="214"/>
                    </a:lnTo>
                    <a:lnTo>
                      <a:pt x="116" y="200"/>
                    </a:lnTo>
                    <a:lnTo>
                      <a:pt x="112" y="185"/>
                    </a:lnTo>
                    <a:lnTo>
                      <a:pt x="110" y="171"/>
                    </a:lnTo>
                    <a:lnTo>
                      <a:pt x="109" y="158"/>
                    </a:lnTo>
                    <a:lnTo>
                      <a:pt x="108" y="144"/>
                    </a:lnTo>
                    <a:lnTo>
                      <a:pt x="108" y="132"/>
                    </a:lnTo>
                    <a:lnTo>
                      <a:pt x="109" y="119"/>
                    </a:lnTo>
                    <a:lnTo>
                      <a:pt x="110" y="107"/>
                    </a:lnTo>
                    <a:lnTo>
                      <a:pt x="112" y="96"/>
                    </a:lnTo>
                    <a:lnTo>
                      <a:pt x="116" y="85"/>
                    </a:lnTo>
                    <a:lnTo>
                      <a:pt x="119" y="73"/>
                    </a:lnTo>
                    <a:lnTo>
                      <a:pt x="123" y="63"/>
                    </a:lnTo>
                    <a:lnTo>
                      <a:pt x="129" y="52"/>
                    </a:lnTo>
                    <a:lnTo>
                      <a:pt x="134" y="43"/>
                    </a:lnTo>
                    <a:lnTo>
                      <a:pt x="141" y="34"/>
                    </a:lnTo>
                    <a:lnTo>
                      <a:pt x="148" y="25"/>
                    </a:lnTo>
                    <a:lnTo>
                      <a:pt x="156" y="16"/>
                    </a:lnTo>
                    <a:lnTo>
                      <a:pt x="164" y="8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323"/>
              <p:cNvSpPr/>
              <p:nvPr/>
            </p:nvSpPr>
            <p:spPr>
              <a:xfrm>
                <a:off x="5568840" y="520848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160" h="116">
                    <a:moveTo>
                      <a:pt x="36" y="42"/>
                    </a:moveTo>
                    <a:lnTo>
                      <a:pt x="32" y="42"/>
                    </a:lnTo>
                    <a:lnTo>
                      <a:pt x="160" y="14"/>
                    </a:lnTo>
                    <a:lnTo>
                      <a:pt x="157" y="0"/>
                    </a:lnTo>
                    <a:lnTo>
                      <a:pt x="0" y="39"/>
                    </a:lnTo>
                    <a:lnTo>
                      <a:pt x="0" y="116"/>
                    </a:lnTo>
                    <a:lnTo>
                      <a:pt x="15" y="113"/>
                    </a:lnTo>
                    <a:lnTo>
                      <a:pt x="36" y="113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24"/>
              <p:cNvSpPr/>
              <p:nvPr/>
            </p:nvSpPr>
            <p:spPr>
              <a:xfrm>
                <a:off x="5573160" y="5208480"/>
                <a:ext cx="26640" cy="4680"/>
              </a:xfrm>
              <a:custGeom>
                <a:avLst/>
                <a:gdLst/>
                <a:ahLst/>
                <a:rect l="l" t="t" r="r" b="b"/>
                <a:pathLst>
                  <a:path w="263" h="53">
                    <a:moveTo>
                      <a:pt x="0" y="39"/>
                    </a:moveTo>
                    <a:lnTo>
                      <a:pt x="4" y="39"/>
                    </a:lnTo>
                    <a:lnTo>
                      <a:pt x="121" y="53"/>
                    </a:lnTo>
                    <a:lnTo>
                      <a:pt x="263" y="11"/>
                    </a:lnTo>
                    <a:lnTo>
                      <a:pt x="170" y="0"/>
                    </a:lnTo>
                    <a:lnTo>
                      <a:pt x="128" y="1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25"/>
              <p:cNvSpPr/>
              <p:nvPr/>
            </p:nvSpPr>
            <p:spPr>
              <a:xfrm>
                <a:off x="5585760" y="520920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142" h="125">
                    <a:moveTo>
                      <a:pt x="142" y="21"/>
                    </a:moveTo>
                    <a:lnTo>
                      <a:pt x="142" y="0"/>
                    </a:lnTo>
                    <a:lnTo>
                      <a:pt x="0" y="42"/>
                    </a:lnTo>
                    <a:lnTo>
                      <a:pt x="0" y="117"/>
                    </a:lnTo>
                    <a:lnTo>
                      <a:pt x="42" y="125"/>
                    </a:lnTo>
                    <a:lnTo>
                      <a:pt x="42" y="49"/>
                    </a:lnTo>
                    <a:lnTo>
                      <a:pt x="39" y="49"/>
                    </a:lnTo>
                    <a:lnTo>
                      <a:pt x="142" y="21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26"/>
              <p:cNvSpPr/>
              <p:nvPr/>
            </p:nvSpPr>
            <p:spPr>
              <a:xfrm>
                <a:off x="5589720" y="5210280"/>
                <a:ext cx="30960" cy="5760"/>
              </a:xfrm>
              <a:custGeom>
                <a:avLst/>
                <a:gdLst/>
                <a:ahLst/>
                <a:rect l="l" t="t" r="r" b="b"/>
                <a:pathLst>
                  <a:path w="309" h="64">
                    <a:moveTo>
                      <a:pt x="152" y="0"/>
                    </a:moveTo>
                    <a:lnTo>
                      <a:pt x="103" y="14"/>
                    </a:lnTo>
                    <a:lnTo>
                      <a:pt x="0" y="42"/>
                    </a:lnTo>
                    <a:lnTo>
                      <a:pt x="3" y="42"/>
                    </a:lnTo>
                    <a:lnTo>
                      <a:pt x="167" y="64"/>
                    </a:lnTo>
                    <a:lnTo>
                      <a:pt x="171" y="64"/>
                    </a:lnTo>
                    <a:lnTo>
                      <a:pt x="309" y="18"/>
                    </a:lnTo>
                    <a:lnTo>
                      <a:pt x="231" y="11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327"/>
              <p:cNvSpPr/>
              <p:nvPr/>
            </p:nvSpPr>
            <p:spPr>
              <a:xfrm>
                <a:off x="5603400" y="5191200"/>
                <a:ext cx="28800" cy="22320"/>
              </a:xfrm>
              <a:custGeom>
                <a:avLst/>
                <a:gdLst/>
                <a:ahLst/>
                <a:rect l="l" t="t" r="r" b="b"/>
                <a:pathLst>
                  <a:path w="276" h="269">
                    <a:moveTo>
                      <a:pt x="276" y="259"/>
                    </a:moveTo>
                    <a:lnTo>
                      <a:pt x="257" y="244"/>
                    </a:lnTo>
                    <a:lnTo>
                      <a:pt x="238" y="228"/>
                    </a:lnTo>
                    <a:lnTo>
                      <a:pt x="222" y="213"/>
                    </a:lnTo>
                    <a:lnTo>
                      <a:pt x="205" y="196"/>
                    </a:lnTo>
                    <a:lnTo>
                      <a:pt x="190" y="180"/>
                    </a:lnTo>
                    <a:lnTo>
                      <a:pt x="175" y="165"/>
                    </a:lnTo>
                    <a:lnTo>
                      <a:pt x="162" y="148"/>
                    </a:lnTo>
                    <a:lnTo>
                      <a:pt x="150" y="132"/>
                    </a:lnTo>
                    <a:lnTo>
                      <a:pt x="138" y="116"/>
                    </a:lnTo>
                    <a:lnTo>
                      <a:pt x="128" y="99"/>
                    </a:lnTo>
                    <a:lnTo>
                      <a:pt x="119" y="83"/>
                    </a:lnTo>
                    <a:lnTo>
                      <a:pt x="110" y="66"/>
                    </a:lnTo>
                    <a:lnTo>
                      <a:pt x="103" y="50"/>
                    </a:lnTo>
                    <a:lnTo>
                      <a:pt x="95" y="33"/>
                    </a:lnTo>
                    <a:lnTo>
                      <a:pt x="90" y="16"/>
                    </a:lnTo>
                    <a:lnTo>
                      <a:pt x="85" y="0"/>
                    </a:lnTo>
                    <a:lnTo>
                      <a:pt x="0" y="61"/>
                    </a:lnTo>
                    <a:lnTo>
                      <a:pt x="1" y="76"/>
                    </a:lnTo>
                    <a:lnTo>
                      <a:pt x="3" y="91"/>
                    </a:lnTo>
                    <a:lnTo>
                      <a:pt x="6" y="105"/>
                    </a:lnTo>
                    <a:lnTo>
                      <a:pt x="10" y="118"/>
                    </a:lnTo>
                    <a:lnTo>
                      <a:pt x="13" y="132"/>
                    </a:lnTo>
                    <a:lnTo>
                      <a:pt x="18" y="145"/>
                    </a:lnTo>
                    <a:lnTo>
                      <a:pt x="23" y="156"/>
                    </a:lnTo>
                    <a:lnTo>
                      <a:pt x="29" y="167"/>
                    </a:lnTo>
                    <a:lnTo>
                      <a:pt x="34" y="178"/>
                    </a:lnTo>
                    <a:lnTo>
                      <a:pt x="41" y="188"/>
                    </a:lnTo>
                    <a:lnTo>
                      <a:pt x="49" y="198"/>
                    </a:lnTo>
                    <a:lnTo>
                      <a:pt x="56" y="207"/>
                    </a:lnTo>
                    <a:lnTo>
                      <a:pt x="64" y="216"/>
                    </a:lnTo>
                    <a:lnTo>
                      <a:pt x="73" y="224"/>
                    </a:lnTo>
                    <a:lnTo>
                      <a:pt x="82" y="230"/>
                    </a:lnTo>
                    <a:lnTo>
                      <a:pt x="92" y="238"/>
                    </a:lnTo>
                    <a:lnTo>
                      <a:pt x="170" y="245"/>
                    </a:lnTo>
                    <a:lnTo>
                      <a:pt x="170" y="269"/>
                    </a:lnTo>
                    <a:lnTo>
                      <a:pt x="227" y="251"/>
                    </a:lnTo>
                    <a:lnTo>
                      <a:pt x="276" y="259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328"/>
              <p:cNvSpPr/>
              <p:nvPr/>
            </p:nvSpPr>
            <p:spPr>
              <a:xfrm>
                <a:off x="5612400" y="5212800"/>
                <a:ext cx="33120" cy="5760"/>
              </a:xfrm>
              <a:custGeom>
                <a:avLst/>
                <a:gdLst/>
                <a:ahLst/>
                <a:rect l="l" t="t" r="r" b="b"/>
                <a:pathLst>
                  <a:path w="320" h="71">
                    <a:moveTo>
                      <a:pt x="191" y="8"/>
                    </a:moveTo>
                    <a:lnTo>
                      <a:pt x="142" y="0"/>
                    </a:lnTo>
                    <a:lnTo>
                      <a:pt x="85" y="18"/>
                    </a:lnTo>
                    <a:lnTo>
                      <a:pt x="0" y="47"/>
                    </a:lnTo>
                    <a:lnTo>
                      <a:pt x="184" y="71"/>
                    </a:lnTo>
                    <a:lnTo>
                      <a:pt x="320" y="23"/>
                    </a:lnTo>
                    <a:lnTo>
                      <a:pt x="191" y="8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329"/>
              <p:cNvSpPr/>
              <p:nvPr/>
            </p:nvSpPr>
            <p:spPr>
              <a:xfrm>
                <a:off x="5607360" y="5212080"/>
                <a:ext cx="13320" cy="10440"/>
              </a:xfrm>
              <a:custGeom>
                <a:avLst/>
                <a:gdLst/>
                <a:ahLst/>
                <a:rect l="l" t="t" r="r" b="b"/>
                <a:pathLst>
                  <a:path w="138" h="127">
                    <a:moveTo>
                      <a:pt x="138" y="24"/>
                    </a:moveTo>
                    <a:lnTo>
                      <a:pt x="138" y="0"/>
                    </a:lnTo>
                    <a:lnTo>
                      <a:pt x="0" y="46"/>
                    </a:lnTo>
                    <a:lnTo>
                      <a:pt x="0" y="121"/>
                    </a:lnTo>
                    <a:lnTo>
                      <a:pt x="49" y="127"/>
                    </a:lnTo>
                    <a:lnTo>
                      <a:pt x="53" y="53"/>
                    </a:lnTo>
                    <a:lnTo>
                      <a:pt x="138" y="24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330"/>
              <p:cNvSpPr/>
              <p:nvPr/>
            </p:nvSpPr>
            <p:spPr>
              <a:xfrm>
                <a:off x="5620680" y="522612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85" h="288">
                    <a:moveTo>
                      <a:pt x="39" y="82"/>
                    </a:moveTo>
                    <a:lnTo>
                      <a:pt x="43" y="82"/>
                    </a:lnTo>
                    <a:lnTo>
                      <a:pt x="185" y="29"/>
                    </a:lnTo>
                    <a:lnTo>
                      <a:pt x="185" y="0"/>
                    </a:lnTo>
                    <a:lnTo>
                      <a:pt x="0" y="75"/>
                    </a:lnTo>
                    <a:lnTo>
                      <a:pt x="0" y="288"/>
                    </a:lnTo>
                    <a:lnTo>
                      <a:pt x="39" y="274"/>
                    </a:lnTo>
                    <a:lnTo>
                      <a:pt x="39" y="82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331"/>
              <p:cNvSpPr/>
              <p:nvPr/>
            </p:nvSpPr>
            <p:spPr>
              <a:xfrm>
                <a:off x="5599080" y="5223240"/>
                <a:ext cx="41400" cy="8280"/>
              </a:xfrm>
              <a:custGeom>
                <a:avLst/>
                <a:gdLst/>
                <a:ahLst/>
                <a:rect l="l" t="t" r="r" b="b"/>
                <a:pathLst>
                  <a:path w="398" h="103">
                    <a:moveTo>
                      <a:pt x="398" y="28"/>
                    </a:moveTo>
                    <a:lnTo>
                      <a:pt x="362" y="21"/>
                    </a:lnTo>
                    <a:lnTo>
                      <a:pt x="312" y="15"/>
                    </a:lnTo>
                    <a:lnTo>
                      <a:pt x="206" y="0"/>
                    </a:lnTo>
                    <a:lnTo>
                      <a:pt x="156" y="18"/>
                    </a:lnTo>
                    <a:lnTo>
                      <a:pt x="0" y="75"/>
                    </a:lnTo>
                    <a:lnTo>
                      <a:pt x="213" y="103"/>
                    </a:lnTo>
                    <a:lnTo>
                      <a:pt x="398" y="28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332"/>
              <p:cNvSpPr/>
              <p:nvPr/>
            </p:nvSpPr>
            <p:spPr>
              <a:xfrm>
                <a:off x="5631480" y="5214240"/>
                <a:ext cx="14040" cy="10440"/>
              </a:xfrm>
              <a:custGeom>
                <a:avLst/>
                <a:gdLst/>
                <a:ahLst/>
                <a:rect l="l" t="t" r="r" b="b"/>
                <a:pathLst>
                  <a:path w="139" h="130">
                    <a:moveTo>
                      <a:pt x="0" y="48"/>
                    </a:moveTo>
                    <a:lnTo>
                      <a:pt x="0" y="124"/>
                    </a:lnTo>
                    <a:lnTo>
                      <a:pt x="50" y="130"/>
                    </a:lnTo>
                    <a:lnTo>
                      <a:pt x="50" y="56"/>
                    </a:lnTo>
                    <a:lnTo>
                      <a:pt x="139" y="24"/>
                    </a:lnTo>
                    <a:lnTo>
                      <a:pt x="136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333"/>
              <p:cNvSpPr/>
              <p:nvPr/>
            </p:nvSpPr>
            <p:spPr>
              <a:xfrm>
                <a:off x="5626080" y="5226120"/>
                <a:ext cx="46440" cy="9000"/>
              </a:xfrm>
              <a:custGeom>
                <a:avLst/>
                <a:gdLst/>
                <a:ahLst/>
                <a:rect l="l" t="t" r="r" b="b"/>
                <a:pathLst>
                  <a:path w="450" h="110">
                    <a:moveTo>
                      <a:pt x="142" y="21"/>
                    </a:moveTo>
                    <a:lnTo>
                      <a:pt x="0" y="74"/>
                    </a:lnTo>
                    <a:lnTo>
                      <a:pt x="241" y="110"/>
                    </a:lnTo>
                    <a:lnTo>
                      <a:pt x="248" y="110"/>
                    </a:lnTo>
                    <a:lnTo>
                      <a:pt x="450" y="35"/>
                    </a:lnTo>
                    <a:lnTo>
                      <a:pt x="198" y="0"/>
                    </a:lnTo>
                    <a:lnTo>
                      <a:pt x="142" y="21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334"/>
              <p:cNvSpPr/>
              <p:nvPr/>
            </p:nvSpPr>
            <p:spPr>
              <a:xfrm>
                <a:off x="5573160" y="5221080"/>
                <a:ext cx="41400" cy="7200"/>
              </a:xfrm>
              <a:custGeom>
                <a:avLst/>
                <a:gdLst/>
                <a:ahLst/>
                <a:rect l="l" t="t" r="r" b="b"/>
                <a:pathLst>
                  <a:path w="405" h="100">
                    <a:moveTo>
                      <a:pt x="405" y="29"/>
                    </a:moveTo>
                    <a:lnTo>
                      <a:pt x="405" y="25"/>
                    </a:lnTo>
                    <a:lnTo>
                      <a:pt x="376" y="21"/>
                    </a:lnTo>
                    <a:lnTo>
                      <a:pt x="327" y="15"/>
                    </a:lnTo>
                    <a:lnTo>
                      <a:pt x="216" y="0"/>
                    </a:lnTo>
                    <a:lnTo>
                      <a:pt x="159" y="18"/>
                    </a:lnTo>
                    <a:lnTo>
                      <a:pt x="0" y="68"/>
                    </a:lnTo>
                    <a:lnTo>
                      <a:pt x="206" y="100"/>
                    </a:lnTo>
                    <a:lnTo>
                      <a:pt x="209" y="100"/>
                    </a:lnTo>
                    <a:lnTo>
                      <a:pt x="405" y="29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1335"/>
              <p:cNvSpPr/>
              <p:nvPr/>
            </p:nvSpPr>
            <p:spPr>
              <a:xfrm>
                <a:off x="5599080" y="522936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217" h="241">
                    <a:moveTo>
                      <a:pt x="217" y="28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174"/>
                    </a:lnTo>
                    <a:lnTo>
                      <a:pt x="0" y="206"/>
                    </a:lnTo>
                    <a:lnTo>
                      <a:pt x="217" y="241"/>
                    </a:lnTo>
                    <a:lnTo>
                      <a:pt x="217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1336"/>
              <p:cNvSpPr/>
              <p:nvPr/>
            </p:nvSpPr>
            <p:spPr>
              <a:xfrm>
                <a:off x="5594760" y="5222520"/>
                <a:ext cx="20520" cy="23040"/>
              </a:xfrm>
              <a:custGeom>
                <a:avLst/>
                <a:gdLst/>
                <a:ahLst/>
                <a:rect l="l" t="t" r="r" b="b"/>
                <a:pathLst>
                  <a:path w="202" h="273">
                    <a:moveTo>
                      <a:pt x="202" y="21"/>
                    </a:moveTo>
                    <a:lnTo>
                      <a:pt x="199" y="0"/>
                    </a:lnTo>
                    <a:lnTo>
                      <a:pt x="3" y="71"/>
                    </a:lnTo>
                    <a:lnTo>
                      <a:pt x="0" y="71"/>
                    </a:lnTo>
                    <a:lnTo>
                      <a:pt x="0" y="273"/>
                    </a:lnTo>
                    <a:lnTo>
                      <a:pt x="42" y="252"/>
                    </a:lnTo>
                    <a:lnTo>
                      <a:pt x="42" y="78"/>
                    </a:lnTo>
                    <a:lnTo>
                      <a:pt x="42" y="74"/>
                    </a:lnTo>
                    <a:lnTo>
                      <a:pt x="46" y="78"/>
                    </a:lnTo>
                    <a:lnTo>
                      <a:pt x="202" y="21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337"/>
              <p:cNvSpPr/>
              <p:nvPr/>
            </p:nvSpPr>
            <p:spPr>
              <a:xfrm>
                <a:off x="5567760" y="5220360"/>
                <a:ext cx="21600" cy="22320"/>
              </a:xfrm>
              <a:custGeom>
                <a:avLst/>
                <a:gdLst/>
                <a:ahLst/>
                <a:rect l="l" t="t" r="r" b="b"/>
                <a:pathLst>
                  <a:path w="213" h="272">
                    <a:moveTo>
                      <a:pt x="213" y="24"/>
                    </a:moveTo>
                    <a:lnTo>
                      <a:pt x="213" y="0"/>
                    </a:lnTo>
                    <a:lnTo>
                      <a:pt x="0" y="66"/>
                    </a:lnTo>
                    <a:lnTo>
                      <a:pt x="0" y="272"/>
                    </a:lnTo>
                    <a:lnTo>
                      <a:pt x="43" y="255"/>
                    </a:lnTo>
                    <a:lnTo>
                      <a:pt x="47" y="77"/>
                    </a:lnTo>
                    <a:lnTo>
                      <a:pt x="47" y="74"/>
                    </a:lnTo>
                    <a:lnTo>
                      <a:pt x="54" y="74"/>
                    </a:lnTo>
                    <a:lnTo>
                      <a:pt x="213" y="24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338"/>
              <p:cNvSpPr/>
              <p:nvPr/>
            </p:nvSpPr>
            <p:spPr>
              <a:xfrm>
                <a:off x="5546880" y="5217840"/>
                <a:ext cx="42480" cy="7920"/>
              </a:xfrm>
              <a:custGeom>
                <a:avLst/>
                <a:gdLst/>
                <a:ahLst/>
                <a:rect l="l" t="t" r="r" b="b"/>
                <a:pathLst>
                  <a:path w="411" h="92">
                    <a:moveTo>
                      <a:pt x="411" y="26"/>
                    </a:moveTo>
                    <a:lnTo>
                      <a:pt x="369" y="18"/>
                    </a:lnTo>
                    <a:lnTo>
                      <a:pt x="252" y="0"/>
                    </a:lnTo>
                    <a:lnTo>
                      <a:pt x="231" y="0"/>
                    </a:lnTo>
                    <a:lnTo>
                      <a:pt x="216" y="3"/>
                    </a:lnTo>
                    <a:lnTo>
                      <a:pt x="195" y="11"/>
                    </a:lnTo>
                    <a:lnTo>
                      <a:pt x="0" y="64"/>
                    </a:lnTo>
                    <a:lnTo>
                      <a:pt x="198" y="92"/>
                    </a:lnTo>
                    <a:lnTo>
                      <a:pt x="411" y="26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339"/>
              <p:cNvSpPr/>
              <p:nvPr/>
            </p:nvSpPr>
            <p:spPr>
              <a:xfrm>
                <a:off x="5525280" y="5216040"/>
                <a:ext cx="41400" cy="6480"/>
              </a:xfrm>
              <a:custGeom>
                <a:avLst/>
                <a:gdLst/>
                <a:ahLst/>
                <a:rect l="l" t="t" r="r" b="b"/>
                <a:pathLst>
                  <a:path w="401" h="85">
                    <a:moveTo>
                      <a:pt x="259" y="0"/>
                    </a:moveTo>
                    <a:lnTo>
                      <a:pt x="238" y="3"/>
                    </a:lnTo>
                    <a:lnTo>
                      <a:pt x="224" y="6"/>
                    </a:lnTo>
                    <a:lnTo>
                      <a:pt x="0" y="59"/>
                    </a:lnTo>
                    <a:lnTo>
                      <a:pt x="170" y="85"/>
                    </a:lnTo>
                    <a:lnTo>
                      <a:pt x="401" y="17"/>
                    </a:lnTo>
                    <a:lnTo>
                      <a:pt x="259" y="0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340"/>
              <p:cNvSpPr/>
              <p:nvPr/>
            </p:nvSpPr>
            <p:spPr>
              <a:xfrm>
                <a:off x="5542920" y="521784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231" h="266">
                    <a:moveTo>
                      <a:pt x="231" y="18"/>
                    </a:moveTo>
                    <a:lnTo>
                      <a:pt x="231" y="0"/>
                    </a:lnTo>
                    <a:lnTo>
                      <a:pt x="0" y="68"/>
                    </a:lnTo>
                    <a:lnTo>
                      <a:pt x="0" y="266"/>
                    </a:lnTo>
                    <a:lnTo>
                      <a:pt x="36" y="259"/>
                    </a:lnTo>
                    <a:lnTo>
                      <a:pt x="36" y="71"/>
                    </a:lnTo>
                    <a:lnTo>
                      <a:pt x="231" y="18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341"/>
              <p:cNvSpPr/>
              <p:nvPr/>
            </p:nvSpPr>
            <p:spPr>
              <a:xfrm>
                <a:off x="5502240" y="5213520"/>
                <a:ext cx="45720" cy="7200"/>
              </a:xfrm>
              <a:custGeom>
                <a:avLst/>
                <a:gdLst/>
                <a:ahLst/>
                <a:rect l="l" t="t" r="r" b="b"/>
                <a:pathLst>
                  <a:path w="441" h="85">
                    <a:moveTo>
                      <a:pt x="441" y="25"/>
                    </a:moveTo>
                    <a:lnTo>
                      <a:pt x="441" y="21"/>
                    </a:lnTo>
                    <a:lnTo>
                      <a:pt x="260" y="0"/>
                    </a:lnTo>
                    <a:lnTo>
                      <a:pt x="0" y="61"/>
                    </a:lnTo>
                    <a:lnTo>
                      <a:pt x="184" y="85"/>
                    </a:lnTo>
                    <a:lnTo>
                      <a:pt x="441" y="25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342"/>
              <p:cNvSpPr/>
              <p:nvPr/>
            </p:nvSpPr>
            <p:spPr>
              <a:xfrm>
                <a:off x="5522040" y="5216040"/>
                <a:ext cx="25920" cy="20520"/>
              </a:xfrm>
              <a:custGeom>
                <a:avLst/>
                <a:gdLst/>
                <a:ahLst/>
                <a:rect l="l" t="t" r="r" b="b"/>
                <a:pathLst>
                  <a:path w="257" h="252">
                    <a:moveTo>
                      <a:pt x="257" y="10"/>
                    </a:moveTo>
                    <a:lnTo>
                      <a:pt x="257" y="0"/>
                    </a:lnTo>
                    <a:lnTo>
                      <a:pt x="0" y="60"/>
                    </a:lnTo>
                    <a:lnTo>
                      <a:pt x="0" y="252"/>
                    </a:lnTo>
                    <a:lnTo>
                      <a:pt x="29" y="241"/>
                    </a:lnTo>
                    <a:lnTo>
                      <a:pt x="33" y="63"/>
                    </a:lnTo>
                    <a:lnTo>
                      <a:pt x="257" y="10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343"/>
              <p:cNvSpPr/>
              <p:nvPr/>
            </p:nvSpPr>
            <p:spPr>
              <a:xfrm>
                <a:off x="5398200" y="5240160"/>
                <a:ext cx="528480" cy="103320"/>
              </a:xfrm>
              <a:custGeom>
                <a:avLst/>
                <a:gdLst/>
                <a:ahLst/>
                <a:rect l="l" t="t" r="r" b="b"/>
                <a:pathLst>
                  <a:path w="5082" h="1249">
                    <a:moveTo>
                      <a:pt x="1254" y="426"/>
                    </a:moveTo>
                    <a:lnTo>
                      <a:pt x="1254" y="437"/>
                    </a:lnTo>
                    <a:lnTo>
                      <a:pt x="1251" y="543"/>
                    </a:lnTo>
                    <a:lnTo>
                      <a:pt x="3882" y="1040"/>
                    </a:lnTo>
                    <a:lnTo>
                      <a:pt x="3891" y="1013"/>
                    </a:lnTo>
                    <a:lnTo>
                      <a:pt x="3901" y="991"/>
                    </a:lnTo>
                    <a:lnTo>
                      <a:pt x="3910" y="972"/>
                    </a:lnTo>
                    <a:lnTo>
                      <a:pt x="3919" y="958"/>
                    </a:lnTo>
                    <a:lnTo>
                      <a:pt x="3924" y="951"/>
                    </a:lnTo>
                    <a:lnTo>
                      <a:pt x="3929" y="946"/>
                    </a:lnTo>
                    <a:lnTo>
                      <a:pt x="3933" y="941"/>
                    </a:lnTo>
                    <a:lnTo>
                      <a:pt x="3938" y="938"/>
                    </a:lnTo>
                    <a:lnTo>
                      <a:pt x="3942" y="936"/>
                    </a:lnTo>
                    <a:lnTo>
                      <a:pt x="3948" y="933"/>
                    </a:lnTo>
                    <a:lnTo>
                      <a:pt x="3952" y="933"/>
                    </a:lnTo>
                    <a:lnTo>
                      <a:pt x="3956" y="933"/>
                    </a:lnTo>
                    <a:lnTo>
                      <a:pt x="3962" y="936"/>
                    </a:lnTo>
                    <a:lnTo>
                      <a:pt x="3966" y="939"/>
                    </a:lnTo>
                    <a:lnTo>
                      <a:pt x="3972" y="943"/>
                    </a:lnTo>
                    <a:lnTo>
                      <a:pt x="3978" y="950"/>
                    </a:lnTo>
                    <a:lnTo>
                      <a:pt x="3982" y="959"/>
                    </a:lnTo>
                    <a:lnTo>
                      <a:pt x="3986" y="968"/>
                    </a:lnTo>
                    <a:lnTo>
                      <a:pt x="3991" y="980"/>
                    </a:lnTo>
                    <a:lnTo>
                      <a:pt x="3995" y="993"/>
                    </a:lnTo>
                    <a:lnTo>
                      <a:pt x="3998" y="997"/>
                    </a:lnTo>
                    <a:lnTo>
                      <a:pt x="3999" y="999"/>
                    </a:lnTo>
                    <a:lnTo>
                      <a:pt x="3999" y="1002"/>
                    </a:lnTo>
                    <a:lnTo>
                      <a:pt x="3999" y="1004"/>
                    </a:lnTo>
                    <a:lnTo>
                      <a:pt x="4000" y="1004"/>
                    </a:lnTo>
                    <a:lnTo>
                      <a:pt x="4003" y="1008"/>
                    </a:lnTo>
                    <a:lnTo>
                      <a:pt x="4003" y="1009"/>
                    </a:lnTo>
                    <a:lnTo>
                      <a:pt x="4003" y="1011"/>
                    </a:lnTo>
                    <a:lnTo>
                      <a:pt x="4005" y="1022"/>
                    </a:lnTo>
                    <a:lnTo>
                      <a:pt x="4008" y="1033"/>
                    </a:lnTo>
                    <a:lnTo>
                      <a:pt x="4011" y="1043"/>
                    </a:lnTo>
                    <a:lnTo>
                      <a:pt x="4013" y="1054"/>
                    </a:lnTo>
                    <a:lnTo>
                      <a:pt x="4013" y="1059"/>
                    </a:lnTo>
                    <a:lnTo>
                      <a:pt x="4013" y="1061"/>
                    </a:lnTo>
                    <a:lnTo>
                      <a:pt x="5071" y="1249"/>
                    </a:lnTo>
                    <a:lnTo>
                      <a:pt x="5078" y="1249"/>
                    </a:lnTo>
                    <a:lnTo>
                      <a:pt x="5082" y="1249"/>
                    </a:lnTo>
                    <a:lnTo>
                      <a:pt x="5075" y="884"/>
                    </a:lnTo>
                    <a:lnTo>
                      <a:pt x="5050" y="884"/>
                    </a:lnTo>
                    <a:lnTo>
                      <a:pt x="1293" y="224"/>
                    </a:lnTo>
                    <a:lnTo>
                      <a:pt x="1290" y="224"/>
                    </a:lnTo>
                    <a:lnTo>
                      <a:pt x="562" y="100"/>
                    </a:lnTo>
                    <a:lnTo>
                      <a:pt x="558" y="96"/>
                    </a:lnTo>
                    <a:lnTo>
                      <a:pt x="0" y="0"/>
                    </a:lnTo>
                    <a:lnTo>
                      <a:pt x="0" y="242"/>
                    </a:lnTo>
                    <a:lnTo>
                      <a:pt x="1254" y="4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344"/>
              <p:cNvSpPr/>
              <p:nvPr/>
            </p:nvSpPr>
            <p:spPr>
              <a:xfrm>
                <a:off x="5915160" y="5243400"/>
                <a:ext cx="19800" cy="13320"/>
              </a:xfrm>
              <a:custGeom>
                <a:avLst/>
                <a:gdLst/>
                <a:ahLst/>
                <a:rect l="l" t="t" r="r" b="b"/>
                <a:pathLst>
                  <a:path w="192" h="161">
                    <a:moveTo>
                      <a:pt x="3" y="72"/>
                    </a:moveTo>
                    <a:lnTo>
                      <a:pt x="0" y="72"/>
                    </a:lnTo>
                    <a:lnTo>
                      <a:pt x="0" y="143"/>
                    </a:lnTo>
                    <a:lnTo>
                      <a:pt x="121" y="161"/>
                    </a:lnTo>
                    <a:lnTo>
                      <a:pt x="124" y="85"/>
                    </a:lnTo>
                    <a:lnTo>
                      <a:pt x="113" y="85"/>
                    </a:lnTo>
                    <a:lnTo>
                      <a:pt x="192" y="61"/>
                    </a:lnTo>
                    <a:lnTo>
                      <a:pt x="192" y="0"/>
                    </a:lnTo>
                    <a:lnTo>
                      <a:pt x="3" y="72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345"/>
              <p:cNvSpPr/>
              <p:nvPr/>
            </p:nvSpPr>
            <p:spPr>
              <a:xfrm>
                <a:off x="5902920" y="524088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313" h="100">
                    <a:moveTo>
                      <a:pt x="121" y="100"/>
                    </a:moveTo>
                    <a:lnTo>
                      <a:pt x="124" y="100"/>
                    </a:lnTo>
                    <a:lnTo>
                      <a:pt x="313" y="28"/>
                    </a:lnTo>
                    <a:lnTo>
                      <a:pt x="313" y="25"/>
                    </a:lnTo>
                    <a:lnTo>
                      <a:pt x="100" y="0"/>
                    </a:lnTo>
                    <a:lnTo>
                      <a:pt x="73" y="24"/>
                    </a:lnTo>
                    <a:lnTo>
                      <a:pt x="49" y="45"/>
                    </a:lnTo>
                    <a:lnTo>
                      <a:pt x="24" y="65"/>
                    </a:lnTo>
                    <a:lnTo>
                      <a:pt x="0" y="82"/>
                    </a:lnTo>
                    <a:lnTo>
                      <a:pt x="121" y="100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346"/>
              <p:cNvSpPr/>
              <p:nvPr/>
            </p:nvSpPr>
            <p:spPr>
              <a:xfrm>
                <a:off x="5850720" y="5244840"/>
                <a:ext cx="28800" cy="9000"/>
              </a:xfrm>
              <a:custGeom>
                <a:avLst/>
                <a:gdLst/>
                <a:ahLst/>
                <a:rect l="l" t="t" r="r" b="b"/>
                <a:pathLst>
                  <a:path w="277" h="107">
                    <a:moveTo>
                      <a:pt x="277" y="25"/>
                    </a:moveTo>
                    <a:lnTo>
                      <a:pt x="273" y="19"/>
                    </a:lnTo>
                    <a:lnTo>
                      <a:pt x="271" y="13"/>
                    </a:lnTo>
                    <a:lnTo>
                      <a:pt x="268" y="7"/>
                    </a:lnTo>
                    <a:lnTo>
                      <a:pt x="266" y="0"/>
                    </a:lnTo>
                    <a:lnTo>
                      <a:pt x="245" y="10"/>
                    </a:lnTo>
                    <a:lnTo>
                      <a:pt x="225" y="20"/>
                    </a:lnTo>
                    <a:lnTo>
                      <a:pt x="206" y="28"/>
                    </a:lnTo>
                    <a:lnTo>
                      <a:pt x="187" y="34"/>
                    </a:lnTo>
                    <a:lnTo>
                      <a:pt x="170" y="40"/>
                    </a:lnTo>
                    <a:lnTo>
                      <a:pt x="153" y="44"/>
                    </a:lnTo>
                    <a:lnTo>
                      <a:pt x="138" y="47"/>
                    </a:lnTo>
                    <a:lnTo>
                      <a:pt x="122" y="48"/>
                    </a:lnTo>
                    <a:lnTo>
                      <a:pt x="109" y="49"/>
                    </a:lnTo>
                    <a:lnTo>
                      <a:pt x="95" y="48"/>
                    </a:lnTo>
                    <a:lnTo>
                      <a:pt x="82" y="44"/>
                    </a:lnTo>
                    <a:lnTo>
                      <a:pt x="71" y="41"/>
                    </a:lnTo>
                    <a:lnTo>
                      <a:pt x="60" y="37"/>
                    </a:lnTo>
                    <a:lnTo>
                      <a:pt x="50" y="30"/>
                    </a:lnTo>
                    <a:lnTo>
                      <a:pt x="40" y="22"/>
                    </a:lnTo>
                    <a:lnTo>
                      <a:pt x="32" y="15"/>
                    </a:lnTo>
                    <a:lnTo>
                      <a:pt x="16" y="28"/>
                    </a:lnTo>
                    <a:lnTo>
                      <a:pt x="0" y="39"/>
                    </a:lnTo>
                    <a:lnTo>
                      <a:pt x="113" y="57"/>
                    </a:lnTo>
                    <a:lnTo>
                      <a:pt x="110" y="57"/>
                    </a:lnTo>
                    <a:lnTo>
                      <a:pt x="110" y="107"/>
                    </a:lnTo>
                    <a:lnTo>
                      <a:pt x="221" y="71"/>
                    </a:lnTo>
                    <a:lnTo>
                      <a:pt x="277" y="78"/>
                    </a:lnTo>
                    <a:lnTo>
                      <a:pt x="277" y="25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347"/>
              <p:cNvSpPr/>
              <p:nvPr/>
            </p:nvSpPr>
            <p:spPr>
              <a:xfrm>
                <a:off x="5874840" y="5254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231" h="333">
                    <a:moveTo>
                      <a:pt x="231" y="45"/>
                    </a:moveTo>
                    <a:lnTo>
                      <a:pt x="227" y="0"/>
                    </a:lnTo>
                    <a:lnTo>
                      <a:pt x="0" y="85"/>
                    </a:lnTo>
                    <a:lnTo>
                      <a:pt x="0" y="88"/>
                    </a:lnTo>
                    <a:lnTo>
                      <a:pt x="0" y="333"/>
                    </a:lnTo>
                    <a:lnTo>
                      <a:pt x="79" y="298"/>
                    </a:lnTo>
                    <a:lnTo>
                      <a:pt x="79" y="98"/>
                    </a:lnTo>
                    <a:lnTo>
                      <a:pt x="71" y="98"/>
                    </a:lnTo>
                    <a:lnTo>
                      <a:pt x="231" y="45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348"/>
              <p:cNvSpPr/>
              <p:nvPr/>
            </p:nvSpPr>
            <p:spPr>
              <a:xfrm>
                <a:off x="5847840" y="5250600"/>
                <a:ext cx="50760" cy="10440"/>
              </a:xfrm>
              <a:custGeom>
                <a:avLst/>
                <a:gdLst/>
                <a:ahLst/>
                <a:rect l="l" t="t" r="r" b="b"/>
                <a:pathLst>
                  <a:path w="494" h="124">
                    <a:moveTo>
                      <a:pt x="490" y="36"/>
                    </a:moveTo>
                    <a:lnTo>
                      <a:pt x="494" y="36"/>
                    </a:lnTo>
                    <a:lnTo>
                      <a:pt x="392" y="18"/>
                    </a:lnTo>
                    <a:lnTo>
                      <a:pt x="306" y="7"/>
                    </a:lnTo>
                    <a:lnTo>
                      <a:pt x="250" y="0"/>
                    </a:lnTo>
                    <a:lnTo>
                      <a:pt x="139" y="36"/>
                    </a:lnTo>
                    <a:lnTo>
                      <a:pt x="0" y="85"/>
                    </a:lnTo>
                    <a:lnTo>
                      <a:pt x="256" y="124"/>
                    </a:lnTo>
                    <a:lnTo>
                      <a:pt x="263" y="121"/>
                    </a:lnTo>
                    <a:lnTo>
                      <a:pt x="490" y="36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349"/>
              <p:cNvSpPr/>
              <p:nvPr/>
            </p:nvSpPr>
            <p:spPr>
              <a:xfrm>
                <a:off x="5882040" y="525492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537" h="128">
                    <a:moveTo>
                      <a:pt x="0" y="88"/>
                    </a:moveTo>
                    <a:lnTo>
                      <a:pt x="8" y="88"/>
                    </a:lnTo>
                    <a:lnTo>
                      <a:pt x="271" y="128"/>
                    </a:lnTo>
                    <a:lnTo>
                      <a:pt x="271" y="124"/>
                    </a:lnTo>
                    <a:lnTo>
                      <a:pt x="537" y="35"/>
                    </a:lnTo>
                    <a:lnTo>
                      <a:pt x="434" y="22"/>
                    </a:lnTo>
                    <a:lnTo>
                      <a:pt x="313" y="4"/>
                    </a:lnTo>
                    <a:lnTo>
                      <a:pt x="271" y="0"/>
                    </a:lnTo>
                    <a:lnTo>
                      <a:pt x="160" y="35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350"/>
              <p:cNvSpPr/>
              <p:nvPr/>
            </p:nvSpPr>
            <p:spPr>
              <a:xfrm>
                <a:off x="5910120" y="5257440"/>
                <a:ext cx="29160" cy="28800"/>
              </a:xfrm>
              <a:custGeom>
                <a:avLst/>
                <a:gdLst/>
                <a:ahLst/>
                <a:rect l="l" t="t" r="r" b="b"/>
                <a:pathLst>
                  <a:path w="273" h="345">
                    <a:moveTo>
                      <a:pt x="273" y="0"/>
                    </a:moveTo>
                    <a:lnTo>
                      <a:pt x="266" y="0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3" y="345"/>
                    </a:lnTo>
                    <a:lnTo>
                      <a:pt x="273" y="231"/>
                    </a:lnTo>
                    <a:lnTo>
                      <a:pt x="273" y="15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51"/>
              <p:cNvSpPr/>
              <p:nvPr/>
            </p:nvSpPr>
            <p:spPr>
              <a:xfrm>
                <a:off x="5832360" y="5218560"/>
                <a:ext cx="13320" cy="11520"/>
              </a:xfrm>
              <a:custGeom>
                <a:avLst/>
                <a:gdLst/>
                <a:ahLst/>
                <a:rect l="l" t="t" r="r" b="b"/>
                <a:pathLst>
                  <a:path w="127" h="139">
                    <a:moveTo>
                      <a:pt x="0" y="139"/>
                    </a:moveTo>
                    <a:lnTo>
                      <a:pt x="12" y="134"/>
                    </a:lnTo>
                    <a:lnTo>
                      <a:pt x="23" y="130"/>
                    </a:lnTo>
                    <a:lnTo>
                      <a:pt x="33" y="125"/>
                    </a:lnTo>
                    <a:lnTo>
                      <a:pt x="43" y="120"/>
                    </a:lnTo>
                    <a:lnTo>
                      <a:pt x="53" y="113"/>
                    </a:lnTo>
                    <a:lnTo>
                      <a:pt x="62" y="107"/>
                    </a:lnTo>
                    <a:lnTo>
                      <a:pt x="71" y="99"/>
                    </a:lnTo>
                    <a:lnTo>
                      <a:pt x="79" y="90"/>
                    </a:lnTo>
                    <a:lnTo>
                      <a:pt x="86" y="81"/>
                    </a:lnTo>
                    <a:lnTo>
                      <a:pt x="93" y="72"/>
                    </a:lnTo>
                    <a:lnTo>
                      <a:pt x="100" y="61"/>
                    </a:lnTo>
                    <a:lnTo>
                      <a:pt x="106" y="50"/>
                    </a:lnTo>
                    <a:lnTo>
                      <a:pt x="112" y="39"/>
                    </a:lnTo>
                    <a:lnTo>
                      <a:pt x="117" y="27"/>
                    </a:lnTo>
                    <a:lnTo>
                      <a:pt x="123" y="13"/>
                    </a:lnTo>
                    <a:lnTo>
                      <a:pt x="127" y="0"/>
                    </a:lnTo>
                    <a:lnTo>
                      <a:pt x="82" y="63"/>
                    </a:lnTo>
                    <a:lnTo>
                      <a:pt x="70" y="72"/>
                    </a:lnTo>
                    <a:lnTo>
                      <a:pt x="59" y="80"/>
                    </a:lnTo>
                    <a:lnTo>
                      <a:pt x="49" y="89"/>
                    </a:lnTo>
                    <a:lnTo>
                      <a:pt x="39" y="99"/>
                    </a:lnTo>
                    <a:lnTo>
                      <a:pt x="19" y="118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fce9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52"/>
              <p:cNvSpPr/>
              <p:nvPr/>
            </p:nvSpPr>
            <p:spPr>
              <a:xfrm>
                <a:off x="5822640" y="523008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99" h="24">
                    <a:moveTo>
                      <a:pt x="78" y="24"/>
                    </a:moveTo>
                    <a:lnTo>
                      <a:pt x="89" y="12"/>
                    </a:lnTo>
                    <a:lnTo>
                      <a:pt x="99" y="0"/>
                    </a:lnTo>
                    <a:lnTo>
                      <a:pt x="88" y="2"/>
                    </a:lnTo>
                    <a:lnTo>
                      <a:pt x="77" y="3"/>
                    </a:lnTo>
                    <a:lnTo>
                      <a:pt x="66" y="4"/>
                    </a:lnTo>
                    <a:lnTo>
                      <a:pt x="53" y="5"/>
                    </a:lnTo>
                    <a:lnTo>
                      <a:pt x="28" y="5"/>
                    </a:lnTo>
                    <a:lnTo>
                      <a:pt x="0" y="3"/>
                    </a:lnTo>
                    <a:lnTo>
                      <a:pt x="0" y="17"/>
                    </a:lnTo>
                    <a:lnTo>
                      <a:pt x="78" y="24"/>
                    </a:lnTo>
                    <a:close/>
                  </a:path>
                </a:pathLst>
              </a:custGeom>
              <a:solidFill>
                <a:srgbClr val="bbb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1353"/>
              <p:cNvSpPr/>
              <p:nvPr/>
            </p:nvSpPr>
            <p:spPr>
              <a:xfrm>
                <a:off x="5784480" y="5229360"/>
                <a:ext cx="17640" cy="12240"/>
              </a:xfrm>
              <a:custGeom>
                <a:avLst/>
                <a:gdLst/>
                <a:ahLst/>
                <a:rect l="l" t="t" r="r" b="b"/>
                <a:pathLst>
                  <a:path w="174" h="145">
                    <a:moveTo>
                      <a:pt x="174" y="29"/>
                    </a:moveTo>
                    <a:lnTo>
                      <a:pt x="171" y="0"/>
                    </a:lnTo>
                    <a:lnTo>
                      <a:pt x="0" y="56"/>
                    </a:lnTo>
                    <a:lnTo>
                      <a:pt x="0" y="139"/>
                    </a:lnTo>
                    <a:lnTo>
                      <a:pt x="53" y="145"/>
                    </a:lnTo>
                    <a:lnTo>
                      <a:pt x="53" y="68"/>
                    </a:lnTo>
                    <a:lnTo>
                      <a:pt x="57" y="68"/>
                    </a:lnTo>
                    <a:lnTo>
                      <a:pt x="174" y="29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54"/>
              <p:cNvSpPr/>
              <p:nvPr/>
            </p:nvSpPr>
            <p:spPr>
              <a:xfrm>
                <a:off x="5790600" y="5230080"/>
                <a:ext cx="39600" cy="7920"/>
              </a:xfrm>
              <a:custGeom>
                <a:avLst/>
                <a:gdLst/>
                <a:ahLst/>
                <a:rect l="l" t="t" r="r" b="b"/>
                <a:pathLst>
                  <a:path w="387" h="95">
                    <a:moveTo>
                      <a:pt x="177" y="0"/>
                    </a:moveTo>
                    <a:lnTo>
                      <a:pt x="117" y="21"/>
                    </a:lnTo>
                    <a:lnTo>
                      <a:pt x="0" y="60"/>
                    </a:lnTo>
                    <a:lnTo>
                      <a:pt x="269" y="95"/>
                    </a:lnTo>
                    <a:lnTo>
                      <a:pt x="351" y="71"/>
                    </a:lnTo>
                    <a:lnTo>
                      <a:pt x="359" y="57"/>
                    </a:lnTo>
                    <a:lnTo>
                      <a:pt x="368" y="46"/>
                    </a:lnTo>
                    <a:lnTo>
                      <a:pt x="377" y="35"/>
                    </a:lnTo>
                    <a:lnTo>
                      <a:pt x="387" y="24"/>
                    </a:lnTo>
                    <a:lnTo>
                      <a:pt x="309" y="17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1355"/>
              <p:cNvSpPr/>
              <p:nvPr/>
            </p:nvSpPr>
            <p:spPr>
              <a:xfrm>
                <a:off x="5780160" y="5244120"/>
                <a:ext cx="38160" cy="9000"/>
              </a:xfrm>
              <a:custGeom>
                <a:avLst/>
                <a:gdLst/>
                <a:ahLst/>
                <a:rect l="l" t="t" r="r" b="b"/>
                <a:pathLst>
                  <a:path w="370" h="109">
                    <a:moveTo>
                      <a:pt x="255" y="0"/>
                    </a:moveTo>
                    <a:lnTo>
                      <a:pt x="188" y="17"/>
                    </a:lnTo>
                    <a:lnTo>
                      <a:pt x="0" y="74"/>
                    </a:lnTo>
                    <a:lnTo>
                      <a:pt x="245" y="109"/>
                    </a:lnTo>
                    <a:lnTo>
                      <a:pt x="344" y="71"/>
                    </a:lnTo>
                    <a:lnTo>
                      <a:pt x="347" y="52"/>
                    </a:lnTo>
                    <a:lnTo>
                      <a:pt x="350" y="39"/>
                    </a:lnTo>
                    <a:lnTo>
                      <a:pt x="351" y="34"/>
                    </a:lnTo>
                    <a:lnTo>
                      <a:pt x="352" y="31"/>
                    </a:lnTo>
                    <a:lnTo>
                      <a:pt x="354" y="29"/>
                    </a:lnTo>
                    <a:lnTo>
                      <a:pt x="355" y="29"/>
                    </a:lnTo>
                    <a:lnTo>
                      <a:pt x="361" y="21"/>
                    </a:lnTo>
                    <a:lnTo>
                      <a:pt x="370" y="14"/>
                    </a:lnTo>
                    <a:lnTo>
                      <a:pt x="362" y="14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356"/>
              <p:cNvSpPr/>
              <p:nvPr/>
            </p:nvSpPr>
            <p:spPr>
              <a:xfrm>
                <a:off x="5774040" y="5242680"/>
                <a:ext cx="25920" cy="26280"/>
              </a:xfrm>
              <a:custGeom>
                <a:avLst/>
                <a:gdLst/>
                <a:ahLst/>
                <a:rect l="l" t="t" r="r" b="b"/>
                <a:pathLst>
                  <a:path w="250" h="316">
                    <a:moveTo>
                      <a:pt x="246" y="28"/>
                    </a:moveTo>
                    <a:lnTo>
                      <a:pt x="250" y="0"/>
                    </a:lnTo>
                    <a:lnTo>
                      <a:pt x="5" y="78"/>
                    </a:lnTo>
                    <a:lnTo>
                      <a:pt x="0" y="316"/>
                    </a:lnTo>
                    <a:lnTo>
                      <a:pt x="58" y="295"/>
                    </a:lnTo>
                    <a:lnTo>
                      <a:pt x="58" y="85"/>
                    </a:lnTo>
                    <a:lnTo>
                      <a:pt x="246" y="28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357"/>
              <p:cNvSpPr/>
              <p:nvPr/>
            </p:nvSpPr>
            <p:spPr>
              <a:xfrm>
                <a:off x="5817600" y="52358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85" h="106">
                    <a:moveTo>
                      <a:pt x="46" y="45"/>
                    </a:moveTo>
                    <a:lnTo>
                      <a:pt x="46" y="42"/>
                    </a:lnTo>
                    <a:lnTo>
                      <a:pt x="82" y="6"/>
                    </a:lnTo>
                    <a:lnTo>
                      <a:pt x="85" y="2"/>
                    </a:lnTo>
                    <a:lnTo>
                      <a:pt x="85" y="0"/>
                    </a:lnTo>
                    <a:lnTo>
                      <a:pt x="3" y="24"/>
                    </a:lnTo>
                    <a:lnTo>
                      <a:pt x="0" y="106"/>
                    </a:lnTo>
                    <a:lnTo>
                      <a:pt x="8" y="106"/>
                    </a:lnTo>
                    <a:lnTo>
                      <a:pt x="22" y="82"/>
                    </a:lnTo>
                    <a:lnTo>
                      <a:pt x="33" y="64"/>
                    </a:lnTo>
                    <a:lnTo>
                      <a:pt x="42" y="52"/>
                    </a:lnTo>
                    <a:lnTo>
                      <a:pt x="46" y="45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1358"/>
              <p:cNvSpPr/>
              <p:nvPr/>
            </p:nvSpPr>
            <p:spPr>
              <a:xfrm>
                <a:off x="5806080" y="5249880"/>
                <a:ext cx="10440" cy="23040"/>
              </a:xfrm>
              <a:custGeom>
                <a:avLst/>
                <a:gdLst/>
                <a:ahLst/>
                <a:rect l="l" t="t" r="r" b="b"/>
                <a:pathLst>
                  <a:path w="102" h="280">
                    <a:moveTo>
                      <a:pt x="99" y="6"/>
                    </a:moveTo>
                    <a:lnTo>
                      <a:pt x="99" y="2"/>
                    </a:lnTo>
                    <a:lnTo>
                      <a:pt x="99" y="0"/>
                    </a:lnTo>
                    <a:lnTo>
                      <a:pt x="0" y="38"/>
                    </a:lnTo>
                    <a:lnTo>
                      <a:pt x="0" y="280"/>
                    </a:lnTo>
                    <a:lnTo>
                      <a:pt x="57" y="255"/>
                    </a:lnTo>
                    <a:lnTo>
                      <a:pt x="57" y="46"/>
                    </a:lnTo>
                    <a:lnTo>
                      <a:pt x="102" y="28"/>
                    </a:lnTo>
                    <a:lnTo>
                      <a:pt x="101" y="23"/>
                    </a:lnTo>
                    <a:lnTo>
                      <a:pt x="100" y="17"/>
                    </a:lnTo>
                    <a:lnTo>
                      <a:pt x="99" y="12"/>
                    </a:lnTo>
                    <a:lnTo>
                      <a:pt x="99" y="6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359"/>
              <p:cNvSpPr/>
              <p:nvPr/>
            </p:nvSpPr>
            <p:spPr>
              <a:xfrm>
                <a:off x="5838480" y="52498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231" h="330">
                    <a:moveTo>
                      <a:pt x="85" y="99"/>
                    </a:moveTo>
                    <a:lnTo>
                      <a:pt x="92" y="99"/>
                    </a:lnTo>
                    <a:lnTo>
                      <a:pt x="231" y="50"/>
                    </a:lnTo>
                    <a:lnTo>
                      <a:pt x="231" y="0"/>
                    </a:lnTo>
                    <a:lnTo>
                      <a:pt x="14" y="88"/>
                    </a:lnTo>
                    <a:lnTo>
                      <a:pt x="0" y="92"/>
                    </a:lnTo>
                    <a:lnTo>
                      <a:pt x="0" y="330"/>
                    </a:lnTo>
                    <a:lnTo>
                      <a:pt x="85" y="280"/>
                    </a:lnTo>
                    <a:lnTo>
                      <a:pt x="85" y="99"/>
                    </a:lnTo>
                    <a:close/>
                  </a:path>
                </a:pathLst>
              </a:custGeom>
              <a:solidFill>
                <a:srgbClr val="aeb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360"/>
              <p:cNvSpPr/>
              <p:nvPr/>
            </p:nvSpPr>
            <p:spPr>
              <a:xfrm>
                <a:off x="5728320" y="5223240"/>
                <a:ext cx="37080" cy="7200"/>
              </a:xfrm>
              <a:custGeom>
                <a:avLst/>
                <a:gdLst/>
                <a:ahLst/>
                <a:rect l="l" t="t" r="r" b="b"/>
                <a:pathLst>
                  <a:path w="358" h="82">
                    <a:moveTo>
                      <a:pt x="358" y="25"/>
                    </a:moveTo>
                    <a:lnTo>
                      <a:pt x="216" y="8"/>
                    </a:lnTo>
                    <a:lnTo>
                      <a:pt x="167" y="0"/>
                    </a:lnTo>
                    <a:lnTo>
                      <a:pt x="152" y="8"/>
                    </a:lnTo>
                    <a:lnTo>
                      <a:pt x="138" y="13"/>
                    </a:lnTo>
                    <a:lnTo>
                      <a:pt x="121" y="18"/>
                    </a:lnTo>
                    <a:lnTo>
                      <a:pt x="102" y="21"/>
                    </a:lnTo>
                    <a:lnTo>
                      <a:pt x="96" y="25"/>
                    </a:lnTo>
                    <a:lnTo>
                      <a:pt x="0" y="57"/>
                    </a:lnTo>
                    <a:lnTo>
                      <a:pt x="191" y="82"/>
                    </a:lnTo>
                    <a:lnTo>
                      <a:pt x="195" y="82"/>
                    </a:lnTo>
                    <a:lnTo>
                      <a:pt x="358" y="25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361"/>
              <p:cNvSpPr/>
              <p:nvPr/>
            </p:nvSpPr>
            <p:spPr>
              <a:xfrm>
                <a:off x="5747760" y="52261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67" h="146">
                    <a:moveTo>
                      <a:pt x="167" y="36"/>
                    </a:moveTo>
                    <a:lnTo>
                      <a:pt x="167" y="0"/>
                    </a:lnTo>
                    <a:lnTo>
                      <a:pt x="4" y="57"/>
                    </a:lnTo>
                    <a:lnTo>
                      <a:pt x="0" y="57"/>
                    </a:lnTo>
                    <a:lnTo>
                      <a:pt x="0" y="138"/>
                    </a:lnTo>
                    <a:lnTo>
                      <a:pt x="71" y="146"/>
                    </a:lnTo>
                    <a:lnTo>
                      <a:pt x="71" y="71"/>
                    </a:lnTo>
                    <a:lnTo>
                      <a:pt x="75" y="67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362"/>
              <p:cNvSpPr/>
              <p:nvPr/>
            </p:nvSpPr>
            <p:spPr>
              <a:xfrm>
                <a:off x="5756400" y="5226840"/>
                <a:ext cx="45720" cy="7920"/>
              </a:xfrm>
              <a:custGeom>
                <a:avLst/>
                <a:gdLst/>
                <a:ahLst/>
                <a:rect l="l" t="t" r="r" b="b"/>
                <a:pathLst>
                  <a:path w="441" h="97">
                    <a:moveTo>
                      <a:pt x="92" y="26"/>
                    </a:moveTo>
                    <a:lnTo>
                      <a:pt x="0" y="57"/>
                    </a:lnTo>
                    <a:lnTo>
                      <a:pt x="267" y="97"/>
                    </a:lnTo>
                    <a:lnTo>
                      <a:pt x="270" y="92"/>
                    </a:lnTo>
                    <a:lnTo>
                      <a:pt x="441" y="36"/>
                    </a:lnTo>
                    <a:lnTo>
                      <a:pt x="167" y="0"/>
                    </a:lnTo>
                    <a:lnTo>
                      <a:pt x="92" y="26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363"/>
              <p:cNvSpPr/>
              <p:nvPr/>
            </p:nvSpPr>
            <p:spPr>
              <a:xfrm>
                <a:off x="5747760" y="5240160"/>
                <a:ext cx="51840" cy="9000"/>
              </a:xfrm>
              <a:custGeom>
                <a:avLst/>
                <a:gdLst/>
                <a:ahLst/>
                <a:rect l="l" t="t" r="r" b="b"/>
                <a:pathLst>
                  <a:path w="498" h="114">
                    <a:moveTo>
                      <a:pt x="231" y="0"/>
                    </a:moveTo>
                    <a:lnTo>
                      <a:pt x="167" y="21"/>
                    </a:lnTo>
                    <a:lnTo>
                      <a:pt x="0" y="79"/>
                    </a:lnTo>
                    <a:lnTo>
                      <a:pt x="253" y="114"/>
                    </a:lnTo>
                    <a:lnTo>
                      <a:pt x="498" y="36"/>
                    </a:lnTo>
                    <a:lnTo>
                      <a:pt x="398" y="21"/>
                    </a:lnTo>
                    <a:lnTo>
                      <a:pt x="345" y="15"/>
                    </a:lnTo>
                    <a:lnTo>
                      <a:pt x="231" y="0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364"/>
              <p:cNvSpPr/>
              <p:nvPr/>
            </p:nvSpPr>
            <p:spPr>
              <a:xfrm>
                <a:off x="5742720" y="52390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231" h="305">
                    <a:moveTo>
                      <a:pt x="227" y="28"/>
                    </a:moveTo>
                    <a:lnTo>
                      <a:pt x="231" y="0"/>
                    </a:lnTo>
                    <a:lnTo>
                      <a:pt x="11" y="78"/>
                    </a:lnTo>
                    <a:lnTo>
                      <a:pt x="0" y="83"/>
                    </a:lnTo>
                    <a:lnTo>
                      <a:pt x="0" y="305"/>
                    </a:lnTo>
                    <a:lnTo>
                      <a:pt x="57" y="281"/>
                    </a:lnTo>
                    <a:lnTo>
                      <a:pt x="60" y="86"/>
                    </a:lnTo>
                    <a:lnTo>
                      <a:pt x="227" y="28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365"/>
              <p:cNvSpPr/>
              <p:nvPr/>
            </p:nvSpPr>
            <p:spPr>
              <a:xfrm>
                <a:off x="5715720" y="5235840"/>
                <a:ext cx="50760" cy="9720"/>
              </a:xfrm>
              <a:custGeom>
                <a:avLst/>
                <a:gdLst/>
                <a:ahLst/>
                <a:rect l="l" t="t" r="r" b="b"/>
                <a:pathLst>
                  <a:path w="497" h="116">
                    <a:moveTo>
                      <a:pt x="491" y="38"/>
                    </a:moveTo>
                    <a:lnTo>
                      <a:pt x="497" y="38"/>
                    </a:lnTo>
                    <a:lnTo>
                      <a:pt x="391" y="21"/>
                    </a:lnTo>
                    <a:lnTo>
                      <a:pt x="320" y="13"/>
                    </a:lnTo>
                    <a:lnTo>
                      <a:pt x="228" y="0"/>
                    </a:lnTo>
                    <a:lnTo>
                      <a:pt x="160" y="24"/>
                    </a:lnTo>
                    <a:lnTo>
                      <a:pt x="0" y="77"/>
                    </a:lnTo>
                    <a:lnTo>
                      <a:pt x="260" y="116"/>
                    </a:lnTo>
                    <a:lnTo>
                      <a:pt x="271" y="116"/>
                    </a:lnTo>
                    <a:lnTo>
                      <a:pt x="491" y="38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366"/>
              <p:cNvSpPr/>
              <p:nvPr/>
            </p:nvSpPr>
            <p:spPr>
              <a:xfrm>
                <a:off x="5694840" y="5221800"/>
                <a:ext cx="43560" cy="5400"/>
              </a:xfrm>
              <a:custGeom>
                <a:avLst/>
                <a:gdLst/>
                <a:ahLst/>
                <a:rect l="l" t="t" r="r" b="b"/>
                <a:pathLst>
                  <a:path w="412" h="74">
                    <a:moveTo>
                      <a:pt x="412" y="21"/>
                    </a:moveTo>
                    <a:lnTo>
                      <a:pt x="412" y="17"/>
                    </a:lnTo>
                    <a:lnTo>
                      <a:pt x="309" y="3"/>
                    </a:lnTo>
                    <a:lnTo>
                      <a:pt x="297" y="8"/>
                    </a:lnTo>
                    <a:lnTo>
                      <a:pt x="286" y="14"/>
                    </a:lnTo>
                    <a:lnTo>
                      <a:pt x="275" y="17"/>
                    </a:lnTo>
                    <a:lnTo>
                      <a:pt x="265" y="21"/>
                    </a:lnTo>
                    <a:lnTo>
                      <a:pt x="245" y="23"/>
                    </a:lnTo>
                    <a:lnTo>
                      <a:pt x="227" y="24"/>
                    </a:lnTo>
                    <a:lnTo>
                      <a:pt x="207" y="25"/>
                    </a:lnTo>
                    <a:lnTo>
                      <a:pt x="187" y="25"/>
                    </a:lnTo>
                    <a:lnTo>
                      <a:pt x="169" y="24"/>
                    </a:lnTo>
                    <a:lnTo>
                      <a:pt x="154" y="21"/>
                    </a:lnTo>
                    <a:lnTo>
                      <a:pt x="138" y="17"/>
                    </a:lnTo>
                    <a:lnTo>
                      <a:pt x="125" y="13"/>
                    </a:lnTo>
                    <a:lnTo>
                      <a:pt x="113" y="6"/>
                    </a:lnTo>
                    <a:lnTo>
                      <a:pt x="103" y="0"/>
                    </a:lnTo>
                    <a:lnTo>
                      <a:pt x="18" y="27"/>
                    </a:lnTo>
                    <a:lnTo>
                      <a:pt x="13" y="32"/>
                    </a:lnTo>
                    <a:lnTo>
                      <a:pt x="11" y="35"/>
                    </a:lnTo>
                    <a:lnTo>
                      <a:pt x="8" y="35"/>
                    </a:lnTo>
                    <a:lnTo>
                      <a:pt x="5" y="35"/>
                    </a:lnTo>
                    <a:lnTo>
                      <a:pt x="3" y="36"/>
                    </a:lnTo>
                    <a:lnTo>
                      <a:pt x="0" y="38"/>
                    </a:lnTo>
                    <a:lnTo>
                      <a:pt x="4" y="38"/>
                    </a:lnTo>
                    <a:lnTo>
                      <a:pt x="259" y="74"/>
                    </a:lnTo>
                    <a:lnTo>
                      <a:pt x="412" y="21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67"/>
              <p:cNvSpPr/>
              <p:nvPr/>
            </p:nvSpPr>
            <p:spPr>
              <a:xfrm>
                <a:off x="5721840" y="5223240"/>
                <a:ext cx="16560" cy="11520"/>
              </a:xfrm>
              <a:custGeom>
                <a:avLst/>
                <a:gdLst/>
                <a:ahLst/>
                <a:rect l="l" t="t" r="r" b="b"/>
                <a:pathLst>
                  <a:path w="157" h="138">
                    <a:moveTo>
                      <a:pt x="157" y="28"/>
                    </a:moveTo>
                    <a:lnTo>
                      <a:pt x="153" y="0"/>
                    </a:lnTo>
                    <a:lnTo>
                      <a:pt x="0" y="53"/>
                    </a:lnTo>
                    <a:lnTo>
                      <a:pt x="0" y="130"/>
                    </a:lnTo>
                    <a:lnTo>
                      <a:pt x="53" y="138"/>
                    </a:lnTo>
                    <a:lnTo>
                      <a:pt x="53" y="60"/>
                    </a:lnTo>
                    <a:lnTo>
                      <a:pt x="61" y="60"/>
                    </a:lnTo>
                    <a:lnTo>
                      <a:pt x="157" y="28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68"/>
              <p:cNvSpPr/>
              <p:nvPr/>
            </p:nvSpPr>
            <p:spPr>
              <a:xfrm>
                <a:off x="5709240" y="5235840"/>
                <a:ext cx="22680" cy="24480"/>
              </a:xfrm>
              <a:custGeom>
                <a:avLst/>
                <a:gdLst/>
                <a:ahLst/>
                <a:rect l="l" t="t" r="r" b="b"/>
                <a:pathLst>
                  <a:path w="213" h="306">
                    <a:moveTo>
                      <a:pt x="213" y="32"/>
                    </a:moveTo>
                    <a:lnTo>
                      <a:pt x="210" y="0"/>
                    </a:lnTo>
                    <a:lnTo>
                      <a:pt x="0" y="79"/>
                    </a:lnTo>
                    <a:lnTo>
                      <a:pt x="0" y="306"/>
                    </a:lnTo>
                    <a:lnTo>
                      <a:pt x="47" y="280"/>
                    </a:lnTo>
                    <a:lnTo>
                      <a:pt x="47" y="89"/>
                    </a:lnTo>
                    <a:lnTo>
                      <a:pt x="47" y="85"/>
                    </a:lnTo>
                    <a:lnTo>
                      <a:pt x="53" y="85"/>
                    </a:lnTo>
                    <a:lnTo>
                      <a:pt x="213" y="32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69"/>
              <p:cNvSpPr/>
              <p:nvPr/>
            </p:nvSpPr>
            <p:spPr>
              <a:xfrm>
                <a:off x="5687640" y="5233320"/>
                <a:ext cx="43560" cy="7920"/>
              </a:xfrm>
              <a:custGeom>
                <a:avLst/>
                <a:gdLst/>
                <a:ahLst/>
                <a:rect l="l" t="t" r="r" b="b"/>
                <a:pathLst>
                  <a:path w="423" h="107">
                    <a:moveTo>
                      <a:pt x="387" y="21"/>
                    </a:moveTo>
                    <a:lnTo>
                      <a:pt x="334" y="13"/>
                    </a:lnTo>
                    <a:lnTo>
                      <a:pt x="228" y="0"/>
                    </a:lnTo>
                    <a:lnTo>
                      <a:pt x="164" y="21"/>
                    </a:lnTo>
                    <a:lnTo>
                      <a:pt x="0" y="74"/>
                    </a:lnTo>
                    <a:lnTo>
                      <a:pt x="213" y="107"/>
                    </a:lnTo>
                    <a:lnTo>
                      <a:pt x="423" y="28"/>
                    </a:lnTo>
                    <a:lnTo>
                      <a:pt x="423" y="25"/>
                    </a:lnTo>
                    <a:lnTo>
                      <a:pt x="387" y="21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70"/>
              <p:cNvSpPr/>
              <p:nvPr/>
            </p:nvSpPr>
            <p:spPr>
              <a:xfrm>
                <a:off x="5691600" y="522504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43" h="78">
                    <a:moveTo>
                      <a:pt x="40" y="0"/>
                    </a:moveTo>
                    <a:lnTo>
                      <a:pt x="36" y="0"/>
                    </a:lnTo>
                    <a:lnTo>
                      <a:pt x="28" y="4"/>
                    </a:lnTo>
                    <a:lnTo>
                      <a:pt x="18" y="7"/>
                    </a:lnTo>
                    <a:lnTo>
                      <a:pt x="9" y="11"/>
                    </a:lnTo>
                    <a:lnTo>
                      <a:pt x="0" y="15"/>
                    </a:lnTo>
                    <a:lnTo>
                      <a:pt x="0" y="75"/>
                    </a:lnTo>
                    <a:lnTo>
                      <a:pt x="43" y="78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71"/>
              <p:cNvSpPr/>
              <p:nvPr/>
            </p:nvSpPr>
            <p:spPr>
              <a:xfrm>
                <a:off x="5657400" y="5229360"/>
                <a:ext cx="46440" cy="9000"/>
              </a:xfrm>
              <a:custGeom>
                <a:avLst/>
                <a:gdLst/>
                <a:ahLst/>
                <a:rect l="l" t="t" r="r" b="b"/>
                <a:pathLst>
                  <a:path w="454" h="106">
                    <a:moveTo>
                      <a:pt x="376" y="21"/>
                    </a:moveTo>
                    <a:lnTo>
                      <a:pt x="333" y="18"/>
                    </a:lnTo>
                    <a:lnTo>
                      <a:pt x="209" y="0"/>
                    </a:lnTo>
                    <a:lnTo>
                      <a:pt x="152" y="21"/>
                    </a:lnTo>
                    <a:lnTo>
                      <a:pt x="0" y="74"/>
                    </a:lnTo>
                    <a:lnTo>
                      <a:pt x="231" y="106"/>
                    </a:lnTo>
                    <a:lnTo>
                      <a:pt x="454" y="32"/>
                    </a:lnTo>
                    <a:lnTo>
                      <a:pt x="376" y="21"/>
                    </a:lnTo>
                    <a:close/>
                  </a:path>
                </a:pathLst>
              </a:custGeom>
              <a:solidFill>
                <a:srgbClr val="e0e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372"/>
              <p:cNvSpPr/>
              <p:nvPr/>
            </p:nvSpPr>
            <p:spPr>
              <a:xfrm>
                <a:off x="5681160" y="5232600"/>
                <a:ext cx="22680" cy="24480"/>
              </a:xfrm>
              <a:custGeom>
                <a:avLst/>
                <a:gdLst/>
                <a:ahLst/>
                <a:rect l="l" t="t" r="r" b="b"/>
                <a:pathLst>
                  <a:path w="227" h="298">
                    <a:moveTo>
                      <a:pt x="0" y="74"/>
                    </a:moveTo>
                    <a:lnTo>
                      <a:pt x="3" y="78"/>
                    </a:lnTo>
                    <a:lnTo>
                      <a:pt x="3" y="298"/>
                    </a:lnTo>
                    <a:lnTo>
                      <a:pt x="49" y="270"/>
                    </a:lnTo>
                    <a:lnTo>
                      <a:pt x="49" y="89"/>
                    </a:lnTo>
                    <a:lnTo>
                      <a:pt x="49" y="85"/>
                    </a:lnTo>
                    <a:lnTo>
                      <a:pt x="63" y="85"/>
                    </a:lnTo>
                    <a:lnTo>
                      <a:pt x="227" y="32"/>
                    </a:lnTo>
                    <a:lnTo>
                      <a:pt x="223" y="0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373"/>
              <p:cNvSpPr/>
              <p:nvPr/>
            </p:nvSpPr>
            <p:spPr>
              <a:xfrm>
                <a:off x="5650920" y="5229360"/>
                <a:ext cx="21600" cy="23760"/>
              </a:xfrm>
              <a:custGeom>
                <a:avLst/>
                <a:gdLst/>
                <a:ahLst/>
                <a:rect l="l" t="t" r="r" b="b"/>
                <a:pathLst>
                  <a:path w="209" h="291">
                    <a:moveTo>
                      <a:pt x="209" y="28"/>
                    </a:moveTo>
                    <a:lnTo>
                      <a:pt x="209" y="0"/>
                    </a:lnTo>
                    <a:lnTo>
                      <a:pt x="7" y="75"/>
                    </a:lnTo>
                    <a:lnTo>
                      <a:pt x="0" y="75"/>
                    </a:lnTo>
                    <a:lnTo>
                      <a:pt x="0" y="291"/>
                    </a:lnTo>
                    <a:lnTo>
                      <a:pt x="46" y="273"/>
                    </a:lnTo>
                    <a:lnTo>
                      <a:pt x="46" y="86"/>
                    </a:lnTo>
                    <a:lnTo>
                      <a:pt x="46" y="81"/>
                    </a:lnTo>
                    <a:lnTo>
                      <a:pt x="57" y="81"/>
                    </a:lnTo>
                    <a:lnTo>
                      <a:pt x="209" y="28"/>
                    </a:lnTo>
                    <a:close/>
                  </a:path>
                </a:pathLst>
              </a:custGeom>
              <a:solidFill>
                <a:srgbClr val="b6c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1374"/>
              <p:cNvSpPr/>
              <p:nvPr/>
            </p:nvSpPr>
            <p:spPr>
              <a:xfrm flipV="1">
                <a:off x="5547960" y="521604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375"/>
              <p:cNvSpPr/>
              <p:nvPr/>
            </p:nvSpPr>
            <p:spPr>
              <a:xfrm>
                <a:off x="5846760" y="4567320"/>
                <a:ext cx="150840" cy="60120"/>
              </a:xfrm>
              <a:custGeom>
                <a:avLst/>
                <a:gdLst/>
                <a:ahLst/>
                <a:rect l="l" t="t" r="r" b="b"/>
                <a:pathLst>
                  <a:path w="1446" h="724">
                    <a:moveTo>
                      <a:pt x="0" y="724"/>
                    </a:moveTo>
                    <a:lnTo>
                      <a:pt x="24" y="704"/>
                    </a:lnTo>
                    <a:lnTo>
                      <a:pt x="47" y="684"/>
                    </a:lnTo>
                    <a:lnTo>
                      <a:pt x="71" y="665"/>
                    </a:lnTo>
                    <a:lnTo>
                      <a:pt x="96" y="646"/>
                    </a:lnTo>
                    <a:lnTo>
                      <a:pt x="120" y="627"/>
                    </a:lnTo>
                    <a:lnTo>
                      <a:pt x="146" y="609"/>
                    </a:lnTo>
                    <a:lnTo>
                      <a:pt x="171" y="592"/>
                    </a:lnTo>
                    <a:lnTo>
                      <a:pt x="197" y="575"/>
                    </a:lnTo>
                    <a:lnTo>
                      <a:pt x="223" y="560"/>
                    </a:lnTo>
                    <a:lnTo>
                      <a:pt x="250" y="544"/>
                    </a:lnTo>
                    <a:lnTo>
                      <a:pt x="277" y="529"/>
                    </a:lnTo>
                    <a:lnTo>
                      <a:pt x="304" y="514"/>
                    </a:lnTo>
                    <a:lnTo>
                      <a:pt x="333" y="500"/>
                    </a:lnTo>
                    <a:lnTo>
                      <a:pt x="361" y="485"/>
                    </a:lnTo>
                    <a:lnTo>
                      <a:pt x="390" y="473"/>
                    </a:lnTo>
                    <a:lnTo>
                      <a:pt x="419" y="460"/>
                    </a:lnTo>
                    <a:lnTo>
                      <a:pt x="449" y="448"/>
                    </a:lnTo>
                    <a:lnTo>
                      <a:pt x="479" y="436"/>
                    </a:lnTo>
                    <a:lnTo>
                      <a:pt x="509" y="425"/>
                    </a:lnTo>
                    <a:lnTo>
                      <a:pt x="540" y="414"/>
                    </a:lnTo>
                    <a:lnTo>
                      <a:pt x="571" y="404"/>
                    </a:lnTo>
                    <a:lnTo>
                      <a:pt x="603" y="394"/>
                    </a:lnTo>
                    <a:lnTo>
                      <a:pt x="635" y="385"/>
                    </a:lnTo>
                    <a:lnTo>
                      <a:pt x="667" y="377"/>
                    </a:lnTo>
                    <a:lnTo>
                      <a:pt x="700" y="369"/>
                    </a:lnTo>
                    <a:lnTo>
                      <a:pt x="734" y="361"/>
                    </a:lnTo>
                    <a:lnTo>
                      <a:pt x="767" y="354"/>
                    </a:lnTo>
                    <a:lnTo>
                      <a:pt x="801" y="348"/>
                    </a:lnTo>
                    <a:lnTo>
                      <a:pt x="870" y="336"/>
                    </a:lnTo>
                    <a:lnTo>
                      <a:pt x="941" y="327"/>
                    </a:lnTo>
                    <a:lnTo>
                      <a:pt x="992" y="316"/>
                    </a:lnTo>
                    <a:lnTo>
                      <a:pt x="1041" y="303"/>
                    </a:lnTo>
                    <a:lnTo>
                      <a:pt x="1088" y="290"/>
                    </a:lnTo>
                    <a:lnTo>
                      <a:pt x="1131" y="276"/>
                    </a:lnTo>
                    <a:lnTo>
                      <a:pt x="1151" y="268"/>
                    </a:lnTo>
                    <a:lnTo>
                      <a:pt x="1171" y="260"/>
                    </a:lnTo>
                    <a:lnTo>
                      <a:pt x="1191" y="251"/>
                    </a:lnTo>
                    <a:lnTo>
                      <a:pt x="1210" y="242"/>
                    </a:lnTo>
                    <a:lnTo>
                      <a:pt x="1227" y="234"/>
                    </a:lnTo>
                    <a:lnTo>
                      <a:pt x="1245" y="225"/>
                    </a:lnTo>
                    <a:lnTo>
                      <a:pt x="1262" y="215"/>
                    </a:lnTo>
                    <a:lnTo>
                      <a:pt x="1277" y="205"/>
                    </a:lnTo>
                    <a:lnTo>
                      <a:pt x="1293" y="194"/>
                    </a:lnTo>
                    <a:lnTo>
                      <a:pt x="1307" y="184"/>
                    </a:lnTo>
                    <a:lnTo>
                      <a:pt x="1322" y="173"/>
                    </a:lnTo>
                    <a:lnTo>
                      <a:pt x="1335" y="161"/>
                    </a:lnTo>
                    <a:lnTo>
                      <a:pt x="1348" y="149"/>
                    </a:lnTo>
                    <a:lnTo>
                      <a:pt x="1361" y="137"/>
                    </a:lnTo>
                    <a:lnTo>
                      <a:pt x="1372" y="125"/>
                    </a:lnTo>
                    <a:lnTo>
                      <a:pt x="1383" y="113"/>
                    </a:lnTo>
                    <a:lnTo>
                      <a:pt x="1393" y="99"/>
                    </a:lnTo>
                    <a:lnTo>
                      <a:pt x="1402" y="86"/>
                    </a:lnTo>
                    <a:lnTo>
                      <a:pt x="1410" y="73"/>
                    </a:lnTo>
                    <a:lnTo>
                      <a:pt x="1419" y="58"/>
                    </a:lnTo>
                    <a:lnTo>
                      <a:pt x="1427" y="44"/>
                    </a:lnTo>
                    <a:lnTo>
                      <a:pt x="1434" y="30"/>
                    </a:lnTo>
                    <a:lnTo>
                      <a:pt x="1440" y="15"/>
                    </a:lnTo>
                    <a:lnTo>
                      <a:pt x="144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376"/>
              <p:cNvSpPr/>
              <p:nvPr/>
            </p:nvSpPr>
            <p:spPr>
              <a:xfrm>
                <a:off x="5997600" y="456624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0" y="10"/>
                    </a:moveTo>
                    <a:lnTo>
                      <a:pt x="14" y="0"/>
                    </a:lnTo>
                    <a:lnTo>
                      <a:pt x="1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377"/>
              <p:cNvSpPr/>
              <p:nvPr/>
            </p:nvSpPr>
            <p:spPr>
              <a:xfrm>
                <a:off x="5999760" y="4520160"/>
                <a:ext cx="16200" cy="46080"/>
              </a:xfrm>
              <a:custGeom>
                <a:avLst/>
                <a:gdLst/>
                <a:ahLst/>
                <a:rect l="l" t="t" r="r" b="b"/>
                <a:pathLst>
                  <a:path w="163" h="569">
                    <a:moveTo>
                      <a:pt x="0" y="569"/>
                    </a:moveTo>
                    <a:lnTo>
                      <a:pt x="6" y="523"/>
                    </a:lnTo>
                    <a:lnTo>
                      <a:pt x="14" y="480"/>
                    </a:lnTo>
                    <a:lnTo>
                      <a:pt x="22" y="437"/>
                    </a:lnTo>
                    <a:lnTo>
                      <a:pt x="32" y="395"/>
                    </a:lnTo>
                    <a:lnTo>
                      <a:pt x="41" y="353"/>
                    </a:lnTo>
                    <a:lnTo>
                      <a:pt x="52" y="314"/>
                    </a:lnTo>
                    <a:lnTo>
                      <a:pt x="62" y="274"/>
                    </a:lnTo>
                    <a:lnTo>
                      <a:pt x="74" y="235"/>
                    </a:lnTo>
                    <a:lnTo>
                      <a:pt x="84" y="203"/>
                    </a:lnTo>
                    <a:lnTo>
                      <a:pt x="94" y="172"/>
                    </a:lnTo>
                    <a:lnTo>
                      <a:pt x="105" y="142"/>
                    </a:lnTo>
                    <a:lnTo>
                      <a:pt x="116" y="112"/>
                    </a:lnTo>
                    <a:lnTo>
                      <a:pt x="127" y="83"/>
                    </a:lnTo>
                    <a:lnTo>
                      <a:pt x="140" y="55"/>
                    </a:lnTo>
                    <a:lnTo>
                      <a:pt x="151" y="27"/>
                    </a:lnTo>
                    <a:lnTo>
                      <a:pt x="16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378"/>
              <p:cNvSpPr/>
              <p:nvPr/>
            </p:nvSpPr>
            <p:spPr>
              <a:xfrm>
                <a:off x="6016320" y="45100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60" h="120">
                    <a:moveTo>
                      <a:pt x="0" y="120"/>
                    </a:moveTo>
                    <a:lnTo>
                      <a:pt x="60" y="3"/>
                    </a:lnTo>
                    <a:lnTo>
                      <a:pt x="5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379"/>
              <p:cNvSpPr/>
              <p:nvPr/>
            </p:nvSpPr>
            <p:spPr>
              <a:xfrm>
                <a:off x="6020640" y="4508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8" y="11"/>
                    </a:moveTo>
                    <a:lnTo>
                      <a:pt x="0" y="0"/>
                    </a:lnTo>
                    <a:lnTo>
                      <a:pt x="29" y="1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80"/>
              <p:cNvSpPr/>
              <p:nvPr/>
            </p:nvSpPr>
            <p:spPr>
              <a:xfrm>
                <a:off x="6021360" y="4510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1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81"/>
              <p:cNvSpPr/>
              <p:nvPr/>
            </p:nvSpPr>
            <p:spPr>
              <a:xfrm>
                <a:off x="6089040" y="4537440"/>
                <a:ext cx="41400" cy="127080"/>
              </a:xfrm>
              <a:custGeom>
                <a:avLst/>
                <a:gdLst/>
                <a:ahLst/>
                <a:rect l="l" t="t" r="r" b="b"/>
                <a:pathLst>
                  <a:path w="402" h="1545">
                    <a:moveTo>
                      <a:pt x="196" y="1545"/>
                    </a:moveTo>
                    <a:lnTo>
                      <a:pt x="212" y="1523"/>
                    </a:lnTo>
                    <a:lnTo>
                      <a:pt x="227" y="1501"/>
                    </a:lnTo>
                    <a:lnTo>
                      <a:pt x="241" y="1478"/>
                    </a:lnTo>
                    <a:lnTo>
                      <a:pt x="256" y="1455"/>
                    </a:lnTo>
                    <a:lnTo>
                      <a:pt x="269" y="1432"/>
                    </a:lnTo>
                    <a:lnTo>
                      <a:pt x="281" y="1407"/>
                    </a:lnTo>
                    <a:lnTo>
                      <a:pt x="294" y="1384"/>
                    </a:lnTo>
                    <a:lnTo>
                      <a:pt x="307" y="1360"/>
                    </a:lnTo>
                    <a:lnTo>
                      <a:pt x="325" y="1315"/>
                    </a:lnTo>
                    <a:lnTo>
                      <a:pt x="342" y="1270"/>
                    </a:lnTo>
                    <a:lnTo>
                      <a:pt x="357" y="1223"/>
                    </a:lnTo>
                    <a:lnTo>
                      <a:pt x="370" y="1177"/>
                    </a:lnTo>
                    <a:lnTo>
                      <a:pt x="380" y="1129"/>
                    </a:lnTo>
                    <a:lnTo>
                      <a:pt x="389" y="1080"/>
                    </a:lnTo>
                    <a:lnTo>
                      <a:pt x="395" y="1032"/>
                    </a:lnTo>
                    <a:lnTo>
                      <a:pt x="400" y="982"/>
                    </a:lnTo>
                    <a:lnTo>
                      <a:pt x="402" y="931"/>
                    </a:lnTo>
                    <a:lnTo>
                      <a:pt x="402" y="880"/>
                    </a:lnTo>
                    <a:lnTo>
                      <a:pt x="400" y="828"/>
                    </a:lnTo>
                    <a:lnTo>
                      <a:pt x="396" y="774"/>
                    </a:lnTo>
                    <a:lnTo>
                      <a:pt x="390" y="720"/>
                    </a:lnTo>
                    <a:lnTo>
                      <a:pt x="382" y="666"/>
                    </a:lnTo>
                    <a:lnTo>
                      <a:pt x="372" y="610"/>
                    </a:lnTo>
                    <a:lnTo>
                      <a:pt x="360" y="555"/>
                    </a:lnTo>
                    <a:lnTo>
                      <a:pt x="343" y="489"/>
                    </a:lnTo>
                    <a:lnTo>
                      <a:pt x="327" y="429"/>
                    </a:lnTo>
                    <a:lnTo>
                      <a:pt x="309" y="373"/>
                    </a:lnTo>
                    <a:lnTo>
                      <a:pt x="291" y="320"/>
                    </a:lnTo>
                    <a:lnTo>
                      <a:pt x="272" y="272"/>
                    </a:lnTo>
                    <a:lnTo>
                      <a:pt x="252" y="227"/>
                    </a:lnTo>
                    <a:lnTo>
                      <a:pt x="242" y="207"/>
                    </a:lnTo>
                    <a:lnTo>
                      <a:pt x="232" y="187"/>
                    </a:lnTo>
                    <a:lnTo>
                      <a:pt x="222" y="168"/>
                    </a:lnTo>
                    <a:lnTo>
                      <a:pt x="212" y="150"/>
                    </a:lnTo>
                    <a:lnTo>
                      <a:pt x="201" y="133"/>
                    </a:lnTo>
                    <a:lnTo>
                      <a:pt x="191" y="117"/>
                    </a:lnTo>
                    <a:lnTo>
                      <a:pt x="180" y="102"/>
                    </a:lnTo>
                    <a:lnTo>
                      <a:pt x="169" y="89"/>
                    </a:lnTo>
                    <a:lnTo>
                      <a:pt x="158" y="76"/>
                    </a:lnTo>
                    <a:lnTo>
                      <a:pt x="146" y="64"/>
                    </a:lnTo>
                    <a:lnTo>
                      <a:pt x="135" y="54"/>
                    </a:lnTo>
                    <a:lnTo>
                      <a:pt x="122" y="44"/>
                    </a:lnTo>
                    <a:lnTo>
                      <a:pt x="111" y="35"/>
                    </a:lnTo>
                    <a:lnTo>
                      <a:pt x="99" y="27"/>
                    </a:lnTo>
                    <a:lnTo>
                      <a:pt x="86" y="20"/>
                    </a:lnTo>
                    <a:lnTo>
                      <a:pt x="74" y="14"/>
                    </a:lnTo>
                    <a:lnTo>
                      <a:pt x="61" y="9"/>
                    </a:lnTo>
                    <a:lnTo>
                      <a:pt x="48" y="6"/>
                    </a:lnTo>
                    <a:lnTo>
                      <a:pt x="36" y="3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82"/>
              <p:cNvSpPr/>
              <p:nvPr/>
            </p:nvSpPr>
            <p:spPr>
              <a:xfrm>
                <a:off x="6040440" y="4627440"/>
                <a:ext cx="68400" cy="75960"/>
              </a:xfrm>
              <a:custGeom>
                <a:avLst/>
                <a:gdLst/>
                <a:ahLst/>
                <a:rect l="l" t="t" r="r" b="b"/>
                <a:pathLst>
                  <a:path w="666" h="923">
                    <a:moveTo>
                      <a:pt x="664" y="455"/>
                    </a:moveTo>
                    <a:lnTo>
                      <a:pt x="666" y="415"/>
                    </a:lnTo>
                    <a:lnTo>
                      <a:pt x="666" y="377"/>
                    </a:lnTo>
                    <a:lnTo>
                      <a:pt x="665" y="342"/>
                    </a:lnTo>
                    <a:lnTo>
                      <a:pt x="663" y="307"/>
                    </a:lnTo>
                    <a:lnTo>
                      <a:pt x="658" y="274"/>
                    </a:lnTo>
                    <a:lnTo>
                      <a:pt x="654" y="243"/>
                    </a:lnTo>
                    <a:lnTo>
                      <a:pt x="647" y="215"/>
                    </a:lnTo>
                    <a:lnTo>
                      <a:pt x="639" y="189"/>
                    </a:lnTo>
                    <a:lnTo>
                      <a:pt x="633" y="170"/>
                    </a:lnTo>
                    <a:lnTo>
                      <a:pt x="626" y="153"/>
                    </a:lnTo>
                    <a:lnTo>
                      <a:pt x="618" y="137"/>
                    </a:lnTo>
                    <a:lnTo>
                      <a:pt x="610" y="121"/>
                    </a:lnTo>
                    <a:lnTo>
                      <a:pt x="602" y="107"/>
                    </a:lnTo>
                    <a:lnTo>
                      <a:pt x="593" y="93"/>
                    </a:lnTo>
                    <a:lnTo>
                      <a:pt x="583" y="80"/>
                    </a:lnTo>
                    <a:lnTo>
                      <a:pt x="573" y="68"/>
                    </a:lnTo>
                    <a:lnTo>
                      <a:pt x="562" y="57"/>
                    </a:lnTo>
                    <a:lnTo>
                      <a:pt x="550" y="47"/>
                    </a:lnTo>
                    <a:lnTo>
                      <a:pt x="538" y="38"/>
                    </a:lnTo>
                    <a:lnTo>
                      <a:pt x="525" y="29"/>
                    </a:lnTo>
                    <a:lnTo>
                      <a:pt x="512" y="21"/>
                    </a:lnTo>
                    <a:lnTo>
                      <a:pt x="498" y="15"/>
                    </a:lnTo>
                    <a:lnTo>
                      <a:pt x="484" y="9"/>
                    </a:lnTo>
                    <a:lnTo>
                      <a:pt x="468" y="4"/>
                    </a:lnTo>
                    <a:lnTo>
                      <a:pt x="466" y="4"/>
                    </a:lnTo>
                    <a:lnTo>
                      <a:pt x="464" y="4"/>
                    </a:lnTo>
                    <a:lnTo>
                      <a:pt x="461" y="3"/>
                    </a:lnTo>
                    <a:lnTo>
                      <a:pt x="458" y="0"/>
                    </a:lnTo>
                    <a:lnTo>
                      <a:pt x="441" y="1"/>
                    </a:lnTo>
                    <a:lnTo>
                      <a:pt x="423" y="3"/>
                    </a:lnTo>
                    <a:lnTo>
                      <a:pt x="406" y="4"/>
                    </a:lnTo>
                    <a:lnTo>
                      <a:pt x="391" y="4"/>
                    </a:lnTo>
                    <a:lnTo>
                      <a:pt x="387" y="4"/>
                    </a:lnTo>
                    <a:lnTo>
                      <a:pt x="384" y="4"/>
                    </a:lnTo>
                    <a:lnTo>
                      <a:pt x="366" y="7"/>
                    </a:lnTo>
                    <a:lnTo>
                      <a:pt x="349" y="10"/>
                    </a:lnTo>
                    <a:lnTo>
                      <a:pt x="332" y="14"/>
                    </a:lnTo>
                    <a:lnTo>
                      <a:pt x="316" y="18"/>
                    </a:lnTo>
                    <a:lnTo>
                      <a:pt x="300" y="24"/>
                    </a:lnTo>
                    <a:lnTo>
                      <a:pt x="285" y="29"/>
                    </a:lnTo>
                    <a:lnTo>
                      <a:pt x="270" y="36"/>
                    </a:lnTo>
                    <a:lnTo>
                      <a:pt x="255" y="42"/>
                    </a:lnTo>
                    <a:lnTo>
                      <a:pt x="241" y="50"/>
                    </a:lnTo>
                    <a:lnTo>
                      <a:pt x="227" y="58"/>
                    </a:lnTo>
                    <a:lnTo>
                      <a:pt x="213" y="68"/>
                    </a:lnTo>
                    <a:lnTo>
                      <a:pt x="200" y="77"/>
                    </a:lnTo>
                    <a:lnTo>
                      <a:pt x="188" y="87"/>
                    </a:lnTo>
                    <a:lnTo>
                      <a:pt x="176" y="98"/>
                    </a:lnTo>
                    <a:lnTo>
                      <a:pt x="163" y="109"/>
                    </a:lnTo>
                    <a:lnTo>
                      <a:pt x="152" y="121"/>
                    </a:lnTo>
                    <a:lnTo>
                      <a:pt x="141" y="135"/>
                    </a:lnTo>
                    <a:lnTo>
                      <a:pt x="130" y="148"/>
                    </a:lnTo>
                    <a:lnTo>
                      <a:pt x="120" y="161"/>
                    </a:lnTo>
                    <a:lnTo>
                      <a:pt x="110" y="177"/>
                    </a:lnTo>
                    <a:lnTo>
                      <a:pt x="100" y="191"/>
                    </a:lnTo>
                    <a:lnTo>
                      <a:pt x="91" y="208"/>
                    </a:lnTo>
                    <a:lnTo>
                      <a:pt x="82" y="224"/>
                    </a:lnTo>
                    <a:lnTo>
                      <a:pt x="73" y="241"/>
                    </a:lnTo>
                    <a:lnTo>
                      <a:pt x="66" y="259"/>
                    </a:lnTo>
                    <a:lnTo>
                      <a:pt x="58" y="278"/>
                    </a:lnTo>
                    <a:lnTo>
                      <a:pt x="51" y="296"/>
                    </a:lnTo>
                    <a:lnTo>
                      <a:pt x="45" y="316"/>
                    </a:lnTo>
                    <a:lnTo>
                      <a:pt x="32" y="357"/>
                    </a:lnTo>
                    <a:lnTo>
                      <a:pt x="21" y="402"/>
                    </a:lnTo>
                    <a:lnTo>
                      <a:pt x="19" y="410"/>
                    </a:lnTo>
                    <a:lnTo>
                      <a:pt x="18" y="418"/>
                    </a:lnTo>
                    <a:lnTo>
                      <a:pt x="17" y="427"/>
                    </a:lnTo>
                    <a:lnTo>
                      <a:pt x="15" y="437"/>
                    </a:lnTo>
                    <a:lnTo>
                      <a:pt x="9" y="457"/>
                    </a:lnTo>
                    <a:lnTo>
                      <a:pt x="6" y="478"/>
                    </a:lnTo>
                    <a:lnTo>
                      <a:pt x="2" y="500"/>
                    </a:lnTo>
                    <a:lnTo>
                      <a:pt x="0" y="523"/>
                    </a:lnTo>
                    <a:lnTo>
                      <a:pt x="2" y="557"/>
                    </a:lnTo>
                    <a:lnTo>
                      <a:pt x="6" y="590"/>
                    </a:lnTo>
                    <a:lnTo>
                      <a:pt x="10" y="621"/>
                    </a:lnTo>
                    <a:lnTo>
                      <a:pt x="17" y="651"/>
                    </a:lnTo>
                    <a:lnTo>
                      <a:pt x="25" y="680"/>
                    </a:lnTo>
                    <a:lnTo>
                      <a:pt x="34" y="707"/>
                    </a:lnTo>
                    <a:lnTo>
                      <a:pt x="45" y="732"/>
                    </a:lnTo>
                    <a:lnTo>
                      <a:pt x="56" y="757"/>
                    </a:lnTo>
                    <a:lnTo>
                      <a:pt x="69" y="779"/>
                    </a:lnTo>
                    <a:lnTo>
                      <a:pt x="85" y="800"/>
                    </a:lnTo>
                    <a:lnTo>
                      <a:pt x="100" y="820"/>
                    </a:lnTo>
                    <a:lnTo>
                      <a:pt x="118" y="838"/>
                    </a:lnTo>
                    <a:lnTo>
                      <a:pt x="137" y="854"/>
                    </a:lnTo>
                    <a:lnTo>
                      <a:pt x="158" y="870"/>
                    </a:lnTo>
                    <a:lnTo>
                      <a:pt x="179" y="883"/>
                    </a:lnTo>
                    <a:lnTo>
                      <a:pt x="202" y="895"/>
                    </a:lnTo>
                    <a:lnTo>
                      <a:pt x="224" y="903"/>
                    </a:lnTo>
                    <a:lnTo>
                      <a:pt x="248" y="911"/>
                    </a:lnTo>
                    <a:lnTo>
                      <a:pt x="272" y="917"/>
                    </a:lnTo>
                    <a:lnTo>
                      <a:pt x="299" y="923"/>
                    </a:lnTo>
                    <a:lnTo>
                      <a:pt x="324" y="920"/>
                    </a:lnTo>
                    <a:lnTo>
                      <a:pt x="347" y="915"/>
                    </a:lnTo>
                    <a:lnTo>
                      <a:pt x="371" y="907"/>
                    </a:lnTo>
                    <a:lnTo>
                      <a:pt x="394" y="8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83"/>
              <p:cNvSpPr/>
              <p:nvPr/>
            </p:nvSpPr>
            <p:spPr>
              <a:xfrm>
                <a:off x="6079680" y="46267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0"/>
                    </a:moveTo>
                    <a:lnTo>
                      <a:pt x="3" y="4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84"/>
              <p:cNvSpPr/>
              <p:nvPr/>
            </p:nvSpPr>
            <p:spPr>
              <a:xfrm>
                <a:off x="6077520" y="4646880"/>
                <a:ext cx="19800" cy="34560"/>
              </a:xfrm>
              <a:custGeom>
                <a:avLst/>
                <a:gdLst/>
                <a:ahLst/>
                <a:rect l="l" t="t" r="r" b="b"/>
                <a:pathLst>
                  <a:path w="198" h="420">
                    <a:moveTo>
                      <a:pt x="0" y="12"/>
                    </a:moveTo>
                    <a:lnTo>
                      <a:pt x="12" y="8"/>
                    </a:lnTo>
                    <a:lnTo>
                      <a:pt x="25" y="5"/>
                    </a:lnTo>
                    <a:lnTo>
                      <a:pt x="38" y="1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81" y="0"/>
                    </a:lnTo>
                    <a:lnTo>
                      <a:pt x="95" y="0"/>
                    </a:lnTo>
                    <a:lnTo>
                      <a:pt x="109" y="1"/>
                    </a:lnTo>
                    <a:lnTo>
                      <a:pt x="123" y="8"/>
                    </a:lnTo>
                    <a:lnTo>
                      <a:pt x="134" y="15"/>
                    </a:lnTo>
                    <a:lnTo>
                      <a:pt x="144" y="23"/>
                    </a:lnTo>
                    <a:lnTo>
                      <a:pt x="153" y="33"/>
                    </a:lnTo>
                    <a:lnTo>
                      <a:pt x="158" y="41"/>
                    </a:lnTo>
                    <a:lnTo>
                      <a:pt x="164" y="49"/>
                    </a:lnTo>
                    <a:lnTo>
                      <a:pt x="168" y="58"/>
                    </a:lnTo>
                    <a:lnTo>
                      <a:pt x="173" y="67"/>
                    </a:lnTo>
                    <a:lnTo>
                      <a:pt x="182" y="86"/>
                    </a:lnTo>
                    <a:lnTo>
                      <a:pt x="187" y="106"/>
                    </a:lnTo>
                    <a:lnTo>
                      <a:pt x="193" y="129"/>
                    </a:lnTo>
                    <a:lnTo>
                      <a:pt x="196" y="153"/>
                    </a:lnTo>
                    <a:lnTo>
                      <a:pt x="198" y="179"/>
                    </a:lnTo>
                    <a:lnTo>
                      <a:pt x="198" y="208"/>
                    </a:lnTo>
                    <a:lnTo>
                      <a:pt x="198" y="210"/>
                    </a:lnTo>
                    <a:lnTo>
                      <a:pt x="198" y="214"/>
                    </a:lnTo>
                    <a:lnTo>
                      <a:pt x="196" y="230"/>
                    </a:lnTo>
                    <a:lnTo>
                      <a:pt x="194" y="245"/>
                    </a:lnTo>
                    <a:lnTo>
                      <a:pt x="190" y="260"/>
                    </a:lnTo>
                    <a:lnTo>
                      <a:pt x="188" y="275"/>
                    </a:lnTo>
                    <a:lnTo>
                      <a:pt x="182" y="294"/>
                    </a:lnTo>
                    <a:lnTo>
                      <a:pt x="175" y="314"/>
                    </a:lnTo>
                    <a:lnTo>
                      <a:pt x="167" y="334"/>
                    </a:lnTo>
                    <a:lnTo>
                      <a:pt x="159" y="353"/>
                    </a:lnTo>
                    <a:lnTo>
                      <a:pt x="149" y="371"/>
                    </a:lnTo>
                    <a:lnTo>
                      <a:pt x="140" y="388"/>
                    </a:lnTo>
                    <a:lnTo>
                      <a:pt x="130" y="405"/>
                    </a:lnTo>
                    <a:lnTo>
                      <a:pt x="120" y="42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385"/>
              <p:cNvSpPr/>
              <p:nvPr/>
            </p:nvSpPr>
            <p:spPr>
              <a:xfrm>
                <a:off x="6085080" y="469296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89" h="189">
                    <a:moveTo>
                      <a:pt x="0" y="189"/>
                    </a:moveTo>
                    <a:lnTo>
                      <a:pt x="13" y="181"/>
                    </a:lnTo>
                    <a:lnTo>
                      <a:pt x="23" y="174"/>
                    </a:lnTo>
                    <a:lnTo>
                      <a:pt x="28" y="171"/>
                    </a:lnTo>
                    <a:lnTo>
                      <a:pt x="31" y="168"/>
                    </a:lnTo>
                    <a:lnTo>
                      <a:pt x="34" y="165"/>
                    </a:lnTo>
                    <a:lnTo>
                      <a:pt x="35" y="160"/>
                    </a:lnTo>
                    <a:lnTo>
                      <a:pt x="46" y="142"/>
                    </a:lnTo>
                    <a:lnTo>
                      <a:pt x="56" y="125"/>
                    </a:lnTo>
                    <a:lnTo>
                      <a:pt x="64" y="107"/>
                    </a:lnTo>
                    <a:lnTo>
                      <a:pt x="71" y="88"/>
                    </a:lnTo>
                    <a:lnTo>
                      <a:pt x="75" y="69"/>
                    </a:lnTo>
                    <a:lnTo>
                      <a:pt x="80" y="50"/>
                    </a:lnTo>
                    <a:lnTo>
                      <a:pt x="81" y="31"/>
                    </a:lnTo>
                    <a:lnTo>
                      <a:pt x="82" y="11"/>
                    </a:lnTo>
                    <a:lnTo>
                      <a:pt x="84" y="7"/>
                    </a:lnTo>
                    <a:lnTo>
                      <a:pt x="8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386"/>
              <p:cNvSpPr/>
              <p:nvPr/>
            </p:nvSpPr>
            <p:spPr>
              <a:xfrm>
                <a:off x="6094440" y="4664880"/>
                <a:ext cx="14400" cy="28080"/>
              </a:xfrm>
              <a:custGeom>
                <a:avLst/>
                <a:gdLst/>
                <a:ahLst/>
                <a:rect l="l" t="t" r="r" b="b"/>
                <a:pathLst>
                  <a:path w="142" h="340">
                    <a:moveTo>
                      <a:pt x="0" y="340"/>
                    </a:moveTo>
                    <a:lnTo>
                      <a:pt x="14" y="323"/>
                    </a:lnTo>
                    <a:lnTo>
                      <a:pt x="27" y="304"/>
                    </a:lnTo>
                    <a:lnTo>
                      <a:pt x="40" y="283"/>
                    </a:lnTo>
                    <a:lnTo>
                      <a:pt x="52" y="262"/>
                    </a:lnTo>
                    <a:lnTo>
                      <a:pt x="64" y="239"/>
                    </a:lnTo>
                    <a:lnTo>
                      <a:pt x="74" y="217"/>
                    </a:lnTo>
                    <a:lnTo>
                      <a:pt x="85" y="194"/>
                    </a:lnTo>
                    <a:lnTo>
                      <a:pt x="96" y="170"/>
                    </a:lnTo>
                    <a:lnTo>
                      <a:pt x="104" y="149"/>
                    </a:lnTo>
                    <a:lnTo>
                      <a:pt x="111" y="127"/>
                    </a:lnTo>
                    <a:lnTo>
                      <a:pt x="117" y="106"/>
                    </a:lnTo>
                    <a:lnTo>
                      <a:pt x="124" y="85"/>
                    </a:lnTo>
                    <a:lnTo>
                      <a:pt x="124" y="81"/>
                    </a:lnTo>
                    <a:lnTo>
                      <a:pt x="124" y="78"/>
                    </a:lnTo>
                    <a:lnTo>
                      <a:pt x="124" y="75"/>
                    </a:lnTo>
                    <a:lnTo>
                      <a:pt x="125" y="74"/>
                    </a:lnTo>
                    <a:lnTo>
                      <a:pt x="126" y="74"/>
                    </a:lnTo>
                    <a:lnTo>
                      <a:pt x="128" y="74"/>
                    </a:lnTo>
                    <a:lnTo>
                      <a:pt x="132" y="58"/>
                    </a:lnTo>
                    <a:lnTo>
                      <a:pt x="135" y="40"/>
                    </a:lnTo>
                    <a:lnTo>
                      <a:pt x="139" y="20"/>
                    </a:lnTo>
                    <a:lnTo>
                      <a:pt x="14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1387"/>
              <p:cNvSpPr/>
              <p:nvPr/>
            </p:nvSpPr>
            <p:spPr>
              <a:xfrm flipH="1" flipV="1">
                <a:off x="6112800" y="4746240"/>
                <a:ext cx="82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388"/>
              <p:cNvSpPr/>
              <p:nvPr/>
            </p:nvSpPr>
            <p:spPr>
              <a:xfrm>
                <a:off x="6080760" y="4730040"/>
                <a:ext cx="32040" cy="16200"/>
              </a:xfrm>
              <a:custGeom>
                <a:avLst/>
                <a:gdLst/>
                <a:ahLst/>
                <a:rect l="l" t="t" r="r" b="b"/>
                <a:pathLst>
                  <a:path w="313" h="203">
                    <a:moveTo>
                      <a:pt x="313" y="203"/>
                    </a:moveTo>
                    <a:lnTo>
                      <a:pt x="310" y="194"/>
                    </a:lnTo>
                    <a:lnTo>
                      <a:pt x="305" y="189"/>
                    </a:lnTo>
                    <a:lnTo>
                      <a:pt x="305" y="185"/>
                    </a:lnTo>
                    <a:lnTo>
                      <a:pt x="305" y="185"/>
                    </a:lnTo>
                    <a:lnTo>
                      <a:pt x="304" y="184"/>
                    </a:lnTo>
                    <a:lnTo>
                      <a:pt x="303" y="182"/>
                    </a:lnTo>
                    <a:lnTo>
                      <a:pt x="302" y="179"/>
                    </a:lnTo>
                    <a:lnTo>
                      <a:pt x="302" y="178"/>
                    </a:lnTo>
                    <a:lnTo>
                      <a:pt x="302" y="175"/>
                    </a:lnTo>
                    <a:lnTo>
                      <a:pt x="302" y="174"/>
                    </a:lnTo>
                    <a:lnTo>
                      <a:pt x="298" y="170"/>
                    </a:lnTo>
                    <a:lnTo>
                      <a:pt x="295" y="168"/>
                    </a:lnTo>
                    <a:lnTo>
                      <a:pt x="287" y="155"/>
                    </a:lnTo>
                    <a:lnTo>
                      <a:pt x="277" y="142"/>
                    </a:lnTo>
                    <a:lnTo>
                      <a:pt x="266" y="131"/>
                    </a:lnTo>
                    <a:lnTo>
                      <a:pt x="254" y="119"/>
                    </a:lnTo>
                    <a:lnTo>
                      <a:pt x="241" y="108"/>
                    </a:lnTo>
                    <a:lnTo>
                      <a:pt x="225" y="97"/>
                    </a:lnTo>
                    <a:lnTo>
                      <a:pt x="210" y="86"/>
                    </a:lnTo>
                    <a:lnTo>
                      <a:pt x="192" y="75"/>
                    </a:lnTo>
                    <a:lnTo>
                      <a:pt x="172" y="65"/>
                    </a:lnTo>
                    <a:lnTo>
                      <a:pt x="152" y="55"/>
                    </a:lnTo>
                    <a:lnTo>
                      <a:pt x="130" y="45"/>
                    </a:lnTo>
                    <a:lnTo>
                      <a:pt x="107" y="36"/>
                    </a:lnTo>
                    <a:lnTo>
                      <a:pt x="82" y="26"/>
                    </a:lnTo>
                    <a:lnTo>
                      <a:pt x="57" y="17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389"/>
              <p:cNvSpPr/>
              <p:nvPr/>
            </p:nvSpPr>
            <p:spPr>
              <a:xfrm>
                <a:off x="5966640" y="4748400"/>
                <a:ext cx="137160" cy="152280"/>
              </a:xfrm>
              <a:custGeom>
                <a:avLst/>
                <a:gdLst/>
                <a:ahLst/>
                <a:rect l="l" t="t" r="r" b="b"/>
                <a:pathLst>
                  <a:path w="1320" h="1838">
                    <a:moveTo>
                      <a:pt x="1320" y="0"/>
                    </a:moveTo>
                    <a:lnTo>
                      <a:pt x="1320" y="19"/>
                    </a:lnTo>
                    <a:lnTo>
                      <a:pt x="1318" y="37"/>
                    </a:lnTo>
                    <a:lnTo>
                      <a:pt x="1316" y="55"/>
                    </a:lnTo>
                    <a:lnTo>
                      <a:pt x="1314" y="74"/>
                    </a:lnTo>
                    <a:lnTo>
                      <a:pt x="1305" y="111"/>
                    </a:lnTo>
                    <a:lnTo>
                      <a:pt x="1295" y="147"/>
                    </a:lnTo>
                    <a:lnTo>
                      <a:pt x="1284" y="185"/>
                    </a:lnTo>
                    <a:lnTo>
                      <a:pt x="1272" y="224"/>
                    </a:lnTo>
                    <a:lnTo>
                      <a:pt x="1270" y="228"/>
                    </a:lnTo>
                    <a:lnTo>
                      <a:pt x="1269" y="233"/>
                    </a:lnTo>
                    <a:lnTo>
                      <a:pt x="1267" y="236"/>
                    </a:lnTo>
                    <a:lnTo>
                      <a:pt x="1264" y="242"/>
                    </a:lnTo>
                    <a:lnTo>
                      <a:pt x="1256" y="265"/>
                    </a:lnTo>
                    <a:lnTo>
                      <a:pt x="1246" y="289"/>
                    </a:lnTo>
                    <a:lnTo>
                      <a:pt x="1236" y="315"/>
                    </a:lnTo>
                    <a:lnTo>
                      <a:pt x="1225" y="339"/>
                    </a:lnTo>
                    <a:lnTo>
                      <a:pt x="1213" y="365"/>
                    </a:lnTo>
                    <a:lnTo>
                      <a:pt x="1201" y="389"/>
                    </a:lnTo>
                    <a:lnTo>
                      <a:pt x="1188" y="415"/>
                    </a:lnTo>
                    <a:lnTo>
                      <a:pt x="1175" y="440"/>
                    </a:lnTo>
                    <a:lnTo>
                      <a:pt x="1157" y="471"/>
                    </a:lnTo>
                    <a:lnTo>
                      <a:pt x="1136" y="506"/>
                    </a:lnTo>
                    <a:lnTo>
                      <a:pt x="1113" y="543"/>
                    </a:lnTo>
                    <a:lnTo>
                      <a:pt x="1086" y="583"/>
                    </a:lnTo>
                    <a:lnTo>
                      <a:pt x="1056" y="628"/>
                    </a:lnTo>
                    <a:lnTo>
                      <a:pt x="1024" y="673"/>
                    </a:lnTo>
                    <a:lnTo>
                      <a:pt x="990" y="723"/>
                    </a:lnTo>
                    <a:lnTo>
                      <a:pt x="952" y="775"/>
                    </a:lnTo>
                    <a:lnTo>
                      <a:pt x="911" y="830"/>
                    </a:lnTo>
                    <a:lnTo>
                      <a:pt x="868" y="889"/>
                    </a:lnTo>
                    <a:lnTo>
                      <a:pt x="821" y="950"/>
                    </a:lnTo>
                    <a:lnTo>
                      <a:pt x="771" y="1015"/>
                    </a:lnTo>
                    <a:lnTo>
                      <a:pt x="720" y="1082"/>
                    </a:lnTo>
                    <a:lnTo>
                      <a:pt x="665" y="1153"/>
                    </a:lnTo>
                    <a:lnTo>
                      <a:pt x="607" y="1226"/>
                    </a:lnTo>
                    <a:lnTo>
                      <a:pt x="547" y="1303"/>
                    </a:lnTo>
                    <a:lnTo>
                      <a:pt x="543" y="1306"/>
                    </a:lnTo>
                    <a:lnTo>
                      <a:pt x="539" y="1309"/>
                    </a:lnTo>
                    <a:lnTo>
                      <a:pt x="538" y="1314"/>
                    </a:lnTo>
                    <a:lnTo>
                      <a:pt x="536" y="1316"/>
                    </a:lnTo>
                    <a:lnTo>
                      <a:pt x="486" y="1344"/>
                    </a:lnTo>
                    <a:lnTo>
                      <a:pt x="438" y="1372"/>
                    </a:lnTo>
                    <a:lnTo>
                      <a:pt x="392" y="1400"/>
                    </a:lnTo>
                    <a:lnTo>
                      <a:pt x="349" y="1429"/>
                    </a:lnTo>
                    <a:lnTo>
                      <a:pt x="308" y="1459"/>
                    </a:lnTo>
                    <a:lnTo>
                      <a:pt x="269" y="1490"/>
                    </a:lnTo>
                    <a:lnTo>
                      <a:pt x="232" y="1521"/>
                    </a:lnTo>
                    <a:lnTo>
                      <a:pt x="198" y="1553"/>
                    </a:lnTo>
                    <a:lnTo>
                      <a:pt x="166" y="1587"/>
                    </a:lnTo>
                    <a:lnTo>
                      <a:pt x="134" y="1620"/>
                    </a:lnTo>
                    <a:lnTo>
                      <a:pt x="107" y="1654"/>
                    </a:lnTo>
                    <a:lnTo>
                      <a:pt x="81" y="1690"/>
                    </a:lnTo>
                    <a:lnTo>
                      <a:pt x="69" y="1708"/>
                    </a:lnTo>
                    <a:lnTo>
                      <a:pt x="58" y="1726"/>
                    </a:lnTo>
                    <a:lnTo>
                      <a:pt x="47" y="1744"/>
                    </a:lnTo>
                    <a:lnTo>
                      <a:pt x="36" y="1763"/>
                    </a:lnTo>
                    <a:lnTo>
                      <a:pt x="26" y="1782"/>
                    </a:lnTo>
                    <a:lnTo>
                      <a:pt x="17" y="1801"/>
                    </a:lnTo>
                    <a:lnTo>
                      <a:pt x="8" y="1820"/>
                    </a:lnTo>
                    <a:lnTo>
                      <a:pt x="0" y="183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390"/>
              <p:cNvSpPr/>
              <p:nvPr/>
            </p:nvSpPr>
            <p:spPr>
              <a:xfrm>
                <a:off x="6028920" y="4849200"/>
                <a:ext cx="54000" cy="10800"/>
              </a:xfrm>
              <a:custGeom>
                <a:avLst/>
                <a:gdLst/>
                <a:ahLst/>
                <a:rect l="l" t="t" r="r" b="b"/>
                <a:pathLst>
                  <a:path w="515" h="139">
                    <a:moveTo>
                      <a:pt x="0" y="131"/>
                    </a:moveTo>
                    <a:lnTo>
                      <a:pt x="20" y="108"/>
                    </a:lnTo>
                    <a:lnTo>
                      <a:pt x="40" y="86"/>
                    </a:lnTo>
                    <a:lnTo>
                      <a:pt x="60" y="67"/>
                    </a:lnTo>
                    <a:lnTo>
                      <a:pt x="81" y="49"/>
                    </a:lnTo>
                    <a:lnTo>
                      <a:pt x="92" y="43"/>
                    </a:lnTo>
                    <a:lnTo>
                      <a:pt x="103" y="36"/>
                    </a:lnTo>
                    <a:lnTo>
                      <a:pt x="113" y="29"/>
                    </a:lnTo>
                    <a:lnTo>
                      <a:pt x="124" y="24"/>
                    </a:lnTo>
                    <a:lnTo>
                      <a:pt x="135" y="18"/>
                    </a:lnTo>
                    <a:lnTo>
                      <a:pt x="148" y="14"/>
                    </a:lnTo>
                    <a:lnTo>
                      <a:pt x="159" y="10"/>
                    </a:lnTo>
                    <a:lnTo>
                      <a:pt x="170" y="7"/>
                    </a:lnTo>
                    <a:lnTo>
                      <a:pt x="182" y="4"/>
                    </a:lnTo>
                    <a:lnTo>
                      <a:pt x="193" y="3"/>
                    </a:lnTo>
                    <a:lnTo>
                      <a:pt x="205" y="0"/>
                    </a:lnTo>
                    <a:lnTo>
                      <a:pt x="218" y="0"/>
                    </a:lnTo>
                    <a:lnTo>
                      <a:pt x="230" y="0"/>
                    </a:lnTo>
                    <a:lnTo>
                      <a:pt x="242" y="0"/>
                    </a:lnTo>
                    <a:lnTo>
                      <a:pt x="254" y="2"/>
                    </a:lnTo>
                    <a:lnTo>
                      <a:pt x="266" y="4"/>
                    </a:lnTo>
                    <a:lnTo>
                      <a:pt x="279" y="6"/>
                    </a:lnTo>
                    <a:lnTo>
                      <a:pt x="292" y="8"/>
                    </a:lnTo>
                    <a:lnTo>
                      <a:pt x="304" y="13"/>
                    </a:lnTo>
                    <a:lnTo>
                      <a:pt x="317" y="16"/>
                    </a:lnTo>
                    <a:lnTo>
                      <a:pt x="343" y="27"/>
                    </a:lnTo>
                    <a:lnTo>
                      <a:pt x="369" y="39"/>
                    </a:lnTo>
                    <a:lnTo>
                      <a:pt x="375" y="41"/>
                    </a:lnTo>
                    <a:lnTo>
                      <a:pt x="384" y="43"/>
                    </a:lnTo>
                    <a:lnTo>
                      <a:pt x="385" y="46"/>
                    </a:lnTo>
                    <a:lnTo>
                      <a:pt x="387" y="46"/>
                    </a:lnTo>
                    <a:lnTo>
                      <a:pt x="392" y="50"/>
                    </a:lnTo>
                    <a:lnTo>
                      <a:pt x="394" y="54"/>
                    </a:lnTo>
                    <a:lnTo>
                      <a:pt x="424" y="70"/>
                    </a:lnTo>
                    <a:lnTo>
                      <a:pt x="455" y="90"/>
                    </a:lnTo>
                    <a:lnTo>
                      <a:pt x="470" y="101"/>
                    </a:lnTo>
                    <a:lnTo>
                      <a:pt x="485" y="114"/>
                    </a:lnTo>
                    <a:lnTo>
                      <a:pt x="500" y="126"/>
                    </a:lnTo>
                    <a:lnTo>
                      <a:pt x="515" y="13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1391"/>
              <p:cNvSpPr/>
              <p:nvPr/>
            </p:nvSpPr>
            <p:spPr>
              <a:xfrm>
                <a:off x="6082920" y="4860360"/>
                <a:ext cx="320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92"/>
              <p:cNvSpPr/>
              <p:nvPr/>
            </p:nvSpPr>
            <p:spPr>
              <a:xfrm>
                <a:off x="6115320" y="4763520"/>
                <a:ext cx="22680" cy="113040"/>
              </a:xfrm>
              <a:custGeom>
                <a:avLst/>
                <a:gdLst/>
                <a:ahLst/>
                <a:rect l="l" t="t" r="r" b="b"/>
                <a:pathLst>
                  <a:path w="223" h="1371">
                    <a:moveTo>
                      <a:pt x="0" y="1371"/>
                    </a:moveTo>
                    <a:lnTo>
                      <a:pt x="16" y="1331"/>
                    </a:lnTo>
                    <a:lnTo>
                      <a:pt x="32" y="1288"/>
                    </a:lnTo>
                    <a:lnTo>
                      <a:pt x="47" y="1244"/>
                    </a:lnTo>
                    <a:lnTo>
                      <a:pt x="62" y="1198"/>
                    </a:lnTo>
                    <a:lnTo>
                      <a:pt x="75" y="1149"/>
                    </a:lnTo>
                    <a:lnTo>
                      <a:pt x="90" y="1097"/>
                    </a:lnTo>
                    <a:lnTo>
                      <a:pt x="103" y="1043"/>
                    </a:lnTo>
                    <a:lnTo>
                      <a:pt x="115" y="987"/>
                    </a:lnTo>
                    <a:lnTo>
                      <a:pt x="127" y="929"/>
                    </a:lnTo>
                    <a:lnTo>
                      <a:pt x="138" y="868"/>
                    </a:lnTo>
                    <a:lnTo>
                      <a:pt x="149" y="805"/>
                    </a:lnTo>
                    <a:lnTo>
                      <a:pt x="161" y="740"/>
                    </a:lnTo>
                    <a:lnTo>
                      <a:pt x="171" y="672"/>
                    </a:lnTo>
                    <a:lnTo>
                      <a:pt x="180" y="602"/>
                    </a:lnTo>
                    <a:lnTo>
                      <a:pt x="189" y="529"/>
                    </a:lnTo>
                    <a:lnTo>
                      <a:pt x="198" y="455"/>
                    </a:lnTo>
                    <a:lnTo>
                      <a:pt x="207" y="416"/>
                    </a:lnTo>
                    <a:lnTo>
                      <a:pt x="214" y="379"/>
                    </a:lnTo>
                    <a:lnTo>
                      <a:pt x="219" y="343"/>
                    </a:lnTo>
                    <a:lnTo>
                      <a:pt x="222" y="308"/>
                    </a:lnTo>
                    <a:lnTo>
                      <a:pt x="223" y="275"/>
                    </a:lnTo>
                    <a:lnTo>
                      <a:pt x="222" y="243"/>
                    </a:lnTo>
                    <a:lnTo>
                      <a:pt x="218" y="213"/>
                    </a:lnTo>
                    <a:lnTo>
                      <a:pt x="213" y="184"/>
                    </a:lnTo>
                    <a:lnTo>
                      <a:pt x="209" y="170"/>
                    </a:lnTo>
                    <a:lnTo>
                      <a:pt x="205" y="156"/>
                    </a:lnTo>
                    <a:lnTo>
                      <a:pt x="200" y="142"/>
                    </a:lnTo>
                    <a:lnTo>
                      <a:pt x="196" y="130"/>
                    </a:lnTo>
                    <a:lnTo>
                      <a:pt x="190" y="116"/>
                    </a:lnTo>
                    <a:lnTo>
                      <a:pt x="185" y="104"/>
                    </a:lnTo>
                    <a:lnTo>
                      <a:pt x="178" y="92"/>
                    </a:lnTo>
                    <a:lnTo>
                      <a:pt x="172" y="81"/>
                    </a:lnTo>
                    <a:lnTo>
                      <a:pt x="164" y="70"/>
                    </a:lnTo>
                    <a:lnTo>
                      <a:pt x="156" y="59"/>
                    </a:lnTo>
                    <a:lnTo>
                      <a:pt x="148" y="48"/>
                    </a:lnTo>
                    <a:lnTo>
                      <a:pt x="139" y="38"/>
                    </a:lnTo>
                    <a:lnTo>
                      <a:pt x="129" y="28"/>
                    </a:lnTo>
                    <a:lnTo>
                      <a:pt x="119" y="19"/>
                    </a:lnTo>
                    <a:lnTo>
                      <a:pt x="109" y="9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1393"/>
              <p:cNvSpPr/>
              <p:nvPr/>
            </p:nvSpPr>
            <p:spPr>
              <a:xfrm flipH="1" flipV="1">
                <a:off x="6121080" y="4756680"/>
                <a:ext cx="39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94"/>
              <p:cNvSpPr/>
              <p:nvPr/>
            </p:nvSpPr>
            <p:spPr>
              <a:xfrm>
                <a:off x="6154920" y="4718520"/>
                <a:ext cx="12240" cy="65160"/>
              </a:xfrm>
              <a:custGeom>
                <a:avLst/>
                <a:gdLst/>
                <a:ahLst/>
                <a:rect l="l" t="t" r="r" b="b"/>
                <a:pathLst>
                  <a:path w="119" h="787">
                    <a:moveTo>
                      <a:pt x="89" y="787"/>
                    </a:moveTo>
                    <a:lnTo>
                      <a:pt x="97" y="762"/>
                    </a:lnTo>
                    <a:lnTo>
                      <a:pt x="104" y="735"/>
                    </a:lnTo>
                    <a:lnTo>
                      <a:pt x="108" y="710"/>
                    </a:lnTo>
                    <a:lnTo>
                      <a:pt x="113" y="684"/>
                    </a:lnTo>
                    <a:lnTo>
                      <a:pt x="116" y="659"/>
                    </a:lnTo>
                    <a:lnTo>
                      <a:pt x="118" y="633"/>
                    </a:lnTo>
                    <a:lnTo>
                      <a:pt x="119" y="609"/>
                    </a:lnTo>
                    <a:lnTo>
                      <a:pt x="119" y="584"/>
                    </a:lnTo>
                    <a:lnTo>
                      <a:pt x="119" y="560"/>
                    </a:lnTo>
                    <a:lnTo>
                      <a:pt x="117" y="537"/>
                    </a:lnTo>
                    <a:lnTo>
                      <a:pt x="114" y="512"/>
                    </a:lnTo>
                    <a:lnTo>
                      <a:pt x="111" y="489"/>
                    </a:lnTo>
                    <a:lnTo>
                      <a:pt x="106" y="466"/>
                    </a:lnTo>
                    <a:lnTo>
                      <a:pt x="101" y="443"/>
                    </a:lnTo>
                    <a:lnTo>
                      <a:pt x="94" y="420"/>
                    </a:lnTo>
                    <a:lnTo>
                      <a:pt x="86" y="397"/>
                    </a:lnTo>
                    <a:lnTo>
                      <a:pt x="72" y="375"/>
                    </a:lnTo>
                    <a:lnTo>
                      <a:pt x="58" y="352"/>
                    </a:lnTo>
                    <a:lnTo>
                      <a:pt x="46" y="328"/>
                    </a:lnTo>
                    <a:lnTo>
                      <a:pt x="35" y="304"/>
                    </a:lnTo>
                    <a:lnTo>
                      <a:pt x="26" y="281"/>
                    </a:lnTo>
                    <a:lnTo>
                      <a:pt x="18" y="256"/>
                    </a:lnTo>
                    <a:lnTo>
                      <a:pt x="12" y="232"/>
                    </a:lnTo>
                    <a:lnTo>
                      <a:pt x="6" y="206"/>
                    </a:lnTo>
                    <a:lnTo>
                      <a:pt x="3" y="182"/>
                    </a:lnTo>
                    <a:lnTo>
                      <a:pt x="1" y="156"/>
                    </a:lnTo>
                    <a:lnTo>
                      <a:pt x="0" y="131"/>
                    </a:lnTo>
                    <a:lnTo>
                      <a:pt x="0" y="104"/>
                    </a:lnTo>
                    <a:lnTo>
                      <a:pt x="2" y="79"/>
                    </a:lnTo>
                    <a:lnTo>
                      <a:pt x="4" y="52"/>
                    </a:lnTo>
                    <a:lnTo>
                      <a:pt x="10" y="27"/>
                    </a:lnTo>
                    <a:lnTo>
                      <a:pt x="1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95"/>
              <p:cNvSpPr/>
              <p:nvPr/>
            </p:nvSpPr>
            <p:spPr>
              <a:xfrm>
                <a:off x="6121440" y="4756680"/>
                <a:ext cx="42120" cy="27360"/>
              </a:xfrm>
              <a:custGeom>
                <a:avLst/>
                <a:gdLst/>
                <a:ahLst/>
                <a:rect l="l" t="t" r="r" b="b"/>
                <a:pathLst>
                  <a:path w="408" h="333">
                    <a:moveTo>
                      <a:pt x="408" y="333"/>
                    </a:moveTo>
                    <a:lnTo>
                      <a:pt x="384" y="306"/>
                    </a:lnTo>
                    <a:lnTo>
                      <a:pt x="356" y="276"/>
                    </a:lnTo>
                    <a:lnTo>
                      <a:pt x="328" y="246"/>
                    </a:lnTo>
                    <a:lnTo>
                      <a:pt x="298" y="215"/>
                    </a:lnTo>
                    <a:lnTo>
                      <a:pt x="264" y="184"/>
                    </a:lnTo>
                    <a:lnTo>
                      <a:pt x="230" y="152"/>
                    </a:lnTo>
                    <a:lnTo>
                      <a:pt x="194" y="118"/>
                    </a:lnTo>
                    <a:lnTo>
                      <a:pt x="157" y="85"/>
                    </a:lnTo>
                    <a:lnTo>
                      <a:pt x="146" y="72"/>
                    </a:lnTo>
                    <a:lnTo>
                      <a:pt x="136" y="59"/>
                    </a:lnTo>
                    <a:lnTo>
                      <a:pt x="124" y="48"/>
                    </a:lnTo>
                    <a:lnTo>
                      <a:pt x="115" y="38"/>
                    </a:lnTo>
                    <a:lnTo>
                      <a:pt x="105" y="30"/>
                    </a:lnTo>
                    <a:lnTo>
                      <a:pt x="95" y="22"/>
                    </a:lnTo>
                    <a:lnTo>
                      <a:pt x="85" y="16"/>
                    </a:lnTo>
                    <a:lnTo>
                      <a:pt x="75" y="11"/>
                    </a:lnTo>
                    <a:lnTo>
                      <a:pt x="65" y="6"/>
                    </a:lnTo>
                    <a:lnTo>
                      <a:pt x="55" y="3"/>
                    </a:lnTo>
                    <a:lnTo>
                      <a:pt x="46" y="1"/>
                    </a:lnTo>
                    <a:lnTo>
                      <a:pt x="36" y="0"/>
                    </a:lnTo>
                    <a:lnTo>
                      <a:pt x="27" y="1"/>
                    </a:lnTo>
                    <a:lnTo>
                      <a:pt x="18" y="2"/>
                    </a:lnTo>
                    <a:lnTo>
                      <a:pt x="9" y="4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396"/>
              <p:cNvSpPr/>
              <p:nvPr/>
            </p:nvSpPr>
            <p:spPr>
              <a:xfrm>
                <a:off x="6120360" y="4649040"/>
                <a:ext cx="36000" cy="69120"/>
              </a:xfrm>
              <a:custGeom>
                <a:avLst/>
                <a:gdLst/>
                <a:ahLst/>
                <a:rect l="l" t="t" r="r" b="b"/>
                <a:pathLst>
                  <a:path w="343" h="838">
                    <a:moveTo>
                      <a:pt x="340" y="838"/>
                    </a:moveTo>
                    <a:lnTo>
                      <a:pt x="342" y="818"/>
                    </a:lnTo>
                    <a:lnTo>
                      <a:pt x="343" y="798"/>
                    </a:lnTo>
                    <a:lnTo>
                      <a:pt x="343" y="777"/>
                    </a:lnTo>
                    <a:lnTo>
                      <a:pt x="342" y="756"/>
                    </a:lnTo>
                    <a:lnTo>
                      <a:pt x="341" y="735"/>
                    </a:lnTo>
                    <a:lnTo>
                      <a:pt x="339" y="713"/>
                    </a:lnTo>
                    <a:lnTo>
                      <a:pt x="336" y="691"/>
                    </a:lnTo>
                    <a:lnTo>
                      <a:pt x="332" y="667"/>
                    </a:lnTo>
                    <a:lnTo>
                      <a:pt x="328" y="644"/>
                    </a:lnTo>
                    <a:lnTo>
                      <a:pt x="322" y="621"/>
                    </a:lnTo>
                    <a:lnTo>
                      <a:pt x="316" y="596"/>
                    </a:lnTo>
                    <a:lnTo>
                      <a:pt x="309" y="572"/>
                    </a:lnTo>
                    <a:lnTo>
                      <a:pt x="300" y="548"/>
                    </a:lnTo>
                    <a:lnTo>
                      <a:pt x="292" y="522"/>
                    </a:lnTo>
                    <a:lnTo>
                      <a:pt x="282" y="497"/>
                    </a:lnTo>
                    <a:lnTo>
                      <a:pt x="272" y="471"/>
                    </a:lnTo>
                    <a:lnTo>
                      <a:pt x="249" y="418"/>
                    </a:lnTo>
                    <a:lnTo>
                      <a:pt x="223" y="362"/>
                    </a:lnTo>
                    <a:lnTo>
                      <a:pt x="194" y="307"/>
                    </a:lnTo>
                    <a:lnTo>
                      <a:pt x="160" y="248"/>
                    </a:lnTo>
                    <a:lnTo>
                      <a:pt x="125" y="188"/>
                    </a:lnTo>
                    <a:lnTo>
                      <a:pt x="86" y="127"/>
                    </a:lnTo>
                    <a:lnTo>
                      <a:pt x="44" y="6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1397"/>
              <p:cNvSpPr/>
              <p:nvPr/>
            </p:nvSpPr>
            <p:spPr>
              <a:xfrm>
                <a:off x="6062040" y="4647600"/>
                <a:ext cx="28080" cy="40320"/>
              </a:xfrm>
              <a:custGeom>
                <a:avLst/>
                <a:gdLst/>
                <a:ahLst/>
                <a:rect l="l" t="t" r="r" b="b"/>
                <a:pathLst>
                  <a:path w="269" h="491">
                    <a:moveTo>
                      <a:pt x="149" y="0"/>
                    </a:moveTo>
                    <a:lnTo>
                      <a:pt x="135" y="6"/>
                    </a:lnTo>
                    <a:lnTo>
                      <a:pt x="122" y="14"/>
                    </a:lnTo>
                    <a:lnTo>
                      <a:pt x="110" y="21"/>
                    </a:lnTo>
                    <a:lnTo>
                      <a:pt x="98" y="31"/>
                    </a:lnTo>
                    <a:lnTo>
                      <a:pt x="86" y="41"/>
                    </a:lnTo>
                    <a:lnTo>
                      <a:pt x="75" y="54"/>
                    </a:lnTo>
                    <a:lnTo>
                      <a:pt x="65" y="66"/>
                    </a:lnTo>
                    <a:lnTo>
                      <a:pt x="56" y="80"/>
                    </a:lnTo>
                    <a:lnTo>
                      <a:pt x="48" y="96"/>
                    </a:lnTo>
                    <a:lnTo>
                      <a:pt x="39" y="111"/>
                    </a:lnTo>
                    <a:lnTo>
                      <a:pt x="31" y="129"/>
                    </a:lnTo>
                    <a:lnTo>
                      <a:pt x="24" y="148"/>
                    </a:lnTo>
                    <a:lnTo>
                      <a:pt x="18" y="168"/>
                    </a:lnTo>
                    <a:lnTo>
                      <a:pt x="12" y="189"/>
                    </a:lnTo>
                    <a:lnTo>
                      <a:pt x="8" y="211"/>
                    </a:lnTo>
                    <a:lnTo>
                      <a:pt x="3" y="234"/>
                    </a:lnTo>
                    <a:lnTo>
                      <a:pt x="0" y="240"/>
                    </a:lnTo>
                    <a:lnTo>
                      <a:pt x="0" y="242"/>
                    </a:lnTo>
                    <a:lnTo>
                      <a:pt x="1" y="264"/>
                    </a:lnTo>
                    <a:lnTo>
                      <a:pt x="3" y="285"/>
                    </a:lnTo>
                    <a:lnTo>
                      <a:pt x="5" y="305"/>
                    </a:lnTo>
                    <a:lnTo>
                      <a:pt x="9" y="324"/>
                    </a:lnTo>
                    <a:lnTo>
                      <a:pt x="12" y="342"/>
                    </a:lnTo>
                    <a:lnTo>
                      <a:pt x="17" y="360"/>
                    </a:lnTo>
                    <a:lnTo>
                      <a:pt x="22" y="375"/>
                    </a:lnTo>
                    <a:lnTo>
                      <a:pt x="28" y="391"/>
                    </a:lnTo>
                    <a:lnTo>
                      <a:pt x="28" y="396"/>
                    </a:lnTo>
                    <a:lnTo>
                      <a:pt x="28" y="402"/>
                    </a:lnTo>
                    <a:lnTo>
                      <a:pt x="33" y="411"/>
                    </a:lnTo>
                    <a:lnTo>
                      <a:pt x="40" y="421"/>
                    </a:lnTo>
                    <a:lnTo>
                      <a:pt x="45" y="428"/>
                    </a:lnTo>
                    <a:lnTo>
                      <a:pt x="52" y="436"/>
                    </a:lnTo>
                    <a:lnTo>
                      <a:pt x="59" y="444"/>
                    </a:lnTo>
                    <a:lnTo>
                      <a:pt x="66" y="451"/>
                    </a:lnTo>
                    <a:lnTo>
                      <a:pt x="73" y="457"/>
                    </a:lnTo>
                    <a:lnTo>
                      <a:pt x="81" y="463"/>
                    </a:lnTo>
                    <a:lnTo>
                      <a:pt x="90" y="468"/>
                    </a:lnTo>
                    <a:lnTo>
                      <a:pt x="98" y="473"/>
                    </a:lnTo>
                    <a:lnTo>
                      <a:pt x="106" y="477"/>
                    </a:lnTo>
                    <a:lnTo>
                      <a:pt x="116" y="481"/>
                    </a:lnTo>
                    <a:lnTo>
                      <a:pt x="125" y="484"/>
                    </a:lnTo>
                    <a:lnTo>
                      <a:pt x="135" y="486"/>
                    </a:lnTo>
                    <a:lnTo>
                      <a:pt x="145" y="488"/>
                    </a:lnTo>
                    <a:lnTo>
                      <a:pt x="156" y="491"/>
                    </a:lnTo>
                    <a:lnTo>
                      <a:pt x="164" y="491"/>
                    </a:lnTo>
                    <a:lnTo>
                      <a:pt x="172" y="489"/>
                    </a:lnTo>
                    <a:lnTo>
                      <a:pt x="180" y="488"/>
                    </a:lnTo>
                    <a:lnTo>
                      <a:pt x="187" y="486"/>
                    </a:lnTo>
                    <a:lnTo>
                      <a:pt x="200" y="478"/>
                    </a:lnTo>
                    <a:lnTo>
                      <a:pt x="211" y="469"/>
                    </a:lnTo>
                    <a:lnTo>
                      <a:pt x="221" y="461"/>
                    </a:lnTo>
                    <a:lnTo>
                      <a:pt x="232" y="451"/>
                    </a:lnTo>
                    <a:lnTo>
                      <a:pt x="251" y="430"/>
                    </a:lnTo>
                    <a:lnTo>
                      <a:pt x="269" y="40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1398"/>
              <p:cNvSpPr/>
              <p:nvPr/>
            </p:nvSpPr>
            <p:spPr>
              <a:xfrm>
                <a:off x="6068520" y="4647600"/>
                <a:ext cx="21600" cy="35640"/>
              </a:xfrm>
              <a:custGeom>
                <a:avLst/>
                <a:gdLst/>
                <a:ahLst/>
                <a:rect l="l" t="t" r="r" b="b"/>
                <a:pathLst>
                  <a:path w="206" h="427">
                    <a:moveTo>
                      <a:pt x="206" y="408"/>
                    </a:moveTo>
                    <a:lnTo>
                      <a:pt x="192" y="414"/>
                    </a:lnTo>
                    <a:lnTo>
                      <a:pt x="178" y="420"/>
                    </a:lnTo>
                    <a:lnTo>
                      <a:pt x="164" y="423"/>
                    </a:lnTo>
                    <a:lnTo>
                      <a:pt x="151" y="425"/>
                    </a:lnTo>
                    <a:lnTo>
                      <a:pt x="139" y="427"/>
                    </a:lnTo>
                    <a:lnTo>
                      <a:pt x="127" y="427"/>
                    </a:lnTo>
                    <a:lnTo>
                      <a:pt x="114" y="427"/>
                    </a:lnTo>
                    <a:lnTo>
                      <a:pt x="103" y="426"/>
                    </a:lnTo>
                    <a:lnTo>
                      <a:pt x="92" y="423"/>
                    </a:lnTo>
                    <a:lnTo>
                      <a:pt x="81" y="418"/>
                    </a:lnTo>
                    <a:lnTo>
                      <a:pt x="70" y="414"/>
                    </a:lnTo>
                    <a:lnTo>
                      <a:pt x="60" y="407"/>
                    </a:lnTo>
                    <a:lnTo>
                      <a:pt x="51" y="400"/>
                    </a:lnTo>
                    <a:lnTo>
                      <a:pt x="42" y="391"/>
                    </a:lnTo>
                    <a:lnTo>
                      <a:pt x="33" y="381"/>
                    </a:lnTo>
                    <a:lnTo>
                      <a:pt x="26" y="370"/>
                    </a:lnTo>
                    <a:lnTo>
                      <a:pt x="19" y="353"/>
                    </a:lnTo>
                    <a:lnTo>
                      <a:pt x="13" y="337"/>
                    </a:lnTo>
                    <a:lnTo>
                      <a:pt x="10" y="321"/>
                    </a:lnTo>
                    <a:lnTo>
                      <a:pt x="7" y="304"/>
                    </a:lnTo>
                    <a:lnTo>
                      <a:pt x="3" y="288"/>
                    </a:lnTo>
                    <a:lnTo>
                      <a:pt x="2" y="272"/>
                    </a:lnTo>
                    <a:lnTo>
                      <a:pt x="1" y="257"/>
                    </a:lnTo>
                    <a:lnTo>
                      <a:pt x="0" y="242"/>
                    </a:lnTo>
                    <a:lnTo>
                      <a:pt x="1" y="225"/>
                    </a:lnTo>
                    <a:lnTo>
                      <a:pt x="2" y="210"/>
                    </a:lnTo>
                    <a:lnTo>
                      <a:pt x="3" y="194"/>
                    </a:lnTo>
                    <a:lnTo>
                      <a:pt x="7" y="179"/>
                    </a:lnTo>
                    <a:lnTo>
                      <a:pt x="9" y="163"/>
                    </a:lnTo>
                    <a:lnTo>
                      <a:pt x="13" y="149"/>
                    </a:lnTo>
                    <a:lnTo>
                      <a:pt x="18" y="133"/>
                    </a:lnTo>
                    <a:lnTo>
                      <a:pt x="23" y="118"/>
                    </a:lnTo>
                    <a:lnTo>
                      <a:pt x="29" y="104"/>
                    </a:lnTo>
                    <a:lnTo>
                      <a:pt x="36" y="89"/>
                    </a:lnTo>
                    <a:lnTo>
                      <a:pt x="42" y="74"/>
                    </a:lnTo>
                    <a:lnTo>
                      <a:pt x="50" y="59"/>
                    </a:lnTo>
                    <a:lnTo>
                      <a:pt x="67" y="29"/>
                    </a:lnTo>
                    <a:lnTo>
                      <a:pt x="8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1399"/>
              <p:cNvSpPr/>
              <p:nvPr/>
            </p:nvSpPr>
            <p:spPr>
              <a:xfrm>
                <a:off x="6080760" y="4700520"/>
                <a:ext cx="5040" cy="72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0" y="18"/>
                    </a:moveTo>
                    <a:lnTo>
                      <a:pt x="16" y="10"/>
                    </a:lnTo>
                    <a:lnTo>
                      <a:pt x="29" y="4"/>
                    </a:lnTo>
                    <a:lnTo>
                      <a:pt x="39" y="1"/>
                    </a:lnTo>
                    <a:lnTo>
                      <a:pt x="4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1400"/>
              <p:cNvSpPr/>
              <p:nvPr/>
            </p:nvSpPr>
            <p:spPr>
              <a:xfrm>
                <a:off x="5925960" y="4659840"/>
                <a:ext cx="19440" cy="7200"/>
              </a:xfrm>
              <a:custGeom>
                <a:avLst/>
                <a:gdLst/>
                <a:ahLst/>
                <a:rect l="l" t="t" r="r" b="b"/>
                <a:pathLst>
                  <a:path w="191" h="96">
                    <a:moveTo>
                      <a:pt x="191" y="0"/>
                    </a:moveTo>
                    <a:lnTo>
                      <a:pt x="189" y="2"/>
                    </a:lnTo>
                    <a:lnTo>
                      <a:pt x="187" y="3"/>
                    </a:lnTo>
                    <a:lnTo>
                      <a:pt x="186" y="3"/>
                    </a:lnTo>
                    <a:lnTo>
                      <a:pt x="184" y="3"/>
                    </a:lnTo>
                    <a:lnTo>
                      <a:pt x="175" y="6"/>
                    </a:lnTo>
                    <a:lnTo>
                      <a:pt x="166" y="11"/>
                    </a:lnTo>
                    <a:lnTo>
                      <a:pt x="155" y="14"/>
                    </a:lnTo>
                    <a:lnTo>
                      <a:pt x="145" y="17"/>
                    </a:lnTo>
                    <a:lnTo>
                      <a:pt x="107" y="36"/>
                    </a:lnTo>
                    <a:lnTo>
                      <a:pt x="71" y="54"/>
                    </a:lnTo>
                    <a:lnTo>
                      <a:pt x="53" y="64"/>
                    </a:lnTo>
                    <a:lnTo>
                      <a:pt x="34" y="74"/>
                    </a:lnTo>
                    <a:lnTo>
                      <a:pt x="16" y="84"/>
                    </a:lnTo>
                    <a:lnTo>
                      <a:pt x="0" y="9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1401"/>
              <p:cNvSpPr/>
              <p:nvPr/>
            </p:nvSpPr>
            <p:spPr>
              <a:xfrm flipH="1" flipV="1">
                <a:off x="5920200" y="4663440"/>
                <a:ext cx="5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1402"/>
              <p:cNvSpPr/>
              <p:nvPr/>
            </p:nvSpPr>
            <p:spPr>
              <a:xfrm>
                <a:off x="5920560" y="4647600"/>
                <a:ext cx="96840" cy="16200"/>
              </a:xfrm>
              <a:custGeom>
                <a:avLst/>
                <a:gdLst/>
                <a:ahLst/>
                <a:rect l="l" t="t" r="r" b="b"/>
                <a:pathLst>
                  <a:path w="934" h="192">
                    <a:moveTo>
                      <a:pt x="0" y="192"/>
                    </a:moveTo>
                    <a:lnTo>
                      <a:pt x="22" y="180"/>
                    </a:lnTo>
                    <a:lnTo>
                      <a:pt x="45" y="170"/>
                    </a:lnTo>
                    <a:lnTo>
                      <a:pt x="67" y="161"/>
                    </a:lnTo>
                    <a:lnTo>
                      <a:pt x="89" y="149"/>
                    </a:lnTo>
                    <a:lnTo>
                      <a:pt x="110" y="141"/>
                    </a:lnTo>
                    <a:lnTo>
                      <a:pt x="131" y="131"/>
                    </a:lnTo>
                    <a:lnTo>
                      <a:pt x="153" y="122"/>
                    </a:lnTo>
                    <a:lnTo>
                      <a:pt x="174" y="114"/>
                    </a:lnTo>
                    <a:lnTo>
                      <a:pt x="221" y="94"/>
                    </a:lnTo>
                    <a:lnTo>
                      <a:pt x="268" y="76"/>
                    </a:lnTo>
                    <a:lnTo>
                      <a:pt x="314" y="61"/>
                    </a:lnTo>
                    <a:lnTo>
                      <a:pt x="361" y="46"/>
                    </a:lnTo>
                    <a:lnTo>
                      <a:pt x="406" y="33"/>
                    </a:lnTo>
                    <a:lnTo>
                      <a:pt x="453" y="21"/>
                    </a:lnTo>
                    <a:lnTo>
                      <a:pt x="498" y="10"/>
                    </a:lnTo>
                    <a:lnTo>
                      <a:pt x="544" y="0"/>
                    </a:lnTo>
                    <a:lnTo>
                      <a:pt x="593" y="11"/>
                    </a:lnTo>
                    <a:lnTo>
                      <a:pt x="641" y="23"/>
                    </a:lnTo>
                    <a:lnTo>
                      <a:pt x="690" y="35"/>
                    </a:lnTo>
                    <a:lnTo>
                      <a:pt x="739" y="47"/>
                    </a:lnTo>
                    <a:lnTo>
                      <a:pt x="788" y="62"/>
                    </a:lnTo>
                    <a:lnTo>
                      <a:pt x="836" y="76"/>
                    </a:lnTo>
                    <a:lnTo>
                      <a:pt x="885" y="91"/>
                    </a:lnTo>
                    <a:lnTo>
                      <a:pt x="934" y="10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1403"/>
              <p:cNvSpPr/>
              <p:nvPr/>
            </p:nvSpPr>
            <p:spPr>
              <a:xfrm flipH="1" flipV="1">
                <a:off x="5976720" y="4652280"/>
                <a:ext cx="4032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404"/>
              <p:cNvSpPr/>
              <p:nvPr/>
            </p:nvSpPr>
            <p:spPr>
              <a:xfrm>
                <a:off x="5945400" y="4652640"/>
                <a:ext cx="31320" cy="7200"/>
              </a:xfrm>
              <a:custGeom>
                <a:avLst/>
                <a:gdLst/>
                <a:ahLst/>
                <a:rect l="l" t="t" r="r" b="b"/>
                <a:pathLst>
                  <a:path w="306" h="81">
                    <a:moveTo>
                      <a:pt x="306" y="0"/>
                    </a:moveTo>
                    <a:lnTo>
                      <a:pt x="266" y="6"/>
                    </a:lnTo>
                    <a:lnTo>
                      <a:pt x="226" y="14"/>
                    </a:lnTo>
                    <a:lnTo>
                      <a:pt x="187" y="23"/>
                    </a:lnTo>
                    <a:lnTo>
                      <a:pt x="148" y="33"/>
                    </a:lnTo>
                    <a:lnTo>
                      <a:pt x="110" y="44"/>
                    </a:lnTo>
                    <a:lnTo>
                      <a:pt x="73" y="55"/>
                    </a:lnTo>
                    <a:lnTo>
                      <a:pt x="36" y="67"/>
                    </a:lnTo>
                    <a:lnTo>
                      <a:pt x="0" y="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405"/>
              <p:cNvSpPr/>
              <p:nvPr/>
            </p:nvSpPr>
            <p:spPr>
              <a:xfrm>
                <a:off x="5934240" y="4668120"/>
                <a:ext cx="55080" cy="11520"/>
              </a:xfrm>
              <a:custGeom>
                <a:avLst/>
                <a:gdLst/>
                <a:ahLst/>
                <a:rect l="l" t="t" r="r" b="b"/>
                <a:pathLst>
                  <a:path w="526" h="146">
                    <a:moveTo>
                      <a:pt x="526" y="71"/>
                    </a:moveTo>
                    <a:lnTo>
                      <a:pt x="526" y="68"/>
                    </a:lnTo>
                    <a:lnTo>
                      <a:pt x="526" y="68"/>
                    </a:lnTo>
                    <a:lnTo>
                      <a:pt x="513" y="63"/>
                    </a:lnTo>
                    <a:lnTo>
                      <a:pt x="499" y="57"/>
                    </a:lnTo>
                    <a:lnTo>
                      <a:pt x="486" y="54"/>
                    </a:lnTo>
                    <a:lnTo>
                      <a:pt x="473" y="50"/>
                    </a:lnTo>
                    <a:lnTo>
                      <a:pt x="435" y="35"/>
                    </a:lnTo>
                    <a:lnTo>
                      <a:pt x="398" y="24"/>
                    </a:lnTo>
                    <a:lnTo>
                      <a:pt x="363" y="14"/>
                    </a:lnTo>
                    <a:lnTo>
                      <a:pt x="330" y="7"/>
                    </a:lnTo>
                    <a:lnTo>
                      <a:pt x="313" y="5"/>
                    </a:lnTo>
                    <a:lnTo>
                      <a:pt x="296" y="3"/>
                    </a:lnTo>
                    <a:lnTo>
                      <a:pt x="281" y="2"/>
                    </a:lnTo>
                    <a:lnTo>
                      <a:pt x="265" y="0"/>
                    </a:lnTo>
                    <a:lnTo>
                      <a:pt x="250" y="0"/>
                    </a:lnTo>
                    <a:lnTo>
                      <a:pt x="235" y="0"/>
                    </a:lnTo>
                    <a:lnTo>
                      <a:pt x="221" y="2"/>
                    </a:lnTo>
                    <a:lnTo>
                      <a:pt x="206" y="4"/>
                    </a:lnTo>
                    <a:lnTo>
                      <a:pt x="191" y="7"/>
                    </a:lnTo>
                    <a:lnTo>
                      <a:pt x="175" y="10"/>
                    </a:lnTo>
                    <a:lnTo>
                      <a:pt x="160" y="15"/>
                    </a:lnTo>
                    <a:lnTo>
                      <a:pt x="146" y="18"/>
                    </a:lnTo>
                    <a:lnTo>
                      <a:pt x="137" y="20"/>
                    </a:lnTo>
                    <a:lnTo>
                      <a:pt x="127" y="24"/>
                    </a:lnTo>
                    <a:lnTo>
                      <a:pt x="119" y="27"/>
                    </a:lnTo>
                    <a:lnTo>
                      <a:pt x="111" y="33"/>
                    </a:lnTo>
                    <a:lnTo>
                      <a:pt x="93" y="41"/>
                    </a:lnTo>
                    <a:lnTo>
                      <a:pt x="78" y="51"/>
                    </a:lnTo>
                    <a:lnTo>
                      <a:pt x="63" y="64"/>
                    </a:lnTo>
                    <a:lnTo>
                      <a:pt x="49" y="77"/>
                    </a:lnTo>
                    <a:lnTo>
                      <a:pt x="36" y="92"/>
                    </a:lnTo>
                    <a:lnTo>
                      <a:pt x="23" y="108"/>
                    </a:lnTo>
                    <a:lnTo>
                      <a:pt x="11" y="127"/>
                    </a:lnTo>
                    <a:lnTo>
                      <a:pt x="0" y="1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406"/>
              <p:cNvSpPr/>
              <p:nvPr/>
            </p:nvSpPr>
            <p:spPr>
              <a:xfrm>
                <a:off x="5963040" y="4671360"/>
                <a:ext cx="23760" cy="2160"/>
              </a:xfrm>
              <a:custGeom>
                <a:avLst/>
                <a:gdLst/>
                <a:ahLst/>
                <a:rect l="l" t="t" r="r" b="b"/>
                <a:pathLst>
                  <a:path w="231" h="30">
                    <a:moveTo>
                      <a:pt x="0" y="5"/>
                    </a:moveTo>
                    <a:lnTo>
                      <a:pt x="8" y="3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6" y="1"/>
                    </a:lnTo>
                    <a:lnTo>
                      <a:pt x="53" y="0"/>
                    </a:lnTo>
                    <a:lnTo>
                      <a:pt x="78" y="0"/>
                    </a:lnTo>
                    <a:lnTo>
                      <a:pt x="101" y="1"/>
                    </a:lnTo>
                    <a:lnTo>
                      <a:pt x="124" y="3"/>
                    </a:lnTo>
                    <a:lnTo>
                      <a:pt x="144" y="8"/>
                    </a:lnTo>
                    <a:lnTo>
                      <a:pt x="161" y="12"/>
                    </a:lnTo>
                    <a:lnTo>
                      <a:pt x="178" y="19"/>
                    </a:lnTo>
                    <a:lnTo>
                      <a:pt x="192" y="26"/>
                    </a:lnTo>
                    <a:lnTo>
                      <a:pt x="199" y="29"/>
                    </a:lnTo>
                    <a:lnTo>
                      <a:pt x="208" y="30"/>
                    </a:lnTo>
                    <a:lnTo>
                      <a:pt x="219" y="30"/>
                    </a:lnTo>
                    <a:lnTo>
                      <a:pt x="231" y="3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1407"/>
              <p:cNvSpPr/>
              <p:nvPr/>
            </p:nvSpPr>
            <p:spPr>
              <a:xfrm flipH="1">
                <a:off x="5955840" y="4672440"/>
                <a:ext cx="72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408"/>
              <p:cNvSpPr/>
              <p:nvPr/>
            </p:nvSpPr>
            <p:spPr>
              <a:xfrm>
                <a:off x="5946840" y="46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101" h="133">
                    <a:moveTo>
                      <a:pt x="83" y="0"/>
                    </a:moveTo>
                    <a:lnTo>
                      <a:pt x="65" y="2"/>
                    </a:lnTo>
                    <a:lnTo>
                      <a:pt x="45" y="5"/>
                    </a:lnTo>
                    <a:lnTo>
                      <a:pt x="25" y="11"/>
                    </a:lnTo>
                    <a:lnTo>
                      <a:pt x="6" y="17"/>
                    </a:lnTo>
                    <a:lnTo>
                      <a:pt x="4" y="30"/>
                    </a:lnTo>
                    <a:lnTo>
                      <a:pt x="1" y="41"/>
                    </a:lnTo>
                    <a:lnTo>
                      <a:pt x="0" y="52"/>
                    </a:lnTo>
                    <a:lnTo>
                      <a:pt x="0" y="63"/>
                    </a:lnTo>
                    <a:lnTo>
                      <a:pt x="1" y="72"/>
                    </a:lnTo>
                    <a:lnTo>
                      <a:pt x="2" y="81"/>
                    </a:lnTo>
                    <a:lnTo>
                      <a:pt x="5" y="89"/>
                    </a:lnTo>
                    <a:lnTo>
                      <a:pt x="8" y="96"/>
                    </a:lnTo>
                    <a:lnTo>
                      <a:pt x="11" y="104"/>
                    </a:lnTo>
                    <a:lnTo>
                      <a:pt x="16" y="109"/>
                    </a:lnTo>
                    <a:lnTo>
                      <a:pt x="21" y="115"/>
                    </a:lnTo>
                    <a:lnTo>
                      <a:pt x="27" y="119"/>
                    </a:lnTo>
                    <a:lnTo>
                      <a:pt x="35" y="124"/>
                    </a:lnTo>
                    <a:lnTo>
                      <a:pt x="41" y="126"/>
                    </a:lnTo>
                    <a:lnTo>
                      <a:pt x="50" y="129"/>
                    </a:lnTo>
                    <a:lnTo>
                      <a:pt x="59" y="131"/>
                    </a:lnTo>
                    <a:lnTo>
                      <a:pt x="69" y="132"/>
                    </a:lnTo>
                    <a:lnTo>
                      <a:pt x="79" y="132"/>
                    </a:lnTo>
                    <a:lnTo>
                      <a:pt x="89" y="133"/>
                    </a:lnTo>
                    <a:lnTo>
                      <a:pt x="101" y="13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1409"/>
              <p:cNvSpPr/>
              <p:nvPr/>
            </p:nvSpPr>
            <p:spPr>
              <a:xfrm>
                <a:off x="5958000" y="467640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97" h="78">
                    <a:moveTo>
                      <a:pt x="0" y="78"/>
                    </a:moveTo>
                    <a:lnTo>
                      <a:pt x="6" y="78"/>
                    </a:lnTo>
                    <a:lnTo>
                      <a:pt x="10" y="78"/>
                    </a:lnTo>
                    <a:lnTo>
                      <a:pt x="15" y="76"/>
                    </a:lnTo>
                    <a:lnTo>
                      <a:pt x="18" y="74"/>
                    </a:lnTo>
                    <a:lnTo>
                      <a:pt x="27" y="73"/>
                    </a:lnTo>
                    <a:lnTo>
                      <a:pt x="36" y="71"/>
                    </a:lnTo>
                    <a:lnTo>
                      <a:pt x="43" y="68"/>
                    </a:lnTo>
                    <a:lnTo>
                      <a:pt x="50" y="65"/>
                    </a:lnTo>
                    <a:lnTo>
                      <a:pt x="57" y="62"/>
                    </a:lnTo>
                    <a:lnTo>
                      <a:pt x="62" y="58"/>
                    </a:lnTo>
                    <a:lnTo>
                      <a:pt x="68" y="53"/>
                    </a:lnTo>
                    <a:lnTo>
                      <a:pt x="73" y="49"/>
                    </a:lnTo>
                    <a:lnTo>
                      <a:pt x="78" y="44"/>
                    </a:lnTo>
                    <a:lnTo>
                      <a:pt x="81" y="39"/>
                    </a:lnTo>
                    <a:lnTo>
                      <a:pt x="84" y="33"/>
                    </a:lnTo>
                    <a:lnTo>
                      <a:pt x="88" y="27"/>
                    </a:lnTo>
                    <a:lnTo>
                      <a:pt x="92" y="14"/>
                    </a:lnTo>
                    <a:lnTo>
                      <a:pt x="9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1410"/>
              <p:cNvSpPr/>
              <p:nvPr/>
            </p:nvSpPr>
            <p:spPr>
              <a:xfrm flipV="1">
                <a:off x="5967360" y="467640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411"/>
              <p:cNvSpPr/>
              <p:nvPr/>
            </p:nvSpPr>
            <p:spPr>
              <a:xfrm>
                <a:off x="5965200" y="4672440"/>
                <a:ext cx="1800" cy="396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18" y="54"/>
                    </a:moveTo>
                    <a:lnTo>
                      <a:pt x="17" y="45"/>
                    </a:lnTo>
                    <a:lnTo>
                      <a:pt x="15" y="37"/>
                    </a:lnTo>
                    <a:lnTo>
                      <a:pt x="14" y="30"/>
                    </a:lnTo>
                    <a:lnTo>
                      <a:pt x="12" y="23"/>
                    </a:lnTo>
                    <a:lnTo>
                      <a:pt x="10" y="16"/>
                    </a:lnTo>
                    <a:lnTo>
                      <a:pt x="7" y="9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1412"/>
              <p:cNvSpPr/>
              <p:nvPr/>
            </p:nvSpPr>
            <p:spPr>
              <a:xfrm flipH="1">
                <a:off x="5962680" y="467244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1413"/>
              <p:cNvSpPr/>
              <p:nvPr/>
            </p:nvSpPr>
            <p:spPr>
              <a:xfrm>
                <a:off x="5932800" y="4673160"/>
                <a:ext cx="54000" cy="11520"/>
              </a:xfrm>
              <a:custGeom>
                <a:avLst/>
                <a:gdLst/>
                <a:ahLst/>
                <a:rect l="l" t="t" r="r" b="b"/>
                <a:pathLst>
                  <a:path w="520" h="141">
                    <a:moveTo>
                      <a:pt x="141" y="0"/>
                    </a:moveTo>
                    <a:lnTo>
                      <a:pt x="141" y="0"/>
                    </a:lnTo>
                    <a:lnTo>
                      <a:pt x="141" y="3"/>
                    </a:lnTo>
                    <a:lnTo>
                      <a:pt x="127" y="9"/>
                    </a:lnTo>
                    <a:lnTo>
                      <a:pt x="113" y="17"/>
                    </a:lnTo>
                    <a:lnTo>
                      <a:pt x="100" y="26"/>
                    </a:lnTo>
                    <a:lnTo>
                      <a:pt x="85" y="36"/>
                    </a:lnTo>
                    <a:lnTo>
                      <a:pt x="71" y="47"/>
                    </a:lnTo>
                    <a:lnTo>
                      <a:pt x="58" y="59"/>
                    </a:lnTo>
                    <a:lnTo>
                      <a:pt x="44" y="73"/>
                    </a:lnTo>
                    <a:lnTo>
                      <a:pt x="30" y="89"/>
                    </a:lnTo>
                    <a:lnTo>
                      <a:pt x="20" y="99"/>
                    </a:lnTo>
                    <a:lnTo>
                      <a:pt x="9" y="110"/>
                    </a:lnTo>
                    <a:lnTo>
                      <a:pt x="5" y="113"/>
                    </a:lnTo>
                    <a:lnTo>
                      <a:pt x="5" y="113"/>
                    </a:lnTo>
                    <a:lnTo>
                      <a:pt x="1" y="122"/>
                    </a:lnTo>
                    <a:lnTo>
                      <a:pt x="0" y="130"/>
                    </a:lnTo>
                    <a:lnTo>
                      <a:pt x="1" y="132"/>
                    </a:lnTo>
                    <a:lnTo>
                      <a:pt x="1" y="134"/>
                    </a:lnTo>
                    <a:lnTo>
                      <a:pt x="3" y="136"/>
                    </a:lnTo>
                    <a:lnTo>
                      <a:pt x="5" y="138"/>
                    </a:lnTo>
                    <a:lnTo>
                      <a:pt x="8" y="139"/>
                    </a:lnTo>
                    <a:lnTo>
                      <a:pt x="10" y="140"/>
                    </a:lnTo>
                    <a:lnTo>
                      <a:pt x="14" y="141"/>
                    </a:lnTo>
                    <a:lnTo>
                      <a:pt x="19" y="140"/>
                    </a:lnTo>
                    <a:lnTo>
                      <a:pt x="33" y="139"/>
                    </a:lnTo>
                    <a:lnTo>
                      <a:pt x="52" y="134"/>
                    </a:lnTo>
                    <a:lnTo>
                      <a:pt x="66" y="131"/>
                    </a:lnTo>
                    <a:lnTo>
                      <a:pt x="82" y="129"/>
                    </a:lnTo>
                    <a:lnTo>
                      <a:pt x="99" y="127"/>
                    </a:lnTo>
                    <a:lnTo>
                      <a:pt x="116" y="125"/>
                    </a:lnTo>
                    <a:lnTo>
                      <a:pt x="153" y="124"/>
                    </a:lnTo>
                    <a:lnTo>
                      <a:pt x="194" y="124"/>
                    </a:lnTo>
                    <a:lnTo>
                      <a:pt x="205" y="127"/>
                    </a:lnTo>
                    <a:lnTo>
                      <a:pt x="216" y="128"/>
                    </a:lnTo>
                    <a:lnTo>
                      <a:pt x="228" y="129"/>
                    </a:lnTo>
                    <a:lnTo>
                      <a:pt x="239" y="131"/>
                    </a:lnTo>
                    <a:lnTo>
                      <a:pt x="253" y="132"/>
                    </a:lnTo>
                    <a:lnTo>
                      <a:pt x="266" y="133"/>
                    </a:lnTo>
                    <a:lnTo>
                      <a:pt x="279" y="132"/>
                    </a:lnTo>
                    <a:lnTo>
                      <a:pt x="294" y="130"/>
                    </a:lnTo>
                    <a:lnTo>
                      <a:pt x="309" y="128"/>
                    </a:lnTo>
                    <a:lnTo>
                      <a:pt x="324" y="123"/>
                    </a:lnTo>
                    <a:lnTo>
                      <a:pt x="339" y="119"/>
                    </a:lnTo>
                    <a:lnTo>
                      <a:pt x="356" y="112"/>
                    </a:lnTo>
                    <a:lnTo>
                      <a:pt x="371" y="105"/>
                    </a:lnTo>
                    <a:lnTo>
                      <a:pt x="388" y="97"/>
                    </a:lnTo>
                    <a:lnTo>
                      <a:pt x="406" y="88"/>
                    </a:lnTo>
                    <a:lnTo>
                      <a:pt x="423" y="77"/>
                    </a:lnTo>
                    <a:lnTo>
                      <a:pt x="440" y="66"/>
                    </a:lnTo>
                    <a:lnTo>
                      <a:pt x="459" y="53"/>
                    </a:lnTo>
                    <a:lnTo>
                      <a:pt x="477" y="39"/>
                    </a:lnTo>
                    <a:lnTo>
                      <a:pt x="496" y="24"/>
                    </a:lnTo>
                    <a:lnTo>
                      <a:pt x="501" y="19"/>
                    </a:lnTo>
                    <a:lnTo>
                      <a:pt x="507" y="15"/>
                    </a:lnTo>
                    <a:lnTo>
                      <a:pt x="512" y="10"/>
                    </a:lnTo>
                    <a:lnTo>
                      <a:pt x="520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414"/>
              <p:cNvSpPr/>
              <p:nvPr/>
            </p:nvSpPr>
            <p:spPr>
              <a:xfrm>
                <a:off x="5987160" y="46738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4"/>
                    </a:moveTo>
                    <a:lnTo>
                      <a:pt x="3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1415"/>
              <p:cNvSpPr/>
              <p:nvPr/>
            </p:nvSpPr>
            <p:spPr>
              <a:xfrm>
                <a:off x="5988240" y="467388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416"/>
              <p:cNvSpPr/>
              <p:nvPr/>
            </p:nvSpPr>
            <p:spPr>
              <a:xfrm>
                <a:off x="5989320" y="46738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417"/>
              <p:cNvSpPr/>
              <p:nvPr/>
            </p:nvSpPr>
            <p:spPr>
              <a:xfrm>
                <a:off x="5989320" y="4669200"/>
                <a:ext cx="16200" cy="4680"/>
              </a:xfrm>
              <a:custGeom>
                <a:avLst/>
                <a:gdLst/>
                <a:ahLst/>
                <a:rect l="l" t="t" r="r" b="b"/>
                <a:pathLst>
                  <a:path w="167" h="53">
                    <a:moveTo>
                      <a:pt x="167" y="0"/>
                    </a:moveTo>
                    <a:lnTo>
                      <a:pt x="141" y="10"/>
                    </a:lnTo>
                    <a:lnTo>
                      <a:pt x="116" y="19"/>
                    </a:lnTo>
                    <a:lnTo>
                      <a:pt x="94" y="27"/>
                    </a:lnTo>
                    <a:lnTo>
                      <a:pt x="73" y="33"/>
                    </a:lnTo>
                    <a:lnTo>
                      <a:pt x="53" y="39"/>
                    </a:lnTo>
                    <a:lnTo>
                      <a:pt x="34" y="45"/>
                    </a:lnTo>
                    <a:lnTo>
                      <a:pt x="17" y="49"/>
                    </a:lnTo>
                    <a:lnTo>
                      <a:pt x="0" y="5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418"/>
              <p:cNvSpPr/>
              <p:nvPr/>
            </p:nvSpPr>
            <p:spPr>
              <a:xfrm>
                <a:off x="5959080" y="4761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8"/>
                    </a:move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419"/>
              <p:cNvSpPr/>
              <p:nvPr/>
            </p:nvSpPr>
            <p:spPr>
              <a:xfrm>
                <a:off x="5949720" y="47606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89" h="35">
                    <a:moveTo>
                      <a:pt x="89" y="14"/>
                    </a:moveTo>
                    <a:lnTo>
                      <a:pt x="83" y="9"/>
                    </a:lnTo>
                    <a:lnTo>
                      <a:pt x="79" y="0"/>
                    </a:lnTo>
                    <a:lnTo>
                      <a:pt x="50" y="13"/>
                    </a:lnTo>
                    <a:lnTo>
                      <a:pt x="29" y="23"/>
                    </a:lnTo>
                    <a:lnTo>
                      <a:pt x="12" y="31"/>
                    </a:lnTo>
                    <a:lnTo>
                      <a:pt x="0" y="3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1420"/>
              <p:cNvSpPr/>
              <p:nvPr/>
            </p:nvSpPr>
            <p:spPr>
              <a:xfrm>
                <a:off x="5893560" y="4763520"/>
                <a:ext cx="57960" cy="9000"/>
              </a:xfrm>
              <a:custGeom>
                <a:avLst/>
                <a:gdLst/>
                <a:ahLst/>
                <a:rect l="l" t="t" r="r" b="b"/>
                <a:pathLst>
                  <a:path w="550" h="111">
                    <a:moveTo>
                      <a:pt x="539" y="3"/>
                    </a:moveTo>
                    <a:lnTo>
                      <a:pt x="541" y="3"/>
                    </a:lnTo>
                    <a:lnTo>
                      <a:pt x="545" y="3"/>
                    </a:lnTo>
                    <a:lnTo>
                      <a:pt x="547" y="2"/>
                    </a:lnTo>
                    <a:lnTo>
                      <a:pt x="550" y="0"/>
                    </a:lnTo>
                    <a:lnTo>
                      <a:pt x="542" y="12"/>
                    </a:lnTo>
                    <a:lnTo>
                      <a:pt x="534" y="22"/>
                    </a:lnTo>
                    <a:lnTo>
                      <a:pt x="524" y="32"/>
                    </a:lnTo>
                    <a:lnTo>
                      <a:pt x="513" y="41"/>
                    </a:lnTo>
                    <a:lnTo>
                      <a:pt x="500" y="49"/>
                    </a:lnTo>
                    <a:lnTo>
                      <a:pt x="488" y="57"/>
                    </a:lnTo>
                    <a:lnTo>
                      <a:pt x="474" y="62"/>
                    </a:lnTo>
                    <a:lnTo>
                      <a:pt x="459" y="68"/>
                    </a:lnTo>
                    <a:lnTo>
                      <a:pt x="444" y="72"/>
                    </a:lnTo>
                    <a:lnTo>
                      <a:pt x="427" y="76"/>
                    </a:lnTo>
                    <a:lnTo>
                      <a:pt x="409" y="79"/>
                    </a:lnTo>
                    <a:lnTo>
                      <a:pt x="390" y="81"/>
                    </a:lnTo>
                    <a:lnTo>
                      <a:pt x="371" y="82"/>
                    </a:lnTo>
                    <a:lnTo>
                      <a:pt x="349" y="83"/>
                    </a:lnTo>
                    <a:lnTo>
                      <a:pt x="327" y="83"/>
                    </a:lnTo>
                    <a:lnTo>
                      <a:pt x="305" y="82"/>
                    </a:lnTo>
                    <a:lnTo>
                      <a:pt x="303" y="82"/>
                    </a:lnTo>
                    <a:lnTo>
                      <a:pt x="302" y="82"/>
                    </a:lnTo>
                    <a:lnTo>
                      <a:pt x="280" y="89"/>
                    </a:lnTo>
                    <a:lnTo>
                      <a:pt x="258" y="94"/>
                    </a:lnTo>
                    <a:lnTo>
                      <a:pt x="237" y="100"/>
                    </a:lnTo>
                    <a:lnTo>
                      <a:pt x="219" y="104"/>
                    </a:lnTo>
                    <a:lnTo>
                      <a:pt x="201" y="106"/>
                    </a:lnTo>
                    <a:lnTo>
                      <a:pt x="183" y="109"/>
                    </a:lnTo>
                    <a:lnTo>
                      <a:pt x="168" y="110"/>
                    </a:lnTo>
                    <a:lnTo>
                      <a:pt x="152" y="111"/>
                    </a:lnTo>
                    <a:lnTo>
                      <a:pt x="138" y="110"/>
                    </a:lnTo>
                    <a:lnTo>
                      <a:pt x="124" y="108"/>
                    </a:lnTo>
                    <a:lnTo>
                      <a:pt x="112" y="105"/>
                    </a:lnTo>
                    <a:lnTo>
                      <a:pt x="100" y="101"/>
                    </a:lnTo>
                    <a:lnTo>
                      <a:pt x="90" y="96"/>
                    </a:lnTo>
                    <a:lnTo>
                      <a:pt x="80" y="90"/>
                    </a:lnTo>
                    <a:lnTo>
                      <a:pt x="71" y="83"/>
                    </a:lnTo>
                    <a:lnTo>
                      <a:pt x="63" y="75"/>
                    </a:lnTo>
                    <a:lnTo>
                      <a:pt x="48" y="67"/>
                    </a:lnTo>
                    <a:lnTo>
                      <a:pt x="31" y="60"/>
                    </a:lnTo>
                    <a:lnTo>
                      <a:pt x="16" y="52"/>
                    </a:lnTo>
                    <a:lnTo>
                      <a:pt x="0" y="4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421"/>
              <p:cNvSpPr/>
              <p:nvPr/>
            </p:nvSpPr>
            <p:spPr>
              <a:xfrm>
                <a:off x="5893560" y="4763520"/>
                <a:ext cx="66240" cy="22320"/>
              </a:xfrm>
              <a:custGeom>
                <a:avLst/>
                <a:gdLst/>
                <a:ahLst/>
                <a:rect l="l" t="t" r="r" b="b"/>
                <a:pathLst>
                  <a:path w="645" h="274">
                    <a:moveTo>
                      <a:pt x="9" y="54"/>
                    </a:moveTo>
                    <a:lnTo>
                      <a:pt x="3" y="71"/>
                    </a:lnTo>
                    <a:lnTo>
                      <a:pt x="1" y="89"/>
                    </a:lnTo>
                    <a:lnTo>
                      <a:pt x="0" y="107"/>
                    </a:lnTo>
                    <a:lnTo>
                      <a:pt x="0" y="122"/>
                    </a:lnTo>
                    <a:lnTo>
                      <a:pt x="2" y="138"/>
                    </a:lnTo>
                    <a:lnTo>
                      <a:pt x="7" y="153"/>
                    </a:lnTo>
                    <a:lnTo>
                      <a:pt x="12" y="168"/>
                    </a:lnTo>
                    <a:lnTo>
                      <a:pt x="19" y="181"/>
                    </a:lnTo>
                    <a:lnTo>
                      <a:pt x="28" y="194"/>
                    </a:lnTo>
                    <a:lnTo>
                      <a:pt x="38" y="207"/>
                    </a:lnTo>
                    <a:lnTo>
                      <a:pt x="50" y="218"/>
                    </a:lnTo>
                    <a:lnTo>
                      <a:pt x="64" y="229"/>
                    </a:lnTo>
                    <a:lnTo>
                      <a:pt x="79" y="240"/>
                    </a:lnTo>
                    <a:lnTo>
                      <a:pt x="96" y="249"/>
                    </a:lnTo>
                    <a:lnTo>
                      <a:pt x="113" y="258"/>
                    </a:lnTo>
                    <a:lnTo>
                      <a:pt x="133" y="266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71" y="272"/>
                    </a:lnTo>
                    <a:lnTo>
                      <a:pt x="184" y="273"/>
                    </a:lnTo>
                    <a:lnTo>
                      <a:pt x="198" y="274"/>
                    </a:lnTo>
                    <a:lnTo>
                      <a:pt x="212" y="274"/>
                    </a:lnTo>
                    <a:lnTo>
                      <a:pt x="225" y="273"/>
                    </a:lnTo>
                    <a:lnTo>
                      <a:pt x="240" y="272"/>
                    </a:lnTo>
                    <a:lnTo>
                      <a:pt x="254" y="270"/>
                    </a:lnTo>
                    <a:lnTo>
                      <a:pt x="269" y="268"/>
                    </a:lnTo>
                    <a:lnTo>
                      <a:pt x="282" y="264"/>
                    </a:lnTo>
                    <a:lnTo>
                      <a:pt x="297" y="260"/>
                    </a:lnTo>
                    <a:lnTo>
                      <a:pt x="312" y="255"/>
                    </a:lnTo>
                    <a:lnTo>
                      <a:pt x="326" y="250"/>
                    </a:lnTo>
                    <a:lnTo>
                      <a:pt x="341" y="244"/>
                    </a:lnTo>
                    <a:lnTo>
                      <a:pt x="356" y="238"/>
                    </a:lnTo>
                    <a:lnTo>
                      <a:pt x="371" y="230"/>
                    </a:lnTo>
                    <a:lnTo>
                      <a:pt x="386" y="222"/>
                    </a:lnTo>
                    <a:lnTo>
                      <a:pt x="417" y="203"/>
                    </a:lnTo>
                    <a:lnTo>
                      <a:pt x="448" y="182"/>
                    </a:lnTo>
                    <a:lnTo>
                      <a:pt x="479" y="159"/>
                    </a:lnTo>
                    <a:lnTo>
                      <a:pt x="512" y="132"/>
                    </a:lnTo>
                    <a:lnTo>
                      <a:pt x="544" y="103"/>
                    </a:lnTo>
                    <a:lnTo>
                      <a:pt x="577" y="72"/>
                    </a:lnTo>
                    <a:lnTo>
                      <a:pt x="610" y="37"/>
                    </a:lnTo>
                    <a:lnTo>
                      <a:pt x="64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1422"/>
              <p:cNvSpPr/>
              <p:nvPr/>
            </p:nvSpPr>
            <p:spPr>
              <a:xfrm flipV="1">
                <a:off x="5960160" y="476244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423"/>
              <p:cNvSpPr/>
              <p:nvPr/>
            </p:nvSpPr>
            <p:spPr>
              <a:xfrm>
                <a:off x="5960160" y="4762440"/>
                <a:ext cx="2880" cy="72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6" y="2"/>
                    </a:lnTo>
                    <a:lnTo>
                      <a:pt x="13" y="4"/>
                    </a:lnTo>
                    <a:lnTo>
                      <a:pt x="20" y="7"/>
                    </a:lnTo>
                    <a:lnTo>
                      <a:pt x="27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424"/>
              <p:cNvSpPr/>
              <p:nvPr/>
            </p:nvSpPr>
            <p:spPr>
              <a:xfrm>
                <a:off x="6059160" y="4707720"/>
                <a:ext cx="19800" cy="6480"/>
              </a:xfrm>
              <a:custGeom>
                <a:avLst/>
                <a:gdLst/>
                <a:ahLst/>
                <a:rect l="l" t="t" r="r" b="b"/>
                <a:pathLst>
                  <a:path w="189" h="76">
                    <a:moveTo>
                      <a:pt x="189" y="61"/>
                    </a:moveTo>
                    <a:lnTo>
                      <a:pt x="186" y="66"/>
                    </a:lnTo>
                    <a:lnTo>
                      <a:pt x="181" y="70"/>
                    </a:lnTo>
                    <a:lnTo>
                      <a:pt x="177" y="73"/>
                    </a:lnTo>
                    <a:lnTo>
                      <a:pt x="171" y="76"/>
                    </a:lnTo>
                    <a:lnTo>
                      <a:pt x="160" y="76"/>
                    </a:lnTo>
                    <a:lnTo>
                      <a:pt x="150" y="76"/>
                    </a:lnTo>
                    <a:lnTo>
                      <a:pt x="139" y="76"/>
                    </a:lnTo>
                    <a:lnTo>
                      <a:pt x="129" y="76"/>
                    </a:lnTo>
                    <a:lnTo>
                      <a:pt x="124" y="76"/>
                    </a:lnTo>
                    <a:lnTo>
                      <a:pt x="118" y="76"/>
                    </a:lnTo>
                    <a:lnTo>
                      <a:pt x="109" y="76"/>
                    </a:lnTo>
                    <a:lnTo>
                      <a:pt x="100" y="75"/>
                    </a:lnTo>
                    <a:lnTo>
                      <a:pt x="97" y="74"/>
                    </a:lnTo>
                    <a:lnTo>
                      <a:pt x="92" y="73"/>
                    </a:lnTo>
                    <a:lnTo>
                      <a:pt x="89" y="70"/>
                    </a:lnTo>
                    <a:lnTo>
                      <a:pt x="86" y="68"/>
                    </a:lnTo>
                    <a:lnTo>
                      <a:pt x="63" y="53"/>
                    </a:lnTo>
                    <a:lnTo>
                      <a:pt x="40" y="36"/>
                    </a:lnTo>
                    <a:lnTo>
                      <a:pt x="20" y="1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425"/>
              <p:cNvSpPr/>
              <p:nvPr/>
            </p:nvSpPr>
            <p:spPr>
              <a:xfrm>
                <a:off x="6078960" y="47300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24" h="82">
                    <a:moveTo>
                      <a:pt x="24" y="0"/>
                    </a:moveTo>
                    <a:lnTo>
                      <a:pt x="17" y="21"/>
                    </a:lnTo>
                    <a:lnTo>
                      <a:pt x="11" y="41"/>
                    </a:lnTo>
                    <a:lnTo>
                      <a:pt x="5" y="61"/>
                    </a:lnTo>
                    <a:lnTo>
                      <a:pt x="0" y="8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426"/>
              <p:cNvSpPr/>
              <p:nvPr/>
            </p:nvSpPr>
            <p:spPr>
              <a:xfrm>
                <a:off x="6080760" y="4700520"/>
                <a:ext cx="5040" cy="29520"/>
              </a:xfrm>
              <a:custGeom>
                <a:avLst/>
                <a:gdLst/>
                <a:ahLst/>
                <a:rect l="l" t="t" r="r" b="b"/>
                <a:pathLst>
                  <a:path w="47" h="361">
                    <a:moveTo>
                      <a:pt x="0" y="361"/>
                    </a:moveTo>
                    <a:lnTo>
                      <a:pt x="0" y="358"/>
                    </a:lnTo>
                    <a:lnTo>
                      <a:pt x="0" y="355"/>
                    </a:lnTo>
                    <a:lnTo>
                      <a:pt x="8" y="324"/>
                    </a:lnTo>
                    <a:lnTo>
                      <a:pt x="14" y="294"/>
                    </a:lnTo>
                    <a:lnTo>
                      <a:pt x="21" y="263"/>
                    </a:lnTo>
                    <a:lnTo>
                      <a:pt x="27" y="232"/>
                    </a:lnTo>
                    <a:lnTo>
                      <a:pt x="31" y="199"/>
                    </a:lnTo>
                    <a:lnTo>
                      <a:pt x="34" y="168"/>
                    </a:lnTo>
                    <a:lnTo>
                      <a:pt x="38" y="135"/>
                    </a:lnTo>
                    <a:lnTo>
                      <a:pt x="39" y="103"/>
                    </a:lnTo>
                    <a:lnTo>
                      <a:pt x="42" y="76"/>
                    </a:lnTo>
                    <a:lnTo>
                      <a:pt x="44" y="50"/>
                    </a:lnTo>
                    <a:lnTo>
                      <a:pt x="46" y="24"/>
                    </a:lnTo>
                    <a:lnTo>
                      <a:pt x="4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427"/>
              <p:cNvSpPr/>
              <p:nvPr/>
            </p:nvSpPr>
            <p:spPr>
              <a:xfrm>
                <a:off x="5994720" y="4728600"/>
                <a:ext cx="79920" cy="80280"/>
              </a:xfrm>
              <a:custGeom>
                <a:avLst/>
                <a:gdLst/>
                <a:ahLst/>
                <a:rect l="l" t="t" r="r" b="b"/>
                <a:pathLst>
                  <a:path w="768" h="969">
                    <a:moveTo>
                      <a:pt x="768" y="0"/>
                    </a:moveTo>
                    <a:lnTo>
                      <a:pt x="759" y="29"/>
                    </a:lnTo>
                    <a:lnTo>
                      <a:pt x="751" y="57"/>
                    </a:lnTo>
                    <a:lnTo>
                      <a:pt x="742" y="85"/>
                    </a:lnTo>
                    <a:lnTo>
                      <a:pt x="732" y="113"/>
                    </a:lnTo>
                    <a:lnTo>
                      <a:pt x="723" y="140"/>
                    </a:lnTo>
                    <a:lnTo>
                      <a:pt x="713" y="167"/>
                    </a:lnTo>
                    <a:lnTo>
                      <a:pt x="703" y="194"/>
                    </a:lnTo>
                    <a:lnTo>
                      <a:pt x="692" y="220"/>
                    </a:lnTo>
                    <a:lnTo>
                      <a:pt x="681" y="247"/>
                    </a:lnTo>
                    <a:lnTo>
                      <a:pt x="669" y="272"/>
                    </a:lnTo>
                    <a:lnTo>
                      <a:pt x="656" y="298"/>
                    </a:lnTo>
                    <a:lnTo>
                      <a:pt x="644" y="322"/>
                    </a:lnTo>
                    <a:lnTo>
                      <a:pt x="630" y="347"/>
                    </a:lnTo>
                    <a:lnTo>
                      <a:pt x="616" y="371"/>
                    </a:lnTo>
                    <a:lnTo>
                      <a:pt x="601" y="395"/>
                    </a:lnTo>
                    <a:lnTo>
                      <a:pt x="586" y="419"/>
                    </a:lnTo>
                    <a:lnTo>
                      <a:pt x="567" y="449"/>
                    </a:lnTo>
                    <a:lnTo>
                      <a:pt x="547" y="480"/>
                    </a:lnTo>
                    <a:lnTo>
                      <a:pt x="527" y="510"/>
                    </a:lnTo>
                    <a:lnTo>
                      <a:pt x="508" y="540"/>
                    </a:lnTo>
                    <a:lnTo>
                      <a:pt x="476" y="578"/>
                    </a:lnTo>
                    <a:lnTo>
                      <a:pt x="444" y="615"/>
                    </a:lnTo>
                    <a:lnTo>
                      <a:pt x="412" y="650"/>
                    </a:lnTo>
                    <a:lnTo>
                      <a:pt x="381" y="685"/>
                    </a:lnTo>
                    <a:lnTo>
                      <a:pt x="358" y="706"/>
                    </a:lnTo>
                    <a:lnTo>
                      <a:pt x="337" y="726"/>
                    </a:lnTo>
                    <a:lnTo>
                      <a:pt x="316" y="746"/>
                    </a:lnTo>
                    <a:lnTo>
                      <a:pt x="294" y="766"/>
                    </a:lnTo>
                    <a:lnTo>
                      <a:pt x="272" y="785"/>
                    </a:lnTo>
                    <a:lnTo>
                      <a:pt x="250" y="803"/>
                    </a:lnTo>
                    <a:lnTo>
                      <a:pt x="226" y="822"/>
                    </a:lnTo>
                    <a:lnTo>
                      <a:pt x="203" y="841"/>
                    </a:lnTo>
                    <a:lnTo>
                      <a:pt x="179" y="858"/>
                    </a:lnTo>
                    <a:lnTo>
                      <a:pt x="154" y="873"/>
                    </a:lnTo>
                    <a:lnTo>
                      <a:pt x="129" y="890"/>
                    </a:lnTo>
                    <a:lnTo>
                      <a:pt x="104" y="907"/>
                    </a:lnTo>
                    <a:lnTo>
                      <a:pt x="79" y="922"/>
                    </a:lnTo>
                    <a:lnTo>
                      <a:pt x="53" y="939"/>
                    </a:lnTo>
                    <a:lnTo>
                      <a:pt x="27" y="954"/>
                    </a:lnTo>
                    <a:lnTo>
                      <a:pt x="0" y="96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1428"/>
              <p:cNvSpPr/>
              <p:nvPr/>
            </p:nvSpPr>
            <p:spPr>
              <a:xfrm>
                <a:off x="6072480" y="4714560"/>
                <a:ext cx="180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429"/>
              <p:cNvSpPr/>
              <p:nvPr/>
            </p:nvSpPr>
            <p:spPr>
              <a:xfrm>
                <a:off x="6074640" y="470124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63" h="326">
                    <a:moveTo>
                      <a:pt x="0" y="326"/>
                    </a:moveTo>
                    <a:lnTo>
                      <a:pt x="4" y="303"/>
                    </a:lnTo>
                    <a:lnTo>
                      <a:pt x="11" y="281"/>
                    </a:lnTo>
                    <a:lnTo>
                      <a:pt x="16" y="258"/>
                    </a:lnTo>
                    <a:lnTo>
                      <a:pt x="22" y="235"/>
                    </a:lnTo>
                    <a:lnTo>
                      <a:pt x="28" y="212"/>
                    </a:lnTo>
                    <a:lnTo>
                      <a:pt x="33" y="189"/>
                    </a:lnTo>
                    <a:lnTo>
                      <a:pt x="38" y="165"/>
                    </a:lnTo>
                    <a:lnTo>
                      <a:pt x="42" y="141"/>
                    </a:lnTo>
                    <a:lnTo>
                      <a:pt x="48" y="107"/>
                    </a:lnTo>
                    <a:lnTo>
                      <a:pt x="53" y="72"/>
                    </a:lnTo>
                    <a:lnTo>
                      <a:pt x="58" y="36"/>
                    </a:lnTo>
                    <a:lnTo>
                      <a:pt x="6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430"/>
              <p:cNvSpPr/>
              <p:nvPr/>
            </p:nvSpPr>
            <p:spPr>
              <a:xfrm>
                <a:off x="5997600" y="4736880"/>
                <a:ext cx="81000" cy="75960"/>
              </a:xfrm>
              <a:custGeom>
                <a:avLst/>
                <a:gdLst/>
                <a:ahLst/>
                <a:rect l="l" t="t" r="r" b="b"/>
                <a:pathLst>
                  <a:path w="778" h="920">
                    <a:moveTo>
                      <a:pt x="0" y="920"/>
                    </a:moveTo>
                    <a:lnTo>
                      <a:pt x="27" y="905"/>
                    </a:lnTo>
                    <a:lnTo>
                      <a:pt x="53" y="890"/>
                    </a:lnTo>
                    <a:lnTo>
                      <a:pt x="79" y="874"/>
                    </a:lnTo>
                    <a:lnTo>
                      <a:pt x="105" y="859"/>
                    </a:lnTo>
                    <a:lnTo>
                      <a:pt x="130" y="842"/>
                    </a:lnTo>
                    <a:lnTo>
                      <a:pt x="155" y="825"/>
                    </a:lnTo>
                    <a:lnTo>
                      <a:pt x="179" y="809"/>
                    </a:lnTo>
                    <a:lnTo>
                      <a:pt x="202" y="792"/>
                    </a:lnTo>
                    <a:lnTo>
                      <a:pt x="204" y="790"/>
                    </a:lnTo>
                    <a:lnTo>
                      <a:pt x="205" y="789"/>
                    </a:lnTo>
                    <a:lnTo>
                      <a:pt x="207" y="789"/>
                    </a:lnTo>
                    <a:lnTo>
                      <a:pt x="210" y="789"/>
                    </a:lnTo>
                    <a:lnTo>
                      <a:pt x="210" y="786"/>
                    </a:lnTo>
                    <a:lnTo>
                      <a:pt x="210" y="785"/>
                    </a:lnTo>
                    <a:lnTo>
                      <a:pt x="211" y="784"/>
                    </a:lnTo>
                    <a:lnTo>
                      <a:pt x="213" y="784"/>
                    </a:lnTo>
                    <a:lnTo>
                      <a:pt x="235" y="768"/>
                    </a:lnTo>
                    <a:lnTo>
                      <a:pt x="258" y="750"/>
                    </a:lnTo>
                    <a:lnTo>
                      <a:pt x="282" y="731"/>
                    </a:lnTo>
                    <a:lnTo>
                      <a:pt x="304" y="712"/>
                    </a:lnTo>
                    <a:lnTo>
                      <a:pt x="326" y="693"/>
                    </a:lnTo>
                    <a:lnTo>
                      <a:pt x="348" y="673"/>
                    </a:lnTo>
                    <a:lnTo>
                      <a:pt x="369" y="653"/>
                    </a:lnTo>
                    <a:lnTo>
                      <a:pt x="390" y="632"/>
                    </a:lnTo>
                    <a:lnTo>
                      <a:pt x="390" y="631"/>
                    </a:lnTo>
                    <a:lnTo>
                      <a:pt x="394" y="629"/>
                    </a:lnTo>
                    <a:lnTo>
                      <a:pt x="394" y="629"/>
                    </a:lnTo>
                    <a:lnTo>
                      <a:pt x="394" y="629"/>
                    </a:lnTo>
                    <a:lnTo>
                      <a:pt x="413" y="611"/>
                    </a:lnTo>
                    <a:lnTo>
                      <a:pt x="430" y="592"/>
                    </a:lnTo>
                    <a:lnTo>
                      <a:pt x="447" y="574"/>
                    </a:lnTo>
                    <a:lnTo>
                      <a:pt x="464" y="555"/>
                    </a:lnTo>
                    <a:lnTo>
                      <a:pt x="497" y="516"/>
                    </a:lnTo>
                    <a:lnTo>
                      <a:pt x="529" y="476"/>
                    </a:lnTo>
                    <a:lnTo>
                      <a:pt x="550" y="445"/>
                    </a:lnTo>
                    <a:lnTo>
                      <a:pt x="572" y="414"/>
                    </a:lnTo>
                    <a:lnTo>
                      <a:pt x="595" y="383"/>
                    </a:lnTo>
                    <a:lnTo>
                      <a:pt x="615" y="352"/>
                    </a:lnTo>
                    <a:lnTo>
                      <a:pt x="629" y="326"/>
                    </a:lnTo>
                    <a:lnTo>
                      <a:pt x="642" y="301"/>
                    </a:lnTo>
                    <a:lnTo>
                      <a:pt x="657" y="275"/>
                    </a:lnTo>
                    <a:lnTo>
                      <a:pt x="670" y="250"/>
                    </a:lnTo>
                    <a:lnTo>
                      <a:pt x="683" y="223"/>
                    </a:lnTo>
                    <a:lnTo>
                      <a:pt x="696" y="197"/>
                    </a:lnTo>
                    <a:lnTo>
                      <a:pt x="709" y="170"/>
                    </a:lnTo>
                    <a:lnTo>
                      <a:pt x="721" y="142"/>
                    </a:lnTo>
                    <a:lnTo>
                      <a:pt x="736" y="108"/>
                    </a:lnTo>
                    <a:lnTo>
                      <a:pt x="750" y="72"/>
                    </a:lnTo>
                    <a:lnTo>
                      <a:pt x="764" y="37"/>
                    </a:lnTo>
                    <a:lnTo>
                      <a:pt x="77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431"/>
              <p:cNvSpPr/>
              <p:nvPr/>
            </p:nvSpPr>
            <p:spPr>
              <a:xfrm>
                <a:off x="5932080" y="4705560"/>
                <a:ext cx="126720" cy="112320"/>
              </a:xfrm>
              <a:custGeom>
                <a:avLst/>
                <a:gdLst/>
                <a:ahLst/>
                <a:rect l="l" t="t" r="r" b="b"/>
                <a:pathLst>
                  <a:path w="1224" h="1359">
                    <a:moveTo>
                      <a:pt x="1224" y="0"/>
                    </a:moveTo>
                    <a:lnTo>
                      <a:pt x="1224" y="9"/>
                    </a:lnTo>
                    <a:lnTo>
                      <a:pt x="1224" y="17"/>
                    </a:lnTo>
                    <a:lnTo>
                      <a:pt x="1224" y="25"/>
                    </a:lnTo>
                    <a:lnTo>
                      <a:pt x="1224" y="35"/>
                    </a:lnTo>
                    <a:lnTo>
                      <a:pt x="1220" y="70"/>
                    </a:lnTo>
                    <a:lnTo>
                      <a:pt x="1213" y="102"/>
                    </a:lnTo>
                    <a:lnTo>
                      <a:pt x="1207" y="135"/>
                    </a:lnTo>
                    <a:lnTo>
                      <a:pt x="1200" y="167"/>
                    </a:lnTo>
                    <a:lnTo>
                      <a:pt x="1192" y="200"/>
                    </a:lnTo>
                    <a:lnTo>
                      <a:pt x="1183" y="231"/>
                    </a:lnTo>
                    <a:lnTo>
                      <a:pt x="1174" y="262"/>
                    </a:lnTo>
                    <a:lnTo>
                      <a:pt x="1164" y="293"/>
                    </a:lnTo>
                    <a:lnTo>
                      <a:pt x="1153" y="324"/>
                    </a:lnTo>
                    <a:lnTo>
                      <a:pt x="1142" y="354"/>
                    </a:lnTo>
                    <a:lnTo>
                      <a:pt x="1131" y="383"/>
                    </a:lnTo>
                    <a:lnTo>
                      <a:pt x="1118" y="412"/>
                    </a:lnTo>
                    <a:lnTo>
                      <a:pt x="1106" y="441"/>
                    </a:lnTo>
                    <a:lnTo>
                      <a:pt x="1091" y="469"/>
                    </a:lnTo>
                    <a:lnTo>
                      <a:pt x="1077" y="498"/>
                    </a:lnTo>
                    <a:lnTo>
                      <a:pt x="1062" y="524"/>
                    </a:lnTo>
                    <a:lnTo>
                      <a:pt x="1047" y="552"/>
                    </a:lnTo>
                    <a:lnTo>
                      <a:pt x="1030" y="579"/>
                    </a:lnTo>
                    <a:lnTo>
                      <a:pt x="1014" y="605"/>
                    </a:lnTo>
                    <a:lnTo>
                      <a:pt x="996" y="632"/>
                    </a:lnTo>
                    <a:lnTo>
                      <a:pt x="978" y="658"/>
                    </a:lnTo>
                    <a:lnTo>
                      <a:pt x="959" y="683"/>
                    </a:lnTo>
                    <a:lnTo>
                      <a:pt x="939" y="707"/>
                    </a:lnTo>
                    <a:lnTo>
                      <a:pt x="919" y="732"/>
                    </a:lnTo>
                    <a:lnTo>
                      <a:pt x="898" y="756"/>
                    </a:lnTo>
                    <a:lnTo>
                      <a:pt x="877" y="779"/>
                    </a:lnTo>
                    <a:lnTo>
                      <a:pt x="855" y="803"/>
                    </a:lnTo>
                    <a:lnTo>
                      <a:pt x="832" y="826"/>
                    </a:lnTo>
                    <a:lnTo>
                      <a:pt x="808" y="848"/>
                    </a:lnTo>
                    <a:lnTo>
                      <a:pt x="785" y="870"/>
                    </a:lnTo>
                    <a:lnTo>
                      <a:pt x="760" y="891"/>
                    </a:lnTo>
                    <a:lnTo>
                      <a:pt x="735" y="913"/>
                    </a:lnTo>
                    <a:lnTo>
                      <a:pt x="684" y="955"/>
                    </a:lnTo>
                    <a:lnTo>
                      <a:pt x="633" y="995"/>
                    </a:lnTo>
                    <a:lnTo>
                      <a:pt x="583" y="1032"/>
                    </a:lnTo>
                    <a:lnTo>
                      <a:pt x="534" y="1069"/>
                    </a:lnTo>
                    <a:lnTo>
                      <a:pt x="486" y="1103"/>
                    </a:lnTo>
                    <a:lnTo>
                      <a:pt x="438" y="1135"/>
                    </a:lnTo>
                    <a:lnTo>
                      <a:pt x="391" y="1166"/>
                    </a:lnTo>
                    <a:lnTo>
                      <a:pt x="345" y="1195"/>
                    </a:lnTo>
                    <a:lnTo>
                      <a:pt x="299" y="1222"/>
                    </a:lnTo>
                    <a:lnTo>
                      <a:pt x="254" y="1247"/>
                    </a:lnTo>
                    <a:lnTo>
                      <a:pt x="209" y="1271"/>
                    </a:lnTo>
                    <a:lnTo>
                      <a:pt x="166" y="1292"/>
                    </a:lnTo>
                    <a:lnTo>
                      <a:pt x="123" y="1312"/>
                    </a:lnTo>
                    <a:lnTo>
                      <a:pt x="82" y="1329"/>
                    </a:lnTo>
                    <a:lnTo>
                      <a:pt x="40" y="1346"/>
                    </a:lnTo>
                    <a:lnTo>
                      <a:pt x="0" y="135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432"/>
              <p:cNvSpPr/>
              <p:nvPr/>
            </p:nvSpPr>
            <p:spPr>
              <a:xfrm>
                <a:off x="5893560" y="4845240"/>
                <a:ext cx="51840" cy="32040"/>
              </a:xfrm>
              <a:custGeom>
                <a:avLst/>
                <a:gdLst/>
                <a:ahLst/>
                <a:rect l="l" t="t" r="r" b="b"/>
                <a:pathLst>
                  <a:path w="493" h="386">
                    <a:moveTo>
                      <a:pt x="493" y="386"/>
                    </a:moveTo>
                    <a:lnTo>
                      <a:pt x="485" y="373"/>
                    </a:lnTo>
                    <a:lnTo>
                      <a:pt x="479" y="362"/>
                    </a:lnTo>
                    <a:lnTo>
                      <a:pt x="445" y="310"/>
                    </a:lnTo>
                    <a:lnTo>
                      <a:pt x="412" y="262"/>
                    </a:lnTo>
                    <a:lnTo>
                      <a:pt x="379" y="218"/>
                    </a:lnTo>
                    <a:lnTo>
                      <a:pt x="347" y="178"/>
                    </a:lnTo>
                    <a:lnTo>
                      <a:pt x="331" y="160"/>
                    </a:lnTo>
                    <a:lnTo>
                      <a:pt x="315" y="142"/>
                    </a:lnTo>
                    <a:lnTo>
                      <a:pt x="300" y="126"/>
                    </a:lnTo>
                    <a:lnTo>
                      <a:pt x="284" y="110"/>
                    </a:lnTo>
                    <a:lnTo>
                      <a:pt x="268" y="96"/>
                    </a:lnTo>
                    <a:lnTo>
                      <a:pt x="253" y="82"/>
                    </a:lnTo>
                    <a:lnTo>
                      <a:pt x="239" y="70"/>
                    </a:lnTo>
                    <a:lnTo>
                      <a:pt x="223" y="59"/>
                    </a:lnTo>
                    <a:lnTo>
                      <a:pt x="209" y="48"/>
                    </a:lnTo>
                    <a:lnTo>
                      <a:pt x="193" y="39"/>
                    </a:lnTo>
                    <a:lnTo>
                      <a:pt x="179" y="30"/>
                    </a:lnTo>
                    <a:lnTo>
                      <a:pt x="164" y="24"/>
                    </a:lnTo>
                    <a:lnTo>
                      <a:pt x="150" y="17"/>
                    </a:lnTo>
                    <a:lnTo>
                      <a:pt x="135" y="11"/>
                    </a:lnTo>
                    <a:lnTo>
                      <a:pt x="121" y="7"/>
                    </a:lnTo>
                    <a:lnTo>
                      <a:pt x="108" y="4"/>
                    </a:lnTo>
                    <a:lnTo>
                      <a:pt x="93" y="1"/>
                    </a:lnTo>
                    <a:lnTo>
                      <a:pt x="80" y="0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39" y="3"/>
                    </a:lnTo>
                    <a:lnTo>
                      <a:pt x="26" y="5"/>
                    </a:lnTo>
                    <a:lnTo>
                      <a:pt x="12" y="9"/>
                    </a:lnTo>
                    <a:lnTo>
                      <a:pt x="0" y="1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1433"/>
              <p:cNvSpPr/>
              <p:nvPr/>
            </p:nvSpPr>
            <p:spPr>
              <a:xfrm flipH="1" flipV="1">
                <a:off x="5893560" y="484632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1434"/>
              <p:cNvSpPr/>
              <p:nvPr/>
            </p:nvSpPr>
            <p:spPr>
              <a:xfrm>
                <a:off x="5870520" y="4846320"/>
                <a:ext cx="22680" cy="7200"/>
              </a:xfrm>
              <a:custGeom>
                <a:avLst/>
                <a:gdLst/>
                <a:ahLst/>
                <a:rect l="l" t="t" r="r" b="b"/>
                <a:pathLst>
                  <a:path w="221" h="90">
                    <a:moveTo>
                      <a:pt x="221" y="0"/>
                    </a:moveTo>
                    <a:lnTo>
                      <a:pt x="192" y="16"/>
                    </a:lnTo>
                    <a:lnTo>
                      <a:pt x="166" y="29"/>
                    </a:lnTo>
                    <a:lnTo>
                      <a:pt x="141" y="42"/>
                    </a:lnTo>
                    <a:lnTo>
                      <a:pt x="118" y="54"/>
                    </a:lnTo>
                    <a:lnTo>
                      <a:pt x="97" y="62"/>
                    </a:lnTo>
                    <a:lnTo>
                      <a:pt x="78" y="70"/>
                    </a:lnTo>
                    <a:lnTo>
                      <a:pt x="61" y="77"/>
                    </a:lnTo>
                    <a:lnTo>
                      <a:pt x="47" y="82"/>
                    </a:lnTo>
                    <a:lnTo>
                      <a:pt x="37" y="86"/>
                    </a:lnTo>
                    <a:lnTo>
                      <a:pt x="29" y="89"/>
                    </a:lnTo>
                    <a:lnTo>
                      <a:pt x="22" y="90"/>
                    </a:lnTo>
                    <a:lnTo>
                      <a:pt x="14" y="90"/>
                    </a:lnTo>
                    <a:lnTo>
                      <a:pt x="8" y="89"/>
                    </a:lnTo>
                    <a:lnTo>
                      <a:pt x="5" y="87"/>
                    </a:lnTo>
                    <a:lnTo>
                      <a:pt x="2" y="83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2" y="6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435"/>
              <p:cNvSpPr/>
              <p:nvPr/>
            </p:nvSpPr>
            <p:spPr>
              <a:xfrm>
                <a:off x="5964480" y="489564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8" h="59">
                    <a:moveTo>
                      <a:pt x="18" y="59"/>
                    </a:moveTo>
                    <a:lnTo>
                      <a:pt x="15" y="44"/>
                    </a:lnTo>
                    <a:lnTo>
                      <a:pt x="10" y="28"/>
                    </a:lnTo>
                    <a:lnTo>
                      <a:pt x="5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1436"/>
              <p:cNvSpPr/>
              <p:nvPr/>
            </p:nvSpPr>
            <p:spPr>
              <a:xfrm flipH="1" flipV="1">
                <a:off x="5962680" y="4892400"/>
                <a:ext cx="10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437"/>
              <p:cNvSpPr/>
              <p:nvPr/>
            </p:nvSpPr>
            <p:spPr>
              <a:xfrm>
                <a:off x="5926680" y="4817880"/>
                <a:ext cx="36000" cy="74160"/>
              </a:xfrm>
              <a:custGeom>
                <a:avLst/>
                <a:gdLst/>
                <a:ahLst/>
                <a:rect l="l" t="t" r="r" b="b"/>
                <a:pathLst>
                  <a:path w="345" h="906">
                    <a:moveTo>
                      <a:pt x="345" y="906"/>
                    </a:moveTo>
                    <a:lnTo>
                      <a:pt x="335" y="882"/>
                    </a:lnTo>
                    <a:lnTo>
                      <a:pt x="327" y="855"/>
                    </a:lnTo>
                    <a:lnTo>
                      <a:pt x="317" y="829"/>
                    </a:lnTo>
                    <a:lnTo>
                      <a:pt x="307" y="800"/>
                    </a:lnTo>
                    <a:lnTo>
                      <a:pt x="280" y="766"/>
                    </a:lnTo>
                    <a:lnTo>
                      <a:pt x="256" y="731"/>
                    </a:lnTo>
                    <a:lnTo>
                      <a:pt x="232" y="697"/>
                    </a:lnTo>
                    <a:lnTo>
                      <a:pt x="210" y="665"/>
                    </a:lnTo>
                    <a:lnTo>
                      <a:pt x="173" y="610"/>
                    </a:lnTo>
                    <a:lnTo>
                      <a:pt x="140" y="558"/>
                    </a:lnTo>
                    <a:lnTo>
                      <a:pt x="125" y="532"/>
                    </a:lnTo>
                    <a:lnTo>
                      <a:pt x="110" y="507"/>
                    </a:lnTo>
                    <a:lnTo>
                      <a:pt x="97" y="482"/>
                    </a:lnTo>
                    <a:lnTo>
                      <a:pt x="85" y="457"/>
                    </a:lnTo>
                    <a:lnTo>
                      <a:pt x="72" y="434"/>
                    </a:lnTo>
                    <a:lnTo>
                      <a:pt x="63" y="411"/>
                    </a:lnTo>
                    <a:lnTo>
                      <a:pt x="53" y="387"/>
                    </a:lnTo>
                    <a:lnTo>
                      <a:pt x="43" y="364"/>
                    </a:lnTo>
                    <a:lnTo>
                      <a:pt x="35" y="342"/>
                    </a:lnTo>
                    <a:lnTo>
                      <a:pt x="27" y="321"/>
                    </a:lnTo>
                    <a:lnTo>
                      <a:pt x="20" y="299"/>
                    </a:lnTo>
                    <a:lnTo>
                      <a:pt x="15" y="279"/>
                    </a:lnTo>
                    <a:lnTo>
                      <a:pt x="10" y="258"/>
                    </a:lnTo>
                    <a:lnTo>
                      <a:pt x="7" y="238"/>
                    </a:lnTo>
                    <a:lnTo>
                      <a:pt x="4" y="218"/>
                    </a:lnTo>
                    <a:lnTo>
                      <a:pt x="1" y="199"/>
                    </a:lnTo>
                    <a:lnTo>
                      <a:pt x="0" y="180"/>
                    </a:lnTo>
                    <a:lnTo>
                      <a:pt x="0" y="161"/>
                    </a:lnTo>
                    <a:lnTo>
                      <a:pt x="0" y="143"/>
                    </a:lnTo>
                    <a:lnTo>
                      <a:pt x="1" y="126"/>
                    </a:lnTo>
                    <a:lnTo>
                      <a:pt x="4" y="109"/>
                    </a:lnTo>
                    <a:lnTo>
                      <a:pt x="7" y="92"/>
                    </a:lnTo>
                    <a:lnTo>
                      <a:pt x="11" y="76"/>
                    </a:lnTo>
                    <a:lnTo>
                      <a:pt x="16" y="60"/>
                    </a:lnTo>
                    <a:lnTo>
                      <a:pt x="21" y="45"/>
                    </a:lnTo>
                    <a:lnTo>
                      <a:pt x="28" y="29"/>
                    </a:lnTo>
                    <a:lnTo>
                      <a:pt x="36" y="15"/>
                    </a:lnTo>
                    <a:lnTo>
                      <a:pt x="4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1438"/>
              <p:cNvSpPr/>
              <p:nvPr/>
            </p:nvSpPr>
            <p:spPr>
              <a:xfrm flipV="1">
                <a:off x="6040440" y="486576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439"/>
              <p:cNvSpPr/>
              <p:nvPr/>
            </p:nvSpPr>
            <p:spPr>
              <a:xfrm>
                <a:off x="6041160" y="4861080"/>
                <a:ext cx="21600" cy="4680"/>
              </a:xfrm>
              <a:custGeom>
                <a:avLst/>
                <a:gdLst/>
                <a:ahLst/>
                <a:rect l="l" t="t" r="r" b="b"/>
                <a:pathLst>
                  <a:path w="217" h="57">
                    <a:moveTo>
                      <a:pt x="0" y="57"/>
                    </a:moveTo>
                    <a:lnTo>
                      <a:pt x="29" y="42"/>
                    </a:lnTo>
                    <a:lnTo>
                      <a:pt x="57" y="28"/>
                    </a:lnTo>
                    <a:lnTo>
                      <a:pt x="85" y="17"/>
                    </a:lnTo>
                    <a:lnTo>
                      <a:pt x="112" y="10"/>
                    </a:lnTo>
                    <a:lnTo>
                      <a:pt x="126" y="6"/>
                    </a:lnTo>
                    <a:lnTo>
                      <a:pt x="139" y="3"/>
                    </a:lnTo>
                    <a:lnTo>
                      <a:pt x="152" y="2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91" y="0"/>
                    </a:lnTo>
                    <a:lnTo>
                      <a:pt x="203" y="0"/>
                    </a:lnTo>
                    <a:lnTo>
                      <a:pt x="217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40"/>
            <p:cNvGrpSpPr/>
            <p:nvPr/>
          </p:nvGrpSpPr>
          <p:grpSpPr>
            <a:xfrm>
              <a:off x="4962600" y="4505400"/>
              <a:ext cx="1504800" cy="837720"/>
              <a:chOff x="4962600" y="4505400"/>
              <a:chExt cx="1504800" cy="837720"/>
            </a:xfrm>
          </p:grpSpPr>
          <p:sp>
            <p:nvSpPr>
              <p:cNvPr id="971" name="Freeform 1441"/>
              <p:cNvSpPr/>
              <p:nvPr/>
            </p:nvSpPr>
            <p:spPr>
              <a:xfrm>
                <a:off x="5974920" y="4865760"/>
                <a:ext cx="65520" cy="63000"/>
              </a:xfrm>
              <a:custGeom>
                <a:avLst/>
                <a:gdLst/>
                <a:ahLst/>
                <a:rect l="l" t="t" r="r" b="b"/>
                <a:pathLst>
                  <a:path w="633" h="756">
                    <a:moveTo>
                      <a:pt x="0" y="756"/>
                    </a:moveTo>
                    <a:lnTo>
                      <a:pt x="37" y="693"/>
                    </a:lnTo>
                    <a:lnTo>
                      <a:pt x="72" y="632"/>
                    </a:lnTo>
                    <a:lnTo>
                      <a:pt x="108" y="574"/>
                    </a:lnTo>
                    <a:lnTo>
                      <a:pt x="143" y="517"/>
                    </a:lnTo>
                    <a:lnTo>
                      <a:pt x="179" y="464"/>
                    </a:lnTo>
                    <a:lnTo>
                      <a:pt x="213" y="414"/>
                    </a:lnTo>
                    <a:lnTo>
                      <a:pt x="249" y="365"/>
                    </a:lnTo>
                    <a:lnTo>
                      <a:pt x="283" y="320"/>
                    </a:lnTo>
                    <a:lnTo>
                      <a:pt x="318" y="277"/>
                    </a:lnTo>
                    <a:lnTo>
                      <a:pt x="353" y="236"/>
                    </a:lnTo>
                    <a:lnTo>
                      <a:pt x="387" y="198"/>
                    </a:lnTo>
                    <a:lnTo>
                      <a:pt x="422" y="163"/>
                    </a:lnTo>
                    <a:lnTo>
                      <a:pt x="456" y="129"/>
                    </a:lnTo>
                    <a:lnTo>
                      <a:pt x="489" y="99"/>
                    </a:lnTo>
                    <a:lnTo>
                      <a:pt x="524" y="72"/>
                    </a:lnTo>
                    <a:lnTo>
                      <a:pt x="558" y="46"/>
                    </a:lnTo>
                    <a:lnTo>
                      <a:pt x="574" y="35"/>
                    </a:lnTo>
                    <a:lnTo>
                      <a:pt x="590" y="25"/>
                    </a:lnTo>
                    <a:lnTo>
                      <a:pt x="606" y="14"/>
                    </a:lnTo>
                    <a:lnTo>
                      <a:pt x="623" y="4"/>
                    </a:lnTo>
                    <a:lnTo>
                      <a:pt x="627" y="2"/>
                    </a:lnTo>
                    <a:lnTo>
                      <a:pt x="63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42"/>
              <p:cNvSpPr/>
              <p:nvPr/>
            </p:nvSpPr>
            <p:spPr>
              <a:xfrm>
                <a:off x="6039360" y="4861080"/>
                <a:ext cx="23760" cy="5760"/>
              </a:xfrm>
              <a:custGeom>
                <a:avLst/>
                <a:gdLst/>
                <a:ahLst/>
                <a:rect l="l" t="t" r="r" b="b"/>
                <a:pathLst>
                  <a:path w="234" h="65">
                    <a:moveTo>
                      <a:pt x="10" y="61"/>
                    </a:moveTo>
                    <a:lnTo>
                      <a:pt x="4" y="63"/>
                    </a:lnTo>
                    <a:lnTo>
                      <a:pt x="0" y="65"/>
                    </a:lnTo>
                    <a:lnTo>
                      <a:pt x="31" y="48"/>
                    </a:lnTo>
                    <a:lnTo>
                      <a:pt x="62" y="34"/>
                    </a:lnTo>
                    <a:lnTo>
                      <a:pt x="92" y="22"/>
                    </a:lnTo>
                    <a:lnTo>
                      <a:pt x="122" y="13"/>
                    </a:lnTo>
                    <a:lnTo>
                      <a:pt x="136" y="8"/>
                    </a:lnTo>
                    <a:lnTo>
                      <a:pt x="150" y="6"/>
                    </a:lnTo>
                    <a:lnTo>
                      <a:pt x="165" y="3"/>
                    </a:lnTo>
                    <a:lnTo>
                      <a:pt x="179" y="1"/>
                    </a:lnTo>
                    <a:lnTo>
                      <a:pt x="193" y="0"/>
                    </a:lnTo>
                    <a:lnTo>
                      <a:pt x="206" y="0"/>
                    </a:lnTo>
                    <a:lnTo>
                      <a:pt x="220" y="0"/>
                    </a:lnTo>
                    <a:lnTo>
                      <a:pt x="234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43"/>
              <p:cNvSpPr/>
              <p:nvPr/>
            </p:nvSpPr>
            <p:spPr>
              <a:xfrm>
                <a:off x="6181200" y="4812840"/>
                <a:ext cx="59040" cy="27360"/>
              </a:xfrm>
              <a:custGeom>
                <a:avLst/>
                <a:gdLst/>
                <a:ahLst/>
                <a:rect l="l" t="t" r="r" b="b"/>
                <a:pathLst>
                  <a:path w="573" h="334">
                    <a:moveTo>
                      <a:pt x="573" y="334"/>
                    </a:moveTo>
                    <a:lnTo>
                      <a:pt x="497" y="295"/>
                    </a:lnTo>
                    <a:lnTo>
                      <a:pt x="423" y="254"/>
                    </a:lnTo>
                    <a:lnTo>
                      <a:pt x="349" y="214"/>
                    </a:lnTo>
                    <a:lnTo>
                      <a:pt x="276" y="172"/>
                    </a:lnTo>
                    <a:lnTo>
                      <a:pt x="205" y="130"/>
                    </a:lnTo>
                    <a:lnTo>
                      <a:pt x="137" y="87"/>
                    </a:lnTo>
                    <a:lnTo>
                      <a:pt x="68" y="4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44"/>
              <p:cNvSpPr/>
              <p:nvPr/>
            </p:nvSpPr>
            <p:spPr>
              <a:xfrm>
                <a:off x="6179760" y="48088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6" y="50"/>
                    </a:moveTo>
                    <a:lnTo>
                      <a:pt x="6" y="45"/>
                    </a:lnTo>
                    <a:lnTo>
                      <a:pt x="6" y="42"/>
                    </a:lnTo>
                    <a:lnTo>
                      <a:pt x="4" y="32"/>
                    </a:lnTo>
                    <a:lnTo>
                      <a:pt x="2" y="22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1445"/>
              <p:cNvSpPr/>
              <p:nvPr/>
            </p:nvSpPr>
            <p:spPr>
              <a:xfrm flipV="1">
                <a:off x="6179760" y="4807080"/>
                <a:ext cx="1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46"/>
              <p:cNvSpPr/>
              <p:nvPr/>
            </p:nvSpPr>
            <p:spPr>
              <a:xfrm>
                <a:off x="6164280" y="4784040"/>
                <a:ext cx="15480" cy="23040"/>
              </a:xfrm>
              <a:custGeom>
                <a:avLst/>
                <a:gdLst/>
                <a:ahLst/>
                <a:rect l="l" t="t" r="r" b="b"/>
                <a:pathLst>
                  <a:path w="154" h="284">
                    <a:moveTo>
                      <a:pt x="154" y="284"/>
                    </a:moveTo>
                    <a:lnTo>
                      <a:pt x="152" y="272"/>
                    </a:lnTo>
                    <a:lnTo>
                      <a:pt x="150" y="259"/>
                    </a:lnTo>
                    <a:lnTo>
                      <a:pt x="147" y="244"/>
                    </a:lnTo>
                    <a:lnTo>
                      <a:pt x="142" y="230"/>
                    </a:lnTo>
                    <a:lnTo>
                      <a:pt x="137" y="214"/>
                    </a:lnTo>
                    <a:lnTo>
                      <a:pt x="130" y="199"/>
                    </a:lnTo>
                    <a:lnTo>
                      <a:pt x="124" y="182"/>
                    </a:lnTo>
                    <a:lnTo>
                      <a:pt x="115" y="164"/>
                    </a:lnTo>
                    <a:lnTo>
                      <a:pt x="105" y="148"/>
                    </a:lnTo>
                    <a:lnTo>
                      <a:pt x="94" y="129"/>
                    </a:lnTo>
                    <a:lnTo>
                      <a:pt x="83" y="110"/>
                    </a:lnTo>
                    <a:lnTo>
                      <a:pt x="69" y="91"/>
                    </a:lnTo>
                    <a:lnTo>
                      <a:pt x="55" y="71"/>
                    </a:lnTo>
                    <a:lnTo>
                      <a:pt x="39" y="50"/>
                    </a:lnTo>
                    <a:lnTo>
                      <a:pt x="23" y="29"/>
                    </a:lnTo>
                    <a:lnTo>
                      <a:pt x="4" y="8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1447"/>
              <p:cNvSpPr/>
              <p:nvPr/>
            </p:nvSpPr>
            <p:spPr>
              <a:xfrm>
                <a:off x="6094800" y="4812840"/>
                <a:ext cx="91440" cy="110880"/>
              </a:xfrm>
              <a:custGeom>
                <a:avLst/>
                <a:gdLst/>
                <a:ahLst/>
                <a:rect l="l" t="t" r="r" b="b"/>
                <a:pathLst>
                  <a:path w="888" h="1350">
                    <a:moveTo>
                      <a:pt x="831" y="0"/>
                    </a:moveTo>
                    <a:lnTo>
                      <a:pt x="847" y="101"/>
                    </a:lnTo>
                    <a:lnTo>
                      <a:pt x="859" y="199"/>
                    </a:lnTo>
                    <a:lnTo>
                      <a:pt x="869" y="295"/>
                    </a:lnTo>
                    <a:lnTo>
                      <a:pt x="878" y="389"/>
                    </a:lnTo>
                    <a:lnTo>
                      <a:pt x="883" y="481"/>
                    </a:lnTo>
                    <a:lnTo>
                      <a:pt x="887" y="570"/>
                    </a:lnTo>
                    <a:lnTo>
                      <a:pt x="888" y="658"/>
                    </a:lnTo>
                    <a:lnTo>
                      <a:pt x="888" y="743"/>
                    </a:lnTo>
                    <a:lnTo>
                      <a:pt x="886" y="784"/>
                    </a:lnTo>
                    <a:lnTo>
                      <a:pt x="884" y="825"/>
                    </a:lnTo>
                    <a:lnTo>
                      <a:pt x="882" y="866"/>
                    </a:lnTo>
                    <a:lnTo>
                      <a:pt x="879" y="906"/>
                    </a:lnTo>
                    <a:lnTo>
                      <a:pt x="876" y="945"/>
                    </a:lnTo>
                    <a:lnTo>
                      <a:pt x="871" y="984"/>
                    </a:lnTo>
                    <a:lnTo>
                      <a:pt x="867" y="1023"/>
                    </a:lnTo>
                    <a:lnTo>
                      <a:pt x="861" y="1060"/>
                    </a:lnTo>
                    <a:lnTo>
                      <a:pt x="856" y="1097"/>
                    </a:lnTo>
                    <a:lnTo>
                      <a:pt x="849" y="1133"/>
                    </a:lnTo>
                    <a:lnTo>
                      <a:pt x="842" y="1170"/>
                    </a:lnTo>
                    <a:lnTo>
                      <a:pt x="835" y="1206"/>
                    </a:lnTo>
                    <a:lnTo>
                      <a:pt x="827" y="1240"/>
                    </a:lnTo>
                    <a:lnTo>
                      <a:pt x="818" y="1274"/>
                    </a:lnTo>
                    <a:lnTo>
                      <a:pt x="809" y="1309"/>
                    </a:lnTo>
                    <a:lnTo>
                      <a:pt x="799" y="1342"/>
                    </a:lnTo>
                    <a:lnTo>
                      <a:pt x="799" y="1345"/>
                    </a:lnTo>
                    <a:lnTo>
                      <a:pt x="799" y="1349"/>
                    </a:lnTo>
                    <a:lnTo>
                      <a:pt x="775" y="1350"/>
                    </a:lnTo>
                    <a:lnTo>
                      <a:pt x="749" y="1350"/>
                    </a:lnTo>
                    <a:lnTo>
                      <a:pt x="725" y="1349"/>
                    </a:lnTo>
                    <a:lnTo>
                      <a:pt x="699" y="1346"/>
                    </a:lnTo>
                    <a:lnTo>
                      <a:pt x="675" y="1343"/>
                    </a:lnTo>
                    <a:lnTo>
                      <a:pt x="650" y="1340"/>
                    </a:lnTo>
                    <a:lnTo>
                      <a:pt x="626" y="1334"/>
                    </a:lnTo>
                    <a:lnTo>
                      <a:pt x="602" y="1329"/>
                    </a:lnTo>
                    <a:lnTo>
                      <a:pt x="577" y="1321"/>
                    </a:lnTo>
                    <a:lnTo>
                      <a:pt x="554" y="1313"/>
                    </a:lnTo>
                    <a:lnTo>
                      <a:pt x="529" y="1304"/>
                    </a:lnTo>
                    <a:lnTo>
                      <a:pt x="506" y="1294"/>
                    </a:lnTo>
                    <a:lnTo>
                      <a:pt x="483" y="1283"/>
                    </a:lnTo>
                    <a:lnTo>
                      <a:pt x="458" y="1272"/>
                    </a:lnTo>
                    <a:lnTo>
                      <a:pt x="435" y="1259"/>
                    </a:lnTo>
                    <a:lnTo>
                      <a:pt x="413" y="1245"/>
                    </a:lnTo>
                    <a:lnTo>
                      <a:pt x="390" y="1230"/>
                    </a:lnTo>
                    <a:lnTo>
                      <a:pt x="366" y="1214"/>
                    </a:lnTo>
                    <a:lnTo>
                      <a:pt x="343" y="1198"/>
                    </a:lnTo>
                    <a:lnTo>
                      <a:pt x="321" y="1180"/>
                    </a:lnTo>
                    <a:lnTo>
                      <a:pt x="299" y="1161"/>
                    </a:lnTo>
                    <a:lnTo>
                      <a:pt x="275" y="1141"/>
                    </a:lnTo>
                    <a:lnTo>
                      <a:pt x="253" y="1121"/>
                    </a:lnTo>
                    <a:lnTo>
                      <a:pt x="231" y="1099"/>
                    </a:lnTo>
                    <a:lnTo>
                      <a:pt x="209" y="1077"/>
                    </a:lnTo>
                    <a:lnTo>
                      <a:pt x="187" y="1054"/>
                    </a:lnTo>
                    <a:lnTo>
                      <a:pt x="166" y="1028"/>
                    </a:lnTo>
                    <a:lnTo>
                      <a:pt x="143" y="1003"/>
                    </a:lnTo>
                    <a:lnTo>
                      <a:pt x="121" y="976"/>
                    </a:lnTo>
                    <a:lnTo>
                      <a:pt x="100" y="949"/>
                    </a:lnTo>
                    <a:lnTo>
                      <a:pt x="79" y="921"/>
                    </a:lnTo>
                    <a:lnTo>
                      <a:pt x="57" y="891"/>
                    </a:lnTo>
                    <a:lnTo>
                      <a:pt x="55" y="890"/>
                    </a:lnTo>
                    <a:lnTo>
                      <a:pt x="54" y="887"/>
                    </a:lnTo>
                    <a:lnTo>
                      <a:pt x="40" y="868"/>
                    </a:lnTo>
                    <a:lnTo>
                      <a:pt x="27" y="850"/>
                    </a:lnTo>
                    <a:lnTo>
                      <a:pt x="14" y="830"/>
                    </a:lnTo>
                    <a:lnTo>
                      <a:pt x="0" y="81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1448"/>
              <p:cNvSpPr/>
              <p:nvPr/>
            </p:nvSpPr>
            <p:spPr>
              <a:xfrm flipH="1" flipV="1">
                <a:off x="6063480" y="4861080"/>
                <a:ext cx="3096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1449"/>
              <p:cNvSpPr/>
              <p:nvPr/>
            </p:nvSpPr>
            <p:spPr>
              <a:xfrm>
                <a:off x="6086520" y="4693680"/>
                <a:ext cx="6840" cy="6480"/>
              </a:xfrm>
              <a:custGeom>
                <a:avLst/>
                <a:gdLst/>
                <a:ahLst/>
                <a:rect l="l" t="t" r="r" b="b"/>
                <a:pathLst>
                  <a:path w="74" h="75">
                    <a:moveTo>
                      <a:pt x="0" y="75"/>
                    </a:moveTo>
                    <a:lnTo>
                      <a:pt x="19" y="58"/>
                    </a:lnTo>
                    <a:lnTo>
                      <a:pt x="36" y="40"/>
                    </a:lnTo>
                    <a:lnTo>
                      <a:pt x="55" y="20"/>
                    </a:lnTo>
                    <a:lnTo>
                      <a:pt x="7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1450"/>
              <p:cNvSpPr/>
              <p:nvPr/>
            </p:nvSpPr>
            <p:spPr>
              <a:xfrm>
                <a:off x="6078960" y="4736880"/>
                <a:ext cx="16200" cy="30600"/>
              </a:xfrm>
              <a:custGeom>
                <a:avLst/>
                <a:gdLst/>
                <a:ahLst/>
                <a:rect l="l" t="t" r="r" b="b"/>
                <a:pathLst>
                  <a:path w="166" h="373">
                    <a:moveTo>
                      <a:pt x="0" y="0"/>
                    </a:moveTo>
                    <a:lnTo>
                      <a:pt x="7" y="30"/>
                    </a:lnTo>
                    <a:lnTo>
                      <a:pt x="15" y="60"/>
                    </a:lnTo>
                    <a:lnTo>
                      <a:pt x="23" y="88"/>
                    </a:lnTo>
                    <a:lnTo>
                      <a:pt x="32" y="116"/>
                    </a:lnTo>
                    <a:lnTo>
                      <a:pt x="41" y="142"/>
                    </a:lnTo>
                    <a:lnTo>
                      <a:pt x="51" y="168"/>
                    </a:lnTo>
                    <a:lnTo>
                      <a:pt x="61" y="192"/>
                    </a:lnTo>
                    <a:lnTo>
                      <a:pt x="71" y="215"/>
                    </a:lnTo>
                    <a:lnTo>
                      <a:pt x="82" y="239"/>
                    </a:lnTo>
                    <a:lnTo>
                      <a:pt x="93" y="261"/>
                    </a:lnTo>
                    <a:lnTo>
                      <a:pt x="104" y="282"/>
                    </a:lnTo>
                    <a:lnTo>
                      <a:pt x="116" y="302"/>
                    </a:lnTo>
                    <a:lnTo>
                      <a:pt x="128" y="321"/>
                    </a:lnTo>
                    <a:lnTo>
                      <a:pt x="141" y="340"/>
                    </a:lnTo>
                    <a:lnTo>
                      <a:pt x="153" y="356"/>
                    </a:lnTo>
                    <a:lnTo>
                      <a:pt x="166" y="37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1451"/>
              <p:cNvSpPr/>
              <p:nvPr/>
            </p:nvSpPr>
            <p:spPr>
              <a:xfrm>
                <a:off x="6240240" y="4840200"/>
                <a:ext cx="226800" cy="26280"/>
              </a:xfrm>
              <a:custGeom>
                <a:avLst/>
                <a:gdLst/>
                <a:ahLst/>
                <a:rect l="l" t="t" r="r" b="b"/>
                <a:pathLst>
                  <a:path w="2180" h="319">
                    <a:moveTo>
                      <a:pt x="2169" y="319"/>
                    </a:moveTo>
                    <a:lnTo>
                      <a:pt x="2180" y="298"/>
                    </a:lnTo>
                    <a:lnTo>
                      <a:pt x="656" y="89"/>
                    </a:lnTo>
                    <a:lnTo>
                      <a:pt x="653" y="8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1452"/>
              <p:cNvSpPr/>
              <p:nvPr/>
            </p:nvSpPr>
            <p:spPr>
              <a:xfrm>
                <a:off x="6290280" y="5116680"/>
                <a:ext cx="42480" cy="159480"/>
              </a:xfrm>
              <a:custGeom>
                <a:avLst/>
                <a:gdLst/>
                <a:ahLst/>
                <a:rect l="l" t="t" r="r" b="b"/>
                <a:pathLst>
                  <a:path w="405" h="1930">
                    <a:moveTo>
                      <a:pt x="0" y="1930"/>
                    </a:moveTo>
                    <a:lnTo>
                      <a:pt x="17" y="1913"/>
                    </a:lnTo>
                    <a:lnTo>
                      <a:pt x="34" y="1893"/>
                    </a:lnTo>
                    <a:lnTo>
                      <a:pt x="49" y="1872"/>
                    </a:lnTo>
                    <a:lnTo>
                      <a:pt x="65" y="1849"/>
                    </a:lnTo>
                    <a:lnTo>
                      <a:pt x="79" y="1826"/>
                    </a:lnTo>
                    <a:lnTo>
                      <a:pt x="93" y="1802"/>
                    </a:lnTo>
                    <a:lnTo>
                      <a:pt x="108" y="1776"/>
                    </a:lnTo>
                    <a:lnTo>
                      <a:pt x="121" y="1750"/>
                    </a:lnTo>
                    <a:lnTo>
                      <a:pt x="133" y="1722"/>
                    </a:lnTo>
                    <a:lnTo>
                      <a:pt x="146" y="1693"/>
                    </a:lnTo>
                    <a:lnTo>
                      <a:pt x="158" y="1663"/>
                    </a:lnTo>
                    <a:lnTo>
                      <a:pt x="169" y="1632"/>
                    </a:lnTo>
                    <a:lnTo>
                      <a:pt x="180" y="1601"/>
                    </a:lnTo>
                    <a:lnTo>
                      <a:pt x="190" y="1568"/>
                    </a:lnTo>
                    <a:lnTo>
                      <a:pt x="200" y="1533"/>
                    </a:lnTo>
                    <a:lnTo>
                      <a:pt x="210" y="1498"/>
                    </a:lnTo>
                    <a:lnTo>
                      <a:pt x="218" y="1460"/>
                    </a:lnTo>
                    <a:lnTo>
                      <a:pt x="227" y="1422"/>
                    </a:lnTo>
                    <a:lnTo>
                      <a:pt x="233" y="1383"/>
                    </a:lnTo>
                    <a:lnTo>
                      <a:pt x="241" y="1343"/>
                    </a:lnTo>
                    <a:lnTo>
                      <a:pt x="248" y="1301"/>
                    </a:lnTo>
                    <a:lnTo>
                      <a:pt x="254" y="1258"/>
                    </a:lnTo>
                    <a:lnTo>
                      <a:pt x="260" y="1214"/>
                    </a:lnTo>
                    <a:lnTo>
                      <a:pt x="265" y="1170"/>
                    </a:lnTo>
                    <a:lnTo>
                      <a:pt x="274" y="1077"/>
                    </a:lnTo>
                    <a:lnTo>
                      <a:pt x="282" y="979"/>
                    </a:lnTo>
                    <a:lnTo>
                      <a:pt x="288" y="877"/>
                    </a:lnTo>
                    <a:lnTo>
                      <a:pt x="291" y="769"/>
                    </a:lnTo>
                    <a:lnTo>
                      <a:pt x="288" y="745"/>
                    </a:lnTo>
                    <a:lnTo>
                      <a:pt x="284" y="717"/>
                    </a:lnTo>
                    <a:lnTo>
                      <a:pt x="283" y="686"/>
                    </a:lnTo>
                    <a:lnTo>
                      <a:pt x="284" y="653"/>
                    </a:lnTo>
                    <a:lnTo>
                      <a:pt x="285" y="616"/>
                    </a:lnTo>
                    <a:lnTo>
                      <a:pt x="289" y="576"/>
                    </a:lnTo>
                    <a:lnTo>
                      <a:pt x="293" y="534"/>
                    </a:lnTo>
                    <a:lnTo>
                      <a:pt x="300" y="489"/>
                    </a:lnTo>
                    <a:lnTo>
                      <a:pt x="306" y="441"/>
                    </a:lnTo>
                    <a:lnTo>
                      <a:pt x="315" y="390"/>
                    </a:lnTo>
                    <a:lnTo>
                      <a:pt x="325" y="336"/>
                    </a:lnTo>
                    <a:lnTo>
                      <a:pt x="338" y="279"/>
                    </a:lnTo>
                    <a:lnTo>
                      <a:pt x="350" y="219"/>
                    </a:lnTo>
                    <a:lnTo>
                      <a:pt x="364" y="157"/>
                    </a:lnTo>
                    <a:lnTo>
                      <a:pt x="381" y="92"/>
                    </a:lnTo>
                    <a:lnTo>
                      <a:pt x="397" y="24"/>
                    </a:lnTo>
                    <a:lnTo>
                      <a:pt x="399" y="18"/>
                    </a:lnTo>
                    <a:lnTo>
                      <a:pt x="400" y="11"/>
                    </a:lnTo>
                    <a:lnTo>
                      <a:pt x="402" y="5"/>
                    </a:lnTo>
                    <a:lnTo>
                      <a:pt x="40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1453"/>
              <p:cNvSpPr/>
              <p:nvPr/>
            </p:nvSpPr>
            <p:spPr>
              <a:xfrm flipV="1">
                <a:off x="6333120" y="5049720"/>
                <a:ext cx="16200" cy="66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1454"/>
              <p:cNvSpPr/>
              <p:nvPr/>
            </p:nvSpPr>
            <p:spPr>
              <a:xfrm>
                <a:off x="6349680" y="5034960"/>
                <a:ext cx="1800" cy="14760"/>
              </a:xfrm>
              <a:custGeom>
                <a:avLst/>
                <a:gdLst/>
                <a:ahLst/>
                <a:rect l="l" t="t" r="r" b="b"/>
                <a:pathLst>
                  <a:path w="17" h="177">
                    <a:moveTo>
                      <a:pt x="0" y="177"/>
                    </a:moveTo>
                    <a:lnTo>
                      <a:pt x="0" y="169"/>
                    </a:lnTo>
                    <a:lnTo>
                      <a:pt x="0" y="163"/>
                    </a:lnTo>
                    <a:lnTo>
                      <a:pt x="0" y="158"/>
                    </a:lnTo>
                    <a:lnTo>
                      <a:pt x="1" y="154"/>
                    </a:lnTo>
                    <a:lnTo>
                      <a:pt x="2" y="149"/>
                    </a:lnTo>
                    <a:lnTo>
                      <a:pt x="3" y="145"/>
                    </a:lnTo>
                    <a:lnTo>
                      <a:pt x="3" y="143"/>
                    </a:lnTo>
                    <a:lnTo>
                      <a:pt x="3" y="138"/>
                    </a:lnTo>
                    <a:lnTo>
                      <a:pt x="3" y="133"/>
                    </a:lnTo>
                    <a:lnTo>
                      <a:pt x="3" y="130"/>
                    </a:lnTo>
                    <a:lnTo>
                      <a:pt x="3" y="126"/>
                    </a:lnTo>
                    <a:lnTo>
                      <a:pt x="4" y="122"/>
                    </a:lnTo>
                    <a:lnTo>
                      <a:pt x="5" y="118"/>
                    </a:lnTo>
                    <a:lnTo>
                      <a:pt x="7" y="113"/>
                    </a:lnTo>
                    <a:lnTo>
                      <a:pt x="7" y="108"/>
                    </a:lnTo>
                    <a:lnTo>
                      <a:pt x="7" y="106"/>
                    </a:lnTo>
                    <a:lnTo>
                      <a:pt x="7" y="101"/>
                    </a:lnTo>
                    <a:lnTo>
                      <a:pt x="7" y="95"/>
                    </a:lnTo>
                    <a:lnTo>
                      <a:pt x="7" y="91"/>
                    </a:lnTo>
                    <a:lnTo>
                      <a:pt x="7" y="88"/>
                    </a:lnTo>
                    <a:lnTo>
                      <a:pt x="7" y="85"/>
                    </a:lnTo>
                    <a:lnTo>
                      <a:pt x="7" y="83"/>
                    </a:lnTo>
                    <a:lnTo>
                      <a:pt x="8" y="81"/>
                    </a:lnTo>
                    <a:lnTo>
                      <a:pt x="11" y="77"/>
                    </a:lnTo>
                    <a:lnTo>
                      <a:pt x="11" y="73"/>
                    </a:lnTo>
                    <a:lnTo>
                      <a:pt x="11" y="71"/>
                    </a:lnTo>
                    <a:lnTo>
                      <a:pt x="11" y="65"/>
                    </a:lnTo>
                    <a:lnTo>
                      <a:pt x="11" y="60"/>
                    </a:lnTo>
                    <a:lnTo>
                      <a:pt x="11" y="55"/>
                    </a:lnTo>
                    <a:lnTo>
                      <a:pt x="11" y="53"/>
                    </a:lnTo>
                    <a:lnTo>
                      <a:pt x="11" y="50"/>
                    </a:lnTo>
                    <a:lnTo>
                      <a:pt x="11" y="47"/>
                    </a:lnTo>
                    <a:lnTo>
                      <a:pt x="12" y="45"/>
                    </a:lnTo>
                    <a:lnTo>
                      <a:pt x="14" y="42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4" y="26"/>
                    </a:lnTo>
                    <a:lnTo>
                      <a:pt x="14" y="24"/>
                    </a:lnTo>
                    <a:lnTo>
                      <a:pt x="14" y="18"/>
                    </a:lnTo>
                    <a:lnTo>
                      <a:pt x="14" y="14"/>
                    </a:lnTo>
                    <a:lnTo>
                      <a:pt x="17" y="5"/>
                    </a:lnTo>
                    <a:lnTo>
                      <a:pt x="1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1455"/>
              <p:cNvSpPr/>
              <p:nvPr/>
            </p:nvSpPr>
            <p:spPr>
              <a:xfrm flipV="1">
                <a:off x="6351840" y="5033160"/>
                <a:ext cx="1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56"/>
              <p:cNvSpPr/>
              <p:nvPr/>
            </p:nvSpPr>
            <p:spPr>
              <a:xfrm>
                <a:off x="6351840" y="5031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24"/>
                    </a:moveTo>
                    <a:lnTo>
                      <a:pt x="0" y="22"/>
                    </a:lnTo>
                    <a:lnTo>
                      <a:pt x="1" y="19"/>
                    </a:lnTo>
                    <a:lnTo>
                      <a:pt x="3" y="16"/>
                    </a:lnTo>
                    <a:lnTo>
                      <a:pt x="4" y="13"/>
                    </a:lnTo>
                    <a:lnTo>
                      <a:pt x="4" y="5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1457"/>
              <p:cNvSpPr/>
              <p:nvPr/>
            </p:nvSpPr>
            <p:spPr>
              <a:xfrm flipV="1">
                <a:off x="6351840" y="503064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58"/>
              <p:cNvSpPr/>
              <p:nvPr/>
            </p:nvSpPr>
            <p:spPr>
              <a:xfrm>
                <a:off x="6266520" y="4848480"/>
                <a:ext cx="88200" cy="181800"/>
              </a:xfrm>
              <a:custGeom>
                <a:avLst/>
                <a:gdLst/>
                <a:ahLst/>
                <a:rect l="l" t="t" r="r" b="b"/>
                <a:pathLst>
                  <a:path w="845" h="2197">
                    <a:moveTo>
                      <a:pt x="820" y="2197"/>
                    </a:moveTo>
                    <a:lnTo>
                      <a:pt x="829" y="2119"/>
                    </a:lnTo>
                    <a:lnTo>
                      <a:pt x="834" y="2041"/>
                    </a:lnTo>
                    <a:lnTo>
                      <a:pt x="840" y="1962"/>
                    </a:lnTo>
                    <a:lnTo>
                      <a:pt x="843" y="1882"/>
                    </a:lnTo>
                    <a:lnTo>
                      <a:pt x="845" y="1800"/>
                    </a:lnTo>
                    <a:lnTo>
                      <a:pt x="845" y="1717"/>
                    </a:lnTo>
                    <a:lnTo>
                      <a:pt x="844" y="1632"/>
                    </a:lnTo>
                    <a:lnTo>
                      <a:pt x="842" y="1547"/>
                    </a:lnTo>
                    <a:lnTo>
                      <a:pt x="839" y="1460"/>
                    </a:lnTo>
                    <a:lnTo>
                      <a:pt x="833" y="1373"/>
                    </a:lnTo>
                    <a:lnTo>
                      <a:pt x="826" y="1284"/>
                    </a:lnTo>
                    <a:lnTo>
                      <a:pt x="817" y="1194"/>
                    </a:lnTo>
                    <a:lnTo>
                      <a:pt x="807" y="1103"/>
                    </a:lnTo>
                    <a:lnTo>
                      <a:pt x="796" y="1011"/>
                    </a:lnTo>
                    <a:lnTo>
                      <a:pt x="784" y="918"/>
                    </a:lnTo>
                    <a:lnTo>
                      <a:pt x="771" y="823"/>
                    </a:lnTo>
                    <a:lnTo>
                      <a:pt x="769" y="814"/>
                    </a:lnTo>
                    <a:lnTo>
                      <a:pt x="766" y="805"/>
                    </a:lnTo>
                    <a:lnTo>
                      <a:pt x="744" y="740"/>
                    </a:lnTo>
                    <a:lnTo>
                      <a:pt x="720" y="677"/>
                    </a:lnTo>
                    <a:lnTo>
                      <a:pt x="695" y="617"/>
                    </a:lnTo>
                    <a:lnTo>
                      <a:pt x="671" y="561"/>
                    </a:lnTo>
                    <a:lnTo>
                      <a:pt x="645" y="508"/>
                    </a:lnTo>
                    <a:lnTo>
                      <a:pt x="619" y="459"/>
                    </a:lnTo>
                    <a:lnTo>
                      <a:pt x="606" y="436"/>
                    </a:lnTo>
                    <a:lnTo>
                      <a:pt x="592" y="414"/>
                    </a:lnTo>
                    <a:lnTo>
                      <a:pt x="578" y="393"/>
                    </a:lnTo>
                    <a:lnTo>
                      <a:pt x="565" y="373"/>
                    </a:lnTo>
                    <a:lnTo>
                      <a:pt x="541" y="342"/>
                    </a:lnTo>
                    <a:lnTo>
                      <a:pt x="519" y="313"/>
                    </a:lnTo>
                    <a:lnTo>
                      <a:pt x="495" y="285"/>
                    </a:lnTo>
                    <a:lnTo>
                      <a:pt x="471" y="261"/>
                    </a:lnTo>
                    <a:lnTo>
                      <a:pt x="447" y="237"/>
                    </a:lnTo>
                    <a:lnTo>
                      <a:pt x="423" y="216"/>
                    </a:lnTo>
                    <a:lnTo>
                      <a:pt x="398" y="197"/>
                    </a:lnTo>
                    <a:lnTo>
                      <a:pt x="373" y="181"/>
                    </a:lnTo>
                    <a:lnTo>
                      <a:pt x="365" y="178"/>
                    </a:lnTo>
                    <a:lnTo>
                      <a:pt x="356" y="173"/>
                    </a:lnTo>
                    <a:lnTo>
                      <a:pt x="347" y="169"/>
                    </a:lnTo>
                    <a:lnTo>
                      <a:pt x="337" y="163"/>
                    </a:lnTo>
                    <a:lnTo>
                      <a:pt x="309" y="150"/>
                    </a:lnTo>
                    <a:lnTo>
                      <a:pt x="278" y="135"/>
                    </a:lnTo>
                    <a:lnTo>
                      <a:pt x="243" y="118"/>
                    </a:lnTo>
                    <a:lnTo>
                      <a:pt x="203" y="99"/>
                    </a:lnTo>
                    <a:lnTo>
                      <a:pt x="158" y="78"/>
                    </a:lnTo>
                    <a:lnTo>
                      <a:pt x="111" y="53"/>
                    </a:lnTo>
                    <a:lnTo>
                      <a:pt x="58" y="2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59"/>
              <p:cNvSpPr/>
              <p:nvPr/>
            </p:nvSpPr>
            <p:spPr>
              <a:xfrm>
                <a:off x="6240240" y="4840200"/>
                <a:ext cx="25920" cy="7920"/>
              </a:xfrm>
              <a:custGeom>
                <a:avLst/>
                <a:gdLst/>
                <a:ahLst/>
                <a:rect l="l" t="t" r="r" b="b"/>
                <a:pathLst>
                  <a:path w="255" h="103">
                    <a:moveTo>
                      <a:pt x="0" y="0"/>
                    </a:moveTo>
                    <a:lnTo>
                      <a:pt x="52" y="25"/>
                    </a:lnTo>
                    <a:lnTo>
                      <a:pt x="100" y="49"/>
                    </a:lnTo>
                    <a:lnTo>
                      <a:pt x="139" y="67"/>
                    </a:lnTo>
                    <a:lnTo>
                      <a:pt x="175" y="82"/>
                    </a:lnTo>
                    <a:lnTo>
                      <a:pt x="204" y="93"/>
                    </a:lnTo>
                    <a:lnTo>
                      <a:pt x="227" y="100"/>
                    </a:lnTo>
                    <a:lnTo>
                      <a:pt x="236" y="102"/>
                    </a:lnTo>
                    <a:lnTo>
                      <a:pt x="244" y="103"/>
                    </a:lnTo>
                    <a:lnTo>
                      <a:pt x="250" y="103"/>
                    </a:lnTo>
                    <a:lnTo>
                      <a:pt x="255" y="10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1460"/>
              <p:cNvSpPr/>
              <p:nvPr/>
            </p:nvSpPr>
            <p:spPr>
              <a:xfrm>
                <a:off x="6266520" y="4848480"/>
                <a:ext cx="164160" cy="18000"/>
              </a:xfrm>
              <a:custGeom>
                <a:avLst/>
                <a:gdLst/>
                <a:ahLst/>
                <a:rect l="l" t="t" r="r" b="b"/>
                <a:pathLst>
                  <a:path w="1580" h="220">
                    <a:moveTo>
                      <a:pt x="0" y="0"/>
                    </a:moveTo>
                    <a:lnTo>
                      <a:pt x="390" y="53"/>
                    </a:lnTo>
                    <a:lnTo>
                      <a:pt x="1580" y="216"/>
                    </a:lnTo>
                    <a:lnTo>
                      <a:pt x="1580" y="22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1461"/>
              <p:cNvSpPr/>
              <p:nvPr/>
            </p:nvSpPr>
            <p:spPr>
              <a:xfrm flipV="1">
                <a:off x="6430680" y="4866840"/>
                <a:ext cx="352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1462"/>
              <p:cNvSpPr/>
              <p:nvPr/>
            </p:nvSpPr>
            <p:spPr>
              <a:xfrm>
                <a:off x="6349680" y="4866840"/>
                <a:ext cx="117720" cy="416160"/>
              </a:xfrm>
              <a:custGeom>
                <a:avLst/>
                <a:gdLst/>
                <a:ahLst/>
                <a:rect l="l" t="t" r="r" b="b"/>
                <a:pathLst>
                  <a:path w="1122" h="5033">
                    <a:moveTo>
                      <a:pt x="0" y="5033"/>
                    </a:moveTo>
                    <a:lnTo>
                      <a:pt x="0" y="5031"/>
                    </a:lnTo>
                    <a:lnTo>
                      <a:pt x="1" y="5030"/>
                    </a:lnTo>
                    <a:lnTo>
                      <a:pt x="2" y="5030"/>
                    </a:lnTo>
                    <a:lnTo>
                      <a:pt x="3" y="5030"/>
                    </a:lnTo>
                    <a:lnTo>
                      <a:pt x="16" y="4980"/>
                    </a:lnTo>
                    <a:lnTo>
                      <a:pt x="30" y="4931"/>
                    </a:lnTo>
                    <a:lnTo>
                      <a:pt x="43" y="4883"/>
                    </a:lnTo>
                    <a:lnTo>
                      <a:pt x="56" y="4835"/>
                    </a:lnTo>
                    <a:lnTo>
                      <a:pt x="69" y="4786"/>
                    </a:lnTo>
                    <a:lnTo>
                      <a:pt x="83" y="4737"/>
                    </a:lnTo>
                    <a:lnTo>
                      <a:pt x="96" y="4689"/>
                    </a:lnTo>
                    <a:lnTo>
                      <a:pt x="109" y="4640"/>
                    </a:lnTo>
                    <a:lnTo>
                      <a:pt x="190" y="4346"/>
                    </a:lnTo>
                    <a:lnTo>
                      <a:pt x="268" y="4054"/>
                    </a:lnTo>
                    <a:lnTo>
                      <a:pt x="343" y="3763"/>
                    </a:lnTo>
                    <a:lnTo>
                      <a:pt x="417" y="3472"/>
                    </a:lnTo>
                    <a:lnTo>
                      <a:pt x="487" y="3183"/>
                    </a:lnTo>
                    <a:lnTo>
                      <a:pt x="555" y="2894"/>
                    </a:lnTo>
                    <a:lnTo>
                      <a:pt x="622" y="2607"/>
                    </a:lnTo>
                    <a:lnTo>
                      <a:pt x="685" y="2320"/>
                    </a:lnTo>
                    <a:lnTo>
                      <a:pt x="747" y="2035"/>
                    </a:lnTo>
                    <a:lnTo>
                      <a:pt x="806" y="1750"/>
                    </a:lnTo>
                    <a:lnTo>
                      <a:pt x="864" y="1466"/>
                    </a:lnTo>
                    <a:lnTo>
                      <a:pt x="918" y="1183"/>
                    </a:lnTo>
                    <a:lnTo>
                      <a:pt x="971" y="901"/>
                    </a:lnTo>
                    <a:lnTo>
                      <a:pt x="1021" y="620"/>
                    </a:lnTo>
                    <a:lnTo>
                      <a:pt x="1069" y="340"/>
                    </a:lnTo>
                    <a:lnTo>
                      <a:pt x="1115" y="60"/>
                    </a:lnTo>
                    <a:lnTo>
                      <a:pt x="1116" y="45"/>
                    </a:lnTo>
                    <a:lnTo>
                      <a:pt x="1117" y="29"/>
                    </a:lnTo>
                    <a:lnTo>
                      <a:pt x="1119" y="14"/>
                    </a:lnTo>
                    <a:lnTo>
                      <a:pt x="112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1463"/>
              <p:cNvSpPr/>
              <p:nvPr/>
            </p:nvSpPr>
            <p:spPr>
              <a:xfrm flipH="1">
                <a:off x="6465960" y="486684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1464"/>
              <p:cNvSpPr/>
              <p:nvPr/>
            </p:nvSpPr>
            <p:spPr>
              <a:xfrm>
                <a:off x="6237360" y="4887360"/>
                <a:ext cx="71640" cy="158760"/>
              </a:xfrm>
              <a:custGeom>
                <a:avLst/>
                <a:gdLst/>
                <a:ahLst/>
                <a:rect l="l" t="t" r="r" b="b"/>
                <a:pathLst>
                  <a:path w="695" h="1924">
                    <a:moveTo>
                      <a:pt x="695" y="0"/>
                    </a:moveTo>
                    <a:lnTo>
                      <a:pt x="693" y="40"/>
                    </a:lnTo>
                    <a:lnTo>
                      <a:pt x="688" y="79"/>
                    </a:lnTo>
                    <a:lnTo>
                      <a:pt x="681" y="119"/>
                    </a:lnTo>
                    <a:lnTo>
                      <a:pt x="672" y="157"/>
                    </a:lnTo>
                    <a:lnTo>
                      <a:pt x="661" y="197"/>
                    </a:lnTo>
                    <a:lnTo>
                      <a:pt x="647" y="237"/>
                    </a:lnTo>
                    <a:lnTo>
                      <a:pt x="631" y="277"/>
                    </a:lnTo>
                    <a:lnTo>
                      <a:pt x="613" y="316"/>
                    </a:lnTo>
                    <a:lnTo>
                      <a:pt x="593" y="356"/>
                    </a:lnTo>
                    <a:lnTo>
                      <a:pt x="571" y="396"/>
                    </a:lnTo>
                    <a:lnTo>
                      <a:pt x="545" y="436"/>
                    </a:lnTo>
                    <a:lnTo>
                      <a:pt x="519" y="476"/>
                    </a:lnTo>
                    <a:lnTo>
                      <a:pt x="490" y="516"/>
                    </a:lnTo>
                    <a:lnTo>
                      <a:pt x="459" y="556"/>
                    </a:lnTo>
                    <a:lnTo>
                      <a:pt x="426" y="595"/>
                    </a:lnTo>
                    <a:lnTo>
                      <a:pt x="390" y="635"/>
                    </a:lnTo>
                    <a:lnTo>
                      <a:pt x="387" y="638"/>
                    </a:lnTo>
                    <a:lnTo>
                      <a:pt x="382" y="642"/>
                    </a:lnTo>
                    <a:lnTo>
                      <a:pt x="358" y="683"/>
                    </a:lnTo>
                    <a:lnTo>
                      <a:pt x="335" y="723"/>
                    </a:lnTo>
                    <a:lnTo>
                      <a:pt x="311" y="763"/>
                    </a:lnTo>
                    <a:lnTo>
                      <a:pt x="289" y="803"/>
                    </a:lnTo>
                    <a:lnTo>
                      <a:pt x="268" y="843"/>
                    </a:lnTo>
                    <a:lnTo>
                      <a:pt x="248" y="883"/>
                    </a:lnTo>
                    <a:lnTo>
                      <a:pt x="228" y="923"/>
                    </a:lnTo>
                    <a:lnTo>
                      <a:pt x="209" y="963"/>
                    </a:lnTo>
                    <a:lnTo>
                      <a:pt x="191" y="1002"/>
                    </a:lnTo>
                    <a:lnTo>
                      <a:pt x="174" y="1042"/>
                    </a:lnTo>
                    <a:lnTo>
                      <a:pt x="157" y="1081"/>
                    </a:lnTo>
                    <a:lnTo>
                      <a:pt x="142" y="1121"/>
                    </a:lnTo>
                    <a:lnTo>
                      <a:pt x="127" y="1160"/>
                    </a:lnTo>
                    <a:lnTo>
                      <a:pt x="113" y="1200"/>
                    </a:lnTo>
                    <a:lnTo>
                      <a:pt x="99" y="1239"/>
                    </a:lnTo>
                    <a:lnTo>
                      <a:pt x="87" y="1277"/>
                    </a:lnTo>
                    <a:lnTo>
                      <a:pt x="76" y="1317"/>
                    </a:lnTo>
                    <a:lnTo>
                      <a:pt x="65" y="1356"/>
                    </a:lnTo>
                    <a:lnTo>
                      <a:pt x="55" y="1395"/>
                    </a:lnTo>
                    <a:lnTo>
                      <a:pt x="46" y="1434"/>
                    </a:lnTo>
                    <a:lnTo>
                      <a:pt x="38" y="1473"/>
                    </a:lnTo>
                    <a:lnTo>
                      <a:pt x="31" y="1511"/>
                    </a:lnTo>
                    <a:lnTo>
                      <a:pt x="24" y="1549"/>
                    </a:lnTo>
                    <a:lnTo>
                      <a:pt x="18" y="1588"/>
                    </a:lnTo>
                    <a:lnTo>
                      <a:pt x="14" y="1627"/>
                    </a:lnTo>
                    <a:lnTo>
                      <a:pt x="9" y="1664"/>
                    </a:lnTo>
                    <a:lnTo>
                      <a:pt x="6" y="1703"/>
                    </a:lnTo>
                    <a:lnTo>
                      <a:pt x="4" y="1741"/>
                    </a:lnTo>
                    <a:lnTo>
                      <a:pt x="3" y="1779"/>
                    </a:lnTo>
                    <a:lnTo>
                      <a:pt x="2" y="1816"/>
                    </a:lnTo>
                    <a:lnTo>
                      <a:pt x="2" y="1854"/>
                    </a:lnTo>
                    <a:lnTo>
                      <a:pt x="3" y="1892"/>
                    </a:lnTo>
                    <a:lnTo>
                      <a:pt x="3" y="1899"/>
                    </a:lnTo>
                    <a:lnTo>
                      <a:pt x="3" y="1908"/>
                    </a:lnTo>
                    <a:lnTo>
                      <a:pt x="2" y="1916"/>
                    </a:lnTo>
                    <a:lnTo>
                      <a:pt x="0" y="19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1465"/>
              <p:cNvSpPr/>
              <p:nvPr/>
            </p:nvSpPr>
            <p:spPr>
              <a:xfrm>
                <a:off x="6175800" y="5046480"/>
                <a:ext cx="61200" cy="165960"/>
              </a:xfrm>
              <a:custGeom>
                <a:avLst/>
                <a:gdLst/>
                <a:ahLst/>
                <a:rect l="l" t="t" r="r" b="b"/>
                <a:pathLst>
                  <a:path w="586" h="2009">
                    <a:moveTo>
                      <a:pt x="0" y="2009"/>
                    </a:moveTo>
                    <a:lnTo>
                      <a:pt x="5" y="1983"/>
                    </a:lnTo>
                    <a:lnTo>
                      <a:pt x="13" y="1955"/>
                    </a:lnTo>
                    <a:lnTo>
                      <a:pt x="22" y="1925"/>
                    </a:lnTo>
                    <a:lnTo>
                      <a:pt x="31" y="1895"/>
                    </a:lnTo>
                    <a:lnTo>
                      <a:pt x="53" y="1829"/>
                    </a:lnTo>
                    <a:lnTo>
                      <a:pt x="80" y="1759"/>
                    </a:lnTo>
                    <a:lnTo>
                      <a:pt x="110" y="1682"/>
                    </a:lnTo>
                    <a:lnTo>
                      <a:pt x="145" y="1600"/>
                    </a:lnTo>
                    <a:lnTo>
                      <a:pt x="184" y="1512"/>
                    </a:lnTo>
                    <a:lnTo>
                      <a:pt x="226" y="1419"/>
                    </a:lnTo>
                    <a:lnTo>
                      <a:pt x="248" y="1369"/>
                    </a:lnTo>
                    <a:lnTo>
                      <a:pt x="269" y="1314"/>
                    </a:lnTo>
                    <a:lnTo>
                      <a:pt x="292" y="1254"/>
                    </a:lnTo>
                    <a:lnTo>
                      <a:pt x="313" y="1189"/>
                    </a:lnTo>
                    <a:lnTo>
                      <a:pt x="335" y="1118"/>
                    </a:lnTo>
                    <a:lnTo>
                      <a:pt x="357" y="1042"/>
                    </a:lnTo>
                    <a:lnTo>
                      <a:pt x="379" y="962"/>
                    </a:lnTo>
                    <a:lnTo>
                      <a:pt x="401" y="877"/>
                    </a:lnTo>
                    <a:lnTo>
                      <a:pt x="424" y="787"/>
                    </a:lnTo>
                    <a:lnTo>
                      <a:pt x="446" y="692"/>
                    </a:lnTo>
                    <a:lnTo>
                      <a:pt x="469" y="592"/>
                    </a:lnTo>
                    <a:lnTo>
                      <a:pt x="491" y="487"/>
                    </a:lnTo>
                    <a:lnTo>
                      <a:pt x="513" y="377"/>
                    </a:lnTo>
                    <a:lnTo>
                      <a:pt x="537" y="262"/>
                    </a:lnTo>
                    <a:lnTo>
                      <a:pt x="559" y="142"/>
                    </a:lnTo>
                    <a:lnTo>
                      <a:pt x="582" y="18"/>
                    </a:lnTo>
                    <a:lnTo>
                      <a:pt x="583" y="8"/>
                    </a:lnTo>
                    <a:lnTo>
                      <a:pt x="58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466"/>
              <p:cNvSpPr/>
              <p:nvPr/>
            </p:nvSpPr>
            <p:spPr>
              <a:xfrm>
                <a:off x="6221520" y="4961880"/>
                <a:ext cx="15480" cy="84240"/>
              </a:xfrm>
              <a:custGeom>
                <a:avLst/>
                <a:gdLst/>
                <a:ahLst/>
                <a:rect l="l" t="t" r="r" b="b"/>
                <a:pathLst>
                  <a:path w="149" h="1026">
                    <a:moveTo>
                      <a:pt x="146" y="1026"/>
                    </a:moveTo>
                    <a:lnTo>
                      <a:pt x="146" y="1021"/>
                    </a:lnTo>
                    <a:lnTo>
                      <a:pt x="146" y="1017"/>
                    </a:lnTo>
                    <a:lnTo>
                      <a:pt x="147" y="1013"/>
                    </a:lnTo>
                    <a:lnTo>
                      <a:pt x="149" y="1008"/>
                    </a:lnTo>
                    <a:lnTo>
                      <a:pt x="134" y="984"/>
                    </a:lnTo>
                    <a:lnTo>
                      <a:pt x="120" y="959"/>
                    </a:lnTo>
                    <a:lnTo>
                      <a:pt x="107" y="934"/>
                    </a:lnTo>
                    <a:lnTo>
                      <a:pt x="94" y="908"/>
                    </a:lnTo>
                    <a:lnTo>
                      <a:pt x="83" y="883"/>
                    </a:lnTo>
                    <a:lnTo>
                      <a:pt x="72" y="856"/>
                    </a:lnTo>
                    <a:lnTo>
                      <a:pt x="62" y="829"/>
                    </a:lnTo>
                    <a:lnTo>
                      <a:pt x="53" y="801"/>
                    </a:lnTo>
                    <a:lnTo>
                      <a:pt x="45" y="773"/>
                    </a:lnTo>
                    <a:lnTo>
                      <a:pt x="37" y="745"/>
                    </a:lnTo>
                    <a:lnTo>
                      <a:pt x="29" y="715"/>
                    </a:lnTo>
                    <a:lnTo>
                      <a:pt x="23" y="687"/>
                    </a:lnTo>
                    <a:lnTo>
                      <a:pt x="18" y="657"/>
                    </a:lnTo>
                    <a:lnTo>
                      <a:pt x="12" y="627"/>
                    </a:lnTo>
                    <a:lnTo>
                      <a:pt x="9" y="596"/>
                    </a:lnTo>
                    <a:lnTo>
                      <a:pt x="6" y="565"/>
                    </a:lnTo>
                    <a:lnTo>
                      <a:pt x="2" y="532"/>
                    </a:lnTo>
                    <a:lnTo>
                      <a:pt x="1" y="500"/>
                    </a:lnTo>
                    <a:lnTo>
                      <a:pt x="0" y="467"/>
                    </a:lnTo>
                    <a:lnTo>
                      <a:pt x="0" y="434"/>
                    </a:lnTo>
                    <a:lnTo>
                      <a:pt x="0" y="401"/>
                    </a:lnTo>
                    <a:lnTo>
                      <a:pt x="1" y="366"/>
                    </a:lnTo>
                    <a:lnTo>
                      <a:pt x="4" y="332"/>
                    </a:lnTo>
                    <a:lnTo>
                      <a:pt x="7" y="297"/>
                    </a:lnTo>
                    <a:lnTo>
                      <a:pt x="10" y="262"/>
                    </a:lnTo>
                    <a:lnTo>
                      <a:pt x="15" y="225"/>
                    </a:lnTo>
                    <a:lnTo>
                      <a:pt x="19" y="189"/>
                    </a:lnTo>
                    <a:lnTo>
                      <a:pt x="26" y="152"/>
                    </a:lnTo>
                    <a:lnTo>
                      <a:pt x="32" y="114"/>
                    </a:lnTo>
                    <a:lnTo>
                      <a:pt x="39" y="77"/>
                    </a:lnTo>
                    <a:lnTo>
                      <a:pt x="48" y="39"/>
                    </a:lnTo>
                    <a:lnTo>
                      <a:pt x="5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467"/>
              <p:cNvSpPr/>
              <p:nvPr/>
            </p:nvSpPr>
            <p:spPr>
              <a:xfrm>
                <a:off x="5972760" y="4929120"/>
                <a:ext cx="2880" cy="35280"/>
              </a:xfrm>
              <a:custGeom>
                <a:avLst/>
                <a:gdLst/>
                <a:ahLst/>
                <a:rect l="l" t="t" r="r" b="b"/>
                <a:pathLst>
                  <a:path w="30" h="437">
                    <a:moveTo>
                      <a:pt x="2" y="437"/>
                    </a:moveTo>
                    <a:lnTo>
                      <a:pt x="1" y="434"/>
                    </a:lnTo>
                    <a:lnTo>
                      <a:pt x="0" y="431"/>
                    </a:lnTo>
                    <a:lnTo>
                      <a:pt x="1" y="427"/>
                    </a:lnTo>
                    <a:lnTo>
                      <a:pt x="2" y="422"/>
                    </a:lnTo>
                    <a:lnTo>
                      <a:pt x="6" y="370"/>
                    </a:lnTo>
                    <a:lnTo>
                      <a:pt x="8" y="329"/>
                    </a:lnTo>
                    <a:lnTo>
                      <a:pt x="11" y="300"/>
                    </a:lnTo>
                    <a:lnTo>
                      <a:pt x="14" y="284"/>
                    </a:lnTo>
                    <a:lnTo>
                      <a:pt x="18" y="261"/>
                    </a:lnTo>
                    <a:lnTo>
                      <a:pt x="22" y="237"/>
                    </a:lnTo>
                    <a:lnTo>
                      <a:pt x="26" y="213"/>
                    </a:lnTo>
                    <a:lnTo>
                      <a:pt x="29" y="188"/>
                    </a:lnTo>
                    <a:lnTo>
                      <a:pt x="30" y="163"/>
                    </a:lnTo>
                    <a:lnTo>
                      <a:pt x="30" y="136"/>
                    </a:lnTo>
                    <a:lnTo>
                      <a:pt x="30" y="110"/>
                    </a:lnTo>
                    <a:lnTo>
                      <a:pt x="28" y="82"/>
                    </a:lnTo>
                    <a:lnTo>
                      <a:pt x="28" y="79"/>
                    </a:lnTo>
                    <a:lnTo>
                      <a:pt x="28" y="74"/>
                    </a:lnTo>
                    <a:lnTo>
                      <a:pt x="27" y="56"/>
                    </a:lnTo>
                    <a:lnTo>
                      <a:pt x="26" y="38"/>
                    </a:lnTo>
                    <a:lnTo>
                      <a:pt x="24" y="19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1468"/>
              <p:cNvSpPr/>
              <p:nvPr/>
            </p:nvSpPr>
            <p:spPr>
              <a:xfrm>
                <a:off x="5966640" y="4933800"/>
                <a:ext cx="6120" cy="31320"/>
              </a:xfrm>
              <a:custGeom>
                <a:avLst/>
                <a:gdLst/>
                <a:ahLst/>
                <a:rect l="l" t="t" r="r" b="b"/>
                <a:pathLst>
                  <a:path w="60" h="387">
                    <a:moveTo>
                      <a:pt x="60" y="387"/>
                    </a:moveTo>
                    <a:lnTo>
                      <a:pt x="60" y="381"/>
                    </a:lnTo>
                    <a:lnTo>
                      <a:pt x="60" y="376"/>
                    </a:lnTo>
                    <a:lnTo>
                      <a:pt x="48" y="289"/>
                    </a:lnTo>
                    <a:lnTo>
                      <a:pt x="37" y="215"/>
                    </a:lnTo>
                    <a:lnTo>
                      <a:pt x="27" y="151"/>
                    </a:lnTo>
                    <a:lnTo>
                      <a:pt x="18" y="98"/>
                    </a:lnTo>
                    <a:lnTo>
                      <a:pt x="11" y="57"/>
                    </a:lnTo>
                    <a:lnTo>
                      <a:pt x="6" y="26"/>
                    </a:lnTo>
                    <a:lnTo>
                      <a:pt x="2" y="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1469"/>
              <p:cNvSpPr/>
              <p:nvPr/>
            </p:nvSpPr>
            <p:spPr>
              <a:xfrm flipH="1">
                <a:off x="5965200" y="493380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470"/>
              <p:cNvSpPr/>
              <p:nvPr/>
            </p:nvSpPr>
            <p:spPr>
              <a:xfrm>
                <a:off x="5898960" y="4897440"/>
                <a:ext cx="66240" cy="36360"/>
              </a:xfrm>
              <a:custGeom>
                <a:avLst/>
                <a:gdLst/>
                <a:ahLst/>
                <a:rect l="l" t="t" r="r" b="b"/>
                <a:pathLst>
                  <a:path w="647" h="440">
                    <a:moveTo>
                      <a:pt x="647" y="440"/>
                    </a:moveTo>
                    <a:lnTo>
                      <a:pt x="629" y="412"/>
                    </a:lnTo>
                    <a:lnTo>
                      <a:pt x="611" y="384"/>
                    </a:lnTo>
                    <a:lnTo>
                      <a:pt x="593" y="359"/>
                    </a:lnTo>
                    <a:lnTo>
                      <a:pt x="573" y="333"/>
                    </a:lnTo>
                    <a:lnTo>
                      <a:pt x="550" y="308"/>
                    </a:lnTo>
                    <a:lnTo>
                      <a:pt x="528" y="283"/>
                    </a:lnTo>
                    <a:lnTo>
                      <a:pt x="504" y="260"/>
                    </a:lnTo>
                    <a:lnTo>
                      <a:pt x="479" y="237"/>
                    </a:lnTo>
                    <a:lnTo>
                      <a:pt x="456" y="217"/>
                    </a:lnTo>
                    <a:lnTo>
                      <a:pt x="432" y="198"/>
                    </a:lnTo>
                    <a:lnTo>
                      <a:pt x="406" y="180"/>
                    </a:lnTo>
                    <a:lnTo>
                      <a:pt x="380" y="163"/>
                    </a:lnTo>
                    <a:lnTo>
                      <a:pt x="353" y="145"/>
                    </a:lnTo>
                    <a:lnTo>
                      <a:pt x="325" y="128"/>
                    </a:lnTo>
                    <a:lnTo>
                      <a:pt x="296" y="113"/>
                    </a:lnTo>
                    <a:lnTo>
                      <a:pt x="266" y="97"/>
                    </a:lnTo>
                    <a:lnTo>
                      <a:pt x="236" y="83"/>
                    </a:lnTo>
                    <a:lnTo>
                      <a:pt x="204" y="68"/>
                    </a:lnTo>
                    <a:lnTo>
                      <a:pt x="173" y="55"/>
                    </a:lnTo>
                    <a:lnTo>
                      <a:pt x="140" y="43"/>
                    </a:lnTo>
                    <a:lnTo>
                      <a:pt x="107" y="31"/>
                    </a:lnTo>
                    <a:lnTo>
                      <a:pt x="71" y="20"/>
                    </a:lnTo>
                    <a:lnTo>
                      <a:pt x="37" y="1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1471"/>
              <p:cNvSpPr/>
              <p:nvPr/>
            </p:nvSpPr>
            <p:spPr>
              <a:xfrm flipH="1" flipV="1">
                <a:off x="5896440" y="489672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472"/>
              <p:cNvSpPr/>
              <p:nvPr/>
            </p:nvSpPr>
            <p:spPr>
              <a:xfrm>
                <a:off x="5871960" y="4859280"/>
                <a:ext cx="24840" cy="37080"/>
              </a:xfrm>
              <a:custGeom>
                <a:avLst/>
                <a:gdLst/>
                <a:ahLst/>
                <a:rect l="l" t="t" r="r" b="b"/>
                <a:pathLst>
                  <a:path w="240" h="450">
                    <a:moveTo>
                      <a:pt x="240" y="450"/>
                    </a:moveTo>
                    <a:lnTo>
                      <a:pt x="216" y="445"/>
                    </a:lnTo>
                    <a:lnTo>
                      <a:pt x="194" y="439"/>
                    </a:lnTo>
                    <a:lnTo>
                      <a:pt x="172" y="434"/>
                    </a:lnTo>
                    <a:lnTo>
                      <a:pt x="152" y="427"/>
                    </a:lnTo>
                    <a:lnTo>
                      <a:pt x="133" y="421"/>
                    </a:lnTo>
                    <a:lnTo>
                      <a:pt x="117" y="413"/>
                    </a:lnTo>
                    <a:lnTo>
                      <a:pt x="100" y="405"/>
                    </a:lnTo>
                    <a:lnTo>
                      <a:pt x="84" y="396"/>
                    </a:lnTo>
                    <a:lnTo>
                      <a:pt x="71" y="387"/>
                    </a:lnTo>
                    <a:lnTo>
                      <a:pt x="58" y="378"/>
                    </a:lnTo>
                    <a:lnTo>
                      <a:pt x="47" y="368"/>
                    </a:lnTo>
                    <a:lnTo>
                      <a:pt x="37" y="357"/>
                    </a:lnTo>
                    <a:lnTo>
                      <a:pt x="28" y="347"/>
                    </a:lnTo>
                    <a:lnTo>
                      <a:pt x="20" y="336"/>
                    </a:lnTo>
                    <a:lnTo>
                      <a:pt x="13" y="324"/>
                    </a:lnTo>
                    <a:lnTo>
                      <a:pt x="9" y="312"/>
                    </a:lnTo>
                    <a:lnTo>
                      <a:pt x="5" y="300"/>
                    </a:lnTo>
                    <a:lnTo>
                      <a:pt x="2" y="286"/>
                    </a:lnTo>
                    <a:lnTo>
                      <a:pt x="0" y="273"/>
                    </a:lnTo>
                    <a:lnTo>
                      <a:pt x="0" y="260"/>
                    </a:lnTo>
                    <a:lnTo>
                      <a:pt x="1" y="245"/>
                    </a:lnTo>
                    <a:lnTo>
                      <a:pt x="3" y="230"/>
                    </a:lnTo>
                    <a:lnTo>
                      <a:pt x="7" y="215"/>
                    </a:lnTo>
                    <a:lnTo>
                      <a:pt x="11" y="199"/>
                    </a:lnTo>
                    <a:lnTo>
                      <a:pt x="18" y="183"/>
                    </a:lnTo>
                    <a:lnTo>
                      <a:pt x="25" y="167"/>
                    </a:lnTo>
                    <a:lnTo>
                      <a:pt x="33" y="149"/>
                    </a:lnTo>
                    <a:lnTo>
                      <a:pt x="43" y="131"/>
                    </a:lnTo>
                    <a:lnTo>
                      <a:pt x="54" y="113"/>
                    </a:lnTo>
                    <a:lnTo>
                      <a:pt x="67" y="95"/>
                    </a:lnTo>
                    <a:lnTo>
                      <a:pt x="80" y="76"/>
                    </a:lnTo>
                    <a:lnTo>
                      <a:pt x="94" y="57"/>
                    </a:lnTo>
                    <a:lnTo>
                      <a:pt x="97" y="51"/>
                    </a:lnTo>
                    <a:lnTo>
                      <a:pt x="98" y="49"/>
                    </a:lnTo>
                    <a:lnTo>
                      <a:pt x="109" y="36"/>
                    </a:lnTo>
                    <a:lnTo>
                      <a:pt x="119" y="21"/>
                    </a:lnTo>
                    <a:lnTo>
                      <a:pt x="130" y="10"/>
                    </a:lnTo>
                    <a:lnTo>
                      <a:pt x="14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473"/>
              <p:cNvSpPr/>
              <p:nvPr/>
            </p:nvSpPr>
            <p:spPr>
              <a:xfrm>
                <a:off x="5952960" y="4963680"/>
                <a:ext cx="27000" cy="228240"/>
              </a:xfrm>
              <a:custGeom>
                <a:avLst/>
                <a:gdLst/>
                <a:ahLst/>
                <a:rect l="l" t="t" r="r" b="b"/>
                <a:pathLst>
                  <a:path w="256" h="2761">
                    <a:moveTo>
                      <a:pt x="246" y="2761"/>
                    </a:moveTo>
                    <a:lnTo>
                      <a:pt x="248" y="2723"/>
                    </a:lnTo>
                    <a:lnTo>
                      <a:pt x="249" y="2684"/>
                    </a:lnTo>
                    <a:lnTo>
                      <a:pt x="252" y="2646"/>
                    </a:lnTo>
                    <a:lnTo>
                      <a:pt x="253" y="2608"/>
                    </a:lnTo>
                    <a:lnTo>
                      <a:pt x="253" y="2569"/>
                    </a:lnTo>
                    <a:lnTo>
                      <a:pt x="254" y="2531"/>
                    </a:lnTo>
                    <a:lnTo>
                      <a:pt x="255" y="2494"/>
                    </a:lnTo>
                    <a:lnTo>
                      <a:pt x="256" y="2456"/>
                    </a:lnTo>
                    <a:lnTo>
                      <a:pt x="256" y="2435"/>
                    </a:lnTo>
                    <a:lnTo>
                      <a:pt x="255" y="2415"/>
                    </a:lnTo>
                    <a:lnTo>
                      <a:pt x="253" y="2395"/>
                    </a:lnTo>
                    <a:lnTo>
                      <a:pt x="251" y="2375"/>
                    </a:lnTo>
                    <a:lnTo>
                      <a:pt x="248" y="2356"/>
                    </a:lnTo>
                    <a:lnTo>
                      <a:pt x="244" y="2337"/>
                    </a:lnTo>
                    <a:lnTo>
                      <a:pt x="240" y="2319"/>
                    </a:lnTo>
                    <a:lnTo>
                      <a:pt x="235" y="2300"/>
                    </a:lnTo>
                    <a:lnTo>
                      <a:pt x="208" y="2219"/>
                    </a:lnTo>
                    <a:lnTo>
                      <a:pt x="184" y="2137"/>
                    </a:lnTo>
                    <a:lnTo>
                      <a:pt x="160" y="2055"/>
                    </a:lnTo>
                    <a:lnTo>
                      <a:pt x="136" y="1973"/>
                    </a:lnTo>
                    <a:lnTo>
                      <a:pt x="114" y="1891"/>
                    </a:lnTo>
                    <a:lnTo>
                      <a:pt x="93" y="1808"/>
                    </a:lnTo>
                    <a:lnTo>
                      <a:pt x="73" y="1725"/>
                    </a:lnTo>
                    <a:lnTo>
                      <a:pt x="54" y="1643"/>
                    </a:lnTo>
                    <a:lnTo>
                      <a:pt x="42" y="1591"/>
                    </a:lnTo>
                    <a:lnTo>
                      <a:pt x="32" y="1539"/>
                    </a:lnTo>
                    <a:lnTo>
                      <a:pt x="23" y="1487"/>
                    </a:lnTo>
                    <a:lnTo>
                      <a:pt x="15" y="1435"/>
                    </a:lnTo>
                    <a:lnTo>
                      <a:pt x="9" y="1383"/>
                    </a:lnTo>
                    <a:lnTo>
                      <a:pt x="4" y="1331"/>
                    </a:lnTo>
                    <a:lnTo>
                      <a:pt x="2" y="1278"/>
                    </a:lnTo>
                    <a:lnTo>
                      <a:pt x="0" y="1225"/>
                    </a:lnTo>
                    <a:lnTo>
                      <a:pt x="0" y="1173"/>
                    </a:lnTo>
                    <a:lnTo>
                      <a:pt x="1" y="1120"/>
                    </a:lnTo>
                    <a:lnTo>
                      <a:pt x="4" y="1068"/>
                    </a:lnTo>
                    <a:lnTo>
                      <a:pt x="9" y="1015"/>
                    </a:lnTo>
                    <a:lnTo>
                      <a:pt x="14" y="961"/>
                    </a:lnTo>
                    <a:lnTo>
                      <a:pt x="21" y="908"/>
                    </a:lnTo>
                    <a:lnTo>
                      <a:pt x="30" y="855"/>
                    </a:lnTo>
                    <a:lnTo>
                      <a:pt x="40" y="802"/>
                    </a:lnTo>
                    <a:lnTo>
                      <a:pt x="50" y="754"/>
                    </a:lnTo>
                    <a:lnTo>
                      <a:pt x="60" y="705"/>
                    </a:lnTo>
                    <a:lnTo>
                      <a:pt x="70" y="656"/>
                    </a:lnTo>
                    <a:lnTo>
                      <a:pt x="79" y="608"/>
                    </a:lnTo>
                    <a:lnTo>
                      <a:pt x="89" y="559"/>
                    </a:lnTo>
                    <a:lnTo>
                      <a:pt x="98" y="509"/>
                    </a:lnTo>
                    <a:lnTo>
                      <a:pt x="107" y="460"/>
                    </a:lnTo>
                    <a:lnTo>
                      <a:pt x="116" y="411"/>
                    </a:lnTo>
                    <a:lnTo>
                      <a:pt x="125" y="363"/>
                    </a:lnTo>
                    <a:lnTo>
                      <a:pt x="134" y="313"/>
                    </a:lnTo>
                    <a:lnTo>
                      <a:pt x="143" y="264"/>
                    </a:lnTo>
                    <a:lnTo>
                      <a:pt x="152" y="215"/>
                    </a:lnTo>
                    <a:lnTo>
                      <a:pt x="161" y="165"/>
                    </a:lnTo>
                    <a:lnTo>
                      <a:pt x="169" y="116"/>
                    </a:lnTo>
                    <a:lnTo>
                      <a:pt x="177" y="66"/>
                    </a:lnTo>
                    <a:lnTo>
                      <a:pt x="185" y="18"/>
                    </a:lnTo>
                    <a:lnTo>
                      <a:pt x="186" y="12"/>
                    </a:lnTo>
                    <a:lnTo>
                      <a:pt x="188" y="3"/>
                    </a:lnTo>
                    <a:lnTo>
                      <a:pt x="188" y="2"/>
                    </a:lnTo>
                    <a:lnTo>
                      <a:pt x="18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474"/>
              <p:cNvSpPr/>
              <p:nvPr/>
            </p:nvSpPr>
            <p:spPr>
              <a:xfrm>
                <a:off x="5999040" y="5192640"/>
                <a:ext cx="43560" cy="52560"/>
              </a:xfrm>
              <a:custGeom>
                <a:avLst/>
                <a:gdLst/>
                <a:ahLst/>
                <a:rect l="l" t="t" r="r" b="b"/>
                <a:pathLst>
                  <a:path w="425" h="644">
                    <a:moveTo>
                      <a:pt x="0" y="0"/>
                    </a:moveTo>
                    <a:lnTo>
                      <a:pt x="20" y="7"/>
                    </a:lnTo>
                    <a:lnTo>
                      <a:pt x="37" y="14"/>
                    </a:lnTo>
                    <a:lnTo>
                      <a:pt x="53" y="23"/>
                    </a:lnTo>
                    <a:lnTo>
                      <a:pt x="67" y="33"/>
                    </a:lnTo>
                    <a:lnTo>
                      <a:pt x="99" y="53"/>
                    </a:lnTo>
                    <a:lnTo>
                      <a:pt x="129" y="74"/>
                    </a:lnTo>
                    <a:lnTo>
                      <a:pt x="158" y="95"/>
                    </a:lnTo>
                    <a:lnTo>
                      <a:pt x="187" y="116"/>
                    </a:lnTo>
                    <a:lnTo>
                      <a:pt x="213" y="138"/>
                    </a:lnTo>
                    <a:lnTo>
                      <a:pt x="238" y="161"/>
                    </a:lnTo>
                    <a:lnTo>
                      <a:pt x="261" y="184"/>
                    </a:lnTo>
                    <a:lnTo>
                      <a:pt x="284" y="208"/>
                    </a:lnTo>
                    <a:lnTo>
                      <a:pt x="305" y="231"/>
                    </a:lnTo>
                    <a:lnTo>
                      <a:pt x="325" y="255"/>
                    </a:lnTo>
                    <a:lnTo>
                      <a:pt x="342" y="280"/>
                    </a:lnTo>
                    <a:lnTo>
                      <a:pt x="360" y="305"/>
                    </a:lnTo>
                    <a:lnTo>
                      <a:pt x="376" y="331"/>
                    </a:lnTo>
                    <a:lnTo>
                      <a:pt x="390" y="356"/>
                    </a:lnTo>
                    <a:lnTo>
                      <a:pt x="403" y="382"/>
                    </a:lnTo>
                    <a:lnTo>
                      <a:pt x="416" y="408"/>
                    </a:lnTo>
                    <a:lnTo>
                      <a:pt x="419" y="425"/>
                    </a:lnTo>
                    <a:lnTo>
                      <a:pt x="421" y="441"/>
                    </a:lnTo>
                    <a:lnTo>
                      <a:pt x="423" y="456"/>
                    </a:lnTo>
                    <a:lnTo>
                      <a:pt x="425" y="471"/>
                    </a:lnTo>
                    <a:lnTo>
                      <a:pt x="425" y="485"/>
                    </a:lnTo>
                    <a:lnTo>
                      <a:pt x="423" y="498"/>
                    </a:lnTo>
                    <a:lnTo>
                      <a:pt x="422" y="510"/>
                    </a:lnTo>
                    <a:lnTo>
                      <a:pt x="420" y="523"/>
                    </a:lnTo>
                    <a:lnTo>
                      <a:pt x="417" y="535"/>
                    </a:lnTo>
                    <a:lnTo>
                      <a:pt x="412" y="546"/>
                    </a:lnTo>
                    <a:lnTo>
                      <a:pt x="407" y="557"/>
                    </a:lnTo>
                    <a:lnTo>
                      <a:pt x="400" y="567"/>
                    </a:lnTo>
                    <a:lnTo>
                      <a:pt x="393" y="576"/>
                    </a:lnTo>
                    <a:lnTo>
                      <a:pt x="385" y="585"/>
                    </a:lnTo>
                    <a:lnTo>
                      <a:pt x="376" y="593"/>
                    </a:lnTo>
                    <a:lnTo>
                      <a:pt x="366" y="600"/>
                    </a:lnTo>
                    <a:lnTo>
                      <a:pt x="355" y="609"/>
                    </a:lnTo>
                    <a:lnTo>
                      <a:pt x="341" y="617"/>
                    </a:lnTo>
                    <a:lnTo>
                      <a:pt x="328" y="624"/>
                    </a:lnTo>
                    <a:lnTo>
                      <a:pt x="312" y="630"/>
                    </a:lnTo>
                    <a:lnTo>
                      <a:pt x="296" y="635"/>
                    </a:lnTo>
                    <a:lnTo>
                      <a:pt x="278" y="638"/>
                    </a:lnTo>
                    <a:lnTo>
                      <a:pt x="258" y="641"/>
                    </a:lnTo>
                    <a:lnTo>
                      <a:pt x="238" y="64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475"/>
              <p:cNvSpPr/>
              <p:nvPr/>
            </p:nvSpPr>
            <p:spPr>
              <a:xfrm>
                <a:off x="5946840" y="5191920"/>
                <a:ext cx="51840" cy="2880"/>
              </a:xfrm>
              <a:custGeom>
                <a:avLst/>
                <a:gdLst/>
                <a:ahLst/>
                <a:rect l="l" t="t" r="r" b="b"/>
                <a:pathLst>
                  <a:path w="501" h="48">
                    <a:moveTo>
                      <a:pt x="0" y="48"/>
                    </a:moveTo>
                    <a:lnTo>
                      <a:pt x="46" y="39"/>
                    </a:lnTo>
                    <a:lnTo>
                      <a:pt x="89" y="31"/>
                    </a:lnTo>
                    <a:lnTo>
                      <a:pt x="131" y="24"/>
                    </a:lnTo>
                    <a:lnTo>
                      <a:pt x="171" y="18"/>
                    </a:lnTo>
                    <a:lnTo>
                      <a:pt x="209" y="12"/>
                    </a:lnTo>
                    <a:lnTo>
                      <a:pt x="245" y="8"/>
                    </a:lnTo>
                    <a:lnTo>
                      <a:pt x="280" y="4"/>
                    </a:lnTo>
                    <a:lnTo>
                      <a:pt x="313" y="1"/>
                    </a:lnTo>
                    <a:lnTo>
                      <a:pt x="342" y="0"/>
                    </a:lnTo>
                    <a:lnTo>
                      <a:pt x="370" y="0"/>
                    </a:lnTo>
                    <a:lnTo>
                      <a:pt x="396" y="1"/>
                    </a:lnTo>
                    <a:lnTo>
                      <a:pt x="420" y="2"/>
                    </a:lnTo>
                    <a:lnTo>
                      <a:pt x="443" y="4"/>
                    </a:lnTo>
                    <a:lnTo>
                      <a:pt x="463" y="7"/>
                    </a:lnTo>
                    <a:lnTo>
                      <a:pt x="483" y="11"/>
                    </a:lnTo>
                    <a:lnTo>
                      <a:pt x="501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476"/>
              <p:cNvSpPr/>
              <p:nvPr/>
            </p:nvSpPr>
            <p:spPr>
              <a:xfrm>
                <a:off x="5946840" y="5195160"/>
                <a:ext cx="3960" cy="14760"/>
              </a:xfrm>
              <a:custGeom>
                <a:avLst/>
                <a:gdLst/>
                <a:ahLst/>
                <a:rect l="l" t="t" r="r" b="b"/>
                <a:pathLst>
                  <a:path w="40" h="174">
                    <a:moveTo>
                      <a:pt x="39" y="174"/>
                    </a:moveTo>
                    <a:lnTo>
                      <a:pt x="40" y="145"/>
                    </a:lnTo>
                    <a:lnTo>
                      <a:pt x="39" y="118"/>
                    </a:lnTo>
                    <a:lnTo>
                      <a:pt x="37" y="94"/>
                    </a:lnTo>
                    <a:lnTo>
                      <a:pt x="32" y="71"/>
                    </a:lnTo>
                    <a:lnTo>
                      <a:pt x="30" y="59"/>
                    </a:lnTo>
                    <a:lnTo>
                      <a:pt x="27" y="49"/>
                    </a:lnTo>
                    <a:lnTo>
                      <a:pt x="24" y="39"/>
                    </a:lnTo>
                    <a:lnTo>
                      <a:pt x="20" y="31"/>
                    </a:lnTo>
                    <a:lnTo>
                      <a:pt x="16" y="22"/>
                    </a:lnTo>
                    <a:lnTo>
                      <a:pt x="11" y="14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477"/>
              <p:cNvSpPr/>
              <p:nvPr/>
            </p:nvSpPr>
            <p:spPr>
              <a:xfrm>
                <a:off x="5979240" y="5113440"/>
                <a:ext cx="86040" cy="32760"/>
              </a:xfrm>
              <a:custGeom>
                <a:avLst/>
                <a:gdLst/>
                <a:ahLst/>
                <a:rect l="l" t="t" r="r" b="b"/>
                <a:pathLst>
                  <a:path w="834" h="393">
                    <a:moveTo>
                      <a:pt x="834" y="391"/>
                    </a:moveTo>
                    <a:lnTo>
                      <a:pt x="808" y="393"/>
                    </a:lnTo>
                    <a:lnTo>
                      <a:pt x="782" y="392"/>
                    </a:lnTo>
                    <a:lnTo>
                      <a:pt x="757" y="390"/>
                    </a:lnTo>
                    <a:lnTo>
                      <a:pt x="732" y="386"/>
                    </a:lnTo>
                    <a:lnTo>
                      <a:pt x="708" y="381"/>
                    </a:lnTo>
                    <a:lnTo>
                      <a:pt x="685" y="374"/>
                    </a:lnTo>
                    <a:lnTo>
                      <a:pt x="661" y="365"/>
                    </a:lnTo>
                    <a:lnTo>
                      <a:pt x="639" y="355"/>
                    </a:lnTo>
                    <a:lnTo>
                      <a:pt x="557" y="317"/>
                    </a:lnTo>
                    <a:lnTo>
                      <a:pt x="475" y="278"/>
                    </a:lnTo>
                    <a:lnTo>
                      <a:pt x="394" y="235"/>
                    </a:lnTo>
                    <a:lnTo>
                      <a:pt x="314" y="192"/>
                    </a:lnTo>
                    <a:lnTo>
                      <a:pt x="234" y="147"/>
                    </a:lnTo>
                    <a:lnTo>
                      <a:pt x="155" y="100"/>
                    </a:lnTo>
                    <a:lnTo>
                      <a:pt x="77" y="5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478"/>
              <p:cNvSpPr/>
              <p:nvPr/>
            </p:nvSpPr>
            <p:spPr>
              <a:xfrm>
                <a:off x="5999040" y="5189760"/>
                <a:ext cx="109080" cy="18720"/>
              </a:xfrm>
              <a:custGeom>
                <a:avLst/>
                <a:gdLst/>
                <a:ahLst/>
                <a:rect l="l" t="t" r="r" b="b"/>
                <a:pathLst>
                  <a:path w="1058" h="234">
                    <a:moveTo>
                      <a:pt x="1058" y="234"/>
                    </a:moveTo>
                    <a:lnTo>
                      <a:pt x="1045" y="224"/>
                    </a:lnTo>
                    <a:lnTo>
                      <a:pt x="1031" y="214"/>
                    </a:lnTo>
                    <a:lnTo>
                      <a:pt x="1017" y="205"/>
                    </a:lnTo>
                    <a:lnTo>
                      <a:pt x="1003" y="196"/>
                    </a:lnTo>
                    <a:lnTo>
                      <a:pt x="987" y="188"/>
                    </a:lnTo>
                    <a:lnTo>
                      <a:pt x="971" y="182"/>
                    </a:lnTo>
                    <a:lnTo>
                      <a:pt x="955" y="175"/>
                    </a:lnTo>
                    <a:lnTo>
                      <a:pt x="938" y="170"/>
                    </a:lnTo>
                    <a:lnTo>
                      <a:pt x="920" y="165"/>
                    </a:lnTo>
                    <a:lnTo>
                      <a:pt x="903" y="161"/>
                    </a:lnTo>
                    <a:lnTo>
                      <a:pt x="884" y="157"/>
                    </a:lnTo>
                    <a:lnTo>
                      <a:pt x="864" y="154"/>
                    </a:lnTo>
                    <a:lnTo>
                      <a:pt x="844" y="152"/>
                    </a:lnTo>
                    <a:lnTo>
                      <a:pt x="824" y="150"/>
                    </a:lnTo>
                    <a:lnTo>
                      <a:pt x="803" y="149"/>
                    </a:lnTo>
                    <a:lnTo>
                      <a:pt x="781" y="149"/>
                    </a:lnTo>
                    <a:lnTo>
                      <a:pt x="726" y="140"/>
                    </a:lnTo>
                    <a:lnTo>
                      <a:pt x="671" y="130"/>
                    </a:lnTo>
                    <a:lnTo>
                      <a:pt x="616" y="117"/>
                    </a:lnTo>
                    <a:lnTo>
                      <a:pt x="561" y="104"/>
                    </a:lnTo>
                    <a:lnTo>
                      <a:pt x="506" y="90"/>
                    </a:lnTo>
                    <a:lnTo>
                      <a:pt x="450" y="73"/>
                    </a:lnTo>
                    <a:lnTo>
                      <a:pt x="396" y="56"/>
                    </a:lnTo>
                    <a:lnTo>
                      <a:pt x="340" y="39"/>
                    </a:lnTo>
                    <a:lnTo>
                      <a:pt x="312" y="29"/>
                    </a:lnTo>
                    <a:lnTo>
                      <a:pt x="284" y="21"/>
                    </a:lnTo>
                    <a:lnTo>
                      <a:pt x="257" y="14"/>
                    </a:lnTo>
                    <a:lnTo>
                      <a:pt x="232" y="9"/>
                    </a:lnTo>
                    <a:lnTo>
                      <a:pt x="207" y="4"/>
                    </a:lnTo>
                    <a:lnTo>
                      <a:pt x="183" y="1"/>
                    </a:lnTo>
                    <a:lnTo>
                      <a:pt x="161" y="0"/>
                    </a:lnTo>
                    <a:lnTo>
                      <a:pt x="138" y="0"/>
                    </a:lnTo>
                    <a:lnTo>
                      <a:pt x="117" y="0"/>
                    </a:lnTo>
                    <a:lnTo>
                      <a:pt x="97" y="3"/>
                    </a:lnTo>
                    <a:lnTo>
                      <a:pt x="78" y="7"/>
                    </a:lnTo>
                    <a:lnTo>
                      <a:pt x="61" y="11"/>
                    </a:lnTo>
                    <a:lnTo>
                      <a:pt x="44" y="18"/>
                    </a:lnTo>
                    <a:lnTo>
                      <a:pt x="28" y="25"/>
                    </a:lnTo>
                    <a:lnTo>
                      <a:pt x="14" y="35"/>
                    </a:lnTo>
                    <a:lnTo>
                      <a:pt x="0" y="4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479"/>
              <p:cNvSpPr/>
              <p:nvPr/>
            </p:nvSpPr>
            <p:spPr>
              <a:xfrm>
                <a:off x="6108120" y="5208480"/>
                <a:ext cx="21600" cy="50400"/>
              </a:xfrm>
              <a:custGeom>
                <a:avLst/>
                <a:gdLst/>
                <a:ahLst/>
                <a:rect l="l" t="t" r="r" b="b"/>
                <a:pathLst>
                  <a:path w="210" h="606">
                    <a:moveTo>
                      <a:pt x="210" y="606"/>
                    </a:moveTo>
                    <a:lnTo>
                      <a:pt x="207" y="570"/>
                    </a:lnTo>
                    <a:lnTo>
                      <a:pt x="205" y="533"/>
                    </a:lnTo>
                    <a:lnTo>
                      <a:pt x="202" y="498"/>
                    </a:lnTo>
                    <a:lnTo>
                      <a:pt x="197" y="463"/>
                    </a:lnTo>
                    <a:lnTo>
                      <a:pt x="193" y="430"/>
                    </a:lnTo>
                    <a:lnTo>
                      <a:pt x="187" y="397"/>
                    </a:lnTo>
                    <a:lnTo>
                      <a:pt x="181" y="365"/>
                    </a:lnTo>
                    <a:lnTo>
                      <a:pt x="173" y="333"/>
                    </a:lnTo>
                    <a:lnTo>
                      <a:pt x="165" y="303"/>
                    </a:lnTo>
                    <a:lnTo>
                      <a:pt x="156" y="273"/>
                    </a:lnTo>
                    <a:lnTo>
                      <a:pt x="146" y="243"/>
                    </a:lnTo>
                    <a:lnTo>
                      <a:pt x="136" y="215"/>
                    </a:lnTo>
                    <a:lnTo>
                      <a:pt x="125" y="187"/>
                    </a:lnTo>
                    <a:lnTo>
                      <a:pt x="114" y="161"/>
                    </a:lnTo>
                    <a:lnTo>
                      <a:pt x="102" y="135"/>
                    </a:lnTo>
                    <a:lnTo>
                      <a:pt x="89" y="110"/>
                    </a:lnTo>
                    <a:lnTo>
                      <a:pt x="81" y="94"/>
                    </a:lnTo>
                    <a:lnTo>
                      <a:pt x="72" y="81"/>
                    </a:lnTo>
                    <a:lnTo>
                      <a:pt x="63" y="68"/>
                    </a:lnTo>
                    <a:lnTo>
                      <a:pt x="53" y="56"/>
                    </a:lnTo>
                    <a:lnTo>
                      <a:pt x="42" y="41"/>
                    </a:lnTo>
                    <a:lnTo>
                      <a:pt x="29" y="27"/>
                    </a:lnTo>
                    <a:lnTo>
                      <a:pt x="16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1480"/>
              <p:cNvSpPr/>
              <p:nvPr/>
            </p:nvSpPr>
            <p:spPr>
              <a:xfrm>
                <a:off x="6108120" y="5208480"/>
                <a:ext cx="67680" cy="7200"/>
              </a:xfrm>
              <a:custGeom>
                <a:avLst/>
                <a:gdLst/>
                <a:ahLst/>
                <a:rect l="l" t="t" r="r" b="b"/>
                <a:pathLst>
                  <a:path w="650" h="85">
                    <a:moveTo>
                      <a:pt x="650" y="85"/>
                    </a:moveTo>
                    <a:lnTo>
                      <a:pt x="647" y="85"/>
                    </a:lnTo>
                    <a:lnTo>
                      <a:pt x="647" y="85"/>
                    </a:lnTo>
                    <a:lnTo>
                      <a:pt x="636" y="85"/>
                    </a:lnTo>
                    <a:lnTo>
                      <a:pt x="625" y="85"/>
                    </a:lnTo>
                    <a:lnTo>
                      <a:pt x="615" y="85"/>
                    </a:lnTo>
                    <a:lnTo>
                      <a:pt x="603" y="85"/>
                    </a:lnTo>
                    <a:lnTo>
                      <a:pt x="562" y="84"/>
                    </a:lnTo>
                    <a:lnTo>
                      <a:pt x="515" y="81"/>
                    </a:lnTo>
                    <a:lnTo>
                      <a:pt x="463" y="76"/>
                    </a:lnTo>
                    <a:lnTo>
                      <a:pt x="404" y="69"/>
                    </a:lnTo>
                    <a:lnTo>
                      <a:pt x="339" y="60"/>
                    </a:lnTo>
                    <a:lnTo>
                      <a:pt x="268" y="49"/>
                    </a:lnTo>
                    <a:lnTo>
                      <a:pt x="192" y="36"/>
                    </a:lnTo>
                    <a:lnTo>
                      <a:pt x="110" y="21"/>
                    </a:lnTo>
                    <a:lnTo>
                      <a:pt x="106" y="21"/>
                    </a:lnTo>
                    <a:lnTo>
                      <a:pt x="106" y="21"/>
                    </a:lnTo>
                    <a:lnTo>
                      <a:pt x="80" y="15"/>
                    </a:lnTo>
                    <a:lnTo>
                      <a:pt x="53" y="10"/>
                    </a:lnTo>
                    <a:lnTo>
                      <a:pt x="27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1481"/>
              <p:cNvSpPr/>
              <p:nvPr/>
            </p:nvSpPr>
            <p:spPr>
              <a:xfrm>
                <a:off x="6121800" y="5064480"/>
                <a:ext cx="71640" cy="76680"/>
              </a:xfrm>
              <a:custGeom>
                <a:avLst/>
                <a:gdLst/>
                <a:ahLst/>
                <a:rect l="l" t="t" r="r" b="b"/>
                <a:pathLst>
                  <a:path w="686" h="930">
                    <a:moveTo>
                      <a:pt x="671" y="0"/>
                    </a:moveTo>
                    <a:lnTo>
                      <a:pt x="675" y="36"/>
                    </a:lnTo>
                    <a:lnTo>
                      <a:pt x="679" y="68"/>
                    </a:lnTo>
                    <a:lnTo>
                      <a:pt x="681" y="97"/>
                    </a:lnTo>
                    <a:lnTo>
                      <a:pt x="683" y="122"/>
                    </a:lnTo>
                    <a:lnTo>
                      <a:pt x="685" y="143"/>
                    </a:lnTo>
                    <a:lnTo>
                      <a:pt x="686" y="161"/>
                    </a:lnTo>
                    <a:lnTo>
                      <a:pt x="686" y="175"/>
                    </a:lnTo>
                    <a:lnTo>
                      <a:pt x="685" y="185"/>
                    </a:lnTo>
                    <a:lnTo>
                      <a:pt x="679" y="221"/>
                    </a:lnTo>
                    <a:lnTo>
                      <a:pt x="671" y="255"/>
                    </a:lnTo>
                    <a:lnTo>
                      <a:pt x="662" y="290"/>
                    </a:lnTo>
                    <a:lnTo>
                      <a:pt x="652" y="323"/>
                    </a:lnTo>
                    <a:lnTo>
                      <a:pt x="642" y="355"/>
                    </a:lnTo>
                    <a:lnTo>
                      <a:pt x="630" y="386"/>
                    </a:lnTo>
                    <a:lnTo>
                      <a:pt x="617" y="417"/>
                    </a:lnTo>
                    <a:lnTo>
                      <a:pt x="604" y="447"/>
                    </a:lnTo>
                    <a:lnTo>
                      <a:pt x="590" y="477"/>
                    </a:lnTo>
                    <a:lnTo>
                      <a:pt x="574" y="505"/>
                    </a:lnTo>
                    <a:lnTo>
                      <a:pt x="558" y="532"/>
                    </a:lnTo>
                    <a:lnTo>
                      <a:pt x="541" y="559"/>
                    </a:lnTo>
                    <a:lnTo>
                      <a:pt x="522" y="586"/>
                    </a:lnTo>
                    <a:lnTo>
                      <a:pt x="503" y="611"/>
                    </a:lnTo>
                    <a:lnTo>
                      <a:pt x="483" y="635"/>
                    </a:lnTo>
                    <a:lnTo>
                      <a:pt x="462" y="659"/>
                    </a:lnTo>
                    <a:lnTo>
                      <a:pt x="440" y="682"/>
                    </a:lnTo>
                    <a:lnTo>
                      <a:pt x="418" y="704"/>
                    </a:lnTo>
                    <a:lnTo>
                      <a:pt x="393" y="725"/>
                    </a:lnTo>
                    <a:lnTo>
                      <a:pt x="369" y="745"/>
                    </a:lnTo>
                    <a:lnTo>
                      <a:pt x="343" y="765"/>
                    </a:lnTo>
                    <a:lnTo>
                      <a:pt x="317" y="784"/>
                    </a:lnTo>
                    <a:lnTo>
                      <a:pt x="289" y="803"/>
                    </a:lnTo>
                    <a:lnTo>
                      <a:pt x="260" y="820"/>
                    </a:lnTo>
                    <a:lnTo>
                      <a:pt x="231" y="836"/>
                    </a:lnTo>
                    <a:lnTo>
                      <a:pt x="201" y="853"/>
                    </a:lnTo>
                    <a:lnTo>
                      <a:pt x="169" y="867"/>
                    </a:lnTo>
                    <a:lnTo>
                      <a:pt x="137" y="882"/>
                    </a:lnTo>
                    <a:lnTo>
                      <a:pt x="105" y="895"/>
                    </a:lnTo>
                    <a:lnTo>
                      <a:pt x="71" y="907"/>
                    </a:lnTo>
                    <a:lnTo>
                      <a:pt x="36" y="919"/>
                    </a:lnTo>
                    <a:lnTo>
                      <a:pt x="0" y="93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1482"/>
              <p:cNvSpPr/>
              <p:nvPr/>
            </p:nvSpPr>
            <p:spPr>
              <a:xfrm>
                <a:off x="6175800" y="5214240"/>
                <a:ext cx="88200" cy="18000"/>
              </a:xfrm>
              <a:custGeom>
                <a:avLst/>
                <a:gdLst/>
                <a:ahLst/>
                <a:rect l="l" t="t" r="r" b="b"/>
                <a:pathLst>
                  <a:path w="849" h="217">
                    <a:moveTo>
                      <a:pt x="849" y="217"/>
                    </a:moveTo>
                    <a:lnTo>
                      <a:pt x="835" y="202"/>
                    </a:lnTo>
                    <a:lnTo>
                      <a:pt x="822" y="187"/>
                    </a:lnTo>
                    <a:lnTo>
                      <a:pt x="809" y="173"/>
                    </a:lnTo>
                    <a:lnTo>
                      <a:pt x="794" y="159"/>
                    </a:lnTo>
                    <a:lnTo>
                      <a:pt x="780" y="146"/>
                    </a:lnTo>
                    <a:lnTo>
                      <a:pt x="766" y="134"/>
                    </a:lnTo>
                    <a:lnTo>
                      <a:pt x="751" y="122"/>
                    </a:lnTo>
                    <a:lnTo>
                      <a:pt x="736" y="110"/>
                    </a:lnTo>
                    <a:lnTo>
                      <a:pt x="721" y="100"/>
                    </a:lnTo>
                    <a:lnTo>
                      <a:pt x="706" y="88"/>
                    </a:lnTo>
                    <a:lnTo>
                      <a:pt x="689" y="80"/>
                    </a:lnTo>
                    <a:lnTo>
                      <a:pt x="673" y="70"/>
                    </a:lnTo>
                    <a:lnTo>
                      <a:pt x="657" y="62"/>
                    </a:lnTo>
                    <a:lnTo>
                      <a:pt x="640" y="53"/>
                    </a:lnTo>
                    <a:lnTo>
                      <a:pt x="624" y="46"/>
                    </a:lnTo>
                    <a:lnTo>
                      <a:pt x="607" y="39"/>
                    </a:lnTo>
                    <a:lnTo>
                      <a:pt x="589" y="33"/>
                    </a:lnTo>
                    <a:lnTo>
                      <a:pt x="571" y="26"/>
                    </a:lnTo>
                    <a:lnTo>
                      <a:pt x="554" y="22"/>
                    </a:lnTo>
                    <a:lnTo>
                      <a:pt x="536" y="16"/>
                    </a:lnTo>
                    <a:lnTo>
                      <a:pt x="517" y="13"/>
                    </a:lnTo>
                    <a:lnTo>
                      <a:pt x="498" y="9"/>
                    </a:lnTo>
                    <a:lnTo>
                      <a:pt x="479" y="6"/>
                    </a:lnTo>
                    <a:lnTo>
                      <a:pt x="460" y="3"/>
                    </a:lnTo>
                    <a:lnTo>
                      <a:pt x="442" y="2"/>
                    </a:lnTo>
                    <a:lnTo>
                      <a:pt x="422" y="1"/>
                    </a:lnTo>
                    <a:lnTo>
                      <a:pt x="402" y="0"/>
                    </a:lnTo>
                    <a:lnTo>
                      <a:pt x="382" y="0"/>
                    </a:lnTo>
                    <a:lnTo>
                      <a:pt x="341" y="1"/>
                    </a:lnTo>
                    <a:lnTo>
                      <a:pt x="299" y="4"/>
                    </a:lnTo>
                    <a:lnTo>
                      <a:pt x="290" y="6"/>
                    </a:lnTo>
                    <a:lnTo>
                      <a:pt x="282" y="8"/>
                    </a:lnTo>
                    <a:lnTo>
                      <a:pt x="273" y="8"/>
                    </a:lnTo>
                    <a:lnTo>
                      <a:pt x="263" y="8"/>
                    </a:lnTo>
                    <a:lnTo>
                      <a:pt x="244" y="9"/>
                    </a:lnTo>
                    <a:lnTo>
                      <a:pt x="222" y="11"/>
                    </a:lnTo>
                    <a:lnTo>
                      <a:pt x="195" y="12"/>
                    </a:lnTo>
                    <a:lnTo>
                      <a:pt x="164" y="13"/>
                    </a:lnTo>
                    <a:lnTo>
                      <a:pt x="130" y="13"/>
                    </a:lnTo>
                    <a:lnTo>
                      <a:pt x="90" y="14"/>
                    </a:lnTo>
                    <a:lnTo>
                      <a:pt x="47" y="14"/>
                    </a:lnTo>
                    <a:lnTo>
                      <a:pt x="0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1483"/>
              <p:cNvSpPr/>
              <p:nvPr/>
            </p:nvSpPr>
            <p:spPr>
              <a:xfrm>
                <a:off x="6130080" y="5258880"/>
                <a:ext cx="219240" cy="23760"/>
              </a:xfrm>
              <a:custGeom>
                <a:avLst/>
                <a:gdLst/>
                <a:ahLst/>
                <a:rect l="l" t="t" r="r" b="b"/>
                <a:pathLst>
                  <a:path w="2109" h="295">
                    <a:moveTo>
                      <a:pt x="2109" y="295"/>
                    </a:moveTo>
                    <a:lnTo>
                      <a:pt x="1878" y="263"/>
                    </a:lnTo>
                    <a:lnTo>
                      <a:pt x="1537" y="2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1484"/>
              <p:cNvSpPr/>
              <p:nvPr/>
            </p:nvSpPr>
            <p:spPr>
              <a:xfrm>
                <a:off x="5927040" y="5266440"/>
                <a:ext cx="126720" cy="76680"/>
              </a:xfrm>
              <a:custGeom>
                <a:avLst/>
                <a:gdLst/>
                <a:ahLst/>
                <a:rect l="l" t="t" r="r" b="b"/>
                <a:pathLst>
                  <a:path w="1214" h="927">
                    <a:moveTo>
                      <a:pt x="0" y="927"/>
                    </a:moveTo>
                    <a:lnTo>
                      <a:pt x="1214" y="132"/>
                    </a:lnTo>
                    <a:lnTo>
                      <a:pt x="120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1485"/>
              <p:cNvSpPr/>
              <p:nvPr/>
            </p:nvSpPr>
            <p:spPr>
              <a:xfrm>
                <a:off x="6022800" y="5245560"/>
                <a:ext cx="106920" cy="13320"/>
              </a:xfrm>
              <a:custGeom>
                <a:avLst/>
                <a:gdLst/>
                <a:ahLst/>
                <a:rect l="l" t="t" r="r" b="b"/>
                <a:pathLst>
                  <a:path w="1030" h="151">
                    <a:moveTo>
                      <a:pt x="1030" y="151"/>
                    </a:moveTo>
                    <a:lnTo>
                      <a:pt x="320" y="56"/>
                    </a:lnTo>
                    <a:lnTo>
                      <a:pt x="316" y="5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1486"/>
              <p:cNvSpPr/>
              <p:nvPr/>
            </p:nvSpPr>
            <p:spPr>
              <a:xfrm>
                <a:off x="5973840" y="5240880"/>
                <a:ext cx="48960" cy="5760"/>
              </a:xfrm>
              <a:custGeom>
                <a:avLst/>
                <a:gdLst/>
                <a:ahLst/>
                <a:rect l="l" t="t" r="r" b="b"/>
                <a:pathLst>
                  <a:path w="476" h="71">
                    <a:moveTo>
                      <a:pt x="476" y="68"/>
                    </a:moveTo>
                    <a:lnTo>
                      <a:pt x="448" y="69"/>
                    </a:lnTo>
                    <a:lnTo>
                      <a:pt x="418" y="70"/>
                    </a:lnTo>
                    <a:lnTo>
                      <a:pt x="389" y="71"/>
                    </a:lnTo>
                    <a:lnTo>
                      <a:pt x="359" y="71"/>
                    </a:lnTo>
                    <a:lnTo>
                      <a:pt x="349" y="69"/>
                    </a:lnTo>
                    <a:lnTo>
                      <a:pt x="340" y="68"/>
                    </a:lnTo>
                    <a:lnTo>
                      <a:pt x="331" y="68"/>
                    </a:lnTo>
                    <a:lnTo>
                      <a:pt x="323" y="68"/>
                    </a:lnTo>
                    <a:lnTo>
                      <a:pt x="293" y="64"/>
                    </a:lnTo>
                    <a:lnTo>
                      <a:pt x="262" y="60"/>
                    </a:lnTo>
                    <a:lnTo>
                      <a:pt x="230" y="54"/>
                    </a:lnTo>
                    <a:lnTo>
                      <a:pt x="195" y="49"/>
                    </a:lnTo>
                    <a:lnTo>
                      <a:pt x="161" y="42"/>
                    </a:lnTo>
                    <a:lnTo>
                      <a:pt x="124" y="34"/>
                    </a:lnTo>
                    <a:lnTo>
                      <a:pt x="88" y="27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28" y="11"/>
                    </a:lnTo>
                    <a:lnTo>
                      <a:pt x="15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487"/>
              <p:cNvSpPr/>
              <p:nvPr/>
            </p:nvSpPr>
            <p:spPr>
              <a:xfrm flipV="1">
                <a:off x="5952240" y="5249880"/>
                <a:ext cx="50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1488"/>
              <p:cNvSpPr/>
              <p:nvPr/>
            </p:nvSpPr>
            <p:spPr>
              <a:xfrm>
                <a:off x="5957280" y="5249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489"/>
              <p:cNvSpPr/>
              <p:nvPr/>
            </p:nvSpPr>
            <p:spPr>
              <a:xfrm>
                <a:off x="5942880" y="5241600"/>
                <a:ext cx="15480" cy="10800"/>
              </a:xfrm>
              <a:custGeom>
                <a:avLst/>
                <a:gdLst/>
                <a:ahLst/>
                <a:rect l="l" t="t" r="r" b="b"/>
                <a:pathLst>
                  <a:path w="148" h="128">
                    <a:moveTo>
                      <a:pt x="142" y="89"/>
                    </a:moveTo>
                    <a:lnTo>
                      <a:pt x="144" y="83"/>
                    </a:lnTo>
                    <a:lnTo>
                      <a:pt x="147" y="76"/>
                    </a:lnTo>
                    <a:lnTo>
                      <a:pt x="148" y="69"/>
                    </a:lnTo>
                    <a:lnTo>
                      <a:pt x="148" y="63"/>
                    </a:lnTo>
                    <a:lnTo>
                      <a:pt x="148" y="57"/>
                    </a:lnTo>
                    <a:lnTo>
                      <a:pt x="147" y="51"/>
                    </a:lnTo>
                    <a:lnTo>
                      <a:pt x="144" y="45"/>
                    </a:lnTo>
                    <a:lnTo>
                      <a:pt x="142" y="39"/>
                    </a:lnTo>
                    <a:lnTo>
                      <a:pt x="142" y="36"/>
                    </a:lnTo>
                    <a:lnTo>
                      <a:pt x="142" y="36"/>
                    </a:lnTo>
                    <a:lnTo>
                      <a:pt x="140" y="29"/>
                    </a:lnTo>
                    <a:lnTo>
                      <a:pt x="138" y="24"/>
                    </a:lnTo>
                    <a:lnTo>
                      <a:pt x="134" y="18"/>
                    </a:lnTo>
                    <a:lnTo>
                      <a:pt x="129" y="14"/>
                    </a:lnTo>
                    <a:lnTo>
                      <a:pt x="124" y="10"/>
                    </a:lnTo>
                    <a:lnTo>
                      <a:pt x="118" y="6"/>
                    </a:lnTo>
                    <a:lnTo>
                      <a:pt x="111" y="3"/>
                    </a:lnTo>
                    <a:lnTo>
                      <a:pt x="103" y="1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7" y="0"/>
                    </a:lnTo>
                    <a:lnTo>
                      <a:pt x="68" y="1"/>
                    </a:lnTo>
                    <a:lnTo>
                      <a:pt x="60" y="3"/>
                    </a:lnTo>
                    <a:lnTo>
                      <a:pt x="52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0" y="17"/>
                    </a:lnTo>
                    <a:lnTo>
                      <a:pt x="28" y="21"/>
                    </a:lnTo>
                    <a:lnTo>
                      <a:pt x="25" y="25"/>
                    </a:lnTo>
                    <a:lnTo>
                      <a:pt x="20" y="29"/>
                    </a:lnTo>
                    <a:lnTo>
                      <a:pt x="16" y="35"/>
                    </a:lnTo>
                    <a:lnTo>
                      <a:pt x="11" y="42"/>
                    </a:lnTo>
                    <a:lnTo>
                      <a:pt x="7" y="48"/>
                    </a:lnTo>
                    <a:lnTo>
                      <a:pt x="5" y="57"/>
                    </a:lnTo>
                    <a:lnTo>
                      <a:pt x="2" y="66"/>
                    </a:lnTo>
                    <a:lnTo>
                      <a:pt x="0" y="75"/>
                    </a:lnTo>
                    <a:lnTo>
                      <a:pt x="0" y="86"/>
                    </a:lnTo>
                    <a:lnTo>
                      <a:pt x="13" y="88"/>
                    </a:lnTo>
                    <a:lnTo>
                      <a:pt x="25" y="93"/>
                    </a:lnTo>
                    <a:lnTo>
                      <a:pt x="36" y="96"/>
                    </a:lnTo>
                    <a:lnTo>
                      <a:pt x="45" y="102"/>
                    </a:lnTo>
                    <a:lnTo>
                      <a:pt x="52" y="107"/>
                    </a:lnTo>
                    <a:lnTo>
                      <a:pt x="59" y="114"/>
                    </a:lnTo>
                    <a:lnTo>
                      <a:pt x="64" y="120"/>
                    </a:lnTo>
                    <a:lnTo>
                      <a:pt x="68" y="1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490"/>
              <p:cNvSpPr/>
              <p:nvPr/>
            </p:nvSpPr>
            <p:spPr>
              <a:xfrm>
                <a:off x="5943600" y="5220360"/>
                <a:ext cx="40320" cy="20520"/>
              </a:xfrm>
              <a:custGeom>
                <a:avLst/>
                <a:gdLst/>
                <a:ahLst/>
                <a:rect l="l" t="t" r="r" b="b"/>
                <a:pathLst>
                  <a:path w="386" h="243">
                    <a:moveTo>
                      <a:pt x="284" y="243"/>
                    </a:moveTo>
                    <a:lnTo>
                      <a:pt x="296" y="232"/>
                    </a:lnTo>
                    <a:lnTo>
                      <a:pt x="309" y="220"/>
                    </a:lnTo>
                    <a:lnTo>
                      <a:pt x="321" y="207"/>
                    </a:lnTo>
                    <a:lnTo>
                      <a:pt x="334" y="196"/>
                    </a:lnTo>
                    <a:lnTo>
                      <a:pt x="349" y="171"/>
                    </a:lnTo>
                    <a:lnTo>
                      <a:pt x="362" y="146"/>
                    </a:lnTo>
                    <a:lnTo>
                      <a:pt x="372" y="125"/>
                    </a:lnTo>
                    <a:lnTo>
                      <a:pt x="379" y="104"/>
                    </a:lnTo>
                    <a:lnTo>
                      <a:pt x="382" y="95"/>
                    </a:lnTo>
                    <a:lnTo>
                      <a:pt x="384" y="87"/>
                    </a:lnTo>
                    <a:lnTo>
                      <a:pt x="385" y="78"/>
                    </a:lnTo>
                    <a:lnTo>
                      <a:pt x="386" y="70"/>
                    </a:lnTo>
                    <a:lnTo>
                      <a:pt x="386" y="62"/>
                    </a:lnTo>
                    <a:lnTo>
                      <a:pt x="385" y="54"/>
                    </a:lnTo>
                    <a:lnTo>
                      <a:pt x="384" y="48"/>
                    </a:lnTo>
                    <a:lnTo>
                      <a:pt x="382" y="41"/>
                    </a:lnTo>
                    <a:lnTo>
                      <a:pt x="380" y="36"/>
                    </a:lnTo>
                    <a:lnTo>
                      <a:pt x="376" y="30"/>
                    </a:lnTo>
                    <a:lnTo>
                      <a:pt x="372" y="26"/>
                    </a:lnTo>
                    <a:lnTo>
                      <a:pt x="367" y="21"/>
                    </a:lnTo>
                    <a:lnTo>
                      <a:pt x="363" y="17"/>
                    </a:lnTo>
                    <a:lnTo>
                      <a:pt x="356" y="13"/>
                    </a:lnTo>
                    <a:lnTo>
                      <a:pt x="350" y="10"/>
                    </a:lnTo>
                    <a:lnTo>
                      <a:pt x="343" y="8"/>
                    </a:lnTo>
                    <a:lnTo>
                      <a:pt x="326" y="3"/>
                    </a:lnTo>
                    <a:lnTo>
                      <a:pt x="308" y="1"/>
                    </a:lnTo>
                    <a:lnTo>
                      <a:pt x="286" y="0"/>
                    </a:lnTo>
                    <a:lnTo>
                      <a:pt x="263" y="1"/>
                    </a:lnTo>
                    <a:lnTo>
                      <a:pt x="245" y="7"/>
                    </a:lnTo>
                    <a:lnTo>
                      <a:pt x="229" y="13"/>
                    </a:lnTo>
                    <a:lnTo>
                      <a:pt x="211" y="21"/>
                    </a:lnTo>
                    <a:lnTo>
                      <a:pt x="194" y="29"/>
                    </a:lnTo>
                    <a:lnTo>
                      <a:pt x="178" y="38"/>
                    </a:lnTo>
                    <a:lnTo>
                      <a:pt x="161" y="48"/>
                    </a:lnTo>
                    <a:lnTo>
                      <a:pt x="146" y="59"/>
                    </a:lnTo>
                    <a:lnTo>
                      <a:pt x="129" y="70"/>
                    </a:lnTo>
                    <a:lnTo>
                      <a:pt x="113" y="82"/>
                    </a:lnTo>
                    <a:lnTo>
                      <a:pt x="97" y="95"/>
                    </a:lnTo>
                    <a:lnTo>
                      <a:pt x="81" y="109"/>
                    </a:lnTo>
                    <a:lnTo>
                      <a:pt x="66" y="123"/>
                    </a:lnTo>
                    <a:lnTo>
                      <a:pt x="50" y="139"/>
                    </a:lnTo>
                    <a:lnTo>
                      <a:pt x="35" y="155"/>
                    </a:lnTo>
                    <a:lnTo>
                      <a:pt x="19" y="172"/>
                    </a:lnTo>
                    <a:lnTo>
                      <a:pt x="4" y="190"/>
                    </a:lnTo>
                    <a:lnTo>
                      <a:pt x="0" y="191"/>
                    </a:lnTo>
                    <a:lnTo>
                      <a:pt x="0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491"/>
              <p:cNvSpPr/>
              <p:nvPr/>
            </p:nvSpPr>
            <p:spPr>
              <a:xfrm>
                <a:off x="5977080" y="5246640"/>
                <a:ext cx="720" cy="12240"/>
              </a:xfrm>
              <a:custGeom>
                <a:avLst/>
                <a:gdLst/>
                <a:ahLst/>
                <a:rect l="l" t="t" r="r" b="b"/>
                <a:pathLst>
                  <a:path w="10" h="153">
                    <a:moveTo>
                      <a:pt x="10" y="153"/>
                    </a:moveTo>
                    <a:lnTo>
                      <a:pt x="6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1492"/>
              <p:cNvSpPr/>
              <p:nvPr/>
            </p:nvSpPr>
            <p:spPr>
              <a:xfrm>
                <a:off x="5965560" y="5245560"/>
                <a:ext cx="115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493"/>
              <p:cNvSpPr/>
              <p:nvPr/>
            </p:nvSpPr>
            <p:spPr>
              <a:xfrm>
                <a:off x="5965560" y="52408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79" h="63">
                    <a:moveTo>
                      <a:pt x="79" y="0"/>
                    </a:moveTo>
                    <a:lnTo>
                      <a:pt x="79" y="3"/>
                    </a:lnTo>
                    <a:lnTo>
                      <a:pt x="79" y="3"/>
                    </a:lnTo>
                    <a:lnTo>
                      <a:pt x="58" y="21"/>
                    </a:lnTo>
                    <a:lnTo>
                      <a:pt x="38" y="36"/>
                    </a:lnTo>
                    <a:lnTo>
                      <a:pt x="19" y="50"/>
                    </a:lnTo>
                    <a:lnTo>
                      <a:pt x="0" y="6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94"/>
              <p:cNvSpPr/>
              <p:nvPr/>
            </p:nvSpPr>
            <p:spPr>
              <a:xfrm>
                <a:off x="5958360" y="5245560"/>
                <a:ext cx="7200" cy="3240"/>
              </a:xfrm>
              <a:custGeom>
                <a:avLst/>
                <a:gdLst/>
                <a:ahLst/>
                <a:rect l="l" t="t" r="r" b="b"/>
                <a:pathLst>
                  <a:path w="74" h="43">
                    <a:moveTo>
                      <a:pt x="74" y="0"/>
                    </a:moveTo>
                    <a:lnTo>
                      <a:pt x="57" y="13"/>
                    </a:lnTo>
                    <a:lnTo>
                      <a:pt x="38" y="24"/>
                    </a:lnTo>
                    <a:lnTo>
                      <a:pt x="19" y="34"/>
                    </a:lnTo>
                    <a:lnTo>
                      <a:pt x="0" y="4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1495"/>
              <p:cNvSpPr/>
              <p:nvPr/>
            </p:nvSpPr>
            <p:spPr>
              <a:xfrm>
                <a:off x="5955120" y="5258880"/>
                <a:ext cx="23760" cy="12240"/>
              </a:xfrm>
              <a:custGeom>
                <a:avLst/>
                <a:gdLst/>
                <a:ahLst/>
                <a:rect l="l" t="t" r="r" b="b"/>
                <a:pathLst>
                  <a:path w="227" h="145">
                    <a:moveTo>
                      <a:pt x="0" y="145"/>
                    </a:moveTo>
                    <a:lnTo>
                      <a:pt x="227" y="53"/>
                    </a:lnTo>
                    <a:lnTo>
                      <a:pt x="22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1496"/>
              <p:cNvSpPr/>
              <p:nvPr/>
            </p:nvSpPr>
            <p:spPr>
              <a:xfrm>
                <a:off x="5943600" y="5253120"/>
                <a:ext cx="6120" cy="216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64" y="0"/>
                    </a:moveTo>
                    <a:lnTo>
                      <a:pt x="40" y="18"/>
                    </a:lnTo>
                    <a:lnTo>
                      <a:pt x="0" y="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1497"/>
              <p:cNvSpPr/>
              <p:nvPr/>
            </p:nvSpPr>
            <p:spPr>
              <a:xfrm>
                <a:off x="5937480" y="52516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63" h="50">
                    <a:moveTo>
                      <a:pt x="63" y="50"/>
                    </a:moveTo>
                    <a:lnTo>
                      <a:pt x="49" y="45"/>
                    </a:lnTo>
                    <a:lnTo>
                      <a:pt x="37" y="41"/>
                    </a:lnTo>
                    <a:lnTo>
                      <a:pt x="27" y="35"/>
                    </a:lnTo>
                    <a:lnTo>
                      <a:pt x="18" y="29"/>
                    </a:lnTo>
                    <a:lnTo>
                      <a:pt x="11" y="22"/>
                    </a:lnTo>
                    <a:lnTo>
                      <a:pt x="5" y="15"/>
                    </a:lnTo>
                    <a:lnTo>
                      <a:pt x="2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1498"/>
              <p:cNvSpPr/>
              <p:nvPr/>
            </p:nvSpPr>
            <p:spPr>
              <a:xfrm>
                <a:off x="5950080" y="52524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1499"/>
              <p:cNvSpPr/>
              <p:nvPr/>
            </p:nvSpPr>
            <p:spPr>
              <a:xfrm>
                <a:off x="5952240" y="5253120"/>
                <a:ext cx="2880" cy="720"/>
              </a:xfrm>
              <a:custGeom>
                <a:avLst/>
                <a:gdLst/>
                <a:ahLst/>
                <a:rect l="l" t="t" r="r" b="b"/>
                <a:pathLst>
                  <a:path w="39" h="4">
                    <a:moveTo>
                      <a:pt x="39" y="0"/>
                    </a:moveTo>
                    <a:lnTo>
                      <a:pt x="28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1500"/>
              <p:cNvSpPr/>
              <p:nvPr/>
            </p:nvSpPr>
            <p:spPr>
              <a:xfrm flipH="1">
                <a:off x="5949720" y="525312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501"/>
              <p:cNvSpPr/>
              <p:nvPr/>
            </p:nvSpPr>
            <p:spPr>
              <a:xfrm>
                <a:off x="5950080" y="525240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502"/>
              <p:cNvSpPr/>
              <p:nvPr/>
            </p:nvSpPr>
            <p:spPr>
              <a:xfrm flipH="1">
                <a:off x="5955120" y="5253120"/>
                <a:ext cx="72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503"/>
              <p:cNvSpPr/>
              <p:nvPr/>
            </p:nvSpPr>
            <p:spPr>
              <a:xfrm flipH="1" flipV="1">
                <a:off x="6010560" y="5262120"/>
                <a:ext cx="424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1504"/>
              <p:cNvSpPr/>
              <p:nvPr/>
            </p:nvSpPr>
            <p:spPr>
              <a:xfrm flipH="1" flipV="1">
                <a:off x="5977800" y="5258520"/>
                <a:ext cx="32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1505"/>
              <p:cNvSpPr/>
              <p:nvPr/>
            </p:nvSpPr>
            <p:spPr>
              <a:xfrm flipH="1">
                <a:off x="5955120" y="5246640"/>
                <a:ext cx="216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506"/>
              <p:cNvSpPr/>
              <p:nvPr/>
            </p:nvSpPr>
            <p:spPr>
              <a:xfrm>
                <a:off x="6326640" y="4866840"/>
                <a:ext cx="104040" cy="411120"/>
              </a:xfrm>
              <a:custGeom>
                <a:avLst/>
                <a:gdLst/>
                <a:ahLst/>
                <a:rect l="l" t="t" r="r" b="b"/>
                <a:pathLst>
                  <a:path w="1009" h="4965">
                    <a:moveTo>
                      <a:pt x="1009" y="0"/>
                    </a:moveTo>
                    <a:lnTo>
                      <a:pt x="968" y="284"/>
                    </a:lnTo>
                    <a:lnTo>
                      <a:pt x="925" y="568"/>
                    </a:lnTo>
                    <a:lnTo>
                      <a:pt x="880" y="853"/>
                    </a:lnTo>
                    <a:lnTo>
                      <a:pt x="832" y="1138"/>
                    </a:lnTo>
                    <a:lnTo>
                      <a:pt x="783" y="1423"/>
                    </a:lnTo>
                    <a:lnTo>
                      <a:pt x="732" y="1710"/>
                    </a:lnTo>
                    <a:lnTo>
                      <a:pt x="678" y="1994"/>
                    </a:lnTo>
                    <a:lnTo>
                      <a:pt x="623" y="2281"/>
                    </a:lnTo>
                    <a:lnTo>
                      <a:pt x="565" y="2567"/>
                    </a:lnTo>
                    <a:lnTo>
                      <a:pt x="505" y="2853"/>
                    </a:lnTo>
                    <a:lnTo>
                      <a:pt x="444" y="3140"/>
                    </a:lnTo>
                    <a:lnTo>
                      <a:pt x="380" y="3426"/>
                    </a:lnTo>
                    <a:lnTo>
                      <a:pt x="314" y="3713"/>
                    </a:lnTo>
                    <a:lnTo>
                      <a:pt x="245" y="4000"/>
                    </a:lnTo>
                    <a:lnTo>
                      <a:pt x="175" y="4288"/>
                    </a:lnTo>
                    <a:lnTo>
                      <a:pt x="103" y="4575"/>
                    </a:lnTo>
                    <a:lnTo>
                      <a:pt x="90" y="4624"/>
                    </a:lnTo>
                    <a:lnTo>
                      <a:pt x="78" y="4672"/>
                    </a:lnTo>
                    <a:lnTo>
                      <a:pt x="65" y="4721"/>
                    </a:lnTo>
                    <a:lnTo>
                      <a:pt x="52" y="4770"/>
                    </a:lnTo>
                    <a:lnTo>
                      <a:pt x="39" y="4819"/>
                    </a:lnTo>
                    <a:lnTo>
                      <a:pt x="27" y="4868"/>
                    </a:lnTo>
                    <a:lnTo>
                      <a:pt x="13" y="4916"/>
                    </a:lnTo>
                    <a:lnTo>
                      <a:pt x="0" y="496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507"/>
              <p:cNvSpPr/>
              <p:nvPr/>
            </p:nvSpPr>
            <p:spPr>
              <a:xfrm>
                <a:off x="6349680" y="5283000"/>
                <a:ext cx="24840" cy="2160"/>
              </a:xfrm>
              <a:custGeom>
                <a:avLst/>
                <a:gdLst/>
                <a:ahLst/>
                <a:rect l="l" t="t" r="r" b="b"/>
                <a:pathLst>
                  <a:path w="241" h="33">
                    <a:moveTo>
                      <a:pt x="241" y="33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508"/>
              <p:cNvSpPr/>
              <p:nvPr/>
            </p:nvSpPr>
            <p:spPr>
              <a:xfrm>
                <a:off x="6171480" y="5212800"/>
                <a:ext cx="3960" cy="32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44" y="0"/>
                    </a:moveTo>
                    <a:lnTo>
                      <a:pt x="33" y="6"/>
                    </a:lnTo>
                    <a:lnTo>
                      <a:pt x="22" y="13"/>
                    </a:lnTo>
                    <a:lnTo>
                      <a:pt x="12" y="22"/>
                    </a:lnTo>
                    <a:lnTo>
                      <a:pt x="0" y="3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509"/>
              <p:cNvSpPr/>
              <p:nvPr/>
            </p:nvSpPr>
            <p:spPr>
              <a:xfrm>
                <a:off x="6175800" y="5200920"/>
                <a:ext cx="100800" cy="19800"/>
              </a:xfrm>
              <a:custGeom>
                <a:avLst/>
                <a:gdLst/>
                <a:ahLst/>
                <a:rect l="l" t="t" r="r" b="b"/>
                <a:pathLst>
                  <a:path w="968" h="236">
                    <a:moveTo>
                      <a:pt x="968" y="236"/>
                    </a:moveTo>
                    <a:lnTo>
                      <a:pt x="941" y="215"/>
                    </a:lnTo>
                    <a:lnTo>
                      <a:pt x="909" y="192"/>
                    </a:lnTo>
                    <a:lnTo>
                      <a:pt x="875" y="169"/>
                    </a:lnTo>
                    <a:lnTo>
                      <a:pt x="837" y="143"/>
                    </a:lnTo>
                    <a:lnTo>
                      <a:pt x="797" y="118"/>
                    </a:lnTo>
                    <a:lnTo>
                      <a:pt x="753" y="91"/>
                    </a:lnTo>
                    <a:lnTo>
                      <a:pt x="706" y="64"/>
                    </a:lnTo>
                    <a:lnTo>
                      <a:pt x="657" y="35"/>
                    </a:lnTo>
                    <a:lnTo>
                      <a:pt x="612" y="22"/>
                    </a:lnTo>
                    <a:lnTo>
                      <a:pt x="568" y="14"/>
                    </a:lnTo>
                    <a:lnTo>
                      <a:pt x="547" y="10"/>
                    </a:lnTo>
                    <a:lnTo>
                      <a:pt x="524" y="7"/>
                    </a:lnTo>
                    <a:lnTo>
                      <a:pt x="503" y="5"/>
                    </a:lnTo>
                    <a:lnTo>
                      <a:pt x="481" y="3"/>
                    </a:lnTo>
                    <a:lnTo>
                      <a:pt x="460" y="1"/>
                    </a:lnTo>
                    <a:lnTo>
                      <a:pt x="439" y="0"/>
                    </a:lnTo>
                    <a:lnTo>
                      <a:pt x="418" y="0"/>
                    </a:lnTo>
                    <a:lnTo>
                      <a:pt x="397" y="1"/>
                    </a:lnTo>
                    <a:lnTo>
                      <a:pt x="376" y="3"/>
                    </a:lnTo>
                    <a:lnTo>
                      <a:pt x="356" y="4"/>
                    </a:lnTo>
                    <a:lnTo>
                      <a:pt x="335" y="6"/>
                    </a:lnTo>
                    <a:lnTo>
                      <a:pt x="315" y="9"/>
                    </a:lnTo>
                    <a:lnTo>
                      <a:pt x="294" y="13"/>
                    </a:lnTo>
                    <a:lnTo>
                      <a:pt x="274" y="17"/>
                    </a:lnTo>
                    <a:lnTo>
                      <a:pt x="254" y="21"/>
                    </a:lnTo>
                    <a:lnTo>
                      <a:pt x="234" y="27"/>
                    </a:lnTo>
                    <a:lnTo>
                      <a:pt x="213" y="34"/>
                    </a:lnTo>
                    <a:lnTo>
                      <a:pt x="194" y="40"/>
                    </a:lnTo>
                    <a:lnTo>
                      <a:pt x="174" y="47"/>
                    </a:lnTo>
                    <a:lnTo>
                      <a:pt x="154" y="55"/>
                    </a:lnTo>
                    <a:lnTo>
                      <a:pt x="134" y="64"/>
                    </a:lnTo>
                    <a:lnTo>
                      <a:pt x="115" y="72"/>
                    </a:lnTo>
                    <a:lnTo>
                      <a:pt x="95" y="82"/>
                    </a:lnTo>
                    <a:lnTo>
                      <a:pt x="76" y="92"/>
                    </a:lnTo>
                    <a:lnTo>
                      <a:pt x="56" y="103"/>
                    </a:lnTo>
                    <a:lnTo>
                      <a:pt x="37" y="116"/>
                    </a:lnTo>
                    <a:lnTo>
                      <a:pt x="19" y="128"/>
                    </a:lnTo>
                    <a:lnTo>
                      <a:pt x="0" y="14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1510"/>
              <p:cNvSpPr/>
              <p:nvPr/>
            </p:nvSpPr>
            <p:spPr>
              <a:xfrm>
                <a:off x="5966640" y="4900680"/>
                <a:ext cx="7920" cy="28080"/>
              </a:xfrm>
              <a:custGeom>
                <a:avLst/>
                <a:gdLst/>
                <a:ahLst/>
                <a:rect l="l" t="t" r="r" b="b"/>
                <a:pathLst>
                  <a:path w="81" h="341">
                    <a:moveTo>
                      <a:pt x="81" y="341"/>
                    </a:moveTo>
                    <a:lnTo>
                      <a:pt x="77" y="302"/>
                    </a:lnTo>
                    <a:lnTo>
                      <a:pt x="70" y="262"/>
                    </a:lnTo>
                    <a:lnTo>
                      <a:pt x="62" y="221"/>
                    </a:lnTo>
                    <a:lnTo>
                      <a:pt x="52" y="179"/>
                    </a:lnTo>
                    <a:lnTo>
                      <a:pt x="41" y="136"/>
                    </a:lnTo>
                    <a:lnTo>
                      <a:pt x="29" y="91"/>
                    </a:lnTo>
                    <a:lnTo>
                      <a:pt x="15" y="4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1511"/>
              <p:cNvSpPr/>
              <p:nvPr/>
            </p:nvSpPr>
            <p:spPr>
              <a:xfrm>
                <a:off x="5834520" y="4505400"/>
                <a:ext cx="187200" cy="122040"/>
              </a:xfrm>
              <a:custGeom>
                <a:avLst/>
                <a:gdLst/>
                <a:ahLst/>
                <a:rect l="l" t="t" r="r" b="b"/>
                <a:pathLst>
                  <a:path w="1807" h="1474">
                    <a:moveTo>
                      <a:pt x="1807" y="55"/>
                    </a:moveTo>
                    <a:lnTo>
                      <a:pt x="1782" y="45"/>
                    </a:lnTo>
                    <a:lnTo>
                      <a:pt x="1756" y="37"/>
                    </a:lnTo>
                    <a:lnTo>
                      <a:pt x="1731" y="30"/>
                    </a:lnTo>
                    <a:lnTo>
                      <a:pt x="1704" y="23"/>
                    </a:lnTo>
                    <a:lnTo>
                      <a:pt x="1677" y="17"/>
                    </a:lnTo>
                    <a:lnTo>
                      <a:pt x="1651" y="12"/>
                    </a:lnTo>
                    <a:lnTo>
                      <a:pt x="1624" y="8"/>
                    </a:lnTo>
                    <a:lnTo>
                      <a:pt x="1596" y="5"/>
                    </a:lnTo>
                    <a:lnTo>
                      <a:pt x="1570" y="3"/>
                    </a:lnTo>
                    <a:lnTo>
                      <a:pt x="1542" y="1"/>
                    </a:lnTo>
                    <a:lnTo>
                      <a:pt x="1514" y="0"/>
                    </a:lnTo>
                    <a:lnTo>
                      <a:pt x="1485" y="1"/>
                    </a:lnTo>
                    <a:lnTo>
                      <a:pt x="1458" y="2"/>
                    </a:lnTo>
                    <a:lnTo>
                      <a:pt x="1429" y="3"/>
                    </a:lnTo>
                    <a:lnTo>
                      <a:pt x="1400" y="6"/>
                    </a:lnTo>
                    <a:lnTo>
                      <a:pt x="1371" y="10"/>
                    </a:lnTo>
                    <a:lnTo>
                      <a:pt x="1341" y="14"/>
                    </a:lnTo>
                    <a:lnTo>
                      <a:pt x="1312" y="20"/>
                    </a:lnTo>
                    <a:lnTo>
                      <a:pt x="1282" y="25"/>
                    </a:lnTo>
                    <a:lnTo>
                      <a:pt x="1252" y="32"/>
                    </a:lnTo>
                    <a:lnTo>
                      <a:pt x="1221" y="41"/>
                    </a:lnTo>
                    <a:lnTo>
                      <a:pt x="1191" y="48"/>
                    </a:lnTo>
                    <a:lnTo>
                      <a:pt x="1160" y="58"/>
                    </a:lnTo>
                    <a:lnTo>
                      <a:pt x="1129" y="68"/>
                    </a:lnTo>
                    <a:lnTo>
                      <a:pt x="1098" y="79"/>
                    </a:lnTo>
                    <a:lnTo>
                      <a:pt x="1067" y="92"/>
                    </a:lnTo>
                    <a:lnTo>
                      <a:pt x="1035" y="105"/>
                    </a:lnTo>
                    <a:lnTo>
                      <a:pt x="1003" y="118"/>
                    </a:lnTo>
                    <a:lnTo>
                      <a:pt x="971" y="134"/>
                    </a:lnTo>
                    <a:lnTo>
                      <a:pt x="938" y="149"/>
                    </a:lnTo>
                    <a:lnTo>
                      <a:pt x="906" y="165"/>
                    </a:lnTo>
                    <a:lnTo>
                      <a:pt x="873" y="183"/>
                    </a:lnTo>
                    <a:lnTo>
                      <a:pt x="841" y="200"/>
                    </a:lnTo>
                    <a:lnTo>
                      <a:pt x="809" y="219"/>
                    </a:lnTo>
                    <a:lnTo>
                      <a:pt x="776" y="239"/>
                    </a:lnTo>
                    <a:lnTo>
                      <a:pt x="745" y="258"/>
                    </a:lnTo>
                    <a:lnTo>
                      <a:pt x="714" y="279"/>
                    </a:lnTo>
                    <a:lnTo>
                      <a:pt x="683" y="299"/>
                    </a:lnTo>
                    <a:lnTo>
                      <a:pt x="653" y="320"/>
                    </a:lnTo>
                    <a:lnTo>
                      <a:pt x="624" y="342"/>
                    </a:lnTo>
                    <a:lnTo>
                      <a:pt x="596" y="364"/>
                    </a:lnTo>
                    <a:lnTo>
                      <a:pt x="567" y="387"/>
                    </a:lnTo>
                    <a:lnTo>
                      <a:pt x="538" y="410"/>
                    </a:lnTo>
                    <a:lnTo>
                      <a:pt x="510" y="434"/>
                    </a:lnTo>
                    <a:lnTo>
                      <a:pt x="484" y="458"/>
                    </a:lnTo>
                    <a:lnTo>
                      <a:pt x="457" y="483"/>
                    </a:lnTo>
                    <a:lnTo>
                      <a:pt x="430" y="507"/>
                    </a:lnTo>
                    <a:lnTo>
                      <a:pt x="405" y="533"/>
                    </a:lnTo>
                    <a:lnTo>
                      <a:pt x="379" y="560"/>
                    </a:lnTo>
                    <a:lnTo>
                      <a:pt x="354" y="586"/>
                    </a:lnTo>
                    <a:lnTo>
                      <a:pt x="329" y="613"/>
                    </a:lnTo>
                    <a:lnTo>
                      <a:pt x="306" y="640"/>
                    </a:lnTo>
                    <a:lnTo>
                      <a:pt x="282" y="669"/>
                    </a:lnTo>
                    <a:lnTo>
                      <a:pt x="258" y="697"/>
                    </a:lnTo>
                    <a:lnTo>
                      <a:pt x="236" y="727"/>
                    </a:lnTo>
                    <a:lnTo>
                      <a:pt x="214" y="756"/>
                    </a:lnTo>
                    <a:lnTo>
                      <a:pt x="192" y="786"/>
                    </a:lnTo>
                    <a:lnTo>
                      <a:pt x="171" y="817"/>
                    </a:lnTo>
                    <a:lnTo>
                      <a:pt x="150" y="848"/>
                    </a:lnTo>
                    <a:lnTo>
                      <a:pt x="130" y="879"/>
                    </a:lnTo>
                    <a:lnTo>
                      <a:pt x="110" y="911"/>
                    </a:lnTo>
                    <a:lnTo>
                      <a:pt x="91" y="943"/>
                    </a:lnTo>
                    <a:lnTo>
                      <a:pt x="72" y="976"/>
                    </a:lnTo>
                    <a:lnTo>
                      <a:pt x="53" y="1010"/>
                    </a:lnTo>
                    <a:lnTo>
                      <a:pt x="40" y="1041"/>
                    </a:lnTo>
                    <a:lnTo>
                      <a:pt x="29" y="1072"/>
                    </a:lnTo>
                    <a:lnTo>
                      <a:pt x="19" y="1102"/>
                    </a:lnTo>
                    <a:lnTo>
                      <a:pt x="12" y="1133"/>
                    </a:lnTo>
                    <a:lnTo>
                      <a:pt x="5" y="1163"/>
                    </a:lnTo>
                    <a:lnTo>
                      <a:pt x="2" y="1193"/>
                    </a:lnTo>
                    <a:lnTo>
                      <a:pt x="0" y="1222"/>
                    </a:lnTo>
                    <a:lnTo>
                      <a:pt x="0" y="1251"/>
                    </a:lnTo>
                    <a:lnTo>
                      <a:pt x="1" y="1280"/>
                    </a:lnTo>
                    <a:lnTo>
                      <a:pt x="4" y="1309"/>
                    </a:lnTo>
                    <a:lnTo>
                      <a:pt x="10" y="1337"/>
                    </a:lnTo>
                    <a:lnTo>
                      <a:pt x="17" y="1366"/>
                    </a:lnTo>
                    <a:lnTo>
                      <a:pt x="25" y="1393"/>
                    </a:lnTo>
                    <a:lnTo>
                      <a:pt x="37" y="1420"/>
                    </a:lnTo>
                    <a:lnTo>
                      <a:pt x="49" y="1448"/>
                    </a:lnTo>
                    <a:lnTo>
                      <a:pt x="63" y="14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1512"/>
              <p:cNvSpPr/>
              <p:nvPr/>
            </p:nvSpPr>
            <p:spPr>
              <a:xfrm>
                <a:off x="5840640" y="4627440"/>
                <a:ext cx="3960" cy="1476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0" y="0"/>
                    </a:moveTo>
                    <a:lnTo>
                      <a:pt x="43" y="21"/>
                    </a:lnTo>
                    <a:lnTo>
                      <a:pt x="43" y="25"/>
                    </a:lnTo>
                    <a:lnTo>
                      <a:pt x="18" y="18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1513"/>
              <p:cNvSpPr/>
              <p:nvPr/>
            </p:nvSpPr>
            <p:spPr>
              <a:xfrm>
                <a:off x="5838840" y="4642560"/>
                <a:ext cx="3960" cy="9720"/>
              </a:xfrm>
              <a:custGeom>
                <a:avLst/>
                <a:gdLst/>
                <a:ahLst/>
                <a:rect l="l" t="t" r="r" b="b"/>
                <a:pathLst>
                  <a:path w="36" h="121">
                    <a:moveTo>
                      <a:pt x="36" y="0"/>
                    </a:moveTo>
                    <a:lnTo>
                      <a:pt x="29" y="12"/>
                    </a:lnTo>
                    <a:lnTo>
                      <a:pt x="21" y="23"/>
                    </a:lnTo>
                    <a:lnTo>
                      <a:pt x="16" y="35"/>
                    </a:lnTo>
                    <a:lnTo>
                      <a:pt x="10" y="49"/>
                    </a:lnTo>
                    <a:lnTo>
                      <a:pt x="6" y="65"/>
                    </a:lnTo>
                    <a:lnTo>
                      <a:pt x="4" y="82"/>
                    </a:lnTo>
                    <a:lnTo>
                      <a:pt x="1" y="101"/>
                    </a:lnTo>
                    <a:lnTo>
                      <a:pt x="0" y="1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Line 1514"/>
              <p:cNvSpPr/>
              <p:nvPr/>
            </p:nvSpPr>
            <p:spPr>
              <a:xfrm flipH="1">
                <a:off x="5846400" y="4624560"/>
                <a:ext cx="10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1515"/>
              <p:cNvSpPr/>
              <p:nvPr/>
            </p:nvSpPr>
            <p:spPr>
              <a:xfrm>
                <a:off x="5844960" y="462924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0" y="0"/>
                    </a:moveTo>
                    <a:lnTo>
                      <a:pt x="3" y="3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5" y="6"/>
                    </a:lnTo>
                    <a:lnTo>
                      <a:pt x="15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1516"/>
              <p:cNvSpPr/>
              <p:nvPr/>
            </p:nvSpPr>
            <p:spPr>
              <a:xfrm flipV="1">
                <a:off x="5846760" y="4627440"/>
                <a:ext cx="1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1517"/>
              <p:cNvSpPr/>
              <p:nvPr/>
            </p:nvSpPr>
            <p:spPr>
              <a:xfrm>
                <a:off x="5090400" y="4846320"/>
                <a:ext cx="382680" cy="24480"/>
              </a:xfrm>
              <a:custGeom>
                <a:avLst/>
                <a:gdLst/>
                <a:ahLst/>
                <a:rect l="l" t="t" r="r" b="b"/>
                <a:pathLst>
                  <a:path w="3683" h="302">
                    <a:moveTo>
                      <a:pt x="0" y="0"/>
                    </a:moveTo>
                    <a:lnTo>
                      <a:pt x="3675" y="302"/>
                    </a:lnTo>
                    <a:lnTo>
                      <a:pt x="3683" y="299"/>
                    </a:lnTo>
                    <a:lnTo>
                      <a:pt x="3683" y="29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1518"/>
              <p:cNvSpPr/>
              <p:nvPr/>
            </p:nvSpPr>
            <p:spPr>
              <a:xfrm>
                <a:off x="5465880" y="4870800"/>
                <a:ext cx="7200" cy="292680"/>
              </a:xfrm>
              <a:custGeom>
                <a:avLst/>
                <a:gdLst/>
                <a:ahLst/>
                <a:rect l="l" t="t" r="r" b="b"/>
                <a:pathLst>
                  <a:path w="74" h="3542">
                    <a:moveTo>
                      <a:pt x="74" y="0"/>
                    </a:moveTo>
                    <a:lnTo>
                      <a:pt x="74" y="5"/>
                    </a:lnTo>
                    <a:lnTo>
                      <a:pt x="74" y="7"/>
                    </a:lnTo>
                    <a:lnTo>
                      <a:pt x="71" y="45"/>
                    </a:lnTo>
                    <a:lnTo>
                      <a:pt x="69" y="81"/>
                    </a:lnTo>
                    <a:lnTo>
                      <a:pt x="66" y="119"/>
                    </a:lnTo>
                    <a:lnTo>
                      <a:pt x="64" y="157"/>
                    </a:lnTo>
                    <a:lnTo>
                      <a:pt x="62" y="193"/>
                    </a:lnTo>
                    <a:lnTo>
                      <a:pt x="60" y="231"/>
                    </a:lnTo>
                    <a:lnTo>
                      <a:pt x="58" y="267"/>
                    </a:lnTo>
                    <a:lnTo>
                      <a:pt x="56" y="305"/>
                    </a:lnTo>
                    <a:lnTo>
                      <a:pt x="52" y="358"/>
                    </a:lnTo>
                    <a:lnTo>
                      <a:pt x="49" y="413"/>
                    </a:lnTo>
                    <a:lnTo>
                      <a:pt x="45" y="466"/>
                    </a:lnTo>
                    <a:lnTo>
                      <a:pt x="42" y="520"/>
                    </a:lnTo>
                    <a:lnTo>
                      <a:pt x="40" y="575"/>
                    </a:lnTo>
                    <a:lnTo>
                      <a:pt x="36" y="629"/>
                    </a:lnTo>
                    <a:lnTo>
                      <a:pt x="34" y="683"/>
                    </a:lnTo>
                    <a:lnTo>
                      <a:pt x="31" y="738"/>
                    </a:lnTo>
                    <a:lnTo>
                      <a:pt x="28" y="792"/>
                    </a:lnTo>
                    <a:lnTo>
                      <a:pt x="24" y="845"/>
                    </a:lnTo>
                    <a:lnTo>
                      <a:pt x="22" y="900"/>
                    </a:lnTo>
                    <a:lnTo>
                      <a:pt x="20" y="953"/>
                    </a:lnTo>
                    <a:lnTo>
                      <a:pt x="18" y="1007"/>
                    </a:lnTo>
                    <a:lnTo>
                      <a:pt x="17" y="1060"/>
                    </a:lnTo>
                    <a:lnTo>
                      <a:pt x="15" y="1115"/>
                    </a:lnTo>
                    <a:lnTo>
                      <a:pt x="13" y="1168"/>
                    </a:lnTo>
                    <a:lnTo>
                      <a:pt x="11" y="1222"/>
                    </a:lnTo>
                    <a:lnTo>
                      <a:pt x="9" y="1277"/>
                    </a:lnTo>
                    <a:lnTo>
                      <a:pt x="7" y="1331"/>
                    </a:lnTo>
                    <a:lnTo>
                      <a:pt x="5" y="1385"/>
                    </a:lnTo>
                    <a:lnTo>
                      <a:pt x="4" y="1440"/>
                    </a:lnTo>
                    <a:lnTo>
                      <a:pt x="3" y="1494"/>
                    </a:lnTo>
                    <a:lnTo>
                      <a:pt x="3" y="1547"/>
                    </a:lnTo>
                    <a:lnTo>
                      <a:pt x="3" y="1600"/>
                    </a:lnTo>
                    <a:lnTo>
                      <a:pt x="2" y="1651"/>
                    </a:lnTo>
                    <a:lnTo>
                      <a:pt x="1" y="1701"/>
                    </a:lnTo>
                    <a:lnTo>
                      <a:pt x="0" y="1751"/>
                    </a:lnTo>
                    <a:lnTo>
                      <a:pt x="0" y="1801"/>
                    </a:lnTo>
                    <a:lnTo>
                      <a:pt x="0" y="1850"/>
                    </a:lnTo>
                    <a:lnTo>
                      <a:pt x="0" y="1900"/>
                    </a:lnTo>
                    <a:lnTo>
                      <a:pt x="0" y="1948"/>
                    </a:lnTo>
                    <a:lnTo>
                      <a:pt x="0" y="1998"/>
                    </a:lnTo>
                    <a:lnTo>
                      <a:pt x="0" y="2046"/>
                    </a:lnTo>
                    <a:lnTo>
                      <a:pt x="0" y="2094"/>
                    </a:lnTo>
                    <a:lnTo>
                      <a:pt x="0" y="2141"/>
                    </a:lnTo>
                    <a:lnTo>
                      <a:pt x="0" y="2189"/>
                    </a:lnTo>
                    <a:lnTo>
                      <a:pt x="0" y="2237"/>
                    </a:lnTo>
                    <a:lnTo>
                      <a:pt x="1" y="2284"/>
                    </a:lnTo>
                    <a:lnTo>
                      <a:pt x="2" y="2331"/>
                    </a:lnTo>
                    <a:lnTo>
                      <a:pt x="3" y="2378"/>
                    </a:lnTo>
                    <a:lnTo>
                      <a:pt x="3" y="2422"/>
                    </a:lnTo>
                    <a:lnTo>
                      <a:pt x="3" y="2465"/>
                    </a:lnTo>
                    <a:lnTo>
                      <a:pt x="3" y="2508"/>
                    </a:lnTo>
                    <a:lnTo>
                      <a:pt x="4" y="2552"/>
                    </a:lnTo>
                    <a:lnTo>
                      <a:pt x="4" y="2595"/>
                    </a:lnTo>
                    <a:lnTo>
                      <a:pt x="5" y="2638"/>
                    </a:lnTo>
                    <a:lnTo>
                      <a:pt x="8" y="2683"/>
                    </a:lnTo>
                    <a:lnTo>
                      <a:pt x="10" y="2726"/>
                    </a:lnTo>
                    <a:lnTo>
                      <a:pt x="10" y="2772"/>
                    </a:lnTo>
                    <a:lnTo>
                      <a:pt x="11" y="2820"/>
                    </a:lnTo>
                    <a:lnTo>
                      <a:pt x="12" y="2867"/>
                    </a:lnTo>
                    <a:lnTo>
                      <a:pt x="14" y="2914"/>
                    </a:lnTo>
                    <a:lnTo>
                      <a:pt x="15" y="2962"/>
                    </a:lnTo>
                    <a:lnTo>
                      <a:pt x="18" y="3010"/>
                    </a:lnTo>
                    <a:lnTo>
                      <a:pt x="19" y="3057"/>
                    </a:lnTo>
                    <a:lnTo>
                      <a:pt x="21" y="3106"/>
                    </a:lnTo>
                    <a:lnTo>
                      <a:pt x="23" y="3160"/>
                    </a:lnTo>
                    <a:lnTo>
                      <a:pt x="27" y="3215"/>
                    </a:lnTo>
                    <a:lnTo>
                      <a:pt x="29" y="3269"/>
                    </a:lnTo>
                    <a:lnTo>
                      <a:pt x="31" y="3323"/>
                    </a:lnTo>
                    <a:lnTo>
                      <a:pt x="34" y="3379"/>
                    </a:lnTo>
                    <a:lnTo>
                      <a:pt x="36" y="3433"/>
                    </a:lnTo>
                    <a:lnTo>
                      <a:pt x="40" y="3488"/>
                    </a:lnTo>
                    <a:lnTo>
                      <a:pt x="42" y="35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1519"/>
              <p:cNvSpPr/>
              <p:nvPr/>
            </p:nvSpPr>
            <p:spPr>
              <a:xfrm>
                <a:off x="5581800" y="4814640"/>
                <a:ext cx="7200" cy="393120"/>
              </a:xfrm>
              <a:custGeom>
                <a:avLst/>
                <a:gdLst/>
                <a:ahLst/>
                <a:rect l="l" t="t" r="r" b="b"/>
                <a:pathLst>
                  <a:path w="70" h="4749">
                    <a:moveTo>
                      <a:pt x="49" y="0"/>
                    </a:moveTo>
                    <a:lnTo>
                      <a:pt x="50" y="28"/>
                    </a:lnTo>
                    <a:lnTo>
                      <a:pt x="51" y="53"/>
                    </a:lnTo>
                    <a:lnTo>
                      <a:pt x="52" y="81"/>
                    </a:lnTo>
                    <a:lnTo>
                      <a:pt x="53" y="108"/>
                    </a:lnTo>
                    <a:lnTo>
                      <a:pt x="53" y="134"/>
                    </a:lnTo>
                    <a:lnTo>
                      <a:pt x="54" y="161"/>
                    </a:lnTo>
                    <a:lnTo>
                      <a:pt x="55" y="187"/>
                    </a:lnTo>
                    <a:lnTo>
                      <a:pt x="56" y="214"/>
                    </a:lnTo>
                    <a:lnTo>
                      <a:pt x="61" y="491"/>
                    </a:lnTo>
                    <a:lnTo>
                      <a:pt x="64" y="768"/>
                    </a:lnTo>
                    <a:lnTo>
                      <a:pt x="67" y="1048"/>
                    </a:lnTo>
                    <a:lnTo>
                      <a:pt x="69" y="1327"/>
                    </a:lnTo>
                    <a:lnTo>
                      <a:pt x="70" y="1608"/>
                    </a:lnTo>
                    <a:lnTo>
                      <a:pt x="69" y="1889"/>
                    </a:lnTo>
                    <a:lnTo>
                      <a:pt x="66" y="2172"/>
                    </a:lnTo>
                    <a:lnTo>
                      <a:pt x="64" y="2455"/>
                    </a:lnTo>
                    <a:lnTo>
                      <a:pt x="60" y="2739"/>
                    </a:lnTo>
                    <a:lnTo>
                      <a:pt x="54" y="3024"/>
                    </a:lnTo>
                    <a:lnTo>
                      <a:pt x="49" y="3309"/>
                    </a:lnTo>
                    <a:lnTo>
                      <a:pt x="41" y="3596"/>
                    </a:lnTo>
                    <a:lnTo>
                      <a:pt x="32" y="3883"/>
                    </a:lnTo>
                    <a:lnTo>
                      <a:pt x="22" y="4171"/>
                    </a:lnTo>
                    <a:lnTo>
                      <a:pt x="11" y="4460"/>
                    </a:lnTo>
                    <a:lnTo>
                      <a:pt x="0" y="474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1520"/>
              <p:cNvSpPr/>
              <p:nvPr/>
            </p:nvSpPr>
            <p:spPr>
              <a:xfrm>
                <a:off x="5581800" y="520776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521"/>
              <p:cNvSpPr/>
              <p:nvPr/>
            </p:nvSpPr>
            <p:spPr>
              <a:xfrm>
                <a:off x="5557680" y="482544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63" h="163">
                    <a:moveTo>
                      <a:pt x="139" y="24"/>
                    </a:moveTo>
                    <a:lnTo>
                      <a:pt x="134" y="19"/>
                    </a:lnTo>
                    <a:lnTo>
                      <a:pt x="127" y="13"/>
                    </a:lnTo>
                    <a:lnTo>
                      <a:pt x="121" y="9"/>
                    </a:lnTo>
                    <a:lnTo>
                      <a:pt x="115" y="5"/>
                    </a:lnTo>
                    <a:lnTo>
                      <a:pt x="107" y="3"/>
                    </a:lnTo>
                    <a:lnTo>
                      <a:pt x="99" y="1"/>
                    </a:lnTo>
                    <a:lnTo>
                      <a:pt x="90" y="0"/>
                    </a:lnTo>
                    <a:lnTo>
                      <a:pt x="81" y="0"/>
                    </a:lnTo>
                    <a:lnTo>
                      <a:pt x="74" y="0"/>
                    </a:lnTo>
                    <a:lnTo>
                      <a:pt x="66" y="1"/>
                    </a:lnTo>
                    <a:lnTo>
                      <a:pt x="58" y="3"/>
                    </a:lnTo>
                    <a:lnTo>
                      <a:pt x="50" y="5"/>
                    </a:lnTo>
                    <a:lnTo>
                      <a:pt x="44" y="9"/>
                    </a:lnTo>
                    <a:lnTo>
                      <a:pt x="37" y="13"/>
                    </a:lnTo>
                    <a:lnTo>
                      <a:pt x="30" y="19"/>
                    </a:lnTo>
                    <a:lnTo>
                      <a:pt x="25" y="24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9" y="43"/>
                    </a:lnTo>
                    <a:lnTo>
                      <a:pt x="6" y="51"/>
                    </a:lnTo>
                    <a:lnTo>
                      <a:pt x="4" y="58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91"/>
                    </a:lnTo>
                    <a:lnTo>
                      <a:pt x="1" y="99"/>
                    </a:lnTo>
                    <a:lnTo>
                      <a:pt x="4" y="106"/>
                    </a:lnTo>
                    <a:lnTo>
                      <a:pt x="6" y="114"/>
                    </a:lnTo>
                    <a:lnTo>
                      <a:pt x="9" y="121"/>
                    </a:lnTo>
                    <a:lnTo>
                      <a:pt x="14" y="127"/>
                    </a:lnTo>
                    <a:lnTo>
                      <a:pt x="19" y="133"/>
                    </a:lnTo>
                    <a:lnTo>
                      <a:pt x="25" y="139"/>
                    </a:lnTo>
                    <a:lnTo>
                      <a:pt x="30" y="144"/>
                    </a:lnTo>
                    <a:lnTo>
                      <a:pt x="37" y="150"/>
                    </a:lnTo>
                    <a:lnTo>
                      <a:pt x="44" y="154"/>
                    </a:lnTo>
                    <a:lnTo>
                      <a:pt x="50" y="157"/>
                    </a:lnTo>
                    <a:lnTo>
                      <a:pt x="58" y="160"/>
                    </a:lnTo>
                    <a:lnTo>
                      <a:pt x="66" y="162"/>
                    </a:lnTo>
                    <a:lnTo>
                      <a:pt x="74" y="163"/>
                    </a:lnTo>
                    <a:lnTo>
                      <a:pt x="81" y="163"/>
                    </a:lnTo>
                    <a:lnTo>
                      <a:pt x="90" y="163"/>
                    </a:lnTo>
                    <a:lnTo>
                      <a:pt x="99" y="162"/>
                    </a:lnTo>
                    <a:lnTo>
                      <a:pt x="107" y="160"/>
                    </a:lnTo>
                    <a:lnTo>
                      <a:pt x="115" y="157"/>
                    </a:lnTo>
                    <a:lnTo>
                      <a:pt x="121" y="154"/>
                    </a:lnTo>
                    <a:lnTo>
                      <a:pt x="127" y="150"/>
                    </a:lnTo>
                    <a:lnTo>
                      <a:pt x="134" y="144"/>
                    </a:lnTo>
                    <a:lnTo>
                      <a:pt x="139" y="139"/>
                    </a:lnTo>
                    <a:lnTo>
                      <a:pt x="145" y="133"/>
                    </a:lnTo>
                    <a:lnTo>
                      <a:pt x="150" y="127"/>
                    </a:lnTo>
                    <a:lnTo>
                      <a:pt x="155" y="121"/>
                    </a:lnTo>
                    <a:lnTo>
                      <a:pt x="158" y="114"/>
                    </a:lnTo>
                    <a:lnTo>
                      <a:pt x="160" y="106"/>
                    </a:lnTo>
                    <a:lnTo>
                      <a:pt x="162" y="99"/>
                    </a:lnTo>
                    <a:lnTo>
                      <a:pt x="163" y="91"/>
                    </a:lnTo>
                    <a:lnTo>
                      <a:pt x="163" y="82"/>
                    </a:lnTo>
                    <a:lnTo>
                      <a:pt x="163" y="73"/>
                    </a:lnTo>
                    <a:lnTo>
                      <a:pt x="162" y="65"/>
                    </a:lnTo>
                    <a:lnTo>
                      <a:pt x="160" y="58"/>
                    </a:lnTo>
                    <a:lnTo>
                      <a:pt x="158" y="51"/>
                    </a:lnTo>
                    <a:lnTo>
                      <a:pt x="155" y="43"/>
                    </a:lnTo>
                    <a:lnTo>
                      <a:pt x="150" y="36"/>
                    </a:lnTo>
                    <a:lnTo>
                      <a:pt x="145" y="30"/>
                    </a:lnTo>
                    <a:lnTo>
                      <a:pt x="139" y="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522"/>
              <p:cNvSpPr/>
              <p:nvPr/>
            </p:nvSpPr>
            <p:spPr>
              <a:xfrm>
                <a:off x="5586840" y="48006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383" h="173">
                    <a:moveTo>
                      <a:pt x="383" y="0"/>
                    </a:moveTo>
                    <a:lnTo>
                      <a:pt x="4" y="173"/>
                    </a:lnTo>
                    <a:lnTo>
                      <a:pt x="0" y="17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523"/>
              <p:cNvSpPr/>
              <p:nvPr/>
            </p:nvSpPr>
            <p:spPr>
              <a:xfrm>
                <a:off x="5581800" y="52084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1524"/>
              <p:cNvSpPr/>
              <p:nvPr/>
            </p:nvSpPr>
            <p:spPr>
              <a:xfrm>
                <a:off x="5581800" y="5186880"/>
                <a:ext cx="38160" cy="21240"/>
              </a:xfrm>
              <a:custGeom>
                <a:avLst/>
                <a:gdLst/>
                <a:ahLst/>
                <a:rect l="l" t="t" r="r" b="b"/>
                <a:pathLst>
                  <a:path w="373" h="260">
                    <a:moveTo>
                      <a:pt x="0" y="260"/>
                    </a:moveTo>
                    <a:lnTo>
                      <a:pt x="10" y="257"/>
                    </a:lnTo>
                    <a:lnTo>
                      <a:pt x="13" y="252"/>
                    </a:lnTo>
                    <a:lnTo>
                      <a:pt x="213" y="115"/>
                    </a:lnTo>
                    <a:lnTo>
                      <a:pt x="298" y="54"/>
                    </a:lnTo>
                    <a:lnTo>
                      <a:pt x="37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1525"/>
              <p:cNvSpPr/>
              <p:nvPr/>
            </p:nvSpPr>
            <p:spPr>
              <a:xfrm>
                <a:off x="5619960" y="4800600"/>
                <a:ext cx="12240" cy="386280"/>
              </a:xfrm>
              <a:custGeom>
                <a:avLst/>
                <a:gdLst/>
                <a:ahLst/>
                <a:rect l="l" t="t" r="r" b="b"/>
                <a:pathLst>
                  <a:path w="114" h="4670">
                    <a:moveTo>
                      <a:pt x="0" y="4670"/>
                    </a:moveTo>
                    <a:lnTo>
                      <a:pt x="0" y="4669"/>
                    </a:lnTo>
                    <a:lnTo>
                      <a:pt x="0" y="4667"/>
                    </a:lnTo>
                    <a:lnTo>
                      <a:pt x="2" y="4633"/>
                    </a:lnTo>
                    <a:lnTo>
                      <a:pt x="4" y="4599"/>
                    </a:lnTo>
                    <a:lnTo>
                      <a:pt x="6" y="4566"/>
                    </a:lnTo>
                    <a:lnTo>
                      <a:pt x="7" y="4534"/>
                    </a:lnTo>
                    <a:lnTo>
                      <a:pt x="8" y="4502"/>
                    </a:lnTo>
                    <a:lnTo>
                      <a:pt x="10" y="4471"/>
                    </a:lnTo>
                    <a:lnTo>
                      <a:pt x="10" y="4441"/>
                    </a:lnTo>
                    <a:lnTo>
                      <a:pt x="10" y="4411"/>
                    </a:lnTo>
                    <a:lnTo>
                      <a:pt x="12" y="4393"/>
                    </a:lnTo>
                    <a:lnTo>
                      <a:pt x="13" y="4377"/>
                    </a:lnTo>
                    <a:lnTo>
                      <a:pt x="13" y="4360"/>
                    </a:lnTo>
                    <a:lnTo>
                      <a:pt x="14" y="4344"/>
                    </a:lnTo>
                    <a:lnTo>
                      <a:pt x="17" y="4290"/>
                    </a:lnTo>
                    <a:lnTo>
                      <a:pt x="21" y="4236"/>
                    </a:lnTo>
                    <a:lnTo>
                      <a:pt x="24" y="4181"/>
                    </a:lnTo>
                    <a:lnTo>
                      <a:pt x="27" y="4128"/>
                    </a:lnTo>
                    <a:lnTo>
                      <a:pt x="31" y="4075"/>
                    </a:lnTo>
                    <a:lnTo>
                      <a:pt x="33" y="4021"/>
                    </a:lnTo>
                    <a:lnTo>
                      <a:pt x="35" y="3967"/>
                    </a:lnTo>
                    <a:lnTo>
                      <a:pt x="38" y="3914"/>
                    </a:lnTo>
                    <a:lnTo>
                      <a:pt x="38" y="3904"/>
                    </a:lnTo>
                    <a:lnTo>
                      <a:pt x="38" y="3895"/>
                    </a:lnTo>
                    <a:lnTo>
                      <a:pt x="38" y="3888"/>
                    </a:lnTo>
                    <a:lnTo>
                      <a:pt x="38" y="3879"/>
                    </a:lnTo>
                    <a:lnTo>
                      <a:pt x="49" y="3629"/>
                    </a:lnTo>
                    <a:lnTo>
                      <a:pt x="61" y="3381"/>
                    </a:lnTo>
                    <a:lnTo>
                      <a:pt x="69" y="3132"/>
                    </a:lnTo>
                    <a:lnTo>
                      <a:pt x="78" y="2886"/>
                    </a:lnTo>
                    <a:lnTo>
                      <a:pt x="86" y="2640"/>
                    </a:lnTo>
                    <a:lnTo>
                      <a:pt x="93" y="2395"/>
                    </a:lnTo>
                    <a:lnTo>
                      <a:pt x="98" y="2151"/>
                    </a:lnTo>
                    <a:lnTo>
                      <a:pt x="103" y="1908"/>
                    </a:lnTo>
                    <a:lnTo>
                      <a:pt x="107" y="1667"/>
                    </a:lnTo>
                    <a:lnTo>
                      <a:pt x="109" y="1426"/>
                    </a:lnTo>
                    <a:lnTo>
                      <a:pt x="112" y="1185"/>
                    </a:lnTo>
                    <a:lnTo>
                      <a:pt x="113" y="947"/>
                    </a:lnTo>
                    <a:lnTo>
                      <a:pt x="114" y="709"/>
                    </a:lnTo>
                    <a:lnTo>
                      <a:pt x="113" y="471"/>
                    </a:lnTo>
                    <a:lnTo>
                      <a:pt x="112" y="235"/>
                    </a:lnTo>
                    <a:lnTo>
                      <a:pt x="10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1526"/>
              <p:cNvSpPr/>
              <p:nvPr/>
            </p:nvSpPr>
            <p:spPr>
              <a:xfrm flipH="1">
                <a:off x="5626440" y="4800600"/>
                <a:ext cx="5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527"/>
              <p:cNvSpPr/>
              <p:nvPr/>
            </p:nvSpPr>
            <p:spPr>
              <a:xfrm flipH="1" flipV="1">
                <a:off x="5517360" y="4856760"/>
                <a:ext cx="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1528"/>
              <p:cNvSpPr/>
              <p:nvPr/>
            </p:nvSpPr>
            <p:spPr>
              <a:xfrm>
                <a:off x="5517360" y="485676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2"/>
                    </a:moveTo>
                    <a:lnTo>
                      <a:pt x="3" y="1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529"/>
              <p:cNvSpPr/>
              <p:nvPr/>
            </p:nvSpPr>
            <p:spPr>
              <a:xfrm flipH="1" flipV="1">
                <a:off x="5515560" y="4850280"/>
                <a:ext cx="10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1530"/>
              <p:cNvSpPr/>
              <p:nvPr/>
            </p:nvSpPr>
            <p:spPr>
              <a:xfrm flipV="1">
                <a:off x="5473440" y="4849920"/>
                <a:ext cx="424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531"/>
              <p:cNvSpPr/>
              <p:nvPr/>
            </p:nvSpPr>
            <p:spPr>
              <a:xfrm>
                <a:off x="5838840" y="4649760"/>
                <a:ext cx="39600" cy="18000"/>
              </a:xfrm>
              <a:custGeom>
                <a:avLst/>
                <a:gdLst/>
                <a:ahLst/>
                <a:rect l="l" t="t" r="r" b="b"/>
                <a:pathLst>
                  <a:path w="374" h="224">
                    <a:moveTo>
                      <a:pt x="313" y="223"/>
                    </a:moveTo>
                    <a:lnTo>
                      <a:pt x="323" y="224"/>
                    </a:lnTo>
                    <a:lnTo>
                      <a:pt x="333" y="223"/>
                    </a:lnTo>
                    <a:lnTo>
                      <a:pt x="341" y="222"/>
                    </a:lnTo>
                    <a:lnTo>
                      <a:pt x="349" y="218"/>
                    </a:lnTo>
                    <a:lnTo>
                      <a:pt x="355" y="214"/>
                    </a:lnTo>
                    <a:lnTo>
                      <a:pt x="362" y="208"/>
                    </a:lnTo>
                    <a:lnTo>
                      <a:pt x="369" y="201"/>
                    </a:lnTo>
                    <a:lnTo>
                      <a:pt x="374" y="191"/>
                    </a:lnTo>
                    <a:lnTo>
                      <a:pt x="347" y="180"/>
                    </a:lnTo>
                    <a:lnTo>
                      <a:pt x="322" y="168"/>
                    </a:lnTo>
                    <a:lnTo>
                      <a:pt x="299" y="156"/>
                    </a:lnTo>
                    <a:lnTo>
                      <a:pt x="278" y="143"/>
                    </a:lnTo>
                    <a:lnTo>
                      <a:pt x="258" y="130"/>
                    </a:lnTo>
                    <a:lnTo>
                      <a:pt x="240" y="115"/>
                    </a:lnTo>
                    <a:lnTo>
                      <a:pt x="224" y="100"/>
                    </a:lnTo>
                    <a:lnTo>
                      <a:pt x="210" y="84"/>
                    </a:lnTo>
                    <a:lnTo>
                      <a:pt x="196" y="66"/>
                    </a:lnTo>
                    <a:lnTo>
                      <a:pt x="180" y="51"/>
                    </a:lnTo>
                    <a:lnTo>
                      <a:pt x="165" y="38"/>
                    </a:lnTo>
                    <a:lnTo>
                      <a:pt x="149" y="27"/>
                    </a:lnTo>
                    <a:lnTo>
                      <a:pt x="134" y="17"/>
                    </a:lnTo>
                    <a:lnTo>
                      <a:pt x="118" y="10"/>
                    </a:lnTo>
                    <a:lnTo>
                      <a:pt x="102" y="5"/>
                    </a:lnTo>
                    <a:lnTo>
                      <a:pt x="86" y="3"/>
                    </a:lnTo>
                    <a:lnTo>
                      <a:pt x="76" y="1"/>
                    </a:lnTo>
                    <a:lnTo>
                      <a:pt x="65" y="0"/>
                    </a:lnTo>
                    <a:lnTo>
                      <a:pt x="54" y="1"/>
                    </a:lnTo>
                    <a:lnTo>
                      <a:pt x="44" y="3"/>
                    </a:lnTo>
                    <a:lnTo>
                      <a:pt x="29" y="11"/>
                    </a:lnTo>
                    <a:lnTo>
                      <a:pt x="17" y="19"/>
                    </a:lnTo>
                    <a:lnTo>
                      <a:pt x="7" y="27"/>
                    </a:lnTo>
                    <a:lnTo>
                      <a:pt x="0" y="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532"/>
              <p:cNvSpPr/>
              <p:nvPr/>
            </p:nvSpPr>
            <p:spPr>
              <a:xfrm>
                <a:off x="5884560" y="4685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1533"/>
              <p:cNvSpPr/>
              <p:nvPr/>
            </p:nvSpPr>
            <p:spPr>
              <a:xfrm>
                <a:off x="5884560" y="468540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534"/>
              <p:cNvSpPr/>
              <p:nvPr/>
            </p:nvSpPr>
            <p:spPr>
              <a:xfrm>
                <a:off x="5884560" y="468540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10"/>
                    </a:move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1535"/>
              <p:cNvSpPr/>
              <p:nvPr/>
            </p:nvSpPr>
            <p:spPr>
              <a:xfrm>
                <a:off x="5880240" y="467892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35" h="71">
                    <a:moveTo>
                      <a:pt x="35" y="71"/>
                    </a:moveTo>
                    <a:lnTo>
                      <a:pt x="35" y="65"/>
                    </a:lnTo>
                    <a:lnTo>
                      <a:pt x="33" y="60"/>
                    </a:lnTo>
                    <a:lnTo>
                      <a:pt x="30" y="53"/>
                    </a:lnTo>
                    <a:lnTo>
                      <a:pt x="25" y="44"/>
                    </a:lnTo>
                    <a:lnTo>
                      <a:pt x="14" y="2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1536"/>
              <p:cNvSpPr/>
              <p:nvPr/>
            </p:nvSpPr>
            <p:spPr>
              <a:xfrm>
                <a:off x="5876280" y="46771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0"/>
                    </a:moveTo>
                    <a:lnTo>
                      <a:pt x="8" y="5"/>
                    </a:lnTo>
                    <a:lnTo>
                      <a:pt x="19" y="10"/>
                    </a:lnTo>
                    <a:lnTo>
                      <a:pt x="32" y="19"/>
                    </a:lnTo>
                    <a:lnTo>
                      <a:pt x="46" y="2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1537"/>
              <p:cNvSpPr/>
              <p:nvPr/>
            </p:nvSpPr>
            <p:spPr>
              <a:xfrm>
                <a:off x="5854320" y="4673880"/>
                <a:ext cx="29880" cy="11520"/>
              </a:xfrm>
              <a:custGeom>
                <a:avLst/>
                <a:gdLst/>
                <a:ahLst/>
                <a:rect l="l" t="t" r="r" b="b"/>
                <a:pathLst>
                  <a:path w="290" h="134">
                    <a:moveTo>
                      <a:pt x="0" y="0"/>
                    </a:moveTo>
                    <a:lnTo>
                      <a:pt x="0" y="13"/>
                    </a:lnTo>
                    <a:lnTo>
                      <a:pt x="2" y="27"/>
                    </a:lnTo>
                    <a:lnTo>
                      <a:pt x="5" y="39"/>
                    </a:lnTo>
                    <a:lnTo>
                      <a:pt x="10" y="50"/>
                    </a:lnTo>
                    <a:lnTo>
                      <a:pt x="16" y="60"/>
                    </a:lnTo>
                    <a:lnTo>
                      <a:pt x="23" y="70"/>
                    </a:lnTo>
                    <a:lnTo>
                      <a:pt x="32" y="78"/>
                    </a:lnTo>
                    <a:lnTo>
                      <a:pt x="42" y="85"/>
                    </a:lnTo>
                    <a:lnTo>
                      <a:pt x="53" y="93"/>
                    </a:lnTo>
                    <a:lnTo>
                      <a:pt x="66" y="100"/>
                    </a:lnTo>
                    <a:lnTo>
                      <a:pt x="80" y="108"/>
                    </a:lnTo>
                    <a:lnTo>
                      <a:pt x="95" y="114"/>
                    </a:lnTo>
                    <a:lnTo>
                      <a:pt x="95" y="114"/>
                    </a:lnTo>
                    <a:lnTo>
                      <a:pt x="95" y="114"/>
                    </a:lnTo>
                    <a:lnTo>
                      <a:pt x="109" y="119"/>
                    </a:lnTo>
                    <a:lnTo>
                      <a:pt x="122" y="124"/>
                    </a:lnTo>
                    <a:lnTo>
                      <a:pt x="136" y="129"/>
                    </a:lnTo>
                    <a:lnTo>
                      <a:pt x="152" y="132"/>
                    </a:lnTo>
                    <a:lnTo>
                      <a:pt x="188" y="133"/>
                    </a:lnTo>
                    <a:lnTo>
                      <a:pt x="224" y="134"/>
                    </a:lnTo>
                    <a:lnTo>
                      <a:pt x="258" y="133"/>
                    </a:lnTo>
                    <a:lnTo>
                      <a:pt x="290" y="13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1538"/>
              <p:cNvSpPr/>
              <p:nvPr/>
            </p:nvSpPr>
            <p:spPr>
              <a:xfrm>
                <a:off x="5876280" y="467388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42" h="64">
                    <a:moveTo>
                      <a:pt x="42" y="64"/>
                    </a:moveTo>
                    <a:lnTo>
                      <a:pt x="40" y="59"/>
                    </a:lnTo>
                    <a:lnTo>
                      <a:pt x="38" y="52"/>
                    </a:lnTo>
                    <a:lnTo>
                      <a:pt x="33" y="45"/>
                    </a:lnTo>
                    <a:lnTo>
                      <a:pt x="29" y="37"/>
                    </a:lnTo>
                    <a:lnTo>
                      <a:pt x="16" y="2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1539"/>
              <p:cNvSpPr/>
              <p:nvPr/>
            </p:nvSpPr>
            <p:spPr>
              <a:xfrm>
                <a:off x="5903280" y="4723560"/>
                <a:ext cx="18360" cy="3960"/>
              </a:xfrm>
              <a:custGeom>
                <a:avLst/>
                <a:gdLst/>
                <a:ahLst/>
                <a:rect l="l" t="t" r="r" b="b"/>
                <a:pathLst>
                  <a:path w="186" h="47">
                    <a:moveTo>
                      <a:pt x="0" y="47"/>
                    </a:moveTo>
                    <a:lnTo>
                      <a:pt x="13" y="38"/>
                    </a:lnTo>
                    <a:lnTo>
                      <a:pt x="25" y="29"/>
                    </a:lnTo>
                    <a:lnTo>
                      <a:pt x="36" y="23"/>
                    </a:lnTo>
                    <a:lnTo>
                      <a:pt x="47" y="17"/>
                    </a:lnTo>
                    <a:lnTo>
                      <a:pt x="58" y="12"/>
                    </a:lnTo>
                    <a:lnTo>
                      <a:pt x="68" y="7"/>
                    </a:lnTo>
                    <a:lnTo>
                      <a:pt x="79" y="4"/>
                    </a:lnTo>
                    <a:lnTo>
                      <a:pt x="89" y="2"/>
                    </a:lnTo>
                    <a:lnTo>
                      <a:pt x="99" y="0"/>
                    </a:lnTo>
                    <a:lnTo>
                      <a:pt x="109" y="0"/>
                    </a:lnTo>
                    <a:lnTo>
                      <a:pt x="119" y="0"/>
                    </a:lnTo>
                    <a:lnTo>
                      <a:pt x="128" y="1"/>
                    </a:lnTo>
                    <a:lnTo>
                      <a:pt x="137" y="3"/>
                    </a:lnTo>
                    <a:lnTo>
                      <a:pt x="147" y="6"/>
                    </a:lnTo>
                    <a:lnTo>
                      <a:pt x="156" y="10"/>
                    </a:lnTo>
                    <a:lnTo>
                      <a:pt x="164" y="15"/>
                    </a:lnTo>
                    <a:lnTo>
                      <a:pt x="174" y="24"/>
                    </a:lnTo>
                    <a:lnTo>
                      <a:pt x="186" y="3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1540"/>
              <p:cNvSpPr/>
              <p:nvPr/>
            </p:nvSpPr>
            <p:spPr>
              <a:xfrm>
                <a:off x="5922000" y="472608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1541"/>
              <p:cNvSpPr/>
              <p:nvPr/>
            </p:nvSpPr>
            <p:spPr>
              <a:xfrm>
                <a:off x="5871960" y="4686480"/>
                <a:ext cx="51840" cy="60120"/>
              </a:xfrm>
              <a:custGeom>
                <a:avLst/>
                <a:gdLst/>
                <a:ahLst/>
                <a:rect l="l" t="t" r="r" b="b"/>
                <a:pathLst>
                  <a:path w="507" h="733">
                    <a:moveTo>
                      <a:pt x="487" y="490"/>
                    </a:moveTo>
                    <a:lnTo>
                      <a:pt x="492" y="496"/>
                    </a:lnTo>
                    <a:lnTo>
                      <a:pt x="501" y="505"/>
                    </a:lnTo>
                    <a:lnTo>
                      <a:pt x="503" y="523"/>
                    </a:lnTo>
                    <a:lnTo>
                      <a:pt x="505" y="542"/>
                    </a:lnTo>
                    <a:lnTo>
                      <a:pt x="507" y="559"/>
                    </a:lnTo>
                    <a:lnTo>
                      <a:pt x="505" y="574"/>
                    </a:lnTo>
                    <a:lnTo>
                      <a:pt x="504" y="589"/>
                    </a:lnTo>
                    <a:lnTo>
                      <a:pt x="503" y="602"/>
                    </a:lnTo>
                    <a:lnTo>
                      <a:pt x="500" y="614"/>
                    </a:lnTo>
                    <a:lnTo>
                      <a:pt x="495" y="625"/>
                    </a:lnTo>
                    <a:lnTo>
                      <a:pt x="491" y="635"/>
                    </a:lnTo>
                    <a:lnTo>
                      <a:pt x="484" y="644"/>
                    </a:lnTo>
                    <a:lnTo>
                      <a:pt x="478" y="652"/>
                    </a:lnTo>
                    <a:lnTo>
                      <a:pt x="470" y="659"/>
                    </a:lnTo>
                    <a:lnTo>
                      <a:pt x="461" y="664"/>
                    </a:lnTo>
                    <a:lnTo>
                      <a:pt x="452" y="669"/>
                    </a:lnTo>
                    <a:lnTo>
                      <a:pt x="441" y="672"/>
                    </a:lnTo>
                    <a:lnTo>
                      <a:pt x="430" y="674"/>
                    </a:lnTo>
                    <a:lnTo>
                      <a:pt x="424" y="674"/>
                    </a:lnTo>
                    <a:lnTo>
                      <a:pt x="419" y="674"/>
                    </a:lnTo>
                    <a:lnTo>
                      <a:pt x="408" y="669"/>
                    </a:lnTo>
                    <a:lnTo>
                      <a:pt x="394" y="665"/>
                    </a:lnTo>
                    <a:lnTo>
                      <a:pt x="381" y="663"/>
                    </a:lnTo>
                    <a:lnTo>
                      <a:pt x="367" y="662"/>
                    </a:lnTo>
                    <a:lnTo>
                      <a:pt x="351" y="664"/>
                    </a:lnTo>
                    <a:lnTo>
                      <a:pt x="333" y="668"/>
                    </a:lnTo>
                    <a:lnTo>
                      <a:pt x="317" y="673"/>
                    </a:lnTo>
                    <a:lnTo>
                      <a:pt x="298" y="682"/>
                    </a:lnTo>
                    <a:lnTo>
                      <a:pt x="288" y="687"/>
                    </a:lnTo>
                    <a:lnTo>
                      <a:pt x="277" y="692"/>
                    </a:lnTo>
                    <a:lnTo>
                      <a:pt x="266" y="697"/>
                    </a:lnTo>
                    <a:lnTo>
                      <a:pt x="256" y="703"/>
                    </a:lnTo>
                    <a:lnTo>
                      <a:pt x="251" y="706"/>
                    </a:lnTo>
                    <a:lnTo>
                      <a:pt x="245" y="711"/>
                    </a:lnTo>
                    <a:lnTo>
                      <a:pt x="236" y="715"/>
                    </a:lnTo>
                    <a:lnTo>
                      <a:pt x="224" y="721"/>
                    </a:lnTo>
                    <a:lnTo>
                      <a:pt x="216" y="725"/>
                    </a:lnTo>
                    <a:lnTo>
                      <a:pt x="207" y="729"/>
                    </a:lnTo>
                    <a:lnTo>
                      <a:pt x="196" y="731"/>
                    </a:lnTo>
                    <a:lnTo>
                      <a:pt x="184" y="732"/>
                    </a:lnTo>
                    <a:lnTo>
                      <a:pt x="169" y="733"/>
                    </a:lnTo>
                    <a:lnTo>
                      <a:pt x="154" y="732"/>
                    </a:lnTo>
                    <a:lnTo>
                      <a:pt x="136" y="731"/>
                    </a:lnTo>
                    <a:lnTo>
                      <a:pt x="117" y="727"/>
                    </a:lnTo>
                    <a:lnTo>
                      <a:pt x="98" y="724"/>
                    </a:lnTo>
                    <a:lnTo>
                      <a:pt x="81" y="720"/>
                    </a:lnTo>
                    <a:lnTo>
                      <a:pt x="72" y="716"/>
                    </a:lnTo>
                    <a:lnTo>
                      <a:pt x="64" y="712"/>
                    </a:lnTo>
                    <a:lnTo>
                      <a:pt x="57" y="707"/>
                    </a:lnTo>
                    <a:lnTo>
                      <a:pt x="49" y="703"/>
                    </a:lnTo>
                    <a:lnTo>
                      <a:pt x="43" y="697"/>
                    </a:lnTo>
                    <a:lnTo>
                      <a:pt x="37" y="692"/>
                    </a:lnTo>
                    <a:lnTo>
                      <a:pt x="32" y="685"/>
                    </a:lnTo>
                    <a:lnTo>
                      <a:pt x="26" y="679"/>
                    </a:lnTo>
                    <a:lnTo>
                      <a:pt x="21" y="672"/>
                    </a:lnTo>
                    <a:lnTo>
                      <a:pt x="16" y="664"/>
                    </a:lnTo>
                    <a:lnTo>
                      <a:pt x="11" y="655"/>
                    </a:lnTo>
                    <a:lnTo>
                      <a:pt x="7" y="646"/>
                    </a:lnTo>
                    <a:lnTo>
                      <a:pt x="4" y="636"/>
                    </a:lnTo>
                    <a:lnTo>
                      <a:pt x="2" y="627"/>
                    </a:lnTo>
                    <a:lnTo>
                      <a:pt x="1" y="617"/>
                    </a:lnTo>
                    <a:lnTo>
                      <a:pt x="0" y="605"/>
                    </a:lnTo>
                    <a:lnTo>
                      <a:pt x="0" y="594"/>
                    </a:lnTo>
                    <a:lnTo>
                      <a:pt x="1" y="583"/>
                    </a:lnTo>
                    <a:lnTo>
                      <a:pt x="2" y="571"/>
                    </a:lnTo>
                    <a:lnTo>
                      <a:pt x="5" y="559"/>
                    </a:lnTo>
                    <a:lnTo>
                      <a:pt x="8" y="546"/>
                    </a:lnTo>
                    <a:lnTo>
                      <a:pt x="12" y="532"/>
                    </a:lnTo>
                    <a:lnTo>
                      <a:pt x="17" y="519"/>
                    </a:lnTo>
                    <a:lnTo>
                      <a:pt x="23" y="505"/>
                    </a:lnTo>
                    <a:lnTo>
                      <a:pt x="36" y="475"/>
                    </a:lnTo>
                    <a:lnTo>
                      <a:pt x="53" y="444"/>
                    </a:lnTo>
                    <a:lnTo>
                      <a:pt x="67" y="398"/>
                    </a:lnTo>
                    <a:lnTo>
                      <a:pt x="81" y="353"/>
                    </a:lnTo>
                    <a:lnTo>
                      <a:pt x="93" y="309"/>
                    </a:lnTo>
                    <a:lnTo>
                      <a:pt x="103" y="266"/>
                    </a:lnTo>
                    <a:lnTo>
                      <a:pt x="112" y="224"/>
                    </a:lnTo>
                    <a:lnTo>
                      <a:pt x="120" y="184"/>
                    </a:lnTo>
                    <a:lnTo>
                      <a:pt x="126" y="145"/>
                    </a:lnTo>
                    <a:lnTo>
                      <a:pt x="132" y="106"/>
                    </a:lnTo>
                    <a:lnTo>
                      <a:pt x="133" y="98"/>
                    </a:lnTo>
                    <a:lnTo>
                      <a:pt x="133" y="88"/>
                    </a:lnTo>
                    <a:lnTo>
                      <a:pt x="133" y="77"/>
                    </a:lnTo>
                    <a:lnTo>
                      <a:pt x="132" y="64"/>
                    </a:lnTo>
                    <a:lnTo>
                      <a:pt x="127" y="34"/>
                    </a:lnTo>
                    <a:lnTo>
                      <a:pt x="12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542"/>
              <p:cNvSpPr/>
              <p:nvPr/>
            </p:nvSpPr>
            <p:spPr>
              <a:xfrm>
                <a:off x="5870880" y="4668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47" h="71">
                    <a:moveTo>
                      <a:pt x="47" y="71"/>
                    </a:moveTo>
                    <a:lnTo>
                      <a:pt x="36" y="56"/>
                    </a:lnTo>
                    <a:lnTo>
                      <a:pt x="25" y="40"/>
                    </a:lnTo>
                    <a:lnTo>
                      <a:pt x="14" y="2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543"/>
              <p:cNvSpPr/>
              <p:nvPr/>
            </p:nvSpPr>
            <p:spPr>
              <a:xfrm>
                <a:off x="5839920" y="4654800"/>
                <a:ext cx="30960" cy="12960"/>
              </a:xfrm>
              <a:custGeom>
                <a:avLst/>
                <a:gdLst/>
                <a:ahLst/>
                <a:rect l="l" t="t" r="r" b="b"/>
                <a:pathLst>
                  <a:path w="308" h="162">
                    <a:moveTo>
                      <a:pt x="308" y="162"/>
                    </a:moveTo>
                    <a:lnTo>
                      <a:pt x="298" y="158"/>
                    </a:lnTo>
                    <a:lnTo>
                      <a:pt x="288" y="154"/>
                    </a:lnTo>
                    <a:lnTo>
                      <a:pt x="276" y="148"/>
                    </a:lnTo>
                    <a:lnTo>
                      <a:pt x="264" y="142"/>
                    </a:lnTo>
                    <a:lnTo>
                      <a:pt x="251" y="134"/>
                    </a:lnTo>
                    <a:lnTo>
                      <a:pt x="236" y="125"/>
                    </a:lnTo>
                    <a:lnTo>
                      <a:pt x="221" y="114"/>
                    </a:lnTo>
                    <a:lnTo>
                      <a:pt x="205" y="102"/>
                    </a:lnTo>
                    <a:lnTo>
                      <a:pt x="191" y="84"/>
                    </a:lnTo>
                    <a:lnTo>
                      <a:pt x="175" y="69"/>
                    </a:lnTo>
                    <a:lnTo>
                      <a:pt x="161" y="54"/>
                    </a:lnTo>
                    <a:lnTo>
                      <a:pt x="146" y="42"/>
                    </a:lnTo>
                    <a:lnTo>
                      <a:pt x="132" y="31"/>
                    </a:lnTo>
                    <a:lnTo>
                      <a:pt x="119" y="22"/>
                    </a:lnTo>
                    <a:lnTo>
                      <a:pt x="105" y="14"/>
                    </a:lnTo>
                    <a:lnTo>
                      <a:pt x="92" y="9"/>
                    </a:lnTo>
                    <a:lnTo>
                      <a:pt x="79" y="3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0"/>
                    </a:lnTo>
                    <a:lnTo>
                      <a:pt x="31" y="1"/>
                    </a:lnTo>
                    <a:lnTo>
                      <a:pt x="20" y="4"/>
                    </a:lnTo>
                    <a:lnTo>
                      <a:pt x="10" y="10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544"/>
              <p:cNvSpPr/>
              <p:nvPr/>
            </p:nvSpPr>
            <p:spPr>
              <a:xfrm>
                <a:off x="5837760" y="4652640"/>
                <a:ext cx="1800" cy="396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16" y="44"/>
                    </a:moveTo>
                    <a:lnTo>
                      <a:pt x="11" y="45"/>
                    </a:lnTo>
                    <a:lnTo>
                      <a:pt x="8" y="47"/>
                    </a:lnTo>
                    <a:lnTo>
                      <a:pt x="5" y="41"/>
                    </a:lnTo>
                    <a:lnTo>
                      <a:pt x="3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9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545"/>
              <p:cNvSpPr/>
              <p:nvPr/>
            </p:nvSpPr>
            <p:spPr>
              <a:xfrm>
                <a:off x="5861520" y="46724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6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546"/>
              <p:cNvSpPr/>
              <p:nvPr/>
            </p:nvSpPr>
            <p:spPr>
              <a:xfrm>
                <a:off x="5860440" y="46713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4"/>
                    </a:move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1547"/>
              <p:cNvSpPr/>
              <p:nvPr/>
            </p:nvSpPr>
            <p:spPr>
              <a:xfrm>
                <a:off x="5860440" y="467136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1548"/>
              <p:cNvSpPr/>
              <p:nvPr/>
            </p:nvSpPr>
            <p:spPr>
              <a:xfrm>
                <a:off x="5858640" y="4672440"/>
                <a:ext cx="17640" cy="10440"/>
              </a:xfrm>
              <a:custGeom>
                <a:avLst/>
                <a:gdLst/>
                <a:ahLst/>
                <a:rect l="l" t="t" r="r" b="b"/>
                <a:pathLst>
                  <a:path w="166" h="137">
                    <a:moveTo>
                      <a:pt x="20" y="0"/>
                    </a:moveTo>
                    <a:lnTo>
                      <a:pt x="15" y="8"/>
                    </a:lnTo>
                    <a:lnTo>
                      <a:pt x="9" y="17"/>
                    </a:lnTo>
                    <a:lnTo>
                      <a:pt x="6" y="26"/>
                    </a:lnTo>
                    <a:lnTo>
                      <a:pt x="2" y="35"/>
                    </a:lnTo>
                    <a:lnTo>
                      <a:pt x="1" y="42"/>
                    </a:lnTo>
                    <a:lnTo>
                      <a:pt x="0" y="51"/>
                    </a:lnTo>
                    <a:lnTo>
                      <a:pt x="0" y="60"/>
                    </a:lnTo>
                    <a:lnTo>
                      <a:pt x="2" y="68"/>
                    </a:lnTo>
                    <a:lnTo>
                      <a:pt x="5" y="77"/>
                    </a:lnTo>
                    <a:lnTo>
                      <a:pt x="9" y="85"/>
                    </a:lnTo>
                    <a:lnTo>
                      <a:pt x="13" y="92"/>
                    </a:lnTo>
                    <a:lnTo>
                      <a:pt x="20" y="101"/>
                    </a:lnTo>
                    <a:lnTo>
                      <a:pt x="27" y="109"/>
                    </a:lnTo>
                    <a:lnTo>
                      <a:pt x="36" y="117"/>
                    </a:lnTo>
                    <a:lnTo>
                      <a:pt x="46" y="123"/>
                    </a:lnTo>
                    <a:lnTo>
                      <a:pt x="56" y="131"/>
                    </a:lnTo>
                    <a:lnTo>
                      <a:pt x="68" y="135"/>
                    </a:lnTo>
                    <a:lnTo>
                      <a:pt x="79" y="136"/>
                    </a:lnTo>
                    <a:lnTo>
                      <a:pt x="89" y="137"/>
                    </a:lnTo>
                    <a:lnTo>
                      <a:pt x="99" y="137"/>
                    </a:lnTo>
                    <a:lnTo>
                      <a:pt x="108" y="136"/>
                    </a:lnTo>
                    <a:lnTo>
                      <a:pt x="115" y="133"/>
                    </a:lnTo>
                    <a:lnTo>
                      <a:pt x="123" y="130"/>
                    </a:lnTo>
                    <a:lnTo>
                      <a:pt x="131" y="127"/>
                    </a:lnTo>
                    <a:lnTo>
                      <a:pt x="138" y="121"/>
                    </a:lnTo>
                    <a:lnTo>
                      <a:pt x="143" y="116"/>
                    </a:lnTo>
                    <a:lnTo>
                      <a:pt x="149" y="109"/>
                    </a:lnTo>
                    <a:lnTo>
                      <a:pt x="153" y="101"/>
                    </a:lnTo>
                    <a:lnTo>
                      <a:pt x="158" y="92"/>
                    </a:lnTo>
                    <a:lnTo>
                      <a:pt x="161" y="82"/>
                    </a:lnTo>
                    <a:lnTo>
                      <a:pt x="163" y="71"/>
                    </a:lnTo>
                    <a:lnTo>
                      <a:pt x="166" y="60"/>
                    </a:lnTo>
                    <a:lnTo>
                      <a:pt x="128" y="38"/>
                    </a:lnTo>
                    <a:lnTo>
                      <a:pt x="92" y="20"/>
                    </a:lnTo>
                    <a:lnTo>
                      <a:pt x="77" y="14"/>
                    </a:lnTo>
                    <a:lnTo>
                      <a:pt x="61" y="8"/>
                    </a:lnTo>
                    <a:lnTo>
                      <a:pt x="47" y="4"/>
                    </a:lnTo>
                    <a:lnTo>
                      <a:pt x="3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1549"/>
              <p:cNvSpPr/>
              <p:nvPr/>
            </p:nvSpPr>
            <p:spPr>
              <a:xfrm>
                <a:off x="5851080" y="467388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0" y="0"/>
                    </a:moveTo>
                    <a:lnTo>
                      <a:pt x="4" y="0"/>
                    </a:lnTo>
                    <a:lnTo>
                      <a:pt x="18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1550"/>
              <p:cNvSpPr/>
              <p:nvPr/>
            </p:nvSpPr>
            <p:spPr>
              <a:xfrm flipV="1">
                <a:off x="5851080" y="467388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51"/>
              <p:cNvSpPr/>
              <p:nvPr/>
            </p:nvSpPr>
            <p:spPr>
              <a:xfrm>
                <a:off x="5839920" y="4655880"/>
                <a:ext cx="11160" cy="18000"/>
              </a:xfrm>
              <a:custGeom>
                <a:avLst/>
                <a:gdLst/>
                <a:ahLst/>
                <a:rect l="l" t="t" r="r" b="b"/>
                <a:pathLst>
                  <a:path w="116" h="212">
                    <a:moveTo>
                      <a:pt x="116" y="212"/>
                    </a:moveTo>
                    <a:lnTo>
                      <a:pt x="95" y="182"/>
                    </a:lnTo>
                    <a:lnTo>
                      <a:pt x="75" y="153"/>
                    </a:lnTo>
                    <a:lnTo>
                      <a:pt x="58" y="125"/>
                    </a:lnTo>
                    <a:lnTo>
                      <a:pt x="42" y="98"/>
                    </a:lnTo>
                    <a:lnTo>
                      <a:pt x="29" y="72"/>
                    </a:lnTo>
                    <a:lnTo>
                      <a:pt x="16" y="46"/>
                    </a:lnTo>
                    <a:lnTo>
                      <a:pt x="8" y="2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552"/>
              <p:cNvSpPr/>
              <p:nvPr/>
            </p:nvSpPr>
            <p:spPr>
              <a:xfrm>
                <a:off x="5853240" y="4669200"/>
                <a:ext cx="22680" cy="4680"/>
              </a:xfrm>
              <a:custGeom>
                <a:avLst/>
                <a:gdLst/>
                <a:ahLst/>
                <a:rect l="l" t="t" r="r" b="b"/>
                <a:pathLst>
                  <a:path w="221" h="62">
                    <a:moveTo>
                      <a:pt x="221" y="59"/>
                    </a:moveTo>
                    <a:lnTo>
                      <a:pt x="194" y="45"/>
                    </a:lnTo>
                    <a:lnTo>
                      <a:pt x="171" y="33"/>
                    </a:lnTo>
                    <a:lnTo>
                      <a:pt x="148" y="23"/>
                    </a:lnTo>
                    <a:lnTo>
                      <a:pt x="127" y="14"/>
                    </a:lnTo>
                    <a:lnTo>
                      <a:pt x="108" y="9"/>
                    </a:lnTo>
                    <a:lnTo>
                      <a:pt x="89" y="4"/>
                    </a:lnTo>
                    <a:lnTo>
                      <a:pt x="73" y="1"/>
                    </a:lnTo>
                    <a:lnTo>
                      <a:pt x="59" y="0"/>
                    </a:lnTo>
                    <a:lnTo>
                      <a:pt x="46" y="1"/>
                    </a:lnTo>
                    <a:lnTo>
                      <a:pt x="34" y="4"/>
                    </a:lnTo>
                    <a:lnTo>
                      <a:pt x="29" y="6"/>
                    </a:lnTo>
                    <a:lnTo>
                      <a:pt x="24" y="9"/>
                    </a:lnTo>
                    <a:lnTo>
                      <a:pt x="20" y="11"/>
                    </a:lnTo>
                    <a:lnTo>
                      <a:pt x="17" y="14"/>
                    </a:lnTo>
                    <a:lnTo>
                      <a:pt x="12" y="19"/>
                    </a:lnTo>
                    <a:lnTo>
                      <a:pt x="10" y="23"/>
                    </a:lnTo>
                    <a:lnTo>
                      <a:pt x="7" y="28"/>
                    </a:lnTo>
                    <a:lnTo>
                      <a:pt x="4" y="33"/>
                    </a:lnTo>
                    <a:lnTo>
                      <a:pt x="2" y="45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1553"/>
              <p:cNvSpPr/>
              <p:nvPr/>
            </p:nvSpPr>
            <p:spPr>
              <a:xfrm>
                <a:off x="5853240" y="467388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1554"/>
              <p:cNvSpPr/>
              <p:nvPr/>
            </p:nvSpPr>
            <p:spPr>
              <a:xfrm>
                <a:off x="5854320" y="467388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555"/>
              <p:cNvSpPr/>
              <p:nvPr/>
            </p:nvSpPr>
            <p:spPr>
              <a:xfrm>
                <a:off x="5855400" y="467136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29"/>
                    </a:moveTo>
                    <a:lnTo>
                      <a:pt x="3" y="21"/>
                    </a:lnTo>
                    <a:lnTo>
                      <a:pt x="8" y="16"/>
                    </a:lnTo>
                    <a:lnTo>
                      <a:pt x="13" y="10"/>
                    </a:lnTo>
                    <a:lnTo>
                      <a:pt x="19" y="6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43" y="0"/>
                    </a:lnTo>
                    <a:lnTo>
                      <a:pt x="53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1556"/>
              <p:cNvSpPr/>
              <p:nvPr/>
            </p:nvSpPr>
            <p:spPr>
              <a:xfrm>
                <a:off x="5851080" y="4673880"/>
                <a:ext cx="720" cy="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1557"/>
              <p:cNvSpPr/>
              <p:nvPr/>
            </p:nvSpPr>
            <p:spPr>
              <a:xfrm>
                <a:off x="5842800" y="4673160"/>
                <a:ext cx="79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558"/>
              <p:cNvSpPr/>
              <p:nvPr/>
            </p:nvSpPr>
            <p:spPr>
              <a:xfrm>
                <a:off x="5848200" y="4683240"/>
                <a:ext cx="56160" cy="127080"/>
              </a:xfrm>
              <a:custGeom>
                <a:avLst/>
                <a:gdLst/>
                <a:ahLst/>
                <a:rect l="l" t="t" r="r" b="b"/>
                <a:pathLst>
                  <a:path w="539" h="1536">
                    <a:moveTo>
                      <a:pt x="38" y="0"/>
                    </a:moveTo>
                    <a:lnTo>
                      <a:pt x="36" y="33"/>
                    </a:lnTo>
                    <a:lnTo>
                      <a:pt x="34" y="65"/>
                    </a:lnTo>
                    <a:lnTo>
                      <a:pt x="32" y="95"/>
                    </a:lnTo>
                    <a:lnTo>
                      <a:pt x="28" y="125"/>
                    </a:lnTo>
                    <a:lnTo>
                      <a:pt x="25" y="155"/>
                    </a:lnTo>
                    <a:lnTo>
                      <a:pt x="22" y="182"/>
                    </a:lnTo>
                    <a:lnTo>
                      <a:pt x="17" y="210"/>
                    </a:lnTo>
                    <a:lnTo>
                      <a:pt x="13" y="238"/>
                    </a:lnTo>
                    <a:lnTo>
                      <a:pt x="8" y="263"/>
                    </a:lnTo>
                    <a:lnTo>
                      <a:pt x="5" y="289"/>
                    </a:lnTo>
                    <a:lnTo>
                      <a:pt x="2" y="313"/>
                    </a:lnTo>
                    <a:lnTo>
                      <a:pt x="0" y="337"/>
                    </a:lnTo>
                    <a:lnTo>
                      <a:pt x="0" y="358"/>
                    </a:lnTo>
                    <a:lnTo>
                      <a:pt x="0" y="380"/>
                    </a:lnTo>
                    <a:lnTo>
                      <a:pt x="1" y="400"/>
                    </a:lnTo>
                    <a:lnTo>
                      <a:pt x="3" y="419"/>
                    </a:lnTo>
                    <a:lnTo>
                      <a:pt x="4" y="436"/>
                    </a:lnTo>
                    <a:lnTo>
                      <a:pt x="6" y="455"/>
                    </a:lnTo>
                    <a:lnTo>
                      <a:pt x="10" y="472"/>
                    </a:lnTo>
                    <a:lnTo>
                      <a:pt x="13" y="490"/>
                    </a:lnTo>
                    <a:lnTo>
                      <a:pt x="21" y="523"/>
                    </a:lnTo>
                    <a:lnTo>
                      <a:pt x="31" y="557"/>
                    </a:lnTo>
                    <a:lnTo>
                      <a:pt x="46" y="598"/>
                    </a:lnTo>
                    <a:lnTo>
                      <a:pt x="63" y="638"/>
                    </a:lnTo>
                    <a:lnTo>
                      <a:pt x="79" y="678"/>
                    </a:lnTo>
                    <a:lnTo>
                      <a:pt x="97" y="718"/>
                    </a:lnTo>
                    <a:lnTo>
                      <a:pt x="116" y="757"/>
                    </a:lnTo>
                    <a:lnTo>
                      <a:pt x="136" y="796"/>
                    </a:lnTo>
                    <a:lnTo>
                      <a:pt x="156" y="834"/>
                    </a:lnTo>
                    <a:lnTo>
                      <a:pt x="177" y="873"/>
                    </a:lnTo>
                    <a:lnTo>
                      <a:pt x="197" y="908"/>
                    </a:lnTo>
                    <a:lnTo>
                      <a:pt x="218" y="941"/>
                    </a:lnTo>
                    <a:lnTo>
                      <a:pt x="241" y="975"/>
                    </a:lnTo>
                    <a:lnTo>
                      <a:pt x="265" y="1009"/>
                    </a:lnTo>
                    <a:lnTo>
                      <a:pt x="288" y="1041"/>
                    </a:lnTo>
                    <a:lnTo>
                      <a:pt x="314" y="1073"/>
                    </a:lnTo>
                    <a:lnTo>
                      <a:pt x="339" y="1105"/>
                    </a:lnTo>
                    <a:lnTo>
                      <a:pt x="365" y="1136"/>
                    </a:lnTo>
                    <a:lnTo>
                      <a:pt x="380" y="1153"/>
                    </a:lnTo>
                    <a:lnTo>
                      <a:pt x="395" y="1172"/>
                    </a:lnTo>
                    <a:lnTo>
                      <a:pt x="408" y="1190"/>
                    </a:lnTo>
                    <a:lnTo>
                      <a:pt x="420" y="1211"/>
                    </a:lnTo>
                    <a:lnTo>
                      <a:pt x="431" y="1233"/>
                    </a:lnTo>
                    <a:lnTo>
                      <a:pt x="441" y="1255"/>
                    </a:lnTo>
                    <a:lnTo>
                      <a:pt x="450" y="1278"/>
                    </a:lnTo>
                    <a:lnTo>
                      <a:pt x="458" y="1302"/>
                    </a:lnTo>
                    <a:lnTo>
                      <a:pt x="470" y="1342"/>
                    </a:lnTo>
                    <a:lnTo>
                      <a:pt x="482" y="1382"/>
                    </a:lnTo>
                    <a:lnTo>
                      <a:pt x="493" y="1421"/>
                    </a:lnTo>
                    <a:lnTo>
                      <a:pt x="503" y="1459"/>
                    </a:lnTo>
                    <a:lnTo>
                      <a:pt x="505" y="1468"/>
                    </a:lnTo>
                    <a:lnTo>
                      <a:pt x="508" y="1478"/>
                    </a:lnTo>
                    <a:lnTo>
                      <a:pt x="511" y="1488"/>
                    </a:lnTo>
                    <a:lnTo>
                      <a:pt x="515" y="1498"/>
                    </a:lnTo>
                    <a:lnTo>
                      <a:pt x="525" y="1518"/>
                    </a:lnTo>
                    <a:lnTo>
                      <a:pt x="535" y="1536"/>
                    </a:lnTo>
                    <a:lnTo>
                      <a:pt x="535" y="1536"/>
                    </a:lnTo>
                    <a:lnTo>
                      <a:pt x="539" y="153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559"/>
              <p:cNvSpPr/>
              <p:nvPr/>
            </p:nvSpPr>
            <p:spPr>
              <a:xfrm>
                <a:off x="5880240" y="4759200"/>
                <a:ext cx="69840" cy="4680"/>
              </a:xfrm>
              <a:custGeom>
                <a:avLst/>
                <a:gdLst/>
                <a:ahLst/>
                <a:rect l="l" t="t" r="r" b="b"/>
                <a:pathLst>
                  <a:path w="671" h="69">
                    <a:moveTo>
                      <a:pt x="671" y="60"/>
                    </a:moveTo>
                    <a:lnTo>
                      <a:pt x="652" y="65"/>
                    </a:lnTo>
                    <a:lnTo>
                      <a:pt x="635" y="68"/>
                    </a:lnTo>
                    <a:lnTo>
                      <a:pt x="617" y="68"/>
                    </a:lnTo>
                    <a:lnTo>
                      <a:pt x="599" y="67"/>
                    </a:lnTo>
                    <a:lnTo>
                      <a:pt x="581" y="65"/>
                    </a:lnTo>
                    <a:lnTo>
                      <a:pt x="564" y="60"/>
                    </a:lnTo>
                    <a:lnTo>
                      <a:pt x="547" y="54"/>
                    </a:lnTo>
                    <a:lnTo>
                      <a:pt x="529" y="47"/>
                    </a:lnTo>
                    <a:lnTo>
                      <a:pt x="503" y="38"/>
                    </a:lnTo>
                    <a:lnTo>
                      <a:pt x="476" y="31"/>
                    </a:lnTo>
                    <a:lnTo>
                      <a:pt x="449" y="28"/>
                    </a:lnTo>
                    <a:lnTo>
                      <a:pt x="423" y="25"/>
                    </a:lnTo>
                    <a:lnTo>
                      <a:pt x="396" y="25"/>
                    </a:lnTo>
                    <a:lnTo>
                      <a:pt x="369" y="27"/>
                    </a:lnTo>
                    <a:lnTo>
                      <a:pt x="343" y="30"/>
                    </a:lnTo>
                    <a:lnTo>
                      <a:pt x="316" y="36"/>
                    </a:lnTo>
                    <a:lnTo>
                      <a:pt x="292" y="48"/>
                    </a:lnTo>
                    <a:lnTo>
                      <a:pt x="271" y="57"/>
                    </a:lnTo>
                    <a:lnTo>
                      <a:pt x="252" y="64"/>
                    </a:lnTo>
                    <a:lnTo>
                      <a:pt x="236" y="68"/>
                    </a:lnTo>
                    <a:lnTo>
                      <a:pt x="230" y="69"/>
                    </a:lnTo>
                    <a:lnTo>
                      <a:pt x="223" y="69"/>
                    </a:lnTo>
                    <a:lnTo>
                      <a:pt x="217" y="69"/>
                    </a:lnTo>
                    <a:lnTo>
                      <a:pt x="212" y="68"/>
                    </a:lnTo>
                    <a:lnTo>
                      <a:pt x="207" y="66"/>
                    </a:lnTo>
                    <a:lnTo>
                      <a:pt x="204" y="64"/>
                    </a:lnTo>
                    <a:lnTo>
                      <a:pt x="201" y="61"/>
                    </a:lnTo>
                    <a:lnTo>
                      <a:pt x="199" y="57"/>
                    </a:lnTo>
                    <a:lnTo>
                      <a:pt x="189" y="44"/>
                    </a:lnTo>
                    <a:lnTo>
                      <a:pt x="177" y="33"/>
                    </a:lnTo>
                    <a:lnTo>
                      <a:pt x="169" y="30"/>
                    </a:lnTo>
                    <a:lnTo>
                      <a:pt x="160" y="29"/>
                    </a:lnTo>
                    <a:lnTo>
                      <a:pt x="149" y="30"/>
                    </a:lnTo>
                    <a:lnTo>
                      <a:pt x="139" y="33"/>
                    </a:lnTo>
                    <a:lnTo>
                      <a:pt x="128" y="33"/>
                    </a:lnTo>
                    <a:lnTo>
                      <a:pt x="118" y="33"/>
                    </a:lnTo>
                    <a:lnTo>
                      <a:pt x="106" y="33"/>
                    </a:lnTo>
                    <a:lnTo>
                      <a:pt x="96" y="33"/>
                    </a:lnTo>
                    <a:lnTo>
                      <a:pt x="74" y="27"/>
                    </a:lnTo>
                    <a:lnTo>
                      <a:pt x="51" y="19"/>
                    </a:lnTo>
                    <a:lnTo>
                      <a:pt x="28" y="1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1560"/>
              <p:cNvSpPr/>
              <p:nvPr/>
            </p:nvSpPr>
            <p:spPr>
              <a:xfrm>
                <a:off x="5880240" y="475920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561"/>
              <p:cNvSpPr/>
              <p:nvPr/>
            </p:nvSpPr>
            <p:spPr>
              <a:xfrm>
                <a:off x="5880240" y="475920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132" h="100">
                    <a:moveTo>
                      <a:pt x="0" y="0"/>
                    </a:moveTo>
                    <a:lnTo>
                      <a:pt x="3" y="2"/>
                    </a:lnTo>
                    <a:lnTo>
                      <a:pt x="3" y="3"/>
                    </a:lnTo>
                    <a:lnTo>
                      <a:pt x="13" y="14"/>
                    </a:lnTo>
                    <a:lnTo>
                      <a:pt x="25" y="25"/>
                    </a:lnTo>
                    <a:lnTo>
                      <a:pt x="40" y="37"/>
                    </a:lnTo>
                    <a:lnTo>
                      <a:pt x="57" y="50"/>
                    </a:lnTo>
                    <a:lnTo>
                      <a:pt x="73" y="61"/>
                    </a:lnTo>
                    <a:lnTo>
                      <a:pt x="92" y="73"/>
                    </a:lnTo>
                    <a:lnTo>
                      <a:pt x="111" y="86"/>
                    </a:lnTo>
                    <a:lnTo>
                      <a:pt x="132" y="10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562"/>
              <p:cNvSpPr/>
              <p:nvPr/>
            </p:nvSpPr>
            <p:spPr>
              <a:xfrm>
                <a:off x="5852160" y="4683240"/>
                <a:ext cx="22680" cy="7200"/>
              </a:xfrm>
              <a:custGeom>
                <a:avLst/>
                <a:gdLst/>
                <a:ahLst/>
                <a:rect l="l" t="t" r="r" b="b"/>
                <a:pathLst>
                  <a:path w="220" h="92">
                    <a:moveTo>
                      <a:pt x="220" y="85"/>
                    </a:moveTo>
                    <a:lnTo>
                      <a:pt x="198" y="88"/>
                    </a:lnTo>
                    <a:lnTo>
                      <a:pt x="177" y="90"/>
                    </a:lnTo>
                    <a:lnTo>
                      <a:pt x="157" y="92"/>
                    </a:lnTo>
                    <a:lnTo>
                      <a:pt x="139" y="92"/>
                    </a:lnTo>
                    <a:lnTo>
                      <a:pt x="121" y="90"/>
                    </a:lnTo>
                    <a:lnTo>
                      <a:pt x="105" y="88"/>
                    </a:lnTo>
                    <a:lnTo>
                      <a:pt x="89" y="85"/>
                    </a:lnTo>
                    <a:lnTo>
                      <a:pt x="75" y="79"/>
                    </a:lnTo>
                    <a:lnTo>
                      <a:pt x="61" y="74"/>
                    </a:lnTo>
                    <a:lnTo>
                      <a:pt x="49" y="67"/>
                    </a:lnTo>
                    <a:lnTo>
                      <a:pt x="38" y="58"/>
                    </a:lnTo>
                    <a:lnTo>
                      <a:pt x="28" y="49"/>
                    </a:lnTo>
                    <a:lnTo>
                      <a:pt x="19" y="38"/>
                    </a:lnTo>
                    <a:lnTo>
                      <a:pt x="11" y="27"/>
                    </a:lnTo>
                    <a:lnTo>
                      <a:pt x="6" y="1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563"/>
              <p:cNvSpPr/>
              <p:nvPr/>
            </p:nvSpPr>
            <p:spPr>
              <a:xfrm>
                <a:off x="5904360" y="4810680"/>
                <a:ext cx="28080" cy="7920"/>
              </a:xfrm>
              <a:custGeom>
                <a:avLst/>
                <a:gdLst/>
                <a:ahLst/>
                <a:rect l="l" t="t" r="r" b="b"/>
                <a:pathLst>
                  <a:path w="263" h="100">
                    <a:moveTo>
                      <a:pt x="0" y="0"/>
                    </a:moveTo>
                    <a:lnTo>
                      <a:pt x="7" y="9"/>
                    </a:lnTo>
                    <a:lnTo>
                      <a:pt x="14" y="18"/>
                    </a:lnTo>
                    <a:lnTo>
                      <a:pt x="29" y="29"/>
                    </a:lnTo>
                    <a:lnTo>
                      <a:pt x="43" y="44"/>
                    </a:lnTo>
                    <a:lnTo>
                      <a:pt x="53" y="53"/>
                    </a:lnTo>
                    <a:lnTo>
                      <a:pt x="65" y="60"/>
                    </a:lnTo>
                    <a:lnTo>
                      <a:pt x="76" y="68"/>
                    </a:lnTo>
                    <a:lnTo>
                      <a:pt x="88" y="75"/>
                    </a:lnTo>
                    <a:lnTo>
                      <a:pt x="101" y="80"/>
                    </a:lnTo>
                    <a:lnTo>
                      <a:pt x="114" y="86"/>
                    </a:lnTo>
                    <a:lnTo>
                      <a:pt x="127" y="90"/>
                    </a:lnTo>
                    <a:lnTo>
                      <a:pt x="141" y="94"/>
                    </a:lnTo>
                    <a:lnTo>
                      <a:pt x="155" y="96"/>
                    </a:lnTo>
                    <a:lnTo>
                      <a:pt x="169" y="98"/>
                    </a:lnTo>
                    <a:lnTo>
                      <a:pt x="184" y="99"/>
                    </a:lnTo>
                    <a:lnTo>
                      <a:pt x="198" y="100"/>
                    </a:lnTo>
                    <a:lnTo>
                      <a:pt x="214" y="99"/>
                    </a:lnTo>
                    <a:lnTo>
                      <a:pt x="230" y="98"/>
                    </a:lnTo>
                    <a:lnTo>
                      <a:pt x="246" y="96"/>
                    </a:lnTo>
                    <a:lnTo>
                      <a:pt x="263" y="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564"/>
              <p:cNvSpPr/>
              <p:nvPr/>
            </p:nvSpPr>
            <p:spPr>
              <a:xfrm>
                <a:off x="5887440" y="4810680"/>
                <a:ext cx="16560" cy="12240"/>
              </a:xfrm>
              <a:custGeom>
                <a:avLst/>
                <a:gdLst/>
                <a:ahLst/>
                <a:rect l="l" t="t" r="r" b="b"/>
                <a:pathLst>
                  <a:path w="163" h="150">
                    <a:moveTo>
                      <a:pt x="163" y="0"/>
                    </a:moveTo>
                    <a:lnTo>
                      <a:pt x="157" y="0"/>
                    </a:lnTo>
                    <a:lnTo>
                      <a:pt x="153" y="0"/>
                    </a:lnTo>
                    <a:lnTo>
                      <a:pt x="152" y="1"/>
                    </a:lnTo>
                    <a:lnTo>
                      <a:pt x="148" y="4"/>
                    </a:lnTo>
                    <a:lnTo>
                      <a:pt x="143" y="6"/>
                    </a:lnTo>
                    <a:lnTo>
                      <a:pt x="136" y="8"/>
                    </a:lnTo>
                    <a:lnTo>
                      <a:pt x="129" y="13"/>
                    </a:lnTo>
                    <a:lnTo>
                      <a:pt x="122" y="16"/>
                    </a:lnTo>
                    <a:lnTo>
                      <a:pt x="107" y="27"/>
                    </a:lnTo>
                    <a:lnTo>
                      <a:pt x="91" y="41"/>
                    </a:lnTo>
                    <a:lnTo>
                      <a:pt x="72" y="60"/>
                    </a:lnTo>
                    <a:lnTo>
                      <a:pt x="53" y="81"/>
                    </a:lnTo>
                    <a:lnTo>
                      <a:pt x="32" y="107"/>
                    </a:lnTo>
                    <a:lnTo>
                      <a:pt x="11" y="136"/>
                    </a:lnTo>
                    <a:lnTo>
                      <a:pt x="5" y="138"/>
                    </a:lnTo>
                    <a:lnTo>
                      <a:pt x="2" y="141"/>
                    </a:lnTo>
                    <a:lnTo>
                      <a:pt x="1" y="145"/>
                    </a:lnTo>
                    <a:lnTo>
                      <a:pt x="0" y="15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565"/>
              <p:cNvSpPr/>
              <p:nvPr/>
            </p:nvSpPr>
            <p:spPr>
              <a:xfrm>
                <a:off x="5880240" y="482292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71" y="0"/>
                    </a:moveTo>
                    <a:lnTo>
                      <a:pt x="53" y="22"/>
                    </a:lnTo>
                    <a:lnTo>
                      <a:pt x="35" y="47"/>
                    </a:lnTo>
                    <a:lnTo>
                      <a:pt x="17" y="72"/>
                    </a:lnTo>
                    <a:lnTo>
                      <a:pt x="0" y="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1566"/>
              <p:cNvSpPr/>
              <p:nvPr/>
            </p:nvSpPr>
            <p:spPr>
              <a:xfrm flipH="1">
                <a:off x="5840280" y="4830480"/>
                <a:ext cx="3924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567"/>
              <p:cNvSpPr/>
              <p:nvPr/>
            </p:nvSpPr>
            <p:spPr>
              <a:xfrm>
                <a:off x="5825160" y="4858560"/>
                <a:ext cx="61200" cy="25200"/>
              </a:xfrm>
              <a:custGeom>
                <a:avLst/>
                <a:gdLst/>
                <a:ahLst/>
                <a:rect l="l" t="t" r="r" b="b"/>
                <a:pathLst>
                  <a:path w="591" h="305">
                    <a:moveTo>
                      <a:pt x="146" y="70"/>
                    </a:moveTo>
                    <a:lnTo>
                      <a:pt x="125" y="92"/>
                    </a:lnTo>
                    <a:lnTo>
                      <a:pt x="106" y="112"/>
                    </a:lnTo>
                    <a:lnTo>
                      <a:pt x="88" y="132"/>
                    </a:lnTo>
                    <a:lnTo>
                      <a:pt x="72" y="151"/>
                    </a:lnTo>
                    <a:lnTo>
                      <a:pt x="57" y="169"/>
                    </a:lnTo>
                    <a:lnTo>
                      <a:pt x="44" y="185"/>
                    </a:lnTo>
                    <a:lnTo>
                      <a:pt x="33" y="202"/>
                    </a:lnTo>
                    <a:lnTo>
                      <a:pt x="24" y="216"/>
                    </a:lnTo>
                    <a:lnTo>
                      <a:pt x="15" y="231"/>
                    </a:lnTo>
                    <a:lnTo>
                      <a:pt x="10" y="243"/>
                    </a:lnTo>
                    <a:lnTo>
                      <a:pt x="4" y="255"/>
                    </a:lnTo>
                    <a:lnTo>
                      <a:pt x="1" y="266"/>
                    </a:lnTo>
                    <a:lnTo>
                      <a:pt x="0" y="276"/>
                    </a:lnTo>
                    <a:lnTo>
                      <a:pt x="0" y="286"/>
                    </a:lnTo>
                    <a:lnTo>
                      <a:pt x="1" y="294"/>
                    </a:lnTo>
                    <a:lnTo>
                      <a:pt x="4" y="300"/>
                    </a:lnTo>
                    <a:lnTo>
                      <a:pt x="4" y="302"/>
                    </a:lnTo>
                    <a:lnTo>
                      <a:pt x="4" y="305"/>
                    </a:lnTo>
                    <a:lnTo>
                      <a:pt x="26" y="297"/>
                    </a:lnTo>
                    <a:lnTo>
                      <a:pt x="47" y="289"/>
                    </a:lnTo>
                    <a:lnTo>
                      <a:pt x="68" y="281"/>
                    </a:lnTo>
                    <a:lnTo>
                      <a:pt x="90" y="269"/>
                    </a:lnTo>
                    <a:lnTo>
                      <a:pt x="111" y="258"/>
                    </a:lnTo>
                    <a:lnTo>
                      <a:pt x="133" y="245"/>
                    </a:lnTo>
                    <a:lnTo>
                      <a:pt x="154" y="232"/>
                    </a:lnTo>
                    <a:lnTo>
                      <a:pt x="175" y="216"/>
                    </a:lnTo>
                    <a:lnTo>
                      <a:pt x="191" y="200"/>
                    </a:lnTo>
                    <a:lnTo>
                      <a:pt x="205" y="184"/>
                    </a:lnTo>
                    <a:lnTo>
                      <a:pt x="220" y="167"/>
                    </a:lnTo>
                    <a:lnTo>
                      <a:pt x="235" y="152"/>
                    </a:lnTo>
                    <a:lnTo>
                      <a:pt x="249" y="139"/>
                    </a:lnTo>
                    <a:lnTo>
                      <a:pt x="264" y="125"/>
                    </a:lnTo>
                    <a:lnTo>
                      <a:pt x="278" y="113"/>
                    </a:lnTo>
                    <a:lnTo>
                      <a:pt x="293" y="101"/>
                    </a:lnTo>
                    <a:lnTo>
                      <a:pt x="307" y="91"/>
                    </a:lnTo>
                    <a:lnTo>
                      <a:pt x="323" y="80"/>
                    </a:lnTo>
                    <a:lnTo>
                      <a:pt x="337" y="71"/>
                    </a:lnTo>
                    <a:lnTo>
                      <a:pt x="352" y="61"/>
                    </a:lnTo>
                    <a:lnTo>
                      <a:pt x="367" y="53"/>
                    </a:lnTo>
                    <a:lnTo>
                      <a:pt x="382" y="45"/>
                    </a:lnTo>
                    <a:lnTo>
                      <a:pt x="398" y="39"/>
                    </a:lnTo>
                    <a:lnTo>
                      <a:pt x="413" y="32"/>
                    </a:lnTo>
                    <a:lnTo>
                      <a:pt x="429" y="27"/>
                    </a:lnTo>
                    <a:lnTo>
                      <a:pt x="445" y="21"/>
                    </a:lnTo>
                    <a:lnTo>
                      <a:pt x="461" y="18"/>
                    </a:lnTo>
                    <a:lnTo>
                      <a:pt x="477" y="13"/>
                    </a:lnTo>
                    <a:lnTo>
                      <a:pt x="481" y="11"/>
                    </a:lnTo>
                    <a:lnTo>
                      <a:pt x="486" y="10"/>
                    </a:lnTo>
                    <a:lnTo>
                      <a:pt x="490" y="10"/>
                    </a:lnTo>
                    <a:lnTo>
                      <a:pt x="494" y="10"/>
                    </a:lnTo>
                    <a:lnTo>
                      <a:pt x="506" y="8"/>
                    </a:lnTo>
                    <a:lnTo>
                      <a:pt x="518" y="6"/>
                    </a:lnTo>
                    <a:lnTo>
                      <a:pt x="530" y="3"/>
                    </a:lnTo>
                    <a:lnTo>
                      <a:pt x="541" y="3"/>
                    </a:lnTo>
                    <a:lnTo>
                      <a:pt x="553" y="1"/>
                    </a:lnTo>
                    <a:lnTo>
                      <a:pt x="565" y="0"/>
                    </a:lnTo>
                    <a:lnTo>
                      <a:pt x="578" y="1"/>
                    </a:lnTo>
                    <a:lnTo>
                      <a:pt x="591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568"/>
              <p:cNvSpPr/>
              <p:nvPr/>
            </p:nvSpPr>
            <p:spPr>
              <a:xfrm>
                <a:off x="5886720" y="485676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29"/>
                    </a:moveTo>
                    <a:lnTo>
                      <a:pt x="10" y="15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1569"/>
              <p:cNvSpPr/>
              <p:nvPr/>
            </p:nvSpPr>
            <p:spPr>
              <a:xfrm flipH="1">
                <a:off x="5868360" y="485172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1570"/>
              <p:cNvSpPr/>
              <p:nvPr/>
            </p:nvSpPr>
            <p:spPr>
              <a:xfrm flipV="1">
                <a:off x="5870880" y="4812480"/>
                <a:ext cx="33120" cy="38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571"/>
              <p:cNvSpPr/>
              <p:nvPr/>
            </p:nvSpPr>
            <p:spPr>
              <a:xfrm>
                <a:off x="5783400" y="4822920"/>
                <a:ext cx="104040" cy="32760"/>
              </a:xfrm>
              <a:custGeom>
                <a:avLst/>
                <a:gdLst/>
                <a:ahLst/>
                <a:rect l="l" t="t" r="r" b="b"/>
                <a:pathLst>
                  <a:path w="1005" h="400">
                    <a:moveTo>
                      <a:pt x="1005" y="0"/>
                    </a:moveTo>
                    <a:lnTo>
                      <a:pt x="940" y="22"/>
                    </a:lnTo>
                    <a:lnTo>
                      <a:pt x="877" y="46"/>
                    </a:lnTo>
                    <a:lnTo>
                      <a:pt x="814" y="69"/>
                    </a:lnTo>
                    <a:lnTo>
                      <a:pt x="751" y="93"/>
                    </a:lnTo>
                    <a:lnTo>
                      <a:pt x="687" y="117"/>
                    </a:lnTo>
                    <a:lnTo>
                      <a:pt x="624" y="141"/>
                    </a:lnTo>
                    <a:lnTo>
                      <a:pt x="561" y="166"/>
                    </a:lnTo>
                    <a:lnTo>
                      <a:pt x="498" y="191"/>
                    </a:lnTo>
                    <a:lnTo>
                      <a:pt x="436" y="216"/>
                    </a:lnTo>
                    <a:lnTo>
                      <a:pt x="372" y="242"/>
                    </a:lnTo>
                    <a:lnTo>
                      <a:pt x="310" y="267"/>
                    </a:lnTo>
                    <a:lnTo>
                      <a:pt x="248" y="294"/>
                    </a:lnTo>
                    <a:lnTo>
                      <a:pt x="186" y="321"/>
                    </a:lnTo>
                    <a:lnTo>
                      <a:pt x="124" y="347"/>
                    </a:lnTo>
                    <a:lnTo>
                      <a:pt x="62" y="374"/>
                    </a:lnTo>
                    <a:lnTo>
                      <a:pt x="0" y="40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572"/>
              <p:cNvSpPr/>
              <p:nvPr/>
            </p:nvSpPr>
            <p:spPr>
              <a:xfrm>
                <a:off x="5078160" y="4808880"/>
                <a:ext cx="15480" cy="11520"/>
              </a:xfrm>
              <a:custGeom>
                <a:avLst/>
                <a:gdLst/>
                <a:ahLst/>
                <a:rect l="l" t="t" r="r" b="b"/>
                <a:pathLst>
                  <a:path w="145" h="145">
                    <a:moveTo>
                      <a:pt x="124" y="21"/>
                    </a:moveTo>
                    <a:lnTo>
                      <a:pt x="118" y="16"/>
                    </a:lnTo>
                    <a:lnTo>
                      <a:pt x="113" y="12"/>
                    </a:lnTo>
                    <a:lnTo>
                      <a:pt x="106" y="9"/>
                    </a:lnTo>
                    <a:lnTo>
                      <a:pt x="101" y="5"/>
                    </a:lnTo>
                    <a:lnTo>
                      <a:pt x="94" y="3"/>
                    </a:lnTo>
                    <a:lnTo>
                      <a:pt x="87" y="1"/>
                    </a:lnTo>
                    <a:lnTo>
                      <a:pt x="81" y="1"/>
                    </a:lnTo>
                    <a:lnTo>
                      <a:pt x="74" y="0"/>
                    </a:lnTo>
                    <a:lnTo>
                      <a:pt x="66" y="1"/>
                    </a:lnTo>
                    <a:lnTo>
                      <a:pt x="58" y="1"/>
                    </a:lnTo>
                    <a:lnTo>
                      <a:pt x="52" y="3"/>
                    </a:lnTo>
                    <a:lnTo>
                      <a:pt x="45" y="5"/>
                    </a:lnTo>
                    <a:lnTo>
                      <a:pt x="38" y="9"/>
                    </a:lnTo>
                    <a:lnTo>
                      <a:pt x="32" y="12"/>
                    </a:lnTo>
                    <a:lnTo>
                      <a:pt x="26" y="16"/>
                    </a:lnTo>
                    <a:lnTo>
                      <a:pt x="21" y="21"/>
                    </a:lnTo>
                    <a:lnTo>
                      <a:pt x="16" y="26"/>
                    </a:lnTo>
                    <a:lnTo>
                      <a:pt x="12" y="33"/>
                    </a:lnTo>
                    <a:lnTo>
                      <a:pt x="7" y="38"/>
                    </a:lnTo>
                    <a:lnTo>
                      <a:pt x="5" y="45"/>
                    </a:lnTo>
                    <a:lnTo>
                      <a:pt x="3" y="52"/>
                    </a:lnTo>
                    <a:lnTo>
                      <a:pt x="1" y="60"/>
                    </a:lnTo>
                    <a:lnTo>
                      <a:pt x="0" y="66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82"/>
                    </a:lnTo>
                    <a:lnTo>
                      <a:pt x="1" y="85"/>
                    </a:lnTo>
                    <a:lnTo>
                      <a:pt x="3" y="88"/>
                    </a:lnTo>
                    <a:lnTo>
                      <a:pt x="3" y="94"/>
                    </a:lnTo>
                    <a:lnTo>
                      <a:pt x="4" y="98"/>
                    </a:lnTo>
                    <a:lnTo>
                      <a:pt x="6" y="104"/>
                    </a:lnTo>
                    <a:lnTo>
                      <a:pt x="7" y="107"/>
                    </a:lnTo>
                    <a:lnTo>
                      <a:pt x="13" y="116"/>
                    </a:lnTo>
                    <a:lnTo>
                      <a:pt x="21" y="124"/>
                    </a:lnTo>
                    <a:lnTo>
                      <a:pt x="26" y="129"/>
                    </a:lnTo>
                    <a:lnTo>
                      <a:pt x="32" y="134"/>
                    </a:lnTo>
                    <a:lnTo>
                      <a:pt x="38" y="137"/>
                    </a:lnTo>
                    <a:lnTo>
                      <a:pt x="45" y="140"/>
                    </a:lnTo>
                    <a:lnTo>
                      <a:pt x="52" y="143"/>
                    </a:lnTo>
                    <a:lnTo>
                      <a:pt x="58" y="144"/>
                    </a:lnTo>
                    <a:lnTo>
                      <a:pt x="66" y="145"/>
                    </a:lnTo>
                    <a:lnTo>
                      <a:pt x="74" y="145"/>
                    </a:lnTo>
                    <a:lnTo>
                      <a:pt x="81" y="145"/>
                    </a:lnTo>
                    <a:lnTo>
                      <a:pt x="87" y="144"/>
                    </a:lnTo>
                    <a:lnTo>
                      <a:pt x="94" y="143"/>
                    </a:lnTo>
                    <a:lnTo>
                      <a:pt x="101" y="140"/>
                    </a:lnTo>
                    <a:lnTo>
                      <a:pt x="106" y="137"/>
                    </a:lnTo>
                    <a:lnTo>
                      <a:pt x="113" y="134"/>
                    </a:lnTo>
                    <a:lnTo>
                      <a:pt x="118" y="129"/>
                    </a:lnTo>
                    <a:lnTo>
                      <a:pt x="124" y="124"/>
                    </a:lnTo>
                    <a:lnTo>
                      <a:pt x="133" y="113"/>
                    </a:lnTo>
                    <a:lnTo>
                      <a:pt x="142" y="99"/>
                    </a:lnTo>
                    <a:lnTo>
                      <a:pt x="144" y="94"/>
                    </a:lnTo>
                    <a:lnTo>
                      <a:pt x="145" y="87"/>
                    </a:lnTo>
                    <a:lnTo>
                      <a:pt x="145" y="81"/>
                    </a:lnTo>
                    <a:lnTo>
                      <a:pt x="145" y="74"/>
                    </a:lnTo>
                    <a:lnTo>
                      <a:pt x="145" y="66"/>
                    </a:lnTo>
                    <a:lnTo>
                      <a:pt x="144" y="60"/>
                    </a:lnTo>
                    <a:lnTo>
                      <a:pt x="142" y="52"/>
                    </a:lnTo>
                    <a:lnTo>
                      <a:pt x="139" y="45"/>
                    </a:lnTo>
                    <a:lnTo>
                      <a:pt x="137" y="38"/>
                    </a:lnTo>
                    <a:lnTo>
                      <a:pt x="133" y="33"/>
                    </a:lnTo>
                    <a:lnTo>
                      <a:pt x="128" y="26"/>
                    </a:lnTo>
                    <a:lnTo>
                      <a:pt x="124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573"/>
              <p:cNvSpPr/>
              <p:nvPr/>
            </p:nvSpPr>
            <p:spPr>
              <a:xfrm>
                <a:off x="5061240" y="513324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11">
                    <a:moveTo>
                      <a:pt x="0" y="11"/>
                    </a:move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1574"/>
              <p:cNvSpPr/>
              <p:nvPr/>
            </p:nvSpPr>
            <p:spPr>
              <a:xfrm flipH="1" flipV="1">
                <a:off x="5060520" y="5126400"/>
                <a:ext cx="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575"/>
              <p:cNvSpPr/>
              <p:nvPr/>
            </p:nvSpPr>
            <p:spPr>
              <a:xfrm>
                <a:off x="5054040" y="4813920"/>
                <a:ext cx="7920" cy="312480"/>
              </a:xfrm>
              <a:custGeom>
                <a:avLst/>
                <a:gdLst/>
                <a:ahLst/>
                <a:rect l="l" t="t" r="r" b="b"/>
                <a:pathLst>
                  <a:path w="76" h="3777">
                    <a:moveTo>
                      <a:pt x="58" y="3777"/>
                    </a:moveTo>
                    <a:lnTo>
                      <a:pt x="54" y="3727"/>
                    </a:lnTo>
                    <a:lnTo>
                      <a:pt x="51" y="3677"/>
                    </a:lnTo>
                    <a:lnTo>
                      <a:pt x="48" y="3627"/>
                    </a:lnTo>
                    <a:lnTo>
                      <a:pt x="44" y="3577"/>
                    </a:lnTo>
                    <a:lnTo>
                      <a:pt x="41" y="3527"/>
                    </a:lnTo>
                    <a:lnTo>
                      <a:pt x="39" y="3476"/>
                    </a:lnTo>
                    <a:lnTo>
                      <a:pt x="36" y="3426"/>
                    </a:lnTo>
                    <a:lnTo>
                      <a:pt x="33" y="3375"/>
                    </a:lnTo>
                    <a:lnTo>
                      <a:pt x="31" y="3331"/>
                    </a:lnTo>
                    <a:lnTo>
                      <a:pt x="29" y="3288"/>
                    </a:lnTo>
                    <a:lnTo>
                      <a:pt x="27" y="3243"/>
                    </a:lnTo>
                    <a:lnTo>
                      <a:pt x="24" y="3200"/>
                    </a:lnTo>
                    <a:lnTo>
                      <a:pt x="23" y="3156"/>
                    </a:lnTo>
                    <a:lnTo>
                      <a:pt x="21" y="3111"/>
                    </a:lnTo>
                    <a:lnTo>
                      <a:pt x="20" y="3068"/>
                    </a:lnTo>
                    <a:lnTo>
                      <a:pt x="19" y="3024"/>
                    </a:lnTo>
                    <a:lnTo>
                      <a:pt x="17" y="2957"/>
                    </a:lnTo>
                    <a:lnTo>
                      <a:pt x="13" y="2891"/>
                    </a:lnTo>
                    <a:lnTo>
                      <a:pt x="11" y="2823"/>
                    </a:lnTo>
                    <a:lnTo>
                      <a:pt x="10" y="2755"/>
                    </a:lnTo>
                    <a:lnTo>
                      <a:pt x="8" y="2688"/>
                    </a:lnTo>
                    <a:lnTo>
                      <a:pt x="6" y="2620"/>
                    </a:lnTo>
                    <a:lnTo>
                      <a:pt x="5" y="2551"/>
                    </a:lnTo>
                    <a:lnTo>
                      <a:pt x="3" y="2483"/>
                    </a:lnTo>
                    <a:lnTo>
                      <a:pt x="2" y="2414"/>
                    </a:lnTo>
                    <a:lnTo>
                      <a:pt x="1" y="2345"/>
                    </a:lnTo>
                    <a:lnTo>
                      <a:pt x="1" y="2275"/>
                    </a:lnTo>
                    <a:lnTo>
                      <a:pt x="0" y="2205"/>
                    </a:lnTo>
                    <a:lnTo>
                      <a:pt x="0" y="2136"/>
                    </a:lnTo>
                    <a:lnTo>
                      <a:pt x="0" y="2066"/>
                    </a:lnTo>
                    <a:lnTo>
                      <a:pt x="0" y="1995"/>
                    </a:lnTo>
                    <a:lnTo>
                      <a:pt x="1" y="1924"/>
                    </a:lnTo>
                    <a:lnTo>
                      <a:pt x="1" y="1874"/>
                    </a:lnTo>
                    <a:lnTo>
                      <a:pt x="1" y="1825"/>
                    </a:lnTo>
                    <a:lnTo>
                      <a:pt x="2" y="1776"/>
                    </a:lnTo>
                    <a:lnTo>
                      <a:pt x="3" y="1726"/>
                    </a:lnTo>
                    <a:lnTo>
                      <a:pt x="3" y="1678"/>
                    </a:lnTo>
                    <a:lnTo>
                      <a:pt x="5" y="1628"/>
                    </a:lnTo>
                    <a:lnTo>
                      <a:pt x="5" y="1579"/>
                    </a:lnTo>
                    <a:lnTo>
                      <a:pt x="5" y="1529"/>
                    </a:lnTo>
                    <a:lnTo>
                      <a:pt x="6" y="1478"/>
                    </a:lnTo>
                    <a:lnTo>
                      <a:pt x="8" y="1426"/>
                    </a:lnTo>
                    <a:lnTo>
                      <a:pt x="9" y="1374"/>
                    </a:lnTo>
                    <a:lnTo>
                      <a:pt x="11" y="1322"/>
                    </a:lnTo>
                    <a:lnTo>
                      <a:pt x="12" y="1270"/>
                    </a:lnTo>
                    <a:lnTo>
                      <a:pt x="14" y="1216"/>
                    </a:lnTo>
                    <a:lnTo>
                      <a:pt x="16" y="1164"/>
                    </a:lnTo>
                    <a:lnTo>
                      <a:pt x="18" y="1112"/>
                    </a:lnTo>
                    <a:lnTo>
                      <a:pt x="19" y="1059"/>
                    </a:lnTo>
                    <a:lnTo>
                      <a:pt x="21" y="1007"/>
                    </a:lnTo>
                    <a:lnTo>
                      <a:pt x="23" y="954"/>
                    </a:lnTo>
                    <a:lnTo>
                      <a:pt x="26" y="900"/>
                    </a:lnTo>
                    <a:lnTo>
                      <a:pt x="27" y="848"/>
                    </a:lnTo>
                    <a:lnTo>
                      <a:pt x="29" y="795"/>
                    </a:lnTo>
                    <a:lnTo>
                      <a:pt x="31" y="742"/>
                    </a:lnTo>
                    <a:lnTo>
                      <a:pt x="33" y="689"/>
                    </a:lnTo>
                    <a:lnTo>
                      <a:pt x="36" y="650"/>
                    </a:lnTo>
                    <a:lnTo>
                      <a:pt x="38" y="612"/>
                    </a:lnTo>
                    <a:lnTo>
                      <a:pt x="40" y="574"/>
                    </a:lnTo>
                    <a:lnTo>
                      <a:pt x="42" y="537"/>
                    </a:lnTo>
                    <a:lnTo>
                      <a:pt x="44" y="499"/>
                    </a:lnTo>
                    <a:lnTo>
                      <a:pt x="46" y="461"/>
                    </a:lnTo>
                    <a:lnTo>
                      <a:pt x="49" y="424"/>
                    </a:lnTo>
                    <a:lnTo>
                      <a:pt x="51" y="387"/>
                    </a:lnTo>
                    <a:lnTo>
                      <a:pt x="53" y="339"/>
                    </a:lnTo>
                    <a:lnTo>
                      <a:pt x="57" y="290"/>
                    </a:lnTo>
                    <a:lnTo>
                      <a:pt x="59" y="243"/>
                    </a:lnTo>
                    <a:lnTo>
                      <a:pt x="62" y="195"/>
                    </a:lnTo>
                    <a:lnTo>
                      <a:pt x="66" y="146"/>
                    </a:lnTo>
                    <a:lnTo>
                      <a:pt x="69" y="98"/>
                    </a:lnTo>
                    <a:lnTo>
                      <a:pt x="72" y="49"/>
                    </a:lnTo>
                    <a:lnTo>
                      <a:pt x="7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576"/>
              <p:cNvSpPr/>
              <p:nvPr/>
            </p:nvSpPr>
            <p:spPr>
              <a:xfrm>
                <a:off x="5062320" y="4796280"/>
                <a:ext cx="3240" cy="17280"/>
              </a:xfrm>
              <a:custGeom>
                <a:avLst/>
                <a:gdLst/>
                <a:ahLst/>
                <a:rect l="l" t="t" r="r" b="b"/>
                <a:pathLst>
                  <a:path w="28" h="213">
                    <a:moveTo>
                      <a:pt x="0" y="213"/>
                    </a:moveTo>
                    <a:lnTo>
                      <a:pt x="0" y="207"/>
                    </a:lnTo>
                    <a:lnTo>
                      <a:pt x="0" y="199"/>
                    </a:lnTo>
                    <a:lnTo>
                      <a:pt x="2" y="174"/>
                    </a:lnTo>
                    <a:lnTo>
                      <a:pt x="4" y="150"/>
                    </a:lnTo>
                    <a:lnTo>
                      <a:pt x="6" y="125"/>
                    </a:lnTo>
                    <a:lnTo>
                      <a:pt x="9" y="101"/>
                    </a:lnTo>
                    <a:lnTo>
                      <a:pt x="14" y="75"/>
                    </a:lnTo>
                    <a:lnTo>
                      <a:pt x="18" y="50"/>
                    </a:lnTo>
                    <a:lnTo>
                      <a:pt x="23" y="26"/>
                    </a:lnTo>
                    <a:lnTo>
                      <a:pt x="2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1577"/>
              <p:cNvSpPr/>
              <p:nvPr/>
            </p:nvSpPr>
            <p:spPr>
              <a:xfrm flipV="1">
                <a:off x="5065560" y="479556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578"/>
              <p:cNvSpPr/>
              <p:nvPr/>
            </p:nvSpPr>
            <p:spPr>
              <a:xfrm>
                <a:off x="5082120" y="4847760"/>
                <a:ext cx="6120" cy="188640"/>
              </a:xfrm>
              <a:custGeom>
                <a:avLst/>
                <a:gdLst/>
                <a:ahLst/>
                <a:rect l="l" t="t" r="r" b="b"/>
                <a:pathLst>
                  <a:path w="63" h="2275">
                    <a:moveTo>
                      <a:pt x="7" y="2275"/>
                    </a:moveTo>
                    <a:lnTo>
                      <a:pt x="6" y="2229"/>
                    </a:lnTo>
                    <a:lnTo>
                      <a:pt x="5" y="2181"/>
                    </a:lnTo>
                    <a:lnTo>
                      <a:pt x="5" y="2135"/>
                    </a:lnTo>
                    <a:lnTo>
                      <a:pt x="3" y="2087"/>
                    </a:lnTo>
                    <a:lnTo>
                      <a:pt x="2" y="2039"/>
                    </a:lnTo>
                    <a:lnTo>
                      <a:pt x="2" y="1992"/>
                    </a:lnTo>
                    <a:lnTo>
                      <a:pt x="1" y="1944"/>
                    </a:lnTo>
                    <a:lnTo>
                      <a:pt x="0" y="1895"/>
                    </a:lnTo>
                    <a:lnTo>
                      <a:pt x="0" y="1848"/>
                    </a:lnTo>
                    <a:lnTo>
                      <a:pt x="0" y="1802"/>
                    </a:lnTo>
                    <a:lnTo>
                      <a:pt x="0" y="1754"/>
                    </a:lnTo>
                    <a:lnTo>
                      <a:pt x="0" y="1707"/>
                    </a:lnTo>
                    <a:lnTo>
                      <a:pt x="0" y="1659"/>
                    </a:lnTo>
                    <a:lnTo>
                      <a:pt x="0" y="1611"/>
                    </a:lnTo>
                    <a:lnTo>
                      <a:pt x="0" y="1563"/>
                    </a:lnTo>
                    <a:lnTo>
                      <a:pt x="0" y="1516"/>
                    </a:lnTo>
                    <a:lnTo>
                      <a:pt x="1" y="1466"/>
                    </a:lnTo>
                    <a:lnTo>
                      <a:pt x="2" y="1417"/>
                    </a:lnTo>
                    <a:lnTo>
                      <a:pt x="2" y="1368"/>
                    </a:lnTo>
                    <a:lnTo>
                      <a:pt x="3" y="1318"/>
                    </a:lnTo>
                    <a:lnTo>
                      <a:pt x="5" y="1270"/>
                    </a:lnTo>
                    <a:lnTo>
                      <a:pt x="5" y="1220"/>
                    </a:lnTo>
                    <a:lnTo>
                      <a:pt x="6" y="1171"/>
                    </a:lnTo>
                    <a:lnTo>
                      <a:pt x="7" y="1121"/>
                    </a:lnTo>
                    <a:lnTo>
                      <a:pt x="7" y="1119"/>
                    </a:lnTo>
                    <a:lnTo>
                      <a:pt x="7" y="1118"/>
                    </a:lnTo>
                    <a:lnTo>
                      <a:pt x="9" y="1066"/>
                    </a:lnTo>
                    <a:lnTo>
                      <a:pt x="10" y="1015"/>
                    </a:lnTo>
                    <a:lnTo>
                      <a:pt x="12" y="962"/>
                    </a:lnTo>
                    <a:lnTo>
                      <a:pt x="15" y="910"/>
                    </a:lnTo>
                    <a:lnTo>
                      <a:pt x="17" y="858"/>
                    </a:lnTo>
                    <a:lnTo>
                      <a:pt x="19" y="806"/>
                    </a:lnTo>
                    <a:lnTo>
                      <a:pt x="22" y="755"/>
                    </a:lnTo>
                    <a:lnTo>
                      <a:pt x="25" y="703"/>
                    </a:lnTo>
                    <a:lnTo>
                      <a:pt x="27" y="652"/>
                    </a:lnTo>
                    <a:lnTo>
                      <a:pt x="29" y="601"/>
                    </a:lnTo>
                    <a:lnTo>
                      <a:pt x="31" y="550"/>
                    </a:lnTo>
                    <a:lnTo>
                      <a:pt x="34" y="498"/>
                    </a:lnTo>
                    <a:lnTo>
                      <a:pt x="37" y="447"/>
                    </a:lnTo>
                    <a:lnTo>
                      <a:pt x="40" y="395"/>
                    </a:lnTo>
                    <a:lnTo>
                      <a:pt x="43" y="343"/>
                    </a:lnTo>
                    <a:lnTo>
                      <a:pt x="46" y="291"/>
                    </a:lnTo>
                    <a:lnTo>
                      <a:pt x="49" y="255"/>
                    </a:lnTo>
                    <a:lnTo>
                      <a:pt x="51" y="220"/>
                    </a:lnTo>
                    <a:lnTo>
                      <a:pt x="53" y="183"/>
                    </a:lnTo>
                    <a:lnTo>
                      <a:pt x="57" y="146"/>
                    </a:lnTo>
                    <a:lnTo>
                      <a:pt x="59" y="111"/>
                    </a:lnTo>
                    <a:lnTo>
                      <a:pt x="61" y="74"/>
                    </a:lnTo>
                    <a:lnTo>
                      <a:pt x="62" y="37"/>
                    </a:lnTo>
                    <a:lnTo>
                      <a:pt x="6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579"/>
              <p:cNvSpPr/>
              <p:nvPr/>
            </p:nvSpPr>
            <p:spPr>
              <a:xfrm flipV="1">
                <a:off x="5088600" y="484632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580"/>
              <p:cNvSpPr/>
              <p:nvPr/>
            </p:nvSpPr>
            <p:spPr>
              <a:xfrm>
                <a:off x="5090400" y="4829400"/>
                <a:ext cx="425160" cy="20520"/>
              </a:xfrm>
              <a:custGeom>
                <a:avLst/>
                <a:gdLst/>
                <a:ahLst/>
                <a:rect l="l" t="t" r="r" b="b"/>
                <a:pathLst>
                  <a:path w="4091" h="249">
                    <a:moveTo>
                      <a:pt x="4091" y="249"/>
                    </a:moveTo>
                    <a:lnTo>
                      <a:pt x="374" y="0"/>
                    </a:lnTo>
                    <a:lnTo>
                      <a:pt x="0" y="20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581"/>
              <p:cNvSpPr/>
              <p:nvPr/>
            </p:nvSpPr>
            <p:spPr>
              <a:xfrm>
                <a:off x="5066640" y="4779000"/>
                <a:ext cx="559800" cy="21240"/>
              </a:xfrm>
              <a:custGeom>
                <a:avLst/>
                <a:gdLst/>
                <a:ahLst/>
                <a:rect l="l" t="t" r="r" b="b"/>
                <a:pathLst>
                  <a:path w="5379" h="260">
                    <a:moveTo>
                      <a:pt x="0" y="202"/>
                    </a:moveTo>
                    <a:lnTo>
                      <a:pt x="589" y="0"/>
                    </a:lnTo>
                    <a:lnTo>
                      <a:pt x="5379" y="26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582"/>
              <p:cNvSpPr/>
              <p:nvPr/>
            </p:nvSpPr>
            <p:spPr>
              <a:xfrm>
                <a:off x="5081040" y="5063760"/>
                <a:ext cx="385920" cy="32040"/>
              </a:xfrm>
              <a:custGeom>
                <a:avLst/>
                <a:gdLst/>
                <a:ahLst/>
                <a:rect l="l" t="t" r="r" b="b"/>
                <a:pathLst>
                  <a:path w="3708" h="398">
                    <a:moveTo>
                      <a:pt x="3708" y="398"/>
                    </a:moveTo>
                    <a:lnTo>
                      <a:pt x="29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583"/>
              <p:cNvSpPr/>
              <p:nvPr/>
            </p:nvSpPr>
            <p:spPr>
              <a:xfrm>
                <a:off x="5082120" y="5036400"/>
                <a:ext cx="6120" cy="85680"/>
              </a:xfrm>
              <a:custGeom>
                <a:avLst/>
                <a:gdLst/>
                <a:ahLst/>
                <a:rect l="l" t="t" r="r" b="b"/>
                <a:pathLst>
                  <a:path w="56" h="1040">
                    <a:moveTo>
                      <a:pt x="0" y="0"/>
                    </a:moveTo>
                    <a:lnTo>
                      <a:pt x="1" y="41"/>
                    </a:lnTo>
                    <a:lnTo>
                      <a:pt x="3" y="82"/>
                    </a:lnTo>
                    <a:lnTo>
                      <a:pt x="4" y="124"/>
                    </a:lnTo>
                    <a:lnTo>
                      <a:pt x="5" y="165"/>
                    </a:lnTo>
                    <a:lnTo>
                      <a:pt x="8" y="206"/>
                    </a:lnTo>
                    <a:lnTo>
                      <a:pt x="10" y="247"/>
                    </a:lnTo>
                    <a:lnTo>
                      <a:pt x="12" y="289"/>
                    </a:lnTo>
                    <a:lnTo>
                      <a:pt x="14" y="330"/>
                    </a:lnTo>
                    <a:lnTo>
                      <a:pt x="15" y="372"/>
                    </a:lnTo>
                    <a:lnTo>
                      <a:pt x="18" y="416"/>
                    </a:lnTo>
                    <a:lnTo>
                      <a:pt x="19" y="458"/>
                    </a:lnTo>
                    <a:lnTo>
                      <a:pt x="21" y="501"/>
                    </a:lnTo>
                    <a:lnTo>
                      <a:pt x="23" y="544"/>
                    </a:lnTo>
                    <a:lnTo>
                      <a:pt x="25" y="587"/>
                    </a:lnTo>
                    <a:lnTo>
                      <a:pt x="29" y="631"/>
                    </a:lnTo>
                    <a:lnTo>
                      <a:pt x="32" y="674"/>
                    </a:lnTo>
                    <a:lnTo>
                      <a:pt x="35" y="719"/>
                    </a:lnTo>
                    <a:lnTo>
                      <a:pt x="37" y="765"/>
                    </a:lnTo>
                    <a:lnTo>
                      <a:pt x="41" y="810"/>
                    </a:lnTo>
                    <a:lnTo>
                      <a:pt x="44" y="856"/>
                    </a:lnTo>
                    <a:lnTo>
                      <a:pt x="47" y="901"/>
                    </a:lnTo>
                    <a:lnTo>
                      <a:pt x="51" y="947"/>
                    </a:lnTo>
                    <a:lnTo>
                      <a:pt x="54" y="993"/>
                    </a:lnTo>
                    <a:lnTo>
                      <a:pt x="56" y="104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1584"/>
              <p:cNvSpPr/>
              <p:nvPr/>
            </p:nvSpPr>
            <p:spPr>
              <a:xfrm>
                <a:off x="5088600" y="512244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1585"/>
              <p:cNvSpPr/>
              <p:nvPr/>
            </p:nvSpPr>
            <p:spPr>
              <a:xfrm>
                <a:off x="5082120" y="5036400"/>
                <a:ext cx="383760" cy="31320"/>
              </a:xfrm>
              <a:custGeom>
                <a:avLst/>
                <a:gdLst/>
                <a:ahLst/>
                <a:rect l="l" t="t" r="r" b="b"/>
                <a:pathLst>
                  <a:path w="3686" h="380">
                    <a:moveTo>
                      <a:pt x="3686" y="380"/>
                    </a:move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1586"/>
              <p:cNvSpPr/>
              <p:nvPr/>
            </p:nvSpPr>
            <p:spPr>
              <a:xfrm>
                <a:off x="5083200" y="5091840"/>
                <a:ext cx="384840" cy="35640"/>
              </a:xfrm>
              <a:custGeom>
                <a:avLst/>
                <a:gdLst/>
                <a:ahLst/>
                <a:rect l="l" t="t" r="r" b="b"/>
                <a:pathLst>
                  <a:path w="3701" h="433">
                    <a:moveTo>
                      <a:pt x="0" y="0"/>
                    </a:moveTo>
                    <a:lnTo>
                      <a:pt x="29" y="3"/>
                    </a:lnTo>
                    <a:lnTo>
                      <a:pt x="3701" y="43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1587"/>
              <p:cNvSpPr/>
              <p:nvPr/>
            </p:nvSpPr>
            <p:spPr>
              <a:xfrm>
                <a:off x="5076000" y="512928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0" y="37"/>
                    </a:moveTo>
                    <a:lnTo>
                      <a:pt x="5" y="44"/>
                    </a:lnTo>
                    <a:lnTo>
                      <a:pt x="2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2"/>
                    </a:lnTo>
                    <a:lnTo>
                      <a:pt x="5" y="99"/>
                    </a:lnTo>
                    <a:lnTo>
                      <a:pt x="8" y="106"/>
                    </a:lnTo>
                    <a:lnTo>
                      <a:pt x="12" y="111"/>
                    </a:lnTo>
                    <a:lnTo>
                      <a:pt x="16" y="117"/>
                    </a:lnTo>
                    <a:lnTo>
                      <a:pt x="21" y="122"/>
                    </a:lnTo>
                    <a:lnTo>
                      <a:pt x="26" y="128"/>
                    </a:lnTo>
                    <a:lnTo>
                      <a:pt x="32" y="132"/>
                    </a:lnTo>
                    <a:lnTo>
                      <a:pt x="39" y="136"/>
                    </a:lnTo>
                    <a:lnTo>
                      <a:pt x="45" y="139"/>
                    </a:lnTo>
                    <a:lnTo>
                      <a:pt x="52" y="141"/>
                    </a:lnTo>
                    <a:lnTo>
                      <a:pt x="59" y="142"/>
                    </a:lnTo>
                    <a:lnTo>
                      <a:pt x="66" y="143"/>
                    </a:lnTo>
                    <a:lnTo>
                      <a:pt x="74" y="143"/>
                    </a:lnTo>
                    <a:lnTo>
                      <a:pt x="81" y="143"/>
                    </a:lnTo>
                    <a:lnTo>
                      <a:pt x="87" y="142"/>
                    </a:lnTo>
                    <a:lnTo>
                      <a:pt x="94" y="141"/>
                    </a:lnTo>
                    <a:lnTo>
                      <a:pt x="101" y="139"/>
                    </a:lnTo>
                    <a:lnTo>
                      <a:pt x="106" y="136"/>
                    </a:lnTo>
                    <a:lnTo>
                      <a:pt x="113" y="132"/>
                    </a:lnTo>
                    <a:lnTo>
                      <a:pt x="119" y="128"/>
                    </a:lnTo>
                    <a:lnTo>
                      <a:pt x="124" y="122"/>
                    </a:lnTo>
                    <a:lnTo>
                      <a:pt x="129" y="117"/>
                    </a:lnTo>
                    <a:lnTo>
                      <a:pt x="133" y="111"/>
                    </a:lnTo>
                    <a:lnTo>
                      <a:pt x="137" y="106"/>
                    </a:lnTo>
                    <a:lnTo>
                      <a:pt x="140" y="99"/>
                    </a:lnTo>
                    <a:lnTo>
                      <a:pt x="142" y="92"/>
                    </a:lnTo>
                    <a:lnTo>
                      <a:pt x="144" y="86"/>
                    </a:lnTo>
                    <a:lnTo>
                      <a:pt x="145" y="79"/>
                    </a:lnTo>
                    <a:lnTo>
                      <a:pt x="145" y="72"/>
                    </a:lnTo>
                    <a:lnTo>
                      <a:pt x="145" y="66"/>
                    </a:lnTo>
                    <a:lnTo>
                      <a:pt x="144" y="59"/>
                    </a:lnTo>
                    <a:lnTo>
                      <a:pt x="142" y="52"/>
                    </a:lnTo>
                    <a:lnTo>
                      <a:pt x="140" y="46"/>
                    </a:lnTo>
                    <a:lnTo>
                      <a:pt x="137" y="39"/>
                    </a:lnTo>
                    <a:lnTo>
                      <a:pt x="133" y="32"/>
                    </a:lnTo>
                    <a:lnTo>
                      <a:pt x="129" y="26"/>
                    </a:lnTo>
                    <a:lnTo>
                      <a:pt x="124" y="19"/>
                    </a:lnTo>
                    <a:lnTo>
                      <a:pt x="115" y="13"/>
                    </a:lnTo>
                    <a:lnTo>
                      <a:pt x="106" y="7"/>
                    </a:lnTo>
                    <a:lnTo>
                      <a:pt x="97" y="3"/>
                    </a:lnTo>
                    <a:lnTo>
                      <a:pt x="89" y="1"/>
                    </a:lnTo>
                    <a:lnTo>
                      <a:pt x="84" y="1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4" y="1"/>
                    </a:lnTo>
                    <a:lnTo>
                      <a:pt x="66" y="1"/>
                    </a:lnTo>
                    <a:lnTo>
                      <a:pt x="59" y="1"/>
                    </a:lnTo>
                    <a:lnTo>
                      <a:pt x="52" y="3"/>
                    </a:lnTo>
                    <a:lnTo>
                      <a:pt x="45" y="4"/>
                    </a:lnTo>
                    <a:lnTo>
                      <a:pt x="39" y="7"/>
                    </a:lnTo>
                    <a:lnTo>
                      <a:pt x="32" y="10"/>
                    </a:lnTo>
                    <a:lnTo>
                      <a:pt x="26" y="15"/>
                    </a:lnTo>
                    <a:lnTo>
                      <a:pt x="21" y="19"/>
                    </a:lnTo>
                    <a:lnTo>
                      <a:pt x="18" y="22"/>
                    </a:lnTo>
                    <a:lnTo>
                      <a:pt x="14" y="27"/>
                    </a:lnTo>
                    <a:lnTo>
                      <a:pt x="11" y="32"/>
                    </a:lnTo>
                    <a:lnTo>
                      <a:pt x="10" y="3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1588"/>
              <p:cNvSpPr/>
              <p:nvPr/>
            </p:nvSpPr>
            <p:spPr>
              <a:xfrm>
                <a:off x="4969800" y="5133960"/>
                <a:ext cx="91440" cy="43560"/>
              </a:xfrm>
              <a:custGeom>
                <a:avLst/>
                <a:gdLst/>
                <a:ahLst/>
                <a:rect l="l" t="t" r="r" b="b"/>
                <a:pathLst>
                  <a:path w="878" h="527">
                    <a:moveTo>
                      <a:pt x="0" y="527"/>
                    </a:moveTo>
                    <a:lnTo>
                      <a:pt x="10" y="493"/>
                    </a:lnTo>
                    <a:lnTo>
                      <a:pt x="21" y="460"/>
                    </a:lnTo>
                    <a:lnTo>
                      <a:pt x="34" y="428"/>
                    </a:lnTo>
                    <a:lnTo>
                      <a:pt x="48" y="396"/>
                    </a:lnTo>
                    <a:lnTo>
                      <a:pt x="63" y="367"/>
                    </a:lnTo>
                    <a:lnTo>
                      <a:pt x="80" y="338"/>
                    </a:lnTo>
                    <a:lnTo>
                      <a:pt x="98" y="309"/>
                    </a:lnTo>
                    <a:lnTo>
                      <a:pt x="118" y="282"/>
                    </a:lnTo>
                    <a:lnTo>
                      <a:pt x="131" y="263"/>
                    </a:lnTo>
                    <a:lnTo>
                      <a:pt x="146" y="246"/>
                    </a:lnTo>
                    <a:lnTo>
                      <a:pt x="162" y="228"/>
                    </a:lnTo>
                    <a:lnTo>
                      <a:pt x="178" y="211"/>
                    </a:lnTo>
                    <a:lnTo>
                      <a:pt x="194" y="195"/>
                    </a:lnTo>
                    <a:lnTo>
                      <a:pt x="212" y="179"/>
                    </a:lnTo>
                    <a:lnTo>
                      <a:pt x="230" y="165"/>
                    </a:lnTo>
                    <a:lnTo>
                      <a:pt x="249" y="150"/>
                    </a:lnTo>
                    <a:lnTo>
                      <a:pt x="267" y="137"/>
                    </a:lnTo>
                    <a:lnTo>
                      <a:pt x="287" y="124"/>
                    </a:lnTo>
                    <a:lnTo>
                      <a:pt x="307" y="112"/>
                    </a:lnTo>
                    <a:lnTo>
                      <a:pt x="328" y="99"/>
                    </a:lnTo>
                    <a:lnTo>
                      <a:pt x="349" y="88"/>
                    </a:lnTo>
                    <a:lnTo>
                      <a:pt x="372" y="78"/>
                    </a:lnTo>
                    <a:lnTo>
                      <a:pt x="395" y="68"/>
                    </a:lnTo>
                    <a:lnTo>
                      <a:pt x="417" y="59"/>
                    </a:lnTo>
                    <a:lnTo>
                      <a:pt x="442" y="51"/>
                    </a:lnTo>
                    <a:lnTo>
                      <a:pt x="466" y="43"/>
                    </a:lnTo>
                    <a:lnTo>
                      <a:pt x="491" y="36"/>
                    </a:lnTo>
                    <a:lnTo>
                      <a:pt x="517" y="29"/>
                    </a:lnTo>
                    <a:lnTo>
                      <a:pt x="542" y="24"/>
                    </a:lnTo>
                    <a:lnTo>
                      <a:pt x="569" y="18"/>
                    </a:lnTo>
                    <a:lnTo>
                      <a:pt x="597" y="14"/>
                    </a:lnTo>
                    <a:lnTo>
                      <a:pt x="625" y="9"/>
                    </a:lnTo>
                    <a:lnTo>
                      <a:pt x="653" y="6"/>
                    </a:lnTo>
                    <a:lnTo>
                      <a:pt x="682" y="4"/>
                    </a:lnTo>
                    <a:lnTo>
                      <a:pt x="712" y="2"/>
                    </a:lnTo>
                    <a:lnTo>
                      <a:pt x="743" y="1"/>
                    </a:lnTo>
                    <a:lnTo>
                      <a:pt x="773" y="0"/>
                    </a:lnTo>
                    <a:lnTo>
                      <a:pt x="805" y="0"/>
                    </a:lnTo>
                    <a:lnTo>
                      <a:pt x="838" y="1"/>
                    </a:lnTo>
                    <a:lnTo>
                      <a:pt x="870" y="2"/>
                    </a:lnTo>
                    <a:lnTo>
                      <a:pt x="873" y="2"/>
                    </a:lnTo>
                    <a:lnTo>
                      <a:pt x="878" y="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1589"/>
              <p:cNvSpPr/>
              <p:nvPr/>
            </p:nvSpPr>
            <p:spPr>
              <a:xfrm>
                <a:off x="5062320" y="5149080"/>
                <a:ext cx="249840" cy="27720"/>
              </a:xfrm>
              <a:custGeom>
                <a:avLst/>
                <a:gdLst/>
                <a:ahLst/>
                <a:rect l="l" t="t" r="r" b="b"/>
                <a:pathLst>
                  <a:path w="2401" h="344">
                    <a:moveTo>
                      <a:pt x="2401" y="344"/>
                    </a:moveTo>
                    <a:lnTo>
                      <a:pt x="1332" y="192"/>
                    </a:lnTo>
                    <a:lnTo>
                      <a:pt x="188" y="2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1590"/>
              <p:cNvSpPr/>
              <p:nvPr/>
            </p:nvSpPr>
            <p:spPr>
              <a:xfrm>
                <a:off x="5090400" y="5123520"/>
                <a:ext cx="415800" cy="47880"/>
              </a:xfrm>
              <a:custGeom>
                <a:avLst/>
                <a:gdLst/>
                <a:ahLst/>
                <a:rect l="l" t="t" r="r" b="b"/>
                <a:pathLst>
                  <a:path w="4003" h="579">
                    <a:moveTo>
                      <a:pt x="0" y="0"/>
                    </a:moveTo>
                    <a:lnTo>
                      <a:pt x="445" y="115"/>
                    </a:lnTo>
                    <a:lnTo>
                      <a:pt x="2178" y="342"/>
                    </a:lnTo>
                    <a:lnTo>
                      <a:pt x="2181" y="342"/>
                    </a:lnTo>
                    <a:lnTo>
                      <a:pt x="4003" y="57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1591"/>
              <p:cNvSpPr/>
              <p:nvPr/>
            </p:nvSpPr>
            <p:spPr>
              <a:xfrm>
                <a:off x="5312160" y="5177160"/>
                <a:ext cx="269280" cy="31320"/>
              </a:xfrm>
              <a:custGeom>
                <a:avLst/>
                <a:gdLst/>
                <a:ahLst/>
                <a:rect l="l" t="t" r="r" b="b"/>
                <a:pathLst>
                  <a:path w="2586" h="374">
                    <a:moveTo>
                      <a:pt x="2586" y="374"/>
                    </a:moveTo>
                    <a:lnTo>
                      <a:pt x="2581" y="374"/>
                    </a:lnTo>
                    <a:lnTo>
                      <a:pt x="2429" y="348"/>
                    </a:lnTo>
                    <a:lnTo>
                      <a:pt x="206" y="3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1592"/>
              <p:cNvSpPr/>
              <p:nvPr/>
            </p:nvSpPr>
            <p:spPr>
              <a:xfrm>
                <a:off x="5311080" y="5177160"/>
                <a:ext cx="1080" cy="86040"/>
              </a:xfrm>
              <a:custGeom>
                <a:avLst/>
                <a:gdLst/>
                <a:ahLst/>
                <a:rect l="l" t="t" r="r" b="b"/>
                <a:pathLst>
                  <a:path w="18" h="1040">
                    <a:moveTo>
                      <a:pt x="0" y="1040"/>
                    </a:moveTo>
                    <a:lnTo>
                      <a:pt x="18" y="0"/>
                    </a:lnTo>
                    <a:lnTo>
                      <a:pt x="1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593"/>
              <p:cNvSpPr/>
              <p:nvPr/>
            </p:nvSpPr>
            <p:spPr>
              <a:xfrm>
                <a:off x="5090400" y="5123520"/>
                <a:ext cx="379440" cy="40320"/>
              </a:xfrm>
              <a:custGeom>
                <a:avLst/>
                <a:gdLst/>
                <a:ahLst/>
                <a:rect l="l" t="t" r="r" b="b"/>
                <a:pathLst>
                  <a:path w="3651" h="494">
                    <a:moveTo>
                      <a:pt x="0" y="0"/>
                    </a:moveTo>
                    <a:lnTo>
                      <a:pt x="2184" y="295"/>
                    </a:lnTo>
                    <a:lnTo>
                      <a:pt x="3651" y="49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594"/>
              <p:cNvSpPr/>
              <p:nvPr/>
            </p:nvSpPr>
            <p:spPr>
              <a:xfrm>
                <a:off x="4962600" y="5154840"/>
                <a:ext cx="14400" cy="21240"/>
              </a:xfrm>
              <a:custGeom>
                <a:avLst/>
                <a:gdLst/>
                <a:ahLst/>
                <a:rect l="l" t="t" r="r" b="b"/>
                <a:pathLst>
                  <a:path w="142" h="252">
                    <a:moveTo>
                      <a:pt x="0" y="252"/>
                    </a:moveTo>
                    <a:lnTo>
                      <a:pt x="16" y="218"/>
                    </a:lnTo>
                    <a:lnTo>
                      <a:pt x="31" y="183"/>
                    </a:lnTo>
                    <a:lnTo>
                      <a:pt x="48" y="150"/>
                    </a:lnTo>
                    <a:lnTo>
                      <a:pt x="65" y="119"/>
                    </a:lnTo>
                    <a:lnTo>
                      <a:pt x="84" y="88"/>
                    </a:lnTo>
                    <a:lnTo>
                      <a:pt x="103" y="58"/>
                    </a:lnTo>
                    <a:lnTo>
                      <a:pt x="122" y="29"/>
                    </a:lnTo>
                    <a:lnTo>
                      <a:pt x="14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1595"/>
              <p:cNvSpPr/>
              <p:nvPr/>
            </p:nvSpPr>
            <p:spPr>
              <a:xfrm flipV="1">
                <a:off x="4977000" y="515484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596"/>
              <p:cNvSpPr/>
              <p:nvPr/>
            </p:nvSpPr>
            <p:spPr>
              <a:xfrm>
                <a:off x="4977000" y="5126400"/>
                <a:ext cx="83160" cy="28080"/>
              </a:xfrm>
              <a:custGeom>
                <a:avLst/>
                <a:gdLst/>
                <a:ahLst/>
                <a:rect l="l" t="t" r="r" b="b"/>
                <a:pathLst>
                  <a:path w="799" h="344">
                    <a:moveTo>
                      <a:pt x="0" y="344"/>
                    </a:moveTo>
                    <a:lnTo>
                      <a:pt x="0" y="344"/>
                    </a:lnTo>
                    <a:lnTo>
                      <a:pt x="3" y="341"/>
                    </a:lnTo>
                    <a:lnTo>
                      <a:pt x="21" y="318"/>
                    </a:lnTo>
                    <a:lnTo>
                      <a:pt x="40" y="295"/>
                    </a:lnTo>
                    <a:lnTo>
                      <a:pt x="59" y="273"/>
                    </a:lnTo>
                    <a:lnTo>
                      <a:pt x="78" y="253"/>
                    </a:lnTo>
                    <a:lnTo>
                      <a:pt x="98" y="233"/>
                    </a:lnTo>
                    <a:lnTo>
                      <a:pt x="118" y="213"/>
                    </a:lnTo>
                    <a:lnTo>
                      <a:pt x="139" y="196"/>
                    </a:lnTo>
                    <a:lnTo>
                      <a:pt x="160" y="178"/>
                    </a:lnTo>
                    <a:lnTo>
                      <a:pt x="181" y="161"/>
                    </a:lnTo>
                    <a:lnTo>
                      <a:pt x="203" y="146"/>
                    </a:lnTo>
                    <a:lnTo>
                      <a:pt x="225" y="131"/>
                    </a:lnTo>
                    <a:lnTo>
                      <a:pt x="249" y="117"/>
                    </a:lnTo>
                    <a:lnTo>
                      <a:pt x="272" y="103"/>
                    </a:lnTo>
                    <a:lnTo>
                      <a:pt x="295" y="91"/>
                    </a:lnTo>
                    <a:lnTo>
                      <a:pt x="320" y="79"/>
                    </a:lnTo>
                    <a:lnTo>
                      <a:pt x="344" y="68"/>
                    </a:lnTo>
                    <a:lnTo>
                      <a:pt x="369" y="58"/>
                    </a:lnTo>
                    <a:lnTo>
                      <a:pt x="395" y="49"/>
                    </a:lnTo>
                    <a:lnTo>
                      <a:pt x="420" y="40"/>
                    </a:lnTo>
                    <a:lnTo>
                      <a:pt x="447" y="33"/>
                    </a:lnTo>
                    <a:lnTo>
                      <a:pt x="474" y="26"/>
                    </a:lnTo>
                    <a:lnTo>
                      <a:pt x="501" y="20"/>
                    </a:lnTo>
                    <a:lnTo>
                      <a:pt x="529" y="15"/>
                    </a:lnTo>
                    <a:lnTo>
                      <a:pt x="557" y="10"/>
                    </a:lnTo>
                    <a:lnTo>
                      <a:pt x="586" y="7"/>
                    </a:lnTo>
                    <a:lnTo>
                      <a:pt x="615" y="4"/>
                    </a:lnTo>
                    <a:lnTo>
                      <a:pt x="645" y="1"/>
                    </a:lnTo>
                    <a:lnTo>
                      <a:pt x="675" y="0"/>
                    </a:lnTo>
                    <a:lnTo>
                      <a:pt x="706" y="0"/>
                    </a:lnTo>
                    <a:lnTo>
                      <a:pt x="736" y="0"/>
                    </a:lnTo>
                    <a:lnTo>
                      <a:pt x="768" y="1"/>
                    </a:lnTo>
                    <a:lnTo>
                      <a:pt x="799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597"/>
              <p:cNvSpPr/>
              <p:nvPr/>
            </p:nvSpPr>
            <p:spPr>
              <a:xfrm>
                <a:off x="5298480" y="52531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97" h="465">
                    <a:moveTo>
                      <a:pt x="387" y="0"/>
                    </a:moveTo>
                    <a:lnTo>
                      <a:pt x="397" y="199"/>
                    </a:lnTo>
                    <a:lnTo>
                      <a:pt x="0" y="46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1598"/>
              <p:cNvSpPr/>
              <p:nvPr/>
            </p:nvSpPr>
            <p:spPr>
              <a:xfrm>
                <a:off x="5261040" y="522108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28" h="657">
                    <a:moveTo>
                      <a:pt x="0" y="657"/>
                    </a:moveTo>
                    <a:lnTo>
                      <a:pt x="224" y="473"/>
                    </a:lnTo>
                    <a:lnTo>
                      <a:pt x="22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1599"/>
              <p:cNvSpPr/>
              <p:nvPr/>
            </p:nvSpPr>
            <p:spPr>
              <a:xfrm>
                <a:off x="5259960" y="5221080"/>
                <a:ext cx="24840" cy="53640"/>
              </a:xfrm>
              <a:custGeom>
                <a:avLst/>
                <a:gdLst/>
                <a:ahLst/>
                <a:rect l="l" t="t" r="r" b="b"/>
                <a:pathLst>
                  <a:path w="239" h="657">
                    <a:moveTo>
                      <a:pt x="239" y="0"/>
                    </a:moveTo>
                    <a:lnTo>
                      <a:pt x="221" y="16"/>
                    </a:lnTo>
                    <a:lnTo>
                      <a:pt x="204" y="32"/>
                    </a:lnTo>
                    <a:lnTo>
                      <a:pt x="188" y="47"/>
                    </a:lnTo>
                    <a:lnTo>
                      <a:pt x="171" y="64"/>
                    </a:lnTo>
                    <a:lnTo>
                      <a:pt x="157" y="80"/>
                    </a:lnTo>
                    <a:lnTo>
                      <a:pt x="142" y="97"/>
                    </a:lnTo>
                    <a:lnTo>
                      <a:pt x="128" y="115"/>
                    </a:lnTo>
                    <a:lnTo>
                      <a:pt x="115" y="131"/>
                    </a:lnTo>
                    <a:lnTo>
                      <a:pt x="103" y="150"/>
                    </a:lnTo>
                    <a:lnTo>
                      <a:pt x="91" y="168"/>
                    </a:lnTo>
                    <a:lnTo>
                      <a:pt x="80" y="187"/>
                    </a:lnTo>
                    <a:lnTo>
                      <a:pt x="70" y="206"/>
                    </a:lnTo>
                    <a:lnTo>
                      <a:pt x="60" y="226"/>
                    </a:lnTo>
                    <a:lnTo>
                      <a:pt x="51" y="244"/>
                    </a:lnTo>
                    <a:lnTo>
                      <a:pt x="43" y="264"/>
                    </a:lnTo>
                    <a:lnTo>
                      <a:pt x="36" y="285"/>
                    </a:lnTo>
                    <a:lnTo>
                      <a:pt x="29" y="305"/>
                    </a:lnTo>
                    <a:lnTo>
                      <a:pt x="23" y="326"/>
                    </a:lnTo>
                    <a:lnTo>
                      <a:pt x="18" y="349"/>
                    </a:lnTo>
                    <a:lnTo>
                      <a:pt x="13" y="370"/>
                    </a:lnTo>
                    <a:lnTo>
                      <a:pt x="9" y="392"/>
                    </a:lnTo>
                    <a:lnTo>
                      <a:pt x="6" y="414"/>
                    </a:lnTo>
                    <a:lnTo>
                      <a:pt x="3" y="437"/>
                    </a:lnTo>
                    <a:lnTo>
                      <a:pt x="2" y="461"/>
                    </a:lnTo>
                    <a:lnTo>
                      <a:pt x="0" y="484"/>
                    </a:lnTo>
                    <a:lnTo>
                      <a:pt x="0" y="507"/>
                    </a:lnTo>
                    <a:lnTo>
                      <a:pt x="0" y="532"/>
                    </a:lnTo>
                    <a:lnTo>
                      <a:pt x="1" y="556"/>
                    </a:lnTo>
                    <a:lnTo>
                      <a:pt x="2" y="582"/>
                    </a:lnTo>
                    <a:lnTo>
                      <a:pt x="6" y="606"/>
                    </a:lnTo>
                    <a:lnTo>
                      <a:pt x="8" y="631"/>
                    </a:lnTo>
                    <a:lnTo>
                      <a:pt x="11" y="65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1600"/>
              <p:cNvSpPr/>
              <p:nvPr/>
            </p:nvSpPr>
            <p:spPr>
              <a:xfrm>
                <a:off x="5198760" y="5212080"/>
                <a:ext cx="9360" cy="5760"/>
              </a:xfrm>
              <a:custGeom>
                <a:avLst/>
                <a:gdLst/>
                <a:ahLst/>
                <a:rect l="l" t="t" r="r" b="b"/>
                <a:pathLst>
                  <a:path w="84" h="75">
                    <a:moveTo>
                      <a:pt x="0" y="75"/>
                    </a:moveTo>
                    <a:lnTo>
                      <a:pt x="19" y="56"/>
                    </a:lnTo>
                    <a:lnTo>
                      <a:pt x="40" y="37"/>
                    </a:lnTo>
                    <a:lnTo>
                      <a:pt x="61" y="19"/>
                    </a:lnTo>
                    <a:lnTo>
                      <a:pt x="8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1601"/>
              <p:cNvSpPr/>
              <p:nvPr/>
            </p:nvSpPr>
            <p:spPr>
              <a:xfrm>
                <a:off x="5208120" y="5212080"/>
                <a:ext cx="76680" cy="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1602"/>
              <p:cNvSpPr/>
              <p:nvPr/>
            </p:nvSpPr>
            <p:spPr>
              <a:xfrm>
                <a:off x="5285160" y="5221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3" y="0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1603"/>
              <p:cNvSpPr/>
              <p:nvPr/>
            </p:nvSpPr>
            <p:spPr>
              <a:xfrm>
                <a:off x="5261040" y="527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Line 1604"/>
              <p:cNvSpPr/>
              <p:nvPr/>
            </p:nvSpPr>
            <p:spPr>
              <a:xfrm flipH="1" flipV="1">
                <a:off x="5181120" y="5261040"/>
                <a:ext cx="799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1605"/>
              <p:cNvSpPr/>
              <p:nvPr/>
            </p:nvSpPr>
            <p:spPr>
              <a:xfrm>
                <a:off x="5181120" y="523908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9" h="270">
                    <a:moveTo>
                      <a:pt x="1" y="270"/>
                    </a:moveTo>
                    <a:lnTo>
                      <a:pt x="0" y="233"/>
                    </a:lnTo>
                    <a:lnTo>
                      <a:pt x="1" y="198"/>
                    </a:lnTo>
                    <a:lnTo>
                      <a:pt x="2" y="162"/>
                    </a:lnTo>
                    <a:lnTo>
                      <a:pt x="5" y="129"/>
                    </a:lnTo>
                    <a:lnTo>
                      <a:pt x="10" y="96"/>
                    </a:lnTo>
                    <a:lnTo>
                      <a:pt x="15" y="63"/>
                    </a:lnTo>
                    <a:lnTo>
                      <a:pt x="22" y="32"/>
                    </a:lnTo>
                    <a:lnTo>
                      <a:pt x="2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1606"/>
              <p:cNvSpPr/>
              <p:nvPr/>
            </p:nvSpPr>
            <p:spPr>
              <a:xfrm>
                <a:off x="5245560" y="52650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631" h="785">
                    <a:moveTo>
                      <a:pt x="0" y="785"/>
                    </a:moveTo>
                    <a:lnTo>
                      <a:pt x="42" y="426"/>
                    </a:lnTo>
                    <a:lnTo>
                      <a:pt x="63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Line 1607"/>
              <p:cNvSpPr/>
              <p:nvPr/>
            </p:nvSpPr>
            <p:spPr>
              <a:xfrm flipH="1">
                <a:off x="5528520" y="5284800"/>
                <a:ext cx="72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1608"/>
              <p:cNvSpPr/>
              <p:nvPr/>
            </p:nvSpPr>
            <p:spPr>
              <a:xfrm>
                <a:off x="5300640" y="5292000"/>
                <a:ext cx="227880" cy="24840"/>
              </a:xfrm>
              <a:custGeom>
                <a:avLst/>
                <a:gdLst/>
                <a:ahLst/>
                <a:rect l="l" t="t" r="r" b="b"/>
                <a:pathLst>
                  <a:path w="2194" h="303">
                    <a:moveTo>
                      <a:pt x="2194" y="0"/>
                    </a:moveTo>
                    <a:lnTo>
                      <a:pt x="2142" y="18"/>
                    </a:lnTo>
                    <a:lnTo>
                      <a:pt x="2091" y="35"/>
                    </a:lnTo>
                    <a:lnTo>
                      <a:pt x="2041" y="50"/>
                    </a:lnTo>
                    <a:lnTo>
                      <a:pt x="1991" y="67"/>
                    </a:lnTo>
                    <a:lnTo>
                      <a:pt x="1943" y="82"/>
                    </a:lnTo>
                    <a:lnTo>
                      <a:pt x="1895" y="97"/>
                    </a:lnTo>
                    <a:lnTo>
                      <a:pt x="1847" y="111"/>
                    </a:lnTo>
                    <a:lnTo>
                      <a:pt x="1799" y="124"/>
                    </a:lnTo>
                    <a:lnTo>
                      <a:pt x="1737" y="142"/>
                    </a:lnTo>
                    <a:lnTo>
                      <a:pt x="1676" y="158"/>
                    </a:lnTo>
                    <a:lnTo>
                      <a:pt x="1615" y="173"/>
                    </a:lnTo>
                    <a:lnTo>
                      <a:pt x="1554" y="188"/>
                    </a:lnTo>
                    <a:lnTo>
                      <a:pt x="1493" y="202"/>
                    </a:lnTo>
                    <a:lnTo>
                      <a:pt x="1433" y="214"/>
                    </a:lnTo>
                    <a:lnTo>
                      <a:pt x="1373" y="226"/>
                    </a:lnTo>
                    <a:lnTo>
                      <a:pt x="1314" y="237"/>
                    </a:lnTo>
                    <a:lnTo>
                      <a:pt x="1255" y="247"/>
                    </a:lnTo>
                    <a:lnTo>
                      <a:pt x="1196" y="257"/>
                    </a:lnTo>
                    <a:lnTo>
                      <a:pt x="1138" y="265"/>
                    </a:lnTo>
                    <a:lnTo>
                      <a:pt x="1079" y="273"/>
                    </a:lnTo>
                    <a:lnTo>
                      <a:pt x="1022" y="280"/>
                    </a:lnTo>
                    <a:lnTo>
                      <a:pt x="965" y="286"/>
                    </a:lnTo>
                    <a:lnTo>
                      <a:pt x="909" y="291"/>
                    </a:lnTo>
                    <a:lnTo>
                      <a:pt x="852" y="295"/>
                    </a:lnTo>
                    <a:lnTo>
                      <a:pt x="795" y="298"/>
                    </a:lnTo>
                    <a:lnTo>
                      <a:pt x="740" y="301"/>
                    </a:lnTo>
                    <a:lnTo>
                      <a:pt x="685" y="302"/>
                    </a:lnTo>
                    <a:lnTo>
                      <a:pt x="630" y="303"/>
                    </a:lnTo>
                    <a:lnTo>
                      <a:pt x="575" y="302"/>
                    </a:lnTo>
                    <a:lnTo>
                      <a:pt x="521" y="301"/>
                    </a:lnTo>
                    <a:lnTo>
                      <a:pt x="467" y="300"/>
                    </a:lnTo>
                    <a:lnTo>
                      <a:pt x="414" y="296"/>
                    </a:lnTo>
                    <a:lnTo>
                      <a:pt x="361" y="293"/>
                    </a:lnTo>
                    <a:lnTo>
                      <a:pt x="308" y="287"/>
                    </a:lnTo>
                    <a:lnTo>
                      <a:pt x="255" y="282"/>
                    </a:lnTo>
                    <a:lnTo>
                      <a:pt x="203" y="276"/>
                    </a:lnTo>
                    <a:lnTo>
                      <a:pt x="152" y="269"/>
                    </a:lnTo>
                    <a:lnTo>
                      <a:pt x="101" y="261"/>
                    </a:lnTo>
                    <a:lnTo>
                      <a:pt x="50" y="252"/>
                    </a:lnTo>
                    <a:lnTo>
                      <a:pt x="0" y="2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1609"/>
              <p:cNvSpPr/>
              <p:nvPr/>
            </p:nvSpPr>
            <p:spPr>
              <a:xfrm flipH="1">
                <a:off x="5299560" y="531180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Line 1610"/>
              <p:cNvSpPr/>
              <p:nvPr/>
            </p:nvSpPr>
            <p:spPr>
              <a:xfrm flipH="1">
                <a:off x="5299560" y="5291280"/>
                <a:ext cx="72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1611"/>
              <p:cNvSpPr/>
              <p:nvPr/>
            </p:nvSpPr>
            <p:spPr>
              <a:xfrm>
                <a:off x="5245560" y="5311800"/>
                <a:ext cx="54000" cy="18000"/>
              </a:xfrm>
              <a:custGeom>
                <a:avLst/>
                <a:gdLst/>
                <a:ahLst/>
                <a:rect l="l" t="t" r="r" b="b"/>
                <a:pathLst>
                  <a:path w="525" h="213">
                    <a:moveTo>
                      <a:pt x="525" y="0"/>
                    </a:moveTo>
                    <a:lnTo>
                      <a:pt x="525" y="7"/>
                    </a:lnTo>
                    <a:lnTo>
                      <a:pt x="0" y="21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1612"/>
              <p:cNvSpPr/>
              <p:nvPr/>
            </p:nvSpPr>
            <p:spPr>
              <a:xfrm>
                <a:off x="5298480" y="529128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2" y="2"/>
                    </a:lnTo>
                    <a:lnTo>
                      <a:pt x="5" y="3"/>
                    </a:lnTo>
                    <a:lnTo>
                      <a:pt x="8" y="5"/>
                    </a:lnTo>
                    <a:lnTo>
                      <a:pt x="11" y="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Line 1613"/>
              <p:cNvSpPr/>
              <p:nvPr/>
            </p:nvSpPr>
            <p:spPr>
              <a:xfrm flipV="1">
                <a:off x="5298480" y="5285520"/>
                <a:ext cx="1440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Line 1614"/>
              <p:cNvSpPr/>
              <p:nvPr/>
            </p:nvSpPr>
            <p:spPr>
              <a:xfrm flipH="1">
                <a:off x="5141160" y="5239080"/>
                <a:ext cx="4212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Line 1615"/>
              <p:cNvSpPr/>
              <p:nvPr/>
            </p:nvSpPr>
            <p:spPr>
              <a:xfrm flipV="1">
                <a:off x="5123880" y="5268240"/>
                <a:ext cx="176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1616"/>
              <p:cNvSpPr/>
              <p:nvPr/>
            </p:nvSpPr>
            <p:spPr>
              <a:xfrm flipH="1" flipV="1">
                <a:off x="5116320" y="5303160"/>
                <a:ext cx="154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1617"/>
              <p:cNvSpPr/>
              <p:nvPr/>
            </p:nvSpPr>
            <p:spPr>
              <a:xfrm>
                <a:off x="5115240" y="5283000"/>
                <a:ext cx="5040" cy="20520"/>
              </a:xfrm>
              <a:custGeom>
                <a:avLst/>
                <a:gdLst/>
                <a:ahLst/>
                <a:rect l="l" t="t" r="r" b="b"/>
                <a:pathLst>
                  <a:path w="42" h="245">
                    <a:moveTo>
                      <a:pt x="6" y="245"/>
                    </a:moveTo>
                    <a:lnTo>
                      <a:pt x="4" y="229"/>
                    </a:lnTo>
                    <a:lnTo>
                      <a:pt x="2" y="214"/>
                    </a:lnTo>
                    <a:lnTo>
                      <a:pt x="0" y="199"/>
                    </a:lnTo>
                    <a:lnTo>
                      <a:pt x="0" y="184"/>
                    </a:lnTo>
                    <a:lnTo>
                      <a:pt x="0" y="168"/>
                    </a:lnTo>
                    <a:lnTo>
                      <a:pt x="2" y="153"/>
                    </a:lnTo>
                    <a:lnTo>
                      <a:pt x="3" y="137"/>
                    </a:lnTo>
                    <a:lnTo>
                      <a:pt x="5" y="122"/>
                    </a:lnTo>
                    <a:lnTo>
                      <a:pt x="7" y="107"/>
                    </a:lnTo>
                    <a:lnTo>
                      <a:pt x="10" y="92"/>
                    </a:lnTo>
                    <a:lnTo>
                      <a:pt x="15" y="76"/>
                    </a:lnTo>
                    <a:lnTo>
                      <a:pt x="18" y="61"/>
                    </a:lnTo>
                    <a:lnTo>
                      <a:pt x="29" y="31"/>
                    </a:lnTo>
                    <a:lnTo>
                      <a:pt x="4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1618"/>
              <p:cNvSpPr/>
              <p:nvPr/>
            </p:nvSpPr>
            <p:spPr>
              <a:xfrm flipV="1">
                <a:off x="5120640" y="5281200"/>
                <a:ext cx="3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1619"/>
              <p:cNvSpPr/>
              <p:nvPr/>
            </p:nvSpPr>
            <p:spPr>
              <a:xfrm>
                <a:off x="5184000" y="5217840"/>
                <a:ext cx="14400" cy="21240"/>
              </a:xfrm>
              <a:custGeom>
                <a:avLst/>
                <a:gdLst/>
                <a:ahLst/>
                <a:rect l="l" t="t" r="r" b="b"/>
                <a:pathLst>
                  <a:path w="146" h="262">
                    <a:moveTo>
                      <a:pt x="0" y="262"/>
                    </a:moveTo>
                    <a:lnTo>
                      <a:pt x="3" y="255"/>
                    </a:lnTo>
                    <a:lnTo>
                      <a:pt x="5" y="246"/>
                    </a:lnTo>
                    <a:lnTo>
                      <a:pt x="7" y="237"/>
                    </a:lnTo>
                    <a:lnTo>
                      <a:pt x="11" y="227"/>
                    </a:lnTo>
                    <a:lnTo>
                      <a:pt x="14" y="214"/>
                    </a:lnTo>
                    <a:lnTo>
                      <a:pt x="19" y="200"/>
                    </a:lnTo>
                    <a:lnTo>
                      <a:pt x="24" y="187"/>
                    </a:lnTo>
                    <a:lnTo>
                      <a:pt x="32" y="174"/>
                    </a:lnTo>
                    <a:lnTo>
                      <a:pt x="43" y="149"/>
                    </a:lnTo>
                    <a:lnTo>
                      <a:pt x="55" y="126"/>
                    </a:lnTo>
                    <a:lnTo>
                      <a:pt x="68" y="104"/>
                    </a:lnTo>
                    <a:lnTo>
                      <a:pt x="82" y="82"/>
                    </a:lnTo>
                    <a:lnTo>
                      <a:pt x="97" y="60"/>
                    </a:lnTo>
                    <a:lnTo>
                      <a:pt x="113" y="38"/>
                    </a:lnTo>
                    <a:lnTo>
                      <a:pt x="128" y="19"/>
                    </a:lnTo>
                    <a:lnTo>
                      <a:pt x="14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1620"/>
              <p:cNvSpPr/>
              <p:nvPr/>
            </p:nvSpPr>
            <p:spPr>
              <a:xfrm flipV="1">
                <a:off x="5097600" y="522756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1621"/>
              <p:cNvSpPr/>
              <p:nvPr/>
            </p:nvSpPr>
            <p:spPr>
              <a:xfrm>
                <a:off x="5098680" y="5224320"/>
                <a:ext cx="720" cy="288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0" y="40"/>
                    </a:moveTo>
                    <a:lnTo>
                      <a:pt x="2" y="30"/>
                    </a:lnTo>
                    <a:lnTo>
                      <a:pt x="5" y="20"/>
                    </a:lnTo>
                    <a:lnTo>
                      <a:pt x="8" y="11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1622"/>
              <p:cNvSpPr/>
              <p:nvPr/>
            </p:nvSpPr>
            <p:spPr>
              <a:xfrm>
                <a:off x="5090400" y="525060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321" h="372">
                    <a:moveTo>
                      <a:pt x="321" y="372"/>
                    </a:moveTo>
                    <a:lnTo>
                      <a:pt x="282" y="353"/>
                    </a:lnTo>
                    <a:lnTo>
                      <a:pt x="245" y="335"/>
                    </a:lnTo>
                    <a:lnTo>
                      <a:pt x="212" y="315"/>
                    </a:lnTo>
                    <a:lnTo>
                      <a:pt x="181" y="295"/>
                    </a:lnTo>
                    <a:lnTo>
                      <a:pt x="152" y="274"/>
                    </a:lnTo>
                    <a:lnTo>
                      <a:pt x="125" y="253"/>
                    </a:lnTo>
                    <a:lnTo>
                      <a:pt x="113" y="241"/>
                    </a:lnTo>
                    <a:lnTo>
                      <a:pt x="102" y="230"/>
                    </a:lnTo>
                    <a:lnTo>
                      <a:pt x="91" y="218"/>
                    </a:lnTo>
                    <a:lnTo>
                      <a:pt x="80" y="207"/>
                    </a:lnTo>
                    <a:lnTo>
                      <a:pt x="71" y="195"/>
                    </a:lnTo>
                    <a:lnTo>
                      <a:pt x="62" y="184"/>
                    </a:lnTo>
                    <a:lnTo>
                      <a:pt x="53" y="172"/>
                    </a:lnTo>
                    <a:lnTo>
                      <a:pt x="46" y="159"/>
                    </a:lnTo>
                    <a:lnTo>
                      <a:pt x="38" y="146"/>
                    </a:lnTo>
                    <a:lnTo>
                      <a:pt x="32" y="134"/>
                    </a:lnTo>
                    <a:lnTo>
                      <a:pt x="26" y="122"/>
                    </a:lnTo>
                    <a:lnTo>
                      <a:pt x="20" y="108"/>
                    </a:lnTo>
                    <a:lnTo>
                      <a:pt x="16" y="95"/>
                    </a:lnTo>
                    <a:lnTo>
                      <a:pt x="12" y="82"/>
                    </a:lnTo>
                    <a:lnTo>
                      <a:pt x="8" y="69"/>
                    </a:lnTo>
                    <a:lnTo>
                      <a:pt x="6" y="55"/>
                    </a:lnTo>
                    <a:lnTo>
                      <a:pt x="3" y="42"/>
                    </a:lnTo>
                    <a:lnTo>
                      <a:pt x="2" y="27"/>
                    </a:lnTo>
                    <a:lnTo>
                      <a:pt x="1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1623"/>
              <p:cNvSpPr/>
              <p:nvPr/>
            </p:nvSpPr>
            <p:spPr>
              <a:xfrm flipV="1">
                <a:off x="5090400" y="5227560"/>
                <a:ext cx="6840" cy="23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1624"/>
              <p:cNvSpPr/>
              <p:nvPr/>
            </p:nvSpPr>
            <p:spPr>
              <a:xfrm>
                <a:off x="4986360" y="5288040"/>
                <a:ext cx="158040" cy="28800"/>
              </a:xfrm>
              <a:custGeom>
                <a:avLst/>
                <a:gdLst/>
                <a:ahLst/>
                <a:rect l="l" t="t" r="r" b="b"/>
                <a:pathLst>
                  <a:path w="1527" h="343">
                    <a:moveTo>
                      <a:pt x="0" y="0"/>
                    </a:moveTo>
                    <a:lnTo>
                      <a:pt x="28" y="27"/>
                    </a:lnTo>
                    <a:lnTo>
                      <a:pt x="58" y="54"/>
                    </a:lnTo>
                    <a:lnTo>
                      <a:pt x="87" y="78"/>
                    </a:lnTo>
                    <a:lnTo>
                      <a:pt x="118" y="103"/>
                    </a:lnTo>
                    <a:lnTo>
                      <a:pt x="149" y="126"/>
                    </a:lnTo>
                    <a:lnTo>
                      <a:pt x="181" y="147"/>
                    </a:lnTo>
                    <a:lnTo>
                      <a:pt x="213" y="168"/>
                    </a:lnTo>
                    <a:lnTo>
                      <a:pt x="247" y="187"/>
                    </a:lnTo>
                    <a:lnTo>
                      <a:pt x="281" y="206"/>
                    </a:lnTo>
                    <a:lnTo>
                      <a:pt x="317" y="222"/>
                    </a:lnTo>
                    <a:lnTo>
                      <a:pt x="352" y="239"/>
                    </a:lnTo>
                    <a:lnTo>
                      <a:pt x="389" y="254"/>
                    </a:lnTo>
                    <a:lnTo>
                      <a:pt x="425" y="267"/>
                    </a:lnTo>
                    <a:lnTo>
                      <a:pt x="463" y="280"/>
                    </a:lnTo>
                    <a:lnTo>
                      <a:pt x="502" y="291"/>
                    </a:lnTo>
                    <a:lnTo>
                      <a:pt x="541" y="301"/>
                    </a:lnTo>
                    <a:lnTo>
                      <a:pt x="581" y="310"/>
                    </a:lnTo>
                    <a:lnTo>
                      <a:pt x="622" y="319"/>
                    </a:lnTo>
                    <a:lnTo>
                      <a:pt x="663" y="326"/>
                    </a:lnTo>
                    <a:lnTo>
                      <a:pt x="705" y="331"/>
                    </a:lnTo>
                    <a:lnTo>
                      <a:pt x="748" y="336"/>
                    </a:lnTo>
                    <a:lnTo>
                      <a:pt x="791" y="339"/>
                    </a:lnTo>
                    <a:lnTo>
                      <a:pt x="836" y="342"/>
                    </a:lnTo>
                    <a:lnTo>
                      <a:pt x="881" y="343"/>
                    </a:lnTo>
                    <a:lnTo>
                      <a:pt x="927" y="343"/>
                    </a:lnTo>
                    <a:lnTo>
                      <a:pt x="973" y="342"/>
                    </a:lnTo>
                    <a:lnTo>
                      <a:pt x="1021" y="340"/>
                    </a:lnTo>
                    <a:lnTo>
                      <a:pt x="1069" y="337"/>
                    </a:lnTo>
                    <a:lnTo>
                      <a:pt x="1118" y="332"/>
                    </a:lnTo>
                    <a:lnTo>
                      <a:pt x="1166" y="327"/>
                    </a:lnTo>
                    <a:lnTo>
                      <a:pt x="1217" y="320"/>
                    </a:lnTo>
                    <a:lnTo>
                      <a:pt x="1268" y="312"/>
                    </a:lnTo>
                    <a:lnTo>
                      <a:pt x="1271" y="312"/>
                    </a:lnTo>
                    <a:lnTo>
                      <a:pt x="1272" y="312"/>
                    </a:lnTo>
                    <a:lnTo>
                      <a:pt x="1308" y="305"/>
                    </a:lnTo>
                    <a:lnTo>
                      <a:pt x="1344" y="298"/>
                    </a:lnTo>
                    <a:lnTo>
                      <a:pt x="1380" y="291"/>
                    </a:lnTo>
                    <a:lnTo>
                      <a:pt x="1417" y="285"/>
                    </a:lnTo>
                    <a:lnTo>
                      <a:pt x="1417" y="285"/>
                    </a:lnTo>
                    <a:lnTo>
                      <a:pt x="1420" y="285"/>
                    </a:lnTo>
                    <a:lnTo>
                      <a:pt x="1447" y="277"/>
                    </a:lnTo>
                    <a:lnTo>
                      <a:pt x="1474" y="270"/>
                    </a:lnTo>
                    <a:lnTo>
                      <a:pt x="1500" y="264"/>
                    </a:lnTo>
                    <a:lnTo>
                      <a:pt x="1527" y="25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1625"/>
              <p:cNvSpPr/>
              <p:nvPr/>
            </p:nvSpPr>
            <p:spPr>
              <a:xfrm>
                <a:off x="4986360" y="5282280"/>
                <a:ext cx="145440" cy="29520"/>
              </a:xfrm>
              <a:custGeom>
                <a:avLst/>
                <a:gdLst/>
                <a:ahLst/>
                <a:rect l="l" t="t" r="r" b="b"/>
                <a:pathLst>
                  <a:path w="1406" h="355">
                    <a:moveTo>
                      <a:pt x="1406" y="306"/>
                    </a:moveTo>
                    <a:lnTo>
                      <a:pt x="1372" y="313"/>
                    </a:lnTo>
                    <a:lnTo>
                      <a:pt x="1335" y="320"/>
                    </a:lnTo>
                    <a:lnTo>
                      <a:pt x="1300" y="325"/>
                    </a:lnTo>
                    <a:lnTo>
                      <a:pt x="1264" y="331"/>
                    </a:lnTo>
                    <a:lnTo>
                      <a:pt x="1264" y="331"/>
                    </a:lnTo>
                    <a:lnTo>
                      <a:pt x="1261" y="331"/>
                    </a:lnTo>
                    <a:lnTo>
                      <a:pt x="1212" y="337"/>
                    </a:lnTo>
                    <a:lnTo>
                      <a:pt x="1163" y="343"/>
                    </a:lnTo>
                    <a:lnTo>
                      <a:pt x="1115" y="347"/>
                    </a:lnTo>
                    <a:lnTo>
                      <a:pt x="1069" y="351"/>
                    </a:lnTo>
                    <a:lnTo>
                      <a:pt x="1022" y="354"/>
                    </a:lnTo>
                    <a:lnTo>
                      <a:pt x="977" y="355"/>
                    </a:lnTo>
                    <a:lnTo>
                      <a:pt x="931" y="355"/>
                    </a:lnTo>
                    <a:lnTo>
                      <a:pt x="887" y="354"/>
                    </a:lnTo>
                    <a:lnTo>
                      <a:pt x="842" y="352"/>
                    </a:lnTo>
                    <a:lnTo>
                      <a:pt x="799" y="348"/>
                    </a:lnTo>
                    <a:lnTo>
                      <a:pt x="756" y="344"/>
                    </a:lnTo>
                    <a:lnTo>
                      <a:pt x="715" y="340"/>
                    </a:lnTo>
                    <a:lnTo>
                      <a:pt x="673" y="333"/>
                    </a:lnTo>
                    <a:lnTo>
                      <a:pt x="632" y="325"/>
                    </a:lnTo>
                    <a:lnTo>
                      <a:pt x="592" y="316"/>
                    </a:lnTo>
                    <a:lnTo>
                      <a:pt x="552" y="306"/>
                    </a:lnTo>
                    <a:lnTo>
                      <a:pt x="513" y="296"/>
                    </a:lnTo>
                    <a:lnTo>
                      <a:pt x="474" y="284"/>
                    </a:lnTo>
                    <a:lnTo>
                      <a:pt x="436" y="271"/>
                    </a:lnTo>
                    <a:lnTo>
                      <a:pt x="400" y="256"/>
                    </a:lnTo>
                    <a:lnTo>
                      <a:pt x="363" y="241"/>
                    </a:lnTo>
                    <a:lnTo>
                      <a:pt x="327" y="225"/>
                    </a:lnTo>
                    <a:lnTo>
                      <a:pt x="291" y="208"/>
                    </a:lnTo>
                    <a:lnTo>
                      <a:pt x="257" y="189"/>
                    </a:lnTo>
                    <a:lnTo>
                      <a:pt x="222" y="169"/>
                    </a:lnTo>
                    <a:lnTo>
                      <a:pt x="189" y="149"/>
                    </a:lnTo>
                    <a:lnTo>
                      <a:pt x="156" y="127"/>
                    </a:lnTo>
                    <a:lnTo>
                      <a:pt x="124" y="103"/>
                    </a:lnTo>
                    <a:lnTo>
                      <a:pt x="91" y="79"/>
                    </a:lnTo>
                    <a:lnTo>
                      <a:pt x="60" y="55"/>
                    </a:lnTo>
                    <a:lnTo>
                      <a:pt x="30" y="2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1626"/>
              <p:cNvSpPr/>
              <p:nvPr/>
            </p:nvSpPr>
            <p:spPr>
              <a:xfrm flipH="1" flipV="1">
                <a:off x="5132160" y="5307840"/>
                <a:ext cx="12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1627"/>
              <p:cNvSpPr/>
              <p:nvPr/>
            </p:nvSpPr>
            <p:spPr>
              <a:xfrm>
                <a:off x="5144760" y="5298840"/>
                <a:ext cx="42480" cy="10440"/>
              </a:xfrm>
              <a:custGeom>
                <a:avLst/>
                <a:gdLst/>
                <a:ahLst/>
                <a:rect l="l" t="t" r="r" b="b"/>
                <a:pathLst>
                  <a:path w="408" h="132">
                    <a:moveTo>
                      <a:pt x="0" y="132"/>
                    </a:moveTo>
                    <a:lnTo>
                      <a:pt x="29" y="127"/>
                    </a:lnTo>
                    <a:lnTo>
                      <a:pt x="57" y="122"/>
                    </a:lnTo>
                    <a:lnTo>
                      <a:pt x="84" y="115"/>
                    </a:lnTo>
                    <a:lnTo>
                      <a:pt x="111" y="110"/>
                    </a:lnTo>
                    <a:lnTo>
                      <a:pt x="164" y="95"/>
                    </a:lnTo>
                    <a:lnTo>
                      <a:pt x="216" y="80"/>
                    </a:lnTo>
                    <a:lnTo>
                      <a:pt x="266" y="62"/>
                    </a:lnTo>
                    <a:lnTo>
                      <a:pt x="315" y="43"/>
                    </a:lnTo>
                    <a:lnTo>
                      <a:pt x="363" y="22"/>
                    </a:lnTo>
                    <a:lnTo>
                      <a:pt x="40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1628"/>
              <p:cNvSpPr/>
              <p:nvPr/>
            </p:nvSpPr>
            <p:spPr>
              <a:xfrm flipH="1" flipV="1">
                <a:off x="5183640" y="529524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1629"/>
              <p:cNvSpPr/>
              <p:nvPr/>
            </p:nvSpPr>
            <p:spPr>
              <a:xfrm>
                <a:off x="5132160" y="5295600"/>
                <a:ext cx="51840" cy="12240"/>
              </a:xfrm>
              <a:custGeom>
                <a:avLst/>
                <a:gdLst/>
                <a:ahLst/>
                <a:rect l="l" t="t" r="r" b="b"/>
                <a:pathLst>
                  <a:path w="501" h="143">
                    <a:moveTo>
                      <a:pt x="501" y="0"/>
                    </a:moveTo>
                    <a:lnTo>
                      <a:pt x="450" y="18"/>
                    </a:lnTo>
                    <a:lnTo>
                      <a:pt x="400" y="35"/>
                    </a:lnTo>
                    <a:lnTo>
                      <a:pt x="351" y="50"/>
                    </a:lnTo>
                    <a:lnTo>
                      <a:pt x="302" y="66"/>
                    </a:lnTo>
                    <a:lnTo>
                      <a:pt x="252" y="80"/>
                    </a:lnTo>
                    <a:lnTo>
                      <a:pt x="203" y="95"/>
                    </a:lnTo>
                    <a:lnTo>
                      <a:pt x="155" y="107"/>
                    </a:lnTo>
                    <a:lnTo>
                      <a:pt x="107" y="118"/>
                    </a:lnTo>
                    <a:lnTo>
                      <a:pt x="83" y="126"/>
                    </a:lnTo>
                    <a:lnTo>
                      <a:pt x="60" y="131"/>
                    </a:lnTo>
                    <a:lnTo>
                      <a:pt x="37" y="136"/>
                    </a:lnTo>
                    <a:lnTo>
                      <a:pt x="14" y="139"/>
                    </a:lnTo>
                    <a:lnTo>
                      <a:pt x="7" y="142"/>
                    </a:lnTo>
                    <a:lnTo>
                      <a:pt x="0" y="14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1630"/>
              <p:cNvSpPr/>
              <p:nvPr/>
            </p:nvSpPr>
            <p:spPr>
              <a:xfrm>
                <a:off x="5099760" y="5224320"/>
                <a:ext cx="85320" cy="12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1631"/>
              <p:cNvSpPr/>
              <p:nvPr/>
            </p:nvSpPr>
            <p:spPr>
              <a:xfrm>
                <a:off x="5096520" y="5227560"/>
                <a:ext cx="44640" cy="40680"/>
              </a:xfrm>
              <a:custGeom>
                <a:avLst/>
                <a:gdLst/>
                <a:ahLst/>
                <a:rect l="l" t="t" r="r" b="b"/>
                <a:pathLst>
                  <a:path w="427" h="490">
                    <a:moveTo>
                      <a:pt x="427" y="490"/>
                    </a:moveTo>
                    <a:lnTo>
                      <a:pt x="397" y="478"/>
                    </a:lnTo>
                    <a:lnTo>
                      <a:pt x="368" y="466"/>
                    </a:lnTo>
                    <a:lnTo>
                      <a:pt x="340" y="453"/>
                    </a:lnTo>
                    <a:lnTo>
                      <a:pt x="314" y="440"/>
                    </a:lnTo>
                    <a:lnTo>
                      <a:pt x="288" y="427"/>
                    </a:lnTo>
                    <a:lnTo>
                      <a:pt x="264" y="415"/>
                    </a:lnTo>
                    <a:lnTo>
                      <a:pt x="239" y="401"/>
                    </a:lnTo>
                    <a:lnTo>
                      <a:pt x="217" y="387"/>
                    </a:lnTo>
                    <a:lnTo>
                      <a:pt x="196" y="374"/>
                    </a:lnTo>
                    <a:lnTo>
                      <a:pt x="176" y="359"/>
                    </a:lnTo>
                    <a:lnTo>
                      <a:pt x="157" y="346"/>
                    </a:lnTo>
                    <a:lnTo>
                      <a:pt x="138" y="331"/>
                    </a:lnTo>
                    <a:lnTo>
                      <a:pt x="122" y="317"/>
                    </a:lnTo>
                    <a:lnTo>
                      <a:pt x="106" y="301"/>
                    </a:lnTo>
                    <a:lnTo>
                      <a:pt x="92" y="287"/>
                    </a:lnTo>
                    <a:lnTo>
                      <a:pt x="77" y="272"/>
                    </a:lnTo>
                    <a:lnTo>
                      <a:pt x="65" y="256"/>
                    </a:lnTo>
                    <a:lnTo>
                      <a:pt x="54" y="240"/>
                    </a:lnTo>
                    <a:lnTo>
                      <a:pt x="44" y="225"/>
                    </a:lnTo>
                    <a:lnTo>
                      <a:pt x="34" y="208"/>
                    </a:lnTo>
                    <a:lnTo>
                      <a:pt x="26" y="193"/>
                    </a:lnTo>
                    <a:lnTo>
                      <a:pt x="19" y="176"/>
                    </a:lnTo>
                    <a:lnTo>
                      <a:pt x="13" y="160"/>
                    </a:lnTo>
                    <a:lnTo>
                      <a:pt x="9" y="143"/>
                    </a:lnTo>
                    <a:lnTo>
                      <a:pt x="4" y="125"/>
                    </a:lnTo>
                    <a:lnTo>
                      <a:pt x="2" y="109"/>
                    </a:lnTo>
                    <a:lnTo>
                      <a:pt x="0" y="91"/>
                    </a:lnTo>
                    <a:lnTo>
                      <a:pt x="0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1632"/>
              <p:cNvSpPr/>
              <p:nvPr/>
            </p:nvSpPr>
            <p:spPr>
              <a:xfrm flipH="1" flipV="1">
                <a:off x="5144760" y="5309280"/>
                <a:ext cx="100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1633"/>
              <p:cNvSpPr/>
              <p:nvPr/>
            </p:nvSpPr>
            <p:spPr>
              <a:xfrm flipV="1">
                <a:off x="5198760" y="5164200"/>
                <a:ext cx="1800" cy="5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Line 1634"/>
              <p:cNvSpPr/>
              <p:nvPr/>
            </p:nvSpPr>
            <p:spPr>
              <a:xfrm>
                <a:off x="5333760" y="5180400"/>
                <a:ext cx="5040" cy="72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1635"/>
              <p:cNvSpPr/>
              <p:nvPr/>
            </p:nvSpPr>
            <p:spPr>
              <a:xfrm>
                <a:off x="5777280" y="4909680"/>
                <a:ext cx="37440" cy="225000"/>
              </a:xfrm>
              <a:custGeom>
                <a:avLst/>
                <a:gdLst/>
                <a:ahLst/>
                <a:rect l="l" t="t" r="r" b="b"/>
                <a:pathLst>
                  <a:path w="365" h="2711">
                    <a:moveTo>
                      <a:pt x="124" y="0"/>
                    </a:moveTo>
                    <a:lnTo>
                      <a:pt x="134" y="119"/>
                    </a:lnTo>
                    <a:lnTo>
                      <a:pt x="144" y="227"/>
                    </a:lnTo>
                    <a:lnTo>
                      <a:pt x="154" y="326"/>
                    </a:lnTo>
                    <a:lnTo>
                      <a:pt x="165" y="416"/>
                    </a:lnTo>
                    <a:lnTo>
                      <a:pt x="175" y="494"/>
                    </a:lnTo>
                    <a:lnTo>
                      <a:pt x="185" y="564"/>
                    </a:lnTo>
                    <a:lnTo>
                      <a:pt x="195" y="624"/>
                    </a:lnTo>
                    <a:lnTo>
                      <a:pt x="205" y="674"/>
                    </a:lnTo>
                    <a:lnTo>
                      <a:pt x="215" y="716"/>
                    </a:lnTo>
                    <a:lnTo>
                      <a:pt x="225" y="754"/>
                    </a:lnTo>
                    <a:lnTo>
                      <a:pt x="233" y="787"/>
                    </a:lnTo>
                    <a:lnTo>
                      <a:pt x="239" y="816"/>
                    </a:lnTo>
                    <a:lnTo>
                      <a:pt x="244" y="842"/>
                    </a:lnTo>
                    <a:lnTo>
                      <a:pt x="248" y="862"/>
                    </a:lnTo>
                    <a:lnTo>
                      <a:pt x="250" y="876"/>
                    </a:lnTo>
                    <a:lnTo>
                      <a:pt x="251" y="887"/>
                    </a:lnTo>
                    <a:lnTo>
                      <a:pt x="254" y="904"/>
                    </a:lnTo>
                    <a:lnTo>
                      <a:pt x="257" y="919"/>
                    </a:lnTo>
                    <a:lnTo>
                      <a:pt x="260" y="930"/>
                    </a:lnTo>
                    <a:lnTo>
                      <a:pt x="266" y="940"/>
                    </a:lnTo>
                    <a:lnTo>
                      <a:pt x="268" y="946"/>
                    </a:lnTo>
                    <a:lnTo>
                      <a:pt x="269" y="952"/>
                    </a:lnTo>
                    <a:lnTo>
                      <a:pt x="270" y="960"/>
                    </a:lnTo>
                    <a:lnTo>
                      <a:pt x="270" y="969"/>
                    </a:lnTo>
                    <a:lnTo>
                      <a:pt x="270" y="988"/>
                    </a:lnTo>
                    <a:lnTo>
                      <a:pt x="268" y="1011"/>
                    </a:lnTo>
                    <a:lnTo>
                      <a:pt x="263" y="1038"/>
                    </a:lnTo>
                    <a:lnTo>
                      <a:pt x="256" y="1069"/>
                    </a:lnTo>
                    <a:lnTo>
                      <a:pt x="247" y="1102"/>
                    </a:lnTo>
                    <a:lnTo>
                      <a:pt x="236" y="1140"/>
                    </a:lnTo>
                    <a:lnTo>
                      <a:pt x="224" y="1182"/>
                    </a:lnTo>
                    <a:lnTo>
                      <a:pt x="208" y="1226"/>
                    </a:lnTo>
                    <a:lnTo>
                      <a:pt x="190" y="1275"/>
                    </a:lnTo>
                    <a:lnTo>
                      <a:pt x="172" y="1327"/>
                    </a:lnTo>
                    <a:lnTo>
                      <a:pt x="151" y="1383"/>
                    </a:lnTo>
                    <a:lnTo>
                      <a:pt x="127" y="1443"/>
                    </a:lnTo>
                    <a:lnTo>
                      <a:pt x="102" y="1505"/>
                    </a:lnTo>
                    <a:lnTo>
                      <a:pt x="74" y="1572"/>
                    </a:lnTo>
                    <a:lnTo>
                      <a:pt x="60" y="1606"/>
                    </a:lnTo>
                    <a:lnTo>
                      <a:pt x="47" y="1640"/>
                    </a:lnTo>
                    <a:lnTo>
                      <a:pt x="36" y="1674"/>
                    </a:lnTo>
                    <a:lnTo>
                      <a:pt x="27" y="1708"/>
                    </a:lnTo>
                    <a:lnTo>
                      <a:pt x="19" y="1742"/>
                    </a:lnTo>
                    <a:lnTo>
                      <a:pt x="12" y="1776"/>
                    </a:lnTo>
                    <a:lnTo>
                      <a:pt x="7" y="1811"/>
                    </a:lnTo>
                    <a:lnTo>
                      <a:pt x="3" y="1845"/>
                    </a:lnTo>
                    <a:lnTo>
                      <a:pt x="1" y="1879"/>
                    </a:lnTo>
                    <a:lnTo>
                      <a:pt x="0" y="1914"/>
                    </a:lnTo>
                    <a:lnTo>
                      <a:pt x="1" y="1948"/>
                    </a:lnTo>
                    <a:lnTo>
                      <a:pt x="3" y="1983"/>
                    </a:lnTo>
                    <a:lnTo>
                      <a:pt x="6" y="2017"/>
                    </a:lnTo>
                    <a:lnTo>
                      <a:pt x="11" y="2051"/>
                    </a:lnTo>
                    <a:lnTo>
                      <a:pt x="17" y="2086"/>
                    </a:lnTo>
                    <a:lnTo>
                      <a:pt x="25" y="2121"/>
                    </a:lnTo>
                    <a:lnTo>
                      <a:pt x="34" y="2156"/>
                    </a:lnTo>
                    <a:lnTo>
                      <a:pt x="45" y="2190"/>
                    </a:lnTo>
                    <a:lnTo>
                      <a:pt x="57" y="2225"/>
                    </a:lnTo>
                    <a:lnTo>
                      <a:pt x="71" y="2260"/>
                    </a:lnTo>
                    <a:lnTo>
                      <a:pt x="85" y="2295"/>
                    </a:lnTo>
                    <a:lnTo>
                      <a:pt x="102" y="2330"/>
                    </a:lnTo>
                    <a:lnTo>
                      <a:pt x="119" y="2365"/>
                    </a:lnTo>
                    <a:lnTo>
                      <a:pt x="138" y="2399"/>
                    </a:lnTo>
                    <a:lnTo>
                      <a:pt x="159" y="2435"/>
                    </a:lnTo>
                    <a:lnTo>
                      <a:pt x="182" y="2470"/>
                    </a:lnTo>
                    <a:lnTo>
                      <a:pt x="205" y="2506"/>
                    </a:lnTo>
                    <a:lnTo>
                      <a:pt x="230" y="2541"/>
                    </a:lnTo>
                    <a:lnTo>
                      <a:pt x="256" y="2576"/>
                    </a:lnTo>
                    <a:lnTo>
                      <a:pt x="284" y="2611"/>
                    </a:lnTo>
                    <a:lnTo>
                      <a:pt x="314" y="2647"/>
                    </a:lnTo>
                    <a:lnTo>
                      <a:pt x="344" y="2683"/>
                    </a:lnTo>
                    <a:lnTo>
                      <a:pt x="355" y="2696"/>
                    </a:lnTo>
                    <a:lnTo>
                      <a:pt x="365" y="271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Line 1636"/>
              <p:cNvSpPr/>
              <p:nvPr/>
            </p:nvSpPr>
            <p:spPr>
              <a:xfrm flipH="1">
                <a:off x="5814720" y="513504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1637"/>
              <p:cNvSpPr/>
              <p:nvPr/>
            </p:nvSpPr>
            <p:spPr>
              <a:xfrm>
                <a:off x="5814720" y="5135040"/>
                <a:ext cx="33120" cy="95760"/>
              </a:xfrm>
              <a:custGeom>
                <a:avLst/>
                <a:gdLst/>
                <a:ahLst/>
                <a:rect l="l" t="t" r="r" b="b"/>
                <a:pathLst>
                  <a:path w="322" h="1160">
                    <a:moveTo>
                      <a:pt x="0" y="0"/>
                    </a:moveTo>
                    <a:lnTo>
                      <a:pt x="15" y="9"/>
                    </a:lnTo>
                    <a:lnTo>
                      <a:pt x="28" y="19"/>
                    </a:lnTo>
                    <a:lnTo>
                      <a:pt x="41" y="29"/>
                    </a:lnTo>
                    <a:lnTo>
                      <a:pt x="54" y="40"/>
                    </a:lnTo>
                    <a:lnTo>
                      <a:pt x="67" y="53"/>
                    </a:lnTo>
                    <a:lnTo>
                      <a:pt x="79" y="65"/>
                    </a:lnTo>
                    <a:lnTo>
                      <a:pt x="91" y="78"/>
                    </a:lnTo>
                    <a:lnTo>
                      <a:pt x="103" y="92"/>
                    </a:lnTo>
                    <a:lnTo>
                      <a:pt x="115" y="107"/>
                    </a:lnTo>
                    <a:lnTo>
                      <a:pt x="126" y="122"/>
                    </a:lnTo>
                    <a:lnTo>
                      <a:pt x="137" y="139"/>
                    </a:lnTo>
                    <a:lnTo>
                      <a:pt x="148" y="157"/>
                    </a:lnTo>
                    <a:lnTo>
                      <a:pt x="158" y="174"/>
                    </a:lnTo>
                    <a:lnTo>
                      <a:pt x="168" y="193"/>
                    </a:lnTo>
                    <a:lnTo>
                      <a:pt x="178" y="213"/>
                    </a:lnTo>
                    <a:lnTo>
                      <a:pt x="188" y="233"/>
                    </a:lnTo>
                    <a:lnTo>
                      <a:pt x="207" y="276"/>
                    </a:lnTo>
                    <a:lnTo>
                      <a:pt x="223" y="323"/>
                    </a:lnTo>
                    <a:lnTo>
                      <a:pt x="240" y="372"/>
                    </a:lnTo>
                    <a:lnTo>
                      <a:pt x="255" y="425"/>
                    </a:lnTo>
                    <a:lnTo>
                      <a:pt x="269" y="481"/>
                    </a:lnTo>
                    <a:lnTo>
                      <a:pt x="282" y="540"/>
                    </a:lnTo>
                    <a:lnTo>
                      <a:pt x="294" y="602"/>
                    </a:lnTo>
                    <a:lnTo>
                      <a:pt x="305" y="668"/>
                    </a:lnTo>
                    <a:lnTo>
                      <a:pt x="313" y="722"/>
                    </a:lnTo>
                    <a:lnTo>
                      <a:pt x="318" y="774"/>
                    </a:lnTo>
                    <a:lnTo>
                      <a:pt x="321" y="822"/>
                    </a:lnTo>
                    <a:lnTo>
                      <a:pt x="322" y="868"/>
                    </a:lnTo>
                    <a:lnTo>
                      <a:pt x="321" y="910"/>
                    </a:lnTo>
                    <a:lnTo>
                      <a:pt x="318" y="948"/>
                    </a:lnTo>
                    <a:lnTo>
                      <a:pt x="315" y="966"/>
                    </a:lnTo>
                    <a:lnTo>
                      <a:pt x="313" y="984"/>
                    </a:lnTo>
                    <a:lnTo>
                      <a:pt x="310" y="1001"/>
                    </a:lnTo>
                    <a:lnTo>
                      <a:pt x="305" y="1016"/>
                    </a:lnTo>
                    <a:lnTo>
                      <a:pt x="301" y="1029"/>
                    </a:lnTo>
                    <a:lnTo>
                      <a:pt x="295" y="1043"/>
                    </a:lnTo>
                    <a:lnTo>
                      <a:pt x="290" y="1055"/>
                    </a:lnTo>
                    <a:lnTo>
                      <a:pt x="284" y="1066"/>
                    </a:lnTo>
                    <a:lnTo>
                      <a:pt x="278" y="1077"/>
                    </a:lnTo>
                    <a:lnTo>
                      <a:pt x="271" y="1088"/>
                    </a:lnTo>
                    <a:lnTo>
                      <a:pt x="264" y="1097"/>
                    </a:lnTo>
                    <a:lnTo>
                      <a:pt x="257" y="1106"/>
                    </a:lnTo>
                    <a:lnTo>
                      <a:pt x="249" y="1115"/>
                    </a:lnTo>
                    <a:lnTo>
                      <a:pt x="240" y="1123"/>
                    </a:lnTo>
                    <a:lnTo>
                      <a:pt x="231" y="1129"/>
                    </a:lnTo>
                    <a:lnTo>
                      <a:pt x="221" y="1136"/>
                    </a:lnTo>
                    <a:lnTo>
                      <a:pt x="211" y="1141"/>
                    </a:lnTo>
                    <a:lnTo>
                      <a:pt x="201" y="1146"/>
                    </a:lnTo>
                    <a:lnTo>
                      <a:pt x="190" y="1150"/>
                    </a:lnTo>
                    <a:lnTo>
                      <a:pt x="178" y="1155"/>
                    </a:lnTo>
                    <a:lnTo>
                      <a:pt x="167" y="1157"/>
                    </a:lnTo>
                    <a:lnTo>
                      <a:pt x="156" y="1158"/>
                    </a:lnTo>
                    <a:lnTo>
                      <a:pt x="145" y="1159"/>
                    </a:lnTo>
                    <a:lnTo>
                      <a:pt x="132" y="1160"/>
                    </a:lnTo>
                    <a:lnTo>
                      <a:pt x="107" y="1160"/>
                    </a:lnTo>
                    <a:lnTo>
                      <a:pt x="79" y="115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1638"/>
              <p:cNvSpPr/>
              <p:nvPr/>
            </p:nvSpPr>
            <p:spPr>
              <a:xfrm>
                <a:off x="5735880" y="494208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79" h="309">
                    <a:moveTo>
                      <a:pt x="79" y="309"/>
                    </a:moveTo>
                    <a:lnTo>
                      <a:pt x="64" y="273"/>
                    </a:lnTo>
                    <a:lnTo>
                      <a:pt x="50" y="236"/>
                    </a:lnTo>
                    <a:lnTo>
                      <a:pt x="38" y="200"/>
                    </a:lnTo>
                    <a:lnTo>
                      <a:pt x="28" y="163"/>
                    </a:lnTo>
                    <a:lnTo>
                      <a:pt x="19" y="126"/>
                    </a:lnTo>
                    <a:lnTo>
                      <a:pt x="11" y="89"/>
                    </a:lnTo>
                    <a:lnTo>
                      <a:pt x="5" y="51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1639"/>
              <p:cNvSpPr/>
              <p:nvPr/>
            </p:nvSpPr>
            <p:spPr>
              <a:xfrm>
                <a:off x="5712840" y="4942080"/>
                <a:ext cx="22680" cy="70200"/>
              </a:xfrm>
              <a:custGeom>
                <a:avLst/>
                <a:gdLst/>
                <a:ahLst/>
                <a:rect l="l" t="t" r="r" b="b"/>
                <a:pathLst>
                  <a:path w="215" h="849">
                    <a:moveTo>
                      <a:pt x="215" y="0"/>
                    </a:moveTo>
                    <a:lnTo>
                      <a:pt x="213" y="0"/>
                    </a:lnTo>
                    <a:lnTo>
                      <a:pt x="211" y="2"/>
                    </a:lnTo>
                    <a:lnTo>
                      <a:pt x="209" y="5"/>
                    </a:lnTo>
                    <a:lnTo>
                      <a:pt x="209" y="7"/>
                    </a:lnTo>
                    <a:lnTo>
                      <a:pt x="185" y="35"/>
                    </a:lnTo>
                    <a:lnTo>
                      <a:pt x="164" y="62"/>
                    </a:lnTo>
                    <a:lnTo>
                      <a:pt x="144" y="92"/>
                    </a:lnTo>
                    <a:lnTo>
                      <a:pt x="126" y="123"/>
                    </a:lnTo>
                    <a:lnTo>
                      <a:pt x="109" y="155"/>
                    </a:lnTo>
                    <a:lnTo>
                      <a:pt x="92" y="190"/>
                    </a:lnTo>
                    <a:lnTo>
                      <a:pt x="78" y="224"/>
                    </a:lnTo>
                    <a:lnTo>
                      <a:pt x="65" y="261"/>
                    </a:lnTo>
                    <a:lnTo>
                      <a:pt x="52" y="299"/>
                    </a:lnTo>
                    <a:lnTo>
                      <a:pt x="41" y="337"/>
                    </a:lnTo>
                    <a:lnTo>
                      <a:pt x="31" y="377"/>
                    </a:lnTo>
                    <a:lnTo>
                      <a:pt x="23" y="419"/>
                    </a:lnTo>
                    <a:lnTo>
                      <a:pt x="16" y="463"/>
                    </a:lnTo>
                    <a:lnTo>
                      <a:pt x="10" y="507"/>
                    </a:lnTo>
                    <a:lnTo>
                      <a:pt x="6" y="552"/>
                    </a:lnTo>
                    <a:lnTo>
                      <a:pt x="2" y="600"/>
                    </a:lnTo>
                    <a:lnTo>
                      <a:pt x="1" y="629"/>
                    </a:lnTo>
                    <a:lnTo>
                      <a:pt x="0" y="659"/>
                    </a:lnTo>
                    <a:lnTo>
                      <a:pt x="0" y="689"/>
                    </a:lnTo>
                    <a:lnTo>
                      <a:pt x="0" y="720"/>
                    </a:lnTo>
                    <a:lnTo>
                      <a:pt x="0" y="751"/>
                    </a:lnTo>
                    <a:lnTo>
                      <a:pt x="0" y="783"/>
                    </a:lnTo>
                    <a:lnTo>
                      <a:pt x="1" y="815"/>
                    </a:lnTo>
                    <a:lnTo>
                      <a:pt x="2" y="84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640"/>
              <p:cNvSpPr/>
              <p:nvPr/>
            </p:nvSpPr>
            <p:spPr>
              <a:xfrm>
                <a:off x="5690160" y="4991760"/>
                <a:ext cx="20520" cy="42840"/>
              </a:xfrm>
              <a:custGeom>
                <a:avLst/>
                <a:gdLst/>
                <a:ahLst/>
                <a:rect l="l" t="t" r="r" b="b"/>
                <a:pathLst>
                  <a:path w="206" h="515">
                    <a:moveTo>
                      <a:pt x="206" y="0"/>
                    </a:moveTo>
                    <a:lnTo>
                      <a:pt x="200" y="5"/>
                    </a:lnTo>
                    <a:lnTo>
                      <a:pt x="193" y="10"/>
                    </a:lnTo>
                    <a:lnTo>
                      <a:pt x="187" y="16"/>
                    </a:lnTo>
                    <a:lnTo>
                      <a:pt x="182" y="23"/>
                    </a:lnTo>
                    <a:lnTo>
                      <a:pt x="171" y="40"/>
                    </a:lnTo>
                    <a:lnTo>
                      <a:pt x="160" y="60"/>
                    </a:lnTo>
                    <a:lnTo>
                      <a:pt x="151" y="77"/>
                    </a:lnTo>
                    <a:lnTo>
                      <a:pt x="141" y="94"/>
                    </a:lnTo>
                    <a:lnTo>
                      <a:pt x="132" y="113"/>
                    </a:lnTo>
                    <a:lnTo>
                      <a:pt x="122" y="134"/>
                    </a:lnTo>
                    <a:lnTo>
                      <a:pt x="103" y="182"/>
                    </a:lnTo>
                    <a:lnTo>
                      <a:pt x="83" y="235"/>
                    </a:lnTo>
                    <a:lnTo>
                      <a:pt x="63" y="295"/>
                    </a:lnTo>
                    <a:lnTo>
                      <a:pt x="42" y="362"/>
                    </a:lnTo>
                    <a:lnTo>
                      <a:pt x="21" y="435"/>
                    </a:lnTo>
                    <a:lnTo>
                      <a:pt x="0" y="5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1641"/>
            <p:cNvGrpSpPr/>
            <p:nvPr/>
          </p:nvGrpSpPr>
          <p:grpSpPr>
            <a:xfrm>
              <a:off x="5300640" y="4510080"/>
              <a:ext cx="810000" cy="802440"/>
              <a:chOff x="5300640" y="4510080"/>
              <a:chExt cx="810000" cy="802440"/>
            </a:xfrm>
          </p:grpSpPr>
          <p:sp>
            <p:nvSpPr>
              <p:cNvPr id="1172" name="Line 1642"/>
              <p:cNvSpPr/>
              <p:nvPr/>
            </p:nvSpPr>
            <p:spPr>
              <a:xfrm flipH="1">
                <a:off x="5655960" y="5034600"/>
                <a:ext cx="33480" cy="49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643"/>
              <p:cNvSpPr/>
              <p:nvPr/>
            </p:nvSpPr>
            <p:spPr>
              <a:xfrm>
                <a:off x="5643720" y="5084280"/>
                <a:ext cx="12240" cy="60120"/>
              </a:xfrm>
              <a:custGeom>
                <a:avLst/>
                <a:gdLst/>
                <a:ahLst/>
                <a:rect l="l" t="t" r="r" b="b"/>
                <a:pathLst>
                  <a:path w="115" h="724">
                    <a:moveTo>
                      <a:pt x="115" y="0"/>
                    </a:moveTo>
                    <a:lnTo>
                      <a:pt x="101" y="32"/>
                    </a:lnTo>
                    <a:lnTo>
                      <a:pt x="91" y="59"/>
                    </a:lnTo>
                    <a:lnTo>
                      <a:pt x="82" y="81"/>
                    </a:lnTo>
                    <a:lnTo>
                      <a:pt x="77" y="100"/>
                    </a:lnTo>
                    <a:lnTo>
                      <a:pt x="63" y="148"/>
                    </a:lnTo>
                    <a:lnTo>
                      <a:pt x="52" y="197"/>
                    </a:lnTo>
                    <a:lnTo>
                      <a:pt x="41" y="244"/>
                    </a:lnTo>
                    <a:lnTo>
                      <a:pt x="32" y="288"/>
                    </a:lnTo>
                    <a:lnTo>
                      <a:pt x="23" y="333"/>
                    </a:lnTo>
                    <a:lnTo>
                      <a:pt x="16" y="375"/>
                    </a:lnTo>
                    <a:lnTo>
                      <a:pt x="10" y="415"/>
                    </a:lnTo>
                    <a:lnTo>
                      <a:pt x="6" y="454"/>
                    </a:lnTo>
                    <a:lnTo>
                      <a:pt x="2" y="492"/>
                    </a:lnTo>
                    <a:lnTo>
                      <a:pt x="0" y="529"/>
                    </a:lnTo>
                    <a:lnTo>
                      <a:pt x="0" y="565"/>
                    </a:lnTo>
                    <a:lnTo>
                      <a:pt x="1" y="600"/>
                    </a:lnTo>
                    <a:lnTo>
                      <a:pt x="3" y="633"/>
                    </a:lnTo>
                    <a:lnTo>
                      <a:pt x="7" y="665"/>
                    </a:lnTo>
                    <a:lnTo>
                      <a:pt x="12" y="695"/>
                    </a:lnTo>
                    <a:lnTo>
                      <a:pt x="20" y="7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644"/>
              <p:cNvSpPr/>
              <p:nvPr/>
            </p:nvSpPr>
            <p:spPr>
              <a:xfrm>
                <a:off x="5670000" y="513036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8" y="2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645"/>
              <p:cNvSpPr/>
              <p:nvPr/>
            </p:nvSpPr>
            <p:spPr>
              <a:xfrm>
                <a:off x="5645880" y="5118840"/>
                <a:ext cx="47880" cy="25200"/>
              </a:xfrm>
              <a:custGeom>
                <a:avLst/>
                <a:gdLst/>
                <a:ahLst/>
                <a:rect l="l" t="t" r="r" b="b"/>
                <a:pathLst>
                  <a:path w="455" h="302">
                    <a:moveTo>
                      <a:pt x="454" y="0"/>
                    </a:moveTo>
                    <a:lnTo>
                      <a:pt x="455" y="6"/>
                    </a:lnTo>
                    <a:lnTo>
                      <a:pt x="454" y="13"/>
                    </a:lnTo>
                    <a:lnTo>
                      <a:pt x="453" y="18"/>
                    </a:lnTo>
                    <a:lnTo>
                      <a:pt x="450" y="25"/>
                    </a:lnTo>
                    <a:lnTo>
                      <a:pt x="447" y="31"/>
                    </a:lnTo>
                    <a:lnTo>
                      <a:pt x="443" y="38"/>
                    </a:lnTo>
                    <a:lnTo>
                      <a:pt x="438" y="45"/>
                    </a:lnTo>
                    <a:lnTo>
                      <a:pt x="433" y="51"/>
                    </a:lnTo>
                    <a:lnTo>
                      <a:pt x="418" y="65"/>
                    </a:lnTo>
                    <a:lnTo>
                      <a:pt x="401" y="78"/>
                    </a:lnTo>
                    <a:lnTo>
                      <a:pt x="379" y="92"/>
                    </a:lnTo>
                    <a:lnTo>
                      <a:pt x="355" y="107"/>
                    </a:lnTo>
                    <a:lnTo>
                      <a:pt x="324" y="117"/>
                    </a:lnTo>
                    <a:lnTo>
                      <a:pt x="296" y="126"/>
                    </a:lnTo>
                    <a:lnTo>
                      <a:pt x="271" y="134"/>
                    </a:lnTo>
                    <a:lnTo>
                      <a:pt x="249" y="142"/>
                    </a:lnTo>
                    <a:lnTo>
                      <a:pt x="245" y="142"/>
                    </a:lnTo>
                    <a:lnTo>
                      <a:pt x="241" y="144"/>
                    </a:lnTo>
                    <a:lnTo>
                      <a:pt x="237" y="147"/>
                    </a:lnTo>
                    <a:lnTo>
                      <a:pt x="234" y="149"/>
                    </a:lnTo>
                    <a:lnTo>
                      <a:pt x="211" y="157"/>
                    </a:lnTo>
                    <a:lnTo>
                      <a:pt x="190" y="164"/>
                    </a:lnTo>
                    <a:lnTo>
                      <a:pt x="169" y="172"/>
                    </a:lnTo>
                    <a:lnTo>
                      <a:pt x="150" y="181"/>
                    </a:lnTo>
                    <a:lnTo>
                      <a:pt x="131" y="190"/>
                    </a:lnTo>
                    <a:lnTo>
                      <a:pt x="114" y="199"/>
                    </a:lnTo>
                    <a:lnTo>
                      <a:pt x="98" y="208"/>
                    </a:lnTo>
                    <a:lnTo>
                      <a:pt x="82" y="218"/>
                    </a:lnTo>
                    <a:lnTo>
                      <a:pt x="68" y="228"/>
                    </a:lnTo>
                    <a:lnTo>
                      <a:pt x="56" y="238"/>
                    </a:lnTo>
                    <a:lnTo>
                      <a:pt x="43" y="248"/>
                    </a:lnTo>
                    <a:lnTo>
                      <a:pt x="32" y="258"/>
                    </a:lnTo>
                    <a:lnTo>
                      <a:pt x="22" y="269"/>
                    </a:lnTo>
                    <a:lnTo>
                      <a:pt x="14" y="280"/>
                    </a:lnTo>
                    <a:lnTo>
                      <a:pt x="7" y="291"/>
                    </a:lnTo>
                    <a:lnTo>
                      <a:pt x="0" y="30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646"/>
              <p:cNvSpPr/>
              <p:nvPr/>
            </p:nvSpPr>
            <p:spPr>
              <a:xfrm>
                <a:off x="5688720" y="5134680"/>
                <a:ext cx="72720" cy="32040"/>
              </a:xfrm>
              <a:custGeom>
                <a:avLst/>
                <a:gdLst/>
                <a:ahLst/>
                <a:rect l="l" t="t" r="r" b="b"/>
                <a:pathLst>
                  <a:path w="707" h="382">
                    <a:moveTo>
                      <a:pt x="707" y="382"/>
                    </a:moveTo>
                    <a:lnTo>
                      <a:pt x="679" y="352"/>
                    </a:lnTo>
                    <a:lnTo>
                      <a:pt x="651" y="324"/>
                    </a:lnTo>
                    <a:lnTo>
                      <a:pt x="623" y="297"/>
                    </a:lnTo>
                    <a:lnTo>
                      <a:pt x="596" y="270"/>
                    </a:lnTo>
                    <a:lnTo>
                      <a:pt x="567" y="245"/>
                    </a:lnTo>
                    <a:lnTo>
                      <a:pt x="538" y="222"/>
                    </a:lnTo>
                    <a:lnTo>
                      <a:pt x="509" y="199"/>
                    </a:lnTo>
                    <a:lnTo>
                      <a:pt x="480" y="177"/>
                    </a:lnTo>
                    <a:lnTo>
                      <a:pt x="451" y="157"/>
                    </a:lnTo>
                    <a:lnTo>
                      <a:pt x="423" y="138"/>
                    </a:lnTo>
                    <a:lnTo>
                      <a:pt x="393" y="122"/>
                    </a:lnTo>
                    <a:lnTo>
                      <a:pt x="364" y="105"/>
                    </a:lnTo>
                    <a:lnTo>
                      <a:pt x="334" y="90"/>
                    </a:lnTo>
                    <a:lnTo>
                      <a:pt x="304" y="76"/>
                    </a:lnTo>
                    <a:lnTo>
                      <a:pt x="274" y="64"/>
                    </a:lnTo>
                    <a:lnTo>
                      <a:pt x="245" y="53"/>
                    </a:lnTo>
                    <a:lnTo>
                      <a:pt x="242" y="51"/>
                    </a:lnTo>
                    <a:lnTo>
                      <a:pt x="240" y="50"/>
                    </a:lnTo>
                    <a:lnTo>
                      <a:pt x="236" y="49"/>
                    </a:lnTo>
                    <a:lnTo>
                      <a:pt x="234" y="49"/>
                    </a:lnTo>
                    <a:lnTo>
                      <a:pt x="205" y="39"/>
                    </a:lnTo>
                    <a:lnTo>
                      <a:pt x="175" y="30"/>
                    </a:lnTo>
                    <a:lnTo>
                      <a:pt x="146" y="23"/>
                    </a:lnTo>
                    <a:lnTo>
                      <a:pt x="116" y="16"/>
                    </a:lnTo>
                    <a:lnTo>
                      <a:pt x="88" y="11"/>
                    </a:lnTo>
                    <a:lnTo>
                      <a:pt x="58" y="6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1647"/>
              <p:cNvSpPr/>
              <p:nvPr/>
            </p:nvSpPr>
            <p:spPr>
              <a:xfrm flipV="1">
                <a:off x="5732280" y="5216400"/>
                <a:ext cx="1008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648"/>
              <p:cNvSpPr/>
              <p:nvPr/>
            </p:nvSpPr>
            <p:spPr>
              <a:xfrm>
                <a:off x="5732280" y="5186520"/>
                <a:ext cx="13680" cy="29520"/>
              </a:xfrm>
              <a:custGeom>
                <a:avLst/>
                <a:gdLst/>
                <a:ahLst/>
                <a:rect l="l" t="t" r="r" b="b"/>
                <a:pathLst>
                  <a:path w="135" h="355">
                    <a:moveTo>
                      <a:pt x="95" y="355"/>
                    </a:moveTo>
                    <a:lnTo>
                      <a:pt x="106" y="336"/>
                    </a:lnTo>
                    <a:lnTo>
                      <a:pt x="116" y="318"/>
                    </a:lnTo>
                    <a:lnTo>
                      <a:pt x="124" y="300"/>
                    </a:lnTo>
                    <a:lnTo>
                      <a:pt x="129" y="280"/>
                    </a:lnTo>
                    <a:lnTo>
                      <a:pt x="133" y="261"/>
                    </a:lnTo>
                    <a:lnTo>
                      <a:pt x="135" y="242"/>
                    </a:lnTo>
                    <a:lnTo>
                      <a:pt x="135" y="223"/>
                    </a:lnTo>
                    <a:lnTo>
                      <a:pt x="133" y="203"/>
                    </a:lnTo>
                    <a:lnTo>
                      <a:pt x="128" y="185"/>
                    </a:lnTo>
                    <a:lnTo>
                      <a:pt x="122" y="165"/>
                    </a:lnTo>
                    <a:lnTo>
                      <a:pt x="113" y="146"/>
                    </a:lnTo>
                    <a:lnTo>
                      <a:pt x="103" y="126"/>
                    </a:lnTo>
                    <a:lnTo>
                      <a:pt x="91" y="106"/>
                    </a:lnTo>
                    <a:lnTo>
                      <a:pt x="76" y="87"/>
                    </a:lnTo>
                    <a:lnTo>
                      <a:pt x="60" y="67"/>
                    </a:lnTo>
                    <a:lnTo>
                      <a:pt x="42" y="47"/>
                    </a:lnTo>
                    <a:lnTo>
                      <a:pt x="40" y="45"/>
                    </a:lnTo>
                    <a:lnTo>
                      <a:pt x="38" y="44"/>
                    </a:lnTo>
                    <a:lnTo>
                      <a:pt x="38" y="41"/>
                    </a:lnTo>
                    <a:lnTo>
                      <a:pt x="38" y="39"/>
                    </a:lnTo>
                    <a:lnTo>
                      <a:pt x="28" y="31"/>
                    </a:lnTo>
                    <a:lnTo>
                      <a:pt x="19" y="22"/>
                    </a:lnTo>
                    <a:lnTo>
                      <a:pt x="10" y="1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1649"/>
              <p:cNvSpPr/>
              <p:nvPr/>
            </p:nvSpPr>
            <p:spPr>
              <a:xfrm flipH="1" flipV="1">
                <a:off x="5701680" y="5155920"/>
                <a:ext cx="2988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650"/>
              <p:cNvSpPr/>
              <p:nvPr/>
            </p:nvSpPr>
            <p:spPr>
              <a:xfrm>
                <a:off x="5670720" y="5151960"/>
                <a:ext cx="30960" cy="5040"/>
              </a:xfrm>
              <a:custGeom>
                <a:avLst/>
                <a:gdLst/>
                <a:ahLst/>
                <a:rect l="l" t="t" r="r" b="b"/>
                <a:pathLst>
                  <a:path w="298" h="64">
                    <a:moveTo>
                      <a:pt x="298" y="57"/>
                    </a:moveTo>
                    <a:lnTo>
                      <a:pt x="285" y="44"/>
                    </a:lnTo>
                    <a:lnTo>
                      <a:pt x="272" y="31"/>
                    </a:lnTo>
                    <a:lnTo>
                      <a:pt x="258" y="20"/>
                    </a:lnTo>
                    <a:lnTo>
                      <a:pt x="245" y="11"/>
                    </a:lnTo>
                    <a:lnTo>
                      <a:pt x="234" y="7"/>
                    </a:lnTo>
                    <a:lnTo>
                      <a:pt x="222" y="3"/>
                    </a:lnTo>
                    <a:lnTo>
                      <a:pt x="209" y="1"/>
                    </a:lnTo>
                    <a:lnTo>
                      <a:pt x="196" y="0"/>
                    </a:lnTo>
                    <a:lnTo>
                      <a:pt x="183" y="0"/>
                    </a:lnTo>
                    <a:lnTo>
                      <a:pt x="168" y="1"/>
                    </a:lnTo>
                    <a:lnTo>
                      <a:pt x="154" y="2"/>
                    </a:lnTo>
                    <a:lnTo>
                      <a:pt x="138" y="6"/>
                    </a:lnTo>
                    <a:lnTo>
                      <a:pt x="123" y="9"/>
                    </a:lnTo>
                    <a:lnTo>
                      <a:pt x="107" y="14"/>
                    </a:lnTo>
                    <a:lnTo>
                      <a:pt x="91" y="20"/>
                    </a:lnTo>
                    <a:lnTo>
                      <a:pt x="73" y="27"/>
                    </a:lnTo>
                    <a:lnTo>
                      <a:pt x="56" y="34"/>
                    </a:lnTo>
                    <a:lnTo>
                      <a:pt x="38" y="43"/>
                    </a:lnTo>
                    <a:lnTo>
                      <a:pt x="20" y="53"/>
                    </a:lnTo>
                    <a:lnTo>
                      <a:pt x="0" y="6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651"/>
              <p:cNvSpPr/>
              <p:nvPr/>
            </p:nvSpPr>
            <p:spPr>
              <a:xfrm>
                <a:off x="5648040" y="5157000"/>
                <a:ext cx="22680" cy="50400"/>
              </a:xfrm>
              <a:custGeom>
                <a:avLst/>
                <a:gdLst/>
                <a:ahLst/>
                <a:rect l="l" t="t" r="r" b="b"/>
                <a:pathLst>
                  <a:path w="220" h="603">
                    <a:moveTo>
                      <a:pt x="210" y="603"/>
                    </a:moveTo>
                    <a:lnTo>
                      <a:pt x="188" y="581"/>
                    </a:lnTo>
                    <a:lnTo>
                      <a:pt x="165" y="559"/>
                    </a:lnTo>
                    <a:lnTo>
                      <a:pt x="144" y="536"/>
                    </a:lnTo>
                    <a:lnTo>
                      <a:pt x="124" y="511"/>
                    </a:lnTo>
                    <a:lnTo>
                      <a:pt x="106" y="487"/>
                    </a:lnTo>
                    <a:lnTo>
                      <a:pt x="88" y="463"/>
                    </a:lnTo>
                    <a:lnTo>
                      <a:pt x="70" y="437"/>
                    </a:lnTo>
                    <a:lnTo>
                      <a:pt x="53" y="412"/>
                    </a:lnTo>
                    <a:lnTo>
                      <a:pt x="43" y="393"/>
                    </a:lnTo>
                    <a:lnTo>
                      <a:pt x="33" y="375"/>
                    </a:lnTo>
                    <a:lnTo>
                      <a:pt x="25" y="356"/>
                    </a:lnTo>
                    <a:lnTo>
                      <a:pt x="15" y="337"/>
                    </a:lnTo>
                    <a:lnTo>
                      <a:pt x="8" y="317"/>
                    </a:lnTo>
                    <a:lnTo>
                      <a:pt x="2" y="297"/>
                    </a:lnTo>
                    <a:lnTo>
                      <a:pt x="1" y="287"/>
                    </a:lnTo>
                    <a:lnTo>
                      <a:pt x="0" y="277"/>
                    </a:lnTo>
                    <a:lnTo>
                      <a:pt x="0" y="268"/>
                    </a:lnTo>
                    <a:lnTo>
                      <a:pt x="0" y="259"/>
                    </a:lnTo>
                    <a:lnTo>
                      <a:pt x="1" y="249"/>
                    </a:lnTo>
                    <a:lnTo>
                      <a:pt x="2" y="239"/>
                    </a:lnTo>
                    <a:lnTo>
                      <a:pt x="5" y="229"/>
                    </a:lnTo>
                    <a:lnTo>
                      <a:pt x="7" y="219"/>
                    </a:lnTo>
                    <a:lnTo>
                      <a:pt x="13" y="200"/>
                    </a:lnTo>
                    <a:lnTo>
                      <a:pt x="22" y="181"/>
                    </a:lnTo>
                    <a:lnTo>
                      <a:pt x="33" y="162"/>
                    </a:lnTo>
                    <a:lnTo>
                      <a:pt x="47" y="142"/>
                    </a:lnTo>
                    <a:lnTo>
                      <a:pt x="62" y="123"/>
                    </a:lnTo>
                    <a:lnTo>
                      <a:pt x="80" y="106"/>
                    </a:lnTo>
                    <a:lnTo>
                      <a:pt x="100" y="87"/>
                    </a:lnTo>
                    <a:lnTo>
                      <a:pt x="122" y="68"/>
                    </a:lnTo>
                    <a:lnTo>
                      <a:pt x="148" y="50"/>
                    </a:lnTo>
                    <a:lnTo>
                      <a:pt x="174" y="32"/>
                    </a:lnTo>
                    <a:lnTo>
                      <a:pt x="185" y="22"/>
                    </a:lnTo>
                    <a:lnTo>
                      <a:pt x="198" y="15"/>
                    </a:lnTo>
                    <a:lnTo>
                      <a:pt x="209" y="8"/>
                    </a:lnTo>
                    <a:lnTo>
                      <a:pt x="22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652"/>
              <p:cNvSpPr/>
              <p:nvPr/>
            </p:nvSpPr>
            <p:spPr>
              <a:xfrm>
                <a:off x="5649120" y="5211720"/>
                <a:ext cx="11160" cy="5760"/>
              </a:xfrm>
              <a:custGeom>
                <a:avLst/>
                <a:gdLst/>
                <a:ahLst/>
                <a:rect l="l" t="t" r="r" b="b"/>
                <a:pathLst>
                  <a:path w="111" h="78">
                    <a:moveTo>
                      <a:pt x="0" y="78"/>
                    </a:moveTo>
                    <a:lnTo>
                      <a:pt x="8" y="66"/>
                    </a:lnTo>
                    <a:lnTo>
                      <a:pt x="14" y="55"/>
                    </a:lnTo>
                    <a:lnTo>
                      <a:pt x="21" y="46"/>
                    </a:lnTo>
                    <a:lnTo>
                      <a:pt x="29" y="39"/>
                    </a:lnTo>
                    <a:lnTo>
                      <a:pt x="36" y="31"/>
                    </a:lnTo>
                    <a:lnTo>
                      <a:pt x="46" y="25"/>
                    </a:lnTo>
                    <a:lnTo>
                      <a:pt x="55" y="19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7" y="6"/>
                    </a:lnTo>
                    <a:lnTo>
                      <a:pt x="99" y="3"/>
                    </a:lnTo>
                    <a:lnTo>
                      <a:pt x="11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1653"/>
              <p:cNvSpPr/>
              <p:nvPr/>
            </p:nvSpPr>
            <p:spPr>
              <a:xfrm>
                <a:off x="5660640" y="5211720"/>
                <a:ext cx="396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654"/>
              <p:cNvSpPr/>
              <p:nvPr/>
            </p:nvSpPr>
            <p:spPr>
              <a:xfrm>
                <a:off x="5653080" y="521892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110" h="75">
                    <a:moveTo>
                      <a:pt x="110" y="0"/>
                    </a:moveTo>
                    <a:lnTo>
                      <a:pt x="95" y="1"/>
                    </a:lnTo>
                    <a:lnTo>
                      <a:pt x="82" y="5"/>
                    </a:lnTo>
                    <a:lnTo>
                      <a:pt x="74" y="7"/>
                    </a:lnTo>
                    <a:lnTo>
                      <a:pt x="67" y="10"/>
                    </a:lnTo>
                    <a:lnTo>
                      <a:pt x="62" y="13"/>
                    </a:lnTo>
                    <a:lnTo>
                      <a:pt x="56" y="18"/>
                    </a:lnTo>
                    <a:lnTo>
                      <a:pt x="49" y="22"/>
                    </a:lnTo>
                    <a:lnTo>
                      <a:pt x="41" y="28"/>
                    </a:lnTo>
                    <a:lnTo>
                      <a:pt x="33" y="33"/>
                    </a:lnTo>
                    <a:lnTo>
                      <a:pt x="26" y="40"/>
                    </a:lnTo>
                    <a:lnTo>
                      <a:pt x="20" y="48"/>
                    </a:lnTo>
                    <a:lnTo>
                      <a:pt x="13" y="56"/>
                    </a:lnTo>
                    <a:lnTo>
                      <a:pt x="6" y="64"/>
                    </a:lnTo>
                    <a:lnTo>
                      <a:pt x="0" y="7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655"/>
              <p:cNvSpPr/>
              <p:nvPr/>
            </p:nvSpPr>
            <p:spPr>
              <a:xfrm>
                <a:off x="5670000" y="5207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53" h="100">
                    <a:moveTo>
                      <a:pt x="53" y="100"/>
                    </a:moveTo>
                    <a:lnTo>
                      <a:pt x="44" y="78"/>
                    </a:lnTo>
                    <a:lnTo>
                      <a:pt x="34" y="56"/>
                    </a:lnTo>
                    <a:lnTo>
                      <a:pt x="23" y="33"/>
                    </a:lnTo>
                    <a:lnTo>
                      <a:pt x="10" y="12"/>
                    </a:ln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656"/>
              <p:cNvSpPr/>
              <p:nvPr/>
            </p:nvSpPr>
            <p:spPr>
              <a:xfrm>
                <a:off x="5688720" y="518004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170" h="29">
                    <a:moveTo>
                      <a:pt x="170" y="11"/>
                    </a:moveTo>
                    <a:lnTo>
                      <a:pt x="154" y="16"/>
                    </a:lnTo>
                    <a:lnTo>
                      <a:pt x="140" y="20"/>
                    </a:lnTo>
                    <a:lnTo>
                      <a:pt x="125" y="23"/>
                    </a:lnTo>
                    <a:lnTo>
                      <a:pt x="112" y="26"/>
                    </a:lnTo>
                    <a:lnTo>
                      <a:pt x="99" y="28"/>
                    </a:lnTo>
                    <a:lnTo>
                      <a:pt x="87" y="29"/>
                    </a:lnTo>
                    <a:lnTo>
                      <a:pt x="74" y="29"/>
                    </a:lnTo>
                    <a:lnTo>
                      <a:pt x="63" y="29"/>
                    </a:lnTo>
                    <a:lnTo>
                      <a:pt x="53" y="27"/>
                    </a:lnTo>
                    <a:lnTo>
                      <a:pt x="43" y="26"/>
                    </a:lnTo>
                    <a:lnTo>
                      <a:pt x="34" y="22"/>
                    </a:lnTo>
                    <a:lnTo>
                      <a:pt x="27" y="20"/>
                    </a:lnTo>
                    <a:lnTo>
                      <a:pt x="19" y="16"/>
                    </a:lnTo>
                    <a:lnTo>
                      <a:pt x="11" y="11"/>
                    </a:lnTo>
                    <a:lnTo>
                      <a:pt x="6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657"/>
              <p:cNvSpPr/>
              <p:nvPr/>
            </p:nvSpPr>
            <p:spPr>
              <a:xfrm>
                <a:off x="5703120" y="519984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145" h="234">
                    <a:moveTo>
                      <a:pt x="145" y="0"/>
                    </a:moveTo>
                    <a:lnTo>
                      <a:pt x="129" y="2"/>
                    </a:lnTo>
                    <a:lnTo>
                      <a:pt x="116" y="6"/>
                    </a:lnTo>
                    <a:lnTo>
                      <a:pt x="103" y="9"/>
                    </a:lnTo>
                    <a:lnTo>
                      <a:pt x="90" y="15"/>
                    </a:lnTo>
                    <a:lnTo>
                      <a:pt x="78" y="20"/>
                    </a:lnTo>
                    <a:lnTo>
                      <a:pt x="67" y="28"/>
                    </a:lnTo>
                    <a:lnTo>
                      <a:pt x="57" y="36"/>
                    </a:lnTo>
                    <a:lnTo>
                      <a:pt x="48" y="46"/>
                    </a:lnTo>
                    <a:lnTo>
                      <a:pt x="40" y="56"/>
                    </a:lnTo>
                    <a:lnTo>
                      <a:pt x="32" y="67"/>
                    </a:lnTo>
                    <a:lnTo>
                      <a:pt x="25" y="79"/>
                    </a:lnTo>
                    <a:lnTo>
                      <a:pt x="20" y="92"/>
                    </a:lnTo>
                    <a:lnTo>
                      <a:pt x="14" y="108"/>
                    </a:lnTo>
                    <a:lnTo>
                      <a:pt x="10" y="122"/>
                    </a:lnTo>
                    <a:lnTo>
                      <a:pt x="5" y="139"/>
                    </a:lnTo>
                    <a:lnTo>
                      <a:pt x="3" y="156"/>
                    </a:lnTo>
                    <a:lnTo>
                      <a:pt x="3" y="159"/>
                    </a:lnTo>
                    <a:lnTo>
                      <a:pt x="3" y="163"/>
                    </a:lnTo>
                    <a:lnTo>
                      <a:pt x="1" y="172"/>
                    </a:lnTo>
                    <a:lnTo>
                      <a:pt x="0" y="180"/>
                    </a:lnTo>
                    <a:lnTo>
                      <a:pt x="1" y="189"/>
                    </a:lnTo>
                    <a:lnTo>
                      <a:pt x="3" y="199"/>
                    </a:lnTo>
                    <a:lnTo>
                      <a:pt x="3" y="207"/>
                    </a:lnTo>
                    <a:lnTo>
                      <a:pt x="5" y="216"/>
                    </a:lnTo>
                    <a:lnTo>
                      <a:pt x="9" y="226"/>
                    </a:lnTo>
                    <a:lnTo>
                      <a:pt x="13" y="2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658"/>
              <p:cNvSpPr/>
              <p:nvPr/>
            </p:nvSpPr>
            <p:spPr>
              <a:xfrm>
                <a:off x="5687640" y="5180040"/>
                <a:ext cx="13320" cy="38520"/>
              </a:xfrm>
              <a:custGeom>
                <a:avLst/>
                <a:gdLst/>
                <a:ahLst/>
                <a:rect l="l" t="t" r="r" b="b"/>
                <a:pathLst>
                  <a:path w="132" h="476">
                    <a:moveTo>
                      <a:pt x="6" y="0"/>
                    </a:moveTo>
                    <a:lnTo>
                      <a:pt x="3" y="9"/>
                    </a:lnTo>
                    <a:lnTo>
                      <a:pt x="2" y="19"/>
                    </a:lnTo>
                    <a:lnTo>
                      <a:pt x="0" y="29"/>
                    </a:lnTo>
                    <a:lnTo>
                      <a:pt x="2" y="39"/>
                    </a:lnTo>
                    <a:lnTo>
                      <a:pt x="3" y="46"/>
                    </a:lnTo>
                    <a:lnTo>
                      <a:pt x="3" y="52"/>
                    </a:lnTo>
                    <a:lnTo>
                      <a:pt x="4" y="59"/>
                    </a:lnTo>
                    <a:lnTo>
                      <a:pt x="6" y="64"/>
                    </a:lnTo>
                    <a:lnTo>
                      <a:pt x="22" y="89"/>
                    </a:lnTo>
                    <a:lnTo>
                      <a:pt x="36" y="113"/>
                    </a:lnTo>
                    <a:lnTo>
                      <a:pt x="49" y="136"/>
                    </a:lnTo>
                    <a:lnTo>
                      <a:pt x="61" y="160"/>
                    </a:lnTo>
                    <a:lnTo>
                      <a:pt x="73" y="183"/>
                    </a:lnTo>
                    <a:lnTo>
                      <a:pt x="84" y="205"/>
                    </a:lnTo>
                    <a:lnTo>
                      <a:pt x="93" y="227"/>
                    </a:lnTo>
                    <a:lnTo>
                      <a:pt x="101" y="250"/>
                    </a:lnTo>
                    <a:lnTo>
                      <a:pt x="108" y="271"/>
                    </a:lnTo>
                    <a:lnTo>
                      <a:pt x="115" y="292"/>
                    </a:lnTo>
                    <a:lnTo>
                      <a:pt x="120" y="312"/>
                    </a:lnTo>
                    <a:lnTo>
                      <a:pt x="124" y="332"/>
                    </a:lnTo>
                    <a:lnTo>
                      <a:pt x="127" y="350"/>
                    </a:lnTo>
                    <a:lnTo>
                      <a:pt x="129" y="369"/>
                    </a:lnTo>
                    <a:lnTo>
                      <a:pt x="130" y="387"/>
                    </a:lnTo>
                    <a:lnTo>
                      <a:pt x="130" y="405"/>
                    </a:lnTo>
                    <a:lnTo>
                      <a:pt x="132" y="415"/>
                    </a:lnTo>
                    <a:lnTo>
                      <a:pt x="132" y="425"/>
                    </a:lnTo>
                    <a:lnTo>
                      <a:pt x="132" y="434"/>
                    </a:lnTo>
                    <a:lnTo>
                      <a:pt x="130" y="444"/>
                    </a:lnTo>
                    <a:lnTo>
                      <a:pt x="129" y="452"/>
                    </a:lnTo>
                    <a:lnTo>
                      <a:pt x="128" y="460"/>
                    </a:lnTo>
                    <a:lnTo>
                      <a:pt x="126" y="468"/>
                    </a:lnTo>
                    <a:lnTo>
                      <a:pt x="122" y="47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659"/>
              <p:cNvSpPr/>
              <p:nvPr/>
            </p:nvSpPr>
            <p:spPr>
              <a:xfrm>
                <a:off x="5688720" y="5176080"/>
                <a:ext cx="7920" cy="3960"/>
              </a:xfrm>
              <a:custGeom>
                <a:avLst/>
                <a:gdLst/>
                <a:ahLst/>
                <a:rect l="l" t="t" r="r" b="b"/>
                <a:pathLst>
                  <a:path w="85" h="50">
                    <a:moveTo>
                      <a:pt x="85" y="0"/>
                    </a:moveTo>
                    <a:lnTo>
                      <a:pt x="70" y="3"/>
                    </a:lnTo>
                    <a:lnTo>
                      <a:pt x="55" y="8"/>
                    </a:lnTo>
                    <a:lnTo>
                      <a:pt x="43" y="13"/>
                    </a:lnTo>
                    <a:lnTo>
                      <a:pt x="31" y="19"/>
                    </a:lnTo>
                    <a:lnTo>
                      <a:pt x="21" y="26"/>
                    </a:lnTo>
                    <a:lnTo>
                      <a:pt x="13" y="33"/>
                    </a:lnTo>
                    <a:lnTo>
                      <a:pt x="6" y="41"/>
                    </a:lnTo>
                    <a:lnTo>
                      <a:pt x="0" y="5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660"/>
              <p:cNvSpPr/>
              <p:nvPr/>
            </p:nvSpPr>
            <p:spPr>
              <a:xfrm>
                <a:off x="5717880" y="5199840"/>
                <a:ext cx="9000" cy="720"/>
              </a:xfrm>
              <a:custGeom>
                <a:avLst/>
                <a:gdLst/>
                <a:ahLst/>
                <a:rect l="l" t="t" r="r" b="b"/>
                <a:pathLst>
                  <a:path w="92" h="9">
                    <a:moveTo>
                      <a:pt x="0" y="1"/>
                    </a:moveTo>
                    <a:lnTo>
                      <a:pt x="10" y="0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4" y="1"/>
                    </a:lnTo>
                    <a:lnTo>
                      <a:pt x="68" y="3"/>
                    </a:lnTo>
                    <a:lnTo>
                      <a:pt x="92" y="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661"/>
              <p:cNvSpPr/>
              <p:nvPr/>
            </p:nvSpPr>
            <p:spPr>
              <a:xfrm>
                <a:off x="5718960" y="5208120"/>
                <a:ext cx="14400" cy="14760"/>
              </a:xfrm>
              <a:custGeom>
                <a:avLst/>
                <a:gdLst/>
                <a:ahLst/>
                <a:rect l="l" t="t" r="r" b="b"/>
                <a:pathLst>
                  <a:path w="138" h="183">
                    <a:moveTo>
                      <a:pt x="132" y="126"/>
                    </a:moveTo>
                    <a:lnTo>
                      <a:pt x="134" y="122"/>
                    </a:lnTo>
                    <a:lnTo>
                      <a:pt x="135" y="115"/>
                    </a:lnTo>
                    <a:lnTo>
                      <a:pt x="136" y="108"/>
                    </a:lnTo>
                    <a:lnTo>
                      <a:pt x="138" y="98"/>
                    </a:lnTo>
                    <a:lnTo>
                      <a:pt x="138" y="75"/>
                    </a:lnTo>
                    <a:lnTo>
                      <a:pt x="135" y="49"/>
                    </a:lnTo>
                    <a:lnTo>
                      <a:pt x="133" y="41"/>
                    </a:lnTo>
                    <a:lnTo>
                      <a:pt x="130" y="33"/>
                    </a:lnTo>
                    <a:lnTo>
                      <a:pt x="126" y="28"/>
                    </a:lnTo>
                    <a:lnTo>
                      <a:pt x="123" y="22"/>
                    </a:lnTo>
                    <a:lnTo>
                      <a:pt x="118" y="17"/>
                    </a:lnTo>
                    <a:lnTo>
                      <a:pt x="113" y="12"/>
                    </a:lnTo>
                    <a:lnTo>
                      <a:pt x="106" y="9"/>
                    </a:lnTo>
                    <a:lnTo>
                      <a:pt x="101" y="6"/>
                    </a:lnTo>
                    <a:lnTo>
                      <a:pt x="93" y="3"/>
                    </a:lnTo>
                    <a:lnTo>
                      <a:pt x="86" y="2"/>
                    </a:lnTo>
                    <a:lnTo>
                      <a:pt x="78" y="1"/>
                    </a:lnTo>
                    <a:lnTo>
                      <a:pt x="70" y="0"/>
                    </a:lnTo>
                    <a:lnTo>
                      <a:pt x="60" y="1"/>
                    </a:lnTo>
                    <a:lnTo>
                      <a:pt x="50" y="2"/>
                    </a:lnTo>
                    <a:lnTo>
                      <a:pt x="40" y="3"/>
                    </a:lnTo>
                    <a:lnTo>
                      <a:pt x="29" y="6"/>
                    </a:lnTo>
                    <a:lnTo>
                      <a:pt x="35" y="17"/>
                    </a:lnTo>
                    <a:lnTo>
                      <a:pt x="40" y="27"/>
                    </a:lnTo>
                    <a:lnTo>
                      <a:pt x="45" y="37"/>
                    </a:lnTo>
                    <a:lnTo>
                      <a:pt x="49" y="47"/>
                    </a:lnTo>
                    <a:lnTo>
                      <a:pt x="52" y="57"/>
                    </a:lnTo>
                    <a:lnTo>
                      <a:pt x="53" y="67"/>
                    </a:lnTo>
                    <a:lnTo>
                      <a:pt x="55" y="77"/>
                    </a:lnTo>
                    <a:lnTo>
                      <a:pt x="55" y="85"/>
                    </a:lnTo>
                    <a:lnTo>
                      <a:pt x="55" y="95"/>
                    </a:lnTo>
                    <a:lnTo>
                      <a:pt x="53" y="104"/>
                    </a:lnTo>
                    <a:lnTo>
                      <a:pt x="52" y="113"/>
                    </a:lnTo>
                    <a:lnTo>
                      <a:pt x="49" y="122"/>
                    </a:lnTo>
                    <a:lnTo>
                      <a:pt x="45" y="130"/>
                    </a:lnTo>
                    <a:lnTo>
                      <a:pt x="40" y="139"/>
                    </a:lnTo>
                    <a:lnTo>
                      <a:pt x="35" y="146"/>
                    </a:lnTo>
                    <a:lnTo>
                      <a:pt x="29" y="155"/>
                    </a:lnTo>
                    <a:lnTo>
                      <a:pt x="14" y="169"/>
                    </a:lnTo>
                    <a:lnTo>
                      <a:pt x="0" y="18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662"/>
              <p:cNvSpPr/>
              <p:nvPr/>
            </p:nvSpPr>
            <p:spPr>
              <a:xfrm>
                <a:off x="5717880" y="5194080"/>
                <a:ext cx="13320" cy="576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128" y="0"/>
                    </a:moveTo>
                    <a:lnTo>
                      <a:pt x="98" y="5"/>
                    </a:lnTo>
                    <a:lnTo>
                      <a:pt x="72" y="10"/>
                    </a:lnTo>
                    <a:lnTo>
                      <a:pt x="60" y="13"/>
                    </a:lnTo>
                    <a:lnTo>
                      <a:pt x="50" y="17"/>
                    </a:lnTo>
                    <a:lnTo>
                      <a:pt x="40" y="21"/>
                    </a:lnTo>
                    <a:lnTo>
                      <a:pt x="32" y="26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0"/>
                    </a:lnTo>
                    <a:lnTo>
                      <a:pt x="8" y="46"/>
                    </a:lnTo>
                    <a:lnTo>
                      <a:pt x="4" y="51"/>
                    </a:lnTo>
                    <a:lnTo>
                      <a:pt x="2" y="58"/>
                    </a:lnTo>
                    <a:lnTo>
                      <a:pt x="0" y="64"/>
                    </a:lnTo>
                    <a:lnTo>
                      <a:pt x="0" y="7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663"/>
              <p:cNvSpPr/>
              <p:nvPr/>
            </p:nvSpPr>
            <p:spPr>
              <a:xfrm>
                <a:off x="5751000" y="5129640"/>
                <a:ext cx="55800" cy="94320"/>
              </a:xfrm>
              <a:custGeom>
                <a:avLst/>
                <a:gdLst/>
                <a:ahLst/>
                <a:rect l="l" t="t" r="r" b="b"/>
                <a:pathLst>
                  <a:path w="544" h="1147">
                    <a:moveTo>
                      <a:pt x="544" y="0"/>
                    </a:moveTo>
                    <a:lnTo>
                      <a:pt x="511" y="69"/>
                    </a:lnTo>
                    <a:lnTo>
                      <a:pt x="481" y="130"/>
                    </a:lnTo>
                    <a:lnTo>
                      <a:pt x="453" y="185"/>
                    </a:lnTo>
                    <a:lnTo>
                      <a:pt x="430" y="233"/>
                    </a:lnTo>
                    <a:lnTo>
                      <a:pt x="409" y="274"/>
                    </a:lnTo>
                    <a:lnTo>
                      <a:pt x="391" y="308"/>
                    </a:lnTo>
                    <a:lnTo>
                      <a:pt x="377" y="335"/>
                    </a:lnTo>
                    <a:lnTo>
                      <a:pt x="367" y="355"/>
                    </a:lnTo>
                    <a:lnTo>
                      <a:pt x="363" y="383"/>
                    </a:lnTo>
                    <a:lnTo>
                      <a:pt x="361" y="414"/>
                    </a:lnTo>
                    <a:lnTo>
                      <a:pt x="359" y="447"/>
                    </a:lnTo>
                    <a:lnTo>
                      <a:pt x="358" y="483"/>
                    </a:lnTo>
                    <a:lnTo>
                      <a:pt x="355" y="521"/>
                    </a:lnTo>
                    <a:lnTo>
                      <a:pt x="354" y="562"/>
                    </a:lnTo>
                    <a:lnTo>
                      <a:pt x="353" y="607"/>
                    </a:lnTo>
                    <a:lnTo>
                      <a:pt x="352" y="653"/>
                    </a:lnTo>
                    <a:lnTo>
                      <a:pt x="351" y="677"/>
                    </a:lnTo>
                    <a:lnTo>
                      <a:pt x="351" y="699"/>
                    </a:lnTo>
                    <a:lnTo>
                      <a:pt x="349" y="720"/>
                    </a:lnTo>
                    <a:lnTo>
                      <a:pt x="348" y="740"/>
                    </a:lnTo>
                    <a:lnTo>
                      <a:pt x="344" y="760"/>
                    </a:lnTo>
                    <a:lnTo>
                      <a:pt x="341" y="777"/>
                    </a:lnTo>
                    <a:lnTo>
                      <a:pt x="338" y="794"/>
                    </a:lnTo>
                    <a:lnTo>
                      <a:pt x="333" y="811"/>
                    </a:lnTo>
                    <a:lnTo>
                      <a:pt x="328" y="825"/>
                    </a:lnTo>
                    <a:lnTo>
                      <a:pt x="322" y="840"/>
                    </a:lnTo>
                    <a:lnTo>
                      <a:pt x="317" y="852"/>
                    </a:lnTo>
                    <a:lnTo>
                      <a:pt x="310" y="864"/>
                    </a:lnTo>
                    <a:lnTo>
                      <a:pt x="302" y="875"/>
                    </a:lnTo>
                    <a:lnTo>
                      <a:pt x="294" y="885"/>
                    </a:lnTo>
                    <a:lnTo>
                      <a:pt x="287" y="894"/>
                    </a:lnTo>
                    <a:lnTo>
                      <a:pt x="277" y="902"/>
                    </a:lnTo>
                    <a:lnTo>
                      <a:pt x="247" y="925"/>
                    </a:lnTo>
                    <a:lnTo>
                      <a:pt x="225" y="944"/>
                    </a:lnTo>
                    <a:lnTo>
                      <a:pt x="211" y="956"/>
                    </a:lnTo>
                    <a:lnTo>
                      <a:pt x="206" y="962"/>
                    </a:lnTo>
                    <a:lnTo>
                      <a:pt x="188" y="996"/>
                    </a:lnTo>
                    <a:lnTo>
                      <a:pt x="171" y="1023"/>
                    </a:lnTo>
                    <a:lnTo>
                      <a:pt x="164" y="1034"/>
                    </a:lnTo>
                    <a:lnTo>
                      <a:pt x="156" y="1044"/>
                    </a:lnTo>
                    <a:lnTo>
                      <a:pt x="149" y="1051"/>
                    </a:lnTo>
                    <a:lnTo>
                      <a:pt x="142" y="1058"/>
                    </a:lnTo>
                    <a:lnTo>
                      <a:pt x="127" y="1068"/>
                    </a:lnTo>
                    <a:lnTo>
                      <a:pt x="111" y="1079"/>
                    </a:lnTo>
                    <a:lnTo>
                      <a:pt x="96" y="1089"/>
                    </a:lnTo>
                    <a:lnTo>
                      <a:pt x="78" y="1100"/>
                    </a:lnTo>
                    <a:lnTo>
                      <a:pt x="71" y="1105"/>
                    </a:lnTo>
                    <a:lnTo>
                      <a:pt x="55" y="1113"/>
                    </a:lnTo>
                    <a:lnTo>
                      <a:pt x="32" y="1128"/>
                    </a:lnTo>
                    <a:lnTo>
                      <a:pt x="0" y="114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664"/>
              <p:cNvSpPr/>
              <p:nvPr/>
            </p:nvSpPr>
            <p:spPr>
              <a:xfrm>
                <a:off x="5692680" y="5106600"/>
                <a:ext cx="29880" cy="7920"/>
              </a:xfrm>
              <a:custGeom>
                <a:avLst/>
                <a:gdLst/>
                <a:ahLst/>
                <a:rect l="l" t="t" r="r" b="b"/>
                <a:pathLst>
                  <a:path w="289" h="102">
                    <a:moveTo>
                      <a:pt x="289" y="102"/>
                    </a:moveTo>
                    <a:lnTo>
                      <a:pt x="271" y="88"/>
                    </a:lnTo>
                    <a:lnTo>
                      <a:pt x="255" y="74"/>
                    </a:lnTo>
                    <a:lnTo>
                      <a:pt x="238" y="63"/>
                    </a:lnTo>
                    <a:lnTo>
                      <a:pt x="220" y="52"/>
                    </a:lnTo>
                    <a:lnTo>
                      <a:pt x="203" y="42"/>
                    </a:lnTo>
                    <a:lnTo>
                      <a:pt x="186" y="33"/>
                    </a:lnTo>
                    <a:lnTo>
                      <a:pt x="168" y="26"/>
                    </a:lnTo>
                    <a:lnTo>
                      <a:pt x="150" y="19"/>
                    </a:lnTo>
                    <a:lnTo>
                      <a:pt x="131" y="13"/>
                    </a:lnTo>
                    <a:lnTo>
                      <a:pt x="114" y="9"/>
                    </a:lnTo>
                    <a:lnTo>
                      <a:pt x="95" y="6"/>
                    </a:lnTo>
                    <a:lnTo>
                      <a:pt x="77" y="2"/>
                    </a:lnTo>
                    <a:lnTo>
                      <a:pt x="58" y="1"/>
                    </a:lnTo>
                    <a:lnTo>
                      <a:pt x="39" y="0"/>
                    </a:lnTo>
                    <a:lnTo>
                      <a:pt x="20" y="1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665"/>
              <p:cNvSpPr/>
              <p:nvPr/>
            </p:nvSpPr>
            <p:spPr>
              <a:xfrm>
                <a:off x="5885280" y="5111280"/>
                <a:ext cx="55800" cy="15480"/>
              </a:xfrm>
              <a:custGeom>
                <a:avLst/>
                <a:gdLst/>
                <a:ahLst/>
                <a:rect l="l" t="t" r="r" b="b"/>
                <a:pathLst>
                  <a:path w="532" h="192">
                    <a:moveTo>
                      <a:pt x="0" y="192"/>
                    </a:moveTo>
                    <a:lnTo>
                      <a:pt x="35" y="186"/>
                    </a:lnTo>
                    <a:lnTo>
                      <a:pt x="70" y="181"/>
                    </a:lnTo>
                    <a:lnTo>
                      <a:pt x="103" y="173"/>
                    </a:lnTo>
                    <a:lnTo>
                      <a:pt x="135" y="166"/>
                    </a:lnTo>
                    <a:lnTo>
                      <a:pt x="167" y="158"/>
                    </a:lnTo>
                    <a:lnTo>
                      <a:pt x="197" y="150"/>
                    </a:lnTo>
                    <a:lnTo>
                      <a:pt x="227" y="141"/>
                    </a:lnTo>
                    <a:lnTo>
                      <a:pt x="255" y="132"/>
                    </a:lnTo>
                    <a:lnTo>
                      <a:pt x="271" y="128"/>
                    </a:lnTo>
                    <a:lnTo>
                      <a:pt x="286" y="125"/>
                    </a:lnTo>
                    <a:lnTo>
                      <a:pt x="301" y="121"/>
                    </a:lnTo>
                    <a:lnTo>
                      <a:pt x="316" y="117"/>
                    </a:lnTo>
                    <a:lnTo>
                      <a:pt x="346" y="109"/>
                    </a:lnTo>
                    <a:lnTo>
                      <a:pt x="375" y="99"/>
                    </a:lnTo>
                    <a:lnTo>
                      <a:pt x="404" y="86"/>
                    </a:lnTo>
                    <a:lnTo>
                      <a:pt x="430" y="72"/>
                    </a:lnTo>
                    <a:lnTo>
                      <a:pt x="457" y="56"/>
                    </a:lnTo>
                    <a:lnTo>
                      <a:pt x="484" y="40"/>
                    </a:lnTo>
                    <a:lnTo>
                      <a:pt x="508" y="21"/>
                    </a:lnTo>
                    <a:lnTo>
                      <a:pt x="53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666"/>
              <p:cNvSpPr/>
              <p:nvPr/>
            </p:nvSpPr>
            <p:spPr>
              <a:xfrm>
                <a:off x="5882040" y="5186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388" h="235">
                    <a:moveTo>
                      <a:pt x="388" y="129"/>
                    </a:moveTo>
                    <a:lnTo>
                      <a:pt x="384" y="120"/>
                    </a:lnTo>
                    <a:lnTo>
                      <a:pt x="380" y="111"/>
                    </a:lnTo>
                    <a:lnTo>
                      <a:pt x="375" y="98"/>
                    </a:lnTo>
                    <a:lnTo>
                      <a:pt x="371" y="86"/>
                    </a:lnTo>
                    <a:lnTo>
                      <a:pt x="368" y="74"/>
                    </a:lnTo>
                    <a:lnTo>
                      <a:pt x="362" y="62"/>
                    </a:lnTo>
                    <a:lnTo>
                      <a:pt x="357" y="51"/>
                    </a:lnTo>
                    <a:lnTo>
                      <a:pt x="350" y="42"/>
                    </a:lnTo>
                    <a:lnTo>
                      <a:pt x="343" y="35"/>
                    </a:lnTo>
                    <a:lnTo>
                      <a:pt x="335" y="27"/>
                    </a:lnTo>
                    <a:lnTo>
                      <a:pt x="329" y="20"/>
                    </a:lnTo>
                    <a:lnTo>
                      <a:pt x="321" y="15"/>
                    </a:lnTo>
                    <a:lnTo>
                      <a:pt x="312" y="10"/>
                    </a:lnTo>
                    <a:lnTo>
                      <a:pt x="304" y="7"/>
                    </a:lnTo>
                    <a:lnTo>
                      <a:pt x="295" y="4"/>
                    </a:lnTo>
                    <a:lnTo>
                      <a:pt x="286" y="1"/>
                    </a:lnTo>
                    <a:lnTo>
                      <a:pt x="277" y="0"/>
                    </a:lnTo>
                    <a:lnTo>
                      <a:pt x="267" y="0"/>
                    </a:lnTo>
                    <a:lnTo>
                      <a:pt x="257" y="0"/>
                    </a:lnTo>
                    <a:lnTo>
                      <a:pt x="246" y="1"/>
                    </a:lnTo>
                    <a:lnTo>
                      <a:pt x="236" y="3"/>
                    </a:lnTo>
                    <a:lnTo>
                      <a:pt x="224" y="5"/>
                    </a:lnTo>
                    <a:lnTo>
                      <a:pt x="210" y="11"/>
                    </a:lnTo>
                    <a:lnTo>
                      <a:pt x="196" y="21"/>
                    </a:lnTo>
                    <a:lnTo>
                      <a:pt x="179" y="34"/>
                    </a:lnTo>
                    <a:lnTo>
                      <a:pt x="163" y="48"/>
                    </a:lnTo>
                    <a:lnTo>
                      <a:pt x="146" y="62"/>
                    </a:lnTo>
                    <a:lnTo>
                      <a:pt x="127" y="80"/>
                    </a:lnTo>
                    <a:lnTo>
                      <a:pt x="108" y="99"/>
                    </a:lnTo>
                    <a:lnTo>
                      <a:pt x="87" y="122"/>
                    </a:lnTo>
                    <a:lnTo>
                      <a:pt x="66" y="147"/>
                    </a:lnTo>
                    <a:lnTo>
                      <a:pt x="45" y="174"/>
                    </a:lnTo>
                    <a:lnTo>
                      <a:pt x="23" y="203"/>
                    </a:lnTo>
                    <a:lnTo>
                      <a:pt x="0" y="23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667"/>
              <p:cNvSpPr/>
              <p:nvPr/>
            </p:nvSpPr>
            <p:spPr>
              <a:xfrm>
                <a:off x="5921640" y="5191560"/>
                <a:ext cx="24840" cy="5760"/>
              </a:xfrm>
              <a:custGeom>
                <a:avLst/>
                <a:gdLst/>
                <a:ahLst/>
                <a:rect l="l" t="t" r="r" b="b"/>
                <a:pathLst>
                  <a:path w="230" h="63">
                    <a:moveTo>
                      <a:pt x="230" y="39"/>
                    </a:moveTo>
                    <a:lnTo>
                      <a:pt x="216" y="29"/>
                    </a:lnTo>
                    <a:lnTo>
                      <a:pt x="199" y="20"/>
                    </a:lnTo>
                    <a:lnTo>
                      <a:pt x="182" y="13"/>
                    </a:lnTo>
                    <a:lnTo>
                      <a:pt x="163" y="6"/>
                    </a:lnTo>
                    <a:lnTo>
                      <a:pt x="155" y="6"/>
                    </a:lnTo>
                    <a:lnTo>
                      <a:pt x="146" y="4"/>
                    </a:lnTo>
                    <a:lnTo>
                      <a:pt x="137" y="2"/>
                    </a:lnTo>
                    <a:lnTo>
                      <a:pt x="127" y="0"/>
                    </a:lnTo>
                    <a:lnTo>
                      <a:pt x="125" y="0"/>
                    </a:lnTo>
                    <a:lnTo>
                      <a:pt x="120" y="0"/>
                    </a:lnTo>
                    <a:lnTo>
                      <a:pt x="112" y="0"/>
                    </a:lnTo>
                    <a:lnTo>
                      <a:pt x="104" y="1"/>
                    </a:lnTo>
                    <a:lnTo>
                      <a:pt x="95" y="4"/>
                    </a:lnTo>
                    <a:lnTo>
                      <a:pt x="86" y="8"/>
                    </a:lnTo>
                    <a:lnTo>
                      <a:pt x="77" y="11"/>
                    </a:lnTo>
                    <a:lnTo>
                      <a:pt x="67" y="16"/>
                    </a:lnTo>
                    <a:lnTo>
                      <a:pt x="58" y="22"/>
                    </a:lnTo>
                    <a:lnTo>
                      <a:pt x="49" y="27"/>
                    </a:lnTo>
                    <a:lnTo>
                      <a:pt x="36" y="34"/>
                    </a:lnTo>
                    <a:lnTo>
                      <a:pt x="23" y="43"/>
                    </a:lnTo>
                    <a:lnTo>
                      <a:pt x="11" y="53"/>
                    </a:lnTo>
                    <a:lnTo>
                      <a:pt x="0" y="6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668"/>
              <p:cNvSpPr/>
              <p:nvPr/>
            </p:nvSpPr>
            <p:spPr>
              <a:xfrm>
                <a:off x="5856120" y="5199840"/>
                <a:ext cx="25920" cy="7200"/>
              </a:xfrm>
              <a:custGeom>
                <a:avLst/>
                <a:gdLst/>
                <a:ahLst/>
                <a:rect l="l" t="t" r="r" b="b"/>
                <a:pathLst>
                  <a:path w="248" h="87">
                    <a:moveTo>
                      <a:pt x="248" y="72"/>
                    </a:moveTo>
                    <a:lnTo>
                      <a:pt x="238" y="55"/>
                    </a:lnTo>
                    <a:lnTo>
                      <a:pt x="228" y="39"/>
                    </a:lnTo>
                    <a:lnTo>
                      <a:pt x="223" y="32"/>
                    </a:lnTo>
                    <a:lnTo>
                      <a:pt x="217" y="27"/>
                    </a:lnTo>
                    <a:lnTo>
                      <a:pt x="211" y="21"/>
                    </a:lnTo>
                    <a:lnTo>
                      <a:pt x="205" y="16"/>
                    </a:lnTo>
                    <a:lnTo>
                      <a:pt x="198" y="13"/>
                    </a:lnTo>
                    <a:lnTo>
                      <a:pt x="192" y="8"/>
                    </a:lnTo>
                    <a:lnTo>
                      <a:pt x="185" y="6"/>
                    </a:lnTo>
                    <a:lnTo>
                      <a:pt x="179" y="3"/>
                    </a:lnTo>
                    <a:lnTo>
                      <a:pt x="172" y="1"/>
                    </a:lnTo>
                    <a:lnTo>
                      <a:pt x="164" y="0"/>
                    </a:lnTo>
                    <a:lnTo>
                      <a:pt x="157" y="0"/>
                    </a:lnTo>
                    <a:lnTo>
                      <a:pt x="150" y="0"/>
                    </a:lnTo>
                    <a:lnTo>
                      <a:pt x="133" y="3"/>
                    </a:lnTo>
                    <a:lnTo>
                      <a:pt x="116" y="7"/>
                    </a:lnTo>
                    <a:lnTo>
                      <a:pt x="100" y="15"/>
                    </a:lnTo>
                    <a:lnTo>
                      <a:pt x="81" y="24"/>
                    </a:lnTo>
                    <a:lnTo>
                      <a:pt x="62" y="36"/>
                    </a:lnTo>
                    <a:lnTo>
                      <a:pt x="42" y="50"/>
                    </a:lnTo>
                    <a:lnTo>
                      <a:pt x="21" y="68"/>
                    </a:lnTo>
                    <a:lnTo>
                      <a:pt x="0" y="8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669"/>
              <p:cNvSpPr/>
              <p:nvPr/>
            </p:nvSpPr>
            <p:spPr>
              <a:xfrm>
                <a:off x="5841360" y="520740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142" h="198">
                    <a:moveTo>
                      <a:pt x="142" y="0"/>
                    </a:moveTo>
                    <a:lnTo>
                      <a:pt x="45" y="135"/>
                    </a:lnTo>
                    <a:lnTo>
                      <a:pt x="0" y="19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670"/>
              <p:cNvSpPr/>
              <p:nvPr/>
            </p:nvSpPr>
            <p:spPr>
              <a:xfrm>
                <a:off x="5830200" y="5223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03" h="100">
                    <a:moveTo>
                      <a:pt x="103" y="0"/>
                    </a:moveTo>
                    <a:lnTo>
                      <a:pt x="91" y="9"/>
                    </a:lnTo>
                    <a:lnTo>
                      <a:pt x="80" y="17"/>
                    </a:lnTo>
                    <a:lnTo>
                      <a:pt x="70" y="26"/>
                    </a:lnTo>
                    <a:lnTo>
                      <a:pt x="60" y="36"/>
                    </a:lnTo>
                    <a:lnTo>
                      <a:pt x="40" y="55"/>
                    </a:lnTo>
                    <a:lnTo>
                      <a:pt x="21" y="76"/>
                    </a:lnTo>
                    <a:lnTo>
                      <a:pt x="11" y="88"/>
                    </a:lnTo>
                    <a:lnTo>
                      <a:pt x="0" y="10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671"/>
              <p:cNvSpPr/>
              <p:nvPr/>
            </p:nvSpPr>
            <p:spPr>
              <a:xfrm>
                <a:off x="5470200" y="5163480"/>
                <a:ext cx="36000" cy="7200"/>
              </a:xfrm>
              <a:custGeom>
                <a:avLst/>
                <a:gdLst/>
                <a:ahLst/>
                <a:rect l="l" t="t" r="r" b="b"/>
                <a:pathLst>
                  <a:path w="352" h="85">
                    <a:moveTo>
                      <a:pt x="352" y="85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672"/>
              <p:cNvSpPr/>
              <p:nvPr/>
            </p:nvSpPr>
            <p:spPr>
              <a:xfrm>
                <a:off x="5506560" y="517104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0"/>
                    </a:moveTo>
                    <a:lnTo>
                      <a:pt x="10" y="4"/>
                    </a:lnTo>
                    <a:lnTo>
                      <a:pt x="14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673"/>
              <p:cNvSpPr/>
              <p:nvPr/>
            </p:nvSpPr>
            <p:spPr>
              <a:xfrm>
                <a:off x="5507640" y="4858920"/>
                <a:ext cx="9360" cy="311760"/>
              </a:xfrm>
              <a:custGeom>
                <a:avLst/>
                <a:gdLst/>
                <a:ahLst/>
                <a:rect l="l" t="t" r="r" b="b"/>
                <a:pathLst>
                  <a:path w="85" h="3773">
                    <a:moveTo>
                      <a:pt x="1" y="3773"/>
                    </a:moveTo>
                    <a:lnTo>
                      <a:pt x="0" y="3536"/>
                    </a:lnTo>
                    <a:lnTo>
                      <a:pt x="0" y="3300"/>
                    </a:lnTo>
                    <a:lnTo>
                      <a:pt x="0" y="3064"/>
                    </a:lnTo>
                    <a:lnTo>
                      <a:pt x="2" y="2829"/>
                    </a:lnTo>
                    <a:lnTo>
                      <a:pt x="4" y="2593"/>
                    </a:lnTo>
                    <a:lnTo>
                      <a:pt x="8" y="2357"/>
                    </a:lnTo>
                    <a:lnTo>
                      <a:pt x="12" y="2120"/>
                    </a:lnTo>
                    <a:lnTo>
                      <a:pt x="17" y="1885"/>
                    </a:lnTo>
                    <a:lnTo>
                      <a:pt x="22" y="1649"/>
                    </a:lnTo>
                    <a:lnTo>
                      <a:pt x="29" y="1414"/>
                    </a:lnTo>
                    <a:lnTo>
                      <a:pt x="37" y="1178"/>
                    </a:lnTo>
                    <a:lnTo>
                      <a:pt x="44" y="943"/>
                    </a:lnTo>
                    <a:lnTo>
                      <a:pt x="53" y="707"/>
                    </a:lnTo>
                    <a:lnTo>
                      <a:pt x="63" y="472"/>
                    </a:lnTo>
                    <a:lnTo>
                      <a:pt x="74" y="235"/>
                    </a:lnTo>
                    <a:lnTo>
                      <a:pt x="8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674"/>
              <p:cNvSpPr/>
              <p:nvPr/>
            </p:nvSpPr>
            <p:spPr>
              <a:xfrm>
                <a:off x="5546880" y="5178240"/>
                <a:ext cx="17640" cy="13320"/>
              </a:xfrm>
              <a:custGeom>
                <a:avLst/>
                <a:gdLst/>
                <a:ahLst/>
                <a:rect l="l" t="t" r="r" b="b"/>
                <a:pathLst>
                  <a:path w="163" h="164">
                    <a:moveTo>
                      <a:pt x="0" y="82"/>
                    </a:moveTo>
                    <a:lnTo>
                      <a:pt x="0" y="90"/>
                    </a:lnTo>
                    <a:lnTo>
                      <a:pt x="1" y="98"/>
                    </a:lnTo>
                    <a:lnTo>
                      <a:pt x="3" y="105"/>
                    </a:lnTo>
                    <a:lnTo>
                      <a:pt x="5" y="112"/>
                    </a:lnTo>
                    <a:lnTo>
                      <a:pt x="8" y="119"/>
                    </a:lnTo>
                    <a:lnTo>
                      <a:pt x="13" y="126"/>
                    </a:lnTo>
                    <a:lnTo>
                      <a:pt x="18" y="132"/>
                    </a:lnTo>
                    <a:lnTo>
                      <a:pt x="25" y="139"/>
                    </a:lnTo>
                    <a:lnTo>
                      <a:pt x="31" y="144"/>
                    </a:lnTo>
                    <a:lnTo>
                      <a:pt x="36" y="149"/>
                    </a:lnTo>
                    <a:lnTo>
                      <a:pt x="43" y="153"/>
                    </a:lnTo>
                    <a:lnTo>
                      <a:pt x="51" y="157"/>
                    </a:lnTo>
                    <a:lnTo>
                      <a:pt x="57" y="160"/>
                    </a:lnTo>
                    <a:lnTo>
                      <a:pt x="65" y="162"/>
                    </a:lnTo>
                    <a:lnTo>
                      <a:pt x="74" y="163"/>
                    </a:lnTo>
                    <a:lnTo>
                      <a:pt x="82" y="164"/>
                    </a:lnTo>
                    <a:lnTo>
                      <a:pt x="91" y="163"/>
                    </a:lnTo>
                    <a:lnTo>
                      <a:pt x="98" y="162"/>
                    </a:lnTo>
                    <a:lnTo>
                      <a:pt x="106" y="160"/>
                    </a:lnTo>
                    <a:lnTo>
                      <a:pt x="114" y="157"/>
                    </a:lnTo>
                    <a:lnTo>
                      <a:pt x="120" y="153"/>
                    </a:lnTo>
                    <a:lnTo>
                      <a:pt x="127" y="149"/>
                    </a:lnTo>
                    <a:lnTo>
                      <a:pt x="133" y="144"/>
                    </a:lnTo>
                    <a:lnTo>
                      <a:pt x="138" y="139"/>
                    </a:lnTo>
                    <a:lnTo>
                      <a:pt x="145" y="132"/>
                    </a:lnTo>
                    <a:lnTo>
                      <a:pt x="149" y="126"/>
                    </a:lnTo>
                    <a:lnTo>
                      <a:pt x="154" y="119"/>
                    </a:lnTo>
                    <a:lnTo>
                      <a:pt x="157" y="112"/>
                    </a:lnTo>
                    <a:lnTo>
                      <a:pt x="159" y="105"/>
                    </a:lnTo>
                    <a:lnTo>
                      <a:pt x="162" y="98"/>
                    </a:lnTo>
                    <a:lnTo>
                      <a:pt x="163" y="90"/>
                    </a:lnTo>
                    <a:lnTo>
                      <a:pt x="163" y="82"/>
                    </a:lnTo>
                    <a:lnTo>
                      <a:pt x="163" y="73"/>
                    </a:lnTo>
                    <a:lnTo>
                      <a:pt x="162" y="65"/>
                    </a:lnTo>
                    <a:lnTo>
                      <a:pt x="159" y="57"/>
                    </a:lnTo>
                    <a:lnTo>
                      <a:pt x="157" y="49"/>
                    </a:lnTo>
                    <a:lnTo>
                      <a:pt x="154" y="42"/>
                    </a:lnTo>
                    <a:lnTo>
                      <a:pt x="149" y="36"/>
                    </a:lnTo>
                    <a:lnTo>
                      <a:pt x="145" y="29"/>
                    </a:lnTo>
                    <a:lnTo>
                      <a:pt x="138" y="21"/>
                    </a:lnTo>
                    <a:lnTo>
                      <a:pt x="133" y="17"/>
                    </a:lnTo>
                    <a:lnTo>
                      <a:pt x="127" y="13"/>
                    </a:lnTo>
                    <a:lnTo>
                      <a:pt x="120" y="9"/>
                    </a:lnTo>
                    <a:lnTo>
                      <a:pt x="114" y="6"/>
                    </a:lnTo>
                    <a:lnTo>
                      <a:pt x="106" y="4"/>
                    </a:lnTo>
                    <a:lnTo>
                      <a:pt x="98" y="1"/>
                    </a:lnTo>
                    <a:lnTo>
                      <a:pt x="91" y="1"/>
                    </a:lnTo>
                    <a:lnTo>
                      <a:pt x="82" y="0"/>
                    </a:lnTo>
                    <a:lnTo>
                      <a:pt x="74" y="1"/>
                    </a:lnTo>
                    <a:lnTo>
                      <a:pt x="65" y="1"/>
                    </a:lnTo>
                    <a:lnTo>
                      <a:pt x="57" y="4"/>
                    </a:lnTo>
                    <a:lnTo>
                      <a:pt x="51" y="6"/>
                    </a:lnTo>
                    <a:lnTo>
                      <a:pt x="43" y="9"/>
                    </a:lnTo>
                    <a:lnTo>
                      <a:pt x="36" y="13"/>
                    </a:lnTo>
                    <a:lnTo>
                      <a:pt x="31" y="17"/>
                    </a:lnTo>
                    <a:lnTo>
                      <a:pt x="25" y="21"/>
                    </a:lnTo>
                    <a:lnTo>
                      <a:pt x="18" y="29"/>
                    </a:lnTo>
                    <a:lnTo>
                      <a:pt x="13" y="36"/>
                    </a:lnTo>
                    <a:lnTo>
                      <a:pt x="8" y="42"/>
                    </a:lnTo>
                    <a:lnTo>
                      <a:pt x="5" y="49"/>
                    </a:lnTo>
                    <a:lnTo>
                      <a:pt x="3" y="57"/>
                    </a:lnTo>
                    <a:lnTo>
                      <a:pt x="1" y="65"/>
                    </a:lnTo>
                    <a:lnTo>
                      <a:pt x="0" y="73"/>
                    </a:lnTo>
                    <a:lnTo>
                      <a:pt x="0" y="8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675"/>
              <p:cNvSpPr/>
              <p:nvPr/>
            </p:nvSpPr>
            <p:spPr>
              <a:xfrm>
                <a:off x="5549040" y="5205600"/>
                <a:ext cx="15480" cy="2880"/>
              </a:xfrm>
              <a:custGeom>
                <a:avLst/>
                <a:gdLst/>
                <a:ahLst/>
                <a:rect l="l" t="t" r="r" b="b"/>
                <a:pathLst>
                  <a:path w="153" h="39">
                    <a:moveTo>
                      <a:pt x="153" y="0"/>
                    </a:moveTo>
                    <a:lnTo>
                      <a:pt x="0" y="39"/>
                    </a:lnTo>
                    <a:lnTo>
                      <a:pt x="4" y="3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1676"/>
              <p:cNvSpPr/>
              <p:nvPr/>
            </p:nvSpPr>
            <p:spPr>
              <a:xfrm flipH="1">
                <a:off x="5621040" y="5162760"/>
                <a:ext cx="93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1677"/>
              <p:cNvSpPr/>
              <p:nvPr/>
            </p:nvSpPr>
            <p:spPr>
              <a:xfrm>
                <a:off x="5630400" y="5155920"/>
                <a:ext cx="40320" cy="6480"/>
              </a:xfrm>
              <a:custGeom>
                <a:avLst/>
                <a:gdLst/>
                <a:ahLst/>
                <a:rect l="l" t="t" r="r" b="b"/>
                <a:pathLst>
                  <a:path w="391" h="81">
                    <a:moveTo>
                      <a:pt x="391" y="10"/>
                    </a:moveTo>
                    <a:lnTo>
                      <a:pt x="348" y="5"/>
                    </a:lnTo>
                    <a:lnTo>
                      <a:pt x="305" y="1"/>
                    </a:lnTo>
                    <a:lnTo>
                      <a:pt x="265" y="0"/>
                    </a:lnTo>
                    <a:lnTo>
                      <a:pt x="229" y="1"/>
                    </a:lnTo>
                    <a:lnTo>
                      <a:pt x="193" y="5"/>
                    </a:lnTo>
                    <a:lnTo>
                      <a:pt x="160" y="9"/>
                    </a:lnTo>
                    <a:lnTo>
                      <a:pt x="129" y="16"/>
                    </a:lnTo>
                    <a:lnTo>
                      <a:pt x="100" y="25"/>
                    </a:lnTo>
                    <a:lnTo>
                      <a:pt x="100" y="25"/>
                    </a:lnTo>
                    <a:lnTo>
                      <a:pt x="97" y="28"/>
                    </a:lnTo>
                    <a:lnTo>
                      <a:pt x="78" y="36"/>
                    </a:lnTo>
                    <a:lnTo>
                      <a:pt x="60" y="45"/>
                    </a:lnTo>
                    <a:lnTo>
                      <a:pt x="42" y="54"/>
                    </a:lnTo>
                    <a:lnTo>
                      <a:pt x="26" y="63"/>
                    </a:lnTo>
                    <a:lnTo>
                      <a:pt x="20" y="67"/>
                    </a:lnTo>
                    <a:lnTo>
                      <a:pt x="17" y="70"/>
                    </a:lnTo>
                    <a:lnTo>
                      <a:pt x="12" y="72"/>
                    </a:lnTo>
                    <a:lnTo>
                      <a:pt x="8" y="73"/>
                    </a:lnTo>
                    <a:lnTo>
                      <a:pt x="6" y="78"/>
                    </a:lnTo>
                    <a:lnTo>
                      <a:pt x="0" y="8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1678"/>
              <p:cNvSpPr/>
              <p:nvPr/>
            </p:nvSpPr>
            <p:spPr>
              <a:xfrm>
                <a:off x="5640840" y="514440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53" h="174">
                    <a:moveTo>
                      <a:pt x="53" y="0"/>
                    </a:moveTo>
                    <a:lnTo>
                      <a:pt x="41" y="23"/>
                    </a:lnTo>
                    <a:lnTo>
                      <a:pt x="30" y="45"/>
                    </a:lnTo>
                    <a:lnTo>
                      <a:pt x="20" y="68"/>
                    </a:lnTo>
                    <a:lnTo>
                      <a:pt x="13" y="88"/>
                    </a:lnTo>
                    <a:lnTo>
                      <a:pt x="6" y="107"/>
                    </a:lnTo>
                    <a:lnTo>
                      <a:pt x="3" y="125"/>
                    </a:lnTo>
                    <a:lnTo>
                      <a:pt x="1" y="143"/>
                    </a:lnTo>
                    <a:lnTo>
                      <a:pt x="0" y="160"/>
                    </a:lnTo>
                    <a:lnTo>
                      <a:pt x="0" y="166"/>
                    </a:lnTo>
                    <a:lnTo>
                      <a:pt x="0" y="17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1679"/>
              <p:cNvSpPr/>
              <p:nvPr/>
            </p:nvSpPr>
            <p:spPr>
              <a:xfrm>
                <a:off x="5549040" y="5208840"/>
                <a:ext cx="19800" cy="2520"/>
              </a:xfrm>
              <a:custGeom>
                <a:avLst/>
                <a:gdLst/>
                <a:ahLst/>
                <a:rect l="l" t="t" r="r" b="b"/>
                <a:pathLst>
                  <a:path w="188" h="29">
                    <a:moveTo>
                      <a:pt x="0" y="0"/>
                    </a:moveTo>
                    <a:lnTo>
                      <a:pt x="185" y="29"/>
                    </a:lnTo>
                    <a:lnTo>
                      <a:pt x="188" y="2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1680"/>
              <p:cNvSpPr/>
              <p:nvPr/>
            </p:nvSpPr>
            <p:spPr>
              <a:xfrm>
                <a:off x="5573160" y="5208840"/>
                <a:ext cx="12240" cy="2520"/>
              </a:xfrm>
              <a:custGeom>
                <a:avLst/>
                <a:gdLst/>
                <a:ahLst/>
                <a:rect l="l" t="t" r="r" b="b"/>
                <a:pathLst>
                  <a:path w="128" h="28">
                    <a:moveTo>
                      <a:pt x="128" y="0"/>
                    </a:moveTo>
                    <a:lnTo>
                      <a:pt x="0" y="28"/>
                    </a:lnTo>
                    <a:lnTo>
                      <a:pt x="4" y="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681"/>
              <p:cNvSpPr/>
              <p:nvPr/>
            </p:nvSpPr>
            <p:spPr>
              <a:xfrm>
                <a:off x="5585760" y="520812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1682"/>
              <p:cNvSpPr/>
              <p:nvPr/>
            </p:nvSpPr>
            <p:spPr>
              <a:xfrm>
                <a:off x="5581440" y="5208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47" h="3">
                    <a:moveTo>
                      <a:pt x="44" y="3"/>
                    </a:moveTo>
                    <a:lnTo>
                      <a:pt x="47" y="3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1683"/>
              <p:cNvSpPr/>
              <p:nvPr/>
            </p:nvSpPr>
            <p:spPr>
              <a:xfrm>
                <a:off x="5581440" y="52074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18" y="0"/>
                    </a:moveTo>
                    <a:lnTo>
                      <a:pt x="5" y="0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684"/>
              <p:cNvSpPr/>
              <p:nvPr/>
            </p:nvSpPr>
            <p:spPr>
              <a:xfrm flipH="1" flipV="1">
                <a:off x="5573160" y="5211720"/>
                <a:ext cx="12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685"/>
              <p:cNvSpPr/>
              <p:nvPr/>
            </p:nvSpPr>
            <p:spPr>
              <a:xfrm flipV="1">
                <a:off x="5568840" y="5207760"/>
                <a:ext cx="165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686"/>
              <p:cNvSpPr/>
              <p:nvPr/>
            </p:nvSpPr>
            <p:spPr>
              <a:xfrm flipV="1">
                <a:off x="5600160" y="5208480"/>
                <a:ext cx="1080" cy="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1687"/>
              <p:cNvSpPr/>
              <p:nvPr/>
            </p:nvSpPr>
            <p:spPr>
              <a:xfrm>
                <a:off x="5600160" y="5209920"/>
                <a:ext cx="13680" cy="1440"/>
              </a:xfrm>
              <a:custGeom>
                <a:avLst/>
                <a:gdLst/>
                <a:ahLst/>
                <a:rect l="l" t="t" r="r" b="b"/>
                <a:pathLst>
                  <a:path w="128" h="14">
                    <a:moveTo>
                      <a:pt x="0" y="14"/>
                    </a:moveTo>
                    <a:lnTo>
                      <a:pt x="49" y="0"/>
                    </a:lnTo>
                    <a:lnTo>
                      <a:pt x="128" y="1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1688"/>
              <p:cNvSpPr/>
              <p:nvPr/>
            </p:nvSpPr>
            <p:spPr>
              <a:xfrm>
                <a:off x="5589720" y="521172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103" h="28">
                    <a:moveTo>
                      <a:pt x="3" y="28"/>
                    </a:moveTo>
                    <a:lnTo>
                      <a:pt x="0" y="28"/>
                    </a:lnTo>
                    <a:lnTo>
                      <a:pt x="10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1689"/>
              <p:cNvSpPr/>
              <p:nvPr/>
            </p:nvSpPr>
            <p:spPr>
              <a:xfrm>
                <a:off x="5585760" y="5208120"/>
                <a:ext cx="14040" cy="720"/>
              </a:xfrm>
              <a:custGeom>
                <a:avLst/>
                <a:gdLst/>
                <a:ahLst/>
                <a:rect l="l" t="t" r="r" b="b"/>
                <a:pathLst>
                  <a:path w="135" h="11">
                    <a:moveTo>
                      <a:pt x="0" y="11"/>
                    </a:moveTo>
                    <a:lnTo>
                      <a:pt x="42" y="0"/>
                    </a:lnTo>
                    <a:lnTo>
                      <a:pt x="135" y="1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1690"/>
              <p:cNvSpPr/>
              <p:nvPr/>
            </p:nvSpPr>
            <p:spPr>
              <a:xfrm flipH="1">
                <a:off x="5585400" y="5208840"/>
                <a:ext cx="1404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1691"/>
              <p:cNvSpPr/>
              <p:nvPr/>
            </p:nvSpPr>
            <p:spPr>
              <a:xfrm>
                <a:off x="5624280" y="5162760"/>
                <a:ext cx="13320" cy="37800"/>
              </a:xfrm>
              <a:custGeom>
                <a:avLst/>
                <a:gdLst/>
                <a:ahLst/>
                <a:rect l="l" t="t" r="r" b="b"/>
                <a:pathLst>
                  <a:path w="130" h="455">
                    <a:moveTo>
                      <a:pt x="65" y="0"/>
                    </a:moveTo>
                    <a:lnTo>
                      <a:pt x="56" y="8"/>
                    </a:lnTo>
                    <a:lnTo>
                      <a:pt x="48" y="16"/>
                    </a:lnTo>
                    <a:lnTo>
                      <a:pt x="40" y="25"/>
                    </a:lnTo>
                    <a:lnTo>
                      <a:pt x="33" y="34"/>
                    </a:lnTo>
                    <a:lnTo>
                      <a:pt x="26" y="43"/>
                    </a:lnTo>
                    <a:lnTo>
                      <a:pt x="21" y="52"/>
                    </a:lnTo>
                    <a:lnTo>
                      <a:pt x="15" y="63"/>
                    </a:lnTo>
                    <a:lnTo>
                      <a:pt x="11" y="73"/>
                    </a:lnTo>
                    <a:lnTo>
                      <a:pt x="8" y="85"/>
                    </a:lnTo>
                    <a:lnTo>
                      <a:pt x="4" y="96"/>
                    </a:lnTo>
                    <a:lnTo>
                      <a:pt x="2" y="107"/>
                    </a:lnTo>
                    <a:lnTo>
                      <a:pt x="1" y="119"/>
                    </a:lnTo>
                    <a:lnTo>
                      <a:pt x="0" y="132"/>
                    </a:lnTo>
                    <a:lnTo>
                      <a:pt x="0" y="144"/>
                    </a:lnTo>
                    <a:lnTo>
                      <a:pt x="1" y="158"/>
                    </a:lnTo>
                    <a:lnTo>
                      <a:pt x="2" y="171"/>
                    </a:lnTo>
                    <a:lnTo>
                      <a:pt x="4" y="185"/>
                    </a:lnTo>
                    <a:lnTo>
                      <a:pt x="8" y="200"/>
                    </a:lnTo>
                    <a:lnTo>
                      <a:pt x="11" y="214"/>
                    </a:lnTo>
                    <a:lnTo>
                      <a:pt x="15" y="230"/>
                    </a:lnTo>
                    <a:lnTo>
                      <a:pt x="25" y="262"/>
                    </a:lnTo>
                    <a:lnTo>
                      <a:pt x="39" y="294"/>
                    </a:lnTo>
                    <a:lnTo>
                      <a:pt x="55" y="330"/>
                    </a:lnTo>
                    <a:lnTo>
                      <a:pt x="75" y="366"/>
                    </a:lnTo>
                    <a:lnTo>
                      <a:pt x="97" y="404"/>
                    </a:lnTo>
                    <a:lnTo>
                      <a:pt x="123" y="444"/>
                    </a:lnTo>
                    <a:lnTo>
                      <a:pt x="123" y="446"/>
                    </a:lnTo>
                    <a:lnTo>
                      <a:pt x="125" y="449"/>
                    </a:lnTo>
                    <a:lnTo>
                      <a:pt x="127" y="452"/>
                    </a:lnTo>
                    <a:lnTo>
                      <a:pt x="130" y="4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1692"/>
              <p:cNvSpPr/>
              <p:nvPr/>
            </p:nvSpPr>
            <p:spPr>
              <a:xfrm>
                <a:off x="5637600" y="520056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103" h="177">
                    <a:moveTo>
                      <a:pt x="0" y="0"/>
                    </a:moveTo>
                    <a:lnTo>
                      <a:pt x="85" y="131"/>
                    </a:lnTo>
                    <a:lnTo>
                      <a:pt x="103" y="17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1693"/>
              <p:cNvSpPr/>
              <p:nvPr/>
            </p:nvSpPr>
            <p:spPr>
              <a:xfrm>
                <a:off x="5612760" y="5190840"/>
                <a:ext cx="19800" cy="21240"/>
              </a:xfrm>
              <a:custGeom>
                <a:avLst/>
                <a:gdLst/>
                <a:ahLst/>
                <a:rect l="l" t="t" r="r" b="b"/>
                <a:pathLst>
                  <a:path w="191" h="259">
                    <a:moveTo>
                      <a:pt x="0" y="0"/>
                    </a:moveTo>
                    <a:lnTo>
                      <a:pt x="5" y="16"/>
                    </a:lnTo>
                    <a:lnTo>
                      <a:pt x="10" y="33"/>
                    </a:lnTo>
                    <a:lnTo>
                      <a:pt x="18" y="50"/>
                    </a:lnTo>
                    <a:lnTo>
                      <a:pt x="25" y="66"/>
                    </a:lnTo>
                    <a:lnTo>
                      <a:pt x="34" y="83"/>
                    </a:lnTo>
                    <a:lnTo>
                      <a:pt x="43" y="99"/>
                    </a:lnTo>
                    <a:lnTo>
                      <a:pt x="53" y="116"/>
                    </a:lnTo>
                    <a:lnTo>
                      <a:pt x="65" y="132"/>
                    </a:lnTo>
                    <a:lnTo>
                      <a:pt x="77" y="148"/>
                    </a:lnTo>
                    <a:lnTo>
                      <a:pt x="90" y="165"/>
                    </a:lnTo>
                    <a:lnTo>
                      <a:pt x="105" y="180"/>
                    </a:lnTo>
                    <a:lnTo>
                      <a:pt x="120" y="196"/>
                    </a:lnTo>
                    <a:lnTo>
                      <a:pt x="137" y="213"/>
                    </a:lnTo>
                    <a:lnTo>
                      <a:pt x="153" y="228"/>
                    </a:lnTo>
                    <a:lnTo>
                      <a:pt x="172" y="244"/>
                    </a:lnTo>
                    <a:lnTo>
                      <a:pt x="191" y="25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1694"/>
              <p:cNvSpPr/>
              <p:nvPr/>
            </p:nvSpPr>
            <p:spPr>
              <a:xfrm>
                <a:off x="5621040" y="5212440"/>
                <a:ext cx="11520" cy="720"/>
              </a:xfrm>
              <a:custGeom>
                <a:avLst/>
                <a:gdLst/>
                <a:ahLst/>
                <a:rect l="l" t="t" r="r" b="b"/>
                <a:pathLst>
                  <a:path w="106" h="18">
                    <a:moveTo>
                      <a:pt x="106" y="8"/>
                    </a:moveTo>
                    <a:lnTo>
                      <a:pt x="57" y="0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1695"/>
              <p:cNvSpPr/>
              <p:nvPr/>
            </p:nvSpPr>
            <p:spPr>
              <a:xfrm flipV="1">
                <a:off x="5621040" y="5211720"/>
                <a:ext cx="1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1696"/>
              <p:cNvSpPr/>
              <p:nvPr/>
            </p:nvSpPr>
            <p:spPr>
              <a:xfrm>
                <a:off x="5613840" y="5210640"/>
                <a:ext cx="68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1697"/>
              <p:cNvSpPr/>
              <p:nvPr/>
            </p:nvSpPr>
            <p:spPr>
              <a:xfrm>
                <a:off x="5603400" y="519588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92" h="177">
                    <a:moveTo>
                      <a:pt x="0" y="0"/>
                    </a:moveTo>
                    <a:lnTo>
                      <a:pt x="1" y="15"/>
                    </a:lnTo>
                    <a:lnTo>
                      <a:pt x="3" y="30"/>
                    </a:lnTo>
                    <a:lnTo>
                      <a:pt x="6" y="44"/>
                    </a:lnTo>
                    <a:lnTo>
                      <a:pt x="10" y="57"/>
                    </a:lnTo>
                    <a:lnTo>
                      <a:pt x="13" y="71"/>
                    </a:lnTo>
                    <a:lnTo>
                      <a:pt x="18" y="84"/>
                    </a:lnTo>
                    <a:lnTo>
                      <a:pt x="23" y="95"/>
                    </a:lnTo>
                    <a:lnTo>
                      <a:pt x="29" y="106"/>
                    </a:lnTo>
                    <a:lnTo>
                      <a:pt x="34" y="117"/>
                    </a:lnTo>
                    <a:lnTo>
                      <a:pt x="41" y="127"/>
                    </a:lnTo>
                    <a:lnTo>
                      <a:pt x="49" y="137"/>
                    </a:lnTo>
                    <a:lnTo>
                      <a:pt x="56" y="146"/>
                    </a:lnTo>
                    <a:lnTo>
                      <a:pt x="64" y="155"/>
                    </a:lnTo>
                    <a:lnTo>
                      <a:pt x="73" y="163"/>
                    </a:lnTo>
                    <a:lnTo>
                      <a:pt x="82" y="169"/>
                    </a:lnTo>
                    <a:lnTo>
                      <a:pt x="92" y="17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Line 1698"/>
              <p:cNvSpPr/>
              <p:nvPr/>
            </p:nvSpPr>
            <p:spPr>
              <a:xfrm flipH="1">
                <a:off x="5624640" y="523224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Line 1699"/>
              <p:cNvSpPr/>
              <p:nvPr/>
            </p:nvSpPr>
            <p:spPr>
              <a:xfrm>
                <a:off x="5625000" y="523224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1700"/>
              <p:cNvSpPr/>
              <p:nvPr/>
            </p:nvSpPr>
            <p:spPr>
              <a:xfrm>
                <a:off x="5640840" y="52257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Line 1701"/>
              <p:cNvSpPr/>
              <p:nvPr/>
            </p:nvSpPr>
            <p:spPr>
              <a:xfrm flipH="1" flipV="1">
                <a:off x="5636160" y="5224680"/>
                <a:ext cx="39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1702"/>
              <p:cNvSpPr/>
              <p:nvPr/>
            </p:nvSpPr>
            <p:spPr>
              <a:xfrm flipV="1">
                <a:off x="5640840" y="5225760"/>
                <a:ext cx="1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1703"/>
              <p:cNvSpPr/>
              <p:nvPr/>
            </p:nvSpPr>
            <p:spPr>
              <a:xfrm flipV="1">
                <a:off x="5631480" y="5218200"/>
                <a:ext cx="72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1704"/>
              <p:cNvSpPr/>
              <p:nvPr/>
            </p:nvSpPr>
            <p:spPr>
              <a:xfrm flipH="1" flipV="1">
                <a:off x="5631480" y="5223960"/>
                <a:ext cx="5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1705"/>
              <p:cNvSpPr/>
              <p:nvPr/>
            </p:nvSpPr>
            <p:spPr>
              <a:xfrm flipH="1">
                <a:off x="5626080" y="5227200"/>
                <a:ext cx="14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1706"/>
              <p:cNvSpPr/>
              <p:nvPr/>
            </p:nvSpPr>
            <p:spPr>
              <a:xfrm flipV="1">
                <a:off x="5636520" y="5218200"/>
                <a:ext cx="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Line 1707"/>
              <p:cNvSpPr/>
              <p:nvPr/>
            </p:nvSpPr>
            <p:spPr>
              <a:xfrm flipV="1">
                <a:off x="5614920" y="522216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1708"/>
              <p:cNvSpPr/>
              <p:nvPr/>
            </p:nvSpPr>
            <p:spPr>
              <a:xfrm>
                <a:off x="5614920" y="5222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1709"/>
              <p:cNvSpPr/>
              <p:nvPr/>
            </p:nvSpPr>
            <p:spPr>
              <a:xfrm>
                <a:off x="5589720" y="5213160"/>
                <a:ext cx="17640" cy="2520"/>
              </a:xfrm>
              <a:custGeom>
                <a:avLst/>
                <a:gdLst/>
                <a:ahLst/>
                <a:rect l="l" t="t" r="r" b="b"/>
                <a:pathLst>
                  <a:path w="168" h="22">
                    <a:moveTo>
                      <a:pt x="168" y="22"/>
                    </a:moveTo>
                    <a:lnTo>
                      <a:pt x="164" y="2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Line 1710"/>
              <p:cNvSpPr/>
              <p:nvPr/>
            </p:nvSpPr>
            <p:spPr>
              <a:xfrm flipH="1">
                <a:off x="5611680" y="5215680"/>
                <a:ext cx="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1711"/>
              <p:cNvSpPr/>
              <p:nvPr/>
            </p:nvSpPr>
            <p:spPr>
              <a:xfrm flipV="1">
                <a:off x="5607360" y="5215680"/>
                <a:ext cx="108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Line 1712"/>
              <p:cNvSpPr/>
              <p:nvPr/>
            </p:nvSpPr>
            <p:spPr>
              <a:xfrm flipH="1" flipV="1">
                <a:off x="5607000" y="5221440"/>
                <a:ext cx="39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Line 1713"/>
              <p:cNvSpPr/>
              <p:nvPr/>
            </p:nvSpPr>
            <p:spPr>
              <a:xfrm>
                <a:off x="5621040" y="5231520"/>
                <a:ext cx="108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1714"/>
              <p:cNvSpPr/>
              <p:nvPr/>
            </p:nvSpPr>
            <p:spPr>
              <a:xfrm>
                <a:off x="5615640" y="522288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56" h="18">
                    <a:moveTo>
                      <a:pt x="156" y="15"/>
                    </a:moveTo>
                    <a:lnTo>
                      <a:pt x="50" y="0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Line 1715"/>
              <p:cNvSpPr/>
              <p:nvPr/>
            </p:nvSpPr>
            <p:spPr>
              <a:xfrm>
                <a:off x="5614920" y="5222160"/>
                <a:ext cx="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1716"/>
              <p:cNvSpPr/>
              <p:nvPr/>
            </p:nvSpPr>
            <p:spPr>
              <a:xfrm>
                <a:off x="5611680" y="5222160"/>
                <a:ext cx="28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1717"/>
              <p:cNvSpPr/>
              <p:nvPr/>
            </p:nvSpPr>
            <p:spPr>
              <a:xfrm>
                <a:off x="5599080" y="5243760"/>
                <a:ext cx="21600" cy="4680"/>
              </a:xfrm>
              <a:custGeom>
                <a:avLst/>
                <a:gdLst/>
                <a:ahLst/>
                <a:rect l="l" t="t" r="r" b="b"/>
                <a:pathLst>
                  <a:path w="217" h="67">
                    <a:moveTo>
                      <a:pt x="0" y="0"/>
                    </a:moveTo>
                    <a:lnTo>
                      <a:pt x="0" y="32"/>
                    </a:lnTo>
                    <a:lnTo>
                      <a:pt x="217" y="6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1718"/>
              <p:cNvSpPr/>
              <p:nvPr/>
            </p:nvSpPr>
            <p:spPr>
              <a:xfrm>
                <a:off x="5625000" y="5248080"/>
                <a:ext cx="25920" cy="4680"/>
              </a:xfrm>
              <a:custGeom>
                <a:avLst/>
                <a:gdLst/>
                <a:ahLst/>
                <a:rect l="l" t="t" r="r" b="b"/>
                <a:pathLst>
                  <a:path w="245" h="60">
                    <a:moveTo>
                      <a:pt x="0" y="0"/>
                    </a:moveTo>
                    <a:lnTo>
                      <a:pt x="0" y="21"/>
                    </a:lnTo>
                    <a:lnTo>
                      <a:pt x="245" y="6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1719"/>
              <p:cNvSpPr/>
              <p:nvPr/>
            </p:nvSpPr>
            <p:spPr>
              <a:xfrm>
                <a:off x="5612760" y="5215680"/>
                <a:ext cx="18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1720"/>
              <p:cNvSpPr/>
              <p:nvPr/>
            </p:nvSpPr>
            <p:spPr>
              <a:xfrm flipH="1">
                <a:off x="5620680" y="5225760"/>
                <a:ext cx="1980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1721"/>
              <p:cNvSpPr/>
              <p:nvPr/>
            </p:nvSpPr>
            <p:spPr>
              <a:xfrm flipV="1">
                <a:off x="5625000" y="5231880"/>
                <a:ext cx="108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1722"/>
              <p:cNvSpPr/>
              <p:nvPr/>
            </p:nvSpPr>
            <p:spPr>
              <a:xfrm flipV="1">
                <a:off x="5621040" y="5248080"/>
                <a:ext cx="39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1723"/>
              <p:cNvSpPr/>
              <p:nvPr/>
            </p:nvSpPr>
            <p:spPr>
              <a:xfrm flipV="1">
                <a:off x="5589720" y="5220000"/>
                <a:ext cx="1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1724"/>
              <p:cNvSpPr/>
              <p:nvPr/>
            </p:nvSpPr>
            <p:spPr>
              <a:xfrm>
                <a:off x="5589720" y="5220720"/>
                <a:ext cx="17640" cy="72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8" y="15"/>
                    </a:moveTo>
                    <a:lnTo>
                      <a:pt x="57" y="0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1725"/>
              <p:cNvSpPr/>
              <p:nvPr/>
            </p:nvSpPr>
            <p:spPr>
              <a:xfrm>
                <a:off x="5594760" y="5222160"/>
                <a:ext cx="19800" cy="5760"/>
              </a:xfrm>
              <a:custGeom>
                <a:avLst/>
                <a:gdLst/>
                <a:ahLst/>
                <a:rect l="l" t="t" r="r" b="b"/>
                <a:pathLst>
                  <a:path w="199" h="71">
                    <a:moveTo>
                      <a:pt x="0" y="71"/>
                    </a:moveTo>
                    <a:lnTo>
                      <a:pt x="3" y="71"/>
                    </a:lnTo>
                    <a:lnTo>
                      <a:pt x="19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1726"/>
              <p:cNvSpPr/>
              <p:nvPr/>
            </p:nvSpPr>
            <p:spPr>
              <a:xfrm>
                <a:off x="5599080" y="522900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1727"/>
              <p:cNvSpPr/>
              <p:nvPr/>
            </p:nvSpPr>
            <p:spPr>
              <a:xfrm>
                <a:off x="5599080" y="52290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1728"/>
              <p:cNvSpPr/>
              <p:nvPr/>
            </p:nvSpPr>
            <p:spPr>
              <a:xfrm flipH="1">
                <a:off x="5571720" y="522576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1729"/>
              <p:cNvSpPr/>
              <p:nvPr/>
            </p:nvSpPr>
            <p:spPr>
              <a:xfrm>
                <a:off x="5572080" y="522576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Line 1730"/>
              <p:cNvSpPr/>
              <p:nvPr/>
            </p:nvSpPr>
            <p:spPr>
              <a:xfrm>
                <a:off x="5573160" y="5217480"/>
                <a:ext cx="12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1731"/>
              <p:cNvSpPr/>
              <p:nvPr/>
            </p:nvSpPr>
            <p:spPr>
              <a:xfrm>
                <a:off x="5568840" y="521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36" h="3">
                    <a:moveTo>
                      <a:pt x="36" y="0"/>
                    </a:moveTo>
                    <a:lnTo>
                      <a:pt x="15" y="0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1732"/>
              <p:cNvSpPr/>
              <p:nvPr/>
            </p:nvSpPr>
            <p:spPr>
              <a:xfrm>
                <a:off x="5572080" y="5240520"/>
                <a:ext cx="22680" cy="4680"/>
              </a:xfrm>
              <a:custGeom>
                <a:avLst/>
                <a:gdLst/>
                <a:ahLst/>
                <a:rect l="l" t="t" r="r" b="b"/>
                <a:pathLst>
                  <a:path w="217" h="56">
                    <a:moveTo>
                      <a:pt x="0" y="0"/>
                    </a:moveTo>
                    <a:lnTo>
                      <a:pt x="0" y="24"/>
                    </a:lnTo>
                    <a:lnTo>
                      <a:pt x="217" y="56"/>
                    </a:lnTo>
                    <a:lnTo>
                      <a:pt x="217" y="5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1733"/>
              <p:cNvSpPr/>
              <p:nvPr/>
            </p:nvSpPr>
            <p:spPr>
              <a:xfrm flipV="1">
                <a:off x="5594760" y="5243760"/>
                <a:ext cx="3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Line 1734"/>
              <p:cNvSpPr/>
              <p:nvPr/>
            </p:nvSpPr>
            <p:spPr>
              <a:xfrm flipH="1">
                <a:off x="5571720" y="5226480"/>
                <a:ext cx="108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Line 1735"/>
              <p:cNvSpPr/>
              <p:nvPr/>
            </p:nvSpPr>
            <p:spPr>
              <a:xfrm flipH="1">
                <a:off x="5572800" y="5221440"/>
                <a:ext cx="1620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1736"/>
              <p:cNvSpPr/>
              <p:nvPr/>
            </p:nvSpPr>
            <p:spPr>
              <a:xfrm>
                <a:off x="5573160" y="5225760"/>
                <a:ext cx="2160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1737"/>
              <p:cNvSpPr/>
              <p:nvPr/>
            </p:nvSpPr>
            <p:spPr>
              <a:xfrm>
                <a:off x="5585760" y="5218920"/>
                <a:ext cx="39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1738"/>
              <p:cNvSpPr/>
              <p:nvPr/>
            </p:nvSpPr>
            <p:spPr>
              <a:xfrm flipV="1">
                <a:off x="5594760" y="5227560"/>
                <a:ext cx="108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Line 1739"/>
              <p:cNvSpPr/>
              <p:nvPr/>
            </p:nvSpPr>
            <p:spPr>
              <a:xfrm flipV="1">
                <a:off x="5599080" y="5228640"/>
                <a:ext cx="720" cy="1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Line 1740"/>
              <p:cNvSpPr/>
              <p:nvPr/>
            </p:nvSpPr>
            <p:spPr>
              <a:xfrm flipH="1">
                <a:off x="5598720" y="5224680"/>
                <a:ext cx="1620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Line 1741"/>
              <p:cNvSpPr/>
              <p:nvPr/>
            </p:nvSpPr>
            <p:spPr>
              <a:xfrm>
                <a:off x="5599080" y="5229000"/>
                <a:ext cx="21600" cy="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Line 1742"/>
              <p:cNvSpPr/>
              <p:nvPr/>
            </p:nvSpPr>
            <p:spPr>
              <a:xfrm>
                <a:off x="5568120" y="5225760"/>
                <a:ext cx="72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1743"/>
              <p:cNvSpPr/>
              <p:nvPr/>
            </p:nvSpPr>
            <p:spPr>
              <a:xfrm>
                <a:off x="5550480" y="521568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163" h="17">
                    <a:moveTo>
                      <a:pt x="163" y="17"/>
                    </a:move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1744"/>
              <p:cNvSpPr/>
              <p:nvPr/>
            </p:nvSpPr>
            <p:spPr>
              <a:xfrm flipV="1">
                <a:off x="5566680" y="521748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1745"/>
              <p:cNvSpPr/>
              <p:nvPr/>
            </p:nvSpPr>
            <p:spPr>
              <a:xfrm flipV="1">
                <a:off x="5548320" y="521460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1746"/>
              <p:cNvSpPr/>
              <p:nvPr/>
            </p:nvSpPr>
            <p:spPr>
              <a:xfrm>
                <a:off x="5548320" y="52146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1747"/>
              <p:cNvSpPr/>
              <p:nvPr/>
            </p:nvSpPr>
            <p:spPr>
              <a:xfrm>
                <a:off x="6003720" y="4510080"/>
                <a:ext cx="106920" cy="153000"/>
              </a:xfrm>
              <a:custGeom>
                <a:avLst/>
                <a:gdLst/>
                <a:ahLst/>
                <a:rect l="l" t="t" r="r" b="b"/>
                <a:pathLst>
                  <a:path w="1035" h="1852">
                    <a:moveTo>
                      <a:pt x="366" y="1852"/>
                    </a:moveTo>
                    <a:lnTo>
                      <a:pt x="360" y="1850"/>
                    </a:lnTo>
                    <a:lnTo>
                      <a:pt x="355" y="1847"/>
                    </a:lnTo>
                    <a:lnTo>
                      <a:pt x="350" y="1842"/>
                    </a:lnTo>
                    <a:lnTo>
                      <a:pt x="346" y="1837"/>
                    </a:lnTo>
                    <a:lnTo>
                      <a:pt x="341" y="1831"/>
                    </a:lnTo>
                    <a:lnTo>
                      <a:pt x="338" y="1823"/>
                    </a:lnTo>
                    <a:lnTo>
                      <a:pt x="333" y="1816"/>
                    </a:lnTo>
                    <a:lnTo>
                      <a:pt x="330" y="1808"/>
                    </a:lnTo>
                    <a:lnTo>
                      <a:pt x="324" y="1787"/>
                    </a:lnTo>
                    <a:lnTo>
                      <a:pt x="318" y="1764"/>
                    </a:lnTo>
                    <a:lnTo>
                      <a:pt x="314" y="1737"/>
                    </a:lnTo>
                    <a:lnTo>
                      <a:pt x="309" y="1706"/>
                    </a:lnTo>
                    <a:lnTo>
                      <a:pt x="307" y="1671"/>
                    </a:lnTo>
                    <a:lnTo>
                      <a:pt x="305" y="1633"/>
                    </a:lnTo>
                    <a:lnTo>
                      <a:pt x="304" y="1592"/>
                    </a:lnTo>
                    <a:lnTo>
                      <a:pt x="304" y="1546"/>
                    </a:lnTo>
                    <a:lnTo>
                      <a:pt x="305" y="1497"/>
                    </a:lnTo>
                    <a:lnTo>
                      <a:pt x="306" y="1445"/>
                    </a:lnTo>
                    <a:lnTo>
                      <a:pt x="308" y="1390"/>
                    </a:lnTo>
                    <a:lnTo>
                      <a:pt x="312" y="1330"/>
                    </a:lnTo>
                    <a:lnTo>
                      <a:pt x="299" y="1323"/>
                    </a:lnTo>
                    <a:lnTo>
                      <a:pt x="286" y="1317"/>
                    </a:lnTo>
                    <a:lnTo>
                      <a:pt x="274" y="1308"/>
                    </a:lnTo>
                    <a:lnTo>
                      <a:pt x="260" y="1299"/>
                    </a:lnTo>
                    <a:lnTo>
                      <a:pt x="248" y="1290"/>
                    </a:lnTo>
                    <a:lnTo>
                      <a:pt x="236" y="1280"/>
                    </a:lnTo>
                    <a:lnTo>
                      <a:pt x="225" y="1269"/>
                    </a:lnTo>
                    <a:lnTo>
                      <a:pt x="213" y="1257"/>
                    </a:lnTo>
                    <a:lnTo>
                      <a:pt x="201" y="1245"/>
                    </a:lnTo>
                    <a:lnTo>
                      <a:pt x="190" y="1231"/>
                    </a:lnTo>
                    <a:lnTo>
                      <a:pt x="179" y="1218"/>
                    </a:lnTo>
                    <a:lnTo>
                      <a:pt x="168" y="1204"/>
                    </a:lnTo>
                    <a:lnTo>
                      <a:pt x="158" y="1188"/>
                    </a:lnTo>
                    <a:lnTo>
                      <a:pt x="148" y="1173"/>
                    </a:lnTo>
                    <a:lnTo>
                      <a:pt x="137" y="1156"/>
                    </a:lnTo>
                    <a:lnTo>
                      <a:pt x="128" y="1139"/>
                    </a:lnTo>
                    <a:lnTo>
                      <a:pt x="108" y="1103"/>
                    </a:lnTo>
                    <a:lnTo>
                      <a:pt x="91" y="1063"/>
                    </a:lnTo>
                    <a:lnTo>
                      <a:pt x="73" y="1022"/>
                    </a:lnTo>
                    <a:lnTo>
                      <a:pt x="57" y="976"/>
                    </a:lnTo>
                    <a:lnTo>
                      <a:pt x="42" y="929"/>
                    </a:lnTo>
                    <a:lnTo>
                      <a:pt x="26" y="879"/>
                    </a:lnTo>
                    <a:lnTo>
                      <a:pt x="13" y="825"/>
                    </a:lnTo>
                    <a:lnTo>
                      <a:pt x="0" y="769"/>
                    </a:lnTo>
                    <a:lnTo>
                      <a:pt x="0" y="767"/>
                    </a:lnTo>
                    <a:lnTo>
                      <a:pt x="0" y="764"/>
                    </a:lnTo>
                    <a:lnTo>
                      <a:pt x="1" y="761"/>
                    </a:lnTo>
                    <a:lnTo>
                      <a:pt x="3" y="759"/>
                    </a:lnTo>
                    <a:lnTo>
                      <a:pt x="3" y="752"/>
                    </a:lnTo>
                    <a:lnTo>
                      <a:pt x="3" y="743"/>
                    </a:lnTo>
                    <a:lnTo>
                      <a:pt x="3" y="732"/>
                    </a:lnTo>
                    <a:lnTo>
                      <a:pt x="3" y="720"/>
                    </a:lnTo>
                    <a:lnTo>
                      <a:pt x="5" y="707"/>
                    </a:lnTo>
                    <a:lnTo>
                      <a:pt x="11" y="691"/>
                    </a:lnTo>
                    <a:lnTo>
                      <a:pt x="14" y="667"/>
                    </a:lnTo>
                    <a:lnTo>
                      <a:pt x="18" y="637"/>
                    </a:lnTo>
                    <a:lnTo>
                      <a:pt x="25" y="604"/>
                    </a:lnTo>
                    <a:lnTo>
                      <a:pt x="33" y="566"/>
                    </a:lnTo>
                    <a:lnTo>
                      <a:pt x="42" y="523"/>
                    </a:lnTo>
                    <a:lnTo>
                      <a:pt x="53" y="476"/>
                    </a:lnTo>
                    <a:lnTo>
                      <a:pt x="66" y="424"/>
                    </a:lnTo>
                    <a:lnTo>
                      <a:pt x="82" y="369"/>
                    </a:lnTo>
                    <a:lnTo>
                      <a:pt x="95" y="319"/>
                    </a:lnTo>
                    <a:lnTo>
                      <a:pt x="108" y="272"/>
                    </a:lnTo>
                    <a:lnTo>
                      <a:pt x="122" y="229"/>
                    </a:lnTo>
                    <a:lnTo>
                      <a:pt x="135" y="190"/>
                    </a:lnTo>
                    <a:lnTo>
                      <a:pt x="148" y="153"/>
                    </a:lnTo>
                    <a:lnTo>
                      <a:pt x="162" y="121"/>
                    </a:lnTo>
                    <a:lnTo>
                      <a:pt x="175" y="92"/>
                    </a:lnTo>
                    <a:lnTo>
                      <a:pt x="188" y="67"/>
                    </a:lnTo>
                    <a:lnTo>
                      <a:pt x="196" y="51"/>
                    </a:lnTo>
                    <a:lnTo>
                      <a:pt x="204" y="39"/>
                    </a:lnTo>
                    <a:lnTo>
                      <a:pt x="211" y="28"/>
                    </a:lnTo>
                    <a:lnTo>
                      <a:pt x="219" y="17"/>
                    </a:lnTo>
                    <a:lnTo>
                      <a:pt x="223" y="12"/>
                    </a:lnTo>
                    <a:lnTo>
                      <a:pt x="224" y="9"/>
                    </a:lnTo>
                    <a:lnTo>
                      <a:pt x="224" y="8"/>
                    </a:lnTo>
                    <a:lnTo>
                      <a:pt x="224" y="7"/>
                    </a:lnTo>
                    <a:lnTo>
                      <a:pt x="225" y="6"/>
                    </a:lnTo>
                    <a:lnTo>
                      <a:pt x="227" y="6"/>
                    </a:lnTo>
                    <a:lnTo>
                      <a:pt x="227" y="6"/>
                    </a:lnTo>
                    <a:lnTo>
                      <a:pt x="227" y="3"/>
                    </a:lnTo>
                    <a:lnTo>
                      <a:pt x="254" y="2"/>
                    </a:lnTo>
                    <a:lnTo>
                      <a:pt x="280" y="0"/>
                    </a:lnTo>
                    <a:lnTo>
                      <a:pt x="306" y="2"/>
                    </a:lnTo>
                    <a:lnTo>
                      <a:pt x="331" y="2"/>
                    </a:lnTo>
                    <a:lnTo>
                      <a:pt x="357" y="4"/>
                    </a:lnTo>
                    <a:lnTo>
                      <a:pt x="380" y="6"/>
                    </a:lnTo>
                    <a:lnTo>
                      <a:pt x="404" y="9"/>
                    </a:lnTo>
                    <a:lnTo>
                      <a:pt x="428" y="13"/>
                    </a:lnTo>
                    <a:lnTo>
                      <a:pt x="450" y="17"/>
                    </a:lnTo>
                    <a:lnTo>
                      <a:pt x="472" y="23"/>
                    </a:lnTo>
                    <a:lnTo>
                      <a:pt x="493" y="28"/>
                    </a:lnTo>
                    <a:lnTo>
                      <a:pt x="514" y="36"/>
                    </a:lnTo>
                    <a:lnTo>
                      <a:pt x="534" y="43"/>
                    </a:lnTo>
                    <a:lnTo>
                      <a:pt x="554" y="51"/>
                    </a:lnTo>
                    <a:lnTo>
                      <a:pt x="574" y="60"/>
                    </a:lnTo>
                    <a:lnTo>
                      <a:pt x="593" y="69"/>
                    </a:lnTo>
                    <a:lnTo>
                      <a:pt x="611" y="80"/>
                    </a:lnTo>
                    <a:lnTo>
                      <a:pt x="629" y="91"/>
                    </a:lnTo>
                    <a:lnTo>
                      <a:pt x="645" y="104"/>
                    </a:lnTo>
                    <a:lnTo>
                      <a:pt x="662" y="116"/>
                    </a:lnTo>
                    <a:lnTo>
                      <a:pt x="679" y="129"/>
                    </a:lnTo>
                    <a:lnTo>
                      <a:pt x="694" y="143"/>
                    </a:lnTo>
                    <a:lnTo>
                      <a:pt x="708" y="158"/>
                    </a:lnTo>
                    <a:lnTo>
                      <a:pt x="723" y="173"/>
                    </a:lnTo>
                    <a:lnTo>
                      <a:pt x="737" y="190"/>
                    </a:lnTo>
                    <a:lnTo>
                      <a:pt x="751" y="208"/>
                    </a:lnTo>
                    <a:lnTo>
                      <a:pt x="763" y="226"/>
                    </a:lnTo>
                    <a:lnTo>
                      <a:pt x="776" y="244"/>
                    </a:lnTo>
                    <a:lnTo>
                      <a:pt x="787" y="263"/>
                    </a:lnTo>
                    <a:lnTo>
                      <a:pt x="798" y="283"/>
                    </a:lnTo>
                    <a:lnTo>
                      <a:pt x="809" y="304"/>
                    </a:lnTo>
                    <a:lnTo>
                      <a:pt x="819" y="325"/>
                    </a:lnTo>
                    <a:lnTo>
                      <a:pt x="823" y="336"/>
                    </a:lnTo>
                    <a:lnTo>
                      <a:pt x="827" y="348"/>
                    </a:lnTo>
                    <a:lnTo>
                      <a:pt x="833" y="358"/>
                    </a:lnTo>
                    <a:lnTo>
                      <a:pt x="837" y="369"/>
                    </a:lnTo>
                    <a:lnTo>
                      <a:pt x="855" y="395"/>
                    </a:lnTo>
                    <a:lnTo>
                      <a:pt x="872" y="423"/>
                    </a:lnTo>
                    <a:lnTo>
                      <a:pt x="888" y="451"/>
                    </a:lnTo>
                    <a:lnTo>
                      <a:pt x="903" y="479"/>
                    </a:lnTo>
                    <a:lnTo>
                      <a:pt x="917" y="509"/>
                    </a:lnTo>
                    <a:lnTo>
                      <a:pt x="930" y="540"/>
                    </a:lnTo>
                    <a:lnTo>
                      <a:pt x="944" y="572"/>
                    </a:lnTo>
                    <a:lnTo>
                      <a:pt x="956" y="604"/>
                    </a:lnTo>
                    <a:lnTo>
                      <a:pt x="966" y="636"/>
                    </a:lnTo>
                    <a:lnTo>
                      <a:pt x="977" y="670"/>
                    </a:lnTo>
                    <a:lnTo>
                      <a:pt x="986" y="705"/>
                    </a:lnTo>
                    <a:lnTo>
                      <a:pt x="995" y="739"/>
                    </a:lnTo>
                    <a:lnTo>
                      <a:pt x="1002" y="776"/>
                    </a:lnTo>
                    <a:lnTo>
                      <a:pt x="1009" y="812"/>
                    </a:lnTo>
                    <a:lnTo>
                      <a:pt x="1015" y="849"/>
                    </a:lnTo>
                    <a:lnTo>
                      <a:pt x="1020" y="888"/>
                    </a:lnTo>
                    <a:lnTo>
                      <a:pt x="1025" y="926"/>
                    </a:lnTo>
                    <a:lnTo>
                      <a:pt x="1028" y="966"/>
                    </a:lnTo>
                    <a:lnTo>
                      <a:pt x="1031" y="1006"/>
                    </a:lnTo>
                    <a:lnTo>
                      <a:pt x="1034" y="1048"/>
                    </a:lnTo>
                    <a:lnTo>
                      <a:pt x="1035" y="1090"/>
                    </a:lnTo>
                    <a:lnTo>
                      <a:pt x="1035" y="1133"/>
                    </a:lnTo>
                    <a:lnTo>
                      <a:pt x="1034" y="1177"/>
                    </a:lnTo>
                    <a:lnTo>
                      <a:pt x="1032" y="1221"/>
                    </a:lnTo>
                    <a:lnTo>
                      <a:pt x="1030" y="1266"/>
                    </a:lnTo>
                    <a:lnTo>
                      <a:pt x="1027" y="1312"/>
                    </a:lnTo>
                    <a:lnTo>
                      <a:pt x="1022" y="1359"/>
                    </a:lnTo>
                    <a:lnTo>
                      <a:pt x="1018" y="1406"/>
                    </a:lnTo>
                    <a:lnTo>
                      <a:pt x="1012" y="1454"/>
                    </a:lnTo>
                    <a:lnTo>
                      <a:pt x="1006" y="1503"/>
                    </a:lnTo>
                    <a:lnTo>
                      <a:pt x="998" y="1553"/>
                    </a:lnTo>
                    <a:lnTo>
                      <a:pt x="990" y="160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1748"/>
              <p:cNvSpPr/>
              <p:nvPr/>
            </p:nvSpPr>
            <p:spPr>
              <a:xfrm flipV="1">
                <a:off x="5542920" y="5238000"/>
                <a:ext cx="39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1749"/>
              <p:cNvSpPr/>
              <p:nvPr/>
            </p:nvSpPr>
            <p:spPr>
              <a:xfrm>
                <a:off x="5546880" y="5238000"/>
                <a:ext cx="20880" cy="3960"/>
              </a:xfrm>
              <a:custGeom>
                <a:avLst/>
                <a:gdLst/>
                <a:ahLst/>
                <a:rect l="l" t="t" r="r" b="b"/>
                <a:pathLst>
                  <a:path w="198" h="46">
                    <a:moveTo>
                      <a:pt x="0" y="0"/>
                    </a:moveTo>
                    <a:lnTo>
                      <a:pt x="0" y="14"/>
                    </a:lnTo>
                    <a:lnTo>
                      <a:pt x="198" y="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1750"/>
              <p:cNvSpPr/>
              <p:nvPr/>
            </p:nvSpPr>
            <p:spPr>
              <a:xfrm>
                <a:off x="5458680" y="5238720"/>
                <a:ext cx="551160" cy="57960"/>
              </a:xfrm>
              <a:custGeom>
                <a:avLst/>
                <a:gdLst/>
                <a:ahLst/>
                <a:rect l="l" t="t" r="r" b="b"/>
                <a:pathLst>
                  <a:path w="5305" h="699">
                    <a:moveTo>
                      <a:pt x="5305" y="273"/>
                    </a:moveTo>
                    <a:lnTo>
                      <a:pt x="4300" y="699"/>
                    </a:lnTo>
                    <a:lnTo>
                      <a:pt x="735" y="121"/>
                    </a:lnTo>
                    <a:lnTo>
                      <a:pt x="731" y="12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1751"/>
              <p:cNvSpPr/>
              <p:nvPr/>
            </p:nvSpPr>
            <p:spPr>
              <a:xfrm>
                <a:off x="5542920" y="5222160"/>
                <a:ext cx="72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1752"/>
              <p:cNvSpPr/>
              <p:nvPr/>
            </p:nvSpPr>
            <p:spPr>
              <a:xfrm flipV="1">
                <a:off x="5546880" y="5217840"/>
                <a:ext cx="19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Line 1753"/>
              <p:cNvSpPr/>
              <p:nvPr/>
            </p:nvSpPr>
            <p:spPr>
              <a:xfrm flipH="1">
                <a:off x="5542920" y="5217480"/>
                <a:ext cx="237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Line 1754"/>
              <p:cNvSpPr/>
              <p:nvPr/>
            </p:nvSpPr>
            <p:spPr>
              <a:xfrm flipH="1">
                <a:off x="5547960" y="521568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1755"/>
              <p:cNvSpPr/>
              <p:nvPr/>
            </p:nvSpPr>
            <p:spPr>
              <a:xfrm flipV="1">
                <a:off x="5546880" y="5222520"/>
                <a:ext cx="1080" cy="1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1756"/>
              <p:cNvSpPr/>
              <p:nvPr/>
            </p:nvSpPr>
            <p:spPr>
              <a:xfrm>
                <a:off x="5546880" y="5222880"/>
                <a:ext cx="20880" cy="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1757"/>
              <p:cNvSpPr/>
              <p:nvPr/>
            </p:nvSpPr>
            <p:spPr>
              <a:xfrm>
                <a:off x="5502600" y="521820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10" y="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1758"/>
              <p:cNvSpPr/>
              <p:nvPr/>
            </p:nvSpPr>
            <p:spPr>
              <a:xfrm>
                <a:off x="5502600" y="52290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7" h="60">
                    <a:moveTo>
                      <a:pt x="0" y="60"/>
                    </a:moveTo>
                    <a:lnTo>
                      <a:pt x="7" y="0"/>
                    </a:lnTo>
                    <a:lnTo>
                      <a:pt x="3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1759"/>
              <p:cNvSpPr/>
              <p:nvPr/>
            </p:nvSpPr>
            <p:spPr>
              <a:xfrm flipV="1">
                <a:off x="5502600" y="5220720"/>
                <a:ext cx="7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760"/>
              <p:cNvSpPr/>
              <p:nvPr/>
            </p:nvSpPr>
            <p:spPr>
              <a:xfrm>
                <a:off x="5502600" y="5234040"/>
                <a:ext cx="19800" cy="2160"/>
              </a:xfrm>
              <a:custGeom>
                <a:avLst/>
                <a:gdLst/>
                <a:ahLst/>
                <a:rect l="l" t="t" r="r" b="b"/>
                <a:pathLst>
                  <a:path w="187" h="32">
                    <a:moveTo>
                      <a:pt x="0" y="0"/>
                    </a:moveTo>
                    <a:lnTo>
                      <a:pt x="187" y="32"/>
                    </a:lnTo>
                    <a:lnTo>
                      <a:pt x="187" y="2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1761"/>
              <p:cNvSpPr/>
              <p:nvPr/>
            </p:nvSpPr>
            <p:spPr>
              <a:xfrm flipV="1">
                <a:off x="5522400" y="5235480"/>
                <a:ext cx="28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1762"/>
              <p:cNvSpPr/>
              <p:nvPr/>
            </p:nvSpPr>
            <p:spPr>
              <a:xfrm>
                <a:off x="5525280" y="5235480"/>
                <a:ext cx="17640" cy="2880"/>
              </a:xfrm>
              <a:custGeom>
                <a:avLst/>
                <a:gdLst/>
                <a:ahLst/>
                <a:rect l="l" t="t" r="r" b="b"/>
                <a:pathLst>
                  <a:path w="174" h="46">
                    <a:moveTo>
                      <a:pt x="0" y="0"/>
                    </a:moveTo>
                    <a:lnTo>
                      <a:pt x="0" y="18"/>
                    </a:lnTo>
                    <a:lnTo>
                      <a:pt x="174" y="4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1763"/>
              <p:cNvSpPr/>
              <p:nvPr/>
            </p:nvSpPr>
            <p:spPr>
              <a:xfrm>
                <a:off x="5502600" y="5218200"/>
                <a:ext cx="1980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Line 1764"/>
              <p:cNvSpPr/>
              <p:nvPr/>
            </p:nvSpPr>
            <p:spPr>
              <a:xfrm>
                <a:off x="5522400" y="5220720"/>
                <a:ext cx="72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Line 1765"/>
              <p:cNvSpPr/>
              <p:nvPr/>
            </p:nvSpPr>
            <p:spPr>
              <a:xfrm flipH="1">
                <a:off x="5502600" y="522900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Line 1766"/>
              <p:cNvSpPr/>
              <p:nvPr/>
            </p:nvSpPr>
            <p:spPr>
              <a:xfrm flipV="1">
                <a:off x="5525280" y="5220360"/>
                <a:ext cx="720" cy="1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1767"/>
              <p:cNvSpPr/>
              <p:nvPr/>
            </p:nvSpPr>
            <p:spPr>
              <a:xfrm>
                <a:off x="5398200" y="5259240"/>
                <a:ext cx="130680" cy="15480"/>
              </a:xfrm>
              <a:custGeom>
                <a:avLst/>
                <a:gdLst/>
                <a:ahLst/>
                <a:rect l="l" t="t" r="r" b="b"/>
                <a:pathLst>
                  <a:path w="1254" h="195">
                    <a:moveTo>
                      <a:pt x="0" y="0"/>
                    </a:moveTo>
                    <a:lnTo>
                      <a:pt x="1254" y="184"/>
                    </a:lnTo>
                    <a:lnTo>
                      <a:pt x="1254" y="19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1768"/>
              <p:cNvSpPr/>
              <p:nvPr/>
            </p:nvSpPr>
            <p:spPr>
              <a:xfrm>
                <a:off x="5300640" y="5275080"/>
                <a:ext cx="228600" cy="22320"/>
              </a:xfrm>
              <a:custGeom>
                <a:avLst/>
                <a:gdLst/>
                <a:ahLst/>
                <a:rect l="l" t="t" r="r" b="b"/>
                <a:pathLst>
                  <a:path w="2201" h="266">
                    <a:moveTo>
                      <a:pt x="0" y="192"/>
                    </a:moveTo>
                    <a:lnTo>
                      <a:pt x="64" y="200"/>
                    </a:lnTo>
                    <a:lnTo>
                      <a:pt x="129" y="210"/>
                    </a:lnTo>
                    <a:lnTo>
                      <a:pt x="192" y="218"/>
                    </a:lnTo>
                    <a:lnTo>
                      <a:pt x="255" y="226"/>
                    </a:lnTo>
                    <a:lnTo>
                      <a:pt x="317" y="233"/>
                    </a:lnTo>
                    <a:lnTo>
                      <a:pt x="379" y="239"/>
                    </a:lnTo>
                    <a:lnTo>
                      <a:pt x="440" y="245"/>
                    </a:lnTo>
                    <a:lnTo>
                      <a:pt x="500" y="249"/>
                    </a:lnTo>
                    <a:lnTo>
                      <a:pt x="560" y="254"/>
                    </a:lnTo>
                    <a:lnTo>
                      <a:pt x="620" y="258"/>
                    </a:lnTo>
                    <a:lnTo>
                      <a:pt x="678" y="260"/>
                    </a:lnTo>
                    <a:lnTo>
                      <a:pt x="736" y="262"/>
                    </a:lnTo>
                    <a:lnTo>
                      <a:pt x="793" y="265"/>
                    </a:lnTo>
                    <a:lnTo>
                      <a:pt x="850" y="265"/>
                    </a:lnTo>
                    <a:lnTo>
                      <a:pt x="905" y="266"/>
                    </a:lnTo>
                    <a:lnTo>
                      <a:pt x="961" y="265"/>
                    </a:lnTo>
                    <a:lnTo>
                      <a:pt x="1015" y="264"/>
                    </a:lnTo>
                    <a:lnTo>
                      <a:pt x="1069" y="261"/>
                    </a:lnTo>
                    <a:lnTo>
                      <a:pt x="1123" y="259"/>
                    </a:lnTo>
                    <a:lnTo>
                      <a:pt x="1176" y="256"/>
                    </a:lnTo>
                    <a:lnTo>
                      <a:pt x="1227" y="253"/>
                    </a:lnTo>
                    <a:lnTo>
                      <a:pt x="1279" y="247"/>
                    </a:lnTo>
                    <a:lnTo>
                      <a:pt x="1330" y="243"/>
                    </a:lnTo>
                    <a:lnTo>
                      <a:pt x="1380" y="236"/>
                    </a:lnTo>
                    <a:lnTo>
                      <a:pt x="1429" y="229"/>
                    </a:lnTo>
                    <a:lnTo>
                      <a:pt x="1478" y="221"/>
                    </a:lnTo>
                    <a:lnTo>
                      <a:pt x="1527" y="214"/>
                    </a:lnTo>
                    <a:lnTo>
                      <a:pt x="1573" y="205"/>
                    </a:lnTo>
                    <a:lnTo>
                      <a:pt x="1621" y="196"/>
                    </a:lnTo>
                    <a:lnTo>
                      <a:pt x="1666" y="185"/>
                    </a:lnTo>
                    <a:lnTo>
                      <a:pt x="1712" y="175"/>
                    </a:lnTo>
                    <a:lnTo>
                      <a:pt x="1757" y="163"/>
                    </a:lnTo>
                    <a:lnTo>
                      <a:pt x="1812" y="148"/>
                    </a:lnTo>
                    <a:lnTo>
                      <a:pt x="1864" y="134"/>
                    </a:lnTo>
                    <a:lnTo>
                      <a:pt x="1916" y="117"/>
                    </a:lnTo>
                    <a:lnTo>
                      <a:pt x="1966" y="99"/>
                    </a:lnTo>
                    <a:lnTo>
                      <a:pt x="2016" y="81"/>
                    </a:lnTo>
                    <a:lnTo>
                      <a:pt x="2066" y="61"/>
                    </a:lnTo>
                    <a:lnTo>
                      <a:pt x="2113" y="40"/>
                    </a:lnTo>
                    <a:lnTo>
                      <a:pt x="2162" y="17"/>
                    </a:lnTo>
                    <a:lnTo>
                      <a:pt x="2171" y="14"/>
                    </a:lnTo>
                    <a:lnTo>
                      <a:pt x="2180" y="10"/>
                    </a:lnTo>
                    <a:lnTo>
                      <a:pt x="2191" y="5"/>
                    </a:lnTo>
                    <a:lnTo>
                      <a:pt x="220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Line 1769"/>
              <p:cNvSpPr/>
              <p:nvPr/>
            </p:nvSpPr>
            <p:spPr>
              <a:xfrm flipH="1">
                <a:off x="5528520" y="5275080"/>
                <a:ext cx="720" cy="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1770"/>
              <p:cNvSpPr/>
              <p:nvPr/>
            </p:nvSpPr>
            <p:spPr>
              <a:xfrm>
                <a:off x="5398200" y="5239800"/>
                <a:ext cx="525240" cy="72720"/>
              </a:xfrm>
              <a:custGeom>
                <a:avLst/>
                <a:gdLst/>
                <a:ahLst/>
                <a:rect l="l" t="t" r="r" b="b"/>
                <a:pathLst>
                  <a:path w="5050" h="884">
                    <a:moveTo>
                      <a:pt x="0" y="0"/>
                    </a:moveTo>
                    <a:lnTo>
                      <a:pt x="558" y="96"/>
                    </a:lnTo>
                    <a:lnTo>
                      <a:pt x="562" y="100"/>
                    </a:lnTo>
                    <a:lnTo>
                      <a:pt x="1290" y="224"/>
                    </a:lnTo>
                    <a:lnTo>
                      <a:pt x="1293" y="224"/>
                    </a:lnTo>
                    <a:lnTo>
                      <a:pt x="5050" y="88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1771"/>
              <p:cNvSpPr/>
              <p:nvPr/>
            </p:nvSpPr>
            <p:spPr>
              <a:xfrm flipH="1">
                <a:off x="5522400" y="5215680"/>
                <a:ext cx="259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1772"/>
              <p:cNvSpPr/>
              <p:nvPr/>
            </p:nvSpPr>
            <p:spPr>
              <a:xfrm flipH="1">
                <a:off x="5524920" y="5216400"/>
                <a:ext cx="226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1773"/>
              <p:cNvSpPr/>
              <p:nvPr/>
            </p:nvSpPr>
            <p:spPr>
              <a:xfrm>
                <a:off x="5525280" y="5220720"/>
                <a:ext cx="17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1774"/>
              <p:cNvSpPr/>
              <p:nvPr/>
            </p:nvSpPr>
            <p:spPr>
              <a:xfrm flipH="1">
                <a:off x="5568120" y="5220000"/>
                <a:ext cx="2160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1775"/>
              <p:cNvSpPr/>
              <p:nvPr/>
            </p:nvSpPr>
            <p:spPr>
              <a:xfrm flipH="1">
                <a:off x="5566320" y="521820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1776"/>
              <p:cNvSpPr/>
              <p:nvPr/>
            </p:nvSpPr>
            <p:spPr>
              <a:xfrm flipV="1">
                <a:off x="5568120" y="5240520"/>
                <a:ext cx="3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1777"/>
              <p:cNvSpPr/>
              <p:nvPr/>
            </p:nvSpPr>
            <p:spPr>
              <a:xfrm flipH="1" flipV="1">
                <a:off x="5456160" y="523872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1778"/>
              <p:cNvSpPr/>
              <p:nvPr/>
            </p:nvSpPr>
            <p:spPr>
              <a:xfrm flipV="1">
                <a:off x="5398200" y="5239800"/>
                <a:ext cx="72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Line 1779"/>
              <p:cNvSpPr/>
              <p:nvPr/>
            </p:nvSpPr>
            <p:spPr>
              <a:xfrm flipH="1">
                <a:off x="5397840" y="5220720"/>
                <a:ext cx="10476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Line 1780"/>
              <p:cNvSpPr/>
              <p:nvPr/>
            </p:nvSpPr>
            <p:spPr>
              <a:xfrm flipV="1">
                <a:off x="5458680" y="5228640"/>
                <a:ext cx="4356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1781"/>
              <p:cNvSpPr/>
              <p:nvPr/>
            </p:nvSpPr>
            <p:spPr>
              <a:xfrm>
                <a:off x="5929920" y="5220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0"/>
                    </a:moveTo>
                    <a:lnTo>
                      <a:pt x="14" y="8"/>
                    </a:lnTo>
                    <a:lnTo>
                      <a:pt x="10" y="15"/>
                    </a:lnTo>
                    <a:lnTo>
                      <a:pt x="5" y="22"/>
                    </a:lnTo>
                    <a:lnTo>
                      <a:pt x="0" y="2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1782"/>
              <p:cNvSpPr/>
              <p:nvPr/>
            </p:nvSpPr>
            <p:spPr>
              <a:xfrm>
                <a:off x="5913360" y="52354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56" h="64">
                    <a:moveTo>
                      <a:pt x="56" y="0"/>
                    </a:moveTo>
                    <a:lnTo>
                      <a:pt x="41" y="17"/>
                    </a:lnTo>
                    <a:lnTo>
                      <a:pt x="26" y="32"/>
                    </a:lnTo>
                    <a:lnTo>
                      <a:pt x="13" y="49"/>
                    </a:lnTo>
                    <a:lnTo>
                      <a:pt x="0" y="6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1783"/>
              <p:cNvSpPr/>
              <p:nvPr/>
            </p:nvSpPr>
            <p:spPr>
              <a:xfrm>
                <a:off x="5915520" y="5243040"/>
                <a:ext cx="19800" cy="5760"/>
              </a:xfrm>
              <a:custGeom>
                <a:avLst/>
                <a:gdLst/>
                <a:ahLst/>
                <a:rect l="l" t="t" r="r" b="b"/>
                <a:pathLst>
                  <a:path w="192" h="72">
                    <a:moveTo>
                      <a:pt x="0" y="72"/>
                    </a:moveTo>
                    <a:lnTo>
                      <a:pt x="3" y="72"/>
                    </a:lnTo>
                    <a:lnTo>
                      <a:pt x="19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1784"/>
              <p:cNvSpPr/>
              <p:nvPr/>
            </p:nvSpPr>
            <p:spPr>
              <a:xfrm>
                <a:off x="5927040" y="52480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79" h="24">
                    <a:moveTo>
                      <a:pt x="79" y="0"/>
                    </a:moveTo>
                    <a:lnTo>
                      <a:pt x="0" y="24"/>
                    </a:lnTo>
                    <a:lnTo>
                      <a:pt x="11" y="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Line 1785"/>
              <p:cNvSpPr/>
              <p:nvPr/>
            </p:nvSpPr>
            <p:spPr>
              <a:xfrm>
                <a:off x="5935320" y="524304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1786"/>
              <p:cNvSpPr/>
              <p:nvPr/>
            </p:nvSpPr>
            <p:spPr>
              <a:xfrm>
                <a:off x="5937120" y="523620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67" h="135">
                    <a:moveTo>
                      <a:pt x="0" y="135"/>
                    </a:moveTo>
                    <a:lnTo>
                      <a:pt x="3" y="126"/>
                    </a:lnTo>
                    <a:lnTo>
                      <a:pt x="6" y="118"/>
                    </a:lnTo>
                    <a:lnTo>
                      <a:pt x="15" y="100"/>
                    </a:lnTo>
                    <a:lnTo>
                      <a:pt x="21" y="85"/>
                    </a:lnTo>
                    <a:lnTo>
                      <a:pt x="33" y="55"/>
                    </a:lnTo>
                    <a:lnTo>
                      <a:pt x="45" y="32"/>
                    </a:lnTo>
                    <a:lnTo>
                      <a:pt x="51" y="22"/>
                    </a:lnTo>
                    <a:lnTo>
                      <a:pt x="56" y="13"/>
                    </a:lnTo>
                    <a:lnTo>
                      <a:pt x="62" y="6"/>
                    </a:lnTo>
                    <a:lnTo>
                      <a:pt x="6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1787"/>
              <p:cNvSpPr/>
              <p:nvPr/>
            </p:nvSpPr>
            <p:spPr>
              <a:xfrm>
                <a:off x="5935320" y="5242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1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1788"/>
              <p:cNvSpPr/>
              <p:nvPr/>
            </p:nvSpPr>
            <p:spPr>
              <a:xfrm flipV="1">
                <a:off x="5935320" y="524232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1789"/>
              <p:cNvSpPr/>
              <p:nvPr/>
            </p:nvSpPr>
            <p:spPr>
              <a:xfrm flipH="1">
                <a:off x="5934960" y="524700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1790"/>
              <p:cNvSpPr/>
              <p:nvPr/>
            </p:nvSpPr>
            <p:spPr>
              <a:xfrm>
                <a:off x="5913360" y="5240520"/>
                <a:ext cx="21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1791"/>
              <p:cNvSpPr/>
              <p:nvPr/>
            </p:nvSpPr>
            <p:spPr>
              <a:xfrm>
                <a:off x="5918760" y="5222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07" h="149">
                    <a:moveTo>
                      <a:pt x="107" y="0"/>
                    </a:moveTo>
                    <a:lnTo>
                      <a:pt x="78" y="41"/>
                    </a:lnTo>
                    <a:lnTo>
                      <a:pt x="51" y="80"/>
                    </a:lnTo>
                    <a:lnTo>
                      <a:pt x="25" y="116"/>
                    </a:lnTo>
                    <a:lnTo>
                      <a:pt x="0" y="14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1792"/>
              <p:cNvSpPr/>
              <p:nvPr/>
            </p:nvSpPr>
            <p:spPr>
              <a:xfrm>
                <a:off x="5890680" y="5197680"/>
                <a:ext cx="30960" cy="29520"/>
              </a:xfrm>
              <a:custGeom>
                <a:avLst/>
                <a:gdLst/>
                <a:ahLst/>
                <a:rect l="l" t="t" r="r" b="b"/>
                <a:pathLst>
                  <a:path w="302" h="363">
                    <a:moveTo>
                      <a:pt x="302" y="0"/>
                    </a:moveTo>
                    <a:lnTo>
                      <a:pt x="275" y="23"/>
                    </a:lnTo>
                    <a:lnTo>
                      <a:pt x="248" y="49"/>
                    </a:lnTo>
                    <a:lnTo>
                      <a:pt x="223" y="74"/>
                    </a:lnTo>
                    <a:lnTo>
                      <a:pt x="198" y="102"/>
                    </a:lnTo>
                    <a:lnTo>
                      <a:pt x="173" y="130"/>
                    </a:lnTo>
                    <a:lnTo>
                      <a:pt x="150" y="160"/>
                    </a:lnTo>
                    <a:lnTo>
                      <a:pt x="125" y="192"/>
                    </a:lnTo>
                    <a:lnTo>
                      <a:pt x="103" y="224"/>
                    </a:lnTo>
                    <a:lnTo>
                      <a:pt x="74" y="265"/>
                    </a:lnTo>
                    <a:lnTo>
                      <a:pt x="48" y="302"/>
                    </a:lnTo>
                    <a:lnTo>
                      <a:pt x="22" y="334"/>
                    </a:lnTo>
                    <a:lnTo>
                      <a:pt x="0" y="36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1793"/>
              <p:cNvSpPr/>
              <p:nvPr/>
            </p:nvSpPr>
            <p:spPr>
              <a:xfrm>
                <a:off x="5880960" y="5227200"/>
                <a:ext cx="19800" cy="11520"/>
              </a:xfrm>
              <a:custGeom>
                <a:avLst/>
                <a:gdLst/>
                <a:ahLst/>
                <a:rect l="l" t="t" r="r" b="b"/>
                <a:pathLst>
                  <a:path w="187" h="142">
                    <a:moveTo>
                      <a:pt x="92" y="2"/>
                    </a:moveTo>
                    <a:lnTo>
                      <a:pt x="100" y="0"/>
                    </a:lnTo>
                    <a:lnTo>
                      <a:pt x="107" y="0"/>
                    </a:lnTo>
                    <a:lnTo>
                      <a:pt x="115" y="0"/>
                    </a:lnTo>
                    <a:lnTo>
                      <a:pt x="124" y="2"/>
                    </a:lnTo>
                    <a:lnTo>
                      <a:pt x="142" y="6"/>
                    </a:lnTo>
                    <a:lnTo>
                      <a:pt x="157" y="12"/>
                    </a:lnTo>
                    <a:lnTo>
                      <a:pt x="163" y="16"/>
                    </a:lnTo>
                    <a:lnTo>
                      <a:pt x="168" y="19"/>
                    </a:lnTo>
                    <a:lnTo>
                      <a:pt x="174" y="24"/>
                    </a:lnTo>
                    <a:lnTo>
                      <a:pt x="177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5" y="44"/>
                    </a:lnTo>
                    <a:lnTo>
                      <a:pt x="186" y="49"/>
                    </a:lnTo>
                    <a:lnTo>
                      <a:pt x="187" y="56"/>
                    </a:lnTo>
                    <a:lnTo>
                      <a:pt x="186" y="61"/>
                    </a:lnTo>
                    <a:lnTo>
                      <a:pt x="185" y="69"/>
                    </a:lnTo>
                    <a:lnTo>
                      <a:pt x="184" y="76"/>
                    </a:lnTo>
                    <a:lnTo>
                      <a:pt x="181" y="87"/>
                    </a:lnTo>
                    <a:lnTo>
                      <a:pt x="175" y="98"/>
                    </a:lnTo>
                    <a:lnTo>
                      <a:pt x="168" y="109"/>
                    </a:lnTo>
                    <a:lnTo>
                      <a:pt x="159" y="122"/>
                    </a:lnTo>
                    <a:lnTo>
                      <a:pt x="148" y="131"/>
                    </a:lnTo>
                    <a:lnTo>
                      <a:pt x="137" y="140"/>
                    </a:lnTo>
                    <a:lnTo>
                      <a:pt x="127" y="142"/>
                    </a:lnTo>
                    <a:lnTo>
                      <a:pt x="120" y="142"/>
                    </a:lnTo>
                    <a:lnTo>
                      <a:pt x="112" y="142"/>
                    </a:lnTo>
                    <a:lnTo>
                      <a:pt x="106" y="140"/>
                    </a:lnTo>
                    <a:lnTo>
                      <a:pt x="97" y="136"/>
                    </a:lnTo>
                    <a:lnTo>
                      <a:pt x="92" y="132"/>
                    </a:lnTo>
                    <a:lnTo>
                      <a:pt x="76" y="127"/>
                    </a:lnTo>
                    <a:lnTo>
                      <a:pt x="62" y="121"/>
                    </a:lnTo>
                    <a:lnTo>
                      <a:pt x="49" y="118"/>
                    </a:lnTo>
                    <a:lnTo>
                      <a:pt x="36" y="116"/>
                    </a:lnTo>
                    <a:lnTo>
                      <a:pt x="25" y="115"/>
                    </a:lnTo>
                    <a:lnTo>
                      <a:pt x="15" y="116"/>
                    </a:lnTo>
                    <a:lnTo>
                      <a:pt x="11" y="116"/>
                    </a:lnTo>
                    <a:lnTo>
                      <a:pt x="6" y="118"/>
                    </a:lnTo>
                    <a:lnTo>
                      <a:pt x="3" y="120"/>
                    </a:lnTo>
                    <a:lnTo>
                      <a:pt x="0" y="12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1794"/>
              <p:cNvSpPr/>
              <p:nvPr/>
            </p:nvSpPr>
            <p:spPr>
              <a:xfrm>
                <a:off x="5880960" y="52272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92" h="120">
                    <a:moveTo>
                      <a:pt x="0" y="120"/>
                    </a:moveTo>
                    <a:lnTo>
                      <a:pt x="9" y="102"/>
                    </a:lnTo>
                    <a:lnTo>
                      <a:pt x="21" y="83"/>
                    </a:lnTo>
                    <a:lnTo>
                      <a:pt x="35" y="63"/>
                    </a:lnTo>
                    <a:lnTo>
                      <a:pt x="53" y="42"/>
                    </a:lnTo>
                    <a:lnTo>
                      <a:pt x="61" y="33"/>
                    </a:lnTo>
                    <a:lnTo>
                      <a:pt x="71" y="23"/>
                    </a:lnTo>
                    <a:lnTo>
                      <a:pt x="81" y="12"/>
                    </a:lnTo>
                    <a:lnTo>
                      <a:pt x="9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1795"/>
              <p:cNvSpPr/>
              <p:nvPr/>
            </p:nvSpPr>
            <p:spPr>
              <a:xfrm>
                <a:off x="5853960" y="5226480"/>
                <a:ext cx="21600" cy="11520"/>
              </a:xfrm>
              <a:custGeom>
                <a:avLst/>
                <a:gdLst/>
                <a:ahLst/>
                <a:rect l="l" t="t" r="r" b="b"/>
                <a:pathLst>
                  <a:path w="209" h="138">
                    <a:moveTo>
                      <a:pt x="0" y="110"/>
                    </a:moveTo>
                    <a:lnTo>
                      <a:pt x="8" y="108"/>
                    </a:lnTo>
                    <a:lnTo>
                      <a:pt x="17" y="106"/>
                    </a:lnTo>
                    <a:lnTo>
                      <a:pt x="27" y="106"/>
                    </a:lnTo>
                    <a:lnTo>
                      <a:pt x="38" y="108"/>
                    </a:lnTo>
                    <a:lnTo>
                      <a:pt x="52" y="110"/>
                    </a:lnTo>
                    <a:lnTo>
                      <a:pt x="66" y="116"/>
                    </a:lnTo>
                    <a:lnTo>
                      <a:pt x="83" y="121"/>
                    </a:lnTo>
                    <a:lnTo>
                      <a:pt x="100" y="128"/>
                    </a:lnTo>
                    <a:lnTo>
                      <a:pt x="113" y="134"/>
                    </a:lnTo>
                    <a:lnTo>
                      <a:pt x="125" y="137"/>
                    </a:lnTo>
                    <a:lnTo>
                      <a:pt x="137" y="138"/>
                    </a:lnTo>
                    <a:lnTo>
                      <a:pt x="147" y="138"/>
                    </a:lnTo>
                    <a:lnTo>
                      <a:pt x="157" y="137"/>
                    </a:lnTo>
                    <a:lnTo>
                      <a:pt x="167" y="134"/>
                    </a:lnTo>
                    <a:lnTo>
                      <a:pt x="175" y="128"/>
                    </a:lnTo>
                    <a:lnTo>
                      <a:pt x="181" y="121"/>
                    </a:lnTo>
                    <a:lnTo>
                      <a:pt x="187" y="118"/>
                    </a:lnTo>
                    <a:lnTo>
                      <a:pt x="190" y="114"/>
                    </a:lnTo>
                    <a:lnTo>
                      <a:pt x="194" y="107"/>
                    </a:lnTo>
                    <a:lnTo>
                      <a:pt x="196" y="100"/>
                    </a:lnTo>
                    <a:lnTo>
                      <a:pt x="200" y="87"/>
                    </a:lnTo>
                    <a:lnTo>
                      <a:pt x="205" y="76"/>
                    </a:lnTo>
                    <a:lnTo>
                      <a:pt x="207" y="65"/>
                    </a:lnTo>
                    <a:lnTo>
                      <a:pt x="209" y="56"/>
                    </a:lnTo>
                    <a:lnTo>
                      <a:pt x="209" y="48"/>
                    </a:lnTo>
                    <a:lnTo>
                      <a:pt x="208" y="41"/>
                    </a:lnTo>
                    <a:lnTo>
                      <a:pt x="206" y="36"/>
                    </a:lnTo>
                    <a:lnTo>
                      <a:pt x="203" y="33"/>
                    </a:lnTo>
                    <a:lnTo>
                      <a:pt x="194" y="25"/>
                    </a:lnTo>
                    <a:lnTo>
                      <a:pt x="186" y="19"/>
                    </a:lnTo>
                    <a:lnTo>
                      <a:pt x="178" y="15"/>
                    </a:lnTo>
                    <a:lnTo>
                      <a:pt x="171" y="12"/>
                    </a:lnTo>
                    <a:lnTo>
                      <a:pt x="160" y="7"/>
                    </a:lnTo>
                    <a:lnTo>
                      <a:pt x="148" y="4"/>
                    </a:lnTo>
                    <a:lnTo>
                      <a:pt x="137" y="2"/>
                    </a:lnTo>
                    <a:lnTo>
                      <a:pt x="125" y="0"/>
                    </a:lnTo>
                    <a:lnTo>
                      <a:pt x="111" y="2"/>
                    </a:lnTo>
                    <a:lnTo>
                      <a:pt x="99" y="4"/>
                    </a:lnTo>
                    <a:lnTo>
                      <a:pt x="87" y="7"/>
                    </a:lnTo>
                    <a:lnTo>
                      <a:pt x="75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1796"/>
              <p:cNvSpPr/>
              <p:nvPr/>
            </p:nvSpPr>
            <p:spPr>
              <a:xfrm>
                <a:off x="5879160" y="524448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11" y="25"/>
                    </a:moveTo>
                    <a:lnTo>
                      <a:pt x="7" y="19"/>
                    </a:lnTo>
                    <a:lnTo>
                      <a:pt x="5" y="13"/>
                    </a:lnTo>
                    <a:lnTo>
                      <a:pt x="2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1797"/>
              <p:cNvSpPr/>
              <p:nvPr/>
            </p:nvSpPr>
            <p:spPr>
              <a:xfrm>
                <a:off x="5879880" y="5246280"/>
                <a:ext cx="8280" cy="3960"/>
              </a:xfrm>
              <a:custGeom>
                <a:avLst/>
                <a:gdLst/>
                <a:ahLst/>
                <a:rect l="l" t="t" r="r" b="b"/>
                <a:pathLst>
                  <a:path w="86" h="43">
                    <a:moveTo>
                      <a:pt x="86" y="43"/>
                    </a:moveTo>
                    <a:lnTo>
                      <a:pt x="67" y="39"/>
                    </a:lnTo>
                    <a:lnTo>
                      <a:pt x="50" y="34"/>
                    </a:lnTo>
                    <a:lnTo>
                      <a:pt x="36" y="28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8" y="17"/>
                    </a:lnTo>
                    <a:lnTo>
                      <a:pt x="13" y="14"/>
                    </a:lnTo>
                    <a:lnTo>
                      <a:pt x="8" y="9"/>
                    </a:lnTo>
                    <a:lnTo>
                      <a:pt x="4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1798"/>
              <p:cNvSpPr/>
              <p:nvPr/>
            </p:nvSpPr>
            <p:spPr>
              <a:xfrm>
                <a:off x="5878080" y="5236920"/>
                <a:ext cx="2880" cy="7200"/>
              </a:xfrm>
              <a:custGeom>
                <a:avLst/>
                <a:gdLst/>
                <a:ahLst/>
                <a:rect l="l" t="t" r="r" b="b"/>
                <a:pathLst>
                  <a:path w="27" h="89">
                    <a:moveTo>
                      <a:pt x="27" y="0"/>
                    </a:moveTo>
                    <a:lnTo>
                      <a:pt x="19" y="13"/>
                    </a:lnTo>
                    <a:lnTo>
                      <a:pt x="12" y="24"/>
                    </a:lnTo>
                    <a:lnTo>
                      <a:pt x="8" y="36"/>
                    </a:lnTo>
                    <a:lnTo>
                      <a:pt x="5" y="47"/>
                    </a:lnTo>
                    <a:lnTo>
                      <a:pt x="2" y="58"/>
                    </a:lnTo>
                    <a:lnTo>
                      <a:pt x="1" y="69"/>
                    </a:lnTo>
                    <a:lnTo>
                      <a:pt x="0" y="79"/>
                    </a:lnTo>
                    <a:lnTo>
                      <a:pt x="1" y="8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1799"/>
              <p:cNvSpPr/>
              <p:nvPr/>
            </p:nvSpPr>
            <p:spPr>
              <a:xfrm>
                <a:off x="5888520" y="524700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134" y="0"/>
                    </a:moveTo>
                    <a:lnTo>
                      <a:pt x="121" y="7"/>
                    </a:lnTo>
                    <a:lnTo>
                      <a:pt x="107" y="15"/>
                    </a:lnTo>
                    <a:lnTo>
                      <a:pt x="93" y="20"/>
                    </a:lnTo>
                    <a:lnTo>
                      <a:pt x="80" y="26"/>
                    </a:lnTo>
                    <a:lnTo>
                      <a:pt x="66" y="29"/>
                    </a:lnTo>
                    <a:lnTo>
                      <a:pt x="53" y="32"/>
                    </a:lnTo>
                    <a:lnTo>
                      <a:pt x="40" y="35"/>
                    </a:lnTo>
                    <a:lnTo>
                      <a:pt x="27" y="36"/>
                    </a:lnTo>
                    <a:lnTo>
                      <a:pt x="13" y="36"/>
                    </a:lnTo>
                    <a:lnTo>
                      <a:pt x="0" y="3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Line 1800"/>
              <p:cNvSpPr/>
              <p:nvPr/>
            </p:nvSpPr>
            <p:spPr>
              <a:xfrm flipH="1" flipV="1">
                <a:off x="5898960" y="5253840"/>
                <a:ext cx="7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1801"/>
              <p:cNvSpPr/>
              <p:nvPr/>
            </p:nvSpPr>
            <p:spPr>
              <a:xfrm>
                <a:off x="5888520" y="525204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102" h="18">
                    <a:moveTo>
                      <a:pt x="0" y="0"/>
                    </a:moveTo>
                    <a:lnTo>
                      <a:pt x="102" y="18"/>
                    </a:lnTo>
                    <a:lnTo>
                      <a:pt x="98" y="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Line 1802"/>
              <p:cNvSpPr/>
              <p:nvPr/>
            </p:nvSpPr>
            <p:spPr>
              <a:xfrm flipV="1">
                <a:off x="5874840" y="526032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Line 1803"/>
              <p:cNvSpPr/>
              <p:nvPr/>
            </p:nvSpPr>
            <p:spPr>
              <a:xfrm>
                <a:off x="5874840" y="526104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1804"/>
              <p:cNvSpPr/>
              <p:nvPr/>
            </p:nvSpPr>
            <p:spPr>
              <a:xfrm>
                <a:off x="5882040" y="5257080"/>
                <a:ext cx="16560" cy="5040"/>
              </a:xfrm>
              <a:custGeom>
                <a:avLst/>
                <a:gdLst/>
                <a:ahLst/>
                <a:rect l="l" t="t" r="r" b="b"/>
                <a:pathLst>
                  <a:path w="160" h="53">
                    <a:moveTo>
                      <a:pt x="8" y="53"/>
                    </a:moveTo>
                    <a:lnTo>
                      <a:pt x="0" y="53"/>
                    </a:lnTo>
                    <a:lnTo>
                      <a:pt x="16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Line 1805"/>
              <p:cNvSpPr/>
              <p:nvPr/>
            </p:nvSpPr>
            <p:spPr>
              <a:xfrm flipH="1">
                <a:off x="5874480" y="526032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Line 1806"/>
              <p:cNvSpPr/>
              <p:nvPr/>
            </p:nvSpPr>
            <p:spPr>
              <a:xfrm flipH="1">
                <a:off x="5873760" y="528084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1807"/>
              <p:cNvSpPr/>
              <p:nvPr/>
            </p:nvSpPr>
            <p:spPr>
              <a:xfrm>
                <a:off x="5883120" y="5277600"/>
                <a:ext cx="27720" cy="8280"/>
              </a:xfrm>
              <a:custGeom>
                <a:avLst/>
                <a:gdLst/>
                <a:ahLst/>
                <a:rect l="l" t="t" r="r" b="b"/>
                <a:pathLst>
                  <a:path w="266" h="95">
                    <a:moveTo>
                      <a:pt x="0" y="0"/>
                    </a:moveTo>
                    <a:lnTo>
                      <a:pt x="0" y="53"/>
                    </a:lnTo>
                    <a:lnTo>
                      <a:pt x="3" y="53"/>
                    </a:lnTo>
                    <a:lnTo>
                      <a:pt x="263" y="95"/>
                    </a:lnTo>
                    <a:lnTo>
                      <a:pt x="266" y="95"/>
                    </a:lnTo>
                    <a:lnTo>
                      <a:pt x="266" y="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Line 1808"/>
              <p:cNvSpPr/>
              <p:nvPr/>
            </p:nvSpPr>
            <p:spPr>
              <a:xfrm flipV="1">
                <a:off x="5874840" y="5277240"/>
                <a:ext cx="82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1809"/>
              <p:cNvSpPr/>
              <p:nvPr/>
            </p:nvSpPr>
            <p:spPr>
              <a:xfrm>
                <a:off x="5873760" y="528084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4"/>
                    </a:moveTo>
                    <a:lnTo>
                      <a:pt x="10" y="7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1810"/>
              <p:cNvSpPr/>
              <p:nvPr/>
            </p:nvSpPr>
            <p:spPr>
              <a:xfrm flipV="1">
                <a:off x="5883120" y="5261760"/>
                <a:ext cx="72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Line 1811"/>
              <p:cNvSpPr/>
              <p:nvPr/>
            </p:nvSpPr>
            <p:spPr>
              <a:xfrm flipV="1">
                <a:off x="5874840" y="5260680"/>
                <a:ext cx="108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1812"/>
              <p:cNvSpPr/>
              <p:nvPr/>
            </p:nvSpPr>
            <p:spPr>
              <a:xfrm flipH="1">
                <a:off x="5874840" y="5253840"/>
                <a:ext cx="237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1813"/>
              <p:cNvSpPr/>
              <p:nvPr/>
            </p:nvSpPr>
            <p:spPr>
              <a:xfrm>
                <a:off x="5879880" y="5251320"/>
                <a:ext cx="82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1814"/>
              <p:cNvSpPr/>
              <p:nvPr/>
            </p:nvSpPr>
            <p:spPr>
              <a:xfrm>
                <a:off x="5938200" y="52570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7" y="0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Line 1815"/>
              <p:cNvSpPr/>
              <p:nvPr/>
            </p:nvSpPr>
            <p:spPr>
              <a:xfrm>
                <a:off x="5938200" y="525708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1816"/>
              <p:cNvSpPr/>
              <p:nvPr/>
            </p:nvSpPr>
            <p:spPr>
              <a:xfrm>
                <a:off x="5927760" y="5256360"/>
                <a:ext cx="10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1817"/>
              <p:cNvSpPr/>
              <p:nvPr/>
            </p:nvSpPr>
            <p:spPr>
              <a:xfrm>
                <a:off x="5898960" y="5254560"/>
                <a:ext cx="16200" cy="216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153" y="4"/>
                    </a:moveTo>
                    <a:lnTo>
                      <a:pt x="111" y="0"/>
                    </a:lnTo>
                    <a:lnTo>
                      <a:pt x="0" y="3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1818"/>
              <p:cNvSpPr/>
              <p:nvPr/>
            </p:nvSpPr>
            <p:spPr>
              <a:xfrm>
                <a:off x="5910120" y="5257080"/>
                <a:ext cx="27720" cy="7920"/>
              </a:xfrm>
              <a:custGeom>
                <a:avLst/>
                <a:gdLst/>
                <a:ahLst/>
                <a:rect l="l" t="t" r="r" b="b"/>
                <a:pathLst>
                  <a:path w="266" h="93">
                    <a:moveTo>
                      <a:pt x="266" y="0"/>
                    </a:moveTo>
                    <a:lnTo>
                      <a:pt x="0" y="89"/>
                    </a:lnTo>
                    <a:lnTo>
                      <a:pt x="0" y="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1819"/>
              <p:cNvSpPr/>
              <p:nvPr/>
            </p:nvSpPr>
            <p:spPr>
              <a:xfrm>
                <a:off x="5911200" y="526932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270" h="195">
                    <a:moveTo>
                      <a:pt x="0" y="195"/>
                    </a:moveTo>
                    <a:lnTo>
                      <a:pt x="270" y="81"/>
                    </a:lnTo>
                    <a:lnTo>
                      <a:pt x="27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1820"/>
              <p:cNvSpPr/>
              <p:nvPr/>
            </p:nvSpPr>
            <p:spPr>
              <a:xfrm>
                <a:off x="5910120" y="5265360"/>
                <a:ext cx="10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1821"/>
              <p:cNvSpPr/>
              <p:nvPr/>
            </p:nvSpPr>
            <p:spPr>
              <a:xfrm>
                <a:off x="5939280" y="5257080"/>
                <a:ext cx="720" cy="12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1822"/>
              <p:cNvSpPr/>
              <p:nvPr/>
            </p:nvSpPr>
            <p:spPr>
              <a:xfrm flipH="1" flipV="1">
                <a:off x="5915520" y="5254560"/>
                <a:ext cx="12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1823"/>
              <p:cNvSpPr/>
              <p:nvPr/>
            </p:nvSpPr>
            <p:spPr>
              <a:xfrm flipV="1">
                <a:off x="5888520" y="5250240"/>
                <a:ext cx="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824"/>
              <p:cNvSpPr/>
              <p:nvPr/>
            </p:nvSpPr>
            <p:spPr>
              <a:xfrm flipV="1">
                <a:off x="5879880" y="5245920"/>
                <a:ext cx="10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825"/>
              <p:cNvSpPr/>
              <p:nvPr/>
            </p:nvSpPr>
            <p:spPr>
              <a:xfrm>
                <a:off x="5927760" y="52495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826"/>
              <p:cNvSpPr/>
              <p:nvPr/>
            </p:nvSpPr>
            <p:spPr>
              <a:xfrm flipH="1" flipV="1">
                <a:off x="5883120" y="5262120"/>
                <a:ext cx="26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1827"/>
              <p:cNvSpPr/>
              <p:nvPr/>
            </p:nvSpPr>
            <p:spPr>
              <a:xfrm>
                <a:off x="5862600" y="5250240"/>
                <a:ext cx="17280" cy="3240"/>
              </a:xfrm>
              <a:custGeom>
                <a:avLst/>
                <a:gdLst/>
                <a:ahLst/>
                <a:rect l="l" t="t" r="r" b="b"/>
                <a:pathLst>
                  <a:path w="167" h="36">
                    <a:moveTo>
                      <a:pt x="0" y="36"/>
                    </a:moveTo>
                    <a:lnTo>
                      <a:pt x="111" y="0"/>
                    </a:lnTo>
                    <a:lnTo>
                      <a:pt x="167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Line 1828"/>
              <p:cNvSpPr/>
              <p:nvPr/>
            </p:nvSpPr>
            <p:spPr>
              <a:xfrm flipH="1" flipV="1">
                <a:off x="5902920" y="5247000"/>
                <a:ext cx="12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1829"/>
              <p:cNvSpPr/>
              <p:nvPr/>
            </p:nvSpPr>
            <p:spPr>
              <a:xfrm>
                <a:off x="5902920" y="524052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82"/>
                    </a:moveTo>
                    <a:lnTo>
                      <a:pt x="24" y="65"/>
                    </a:lnTo>
                    <a:lnTo>
                      <a:pt x="49" y="45"/>
                    </a:lnTo>
                    <a:lnTo>
                      <a:pt x="73" y="24"/>
                    </a:lnTo>
                    <a:lnTo>
                      <a:pt x="10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830"/>
              <p:cNvSpPr/>
              <p:nvPr/>
            </p:nvSpPr>
            <p:spPr>
              <a:xfrm flipH="1">
                <a:off x="5927400" y="5249520"/>
                <a:ext cx="10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831"/>
              <p:cNvSpPr/>
              <p:nvPr/>
            </p:nvSpPr>
            <p:spPr>
              <a:xfrm flipV="1">
                <a:off x="5915520" y="5248800"/>
                <a:ext cx="108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1832"/>
              <p:cNvSpPr/>
              <p:nvPr/>
            </p:nvSpPr>
            <p:spPr>
              <a:xfrm>
                <a:off x="5936400" y="5247000"/>
                <a:ext cx="720" cy="3960"/>
              </a:xfrm>
              <a:custGeom>
                <a:avLst/>
                <a:gdLst/>
                <a:ahLst/>
                <a:rect l="l" t="t" r="r" b="b"/>
                <a:pathLst>
                  <a:path w="4" h="46">
                    <a:moveTo>
                      <a:pt x="4" y="46"/>
                    </a:moveTo>
                    <a:lnTo>
                      <a:pt x="1" y="35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833"/>
              <p:cNvSpPr/>
              <p:nvPr/>
            </p:nvSpPr>
            <p:spPr>
              <a:xfrm>
                <a:off x="5853960" y="522720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5" h="98">
                    <a:moveTo>
                      <a:pt x="75" y="0"/>
                    </a:moveTo>
                    <a:lnTo>
                      <a:pt x="71" y="1"/>
                    </a:lnTo>
                    <a:lnTo>
                      <a:pt x="71" y="3"/>
                    </a:lnTo>
                    <a:lnTo>
                      <a:pt x="52" y="26"/>
                    </a:lnTo>
                    <a:lnTo>
                      <a:pt x="34" y="48"/>
                    </a:lnTo>
                    <a:lnTo>
                      <a:pt x="19" y="68"/>
                    </a:lnTo>
                    <a:lnTo>
                      <a:pt x="7" y="88"/>
                    </a:lnTo>
                    <a:lnTo>
                      <a:pt x="5" y="90"/>
                    </a:lnTo>
                    <a:lnTo>
                      <a:pt x="3" y="94"/>
                    </a:lnTo>
                    <a:lnTo>
                      <a:pt x="2" y="96"/>
                    </a:lnTo>
                    <a:lnTo>
                      <a:pt x="0" y="9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834"/>
              <p:cNvSpPr/>
              <p:nvPr/>
            </p:nvSpPr>
            <p:spPr>
              <a:xfrm>
                <a:off x="5817600" y="5235480"/>
                <a:ext cx="19800" cy="12240"/>
              </a:xfrm>
              <a:custGeom>
                <a:avLst/>
                <a:gdLst/>
                <a:ahLst/>
                <a:rect l="l" t="t" r="r" b="b"/>
                <a:pathLst>
                  <a:path w="192" h="149">
                    <a:moveTo>
                      <a:pt x="89" y="7"/>
                    </a:moveTo>
                    <a:lnTo>
                      <a:pt x="100" y="4"/>
                    </a:lnTo>
                    <a:lnTo>
                      <a:pt x="110" y="2"/>
                    </a:lnTo>
                    <a:lnTo>
                      <a:pt x="120" y="1"/>
                    </a:lnTo>
                    <a:lnTo>
                      <a:pt x="129" y="0"/>
                    </a:lnTo>
                    <a:lnTo>
                      <a:pt x="137" y="0"/>
                    </a:lnTo>
                    <a:lnTo>
                      <a:pt x="144" y="1"/>
                    </a:lnTo>
                    <a:lnTo>
                      <a:pt x="152" y="2"/>
                    </a:lnTo>
                    <a:lnTo>
                      <a:pt x="159" y="3"/>
                    </a:lnTo>
                    <a:lnTo>
                      <a:pt x="164" y="6"/>
                    </a:lnTo>
                    <a:lnTo>
                      <a:pt x="170" y="10"/>
                    </a:lnTo>
                    <a:lnTo>
                      <a:pt x="174" y="13"/>
                    </a:lnTo>
                    <a:lnTo>
                      <a:pt x="178" y="17"/>
                    </a:lnTo>
                    <a:lnTo>
                      <a:pt x="181" y="22"/>
                    </a:lnTo>
                    <a:lnTo>
                      <a:pt x="184" y="27"/>
                    </a:lnTo>
                    <a:lnTo>
                      <a:pt x="187" y="33"/>
                    </a:lnTo>
                    <a:lnTo>
                      <a:pt x="188" y="39"/>
                    </a:lnTo>
                    <a:lnTo>
                      <a:pt x="190" y="42"/>
                    </a:lnTo>
                    <a:lnTo>
                      <a:pt x="191" y="45"/>
                    </a:lnTo>
                    <a:lnTo>
                      <a:pt x="192" y="47"/>
                    </a:lnTo>
                    <a:lnTo>
                      <a:pt x="192" y="49"/>
                    </a:lnTo>
                    <a:lnTo>
                      <a:pt x="191" y="59"/>
                    </a:lnTo>
                    <a:lnTo>
                      <a:pt x="189" y="68"/>
                    </a:lnTo>
                    <a:lnTo>
                      <a:pt x="185" y="78"/>
                    </a:lnTo>
                    <a:lnTo>
                      <a:pt x="181" y="87"/>
                    </a:lnTo>
                    <a:lnTo>
                      <a:pt x="175" y="97"/>
                    </a:lnTo>
                    <a:lnTo>
                      <a:pt x="168" y="106"/>
                    </a:lnTo>
                    <a:lnTo>
                      <a:pt x="159" y="115"/>
                    </a:lnTo>
                    <a:lnTo>
                      <a:pt x="149" y="125"/>
                    </a:lnTo>
                    <a:lnTo>
                      <a:pt x="141" y="130"/>
                    </a:lnTo>
                    <a:lnTo>
                      <a:pt x="132" y="136"/>
                    </a:lnTo>
                    <a:lnTo>
                      <a:pt x="123" y="141"/>
                    </a:lnTo>
                    <a:lnTo>
                      <a:pt x="113" y="149"/>
                    </a:lnTo>
                    <a:lnTo>
                      <a:pt x="102" y="139"/>
                    </a:lnTo>
                    <a:lnTo>
                      <a:pt x="91" y="132"/>
                    </a:lnTo>
                    <a:lnTo>
                      <a:pt x="78" y="126"/>
                    </a:lnTo>
                    <a:lnTo>
                      <a:pt x="64" y="122"/>
                    </a:lnTo>
                    <a:lnTo>
                      <a:pt x="50" y="119"/>
                    </a:lnTo>
                    <a:lnTo>
                      <a:pt x="35" y="118"/>
                    </a:lnTo>
                    <a:lnTo>
                      <a:pt x="18" y="119"/>
                    </a:lnTo>
                    <a:lnTo>
                      <a:pt x="0" y="12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835"/>
              <p:cNvSpPr/>
              <p:nvPr/>
            </p:nvSpPr>
            <p:spPr>
              <a:xfrm>
                <a:off x="5851080" y="52480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113" h="18">
                    <a:moveTo>
                      <a:pt x="110" y="18"/>
                    </a:moveTo>
                    <a:lnTo>
                      <a:pt x="113" y="1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1836"/>
              <p:cNvSpPr/>
              <p:nvPr/>
            </p:nvSpPr>
            <p:spPr>
              <a:xfrm>
                <a:off x="5851080" y="5245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0" y="24"/>
                    </a:moveTo>
                    <a:lnTo>
                      <a:pt x="16" y="13"/>
                    </a:lnTo>
                    <a:lnTo>
                      <a:pt x="3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1837"/>
              <p:cNvSpPr/>
              <p:nvPr/>
            </p:nvSpPr>
            <p:spPr>
              <a:xfrm>
                <a:off x="5851800" y="523548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25" h="126">
                    <a:moveTo>
                      <a:pt x="22" y="126"/>
                    </a:moveTo>
                    <a:lnTo>
                      <a:pt x="18" y="123"/>
                    </a:lnTo>
                    <a:lnTo>
                      <a:pt x="14" y="120"/>
                    </a:lnTo>
                    <a:lnTo>
                      <a:pt x="11" y="117"/>
                    </a:lnTo>
                    <a:lnTo>
                      <a:pt x="9" y="112"/>
                    </a:lnTo>
                    <a:lnTo>
                      <a:pt x="7" y="106"/>
                    </a:lnTo>
                    <a:lnTo>
                      <a:pt x="4" y="99"/>
                    </a:lnTo>
                    <a:lnTo>
                      <a:pt x="2" y="91"/>
                    </a:lnTo>
                    <a:lnTo>
                      <a:pt x="1" y="82"/>
                    </a:lnTo>
                    <a:lnTo>
                      <a:pt x="1" y="78"/>
                    </a:lnTo>
                    <a:lnTo>
                      <a:pt x="1" y="76"/>
                    </a:lnTo>
                    <a:lnTo>
                      <a:pt x="0" y="67"/>
                    </a:lnTo>
                    <a:lnTo>
                      <a:pt x="1" y="59"/>
                    </a:lnTo>
                    <a:lnTo>
                      <a:pt x="2" y="50"/>
                    </a:lnTo>
                    <a:lnTo>
                      <a:pt x="6" y="40"/>
                    </a:lnTo>
                    <a:lnTo>
                      <a:pt x="9" y="31"/>
                    </a:lnTo>
                    <a:lnTo>
                      <a:pt x="13" y="21"/>
                    </a:lnTo>
                    <a:lnTo>
                      <a:pt x="19" y="11"/>
                    </a:lnTo>
                    <a:lnTo>
                      <a:pt x="2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Line 1838"/>
              <p:cNvSpPr/>
              <p:nvPr/>
            </p:nvSpPr>
            <p:spPr>
              <a:xfrm flipH="1" flipV="1">
                <a:off x="5802120" y="5228640"/>
                <a:ext cx="720" cy="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1839"/>
              <p:cNvSpPr/>
              <p:nvPr/>
            </p:nvSpPr>
            <p:spPr>
              <a:xfrm>
                <a:off x="5802120" y="522972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270" h="24">
                    <a:moveTo>
                      <a:pt x="270" y="24"/>
                    </a:moveTo>
                    <a:lnTo>
                      <a:pt x="192" y="17"/>
                    </a:lnTo>
                    <a:lnTo>
                      <a:pt x="60" y="0"/>
                    </a:lnTo>
                    <a:lnTo>
                      <a:pt x="0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1840"/>
              <p:cNvSpPr/>
              <p:nvPr/>
            </p:nvSpPr>
            <p:spPr>
              <a:xfrm>
                <a:off x="5799960" y="5243760"/>
                <a:ext cx="17640" cy="720"/>
              </a:xfrm>
              <a:custGeom>
                <a:avLst/>
                <a:gdLst/>
                <a:ahLst/>
                <a:rect l="l" t="t" r="r" b="b"/>
                <a:pathLst>
                  <a:path w="174" h="17">
                    <a:moveTo>
                      <a:pt x="174" y="14"/>
                    </a:moveTo>
                    <a:lnTo>
                      <a:pt x="67" y="0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Line 1841"/>
              <p:cNvSpPr/>
              <p:nvPr/>
            </p:nvSpPr>
            <p:spPr>
              <a:xfrm flipV="1">
                <a:off x="5799960" y="5242320"/>
                <a:ext cx="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Group 1842"/>
            <p:cNvGrpSpPr/>
            <p:nvPr/>
          </p:nvGrpSpPr>
          <p:grpSpPr>
            <a:xfrm>
              <a:off x="5066280" y="4687920"/>
              <a:ext cx="1072800" cy="654840"/>
              <a:chOff x="5066280" y="4687920"/>
              <a:chExt cx="1072800" cy="654840"/>
            </a:xfrm>
          </p:grpSpPr>
          <p:sp>
            <p:nvSpPr>
              <p:cNvPr id="1373" name="Freeform 1843"/>
              <p:cNvSpPr/>
              <p:nvPr/>
            </p:nvSpPr>
            <p:spPr>
              <a:xfrm>
                <a:off x="5818680" y="5239800"/>
                <a:ext cx="3960" cy="468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61"/>
                    </a:moveTo>
                    <a:lnTo>
                      <a:pt x="14" y="37"/>
                    </a:lnTo>
                    <a:lnTo>
                      <a:pt x="25" y="19"/>
                    </a:lnTo>
                    <a:lnTo>
                      <a:pt x="34" y="7"/>
                    </a:lnTo>
                    <a:lnTo>
                      <a:pt x="3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1844"/>
              <p:cNvSpPr/>
              <p:nvPr/>
            </p:nvSpPr>
            <p:spPr>
              <a:xfrm>
                <a:off x="5823000" y="52362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0" y="39"/>
                    </a:moveTo>
                    <a:lnTo>
                      <a:pt x="0" y="36"/>
                    </a:lnTo>
                    <a:lnTo>
                      <a:pt x="3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1845"/>
              <p:cNvSpPr/>
              <p:nvPr/>
            </p:nvSpPr>
            <p:spPr>
              <a:xfrm>
                <a:off x="5825880" y="523548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2"/>
                    </a:lnTo>
                    <a:lnTo>
                      <a:pt x="0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Line 1846"/>
              <p:cNvSpPr/>
              <p:nvPr/>
            </p:nvSpPr>
            <p:spPr>
              <a:xfrm flipH="1">
                <a:off x="5817600" y="524448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1847"/>
              <p:cNvSpPr/>
              <p:nvPr/>
            </p:nvSpPr>
            <p:spPr>
              <a:xfrm>
                <a:off x="5816880" y="524952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2" y="23"/>
                    </a:lnTo>
                    <a:lnTo>
                      <a:pt x="3" y="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1848"/>
              <p:cNvSpPr/>
              <p:nvPr/>
            </p:nvSpPr>
            <p:spPr>
              <a:xfrm>
                <a:off x="5817600" y="52444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15"/>
                    </a:moveTo>
                    <a:lnTo>
                      <a:pt x="6" y="7"/>
                    </a:lnTo>
                    <a:lnTo>
                      <a:pt x="1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849"/>
              <p:cNvSpPr/>
              <p:nvPr/>
            </p:nvSpPr>
            <p:spPr>
              <a:xfrm>
                <a:off x="5816880" y="5245200"/>
                <a:ext cx="720" cy="3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0"/>
                    </a:moveTo>
                    <a:lnTo>
                      <a:pt x="10" y="0"/>
                    </a:lnTo>
                    <a:lnTo>
                      <a:pt x="8" y="2"/>
                    </a:lnTo>
                    <a:lnTo>
                      <a:pt x="7" y="5"/>
                    </a:lnTo>
                    <a:lnTo>
                      <a:pt x="6" y="10"/>
                    </a:lnTo>
                    <a:lnTo>
                      <a:pt x="3" y="23"/>
                    </a:lnTo>
                    <a:lnTo>
                      <a:pt x="0" y="4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1850"/>
              <p:cNvSpPr/>
              <p:nvPr/>
            </p:nvSpPr>
            <p:spPr>
              <a:xfrm flipH="1">
                <a:off x="5817600" y="5238000"/>
                <a:ext cx="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1851"/>
              <p:cNvSpPr/>
              <p:nvPr/>
            </p:nvSpPr>
            <p:spPr>
              <a:xfrm flipV="1">
                <a:off x="5818680" y="5235480"/>
                <a:ext cx="828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1852"/>
              <p:cNvSpPr/>
              <p:nvPr/>
            </p:nvSpPr>
            <p:spPr>
              <a:xfrm flipV="1">
                <a:off x="5811480" y="5252040"/>
                <a:ext cx="54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1853"/>
              <p:cNvSpPr/>
              <p:nvPr/>
            </p:nvSpPr>
            <p:spPr>
              <a:xfrm>
                <a:off x="5818680" y="5253840"/>
                <a:ext cx="13680" cy="2160"/>
              </a:xfrm>
              <a:custGeom>
                <a:avLst/>
                <a:gdLst/>
                <a:ahLst/>
                <a:rect l="l" t="t" r="r" b="b"/>
                <a:pathLst>
                  <a:path w="132" h="27">
                    <a:moveTo>
                      <a:pt x="0" y="0"/>
                    </a:moveTo>
                    <a:lnTo>
                      <a:pt x="11" y="8"/>
                    </a:lnTo>
                    <a:lnTo>
                      <a:pt x="23" y="15"/>
                    </a:lnTo>
                    <a:lnTo>
                      <a:pt x="37" y="20"/>
                    </a:lnTo>
                    <a:lnTo>
                      <a:pt x="53" y="26"/>
                    </a:lnTo>
                    <a:lnTo>
                      <a:pt x="72" y="27"/>
                    </a:lnTo>
                    <a:lnTo>
                      <a:pt x="91" y="26"/>
                    </a:lnTo>
                    <a:lnTo>
                      <a:pt x="111" y="25"/>
                    </a:lnTo>
                    <a:lnTo>
                      <a:pt x="132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1854"/>
              <p:cNvSpPr/>
              <p:nvPr/>
            </p:nvSpPr>
            <p:spPr>
              <a:xfrm>
                <a:off x="5811480" y="5252760"/>
                <a:ext cx="72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1855"/>
              <p:cNvSpPr/>
              <p:nvPr/>
            </p:nvSpPr>
            <p:spPr>
              <a:xfrm>
                <a:off x="5816880" y="52520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0" y="0"/>
                    </a:moveTo>
                    <a:lnTo>
                      <a:pt x="1" y="4"/>
                    </a:lnTo>
                    <a:lnTo>
                      <a:pt x="1" y="8"/>
                    </a:lnTo>
                    <a:lnTo>
                      <a:pt x="4" y="12"/>
                    </a:lnTo>
                    <a:lnTo>
                      <a:pt x="6" y="16"/>
                    </a:lnTo>
                    <a:lnTo>
                      <a:pt x="11" y="23"/>
                    </a:lnTo>
                    <a:lnTo>
                      <a:pt x="18" y="2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1856"/>
              <p:cNvSpPr/>
              <p:nvPr/>
            </p:nvSpPr>
            <p:spPr>
              <a:xfrm flipV="1">
                <a:off x="5806080" y="5252400"/>
                <a:ext cx="108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1857"/>
              <p:cNvSpPr/>
              <p:nvPr/>
            </p:nvSpPr>
            <p:spPr>
              <a:xfrm>
                <a:off x="5811480" y="5270400"/>
                <a:ext cx="27000" cy="6480"/>
              </a:xfrm>
              <a:custGeom>
                <a:avLst/>
                <a:gdLst/>
                <a:ahLst/>
                <a:rect l="l" t="t" r="r" b="b"/>
                <a:pathLst>
                  <a:path w="255" h="75">
                    <a:moveTo>
                      <a:pt x="0" y="0"/>
                    </a:moveTo>
                    <a:lnTo>
                      <a:pt x="0" y="35"/>
                    </a:lnTo>
                    <a:lnTo>
                      <a:pt x="255" y="7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1858"/>
              <p:cNvSpPr/>
              <p:nvPr/>
            </p:nvSpPr>
            <p:spPr>
              <a:xfrm flipV="1">
                <a:off x="5806080" y="5270400"/>
                <a:ext cx="504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1859"/>
              <p:cNvSpPr/>
              <p:nvPr/>
            </p:nvSpPr>
            <p:spPr>
              <a:xfrm flipV="1">
                <a:off x="5811480" y="5252760"/>
                <a:ext cx="108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1860"/>
              <p:cNvSpPr/>
              <p:nvPr/>
            </p:nvSpPr>
            <p:spPr>
              <a:xfrm>
                <a:off x="5832360" y="5255280"/>
                <a:ext cx="61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1861"/>
              <p:cNvSpPr/>
              <p:nvPr/>
            </p:nvSpPr>
            <p:spPr>
              <a:xfrm>
                <a:off x="5846760" y="525780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Line 1862"/>
              <p:cNvSpPr/>
              <p:nvPr/>
            </p:nvSpPr>
            <p:spPr>
              <a:xfrm flipH="1">
                <a:off x="5846400" y="525780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Line 1863"/>
              <p:cNvSpPr/>
              <p:nvPr/>
            </p:nvSpPr>
            <p:spPr>
              <a:xfrm>
                <a:off x="5838480" y="525636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1864"/>
              <p:cNvSpPr/>
              <p:nvPr/>
            </p:nvSpPr>
            <p:spPr>
              <a:xfrm flipV="1">
                <a:off x="5838480" y="525636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Line 1865"/>
              <p:cNvSpPr/>
              <p:nvPr/>
            </p:nvSpPr>
            <p:spPr>
              <a:xfrm flipH="1">
                <a:off x="5838120" y="525708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1866"/>
              <p:cNvSpPr/>
              <p:nvPr/>
            </p:nvSpPr>
            <p:spPr>
              <a:xfrm flipV="1">
                <a:off x="5838480" y="5272560"/>
                <a:ext cx="792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1867"/>
              <p:cNvSpPr/>
              <p:nvPr/>
            </p:nvSpPr>
            <p:spPr>
              <a:xfrm>
                <a:off x="5846760" y="52729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260" h="107">
                    <a:moveTo>
                      <a:pt x="0" y="0"/>
                    </a:moveTo>
                    <a:lnTo>
                      <a:pt x="0" y="63"/>
                    </a:lnTo>
                    <a:lnTo>
                      <a:pt x="260" y="10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1868"/>
              <p:cNvSpPr/>
              <p:nvPr/>
            </p:nvSpPr>
            <p:spPr>
              <a:xfrm>
                <a:off x="5838480" y="5257080"/>
                <a:ext cx="108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1869"/>
              <p:cNvSpPr/>
              <p:nvPr/>
            </p:nvSpPr>
            <p:spPr>
              <a:xfrm flipV="1">
                <a:off x="5846760" y="5257440"/>
                <a:ext cx="1080" cy="1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1870"/>
              <p:cNvSpPr/>
              <p:nvPr/>
            </p:nvSpPr>
            <p:spPr>
              <a:xfrm flipV="1">
                <a:off x="5847840" y="5253480"/>
                <a:ext cx="1440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Line 1871"/>
              <p:cNvSpPr/>
              <p:nvPr/>
            </p:nvSpPr>
            <p:spPr>
              <a:xfrm flipH="1">
                <a:off x="5839200" y="5249520"/>
                <a:ext cx="226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1872"/>
              <p:cNvSpPr/>
              <p:nvPr/>
            </p:nvSpPr>
            <p:spPr>
              <a:xfrm>
                <a:off x="5832360" y="5248080"/>
                <a:ext cx="18360" cy="7200"/>
              </a:xfrm>
              <a:custGeom>
                <a:avLst/>
                <a:gdLst/>
                <a:ahLst/>
                <a:rect l="l" t="t" r="r" b="b"/>
                <a:pathLst>
                  <a:path w="181" h="95">
                    <a:moveTo>
                      <a:pt x="0" y="95"/>
                    </a:moveTo>
                    <a:lnTo>
                      <a:pt x="21" y="90"/>
                    </a:lnTo>
                    <a:lnTo>
                      <a:pt x="42" y="82"/>
                    </a:lnTo>
                    <a:lnTo>
                      <a:pt x="64" y="72"/>
                    </a:lnTo>
                    <a:lnTo>
                      <a:pt x="87" y="61"/>
                    </a:lnTo>
                    <a:lnTo>
                      <a:pt x="109" y="49"/>
                    </a:lnTo>
                    <a:lnTo>
                      <a:pt x="132" y="34"/>
                    </a:lnTo>
                    <a:lnTo>
                      <a:pt x="157" y="18"/>
                    </a:lnTo>
                    <a:lnTo>
                      <a:pt x="18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1873"/>
              <p:cNvSpPr/>
              <p:nvPr/>
            </p:nvSpPr>
            <p:spPr>
              <a:xfrm>
                <a:off x="5827320" y="5232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36" y="0"/>
                    </a:moveTo>
                    <a:lnTo>
                      <a:pt x="26" y="11"/>
                    </a:lnTo>
                    <a:lnTo>
                      <a:pt x="17" y="22"/>
                    </a:lnTo>
                    <a:lnTo>
                      <a:pt x="8" y="33"/>
                    </a:lnTo>
                    <a:lnTo>
                      <a:pt x="0" y="4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Line 1874"/>
              <p:cNvSpPr/>
              <p:nvPr/>
            </p:nvSpPr>
            <p:spPr>
              <a:xfrm flipV="1">
                <a:off x="5806080" y="5249520"/>
                <a:ext cx="10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1875"/>
              <p:cNvSpPr/>
              <p:nvPr/>
            </p:nvSpPr>
            <p:spPr>
              <a:xfrm flipV="1">
                <a:off x="5862600" y="5249160"/>
                <a:ext cx="72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1876"/>
              <p:cNvSpPr/>
              <p:nvPr/>
            </p:nvSpPr>
            <p:spPr>
              <a:xfrm>
                <a:off x="5802120" y="531648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121" h="107">
                    <a:moveTo>
                      <a:pt x="0" y="107"/>
                    </a:moveTo>
                    <a:lnTo>
                      <a:pt x="9" y="80"/>
                    </a:lnTo>
                    <a:lnTo>
                      <a:pt x="19" y="58"/>
                    </a:lnTo>
                    <a:lnTo>
                      <a:pt x="28" y="39"/>
                    </a:lnTo>
                    <a:lnTo>
                      <a:pt x="37" y="25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1" y="8"/>
                    </a:lnTo>
                    <a:lnTo>
                      <a:pt x="56" y="5"/>
                    </a:lnTo>
                    <a:lnTo>
                      <a:pt x="60" y="3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4" y="0"/>
                    </a:lnTo>
                    <a:lnTo>
                      <a:pt x="80" y="3"/>
                    </a:lnTo>
                    <a:lnTo>
                      <a:pt x="84" y="6"/>
                    </a:lnTo>
                    <a:lnTo>
                      <a:pt x="90" y="10"/>
                    </a:lnTo>
                    <a:lnTo>
                      <a:pt x="96" y="17"/>
                    </a:lnTo>
                    <a:lnTo>
                      <a:pt x="100" y="26"/>
                    </a:lnTo>
                    <a:lnTo>
                      <a:pt x="104" y="35"/>
                    </a:lnTo>
                    <a:lnTo>
                      <a:pt x="109" y="47"/>
                    </a:lnTo>
                    <a:lnTo>
                      <a:pt x="113" y="60"/>
                    </a:lnTo>
                    <a:lnTo>
                      <a:pt x="116" y="64"/>
                    </a:lnTo>
                    <a:lnTo>
                      <a:pt x="117" y="66"/>
                    </a:lnTo>
                    <a:lnTo>
                      <a:pt x="117" y="69"/>
                    </a:lnTo>
                    <a:lnTo>
                      <a:pt x="117" y="71"/>
                    </a:lnTo>
                    <a:lnTo>
                      <a:pt x="118" y="71"/>
                    </a:lnTo>
                    <a:lnTo>
                      <a:pt x="121" y="75"/>
                    </a:lnTo>
                    <a:lnTo>
                      <a:pt x="121" y="76"/>
                    </a:lnTo>
                    <a:lnTo>
                      <a:pt x="121" y="7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1877"/>
              <p:cNvSpPr/>
              <p:nvPr/>
            </p:nvSpPr>
            <p:spPr>
              <a:xfrm>
                <a:off x="5815800" y="53233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0"/>
                    </a:moveTo>
                    <a:lnTo>
                      <a:pt x="2" y="11"/>
                    </a:lnTo>
                    <a:lnTo>
                      <a:pt x="5" y="22"/>
                    </a:lnTo>
                    <a:lnTo>
                      <a:pt x="8" y="32"/>
                    </a:lnTo>
                    <a:lnTo>
                      <a:pt x="10" y="43"/>
                    </a:lnTo>
                    <a:lnTo>
                      <a:pt x="10" y="48"/>
                    </a:lnTo>
                    <a:lnTo>
                      <a:pt x="10" y="5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878"/>
              <p:cNvSpPr/>
              <p:nvPr/>
            </p:nvSpPr>
            <p:spPr>
              <a:xfrm>
                <a:off x="5816880" y="5327280"/>
                <a:ext cx="110160" cy="15480"/>
              </a:xfrm>
              <a:custGeom>
                <a:avLst/>
                <a:gdLst/>
                <a:ahLst/>
                <a:rect l="l" t="t" r="r" b="b"/>
                <a:pathLst>
                  <a:path w="1069" h="188">
                    <a:moveTo>
                      <a:pt x="0" y="0"/>
                    </a:moveTo>
                    <a:lnTo>
                      <a:pt x="1058" y="188"/>
                    </a:lnTo>
                    <a:lnTo>
                      <a:pt x="1065" y="188"/>
                    </a:lnTo>
                    <a:lnTo>
                      <a:pt x="1069" y="18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879"/>
              <p:cNvSpPr/>
              <p:nvPr/>
            </p:nvSpPr>
            <p:spPr>
              <a:xfrm>
                <a:off x="5802120" y="532584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8"/>
                    </a:moveTo>
                    <a:lnTo>
                      <a:pt x="5" y="1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880"/>
              <p:cNvSpPr/>
              <p:nvPr/>
            </p:nvSpPr>
            <p:spPr>
              <a:xfrm>
                <a:off x="5927040" y="5266080"/>
                <a:ext cx="126000" cy="76680"/>
              </a:xfrm>
              <a:custGeom>
                <a:avLst/>
                <a:gdLst/>
                <a:ahLst/>
                <a:rect l="l" t="t" r="r" b="b"/>
                <a:pathLst>
                  <a:path w="1211" h="927">
                    <a:moveTo>
                      <a:pt x="7" y="927"/>
                    </a:moveTo>
                    <a:lnTo>
                      <a:pt x="0" y="562"/>
                    </a:lnTo>
                    <a:lnTo>
                      <a:pt x="0" y="555"/>
                    </a:lnTo>
                    <a:lnTo>
                      <a:pt x="121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881"/>
              <p:cNvSpPr/>
              <p:nvPr/>
            </p:nvSpPr>
            <p:spPr>
              <a:xfrm>
                <a:off x="5862600" y="5205600"/>
                <a:ext cx="19440" cy="21240"/>
              </a:xfrm>
              <a:custGeom>
                <a:avLst/>
                <a:gdLst/>
                <a:ahLst/>
                <a:rect l="l" t="t" r="r" b="b"/>
                <a:pathLst>
                  <a:path w="188" h="257">
                    <a:moveTo>
                      <a:pt x="188" y="0"/>
                    </a:moveTo>
                    <a:lnTo>
                      <a:pt x="174" y="20"/>
                    </a:lnTo>
                    <a:lnTo>
                      <a:pt x="158" y="40"/>
                    </a:lnTo>
                    <a:lnTo>
                      <a:pt x="144" y="61"/>
                    </a:lnTo>
                    <a:lnTo>
                      <a:pt x="130" y="82"/>
                    </a:lnTo>
                    <a:lnTo>
                      <a:pt x="114" y="106"/>
                    </a:lnTo>
                    <a:lnTo>
                      <a:pt x="99" y="129"/>
                    </a:lnTo>
                    <a:lnTo>
                      <a:pt x="83" y="153"/>
                    </a:lnTo>
                    <a:lnTo>
                      <a:pt x="67" y="178"/>
                    </a:lnTo>
                    <a:lnTo>
                      <a:pt x="49" y="199"/>
                    </a:lnTo>
                    <a:lnTo>
                      <a:pt x="31" y="219"/>
                    </a:lnTo>
                    <a:lnTo>
                      <a:pt x="14" y="238"/>
                    </a:lnTo>
                    <a:lnTo>
                      <a:pt x="0" y="25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Line 1882"/>
              <p:cNvSpPr/>
              <p:nvPr/>
            </p:nvSpPr>
            <p:spPr>
              <a:xfrm flipH="1" flipV="1">
                <a:off x="5847840" y="5257800"/>
                <a:ext cx="26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1883"/>
              <p:cNvSpPr/>
              <p:nvPr/>
            </p:nvSpPr>
            <p:spPr>
              <a:xfrm>
                <a:off x="5853960" y="5244480"/>
                <a:ext cx="24840" cy="3960"/>
              </a:xfrm>
              <a:custGeom>
                <a:avLst/>
                <a:gdLst/>
                <a:ahLst/>
                <a:rect l="l" t="t" r="r" b="b"/>
                <a:pathLst>
                  <a:path w="234" h="49">
                    <a:moveTo>
                      <a:pt x="234" y="0"/>
                    </a:moveTo>
                    <a:lnTo>
                      <a:pt x="213" y="10"/>
                    </a:lnTo>
                    <a:lnTo>
                      <a:pt x="193" y="20"/>
                    </a:lnTo>
                    <a:lnTo>
                      <a:pt x="174" y="28"/>
                    </a:lnTo>
                    <a:lnTo>
                      <a:pt x="155" y="34"/>
                    </a:lnTo>
                    <a:lnTo>
                      <a:pt x="138" y="40"/>
                    </a:lnTo>
                    <a:lnTo>
                      <a:pt x="121" y="44"/>
                    </a:lnTo>
                    <a:lnTo>
                      <a:pt x="106" y="47"/>
                    </a:lnTo>
                    <a:lnTo>
                      <a:pt x="90" y="48"/>
                    </a:lnTo>
                    <a:lnTo>
                      <a:pt x="77" y="49"/>
                    </a:lnTo>
                    <a:lnTo>
                      <a:pt x="63" y="48"/>
                    </a:lnTo>
                    <a:lnTo>
                      <a:pt x="50" y="44"/>
                    </a:lnTo>
                    <a:lnTo>
                      <a:pt x="39" y="41"/>
                    </a:lnTo>
                    <a:lnTo>
                      <a:pt x="28" y="37"/>
                    </a:lnTo>
                    <a:lnTo>
                      <a:pt x="18" y="30"/>
                    </a:lnTo>
                    <a:lnTo>
                      <a:pt x="8" y="22"/>
                    </a:lnTo>
                    <a:lnTo>
                      <a:pt x="0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1884"/>
              <p:cNvSpPr/>
              <p:nvPr/>
            </p:nvSpPr>
            <p:spPr>
              <a:xfrm>
                <a:off x="5745960" y="5222880"/>
                <a:ext cx="19440" cy="2520"/>
              </a:xfrm>
              <a:custGeom>
                <a:avLst/>
                <a:gdLst/>
                <a:ahLst/>
                <a:rect l="l" t="t" r="r" b="b"/>
                <a:pathLst>
                  <a:path w="191" h="25">
                    <a:moveTo>
                      <a:pt x="191" y="25"/>
                    </a:moveTo>
                    <a:lnTo>
                      <a:pt x="49" y="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Line 1885"/>
              <p:cNvSpPr/>
              <p:nvPr/>
            </p:nvSpPr>
            <p:spPr>
              <a:xfrm flipV="1">
                <a:off x="5765760" y="5225760"/>
                <a:ext cx="108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1886"/>
              <p:cNvSpPr/>
              <p:nvPr/>
            </p:nvSpPr>
            <p:spPr>
              <a:xfrm>
                <a:off x="5756400" y="523152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4" h="79">
                    <a:moveTo>
                      <a:pt x="4" y="0"/>
                    </a:moveTo>
                    <a:lnTo>
                      <a:pt x="0" y="4"/>
                    </a:lnTo>
                    <a:lnTo>
                      <a:pt x="0" y="7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Line 1887"/>
              <p:cNvSpPr/>
              <p:nvPr/>
            </p:nvSpPr>
            <p:spPr>
              <a:xfrm flipH="1">
                <a:off x="5756040" y="522792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1888"/>
              <p:cNvSpPr/>
              <p:nvPr/>
            </p:nvSpPr>
            <p:spPr>
              <a:xfrm>
                <a:off x="5765760" y="523980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78" h="21">
                    <a:moveTo>
                      <a:pt x="178" y="15"/>
                    </a:moveTo>
                    <a:lnTo>
                      <a:pt x="64" y="0"/>
                    </a:lnTo>
                    <a:lnTo>
                      <a:pt x="0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1889"/>
              <p:cNvSpPr/>
              <p:nvPr/>
            </p:nvSpPr>
            <p:spPr>
              <a:xfrm flipV="1">
                <a:off x="5765760" y="5238720"/>
                <a:ext cx="108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890"/>
              <p:cNvSpPr/>
              <p:nvPr/>
            </p:nvSpPr>
            <p:spPr>
              <a:xfrm>
                <a:off x="5756400" y="523728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0" y="17"/>
                    </a:moveTo>
                    <a:lnTo>
                      <a:pt x="106" y="1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Line 1891"/>
              <p:cNvSpPr/>
              <p:nvPr/>
            </p:nvSpPr>
            <p:spPr>
              <a:xfrm flipH="1" flipV="1">
                <a:off x="5784480" y="5240520"/>
                <a:ext cx="504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892"/>
              <p:cNvSpPr/>
              <p:nvPr/>
            </p:nvSpPr>
            <p:spPr>
              <a:xfrm>
                <a:off x="5756400" y="5231520"/>
                <a:ext cx="27720" cy="2880"/>
              </a:xfrm>
              <a:custGeom>
                <a:avLst/>
                <a:gdLst/>
                <a:ahLst/>
                <a:rect l="l" t="t" r="r" b="b"/>
                <a:pathLst>
                  <a:path w="270" h="40">
                    <a:moveTo>
                      <a:pt x="0" y="0"/>
                    </a:moveTo>
                    <a:lnTo>
                      <a:pt x="267" y="40"/>
                    </a:lnTo>
                    <a:lnTo>
                      <a:pt x="270" y="3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1893"/>
              <p:cNvSpPr/>
              <p:nvPr/>
            </p:nvSpPr>
            <p:spPr>
              <a:xfrm>
                <a:off x="5784480" y="5234040"/>
                <a:ext cx="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1894"/>
              <p:cNvSpPr/>
              <p:nvPr/>
            </p:nvSpPr>
            <p:spPr>
              <a:xfrm>
                <a:off x="5789520" y="5234760"/>
                <a:ext cx="720" cy="6480"/>
              </a:xfrm>
              <a:custGeom>
                <a:avLst/>
                <a:gdLst/>
                <a:ahLst/>
                <a:rect l="l" t="t" r="r" b="b"/>
                <a:pathLst>
                  <a:path w="4" h="77">
                    <a:moveTo>
                      <a:pt x="0" y="77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895"/>
              <p:cNvSpPr/>
              <p:nvPr/>
            </p:nvSpPr>
            <p:spPr>
              <a:xfrm>
                <a:off x="5765760" y="5226480"/>
                <a:ext cx="36360" cy="2160"/>
              </a:xfrm>
              <a:custGeom>
                <a:avLst/>
                <a:gdLst/>
                <a:ahLst/>
                <a:rect l="l" t="t" r="r" b="b"/>
                <a:pathLst>
                  <a:path w="349" h="36">
                    <a:moveTo>
                      <a:pt x="349" y="36"/>
                    </a:moveTo>
                    <a:lnTo>
                      <a:pt x="75" y="0"/>
                    </a:lnTo>
                    <a:lnTo>
                      <a:pt x="0" y="2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1896"/>
              <p:cNvSpPr/>
              <p:nvPr/>
            </p:nvSpPr>
            <p:spPr>
              <a:xfrm>
                <a:off x="5739840" y="52228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5" h="21">
                    <a:moveTo>
                      <a:pt x="65" y="0"/>
                    </a:moveTo>
                    <a:lnTo>
                      <a:pt x="61" y="0"/>
                    </a:lnTo>
                    <a:lnTo>
                      <a:pt x="0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897"/>
              <p:cNvSpPr/>
              <p:nvPr/>
            </p:nvSpPr>
            <p:spPr>
              <a:xfrm>
                <a:off x="5738760" y="52228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Line 1898"/>
              <p:cNvSpPr/>
              <p:nvPr/>
            </p:nvSpPr>
            <p:spPr>
              <a:xfrm flipV="1">
                <a:off x="5738760" y="522288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Line 1899"/>
              <p:cNvSpPr/>
              <p:nvPr/>
            </p:nvSpPr>
            <p:spPr>
              <a:xfrm flipH="1">
                <a:off x="5738760" y="522576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1900"/>
              <p:cNvSpPr/>
              <p:nvPr/>
            </p:nvSpPr>
            <p:spPr>
              <a:xfrm>
                <a:off x="5747760" y="522576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67" h="57">
                    <a:moveTo>
                      <a:pt x="0" y="57"/>
                    </a:moveTo>
                    <a:lnTo>
                      <a:pt x="4" y="57"/>
                    </a:lnTo>
                    <a:lnTo>
                      <a:pt x="16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1901"/>
              <p:cNvSpPr/>
              <p:nvPr/>
            </p:nvSpPr>
            <p:spPr>
              <a:xfrm>
                <a:off x="5739840" y="5222880"/>
                <a:ext cx="6120" cy="2520"/>
              </a:xfrm>
              <a:custGeom>
                <a:avLst/>
                <a:gdLst/>
                <a:ahLst/>
                <a:rect l="l" t="t" r="r" b="b"/>
                <a:pathLst>
                  <a:path w="65" h="21">
                    <a:moveTo>
                      <a:pt x="0" y="21"/>
                    </a:moveTo>
                    <a:lnTo>
                      <a:pt x="19" y="18"/>
                    </a:lnTo>
                    <a:lnTo>
                      <a:pt x="36" y="13"/>
                    </a:lnTo>
                    <a:lnTo>
                      <a:pt x="50" y="8"/>
                    </a:lnTo>
                    <a:lnTo>
                      <a:pt x="6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1902"/>
              <p:cNvSpPr/>
              <p:nvPr/>
            </p:nvSpPr>
            <p:spPr>
              <a:xfrm flipH="1" flipV="1">
                <a:off x="5738760" y="5222520"/>
                <a:ext cx="720" cy="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1903"/>
              <p:cNvSpPr/>
              <p:nvPr/>
            </p:nvSpPr>
            <p:spPr>
              <a:xfrm flipH="1">
                <a:off x="5728320" y="522792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1904"/>
              <p:cNvSpPr/>
              <p:nvPr/>
            </p:nvSpPr>
            <p:spPr>
              <a:xfrm>
                <a:off x="5728320" y="522792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905"/>
              <p:cNvSpPr/>
              <p:nvPr/>
            </p:nvSpPr>
            <p:spPr>
              <a:xfrm>
                <a:off x="5718960" y="52214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82" h="21">
                    <a:moveTo>
                      <a:pt x="0" y="21"/>
                    </a:moveTo>
                    <a:lnTo>
                      <a:pt x="18" y="20"/>
                    </a:lnTo>
                    <a:lnTo>
                      <a:pt x="38" y="18"/>
                    </a:lnTo>
                    <a:lnTo>
                      <a:pt x="48" y="14"/>
                    </a:lnTo>
                    <a:lnTo>
                      <a:pt x="59" y="11"/>
                    </a:lnTo>
                    <a:lnTo>
                      <a:pt x="70" y="5"/>
                    </a:lnTo>
                    <a:lnTo>
                      <a:pt x="8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906"/>
              <p:cNvSpPr/>
              <p:nvPr/>
            </p:nvSpPr>
            <p:spPr>
              <a:xfrm>
                <a:off x="5727240" y="521892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50" h="36">
                    <a:moveTo>
                      <a:pt x="0" y="36"/>
                    </a:moveTo>
                    <a:lnTo>
                      <a:pt x="10" y="30"/>
                    </a:lnTo>
                    <a:lnTo>
                      <a:pt x="20" y="25"/>
                    </a:lnTo>
                    <a:lnTo>
                      <a:pt x="29" y="18"/>
                    </a:lnTo>
                    <a:lnTo>
                      <a:pt x="39" y="12"/>
                    </a:lnTo>
                    <a:lnTo>
                      <a:pt x="43" y="10"/>
                    </a:lnTo>
                    <a:lnTo>
                      <a:pt x="47" y="8"/>
                    </a:lnTo>
                    <a:lnTo>
                      <a:pt x="49" y="5"/>
                    </a:lnTo>
                    <a:lnTo>
                      <a:pt x="5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Line 1907"/>
              <p:cNvSpPr/>
              <p:nvPr/>
            </p:nvSpPr>
            <p:spPr>
              <a:xfrm flipH="1" flipV="1">
                <a:off x="5731560" y="5235480"/>
                <a:ext cx="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1908"/>
              <p:cNvSpPr/>
              <p:nvPr/>
            </p:nvSpPr>
            <p:spPr>
              <a:xfrm>
                <a:off x="5721840" y="5234040"/>
                <a:ext cx="61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1909"/>
              <p:cNvSpPr/>
              <p:nvPr/>
            </p:nvSpPr>
            <p:spPr>
              <a:xfrm flipH="1" flipV="1">
                <a:off x="5728320" y="5234760"/>
                <a:ext cx="28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1910"/>
              <p:cNvSpPr/>
              <p:nvPr/>
            </p:nvSpPr>
            <p:spPr>
              <a:xfrm flipV="1">
                <a:off x="5731560" y="523476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1911"/>
              <p:cNvSpPr/>
              <p:nvPr/>
            </p:nvSpPr>
            <p:spPr>
              <a:xfrm>
                <a:off x="5731560" y="52347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1912"/>
              <p:cNvSpPr/>
              <p:nvPr/>
            </p:nvSpPr>
            <p:spPr>
              <a:xfrm flipH="1">
                <a:off x="5742360" y="524520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1913"/>
              <p:cNvSpPr/>
              <p:nvPr/>
            </p:nvSpPr>
            <p:spPr>
              <a:xfrm flipV="1">
                <a:off x="5742720" y="524520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1914"/>
              <p:cNvSpPr/>
              <p:nvPr/>
            </p:nvSpPr>
            <p:spPr>
              <a:xfrm>
                <a:off x="5742720" y="524520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1915"/>
              <p:cNvSpPr/>
              <p:nvPr/>
            </p:nvSpPr>
            <p:spPr>
              <a:xfrm flipV="1">
                <a:off x="5747760" y="5245920"/>
                <a:ext cx="108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916"/>
              <p:cNvSpPr/>
              <p:nvPr/>
            </p:nvSpPr>
            <p:spPr>
              <a:xfrm>
                <a:off x="5732280" y="5235480"/>
                <a:ext cx="15480" cy="2160"/>
              </a:xfrm>
              <a:custGeom>
                <a:avLst/>
                <a:gdLst/>
                <a:ahLst/>
                <a:rect l="l" t="t" r="r" b="b"/>
                <a:pathLst>
                  <a:path w="160" h="24">
                    <a:moveTo>
                      <a:pt x="160" y="13"/>
                    </a:moveTo>
                    <a:lnTo>
                      <a:pt x="68" y="0"/>
                    </a:lnTo>
                    <a:lnTo>
                      <a:pt x="0" y="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1917"/>
              <p:cNvSpPr/>
              <p:nvPr/>
            </p:nvSpPr>
            <p:spPr>
              <a:xfrm>
                <a:off x="5728320" y="5227920"/>
                <a:ext cx="1944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1918"/>
              <p:cNvSpPr/>
              <p:nvPr/>
            </p:nvSpPr>
            <p:spPr>
              <a:xfrm flipV="1">
                <a:off x="5721840" y="5222520"/>
                <a:ext cx="1656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1919"/>
              <p:cNvSpPr/>
              <p:nvPr/>
            </p:nvSpPr>
            <p:spPr>
              <a:xfrm flipV="1">
                <a:off x="5721840" y="5227200"/>
                <a:ext cx="10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Line 1920"/>
              <p:cNvSpPr/>
              <p:nvPr/>
            </p:nvSpPr>
            <p:spPr>
              <a:xfrm flipH="1">
                <a:off x="5728320" y="5225760"/>
                <a:ext cx="1008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1921"/>
              <p:cNvSpPr/>
              <p:nvPr/>
            </p:nvSpPr>
            <p:spPr>
              <a:xfrm flipV="1">
                <a:off x="5728320" y="5227920"/>
                <a:ext cx="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1922"/>
              <p:cNvSpPr/>
              <p:nvPr/>
            </p:nvSpPr>
            <p:spPr>
              <a:xfrm flipV="1">
                <a:off x="5747760" y="5230440"/>
                <a:ext cx="10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Line 1923"/>
              <p:cNvSpPr/>
              <p:nvPr/>
            </p:nvSpPr>
            <p:spPr>
              <a:xfrm flipH="1" flipV="1">
                <a:off x="5727240" y="5221440"/>
                <a:ext cx="11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1924"/>
              <p:cNvSpPr/>
              <p:nvPr/>
            </p:nvSpPr>
            <p:spPr>
              <a:xfrm>
                <a:off x="5747760" y="5262120"/>
                <a:ext cx="25920" cy="6480"/>
              </a:xfrm>
              <a:custGeom>
                <a:avLst/>
                <a:gdLst/>
                <a:ahLst/>
                <a:rect l="l" t="t" r="r" b="b"/>
                <a:pathLst>
                  <a:path w="251" h="78">
                    <a:moveTo>
                      <a:pt x="0" y="0"/>
                    </a:moveTo>
                    <a:lnTo>
                      <a:pt x="0" y="35"/>
                    </a:lnTo>
                    <a:lnTo>
                      <a:pt x="251" y="7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1925"/>
              <p:cNvSpPr/>
              <p:nvPr/>
            </p:nvSpPr>
            <p:spPr>
              <a:xfrm flipV="1">
                <a:off x="5742720" y="5262120"/>
                <a:ext cx="504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926"/>
              <p:cNvSpPr/>
              <p:nvPr/>
            </p:nvSpPr>
            <p:spPr>
              <a:xfrm>
                <a:off x="5714640" y="5258520"/>
                <a:ext cx="27720" cy="5760"/>
              </a:xfrm>
              <a:custGeom>
                <a:avLst/>
                <a:gdLst/>
                <a:ahLst/>
                <a:rect l="l" t="t" r="r" b="b"/>
                <a:pathLst>
                  <a:path w="266" h="75">
                    <a:moveTo>
                      <a:pt x="0" y="0"/>
                    </a:moveTo>
                    <a:lnTo>
                      <a:pt x="0" y="33"/>
                    </a:lnTo>
                    <a:lnTo>
                      <a:pt x="266" y="75"/>
                    </a:lnTo>
                    <a:lnTo>
                      <a:pt x="266" y="7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927"/>
              <p:cNvSpPr/>
              <p:nvPr/>
            </p:nvSpPr>
            <p:spPr>
              <a:xfrm>
                <a:off x="5780160" y="5266800"/>
                <a:ext cx="25920" cy="5760"/>
              </a:xfrm>
              <a:custGeom>
                <a:avLst/>
                <a:gdLst/>
                <a:ahLst/>
                <a:rect l="l" t="t" r="r" b="b"/>
                <a:pathLst>
                  <a:path w="245" h="67">
                    <a:moveTo>
                      <a:pt x="0" y="0"/>
                    </a:moveTo>
                    <a:lnTo>
                      <a:pt x="0" y="28"/>
                    </a:lnTo>
                    <a:lnTo>
                      <a:pt x="245" y="6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1928"/>
              <p:cNvSpPr/>
              <p:nvPr/>
            </p:nvSpPr>
            <p:spPr>
              <a:xfrm flipV="1">
                <a:off x="5774040" y="5266800"/>
                <a:ext cx="61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1929"/>
              <p:cNvSpPr/>
              <p:nvPr/>
            </p:nvSpPr>
            <p:spPr>
              <a:xfrm flipH="1">
                <a:off x="5743440" y="5238720"/>
                <a:ext cx="226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1930"/>
              <p:cNvSpPr/>
              <p:nvPr/>
            </p:nvSpPr>
            <p:spPr>
              <a:xfrm flipV="1">
                <a:off x="5742720" y="5244840"/>
                <a:ext cx="108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1931"/>
              <p:cNvSpPr/>
              <p:nvPr/>
            </p:nvSpPr>
            <p:spPr>
              <a:xfrm flipH="1">
                <a:off x="5774040" y="5248800"/>
                <a:ext cx="72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1932"/>
              <p:cNvSpPr/>
              <p:nvPr/>
            </p:nvSpPr>
            <p:spPr>
              <a:xfrm flipH="1">
                <a:off x="5747400" y="5241240"/>
                <a:ext cx="176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1933"/>
              <p:cNvSpPr/>
              <p:nvPr/>
            </p:nvSpPr>
            <p:spPr>
              <a:xfrm>
                <a:off x="5747760" y="5246280"/>
                <a:ext cx="2700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1934"/>
              <p:cNvSpPr/>
              <p:nvPr/>
            </p:nvSpPr>
            <p:spPr>
              <a:xfrm flipH="1" flipV="1">
                <a:off x="5747400" y="5237280"/>
                <a:ext cx="82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1935"/>
              <p:cNvSpPr/>
              <p:nvPr/>
            </p:nvSpPr>
            <p:spPr>
              <a:xfrm flipV="1">
                <a:off x="5780160" y="5249160"/>
                <a:ext cx="108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1936"/>
              <p:cNvSpPr/>
              <p:nvPr/>
            </p:nvSpPr>
            <p:spPr>
              <a:xfrm flipH="1" flipV="1">
                <a:off x="5699880" y="5218920"/>
                <a:ext cx="39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937"/>
              <p:cNvSpPr/>
              <p:nvPr/>
            </p:nvSpPr>
            <p:spPr>
              <a:xfrm>
                <a:off x="5704200" y="521892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18" y="26"/>
                    </a:moveTo>
                    <a:lnTo>
                      <a:pt x="13" y="20"/>
                    </a:lnTo>
                    <a:lnTo>
                      <a:pt x="8" y="14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938"/>
              <p:cNvSpPr/>
              <p:nvPr/>
            </p:nvSpPr>
            <p:spPr>
              <a:xfrm>
                <a:off x="5681520" y="522468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102" h="23">
                    <a:moveTo>
                      <a:pt x="102" y="18"/>
                    </a:moveTo>
                    <a:lnTo>
                      <a:pt x="98" y="18"/>
                    </a:lnTo>
                    <a:lnTo>
                      <a:pt x="94" y="18"/>
                    </a:lnTo>
                    <a:lnTo>
                      <a:pt x="91" y="19"/>
                    </a:lnTo>
                    <a:lnTo>
                      <a:pt x="89" y="21"/>
                    </a:lnTo>
                    <a:lnTo>
                      <a:pt x="70" y="23"/>
                    </a:lnTo>
                    <a:lnTo>
                      <a:pt x="53" y="23"/>
                    </a:lnTo>
                    <a:lnTo>
                      <a:pt x="45" y="22"/>
                    </a:lnTo>
                    <a:lnTo>
                      <a:pt x="37" y="20"/>
                    </a:lnTo>
                    <a:lnTo>
                      <a:pt x="29" y="18"/>
                    </a:lnTo>
                    <a:lnTo>
                      <a:pt x="21" y="14"/>
                    </a:lnTo>
                    <a:lnTo>
                      <a:pt x="16" y="11"/>
                    </a:lnTo>
                    <a:lnTo>
                      <a:pt x="10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1939"/>
              <p:cNvSpPr/>
              <p:nvPr/>
            </p:nvSpPr>
            <p:spPr>
              <a:xfrm>
                <a:off x="5695200" y="522468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1" y="0"/>
                    </a:moveTo>
                    <a:lnTo>
                      <a:pt x="8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Line 1940"/>
              <p:cNvSpPr/>
              <p:nvPr/>
            </p:nvSpPr>
            <p:spPr>
              <a:xfrm flipH="1">
                <a:off x="5695920" y="522396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1941"/>
              <p:cNvSpPr/>
              <p:nvPr/>
            </p:nvSpPr>
            <p:spPr>
              <a:xfrm>
                <a:off x="5695920" y="52239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2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Line 1942"/>
              <p:cNvSpPr/>
              <p:nvPr/>
            </p:nvSpPr>
            <p:spPr>
              <a:xfrm>
                <a:off x="5695200" y="5224680"/>
                <a:ext cx="7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Line 1943"/>
              <p:cNvSpPr/>
              <p:nvPr/>
            </p:nvSpPr>
            <p:spPr>
              <a:xfrm flipH="1" flipV="1">
                <a:off x="5691240" y="5230440"/>
                <a:ext cx="39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Line 1944"/>
              <p:cNvSpPr/>
              <p:nvPr/>
            </p:nvSpPr>
            <p:spPr>
              <a:xfrm>
                <a:off x="5691600" y="5225760"/>
                <a:ext cx="10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1945"/>
              <p:cNvSpPr/>
              <p:nvPr/>
            </p:nvSpPr>
            <p:spPr>
              <a:xfrm>
                <a:off x="5691600" y="52246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36" y="0"/>
                    </a:moveTo>
                    <a:lnTo>
                      <a:pt x="28" y="4"/>
                    </a:lnTo>
                    <a:lnTo>
                      <a:pt x="18" y="7"/>
                    </a:lnTo>
                    <a:lnTo>
                      <a:pt x="9" y="11"/>
                    </a:lnTo>
                    <a:lnTo>
                      <a:pt x="0" y="1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Line 1946"/>
              <p:cNvSpPr/>
              <p:nvPr/>
            </p:nvSpPr>
            <p:spPr>
              <a:xfrm>
                <a:off x="5695920" y="5224680"/>
                <a:ext cx="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1947"/>
              <p:cNvSpPr/>
              <p:nvPr/>
            </p:nvSpPr>
            <p:spPr>
              <a:xfrm>
                <a:off x="5681520" y="5218920"/>
                <a:ext cx="11520" cy="5760"/>
              </a:xfrm>
              <a:custGeom>
                <a:avLst/>
                <a:gdLst/>
                <a:ahLst/>
                <a:rect l="l" t="t" r="r" b="b"/>
                <a:pathLst>
                  <a:path w="113" h="68">
                    <a:moveTo>
                      <a:pt x="0" y="68"/>
                    </a:moveTo>
                    <a:lnTo>
                      <a:pt x="9" y="60"/>
                    </a:lnTo>
                    <a:lnTo>
                      <a:pt x="18" y="54"/>
                    </a:lnTo>
                    <a:lnTo>
                      <a:pt x="29" y="44"/>
                    </a:lnTo>
                    <a:lnTo>
                      <a:pt x="41" y="35"/>
                    </a:lnTo>
                    <a:lnTo>
                      <a:pt x="53" y="26"/>
                    </a:lnTo>
                    <a:lnTo>
                      <a:pt x="65" y="19"/>
                    </a:lnTo>
                    <a:lnTo>
                      <a:pt x="78" y="13"/>
                    </a:lnTo>
                    <a:lnTo>
                      <a:pt x="89" y="8"/>
                    </a:lnTo>
                    <a:lnTo>
                      <a:pt x="101" y="4"/>
                    </a:lnTo>
                    <a:lnTo>
                      <a:pt x="11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1948"/>
              <p:cNvSpPr/>
              <p:nvPr/>
            </p:nvSpPr>
            <p:spPr>
              <a:xfrm flipH="1" flipV="1">
                <a:off x="5689800" y="5209560"/>
                <a:ext cx="2880" cy="9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1949"/>
              <p:cNvSpPr/>
              <p:nvPr/>
            </p:nvSpPr>
            <p:spPr>
              <a:xfrm>
                <a:off x="5676120" y="5209920"/>
                <a:ext cx="13680" cy="5760"/>
              </a:xfrm>
              <a:custGeom>
                <a:avLst/>
                <a:gdLst/>
                <a:ahLst/>
                <a:rect l="l" t="t" r="r" b="b"/>
                <a:pathLst>
                  <a:path w="131" h="61">
                    <a:moveTo>
                      <a:pt x="131" y="0"/>
                    </a:moveTo>
                    <a:lnTo>
                      <a:pt x="115" y="0"/>
                    </a:lnTo>
                    <a:lnTo>
                      <a:pt x="99" y="3"/>
                    </a:lnTo>
                    <a:lnTo>
                      <a:pt x="83" y="6"/>
                    </a:lnTo>
                    <a:lnTo>
                      <a:pt x="67" y="12"/>
                    </a:lnTo>
                    <a:lnTo>
                      <a:pt x="50" y="20"/>
                    </a:lnTo>
                    <a:lnTo>
                      <a:pt x="33" y="31"/>
                    </a:lnTo>
                    <a:lnTo>
                      <a:pt x="17" y="45"/>
                    </a:lnTo>
                    <a:lnTo>
                      <a:pt x="0" y="6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1950"/>
              <p:cNvSpPr/>
              <p:nvPr/>
            </p:nvSpPr>
            <p:spPr>
              <a:xfrm>
                <a:off x="5681520" y="5238000"/>
                <a:ext cx="1080" cy="18720"/>
              </a:xfrm>
              <a:custGeom>
                <a:avLst/>
                <a:gdLst/>
                <a:ahLst/>
                <a:rect l="l" t="t" r="r" b="b"/>
                <a:pathLst>
                  <a:path w="3" h="224">
                    <a:moveTo>
                      <a:pt x="0" y="0"/>
                    </a:moveTo>
                    <a:lnTo>
                      <a:pt x="3" y="4"/>
                    </a:lnTo>
                    <a:lnTo>
                      <a:pt x="3" y="2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Line 1951"/>
              <p:cNvSpPr/>
              <p:nvPr/>
            </p:nvSpPr>
            <p:spPr>
              <a:xfrm flipH="1">
                <a:off x="5685120" y="523872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1952"/>
              <p:cNvSpPr/>
              <p:nvPr/>
            </p:nvSpPr>
            <p:spPr>
              <a:xfrm>
                <a:off x="5685480" y="523872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Line 1953"/>
              <p:cNvSpPr/>
              <p:nvPr/>
            </p:nvSpPr>
            <p:spPr>
              <a:xfrm>
                <a:off x="5709600" y="5241240"/>
                <a:ext cx="108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954"/>
              <p:cNvSpPr/>
              <p:nvPr/>
            </p:nvSpPr>
            <p:spPr>
              <a:xfrm>
                <a:off x="5714640" y="5242320"/>
                <a:ext cx="1080" cy="7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1955"/>
              <p:cNvSpPr/>
              <p:nvPr/>
            </p:nvSpPr>
            <p:spPr>
              <a:xfrm flipH="1">
                <a:off x="5714280" y="524232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1956"/>
              <p:cNvSpPr/>
              <p:nvPr/>
            </p:nvSpPr>
            <p:spPr>
              <a:xfrm>
                <a:off x="5704200" y="5232960"/>
                <a:ext cx="17640" cy="1440"/>
              </a:xfrm>
              <a:custGeom>
                <a:avLst/>
                <a:gdLst/>
                <a:ahLst/>
                <a:rect l="l" t="t" r="r" b="b"/>
                <a:pathLst>
                  <a:path w="170" h="21">
                    <a:moveTo>
                      <a:pt x="0" y="21"/>
                    </a:moveTo>
                    <a:lnTo>
                      <a:pt x="64" y="0"/>
                    </a:lnTo>
                    <a:lnTo>
                      <a:pt x="170" y="1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Line 1957"/>
              <p:cNvSpPr/>
              <p:nvPr/>
            </p:nvSpPr>
            <p:spPr>
              <a:xfrm flipH="1">
                <a:off x="5681160" y="5232240"/>
                <a:ext cx="2268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1958"/>
              <p:cNvSpPr/>
              <p:nvPr/>
            </p:nvSpPr>
            <p:spPr>
              <a:xfrm flipH="1" flipV="1">
                <a:off x="5695920" y="5231520"/>
                <a:ext cx="79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1959"/>
              <p:cNvSpPr/>
              <p:nvPr/>
            </p:nvSpPr>
            <p:spPr>
              <a:xfrm flipH="1" flipV="1">
                <a:off x="5703840" y="5232240"/>
                <a:ext cx="108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Line 1960"/>
              <p:cNvSpPr/>
              <p:nvPr/>
            </p:nvSpPr>
            <p:spPr>
              <a:xfrm flipH="1" flipV="1">
                <a:off x="5687640" y="5238720"/>
                <a:ext cx="2160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Line 1961"/>
              <p:cNvSpPr/>
              <p:nvPr/>
            </p:nvSpPr>
            <p:spPr>
              <a:xfrm flipV="1">
                <a:off x="5687640" y="5234400"/>
                <a:ext cx="1620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Line 1962"/>
              <p:cNvSpPr/>
              <p:nvPr/>
            </p:nvSpPr>
            <p:spPr>
              <a:xfrm flipV="1">
                <a:off x="5697000" y="5221440"/>
                <a:ext cx="93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1963"/>
              <p:cNvSpPr/>
              <p:nvPr/>
            </p:nvSpPr>
            <p:spPr>
              <a:xfrm>
                <a:off x="5697000" y="52189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31" y="0"/>
                    </a:moveTo>
                    <a:lnTo>
                      <a:pt x="30" y="8"/>
                    </a:lnTo>
                    <a:lnTo>
                      <a:pt x="28" y="15"/>
                    </a:lnTo>
                    <a:lnTo>
                      <a:pt x="25" y="23"/>
                    </a:lnTo>
                    <a:lnTo>
                      <a:pt x="21" y="30"/>
                    </a:lnTo>
                    <a:lnTo>
                      <a:pt x="17" y="36"/>
                    </a:lnTo>
                    <a:lnTo>
                      <a:pt x="11" y="43"/>
                    </a:lnTo>
                    <a:lnTo>
                      <a:pt x="6" y="50"/>
                    </a:lnTo>
                    <a:lnTo>
                      <a:pt x="0" y="5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1964"/>
              <p:cNvSpPr/>
              <p:nvPr/>
            </p:nvSpPr>
            <p:spPr>
              <a:xfrm>
                <a:off x="5676120" y="5215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7" y="21"/>
                    </a:moveTo>
                    <a:lnTo>
                      <a:pt x="4" y="16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Line 1965"/>
              <p:cNvSpPr/>
              <p:nvPr/>
            </p:nvSpPr>
            <p:spPr>
              <a:xfrm flipH="1" flipV="1">
                <a:off x="5671080" y="5222160"/>
                <a:ext cx="792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1966"/>
              <p:cNvSpPr/>
              <p:nvPr/>
            </p:nvSpPr>
            <p:spPr>
              <a:xfrm>
                <a:off x="5676120" y="521748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5" h="71">
                    <a:moveTo>
                      <a:pt x="0" y="0"/>
                    </a:moveTo>
                    <a:lnTo>
                      <a:pt x="3" y="10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39"/>
                    </a:lnTo>
                    <a:lnTo>
                      <a:pt x="17" y="57"/>
                    </a:lnTo>
                    <a:lnTo>
                      <a:pt x="25" y="7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Line 1967"/>
              <p:cNvSpPr/>
              <p:nvPr/>
            </p:nvSpPr>
            <p:spPr>
              <a:xfrm>
                <a:off x="5672160" y="5216400"/>
                <a:ext cx="396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1968"/>
              <p:cNvSpPr/>
              <p:nvPr/>
            </p:nvSpPr>
            <p:spPr>
              <a:xfrm>
                <a:off x="5671080" y="52207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14"/>
                    </a:moveTo>
                    <a:lnTo>
                      <a:pt x="4" y="12"/>
                    </a:lnTo>
                    <a:lnTo>
                      <a:pt x="6" y="9"/>
                    </a:lnTo>
                    <a:lnTo>
                      <a:pt x="7" y="5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1969"/>
              <p:cNvSpPr/>
              <p:nvPr/>
            </p:nvSpPr>
            <p:spPr>
              <a:xfrm>
                <a:off x="5672160" y="5216400"/>
                <a:ext cx="720" cy="3960"/>
              </a:xfrm>
              <a:custGeom>
                <a:avLst/>
                <a:gdLst/>
                <a:ahLst/>
                <a:rect l="l" t="t" r="r" b="b"/>
                <a:pathLst>
                  <a:path w="7" h="49">
                    <a:moveTo>
                      <a:pt x="0" y="49"/>
                    </a:moveTo>
                    <a:lnTo>
                      <a:pt x="2" y="37"/>
                    </a:lnTo>
                    <a:lnTo>
                      <a:pt x="5" y="24"/>
                    </a:lnTo>
                    <a:lnTo>
                      <a:pt x="6" y="12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1970"/>
              <p:cNvSpPr/>
              <p:nvPr/>
            </p:nvSpPr>
            <p:spPr>
              <a:xfrm>
                <a:off x="5673240" y="5229000"/>
                <a:ext cx="18360" cy="2520"/>
              </a:xfrm>
              <a:custGeom>
                <a:avLst/>
                <a:gdLst/>
                <a:ahLst/>
                <a:rect l="l" t="t" r="r" b="b"/>
                <a:pathLst>
                  <a:path w="181" h="21">
                    <a:moveTo>
                      <a:pt x="181" y="18"/>
                    </a:moveTo>
                    <a:lnTo>
                      <a:pt x="57" y="0"/>
                    </a:lnTo>
                    <a:lnTo>
                      <a:pt x="0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Line 1971"/>
              <p:cNvSpPr/>
              <p:nvPr/>
            </p:nvSpPr>
            <p:spPr>
              <a:xfrm flipV="1">
                <a:off x="5673240" y="5228640"/>
                <a:ext cx="720" cy="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Line 1972"/>
              <p:cNvSpPr/>
              <p:nvPr/>
            </p:nvSpPr>
            <p:spPr>
              <a:xfrm flipH="1" flipV="1">
                <a:off x="5647680" y="5215680"/>
                <a:ext cx="1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Line 1973"/>
              <p:cNvSpPr/>
              <p:nvPr/>
            </p:nvSpPr>
            <p:spPr>
              <a:xfrm flipH="1">
                <a:off x="5645520" y="521568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1974"/>
              <p:cNvSpPr/>
              <p:nvPr/>
            </p:nvSpPr>
            <p:spPr>
              <a:xfrm flipH="1" flipV="1">
                <a:off x="5649120" y="5217480"/>
                <a:ext cx="7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1975"/>
              <p:cNvSpPr/>
              <p:nvPr/>
            </p:nvSpPr>
            <p:spPr>
              <a:xfrm>
                <a:off x="5652360" y="52257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4"/>
                    </a:moveTo>
                    <a:lnTo>
                      <a:pt x="7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Line 1976"/>
              <p:cNvSpPr/>
              <p:nvPr/>
            </p:nvSpPr>
            <p:spPr>
              <a:xfrm flipH="1" flipV="1">
                <a:off x="5649840" y="5220000"/>
                <a:ext cx="180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1977"/>
              <p:cNvSpPr/>
              <p:nvPr/>
            </p:nvSpPr>
            <p:spPr>
              <a:xfrm>
                <a:off x="5651280" y="5229000"/>
                <a:ext cx="21600" cy="5760"/>
              </a:xfrm>
              <a:custGeom>
                <a:avLst/>
                <a:gdLst/>
                <a:ahLst/>
                <a:rect l="l" t="t" r="r" b="b"/>
                <a:pathLst>
                  <a:path w="209" h="75">
                    <a:moveTo>
                      <a:pt x="0" y="75"/>
                    </a:moveTo>
                    <a:lnTo>
                      <a:pt x="7" y="75"/>
                    </a:lnTo>
                    <a:lnTo>
                      <a:pt x="20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1978"/>
              <p:cNvSpPr/>
              <p:nvPr/>
            </p:nvSpPr>
            <p:spPr>
              <a:xfrm>
                <a:off x="5655600" y="5235480"/>
                <a:ext cx="1800" cy="7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5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Line 1979"/>
              <p:cNvSpPr/>
              <p:nvPr/>
            </p:nvSpPr>
            <p:spPr>
              <a:xfrm flipV="1">
                <a:off x="5655600" y="5235480"/>
                <a:ext cx="180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1980"/>
              <p:cNvSpPr/>
              <p:nvPr/>
            </p:nvSpPr>
            <p:spPr>
              <a:xfrm>
                <a:off x="5653440" y="522216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69" h="62">
                    <a:moveTo>
                      <a:pt x="169" y="0"/>
                    </a:moveTo>
                    <a:lnTo>
                      <a:pt x="162" y="12"/>
                    </a:lnTo>
                    <a:lnTo>
                      <a:pt x="153" y="22"/>
                    </a:lnTo>
                    <a:lnTo>
                      <a:pt x="144" y="31"/>
                    </a:lnTo>
                    <a:lnTo>
                      <a:pt x="135" y="39"/>
                    </a:lnTo>
                    <a:lnTo>
                      <a:pt x="125" y="46"/>
                    </a:lnTo>
                    <a:lnTo>
                      <a:pt x="116" y="51"/>
                    </a:lnTo>
                    <a:lnTo>
                      <a:pt x="105" y="56"/>
                    </a:lnTo>
                    <a:lnTo>
                      <a:pt x="95" y="59"/>
                    </a:lnTo>
                    <a:lnTo>
                      <a:pt x="84" y="61"/>
                    </a:lnTo>
                    <a:lnTo>
                      <a:pt x="73" y="62"/>
                    </a:lnTo>
                    <a:lnTo>
                      <a:pt x="62" y="62"/>
                    </a:lnTo>
                    <a:lnTo>
                      <a:pt x="50" y="60"/>
                    </a:lnTo>
                    <a:lnTo>
                      <a:pt x="37" y="58"/>
                    </a:lnTo>
                    <a:lnTo>
                      <a:pt x="25" y="55"/>
                    </a:lnTo>
                    <a:lnTo>
                      <a:pt x="12" y="49"/>
                    </a:lnTo>
                    <a:lnTo>
                      <a:pt x="0" y="4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1981"/>
              <p:cNvSpPr/>
              <p:nvPr/>
            </p:nvSpPr>
            <p:spPr>
              <a:xfrm flipH="1">
                <a:off x="5657040" y="5231520"/>
                <a:ext cx="1548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1982"/>
              <p:cNvSpPr/>
              <p:nvPr/>
            </p:nvSpPr>
            <p:spPr>
              <a:xfrm>
                <a:off x="5640840" y="5225760"/>
                <a:ext cx="32040" cy="2880"/>
              </a:xfrm>
              <a:custGeom>
                <a:avLst/>
                <a:gdLst/>
                <a:ahLst/>
                <a:rect l="l" t="t" r="r" b="b"/>
                <a:pathLst>
                  <a:path w="308" h="35">
                    <a:moveTo>
                      <a:pt x="308" y="35"/>
                    </a:moveTo>
                    <a:lnTo>
                      <a:pt x="56" y="0"/>
                    </a:lnTo>
                    <a:lnTo>
                      <a:pt x="0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1983"/>
              <p:cNvSpPr/>
              <p:nvPr/>
            </p:nvSpPr>
            <p:spPr>
              <a:xfrm flipV="1">
                <a:off x="5651280" y="5251320"/>
                <a:ext cx="3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1984"/>
              <p:cNvSpPr/>
              <p:nvPr/>
            </p:nvSpPr>
            <p:spPr>
              <a:xfrm>
                <a:off x="5655600" y="5251320"/>
                <a:ext cx="25920" cy="5760"/>
              </a:xfrm>
              <a:custGeom>
                <a:avLst/>
                <a:gdLst/>
                <a:ahLst/>
                <a:rect l="l" t="t" r="r" b="b"/>
                <a:pathLst>
                  <a:path w="242" h="64">
                    <a:moveTo>
                      <a:pt x="0" y="0"/>
                    </a:moveTo>
                    <a:lnTo>
                      <a:pt x="0" y="26"/>
                    </a:lnTo>
                    <a:lnTo>
                      <a:pt x="242" y="6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Line 1985"/>
              <p:cNvSpPr/>
              <p:nvPr/>
            </p:nvSpPr>
            <p:spPr>
              <a:xfrm flipH="1">
                <a:off x="5681160" y="525708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1986"/>
              <p:cNvSpPr/>
              <p:nvPr/>
            </p:nvSpPr>
            <p:spPr>
              <a:xfrm flipV="1">
                <a:off x="5709600" y="525852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1987"/>
              <p:cNvSpPr/>
              <p:nvPr/>
            </p:nvSpPr>
            <p:spPr>
              <a:xfrm>
                <a:off x="5685480" y="5254560"/>
                <a:ext cx="23760" cy="5760"/>
              </a:xfrm>
              <a:custGeom>
                <a:avLst/>
                <a:gdLst/>
                <a:ahLst/>
                <a:rect l="l" t="t" r="r" b="b"/>
                <a:pathLst>
                  <a:path w="227" h="75">
                    <a:moveTo>
                      <a:pt x="0" y="0"/>
                    </a:moveTo>
                    <a:lnTo>
                      <a:pt x="0" y="35"/>
                    </a:lnTo>
                    <a:lnTo>
                      <a:pt x="227" y="7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Line 1988"/>
              <p:cNvSpPr/>
              <p:nvPr/>
            </p:nvSpPr>
            <p:spPr>
              <a:xfrm flipV="1">
                <a:off x="5681520" y="5254560"/>
                <a:ext cx="39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1989"/>
              <p:cNvSpPr/>
              <p:nvPr/>
            </p:nvSpPr>
            <p:spPr>
              <a:xfrm>
                <a:off x="5681520" y="5257080"/>
                <a:ext cx="1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1990"/>
              <p:cNvSpPr/>
              <p:nvPr/>
            </p:nvSpPr>
            <p:spPr>
              <a:xfrm flipV="1">
                <a:off x="5685480" y="5239440"/>
                <a:ext cx="720" cy="1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Line 1991"/>
              <p:cNvSpPr/>
              <p:nvPr/>
            </p:nvSpPr>
            <p:spPr>
              <a:xfrm flipV="1">
                <a:off x="5714640" y="5241960"/>
                <a:ext cx="108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1992"/>
              <p:cNvSpPr/>
              <p:nvPr/>
            </p:nvSpPr>
            <p:spPr>
              <a:xfrm>
                <a:off x="5679360" y="52228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8"/>
                    </a:move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1993"/>
              <p:cNvSpPr/>
              <p:nvPr/>
            </p:nvSpPr>
            <p:spPr>
              <a:xfrm flipV="1">
                <a:off x="5651280" y="5234760"/>
                <a:ext cx="108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1994"/>
              <p:cNvSpPr/>
              <p:nvPr/>
            </p:nvSpPr>
            <p:spPr>
              <a:xfrm flipV="1">
                <a:off x="5655600" y="5235120"/>
                <a:ext cx="72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1995"/>
              <p:cNvSpPr/>
              <p:nvPr/>
            </p:nvSpPr>
            <p:spPr>
              <a:xfrm>
                <a:off x="5657400" y="5235480"/>
                <a:ext cx="2376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1996"/>
              <p:cNvSpPr/>
              <p:nvPr/>
            </p:nvSpPr>
            <p:spPr>
              <a:xfrm>
                <a:off x="5695920" y="5224680"/>
                <a:ext cx="2592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Line 1997"/>
              <p:cNvSpPr/>
              <p:nvPr/>
            </p:nvSpPr>
            <p:spPr>
              <a:xfrm flipH="1">
                <a:off x="5715360" y="5238000"/>
                <a:ext cx="1620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Line 1998"/>
              <p:cNvSpPr/>
              <p:nvPr/>
            </p:nvSpPr>
            <p:spPr>
              <a:xfrm>
                <a:off x="5715720" y="5242320"/>
                <a:ext cx="26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1999"/>
              <p:cNvSpPr/>
              <p:nvPr/>
            </p:nvSpPr>
            <p:spPr>
              <a:xfrm flipH="1">
                <a:off x="5709600" y="5235480"/>
                <a:ext cx="216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2000"/>
              <p:cNvSpPr/>
              <p:nvPr/>
            </p:nvSpPr>
            <p:spPr>
              <a:xfrm>
                <a:off x="5706360" y="5221440"/>
                <a:ext cx="12240" cy="2160"/>
              </a:xfrm>
              <a:custGeom>
                <a:avLst/>
                <a:gdLst/>
                <a:ahLst/>
                <a:rect l="l" t="t" r="r" b="b"/>
                <a:pathLst>
                  <a:path w="124" h="25">
                    <a:moveTo>
                      <a:pt x="0" y="0"/>
                    </a:moveTo>
                    <a:lnTo>
                      <a:pt x="10" y="6"/>
                    </a:lnTo>
                    <a:lnTo>
                      <a:pt x="22" y="13"/>
                    </a:lnTo>
                    <a:lnTo>
                      <a:pt x="35" y="17"/>
                    </a:lnTo>
                    <a:lnTo>
                      <a:pt x="51" y="21"/>
                    </a:lnTo>
                    <a:lnTo>
                      <a:pt x="66" y="24"/>
                    </a:lnTo>
                    <a:lnTo>
                      <a:pt x="84" y="25"/>
                    </a:lnTo>
                    <a:lnTo>
                      <a:pt x="104" y="25"/>
                    </a:lnTo>
                    <a:lnTo>
                      <a:pt x="124" y="2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2001"/>
              <p:cNvSpPr/>
              <p:nvPr/>
            </p:nvSpPr>
            <p:spPr>
              <a:xfrm flipH="1">
                <a:off x="5779800" y="5244480"/>
                <a:ext cx="19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2002"/>
              <p:cNvSpPr/>
              <p:nvPr/>
            </p:nvSpPr>
            <p:spPr>
              <a:xfrm flipH="1">
                <a:off x="5774760" y="5242320"/>
                <a:ext cx="248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Line 2003"/>
              <p:cNvSpPr/>
              <p:nvPr/>
            </p:nvSpPr>
            <p:spPr>
              <a:xfrm>
                <a:off x="5780160" y="5249520"/>
                <a:ext cx="259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Line 2004"/>
              <p:cNvSpPr/>
              <p:nvPr/>
            </p:nvSpPr>
            <p:spPr>
              <a:xfrm flipV="1">
                <a:off x="5790600" y="5231520"/>
                <a:ext cx="11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2005"/>
              <p:cNvSpPr/>
              <p:nvPr/>
            </p:nvSpPr>
            <p:spPr>
              <a:xfrm flipH="1">
                <a:off x="5784120" y="5229000"/>
                <a:ext cx="176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2006"/>
              <p:cNvSpPr/>
              <p:nvPr/>
            </p:nvSpPr>
            <p:spPr>
              <a:xfrm flipH="1" flipV="1">
                <a:off x="5789520" y="5241240"/>
                <a:ext cx="100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Line 2007"/>
              <p:cNvSpPr/>
              <p:nvPr/>
            </p:nvSpPr>
            <p:spPr>
              <a:xfrm>
                <a:off x="5790600" y="5234760"/>
                <a:ext cx="27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Line 2008"/>
              <p:cNvSpPr/>
              <p:nvPr/>
            </p:nvSpPr>
            <p:spPr>
              <a:xfrm flipH="1">
                <a:off x="5636520" y="5215680"/>
                <a:ext cx="900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Line 2009"/>
              <p:cNvSpPr/>
              <p:nvPr/>
            </p:nvSpPr>
            <p:spPr>
              <a:xfrm flipV="1">
                <a:off x="5585760" y="5213160"/>
                <a:ext cx="72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Line 2010"/>
              <p:cNvSpPr/>
              <p:nvPr/>
            </p:nvSpPr>
            <p:spPr>
              <a:xfrm flipV="1">
                <a:off x="5631480" y="5213520"/>
                <a:ext cx="1404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2011"/>
              <p:cNvSpPr/>
              <p:nvPr/>
            </p:nvSpPr>
            <p:spPr>
              <a:xfrm flipV="1">
                <a:off x="5589720" y="5213160"/>
                <a:ext cx="10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Line 2012"/>
              <p:cNvSpPr/>
              <p:nvPr/>
            </p:nvSpPr>
            <p:spPr>
              <a:xfrm>
                <a:off x="5528520" y="5284440"/>
                <a:ext cx="2736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2013"/>
              <p:cNvSpPr/>
              <p:nvPr/>
            </p:nvSpPr>
            <p:spPr>
              <a:xfrm>
                <a:off x="5626440" y="5232240"/>
                <a:ext cx="24480" cy="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2014"/>
              <p:cNvSpPr/>
              <p:nvPr/>
            </p:nvSpPr>
            <p:spPr>
              <a:xfrm>
                <a:off x="5636880" y="5218200"/>
                <a:ext cx="1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2015"/>
              <p:cNvSpPr/>
              <p:nvPr/>
            </p:nvSpPr>
            <p:spPr>
              <a:xfrm>
                <a:off x="5670000" y="52074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21" h="118">
                    <a:moveTo>
                      <a:pt x="0" y="0"/>
                    </a:moveTo>
                    <a:lnTo>
                      <a:pt x="4" y="16"/>
                    </a:lnTo>
                    <a:lnTo>
                      <a:pt x="9" y="32"/>
                    </a:lnTo>
                    <a:lnTo>
                      <a:pt x="12" y="47"/>
                    </a:lnTo>
                    <a:lnTo>
                      <a:pt x="14" y="61"/>
                    </a:lnTo>
                    <a:lnTo>
                      <a:pt x="18" y="90"/>
                    </a:lnTo>
                    <a:lnTo>
                      <a:pt x="21" y="11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2016"/>
              <p:cNvSpPr/>
              <p:nvPr/>
            </p:nvSpPr>
            <p:spPr>
              <a:xfrm flipH="1" flipV="1">
                <a:off x="5632200" y="5212440"/>
                <a:ext cx="1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Line 2017"/>
              <p:cNvSpPr/>
              <p:nvPr/>
            </p:nvSpPr>
            <p:spPr>
              <a:xfrm flipH="1" flipV="1">
                <a:off x="5645520" y="5213880"/>
                <a:ext cx="1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2018"/>
              <p:cNvSpPr/>
              <p:nvPr/>
            </p:nvSpPr>
            <p:spPr>
              <a:xfrm>
                <a:off x="5502600" y="5213160"/>
                <a:ext cx="45720" cy="5040"/>
              </a:xfrm>
              <a:custGeom>
                <a:avLst/>
                <a:gdLst/>
                <a:ahLst/>
                <a:rect l="l" t="t" r="r" b="b"/>
                <a:pathLst>
                  <a:path w="441" h="61">
                    <a:moveTo>
                      <a:pt x="441" y="21"/>
                    </a:moveTo>
                    <a:lnTo>
                      <a:pt x="260" y="0"/>
                    </a:lnTo>
                    <a:lnTo>
                      <a:pt x="0" y="6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Line 2019"/>
              <p:cNvSpPr/>
              <p:nvPr/>
            </p:nvSpPr>
            <p:spPr>
              <a:xfrm flipH="1">
                <a:off x="5612760" y="5213160"/>
                <a:ext cx="7920" cy="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Line 2020"/>
              <p:cNvSpPr/>
              <p:nvPr/>
            </p:nvSpPr>
            <p:spPr>
              <a:xfrm flipH="1">
                <a:off x="5607000" y="5211720"/>
                <a:ext cx="13320" cy="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2021"/>
              <p:cNvSpPr/>
              <p:nvPr/>
            </p:nvSpPr>
            <p:spPr>
              <a:xfrm flipH="1" flipV="1">
                <a:off x="5549040" y="5208840"/>
                <a:ext cx="10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Line 2022"/>
              <p:cNvSpPr/>
              <p:nvPr/>
            </p:nvSpPr>
            <p:spPr>
              <a:xfrm>
                <a:off x="5573160" y="5211720"/>
                <a:ext cx="720" cy="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2023"/>
              <p:cNvSpPr/>
              <p:nvPr/>
            </p:nvSpPr>
            <p:spPr>
              <a:xfrm flipV="1">
                <a:off x="5569200" y="5211720"/>
                <a:ext cx="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Line 2024"/>
              <p:cNvSpPr/>
              <p:nvPr/>
            </p:nvSpPr>
            <p:spPr>
              <a:xfrm flipH="1" flipV="1">
                <a:off x="5083920" y="4905000"/>
                <a:ext cx="384840" cy="26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Line 2025"/>
              <p:cNvSpPr/>
              <p:nvPr/>
            </p:nvSpPr>
            <p:spPr>
              <a:xfrm>
                <a:off x="5339160" y="5252760"/>
                <a:ext cx="59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Line 2026"/>
              <p:cNvSpPr/>
              <p:nvPr/>
            </p:nvSpPr>
            <p:spPr>
              <a:xfrm>
                <a:off x="5082120" y="5004720"/>
                <a:ext cx="383760" cy="31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Line 2027"/>
              <p:cNvSpPr/>
              <p:nvPr/>
            </p:nvSpPr>
            <p:spPr>
              <a:xfrm>
                <a:off x="5084280" y="4939920"/>
                <a:ext cx="382680" cy="27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2028"/>
              <p:cNvSpPr/>
              <p:nvPr/>
            </p:nvSpPr>
            <p:spPr>
              <a:xfrm flipH="1" flipV="1">
                <a:off x="5082120" y="4973400"/>
                <a:ext cx="383760" cy="29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Line 2029"/>
              <p:cNvSpPr/>
              <p:nvPr/>
            </p:nvSpPr>
            <p:spPr>
              <a:xfrm flipH="1" flipV="1">
                <a:off x="5066280" y="4795560"/>
                <a:ext cx="5202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2030"/>
              <p:cNvSpPr/>
              <p:nvPr/>
            </p:nvSpPr>
            <p:spPr>
              <a:xfrm>
                <a:off x="5735520" y="4855680"/>
                <a:ext cx="47520" cy="86040"/>
              </a:xfrm>
              <a:custGeom>
                <a:avLst/>
                <a:gdLst/>
                <a:ahLst/>
                <a:rect l="l" t="t" r="r" b="b"/>
                <a:pathLst>
                  <a:path w="459" h="1048">
                    <a:moveTo>
                      <a:pt x="459" y="0"/>
                    </a:moveTo>
                    <a:lnTo>
                      <a:pt x="446" y="6"/>
                    </a:lnTo>
                    <a:lnTo>
                      <a:pt x="434" y="11"/>
                    </a:lnTo>
                    <a:lnTo>
                      <a:pt x="421" y="20"/>
                    </a:lnTo>
                    <a:lnTo>
                      <a:pt x="409" y="30"/>
                    </a:lnTo>
                    <a:lnTo>
                      <a:pt x="395" y="41"/>
                    </a:lnTo>
                    <a:lnTo>
                      <a:pt x="382" y="56"/>
                    </a:lnTo>
                    <a:lnTo>
                      <a:pt x="370" y="71"/>
                    </a:lnTo>
                    <a:lnTo>
                      <a:pt x="356" y="88"/>
                    </a:lnTo>
                    <a:lnTo>
                      <a:pt x="343" y="107"/>
                    </a:lnTo>
                    <a:lnTo>
                      <a:pt x="329" y="128"/>
                    </a:lnTo>
                    <a:lnTo>
                      <a:pt x="315" y="151"/>
                    </a:lnTo>
                    <a:lnTo>
                      <a:pt x="302" y="176"/>
                    </a:lnTo>
                    <a:lnTo>
                      <a:pt x="288" y="201"/>
                    </a:lnTo>
                    <a:lnTo>
                      <a:pt x="274" y="230"/>
                    </a:lnTo>
                    <a:lnTo>
                      <a:pt x="260" y="260"/>
                    </a:lnTo>
                    <a:lnTo>
                      <a:pt x="246" y="292"/>
                    </a:lnTo>
                    <a:lnTo>
                      <a:pt x="231" y="325"/>
                    </a:lnTo>
                    <a:lnTo>
                      <a:pt x="217" y="361"/>
                    </a:lnTo>
                    <a:lnTo>
                      <a:pt x="202" y="397"/>
                    </a:lnTo>
                    <a:lnTo>
                      <a:pt x="188" y="437"/>
                    </a:lnTo>
                    <a:lnTo>
                      <a:pt x="158" y="520"/>
                    </a:lnTo>
                    <a:lnTo>
                      <a:pt x="127" y="611"/>
                    </a:lnTo>
                    <a:lnTo>
                      <a:pt x="96" y="710"/>
                    </a:lnTo>
                    <a:lnTo>
                      <a:pt x="65" y="815"/>
                    </a:lnTo>
                    <a:lnTo>
                      <a:pt x="33" y="927"/>
                    </a:lnTo>
                    <a:lnTo>
                      <a:pt x="0" y="104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2031"/>
              <p:cNvSpPr/>
              <p:nvPr/>
            </p:nvSpPr>
            <p:spPr>
              <a:xfrm flipH="1" flipV="1">
                <a:off x="5086080" y="4871520"/>
                <a:ext cx="3848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2032"/>
              <p:cNvSpPr/>
              <p:nvPr/>
            </p:nvSpPr>
            <p:spPr>
              <a:xfrm>
                <a:off x="5918760" y="5235480"/>
                <a:ext cx="24480" cy="1440"/>
              </a:xfrm>
              <a:custGeom>
                <a:avLst/>
                <a:gdLst/>
                <a:ahLst/>
                <a:rect l="l" t="t" r="r" b="b"/>
                <a:pathLst>
                  <a:path w="242" h="29">
                    <a:moveTo>
                      <a:pt x="242" y="11"/>
                    </a:moveTo>
                    <a:lnTo>
                      <a:pt x="223" y="15"/>
                    </a:lnTo>
                    <a:lnTo>
                      <a:pt x="206" y="20"/>
                    </a:lnTo>
                    <a:lnTo>
                      <a:pt x="188" y="23"/>
                    </a:lnTo>
                    <a:lnTo>
                      <a:pt x="171" y="25"/>
                    </a:lnTo>
                    <a:lnTo>
                      <a:pt x="155" y="28"/>
                    </a:lnTo>
                    <a:lnTo>
                      <a:pt x="139" y="29"/>
                    </a:lnTo>
                    <a:lnTo>
                      <a:pt x="122" y="29"/>
                    </a:lnTo>
                    <a:lnTo>
                      <a:pt x="108" y="28"/>
                    </a:lnTo>
                    <a:lnTo>
                      <a:pt x="92" y="27"/>
                    </a:lnTo>
                    <a:lnTo>
                      <a:pt x="79" y="25"/>
                    </a:lnTo>
                    <a:lnTo>
                      <a:pt x="65" y="22"/>
                    </a:lnTo>
                    <a:lnTo>
                      <a:pt x="51" y="20"/>
                    </a:lnTo>
                    <a:lnTo>
                      <a:pt x="38" y="15"/>
                    </a:lnTo>
                    <a:lnTo>
                      <a:pt x="25" y="11"/>
                    </a:lnTo>
                    <a:lnTo>
                      <a:pt x="13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2033"/>
              <p:cNvSpPr/>
              <p:nvPr/>
            </p:nvSpPr>
            <p:spPr>
              <a:xfrm>
                <a:off x="5929920" y="522072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142" h="38">
                    <a:moveTo>
                      <a:pt x="0" y="25"/>
                    </a:moveTo>
                    <a:lnTo>
                      <a:pt x="8" y="29"/>
                    </a:lnTo>
                    <a:lnTo>
                      <a:pt x="17" y="32"/>
                    </a:lnTo>
                    <a:lnTo>
                      <a:pt x="24" y="34"/>
                    </a:lnTo>
                    <a:lnTo>
                      <a:pt x="32" y="35"/>
                    </a:lnTo>
                    <a:lnTo>
                      <a:pt x="41" y="36"/>
                    </a:lnTo>
                    <a:lnTo>
                      <a:pt x="50" y="38"/>
                    </a:lnTo>
                    <a:lnTo>
                      <a:pt x="59" y="36"/>
                    </a:lnTo>
                    <a:lnTo>
                      <a:pt x="66" y="35"/>
                    </a:lnTo>
                    <a:lnTo>
                      <a:pt x="75" y="33"/>
                    </a:lnTo>
                    <a:lnTo>
                      <a:pt x="85" y="31"/>
                    </a:lnTo>
                    <a:lnTo>
                      <a:pt x="94" y="28"/>
                    </a:lnTo>
                    <a:lnTo>
                      <a:pt x="103" y="24"/>
                    </a:lnTo>
                    <a:lnTo>
                      <a:pt x="113" y="19"/>
                    </a:lnTo>
                    <a:lnTo>
                      <a:pt x="122" y="13"/>
                    </a:lnTo>
                    <a:lnTo>
                      <a:pt x="132" y="8"/>
                    </a:lnTo>
                    <a:lnTo>
                      <a:pt x="14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2034"/>
              <p:cNvSpPr/>
              <p:nvPr/>
            </p:nvSpPr>
            <p:spPr>
              <a:xfrm>
                <a:off x="5932080" y="468792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303" h="40">
                    <a:moveTo>
                      <a:pt x="303" y="39"/>
                    </a:moveTo>
                    <a:lnTo>
                      <a:pt x="250" y="40"/>
                    </a:lnTo>
                    <a:lnTo>
                      <a:pt x="202" y="39"/>
                    </a:lnTo>
                    <a:lnTo>
                      <a:pt x="158" y="36"/>
                    </a:lnTo>
                    <a:lnTo>
                      <a:pt x="118" y="32"/>
                    </a:lnTo>
                    <a:lnTo>
                      <a:pt x="100" y="30"/>
                    </a:lnTo>
                    <a:lnTo>
                      <a:pt x="82" y="28"/>
                    </a:lnTo>
                    <a:lnTo>
                      <a:pt x="67" y="23"/>
                    </a:lnTo>
                    <a:lnTo>
                      <a:pt x="51" y="20"/>
                    </a:lnTo>
                    <a:lnTo>
                      <a:pt x="37" y="15"/>
                    </a:lnTo>
                    <a:lnTo>
                      <a:pt x="24" y="11"/>
                    </a:lnTo>
                    <a:lnTo>
                      <a:pt x="11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Line 2035"/>
              <p:cNvSpPr/>
              <p:nvPr/>
            </p:nvSpPr>
            <p:spPr>
              <a:xfrm>
                <a:off x="5939640" y="5269320"/>
                <a:ext cx="15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2036"/>
              <p:cNvSpPr/>
              <p:nvPr/>
            </p:nvSpPr>
            <p:spPr>
              <a:xfrm>
                <a:off x="5949000" y="4802040"/>
                <a:ext cx="48600" cy="33840"/>
              </a:xfrm>
              <a:custGeom>
                <a:avLst/>
                <a:gdLst/>
                <a:ahLst/>
                <a:rect l="l" t="t" r="r" b="b"/>
                <a:pathLst>
                  <a:path w="479" h="417">
                    <a:moveTo>
                      <a:pt x="465" y="209"/>
                    </a:moveTo>
                    <a:lnTo>
                      <a:pt x="470" y="200"/>
                    </a:lnTo>
                    <a:lnTo>
                      <a:pt x="472" y="190"/>
                    </a:lnTo>
                    <a:lnTo>
                      <a:pt x="475" y="180"/>
                    </a:lnTo>
                    <a:lnTo>
                      <a:pt x="476" y="171"/>
                    </a:lnTo>
                    <a:lnTo>
                      <a:pt x="477" y="161"/>
                    </a:lnTo>
                    <a:lnTo>
                      <a:pt x="479" y="153"/>
                    </a:lnTo>
                    <a:lnTo>
                      <a:pt x="479" y="144"/>
                    </a:lnTo>
                    <a:lnTo>
                      <a:pt x="477" y="135"/>
                    </a:lnTo>
                    <a:lnTo>
                      <a:pt x="475" y="117"/>
                    </a:lnTo>
                    <a:lnTo>
                      <a:pt x="470" y="100"/>
                    </a:lnTo>
                    <a:lnTo>
                      <a:pt x="463" y="84"/>
                    </a:lnTo>
                    <a:lnTo>
                      <a:pt x="455" y="67"/>
                    </a:lnTo>
                    <a:lnTo>
                      <a:pt x="450" y="59"/>
                    </a:lnTo>
                    <a:lnTo>
                      <a:pt x="443" y="53"/>
                    </a:lnTo>
                    <a:lnTo>
                      <a:pt x="437" y="46"/>
                    </a:lnTo>
                    <a:lnTo>
                      <a:pt x="431" y="40"/>
                    </a:lnTo>
                    <a:lnTo>
                      <a:pt x="423" y="33"/>
                    </a:lnTo>
                    <a:lnTo>
                      <a:pt x="415" y="27"/>
                    </a:lnTo>
                    <a:lnTo>
                      <a:pt x="408" y="23"/>
                    </a:lnTo>
                    <a:lnTo>
                      <a:pt x="400" y="18"/>
                    </a:lnTo>
                    <a:lnTo>
                      <a:pt x="391" y="14"/>
                    </a:lnTo>
                    <a:lnTo>
                      <a:pt x="382" y="11"/>
                    </a:lnTo>
                    <a:lnTo>
                      <a:pt x="372" y="7"/>
                    </a:lnTo>
                    <a:lnTo>
                      <a:pt x="363" y="5"/>
                    </a:lnTo>
                    <a:lnTo>
                      <a:pt x="352" y="3"/>
                    </a:lnTo>
                    <a:lnTo>
                      <a:pt x="342" y="2"/>
                    </a:lnTo>
                    <a:lnTo>
                      <a:pt x="331" y="1"/>
                    </a:lnTo>
                    <a:lnTo>
                      <a:pt x="320" y="1"/>
                    </a:lnTo>
                    <a:lnTo>
                      <a:pt x="299" y="0"/>
                    </a:lnTo>
                    <a:lnTo>
                      <a:pt x="277" y="1"/>
                    </a:lnTo>
                    <a:lnTo>
                      <a:pt x="253" y="4"/>
                    </a:lnTo>
                    <a:lnTo>
                      <a:pt x="230" y="8"/>
                    </a:lnTo>
                    <a:lnTo>
                      <a:pt x="206" y="15"/>
                    </a:lnTo>
                    <a:lnTo>
                      <a:pt x="181" y="24"/>
                    </a:lnTo>
                    <a:lnTo>
                      <a:pt x="157" y="34"/>
                    </a:lnTo>
                    <a:lnTo>
                      <a:pt x="132" y="46"/>
                    </a:lnTo>
                    <a:lnTo>
                      <a:pt x="107" y="59"/>
                    </a:lnTo>
                    <a:lnTo>
                      <a:pt x="84" y="74"/>
                    </a:lnTo>
                    <a:lnTo>
                      <a:pt x="64" y="88"/>
                    </a:lnTo>
                    <a:lnTo>
                      <a:pt x="47" y="103"/>
                    </a:lnTo>
                    <a:lnTo>
                      <a:pt x="39" y="110"/>
                    </a:lnTo>
                    <a:lnTo>
                      <a:pt x="33" y="118"/>
                    </a:lnTo>
                    <a:lnTo>
                      <a:pt x="27" y="126"/>
                    </a:lnTo>
                    <a:lnTo>
                      <a:pt x="21" y="134"/>
                    </a:lnTo>
                    <a:lnTo>
                      <a:pt x="17" y="142"/>
                    </a:lnTo>
                    <a:lnTo>
                      <a:pt x="13" y="150"/>
                    </a:lnTo>
                    <a:lnTo>
                      <a:pt x="10" y="158"/>
                    </a:lnTo>
                    <a:lnTo>
                      <a:pt x="7" y="167"/>
                    </a:lnTo>
                    <a:lnTo>
                      <a:pt x="4" y="184"/>
                    </a:lnTo>
                    <a:lnTo>
                      <a:pt x="0" y="200"/>
                    </a:lnTo>
                    <a:lnTo>
                      <a:pt x="0" y="218"/>
                    </a:lnTo>
                    <a:lnTo>
                      <a:pt x="2" y="236"/>
                    </a:lnTo>
                    <a:lnTo>
                      <a:pt x="4" y="255"/>
                    </a:lnTo>
                    <a:lnTo>
                      <a:pt x="8" y="273"/>
                    </a:lnTo>
                    <a:lnTo>
                      <a:pt x="15" y="292"/>
                    </a:lnTo>
                    <a:lnTo>
                      <a:pt x="21" y="312"/>
                    </a:lnTo>
                    <a:lnTo>
                      <a:pt x="31" y="331"/>
                    </a:lnTo>
                    <a:lnTo>
                      <a:pt x="44" y="347"/>
                    </a:lnTo>
                    <a:lnTo>
                      <a:pt x="56" y="362"/>
                    </a:lnTo>
                    <a:lnTo>
                      <a:pt x="70" y="375"/>
                    </a:lnTo>
                    <a:lnTo>
                      <a:pt x="78" y="382"/>
                    </a:lnTo>
                    <a:lnTo>
                      <a:pt x="86" y="388"/>
                    </a:lnTo>
                    <a:lnTo>
                      <a:pt x="95" y="393"/>
                    </a:lnTo>
                    <a:lnTo>
                      <a:pt x="104" y="398"/>
                    </a:lnTo>
                    <a:lnTo>
                      <a:pt x="112" y="402"/>
                    </a:lnTo>
                    <a:lnTo>
                      <a:pt x="122" y="405"/>
                    </a:lnTo>
                    <a:lnTo>
                      <a:pt x="132" y="409"/>
                    </a:lnTo>
                    <a:lnTo>
                      <a:pt x="142" y="412"/>
                    </a:lnTo>
                    <a:lnTo>
                      <a:pt x="153" y="414"/>
                    </a:lnTo>
                    <a:lnTo>
                      <a:pt x="165" y="415"/>
                    </a:lnTo>
                    <a:lnTo>
                      <a:pt x="177" y="417"/>
                    </a:lnTo>
                    <a:lnTo>
                      <a:pt x="188" y="417"/>
                    </a:lnTo>
                    <a:lnTo>
                      <a:pt x="199" y="417"/>
                    </a:lnTo>
                    <a:lnTo>
                      <a:pt x="211" y="414"/>
                    </a:lnTo>
                    <a:lnTo>
                      <a:pt x="222" y="412"/>
                    </a:lnTo>
                    <a:lnTo>
                      <a:pt x="234" y="410"/>
                    </a:lnTo>
                    <a:lnTo>
                      <a:pt x="246" y="407"/>
                    </a:lnTo>
                    <a:lnTo>
                      <a:pt x="258" y="402"/>
                    </a:lnTo>
                    <a:lnTo>
                      <a:pt x="269" y="398"/>
                    </a:lnTo>
                    <a:lnTo>
                      <a:pt x="281" y="391"/>
                    </a:lnTo>
                    <a:lnTo>
                      <a:pt x="305" y="379"/>
                    </a:lnTo>
                    <a:lnTo>
                      <a:pt x="331" y="362"/>
                    </a:lnTo>
                    <a:lnTo>
                      <a:pt x="355" y="343"/>
                    </a:lnTo>
                    <a:lnTo>
                      <a:pt x="378" y="324"/>
                    </a:lnTo>
                    <a:lnTo>
                      <a:pt x="398" y="307"/>
                    </a:lnTo>
                    <a:lnTo>
                      <a:pt x="415" y="288"/>
                    </a:lnTo>
                    <a:lnTo>
                      <a:pt x="431" y="268"/>
                    </a:lnTo>
                    <a:lnTo>
                      <a:pt x="445" y="249"/>
                    </a:lnTo>
                    <a:lnTo>
                      <a:pt x="456" y="229"/>
                    </a:lnTo>
                    <a:lnTo>
                      <a:pt x="465" y="209"/>
                    </a:lnTo>
                    <a:close/>
                  </a:path>
                </a:pathLst>
              </a:custGeom>
              <a:solidFill>
                <a:srgbClr val="494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2037"/>
              <p:cNvSpPr/>
              <p:nvPr/>
            </p:nvSpPr>
            <p:spPr>
              <a:xfrm>
                <a:off x="5949000" y="4802040"/>
                <a:ext cx="48600" cy="33840"/>
              </a:xfrm>
              <a:custGeom>
                <a:avLst/>
                <a:gdLst/>
                <a:ahLst/>
                <a:rect l="l" t="t" r="r" b="b"/>
                <a:pathLst>
                  <a:path w="479" h="417">
                    <a:moveTo>
                      <a:pt x="455" y="67"/>
                    </a:moveTo>
                    <a:lnTo>
                      <a:pt x="450" y="59"/>
                    </a:lnTo>
                    <a:lnTo>
                      <a:pt x="443" y="53"/>
                    </a:lnTo>
                    <a:lnTo>
                      <a:pt x="437" y="46"/>
                    </a:lnTo>
                    <a:lnTo>
                      <a:pt x="431" y="40"/>
                    </a:lnTo>
                    <a:lnTo>
                      <a:pt x="423" y="33"/>
                    </a:lnTo>
                    <a:lnTo>
                      <a:pt x="415" y="27"/>
                    </a:lnTo>
                    <a:lnTo>
                      <a:pt x="408" y="23"/>
                    </a:lnTo>
                    <a:lnTo>
                      <a:pt x="400" y="18"/>
                    </a:lnTo>
                    <a:lnTo>
                      <a:pt x="391" y="14"/>
                    </a:lnTo>
                    <a:lnTo>
                      <a:pt x="382" y="11"/>
                    </a:lnTo>
                    <a:lnTo>
                      <a:pt x="372" y="7"/>
                    </a:lnTo>
                    <a:lnTo>
                      <a:pt x="363" y="5"/>
                    </a:lnTo>
                    <a:lnTo>
                      <a:pt x="352" y="3"/>
                    </a:lnTo>
                    <a:lnTo>
                      <a:pt x="342" y="2"/>
                    </a:lnTo>
                    <a:lnTo>
                      <a:pt x="331" y="1"/>
                    </a:lnTo>
                    <a:lnTo>
                      <a:pt x="320" y="1"/>
                    </a:lnTo>
                    <a:lnTo>
                      <a:pt x="299" y="0"/>
                    </a:lnTo>
                    <a:lnTo>
                      <a:pt x="277" y="1"/>
                    </a:lnTo>
                    <a:lnTo>
                      <a:pt x="253" y="4"/>
                    </a:lnTo>
                    <a:lnTo>
                      <a:pt x="230" y="8"/>
                    </a:lnTo>
                    <a:lnTo>
                      <a:pt x="206" y="15"/>
                    </a:lnTo>
                    <a:lnTo>
                      <a:pt x="181" y="24"/>
                    </a:lnTo>
                    <a:lnTo>
                      <a:pt x="157" y="34"/>
                    </a:lnTo>
                    <a:lnTo>
                      <a:pt x="132" y="46"/>
                    </a:lnTo>
                    <a:lnTo>
                      <a:pt x="107" y="59"/>
                    </a:lnTo>
                    <a:lnTo>
                      <a:pt x="84" y="74"/>
                    </a:lnTo>
                    <a:lnTo>
                      <a:pt x="64" y="88"/>
                    </a:lnTo>
                    <a:lnTo>
                      <a:pt x="47" y="103"/>
                    </a:lnTo>
                    <a:lnTo>
                      <a:pt x="39" y="110"/>
                    </a:lnTo>
                    <a:lnTo>
                      <a:pt x="33" y="118"/>
                    </a:lnTo>
                    <a:lnTo>
                      <a:pt x="27" y="126"/>
                    </a:lnTo>
                    <a:lnTo>
                      <a:pt x="21" y="134"/>
                    </a:lnTo>
                    <a:lnTo>
                      <a:pt x="17" y="142"/>
                    </a:lnTo>
                    <a:lnTo>
                      <a:pt x="13" y="150"/>
                    </a:lnTo>
                    <a:lnTo>
                      <a:pt x="10" y="158"/>
                    </a:lnTo>
                    <a:lnTo>
                      <a:pt x="7" y="167"/>
                    </a:lnTo>
                    <a:lnTo>
                      <a:pt x="4" y="184"/>
                    </a:lnTo>
                    <a:lnTo>
                      <a:pt x="0" y="200"/>
                    </a:lnTo>
                    <a:lnTo>
                      <a:pt x="0" y="218"/>
                    </a:lnTo>
                    <a:lnTo>
                      <a:pt x="2" y="236"/>
                    </a:lnTo>
                    <a:lnTo>
                      <a:pt x="4" y="255"/>
                    </a:lnTo>
                    <a:lnTo>
                      <a:pt x="8" y="273"/>
                    </a:lnTo>
                    <a:lnTo>
                      <a:pt x="15" y="292"/>
                    </a:lnTo>
                    <a:lnTo>
                      <a:pt x="21" y="312"/>
                    </a:lnTo>
                    <a:lnTo>
                      <a:pt x="31" y="331"/>
                    </a:lnTo>
                    <a:lnTo>
                      <a:pt x="44" y="347"/>
                    </a:lnTo>
                    <a:lnTo>
                      <a:pt x="56" y="362"/>
                    </a:lnTo>
                    <a:lnTo>
                      <a:pt x="70" y="375"/>
                    </a:lnTo>
                    <a:lnTo>
                      <a:pt x="78" y="382"/>
                    </a:lnTo>
                    <a:lnTo>
                      <a:pt x="86" y="388"/>
                    </a:lnTo>
                    <a:lnTo>
                      <a:pt x="95" y="393"/>
                    </a:lnTo>
                    <a:lnTo>
                      <a:pt x="104" y="398"/>
                    </a:lnTo>
                    <a:lnTo>
                      <a:pt x="112" y="402"/>
                    </a:lnTo>
                    <a:lnTo>
                      <a:pt x="122" y="405"/>
                    </a:lnTo>
                    <a:lnTo>
                      <a:pt x="132" y="409"/>
                    </a:lnTo>
                    <a:lnTo>
                      <a:pt x="142" y="412"/>
                    </a:lnTo>
                    <a:lnTo>
                      <a:pt x="153" y="414"/>
                    </a:lnTo>
                    <a:lnTo>
                      <a:pt x="165" y="415"/>
                    </a:lnTo>
                    <a:lnTo>
                      <a:pt x="177" y="417"/>
                    </a:lnTo>
                    <a:lnTo>
                      <a:pt x="188" y="417"/>
                    </a:lnTo>
                    <a:lnTo>
                      <a:pt x="199" y="417"/>
                    </a:lnTo>
                    <a:lnTo>
                      <a:pt x="211" y="414"/>
                    </a:lnTo>
                    <a:lnTo>
                      <a:pt x="222" y="412"/>
                    </a:lnTo>
                    <a:lnTo>
                      <a:pt x="234" y="410"/>
                    </a:lnTo>
                    <a:lnTo>
                      <a:pt x="246" y="407"/>
                    </a:lnTo>
                    <a:lnTo>
                      <a:pt x="258" y="402"/>
                    </a:lnTo>
                    <a:lnTo>
                      <a:pt x="269" y="398"/>
                    </a:lnTo>
                    <a:lnTo>
                      <a:pt x="281" y="391"/>
                    </a:lnTo>
                    <a:lnTo>
                      <a:pt x="305" y="379"/>
                    </a:lnTo>
                    <a:lnTo>
                      <a:pt x="331" y="362"/>
                    </a:lnTo>
                    <a:lnTo>
                      <a:pt x="355" y="343"/>
                    </a:lnTo>
                    <a:lnTo>
                      <a:pt x="378" y="324"/>
                    </a:lnTo>
                    <a:lnTo>
                      <a:pt x="398" y="307"/>
                    </a:lnTo>
                    <a:lnTo>
                      <a:pt x="415" y="288"/>
                    </a:lnTo>
                    <a:lnTo>
                      <a:pt x="431" y="268"/>
                    </a:lnTo>
                    <a:lnTo>
                      <a:pt x="445" y="249"/>
                    </a:lnTo>
                    <a:lnTo>
                      <a:pt x="456" y="229"/>
                    </a:lnTo>
                    <a:lnTo>
                      <a:pt x="465" y="209"/>
                    </a:lnTo>
                    <a:lnTo>
                      <a:pt x="470" y="200"/>
                    </a:lnTo>
                    <a:lnTo>
                      <a:pt x="472" y="190"/>
                    </a:lnTo>
                    <a:lnTo>
                      <a:pt x="475" y="180"/>
                    </a:lnTo>
                    <a:lnTo>
                      <a:pt x="476" y="171"/>
                    </a:lnTo>
                    <a:lnTo>
                      <a:pt x="477" y="161"/>
                    </a:lnTo>
                    <a:lnTo>
                      <a:pt x="479" y="153"/>
                    </a:lnTo>
                    <a:lnTo>
                      <a:pt x="479" y="144"/>
                    </a:lnTo>
                    <a:lnTo>
                      <a:pt x="477" y="135"/>
                    </a:lnTo>
                    <a:lnTo>
                      <a:pt x="475" y="117"/>
                    </a:lnTo>
                    <a:lnTo>
                      <a:pt x="470" y="100"/>
                    </a:lnTo>
                    <a:lnTo>
                      <a:pt x="463" y="84"/>
                    </a:lnTo>
                    <a:lnTo>
                      <a:pt x="455" y="6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2038"/>
              <p:cNvSpPr/>
              <p:nvPr/>
            </p:nvSpPr>
            <p:spPr>
              <a:xfrm>
                <a:off x="6130080" y="5213880"/>
                <a:ext cx="7920" cy="3960"/>
              </a:xfrm>
              <a:custGeom>
                <a:avLst/>
                <a:gdLst/>
                <a:ahLst/>
                <a:rect l="l" t="t" r="r" b="b"/>
                <a:pathLst>
                  <a:path w="78" h="49">
                    <a:moveTo>
                      <a:pt x="1" y="0"/>
                    </a:moveTo>
                    <a:lnTo>
                      <a:pt x="0" y="10"/>
                    </a:lnTo>
                    <a:lnTo>
                      <a:pt x="1" y="18"/>
                    </a:lnTo>
                    <a:lnTo>
                      <a:pt x="3" y="26"/>
                    </a:lnTo>
                    <a:lnTo>
                      <a:pt x="7" y="32"/>
                    </a:lnTo>
                    <a:lnTo>
                      <a:pt x="12" y="38"/>
                    </a:lnTo>
                    <a:lnTo>
                      <a:pt x="17" y="42"/>
                    </a:lnTo>
                    <a:lnTo>
                      <a:pt x="25" y="46"/>
                    </a:lnTo>
                    <a:lnTo>
                      <a:pt x="32" y="48"/>
                    </a:lnTo>
                    <a:lnTo>
                      <a:pt x="39" y="49"/>
                    </a:lnTo>
                    <a:lnTo>
                      <a:pt x="46" y="48"/>
                    </a:lnTo>
                    <a:lnTo>
                      <a:pt x="54" y="47"/>
                    </a:lnTo>
                    <a:lnTo>
                      <a:pt x="61" y="43"/>
                    </a:lnTo>
                    <a:lnTo>
                      <a:pt x="67" y="39"/>
                    </a:lnTo>
                    <a:lnTo>
                      <a:pt x="72" y="32"/>
                    </a:lnTo>
                    <a:lnTo>
                      <a:pt x="76" y="26"/>
                    </a:lnTo>
                    <a:lnTo>
                      <a:pt x="78" y="1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2039"/>
              <p:cNvSpPr/>
              <p:nvPr/>
            </p:nvSpPr>
            <p:spPr>
              <a:xfrm>
                <a:off x="6111000" y="5167080"/>
                <a:ext cx="28080" cy="48600"/>
              </a:xfrm>
              <a:custGeom>
                <a:avLst/>
                <a:gdLst/>
                <a:ahLst/>
                <a:rect l="l" t="t" r="r" b="b"/>
                <a:pathLst>
                  <a:path w="271" h="588">
                    <a:moveTo>
                      <a:pt x="12" y="69"/>
                    </a:moveTo>
                    <a:lnTo>
                      <a:pt x="12" y="69"/>
                    </a:lnTo>
                    <a:lnTo>
                      <a:pt x="40" y="99"/>
                    </a:lnTo>
                    <a:lnTo>
                      <a:pt x="65" y="127"/>
                    </a:lnTo>
                    <a:lnTo>
                      <a:pt x="88" y="157"/>
                    </a:lnTo>
                    <a:lnTo>
                      <a:pt x="109" y="188"/>
                    </a:lnTo>
                    <a:lnTo>
                      <a:pt x="118" y="203"/>
                    </a:lnTo>
                    <a:lnTo>
                      <a:pt x="126" y="218"/>
                    </a:lnTo>
                    <a:lnTo>
                      <a:pt x="134" y="234"/>
                    </a:lnTo>
                    <a:lnTo>
                      <a:pt x="142" y="248"/>
                    </a:lnTo>
                    <a:lnTo>
                      <a:pt x="149" y="264"/>
                    </a:lnTo>
                    <a:lnTo>
                      <a:pt x="155" y="279"/>
                    </a:lnTo>
                    <a:lnTo>
                      <a:pt x="161" y="295"/>
                    </a:lnTo>
                    <a:lnTo>
                      <a:pt x="166" y="310"/>
                    </a:lnTo>
                    <a:lnTo>
                      <a:pt x="171" y="326"/>
                    </a:lnTo>
                    <a:lnTo>
                      <a:pt x="175" y="343"/>
                    </a:lnTo>
                    <a:lnTo>
                      <a:pt x="180" y="358"/>
                    </a:lnTo>
                    <a:lnTo>
                      <a:pt x="183" y="374"/>
                    </a:lnTo>
                    <a:lnTo>
                      <a:pt x="185" y="390"/>
                    </a:lnTo>
                    <a:lnTo>
                      <a:pt x="187" y="406"/>
                    </a:lnTo>
                    <a:lnTo>
                      <a:pt x="189" y="422"/>
                    </a:lnTo>
                    <a:lnTo>
                      <a:pt x="190" y="439"/>
                    </a:lnTo>
                    <a:lnTo>
                      <a:pt x="191" y="455"/>
                    </a:lnTo>
                    <a:lnTo>
                      <a:pt x="191" y="471"/>
                    </a:lnTo>
                    <a:lnTo>
                      <a:pt x="190" y="488"/>
                    </a:lnTo>
                    <a:lnTo>
                      <a:pt x="189" y="504"/>
                    </a:lnTo>
                    <a:lnTo>
                      <a:pt x="185" y="539"/>
                    </a:lnTo>
                    <a:lnTo>
                      <a:pt x="180" y="572"/>
                    </a:lnTo>
                    <a:lnTo>
                      <a:pt x="257" y="588"/>
                    </a:lnTo>
                    <a:lnTo>
                      <a:pt x="264" y="550"/>
                    </a:lnTo>
                    <a:lnTo>
                      <a:pt x="268" y="511"/>
                    </a:lnTo>
                    <a:lnTo>
                      <a:pt x="270" y="491"/>
                    </a:lnTo>
                    <a:lnTo>
                      <a:pt x="271" y="472"/>
                    </a:lnTo>
                    <a:lnTo>
                      <a:pt x="271" y="453"/>
                    </a:lnTo>
                    <a:lnTo>
                      <a:pt x="270" y="435"/>
                    </a:lnTo>
                    <a:lnTo>
                      <a:pt x="268" y="416"/>
                    </a:lnTo>
                    <a:lnTo>
                      <a:pt x="266" y="397"/>
                    </a:lnTo>
                    <a:lnTo>
                      <a:pt x="264" y="378"/>
                    </a:lnTo>
                    <a:lnTo>
                      <a:pt x="261" y="359"/>
                    </a:lnTo>
                    <a:lnTo>
                      <a:pt x="257" y="341"/>
                    </a:lnTo>
                    <a:lnTo>
                      <a:pt x="253" y="323"/>
                    </a:lnTo>
                    <a:lnTo>
                      <a:pt x="248" y="305"/>
                    </a:lnTo>
                    <a:lnTo>
                      <a:pt x="243" y="286"/>
                    </a:lnTo>
                    <a:lnTo>
                      <a:pt x="236" y="268"/>
                    </a:lnTo>
                    <a:lnTo>
                      <a:pt x="230" y="251"/>
                    </a:lnTo>
                    <a:lnTo>
                      <a:pt x="222" y="233"/>
                    </a:lnTo>
                    <a:lnTo>
                      <a:pt x="214" y="215"/>
                    </a:lnTo>
                    <a:lnTo>
                      <a:pt x="205" y="197"/>
                    </a:lnTo>
                    <a:lnTo>
                      <a:pt x="196" y="180"/>
                    </a:lnTo>
                    <a:lnTo>
                      <a:pt x="186" y="163"/>
                    </a:lnTo>
                    <a:lnTo>
                      <a:pt x="175" y="145"/>
                    </a:lnTo>
                    <a:lnTo>
                      <a:pt x="153" y="112"/>
                    </a:lnTo>
                    <a:lnTo>
                      <a:pt x="128" y="78"/>
                    </a:lnTo>
                    <a:lnTo>
                      <a:pt x="100" y="45"/>
                    </a:lnTo>
                    <a:lnTo>
                      <a:pt x="70" y="13"/>
                    </a:lnTo>
                    <a:lnTo>
                      <a:pt x="70" y="13"/>
                    </a:lnTo>
                    <a:lnTo>
                      <a:pt x="70" y="13"/>
                    </a:lnTo>
                    <a:lnTo>
                      <a:pt x="62" y="7"/>
                    </a:lnTo>
                    <a:lnTo>
                      <a:pt x="55" y="3"/>
                    </a:lnTo>
                    <a:lnTo>
                      <a:pt x="48" y="1"/>
                    </a:lnTo>
                    <a:lnTo>
                      <a:pt x="40" y="0"/>
                    </a:lnTo>
                    <a:lnTo>
                      <a:pt x="32" y="1"/>
                    </a:lnTo>
                    <a:lnTo>
                      <a:pt x="25" y="3"/>
                    </a:lnTo>
                    <a:lnTo>
                      <a:pt x="19" y="8"/>
                    </a:lnTo>
                    <a:lnTo>
                      <a:pt x="13" y="12"/>
                    </a:lnTo>
                    <a:lnTo>
                      <a:pt x="8" y="18"/>
                    </a:lnTo>
                    <a:lnTo>
                      <a:pt x="4" y="24"/>
                    </a:lnTo>
                    <a:lnTo>
                      <a:pt x="2" y="31"/>
                    </a:lnTo>
                    <a:lnTo>
                      <a:pt x="0" y="39"/>
                    </a:lnTo>
                    <a:lnTo>
                      <a:pt x="1" y="46"/>
                    </a:lnTo>
                    <a:lnTo>
                      <a:pt x="2" y="54"/>
                    </a:lnTo>
                    <a:lnTo>
                      <a:pt x="7" y="61"/>
                    </a:lnTo>
                    <a:lnTo>
                      <a:pt x="12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2040"/>
              <p:cNvSpPr/>
              <p:nvPr/>
            </p:nvSpPr>
            <p:spPr>
              <a:xfrm>
                <a:off x="6089400" y="5130360"/>
                <a:ext cx="28800" cy="41760"/>
              </a:xfrm>
              <a:custGeom>
                <a:avLst/>
                <a:gdLst/>
                <a:ahLst/>
                <a:rect l="l" t="t" r="r" b="b"/>
                <a:pathLst>
                  <a:path w="282" h="508">
                    <a:moveTo>
                      <a:pt x="4" y="32"/>
                    </a:moveTo>
                    <a:lnTo>
                      <a:pt x="4" y="33"/>
                    </a:lnTo>
                    <a:lnTo>
                      <a:pt x="1" y="62"/>
                    </a:lnTo>
                    <a:lnTo>
                      <a:pt x="0" y="90"/>
                    </a:lnTo>
                    <a:lnTo>
                      <a:pt x="1" y="118"/>
                    </a:lnTo>
                    <a:lnTo>
                      <a:pt x="4" y="147"/>
                    </a:lnTo>
                    <a:lnTo>
                      <a:pt x="11" y="176"/>
                    </a:lnTo>
                    <a:lnTo>
                      <a:pt x="19" y="205"/>
                    </a:lnTo>
                    <a:lnTo>
                      <a:pt x="30" y="234"/>
                    </a:lnTo>
                    <a:lnTo>
                      <a:pt x="43" y="264"/>
                    </a:lnTo>
                    <a:lnTo>
                      <a:pt x="58" y="293"/>
                    </a:lnTo>
                    <a:lnTo>
                      <a:pt x="75" y="322"/>
                    </a:lnTo>
                    <a:lnTo>
                      <a:pt x="94" y="352"/>
                    </a:lnTo>
                    <a:lnTo>
                      <a:pt x="117" y="383"/>
                    </a:lnTo>
                    <a:lnTo>
                      <a:pt x="140" y="413"/>
                    </a:lnTo>
                    <a:lnTo>
                      <a:pt x="166" y="444"/>
                    </a:lnTo>
                    <a:lnTo>
                      <a:pt x="194" y="476"/>
                    </a:lnTo>
                    <a:lnTo>
                      <a:pt x="224" y="508"/>
                    </a:lnTo>
                    <a:lnTo>
                      <a:pt x="282" y="452"/>
                    </a:lnTo>
                    <a:lnTo>
                      <a:pt x="253" y="422"/>
                    </a:lnTo>
                    <a:lnTo>
                      <a:pt x="226" y="392"/>
                    </a:lnTo>
                    <a:lnTo>
                      <a:pt x="202" y="364"/>
                    </a:lnTo>
                    <a:lnTo>
                      <a:pt x="181" y="335"/>
                    </a:lnTo>
                    <a:lnTo>
                      <a:pt x="161" y="308"/>
                    </a:lnTo>
                    <a:lnTo>
                      <a:pt x="143" y="281"/>
                    </a:lnTo>
                    <a:lnTo>
                      <a:pt x="128" y="255"/>
                    </a:lnTo>
                    <a:lnTo>
                      <a:pt x="115" y="229"/>
                    </a:lnTo>
                    <a:lnTo>
                      <a:pt x="104" y="205"/>
                    </a:lnTo>
                    <a:lnTo>
                      <a:pt x="95" y="181"/>
                    </a:lnTo>
                    <a:lnTo>
                      <a:pt x="89" y="156"/>
                    </a:lnTo>
                    <a:lnTo>
                      <a:pt x="83" y="134"/>
                    </a:lnTo>
                    <a:lnTo>
                      <a:pt x="81" y="111"/>
                    </a:lnTo>
                    <a:lnTo>
                      <a:pt x="80" y="90"/>
                    </a:lnTo>
                    <a:lnTo>
                      <a:pt x="80" y="67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3" y="46"/>
                    </a:lnTo>
                    <a:lnTo>
                      <a:pt x="83" y="36"/>
                    </a:lnTo>
                    <a:lnTo>
                      <a:pt x="82" y="29"/>
                    </a:lnTo>
                    <a:lnTo>
                      <a:pt x="80" y="21"/>
                    </a:lnTo>
                    <a:lnTo>
                      <a:pt x="75" y="14"/>
                    </a:lnTo>
                    <a:lnTo>
                      <a:pt x="70" y="10"/>
                    </a:lnTo>
                    <a:lnTo>
                      <a:pt x="64" y="5"/>
                    </a:lnTo>
                    <a:lnTo>
                      <a:pt x="57" y="2"/>
                    </a:lnTo>
                    <a:lnTo>
                      <a:pt x="50" y="0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28" y="2"/>
                    </a:lnTo>
                    <a:lnTo>
                      <a:pt x="21" y="5"/>
                    </a:lnTo>
                    <a:lnTo>
                      <a:pt x="16" y="11"/>
                    </a:lnTo>
                    <a:lnTo>
                      <a:pt x="10" y="16"/>
                    </a:lnTo>
                    <a:lnTo>
                      <a:pt x="7" y="24"/>
                    </a:lnTo>
                    <a:lnTo>
                      <a:pt x="4" y="33"/>
                    </a:lnTo>
                    <a:lnTo>
                      <a:pt x="4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2041"/>
              <p:cNvSpPr/>
              <p:nvPr/>
            </p:nvSpPr>
            <p:spPr>
              <a:xfrm>
                <a:off x="6090480" y="5090760"/>
                <a:ext cx="27000" cy="43560"/>
              </a:xfrm>
              <a:custGeom>
                <a:avLst/>
                <a:gdLst/>
                <a:ahLst/>
                <a:rect l="l" t="t" r="r" b="b"/>
                <a:pathLst>
                  <a:path w="265" h="526">
                    <a:moveTo>
                      <a:pt x="189" y="21"/>
                    </a:moveTo>
                    <a:lnTo>
                      <a:pt x="189" y="21"/>
                    </a:lnTo>
                    <a:lnTo>
                      <a:pt x="152" y="92"/>
                    </a:lnTo>
                    <a:lnTo>
                      <a:pt x="120" y="161"/>
                    </a:lnTo>
                    <a:lnTo>
                      <a:pt x="91" y="226"/>
                    </a:lnTo>
                    <a:lnTo>
                      <a:pt x="67" y="288"/>
                    </a:lnTo>
                    <a:lnTo>
                      <a:pt x="55" y="319"/>
                    </a:lnTo>
                    <a:lnTo>
                      <a:pt x="45" y="349"/>
                    </a:lnTo>
                    <a:lnTo>
                      <a:pt x="35" y="378"/>
                    </a:lnTo>
                    <a:lnTo>
                      <a:pt x="27" y="406"/>
                    </a:lnTo>
                    <a:lnTo>
                      <a:pt x="19" y="433"/>
                    </a:lnTo>
                    <a:lnTo>
                      <a:pt x="12" y="460"/>
                    </a:lnTo>
                    <a:lnTo>
                      <a:pt x="6" y="485"/>
                    </a:lnTo>
                    <a:lnTo>
                      <a:pt x="0" y="511"/>
                    </a:lnTo>
                    <a:lnTo>
                      <a:pt x="79" y="526"/>
                    </a:lnTo>
                    <a:lnTo>
                      <a:pt x="84" y="503"/>
                    </a:lnTo>
                    <a:lnTo>
                      <a:pt x="89" y="479"/>
                    </a:lnTo>
                    <a:lnTo>
                      <a:pt x="96" y="454"/>
                    </a:lnTo>
                    <a:lnTo>
                      <a:pt x="104" y="428"/>
                    </a:lnTo>
                    <a:lnTo>
                      <a:pt x="111" y="401"/>
                    </a:lnTo>
                    <a:lnTo>
                      <a:pt x="120" y="375"/>
                    </a:lnTo>
                    <a:lnTo>
                      <a:pt x="130" y="346"/>
                    </a:lnTo>
                    <a:lnTo>
                      <a:pt x="141" y="318"/>
                    </a:lnTo>
                    <a:lnTo>
                      <a:pt x="166" y="257"/>
                    </a:lnTo>
                    <a:lnTo>
                      <a:pt x="194" y="194"/>
                    </a:lnTo>
                    <a:lnTo>
                      <a:pt x="225" y="127"/>
                    </a:lnTo>
                    <a:lnTo>
                      <a:pt x="260" y="57"/>
                    </a:lnTo>
                    <a:lnTo>
                      <a:pt x="259" y="59"/>
                    </a:lnTo>
                    <a:lnTo>
                      <a:pt x="260" y="57"/>
                    </a:lnTo>
                    <a:lnTo>
                      <a:pt x="263" y="49"/>
                    </a:lnTo>
                    <a:lnTo>
                      <a:pt x="265" y="41"/>
                    </a:lnTo>
                    <a:lnTo>
                      <a:pt x="265" y="33"/>
                    </a:lnTo>
                    <a:lnTo>
                      <a:pt x="262" y="25"/>
                    </a:lnTo>
                    <a:lnTo>
                      <a:pt x="259" y="19"/>
                    </a:lnTo>
                    <a:lnTo>
                      <a:pt x="255" y="13"/>
                    </a:lnTo>
                    <a:lnTo>
                      <a:pt x="249" y="8"/>
                    </a:lnTo>
                    <a:lnTo>
                      <a:pt x="242" y="4"/>
                    </a:lnTo>
                    <a:lnTo>
                      <a:pt x="236" y="1"/>
                    </a:lnTo>
                    <a:lnTo>
                      <a:pt x="228" y="0"/>
                    </a:lnTo>
                    <a:lnTo>
                      <a:pt x="221" y="0"/>
                    </a:lnTo>
                    <a:lnTo>
                      <a:pt x="213" y="1"/>
                    </a:lnTo>
                    <a:lnTo>
                      <a:pt x="207" y="3"/>
                    </a:lnTo>
                    <a:lnTo>
                      <a:pt x="200" y="8"/>
                    </a:lnTo>
                    <a:lnTo>
                      <a:pt x="194" y="13"/>
                    </a:lnTo>
                    <a:lnTo>
                      <a:pt x="18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2042"/>
              <p:cNvSpPr/>
              <p:nvPr/>
            </p:nvSpPr>
            <p:spPr>
              <a:xfrm>
                <a:off x="6099840" y="504792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224" h="578">
                    <a:moveTo>
                      <a:pt x="12" y="69"/>
                    </a:moveTo>
                    <a:lnTo>
                      <a:pt x="12" y="69"/>
                    </a:lnTo>
                    <a:lnTo>
                      <a:pt x="26" y="82"/>
                    </a:lnTo>
                    <a:lnTo>
                      <a:pt x="39" y="96"/>
                    </a:lnTo>
                    <a:lnTo>
                      <a:pt x="51" y="110"/>
                    </a:lnTo>
                    <a:lnTo>
                      <a:pt x="62" y="124"/>
                    </a:lnTo>
                    <a:lnTo>
                      <a:pt x="72" y="138"/>
                    </a:lnTo>
                    <a:lnTo>
                      <a:pt x="82" y="152"/>
                    </a:lnTo>
                    <a:lnTo>
                      <a:pt x="91" y="166"/>
                    </a:lnTo>
                    <a:lnTo>
                      <a:pt x="99" y="181"/>
                    </a:lnTo>
                    <a:lnTo>
                      <a:pt x="107" y="194"/>
                    </a:lnTo>
                    <a:lnTo>
                      <a:pt x="113" y="208"/>
                    </a:lnTo>
                    <a:lnTo>
                      <a:pt x="120" y="223"/>
                    </a:lnTo>
                    <a:lnTo>
                      <a:pt x="125" y="237"/>
                    </a:lnTo>
                    <a:lnTo>
                      <a:pt x="130" y="250"/>
                    </a:lnTo>
                    <a:lnTo>
                      <a:pt x="134" y="265"/>
                    </a:lnTo>
                    <a:lnTo>
                      <a:pt x="138" y="279"/>
                    </a:lnTo>
                    <a:lnTo>
                      <a:pt x="140" y="294"/>
                    </a:lnTo>
                    <a:lnTo>
                      <a:pt x="142" y="308"/>
                    </a:lnTo>
                    <a:lnTo>
                      <a:pt x="143" y="323"/>
                    </a:lnTo>
                    <a:lnTo>
                      <a:pt x="144" y="337"/>
                    </a:lnTo>
                    <a:lnTo>
                      <a:pt x="144" y="352"/>
                    </a:lnTo>
                    <a:lnTo>
                      <a:pt x="143" y="367"/>
                    </a:lnTo>
                    <a:lnTo>
                      <a:pt x="142" y="382"/>
                    </a:lnTo>
                    <a:lnTo>
                      <a:pt x="140" y="397"/>
                    </a:lnTo>
                    <a:lnTo>
                      <a:pt x="138" y="412"/>
                    </a:lnTo>
                    <a:lnTo>
                      <a:pt x="134" y="428"/>
                    </a:lnTo>
                    <a:lnTo>
                      <a:pt x="130" y="443"/>
                    </a:lnTo>
                    <a:lnTo>
                      <a:pt x="125" y="459"/>
                    </a:lnTo>
                    <a:lnTo>
                      <a:pt x="120" y="476"/>
                    </a:lnTo>
                    <a:lnTo>
                      <a:pt x="113" y="491"/>
                    </a:lnTo>
                    <a:lnTo>
                      <a:pt x="107" y="508"/>
                    </a:lnTo>
                    <a:lnTo>
                      <a:pt x="99" y="523"/>
                    </a:lnTo>
                    <a:lnTo>
                      <a:pt x="91" y="540"/>
                    </a:lnTo>
                    <a:lnTo>
                      <a:pt x="161" y="578"/>
                    </a:lnTo>
                    <a:lnTo>
                      <a:pt x="171" y="559"/>
                    </a:lnTo>
                    <a:lnTo>
                      <a:pt x="180" y="540"/>
                    </a:lnTo>
                    <a:lnTo>
                      <a:pt x="188" y="521"/>
                    </a:lnTo>
                    <a:lnTo>
                      <a:pt x="195" y="502"/>
                    </a:lnTo>
                    <a:lnTo>
                      <a:pt x="201" y="483"/>
                    </a:lnTo>
                    <a:lnTo>
                      <a:pt x="208" y="464"/>
                    </a:lnTo>
                    <a:lnTo>
                      <a:pt x="212" y="447"/>
                    </a:lnTo>
                    <a:lnTo>
                      <a:pt x="216" y="428"/>
                    </a:lnTo>
                    <a:lnTo>
                      <a:pt x="220" y="409"/>
                    </a:lnTo>
                    <a:lnTo>
                      <a:pt x="222" y="390"/>
                    </a:lnTo>
                    <a:lnTo>
                      <a:pt x="223" y="372"/>
                    </a:lnTo>
                    <a:lnTo>
                      <a:pt x="224" y="354"/>
                    </a:lnTo>
                    <a:lnTo>
                      <a:pt x="224" y="336"/>
                    </a:lnTo>
                    <a:lnTo>
                      <a:pt x="223" y="317"/>
                    </a:lnTo>
                    <a:lnTo>
                      <a:pt x="221" y="299"/>
                    </a:lnTo>
                    <a:lnTo>
                      <a:pt x="219" y="282"/>
                    </a:lnTo>
                    <a:lnTo>
                      <a:pt x="215" y="263"/>
                    </a:lnTo>
                    <a:lnTo>
                      <a:pt x="211" y="245"/>
                    </a:lnTo>
                    <a:lnTo>
                      <a:pt x="206" y="227"/>
                    </a:lnTo>
                    <a:lnTo>
                      <a:pt x="201" y="209"/>
                    </a:lnTo>
                    <a:lnTo>
                      <a:pt x="194" y="193"/>
                    </a:lnTo>
                    <a:lnTo>
                      <a:pt x="186" y="175"/>
                    </a:lnTo>
                    <a:lnTo>
                      <a:pt x="178" y="158"/>
                    </a:lnTo>
                    <a:lnTo>
                      <a:pt x="169" y="141"/>
                    </a:lnTo>
                    <a:lnTo>
                      <a:pt x="159" y="124"/>
                    </a:lnTo>
                    <a:lnTo>
                      <a:pt x="149" y="109"/>
                    </a:lnTo>
                    <a:lnTo>
                      <a:pt x="138" y="92"/>
                    </a:lnTo>
                    <a:lnTo>
                      <a:pt x="125" y="75"/>
                    </a:lnTo>
                    <a:lnTo>
                      <a:pt x="112" y="60"/>
                    </a:lnTo>
                    <a:lnTo>
                      <a:pt x="99" y="43"/>
                    </a:lnTo>
                    <a:lnTo>
                      <a:pt x="84" y="28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2" y="7"/>
                    </a:lnTo>
                    <a:lnTo>
                      <a:pt x="54" y="2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1"/>
                    </a:lnTo>
                    <a:lnTo>
                      <a:pt x="25" y="3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8" y="18"/>
                    </a:lnTo>
                    <a:lnTo>
                      <a:pt x="5" y="24"/>
                    </a:lnTo>
                    <a:lnTo>
                      <a:pt x="1" y="31"/>
                    </a:lnTo>
                    <a:lnTo>
                      <a:pt x="0" y="39"/>
                    </a:lnTo>
                    <a:lnTo>
                      <a:pt x="1" y="46"/>
                    </a:lnTo>
                    <a:lnTo>
                      <a:pt x="2" y="54"/>
                    </a:lnTo>
                    <a:lnTo>
                      <a:pt x="7" y="61"/>
                    </a:lnTo>
                    <a:lnTo>
                      <a:pt x="12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Freeform 2043"/>
            <p:cNvSpPr/>
            <p:nvPr/>
          </p:nvSpPr>
          <p:spPr>
            <a:xfrm>
              <a:off x="6082200" y="4998960"/>
              <a:ext cx="24840" cy="54360"/>
            </a:xfrm>
            <a:custGeom>
              <a:avLst/>
              <a:gdLst/>
              <a:ahLst/>
              <a:rect l="l" t="t" r="r" b="b"/>
              <a:pathLst>
                <a:path w="246" h="668">
                  <a:moveTo>
                    <a:pt x="19" y="31"/>
                  </a:moveTo>
                  <a:lnTo>
                    <a:pt x="19" y="31"/>
                  </a:lnTo>
                  <a:lnTo>
                    <a:pt x="14" y="54"/>
                  </a:lnTo>
                  <a:lnTo>
                    <a:pt x="10" y="78"/>
                  </a:lnTo>
                  <a:lnTo>
                    <a:pt x="6" y="101"/>
                  </a:lnTo>
                  <a:lnTo>
                    <a:pt x="4" y="124"/>
                  </a:lnTo>
                  <a:lnTo>
                    <a:pt x="2" y="146"/>
                  </a:lnTo>
                  <a:lnTo>
                    <a:pt x="0" y="169"/>
                  </a:lnTo>
                  <a:lnTo>
                    <a:pt x="0" y="191"/>
                  </a:lnTo>
                  <a:lnTo>
                    <a:pt x="0" y="213"/>
                  </a:lnTo>
                  <a:lnTo>
                    <a:pt x="0" y="234"/>
                  </a:lnTo>
                  <a:lnTo>
                    <a:pt x="1" y="256"/>
                  </a:lnTo>
                  <a:lnTo>
                    <a:pt x="3" y="277"/>
                  </a:lnTo>
                  <a:lnTo>
                    <a:pt x="5" y="298"/>
                  </a:lnTo>
                  <a:lnTo>
                    <a:pt x="9" y="319"/>
                  </a:lnTo>
                  <a:lnTo>
                    <a:pt x="12" y="339"/>
                  </a:lnTo>
                  <a:lnTo>
                    <a:pt x="16" y="360"/>
                  </a:lnTo>
                  <a:lnTo>
                    <a:pt x="21" y="380"/>
                  </a:lnTo>
                  <a:lnTo>
                    <a:pt x="26" y="400"/>
                  </a:lnTo>
                  <a:lnTo>
                    <a:pt x="33" y="420"/>
                  </a:lnTo>
                  <a:lnTo>
                    <a:pt x="40" y="439"/>
                  </a:lnTo>
                  <a:lnTo>
                    <a:pt x="47" y="458"/>
                  </a:lnTo>
                  <a:lnTo>
                    <a:pt x="56" y="477"/>
                  </a:lnTo>
                  <a:lnTo>
                    <a:pt x="65" y="496"/>
                  </a:lnTo>
                  <a:lnTo>
                    <a:pt x="74" y="515"/>
                  </a:lnTo>
                  <a:lnTo>
                    <a:pt x="84" y="532"/>
                  </a:lnTo>
                  <a:lnTo>
                    <a:pt x="95" y="550"/>
                  </a:lnTo>
                  <a:lnTo>
                    <a:pt x="107" y="568"/>
                  </a:lnTo>
                  <a:lnTo>
                    <a:pt x="118" y="584"/>
                  </a:lnTo>
                  <a:lnTo>
                    <a:pt x="132" y="602"/>
                  </a:lnTo>
                  <a:lnTo>
                    <a:pt x="145" y="619"/>
                  </a:lnTo>
                  <a:lnTo>
                    <a:pt x="158" y="635"/>
                  </a:lnTo>
                  <a:lnTo>
                    <a:pt x="174" y="651"/>
                  </a:lnTo>
                  <a:lnTo>
                    <a:pt x="188" y="668"/>
                  </a:lnTo>
                  <a:lnTo>
                    <a:pt x="246" y="611"/>
                  </a:lnTo>
                  <a:lnTo>
                    <a:pt x="232" y="597"/>
                  </a:lnTo>
                  <a:lnTo>
                    <a:pt x="219" y="582"/>
                  </a:lnTo>
                  <a:lnTo>
                    <a:pt x="207" y="568"/>
                  </a:lnTo>
                  <a:lnTo>
                    <a:pt x="195" y="553"/>
                  </a:lnTo>
                  <a:lnTo>
                    <a:pt x="184" y="538"/>
                  </a:lnTo>
                  <a:lnTo>
                    <a:pt x="173" y="523"/>
                  </a:lnTo>
                  <a:lnTo>
                    <a:pt x="163" y="508"/>
                  </a:lnTo>
                  <a:lnTo>
                    <a:pt x="154" y="492"/>
                  </a:lnTo>
                  <a:lnTo>
                    <a:pt x="145" y="476"/>
                  </a:lnTo>
                  <a:lnTo>
                    <a:pt x="136" y="460"/>
                  </a:lnTo>
                  <a:lnTo>
                    <a:pt x="128" y="444"/>
                  </a:lnTo>
                  <a:lnTo>
                    <a:pt x="122" y="428"/>
                  </a:lnTo>
                  <a:lnTo>
                    <a:pt x="115" y="411"/>
                  </a:lnTo>
                  <a:lnTo>
                    <a:pt x="108" y="394"/>
                  </a:lnTo>
                  <a:lnTo>
                    <a:pt x="103" y="377"/>
                  </a:lnTo>
                  <a:lnTo>
                    <a:pt x="98" y="359"/>
                  </a:lnTo>
                  <a:lnTo>
                    <a:pt x="94" y="342"/>
                  </a:lnTo>
                  <a:lnTo>
                    <a:pt x="91" y="325"/>
                  </a:lnTo>
                  <a:lnTo>
                    <a:pt x="87" y="306"/>
                  </a:lnTo>
                  <a:lnTo>
                    <a:pt x="84" y="288"/>
                  </a:lnTo>
                  <a:lnTo>
                    <a:pt x="82" y="270"/>
                  </a:lnTo>
                  <a:lnTo>
                    <a:pt x="81" y="251"/>
                  </a:lnTo>
                  <a:lnTo>
                    <a:pt x="80" y="232"/>
                  </a:lnTo>
                  <a:lnTo>
                    <a:pt x="80" y="212"/>
                  </a:lnTo>
                  <a:lnTo>
                    <a:pt x="80" y="193"/>
                  </a:lnTo>
                  <a:lnTo>
                    <a:pt x="80" y="173"/>
                  </a:lnTo>
                  <a:lnTo>
                    <a:pt x="81" y="152"/>
                  </a:lnTo>
                  <a:lnTo>
                    <a:pt x="83" y="132"/>
                  </a:lnTo>
                  <a:lnTo>
                    <a:pt x="85" y="111"/>
                  </a:lnTo>
                  <a:lnTo>
                    <a:pt x="88" y="90"/>
                  </a:lnTo>
                  <a:lnTo>
                    <a:pt x="92" y="69"/>
                  </a:lnTo>
                  <a:lnTo>
                    <a:pt x="96" y="48"/>
                  </a:lnTo>
                  <a:lnTo>
                    <a:pt x="96" y="48"/>
                  </a:lnTo>
                  <a:lnTo>
                    <a:pt x="96" y="48"/>
                  </a:lnTo>
                  <a:lnTo>
                    <a:pt x="97" y="38"/>
                  </a:lnTo>
                  <a:lnTo>
                    <a:pt x="96" y="30"/>
                  </a:lnTo>
                  <a:lnTo>
                    <a:pt x="94" y="22"/>
                  </a:lnTo>
                  <a:lnTo>
                    <a:pt x="90" y="16"/>
                  </a:lnTo>
                  <a:lnTo>
                    <a:pt x="85" y="10"/>
                  </a:lnTo>
                  <a:lnTo>
                    <a:pt x="78" y="6"/>
                  </a:lnTo>
                  <a:lnTo>
                    <a:pt x="72" y="2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6" y="5"/>
                  </a:lnTo>
                  <a:lnTo>
                    <a:pt x="30" y="9"/>
                  </a:lnTo>
                  <a:lnTo>
                    <a:pt x="25" y="16"/>
                  </a:lnTo>
                  <a:lnTo>
                    <a:pt x="21" y="22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2044"/>
            <p:cNvSpPr/>
            <p:nvPr/>
          </p:nvSpPr>
          <p:spPr>
            <a:xfrm>
              <a:off x="6084360" y="4929120"/>
              <a:ext cx="48600" cy="73440"/>
            </a:xfrm>
            <a:custGeom>
              <a:avLst/>
              <a:gdLst/>
              <a:ahLst/>
              <a:rect l="l" t="t" r="r" b="b"/>
              <a:pathLst>
                <a:path w="469" h="891">
                  <a:moveTo>
                    <a:pt x="396" y="19"/>
                  </a:moveTo>
                  <a:lnTo>
                    <a:pt x="396" y="19"/>
                  </a:lnTo>
                  <a:lnTo>
                    <a:pt x="357" y="79"/>
                  </a:lnTo>
                  <a:lnTo>
                    <a:pt x="320" y="139"/>
                  </a:lnTo>
                  <a:lnTo>
                    <a:pt x="285" y="197"/>
                  </a:lnTo>
                  <a:lnTo>
                    <a:pt x="251" y="254"/>
                  </a:lnTo>
                  <a:lnTo>
                    <a:pt x="220" y="310"/>
                  </a:lnTo>
                  <a:lnTo>
                    <a:pt x="190" y="366"/>
                  </a:lnTo>
                  <a:lnTo>
                    <a:pt x="163" y="421"/>
                  </a:lnTo>
                  <a:lnTo>
                    <a:pt x="137" y="475"/>
                  </a:lnTo>
                  <a:lnTo>
                    <a:pt x="114" y="527"/>
                  </a:lnTo>
                  <a:lnTo>
                    <a:pt x="92" y="579"/>
                  </a:lnTo>
                  <a:lnTo>
                    <a:pt x="72" y="631"/>
                  </a:lnTo>
                  <a:lnTo>
                    <a:pt x="53" y="681"/>
                  </a:lnTo>
                  <a:lnTo>
                    <a:pt x="36" y="731"/>
                  </a:lnTo>
                  <a:lnTo>
                    <a:pt x="22" y="780"/>
                  </a:lnTo>
                  <a:lnTo>
                    <a:pt x="10" y="828"/>
                  </a:lnTo>
                  <a:lnTo>
                    <a:pt x="0" y="874"/>
                  </a:lnTo>
                  <a:lnTo>
                    <a:pt x="77" y="891"/>
                  </a:lnTo>
                  <a:lnTo>
                    <a:pt x="87" y="846"/>
                  </a:lnTo>
                  <a:lnTo>
                    <a:pt x="99" y="801"/>
                  </a:lnTo>
                  <a:lnTo>
                    <a:pt x="113" y="754"/>
                  </a:lnTo>
                  <a:lnTo>
                    <a:pt x="128" y="707"/>
                  </a:lnTo>
                  <a:lnTo>
                    <a:pt x="146" y="659"/>
                  </a:lnTo>
                  <a:lnTo>
                    <a:pt x="165" y="609"/>
                  </a:lnTo>
                  <a:lnTo>
                    <a:pt x="187" y="559"/>
                  </a:lnTo>
                  <a:lnTo>
                    <a:pt x="210" y="508"/>
                  </a:lnTo>
                  <a:lnTo>
                    <a:pt x="235" y="456"/>
                  </a:lnTo>
                  <a:lnTo>
                    <a:pt x="261" y="403"/>
                  </a:lnTo>
                  <a:lnTo>
                    <a:pt x="290" y="349"/>
                  </a:lnTo>
                  <a:lnTo>
                    <a:pt x="321" y="293"/>
                  </a:lnTo>
                  <a:lnTo>
                    <a:pt x="353" y="238"/>
                  </a:lnTo>
                  <a:lnTo>
                    <a:pt x="388" y="180"/>
                  </a:lnTo>
                  <a:lnTo>
                    <a:pt x="424" y="122"/>
                  </a:lnTo>
                  <a:lnTo>
                    <a:pt x="462" y="64"/>
                  </a:lnTo>
                  <a:lnTo>
                    <a:pt x="462" y="64"/>
                  </a:lnTo>
                  <a:lnTo>
                    <a:pt x="462" y="64"/>
                  </a:lnTo>
                  <a:lnTo>
                    <a:pt x="467" y="55"/>
                  </a:lnTo>
                  <a:lnTo>
                    <a:pt x="469" y="47"/>
                  </a:lnTo>
                  <a:lnTo>
                    <a:pt x="469" y="39"/>
                  </a:lnTo>
                  <a:lnTo>
                    <a:pt x="468" y="31"/>
                  </a:lnTo>
                  <a:lnTo>
                    <a:pt x="466" y="25"/>
                  </a:lnTo>
                  <a:lnTo>
                    <a:pt x="461" y="18"/>
                  </a:lnTo>
                  <a:lnTo>
                    <a:pt x="457" y="13"/>
                  </a:lnTo>
                  <a:lnTo>
                    <a:pt x="451" y="8"/>
                  </a:lnTo>
                  <a:lnTo>
                    <a:pt x="444" y="5"/>
                  </a:lnTo>
                  <a:lnTo>
                    <a:pt x="437" y="1"/>
                  </a:lnTo>
                  <a:lnTo>
                    <a:pt x="430" y="0"/>
                  </a:lnTo>
                  <a:lnTo>
                    <a:pt x="422" y="1"/>
                  </a:lnTo>
                  <a:lnTo>
                    <a:pt x="414" y="3"/>
                  </a:lnTo>
                  <a:lnTo>
                    <a:pt x="408" y="7"/>
                  </a:lnTo>
                  <a:lnTo>
                    <a:pt x="401" y="13"/>
                  </a:lnTo>
                  <a:lnTo>
                    <a:pt x="39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2045"/>
            <p:cNvSpPr/>
            <p:nvPr/>
          </p:nvSpPr>
          <p:spPr>
            <a:xfrm>
              <a:off x="6122880" y="4840200"/>
              <a:ext cx="25920" cy="93960"/>
            </a:xfrm>
            <a:custGeom>
              <a:avLst/>
              <a:gdLst/>
              <a:ahLst/>
              <a:rect l="l" t="t" r="r" b="b"/>
              <a:pathLst>
                <a:path w="249" h="1131">
                  <a:moveTo>
                    <a:pt x="5" y="59"/>
                  </a:moveTo>
                  <a:lnTo>
                    <a:pt x="5" y="59"/>
                  </a:lnTo>
                  <a:lnTo>
                    <a:pt x="24" y="95"/>
                  </a:lnTo>
                  <a:lnTo>
                    <a:pt x="43" y="131"/>
                  </a:lnTo>
                  <a:lnTo>
                    <a:pt x="59" y="167"/>
                  </a:lnTo>
                  <a:lnTo>
                    <a:pt x="76" y="201"/>
                  </a:lnTo>
                  <a:lnTo>
                    <a:pt x="91" y="237"/>
                  </a:lnTo>
                  <a:lnTo>
                    <a:pt x="104" y="271"/>
                  </a:lnTo>
                  <a:lnTo>
                    <a:pt x="116" y="306"/>
                  </a:lnTo>
                  <a:lnTo>
                    <a:pt x="126" y="340"/>
                  </a:lnTo>
                  <a:lnTo>
                    <a:pt x="136" y="374"/>
                  </a:lnTo>
                  <a:lnTo>
                    <a:pt x="145" y="408"/>
                  </a:lnTo>
                  <a:lnTo>
                    <a:pt x="152" y="441"/>
                  </a:lnTo>
                  <a:lnTo>
                    <a:pt x="157" y="474"/>
                  </a:lnTo>
                  <a:lnTo>
                    <a:pt x="163" y="507"/>
                  </a:lnTo>
                  <a:lnTo>
                    <a:pt x="166" y="540"/>
                  </a:lnTo>
                  <a:lnTo>
                    <a:pt x="168" y="572"/>
                  </a:lnTo>
                  <a:lnTo>
                    <a:pt x="169" y="604"/>
                  </a:lnTo>
                  <a:lnTo>
                    <a:pt x="169" y="636"/>
                  </a:lnTo>
                  <a:lnTo>
                    <a:pt x="168" y="667"/>
                  </a:lnTo>
                  <a:lnTo>
                    <a:pt x="165" y="699"/>
                  </a:lnTo>
                  <a:lnTo>
                    <a:pt x="162" y="730"/>
                  </a:lnTo>
                  <a:lnTo>
                    <a:pt x="156" y="760"/>
                  </a:lnTo>
                  <a:lnTo>
                    <a:pt x="150" y="791"/>
                  </a:lnTo>
                  <a:lnTo>
                    <a:pt x="143" y="821"/>
                  </a:lnTo>
                  <a:lnTo>
                    <a:pt x="134" y="852"/>
                  </a:lnTo>
                  <a:lnTo>
                    <a:pt x="125" y="882"/>
                  </a:lnTo>
                  <a:lnTo>
                    <a:pt x="113" y="912"/>
                  </a:lnTo>
                  <a:lnTo>
                    <a:pt x="101" y="941"/>
                  </a:lnTo>
                  <a:lnTo>
                    <a:pt x="87" y="971"/>
                  </a:lnTo>
                  <a:lnTo>
                    <a:pt x="73" y="1000"/>
                  </a:lnTo>
                  <a:lnTo>
                    <a:pt x="56" y="1029"/>
                  </a:lnTo>
                  <a:lnTo>
                    <a:pt x="39" y="1057"/>
                  </a:lnTo>
                  <a:lnTo>
                    <a:pt x="21" y="1086"/>
                  </a:lnTo>
                  <a:lnTo>
                    <a:pt x="87" y="1131"/>
                  </a:lnTo>
                  <a:lnTo>
                    <a:pt x="107" y="1100"/>
                  </a:lnTo>
                  <a:lnTo>
                    <a:pt x="126" y="1068"/>
                  </a:lnTo>
                  <a:lnTo>
                    <a:pt x="143" y="1037"/>
                  </a:lnTo>
                  <a:lnTo>
                    <a:pt x="159" y="1005"/>
                  </a:lnTo>
                  <a:lnTo>
                    <a:pt x="174" y="973"/>
                  </a:lnTo>
                  <a:lnTo>
                    <a:pt x="188" y="941"/>
                  </a:lnTo>
                  <a:lnTo>
                    <a:pt x="199" y="908"/>
                  </a:lnTo>
                  <a:lnTo>
                    <a:pt x="210" y="876"/>
                  </a:lnTo>
                  <a:lnTo>
                    <a:pt x="220" y="842"/>
                  </a:lnTo>
                  <a:lnTo>
                    <a:pt x="228" y="809"/>
                  </a:lnTo>
                  <a:lnTo>
                    <a:pt x="235" y="775"/>
                  </a:lnTo>
                  <a:lnTo>
                    <a:pt x="240" y="740"/>
                  </a:lnTo>
                  <a:lnTo>
                    <a:pt x="245" y="707"/>
                  </a:lnTo>
                  <a:lnTo>
                    <a:pt x="247" y="673"/>
                  </a:lnTo>
                  <a:lnTo>
                    <a:pt x="249" y="637"/>
                  </a:lnTo>
                  <a:lnTo>
                    <a:pt x="249" y="603"/>
                  </a:lnTo>
                  <a:lnTo>
                    <a:pt x="248" y="567"/>
                  </a:lnTo>
                  <a:lnTo>
                    <a:pt x="246" y="533"/>
                  </a:lnTo>
                  <a:lnTo>
                    <a:pt x="241" y="497"/>
                  </a:lnTo>
                  <a:lnTo>
                    <a:pt x="236" y="462"/>
                  </a:lnTo>
                  <a:lnTo>
                    <a:pt x="230" y="425"/>
                  </a:lnTo>
                  <a:lnTo>
                    <a:pt x="223" y="390"/>
                  </a:lnTo>
                  <a:lnTo>
                    <a:pt x="214" y="353"/>
                  </a:lnTo>
                  <a:lnTo>
                    <a:pt x="203" y="317"/>
                  </a:lnTo>
                  <a:lnTo>
                    <a:pt x="191" y="281"/>
                  </a:lnTo>
                  <a:lnTo>
                    <a:pt x="178" y="243"/>
                  </a:lnTo>
                  <a:lnTo>
                    <a:pt x="164" y="207"/>
                  </a:lnTo>
                  <a:lnTo>
                    <a:pt x="148" y="170"/>
                  </a:lnTo>
                  <a:lnTo>
                    <a:pt x="132" y="133"/>
                  </a:lnTo>
                  <a:lnTo>
                    <a:pt x="114" y="96"/>
                  </a:lnTo>
                  <a:lnTo>
                    <a:pt x="95" y="58"/>
                  </a:lnTo>
                  <a:lnTo>
                    <a:pt x="75" y="21"/>
                  </a:lnTo>
                  <a:lnTo>
                    <a:pt x="75" y="21"/>
                  </a:lnTo>
                  <a:lnTo>
                    <a:pt x="75" y="21"/>
                  </a:lnTo>
                  <a:lnTo>
                    <a:pt x="69" y="13"/>
                  </a:lnTo>
                  <a:lnTo>
                    <a:pt x="63" y="7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4" y="21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2046"/>
            <p:cNvSpPr/>
            <p:nvPr/>
          </p:nvSpPr>
          <p:spPr>
            <a:xfrm>
              <a:off x="6096960" y="4755960"/>
              <a:ext cx="34200" cy="89280"/>
            </a:xfrm>
            <a:custGeom>
              <a:avLst/>
              <a:gdLst/>
              <a:ahLst/>
              <a:rect l="l" t="t" r="r" b="b"/>
              <a:pathLst>
                <a:path w="328" h="1088">
                  <a:moveTo>
                    <a:pt x="26" y="31"/>
                  </a:moveTo>
                  <a:lnTo>
                    <a:pt x="26" y="29"/>
                  </a:lnTo>
                  <a:lnTo>
                    <a:pt x="20" y="58"/>
                  </a:lnTo>
                  <a:lnTo>
                    <a:pt x="14" y="87"/>
                  </a:lnTo>
                  <a:lnTo>
                    <a:pt x="10" y="116"/>
                  </a:lnTo>
                  <a:lnTo>
                    <a:pt x="6" y="146"/>
                  </a:lnTo>
                  <a:lnTo>
                    <a:pt x="3" y="176"/>
                  </a:lnTo>
                  <a:lnTo>
                    <a:pt x="1" y="206"/>
                  </a:lnTo>
                  <a:lnTo>
                    <a:pt x="0" y="236"/>
                  </a:lnTo>
                  <a:lnTo>
                    <a:pt x="0" y="266"/>
                  </a:lnTo>
                  <a:lnTo>
                    <a:pt x="1" y="297"/>
                  </a:lnTo>
                  <a:lnTo>
                    <a:pt x="2" y="328"/>
                  </a:lnTo>
                  <a:lnTo>
                    <a:pt x="5" y="360"/>
                  </a:lnTo>
                  <a:lnTo>
                    <a:pt x="8" y="391"/>
                  </a:lnTo>
                  <a:lnTo>
                    <a:pt x="13" y="423"/>
                  </a:lnTo>
                  <a:lnTo>
                    <a:pt x="17" y="456"/>
                  </a:lnTo>
                  <a:lnTo>
                    <a:pt x="24" y="489"/>
                  </a:lnTo>
                  <a:lnTo>
                    <a:pt x="31" y="522"/>
                  </a:lnTo>
                  <a:lnTo>
                    <a:pt x="38" y="555"/>
                  </a:lnTo>
                  <a:lnTo>
                    <a:pt x="47" y="588"/>
                  </a:lnTo>
                  <a:lnTo>
                    <a:pt x="57" y="622"/>
                  </a:lnTo>
                  <a:lnTo>
                    <a:pt x="67" y="656"/>
                  </a:lnTo>
                  <a:lnTo>
                    <a:pt x="78" y="690"/>
                  </a:lnTo>
                  <a:lnTo>
                    <a:pt x="91" y="726"/>
                  </a:lnTo>
                  <a:lnTo>
                    <a:pt x="103" y="760"/>
                  </a:lnTo>
                  <a:lnTo>
                    <a:pt x="117" y="796"/>
                  </a:lnTo>
                  <a:lnTo>
                    <a:pt x="132" y="831"/>
                  </a:lnTo>
                  <a:lnTo>
                    <a:pt x="147" y="867"/>
                  </a:lnTo>
                  <a:lnTo>
                    <a:pt x="164" y="903"/>
                  </a:lnTo>
                  <a:lnTo>
                    <a:pt x="180" y="940"/>
                  </a:lnTo>
                  <a:lnTo>
                    <a:pt x="198" y="976"/>
                  </a:lnTo>
                  <a:lnTo>
                    <a:pt x="217" y="1013"/>
                  </a:lnTo>
                  <a:lnTo>
                    <a:pt x="237" y="1051"/>
                  </a:lnTo>
                  <a:lnTo>
                    <a:pt x="258" y="1088"/>
                  </a:lnTo>
                  <a:lnTo>
                    <a:pt x="328" y="1050"/>
                  </a:lnTo>
                  <a:lnTo>
                    <a:pt x="308" y="1013"/>
                  </a:lnTo>
                  <a:lnTo>
                    <a:pt x="288" y="976"/>
                  </a:lnTo>
                  <a:lnTo>
                    <a:pt x="270" y="941"/>
                  </a:lnTo>
                  <a:lnTo>
                    <a:pt x="253" y="905"/>
                  </a:lnTo>
                  <a:lnTo>
                    <a:pt x="236" y="870"/>
                  </a:lnTo>
                  <a:lnTo>
                    <a:pt x="220" y="834"/>
                  </a:lnTo>
                  <a:lnTo>
                    <a:pt x="205" y="800"/>
                  </a:lnTo>
                  <a:lnTo>
                    <a:pt x="192" y="766"/>
                  </a:lnTo>
                  <a:lnTo>
                    <a:pt x="178" y="732"/>
                  </a:lnTo>
                  <a:lnTo>
                    <a:pt x="165" y="698"/>
                  </a:lnTo>
                  <a:lnTo>
                    <a:pt x="154" y="665"/>
                  </a:lnTo>
                  <a:lnTo>
                    <a:pt x="144" y="633"/>
                  </a:lnTo>
                  <a:lnTo>
                    <a:pt x="134" y="599"/>
                  </a:lnTo>
                  <a:lnTo>
                    <a:pt x="124" y="567"/>
                  </a:lnTo>
                  <a:lnTo>
                    <a:pt x="116" y="536"/>
                  </a:lnTo>
                  <a:lnTo>
                    <a:pt x="108" y="504"/>
                  </a:lnTo>
                  <a:lnTo>
                    <a:pt x="103" y="473"/>
                  </a:lnTo>
                  <a:lnTo>
                    <a:pt x="96" y="442"/>
                  </a:lnTo>
                  <a:lnTo>
                    <a:pt x="92" y="412"/>
                  </a:lnTo>
                  <a:lnTo>
                    <a:pt x="87" y="382"/>
                  </a:lnTo>
                  <a:lnTo>
                    <a:pt x="84" y="352"/>
                  </a:lnTo>
                  <a:lnTo>
                    <a:pt x="82" y="323"/>
                  </a:lnTo>
                  <a:lnTo>
                    <a:pt x="81" y="294"/>
                  </a:lnTo>
                  <a:lnTo>
                    <a:pt x="79" y="266"/>
                  </a:lnTo>
                  <a:lnTo>
                    <a:pt x="79" y="237"/>
                  </a:lnTo>
                  <a:lnTo>
                    <a:pt x="81" y="209"/>
                  </a:lnTo>
                  <a:lnTo>
                    <a:pt x="83" y="181"/>
                  </a:lnTo>
                  <a:lnTo>
                    <a:pt x="85" y="155"/>
                  </a:lnTo>
                  <a:lnTo>
                    <a:pt x="88" y="127"/>
                  </a:lnTo>
                  <a:lnTo>
                    <a:pt x="93" y="102"/>
                  </a:lnTo>
                  <a:lnTo>
                    <a:pt x="98" y="75"/>
                  </a:lnTo>
                  <a:lnTo>
                    <a:pt x="104" y="49"/>
                  </a:lnTo>
                  <a:lnTo>
                    <a:pt x="104" y="48"/>
                  </a:lnTo>
                  <a:lnTo>
                    <a:pt x="104" y="49"/>
                  </a:lnTo>
                  <a:lnTo>
                    <a:pt x="105" y="39"/>
                  </a:lnTo>
                  <a:lnTo>
                    <a:pt x="105" y="32"/>
                  </a:lnTo>
                  <a:lnTo>
                    <a:pt x="103" y="24"/>
                  </a:lnTo>
                  <a:lnTo>
                    <a:pt x="99" y="17"/>
                  </a:lnTo>
                  <a:lnTo>
                    <a:pt x="94" y="12"/>
                  </a:lnTo>
                  <a:lnTo>
                    <a:pt x="88" y="7"/>
                  </a:lnTo>
                  <a:lnTo>
                    <a:pt x="82" y="3"/>
                  </a:lnTo>
                  <a:lnTo>
                    <a:pt x="75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6" y="4"/>
                  </a:lnTo>
                  <a:lnTo>
                    <a:pt x="40" y="8"/>
                  </a:lnTo>
                  <a:lnTo>
                    <a:pt x="34" y="14"/>
                  </a:lnTo>
                  <a:lnTo>
                    <a:pt x="30" y="22"/>
                  </a:lnTo>
                  <a:lnTo>
                    <a:pt x="26" y="29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2047"/>
            <p:cNvSpPr/>
            <p:nvPr/>
          </p:nvSpPr>
          <p:spPr>
            <a:xfrm>
              <a:off x="6082200" y="4692960"/>
              <a:ext cx="28080" cy="66240"/>
            </a:xfrm>
            <a:custGeom>
              <a:avLst/>
              <a:gdLst/>
              <a:ahLst/>
              <a:rect l="l" t="t" r="r" b="b"/>
              <a:pathLst>
                <a:path w="272" h="808">
                  <a:moveTo>
                    <a:pt x="0" y="51"/>
                  </a:moveTo>
                  <a:lnTo>
                    <a:pt x="15" y="71"/>
                  </a:lnTo>
                  <a:lnTo>
                    <a:pt x="31" y="92"/>
                  </a:lnTo>
                  <a:lnTo>
                    <a:pt x="47" y="112"/>
                  </a:lnTo>
                  <a:lnTo>
                    <a:pt x="60" y="133"/>
                  </a:lnTo>
                  <a:lnTo>
                    <a:pt x="73" y="154"/>
                  </a:lnTo>
                  <a:lnTo>
                    <a:pt x="86" y="175"/>
                  </a:lnTo>
                  <a:lnTo>
                    <a:pt x="98" y="196"/>
                  </a:lnTo>
                  <a:lnTo>
                    <a:pt x="110" y="218"/>
                  </a:lnTo>
                  <a:lnTo>
                    <a:pt x="120" y="239"/>
                  </a:lnTo>
                  <a:lnTo>
                    <a:pt x="130" y="262"/>
                  </a:lnTo>
                  <a:lnTo>
                    <a:pt x="139" y="284"/>
                  </a:lnTo>
                  <a:lnTo>
                    <a:pt x="146" y="306"/>
                  </a:lnTo>
                  <a:lnTo>
                    <a:pt x="154" y="328"/>
                  </a:lnTo>
                  <a:lnTo>
                    <a:pt x="161" y="350"/>
                  </a:lnTo>
                  <a:lnTo>
                    <a:pt x="167" y="374"/>
                  </a:lnTo>
                  <a:lnTo>
                    <a:pt x="173" y="396"/>
                  </a:lnTo>
                  <a:lnTo>
                    <a:pt x="177" y="419"/>
                  </a:lnTo>
                  <a:lnTo>
                    <a:pt x="182" y="442"/>
                  </a:lnTo>
                  <a:lnTo>
                    <a:pt x="185" y="466"/>
                  </a:lnTo>
                  <a:lnTo>
                    <a:pt x="187" y="490"/>
                  </a:lnTo>
                  <a:lnTo>
                    <a:pt x="190" y="513"/>
                  </a:lnTo>
                  <a:lnTo>
                    <a:pt x="191" y="538"/>
                  </a:lnTo>
                  <a:lnTo>
                    <a:pt x="192" y="562"/>
                  </a:lnTo>
                  <a:lnTo>
                    <a:pt x="192" y="587"/>
                  </a:lnTo>
                  <a:lnTo>
                    <a:pt x="191" y="611"/>
                  </a:lnTo>
                  <a:lnTo>
                    <a:pt x="190" y="636"/>
                  </a:lnTo>
                  <a:lnTo>
                    <a:pt x="187" y="662"/>
                  </a:lnTo>
                  <a:lnTo>
                    <a:pt x="184" y="687"/>
                  </a:lnTo>
                  <a:lnTo>
                    <a:pt x="181" y="713"/>
                  </a:lnTo>
                  <a:lnTo>
                    <a:pt x="176" y="738"/>
                  </a:lnTo>
                  <a:lnTo>
                    <a:pt x="171" y="764"/>
                  </a:lnTo>
                  <a:lnTo>
                    <a:pt x="165" y="791"/>
                  </a:lnTo>
                  <a:lnTo>
                    <a:pt x="243" y="808"/>
                  </a:lnTo>
                  <a:lnTo>
                    <a:pt x="250" y="781"/>
                  </a:lnTo>
                  <a:lnTo>
                    <a:pt x="255" y="753"/>
                  </a:lnTo>
                  <a:lnTo>
                    <a:pt x="260" y="725"/>
                  </a:lnTo>
                  <a:lnTo>
                    <a:pt x="263" y="697"/>
                  </a:lnTo>
                  <a:lnTo>
                    <a:pt x="266" y="670"/>
                  </a:lnTo>
                  <a:lnTo>
                    <a:pt x="268" y="642"/>
                  </a:lnTo>
                  <a:lnTo>
                    <a:pt x="271" y="615"/>
                  </a:lnTo>
                  <a:lnTo>
                    <a:pt x="272" y="588"/>
                  </a:lnTo>
                  <a:lnTo>
                    <a:pt x="272" y="561"/>
                  </a:lnTo>
                  <a:lnTo>
                    <a:pt x="271" y="534"/>
                  </a:lnTo>
                  <a:lnTo>
                    <a:pt x="270" y="508"/>
                  </a:lnTo>
                  <a:lnTo>
                    <a:pt x="267" y="482"/>
                  </a:lnTo>
                  <a:lnTo>
                    <a:pt x="264" y="456"/>
                  </a:lnTo>
                  <a:lnTo>
                    <a:pt x="261" y="430"/>
                  </a:lnTo>
                  <a:lnTo>
                    <a:pt x="256" y="405"/>
                  </a:lnTo>
                  <a:lnTo>
                    <a:pt x="251" y="379"/>
                  </a:lnTo>
                  <a:lnTo>
                    <a:pt x="245" y="354"/>
                  </a:lnTo>
                  <a:lnTo>
                    <a:pt x="237" y="328"/>
                  </a:lnTo>
                  <a:lnTo>
                    <a:pt x="231" y="304"/>
                  </a:lnTo>
                  <a:lnTo>
                    <a:pt x="222" y="278"/>
                  </a:lnTo>
                  <a:lnTo>
                    <a:pt x="213" y="254"/>
                  </a:lnTo>
                  <a:lnTo>
                    <a:pt x="203" y="231"/>
                  </a:lnTo>
                  <a:lnTo>
                    <a:pt x="192" y="206"/>
                  </a:lnTo>
                  <a:lnTo>
                    <a:pt x="181" y="182"/>
                  </a:lnTo>
                  <a:lnTo>
                    <a:pt x="169" y="159"/>
                  </a:lnTo>
                  <a:lnTo>
                    <a:pt x="155" y="135"/>
                  </a:lnTo>
                  <a:lnTo>
                    <a:pt x="142" y="112"/>
                  </a:lnTo>
                  <a:lnTo>
                    <a:pt x="128" y="90"/>
                  </a:lnTo>
                  <a:lnTo>
                    <a:pt x="112" y="66"/>
                  </a:lnTo>
                  <a:lnTo>
                    <a:pt x="95" y="44"/>
                  </a:lnTo>
                  <a:lnTo>
                    <a:pt x="79" y="22"/>
                  </a:lnTo>
                  <a:lnTo>
                    <a:pt x="61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48"/>
            <p:cNvSpPr/>
            <p:nvPr/>
          </p:nvSpPr>
          <p:spPr>
            <a:xfrm>
              <a:off x="6081120" y="4691520"/>
              <a:ext cx="6840" cy="57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1" y="14"/>
                  </a:moveTo>
                  <a:lnTo>
                    <a:pt x="64" y="7"/>
                  </a:lnTo>
                  <a:lnTo>
                    <a:pt x="58" y="3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21" y="5"/>
                  </a:lnTo>
                  <a:lnTo>
                    <a:pt x="15" y="10"/>
                  </a:lnTo>
                  <a:lnTo>
                    <a:pt x="10" y="14"/>
                  </a:lnTo>
                  <a:lnTo>
                    <a:pt x="6" y="21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4" y="57"/>
                  </a:lnTo>
                  <a:lnTo>
                    <a:pt x="10" y="65"/>
                  </a:lnTo>
                  <a:lnTo>
                    <a:pt x="7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9" name="任意多边形 828" descr=""/>
          <p:cNvPicPr/>
          <p:nvPr/>
        </p:nvPicPr>
        <p:blipFill>
          <a:blip r:embed="rId9"/>
          <a:stretch/>
        </p:blipFill>
        <p:spPr>
          <a:xfrm>
            <a:off x="4456080" y="4363920"/>
            <a:ext cx="9018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降低威胁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1581" name=""/>
          <p:cNvGraphicFramePr/>
          <p:nvPr/>
        </p:nvGraphicFramePr>
        <p:xfrm>
          <a:off x="638280" y="2214720"/>
          <a:ext cx="8053200" cy="2609640"/>
        </p:xfrm>
        <a:graphic>
          <a:graphicData uri="http://schemas.openxmlformats.org/drawingml/2006/table">
            <a:tbl>
              <a:tblPr/>
              <a:tblGrid>
                <a:gridCol w="2684520"/>
                <a:gridCol w="2684160"/>
                <a:gridCol w="2684520"/>
              </a:tblGrid>
              <a:tr h="113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FrutigerNext LT Regular"/>
                        </a:rPr>
                        <a:t>身份验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FrutigerNext LT Regular"/>
                        </a:rPr>
                        <a:t>加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FrutigerNext LT Regular"/>
                        </a:rPr>
                        <a:t>系统防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确保合法客户端与受信接入点关联在一起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在传输和接收数据时保护数据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追踪并减少未授权访问和网络攻击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2" name="内容占位符 2"/>
          <p:cNvSpPr/>
          <p:nvPr/>
        </p:nvSpPr>
        <p:spPr>
          <a:xfrm>
            <a:off x="652320" y="1376280"/>
            <a:ext cx="79297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9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了保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全，可以采取以下三种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9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777777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"/>
                <a:ea typeface="Arial"/>
              </a:rPr>
              <a:t>WLAN</a:t>
            </a:r>
            <a:r>
              <a:rPr b="0" lang="zh-CN" sz="2200" spc="-1" strike="noStrike">
                <a:solidFill>
                  <a:srgbClr val="777777"/>
                </a:solidFill>
                <a:latin typeface="Arial"/>
                <a:ea typeface="Arial"/>
              </a:rPr>
              <a:t>安全威胁简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DS/WIPS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Arial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Arial"/>
                <a:ea typeface="Arial"/>
              </a:rPr>
              <a:t>AAA</a:t>
            </a:r>
            <a:r>
              <a:rPr b="0" lang="zh-CN" sz="2200" spc="-1" strike="noStrike">
                <a:solidFill>
                  <a:srgbClr val="777777"/>
                </a:solidFill>
                <a:latin typeface="Arial"/>
                <a:ea typeface="Arial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585" name="Picture 16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6T08:50:35Z</dcterms:created>
  <dc:creator/>
  <dc:description/>
  <dc:language>en-US</dc:language>
  <cp:lastModifiedBy/>
  <dcterms:modified xsi:type="dcterms:W3CDTF">2020-04-26T01:40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4)sJxFcJNkSelBdCGIchnqq1ogiqpM7ckDP+M8BWI95mJ3MVhTTraJXTTmil4RmTArVcOARs4x
PMRHgGRLqGG9PZWg8fi70V5Yy/k+B5VVvHRmDosCdWe8Kzt7b6e0VHw1jy+soQzgx5KQJJKQ
E+MBAezilY69JRGvdTiTBOJ2GVtBj+B20KlhLje/pTtVw0nRbGDrbLC/hAvC3ckUXBELxiOg
3nXMbQ5QMyAOQ0ozpE</vt:lpwstr>
  </property>
  <property fmtid="{D5CDD505-2E9C-101B-9397-08002B2CF9AE}" pid="3" name="_ms_pID_7253431">
    <vt:lpwstr>n/AGOAXHk76cV2a8nMybmjhq/Hx3eyiLgV9mXvACGpFEOAqDJn9AhP
Ux1YL8PL46AC3TTVN9/L2ohQlWScJ6m/zauC6aznJRXp9lyQvWmZH1Mmkq0tMbLjFYz5D2le
/o+F4P8xKsT/Xej1nEL+cnRMOfAST4J2Xz9dvmA/9cUVewA95YZcCPUedC3RaewGHzqYIbnA
hP8WxoYZsg1ddkRfXcGamKF1VlKDP6jsyL/A</vt:lpwstr>
  </property>
  <property fmtid="{D5CDD505-2E9C-101B-9397-08002B2CF9AE}" pid="4" name="_ms_pID_7253432">
    <vt:lpwstr>K/Y4DBZVj0iWkqwglKfB8XrSHv7Ar4oqcI/K
y42koU0ovD5Bej8wBuG4Ei67IZcXOSKAUPb9F40jtF/DII3NsnAam//1zXY1wmKzSUp3tHsq
AwkAa9ttHZ237e4T5Eoo5KJxw2w//Tlm7c44iO4y6N4BeStvwZY93UpbcKguMkstJg3XLokT
SC4ELVYojB38QbHwZZh4e/ll5/pIFxrBSIhGJ5XPQ3jHKIOYYjSWR1</vt:lpwstr>
  </property>
  <property fmtid="{D5CDD505-2E9C-101B-9397-08002B2CF9AE}" pid="5" name="_ms_pID_7253433">
    <vt:lpwstr>gz</vt:lpwstr>
  </property>
  <property fmtid="{D5CDD505-2E9C-101B-9397-08002B2CF9AE}" pid="6" name="sflag">
    <vt:lpwstr>1356059421</vt:lpwstr>
  </property>
</Properties>
</file>